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8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  <p:sldId id="319" r:id="rId71"/>
    <p:sldId id="320" r:id="rId72"/>
    <p:sldId id="321" r:id="rId73"/>
    <p:sldId id="322" r:id="rId74"/>
    <p:sldId id="323" r:id="rId75"/>
    <p:sldId id="324" r:id="rId76"/>
    <p:sldId id="325" r:id="rId77"/>
    <p:sldId id="326" r:id="rId78"/>
    <p:sldId id="327" r:id="rId79"/>
    <p:sldId id="328" r:id="rId80"/>
    <p:sldId id="329" r:id="rId81"/>
    <p:sldId id="330" r:id="rId82"/>
    <p:sldId id="331" r:id="rId83"/>
    <p:sldId id="332" r:id="rId84"/>
    <p:sldId id="333" r:id="rId85"/>
    <p:sldId id="334" r:id="rId86"/>
    <p:sldId id="335" r:id="rId87"/>
    <p:sldId id="336" r:id="rId88"/>
    <p:sldId id="337" r:id="rId89"/>
    <p:sldId id="338" r:id="rId90"/>
    <p:sldId id="339" r:id="rId91"/>
    <p:sldId id="340" r:id="rId92"/>
    <p:sldId id="341" r:id="rId93"/>
    <p:sldId id="342" r:id="rId94"/>
    <p:sldId id="343" r:id="rId95"/>
    <p:sldId id="344" r:id="rId96"/>
    <p:sldId id="345" r:id="rId97"/>
    <p:sldId id="346" r:id="rId98"/>
    <p:sldId id="347" r:id="rId99"/>
    <p:sldId id="348" r:id="rId100"/>
    <p:sldId id="349" r:id="rId101"/>
    <p:sldId id="350" r:id="rId102"/>
    <p:sldId id="351" r:id="rId103"/>
    <p:sldId id="352" r:id="rId104"/>
    <p:sldId id="353" r:id="rId105"/>
    <p:sldId id="354" r:id="rId106"/>
    <p:sldId id="355" r:id="rId107"/>
    <p:sldId id="356" r:id="rId108"/>
    <p:sldId id="357" r:id="rId109"/>
    <p:sldId id="358" r:id="rId1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slide" Target="slides/slide64.xml"/><Relationship Id="rId72" Type="http://schemas.openxmlformats.org/officeDocument/2006/relationships/slide" Target="slides/slide65.xml"/><Relationship Id="rId73" Type="http://schemas.openxmlformats.org/officeDocument/2006/relationships/slide" Target="slides/slide66.xml"/><Relationship Id="rId74" Type="http://schemas.openxmlformats.org/officeDocument/2006/relationships/slide" Target="slides/slide67.xml"/><Relationship Id="rId75" Type="http://schemas.openxmlformats.org/officeDocument/2006/relationships/slide" Target="slides/slide68.xml"/><Relationship Id="rId76" Type="http://schemas.openxmlformats.org/officeDocument/2006/relationships/slide" Target="slides/slide69.xml"/><Relationship Id="rId77" Type="http://schemas.openxmlformats.org/officeDocument/2006/relationships/slide" Target="slides/slide70.xml"/><Relationship Id="rId78" Type="http://schemas.openxmlformats.org/officeDocument/2006/relationships/slide" Target="slides/slide71.xml"/><Relationship Id="rId79" Type="http://schemas.openxmlformats.org/officeDocument/2006/relationships/slide" Target="slides/slide72.xml"/><Relationship Id="rId80" Type="http://schemas.openxmlformats.org/officeDocument/2006/relationships/slide" Target="slides/slide73.xml"/><Relationship Id="rId81" Type="http://schemas.openxmlformats.org/officeDocument/2006/relationships/slide" Target="slides/slide74.xml"/><Relationship Id="rId82" Type="http://schemas.openxmlformats.org/officeDocument/2006/relationships/slide" Target="slides/slide75.xml"/><Relationship Id="rId83" Type="http://schemas.openxmlformats.org/officeDocument/2006/relationships/slide" Target="slides/slide76.xml"/><Relationship Id="rId84" Type="http://schemas.openxmlformats.org/officeDocument/2006/relationships/slide" Target="slides/slide77.xml"/><Relationship Id="rId85" Type="http://schemas.openxmlformats.org/officeDocument/2006/relationships/slide" Target="slides/slide78.xml"/><Relationship Id="rId86" Type="http://schemas.openxmlformats.org/officeDocument/2006/relationships/slide" Target="slides/slide79.xml"/><Relationship Id="rId87" Type="http://schemas.openxmlformats.org/officeDocument/2006/relationships/slide" Target="slides/slide80.xml"/><Relationship Id="rId88" Type="http://schemas.openxmlformats.org/officeDocument/2006/relationships/slide" Target="slides/slide81.xml"/><Relationship Id="rId89" Type="http://schemas.openxmlformats.org/officeDocument/2006/relationships/slide" Target="slides/slide82.xml"/><Relationship Id="rId90" Type="http://schemas.openxmlformats.org/officeDocument/2006/relationships/slide" Target="slides/slide83.xml"/><Relationship Id="rId91" Type="http://schemas.openxmlformats.org/officeDocument/2006/relationships/slide" Target="slides/slide84.xml"/><Relationship Id="rId92" Type="http://schemas.openxmlformats.org/officeDocument/2006/relationships/slide" Target="slides/slide85.xml"/><Relationship Id="rId93" Type="http://schemas.openxmlformats.org/officeDocument/2006/relationships/slide" Target="slides/slide86.xml"/><Relationship Id="rId94" Type="http://schemas.openxmlformats.org/officeDocument/2006/relationships/slide" Target="slides/slide87.xml"/><Relationship Id="rId95" Type="http://schemas.openxmlformats.org/officeDocument/2006/relationships/slide" Target="slides/slide88.xml"/><Relationship Id="rId96" Type="http://schemas.openxmlformats.org/officeDocument/2006/relationships/slide" Target="slides/slide89.xml"/><Relationship Id="rId97" Type="http://schemas.openxmlformats.org/officeDocument/2006/relationships/slide" Target="slides/slide90.xml"/><Relationship Id="rId98" Type="http://schemas.openxmlformats.org/officeDocument/2006/relationships/slide" Target="slides/slide91.xml"/><Relationship Id="rId99" Type="http://schemas.openxmlformats.org/officeDocument/2006/relationships/slide" Target="slides/slide92.xml"/><Relationship Id="rId100" Type="http://schemas.openxmlformats.org/officeDocument/2006/relationships/slide" Target="slides/slide93.xml"/><Relationship Id="rId101" Type="http://schemas.openxmlformats.org/officeDocument/2006/relationships/slide" Target="slides/slide94.xml"/><Relationship Id="rId102" Type="http://schemas.openxmlformats.org/officeDocument/2006/relationships/slide" Target="slides/slide95.xml"/><Relationship Id="rId103" Type="http://schemas.openxmlformats.org/officeDocument/2006/relationships/slide" Target="slides/slide96.xml"/><Relationship Id="rId104" Type="http://schemas.openxmlformats.org/officeDocument/2006/relationships/slide" Target="slides/slide97.xml"/><Relationship Id="rId105" Type="http://schemas.openxmlformats.org/officeDocument/2006/relationships/slide" Target="slides/slide98.xml"/><Relationship Id="rId106" Type="http://schemas.openxmlformats.org/officeDocument/2006/relationships/slide" Target="slides/slide99.xml"/><Relationship Id="rId107" Type="http://schemas.openxmlformats.org/officeDocument/2006/relationships/slide" Target="slides/slide100.xml"/><Relationship Id="rId108" Type="http://schemas.openxmlformats.org/officeDocument/2006/relationships/slide" Target="slides/slide101.xml"/><Relationship Id="rId109" Type="http://schemas.openxmlformats.org/officeDocument/2006/relationships/slide" Target="slides/slide102.xml"/><Relationship Id="rId110" Type="http://schemas.openxmlformats.org/officeDocument/2006/relationships/slide" Target="slides/slide103.xml"/><Relationship Id="rId1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FBE0-00B3-4AE5-8D1C-2B8E8191B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8341-0FEC-4FB4-93DB-AD49F8DB7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EF00-EBF7-4E28-8B79-C60474F18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CA14-C10A-475E-AB16-7905A86A2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483E-5A6B-47F8-9923-BE6FD6DB8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58F2-D58B-4414-B435-A7AC12BF9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CED5-CEF1-4304-AF80-B47EBEB6B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AC19-E7A9-4F83-887F-4099550D6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A5B5-C4D4-42F6-BCF2-EFBBFFA8E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0198-93DE-462F-A47C-2DDB0375C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0FF7-8D44-490D-8300-EEF560FC2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D8D2-5CB1-4BA4-97D1-CB24BC20D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62C7-7DA0-4FCA-8711-CAEEE2FC7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25F3-059D-462F-9F8E-FECCFA6D3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522B-DB20-4606-BEB5-B17307F4B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ABCD-8B66-4013-B867-7572A5F6A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5F77-4C18-4ED9-8666-119A5C8AC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66FE-3665-4E48-8ABA-1A8B6E55B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F654-582B-4266-B658-56F1F205E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DC96-B31B-4626-883C-0FBC52EA5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55D8-B9A7-4502-9095-10C251308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E48F-FC22-475F-A33C-DD5A2204A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9400-7D50-47B7-85D6-C8BFDC3EC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6AA4-E1B3-4C98-910D-330BCA0D4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4BDF-9D6D-4047-9EFE-3D5CA3D4B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1ACD-313B-4CE7-9A78-FAA538580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F0D8-CD3F-48A6-BA6F-B17616F9B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3303-7825-47EB-8000-493671349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0F58-B57E-48C9-8757-C21F688EE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FE4F-38FD-4680-AC79-94D811148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0F8C-97E7-445A-9A97-B15C697B9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AE19-2248-4E06-AAE5-F5FB36DBA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0BD9-156C-41E5-A185-370CD716A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86C9-A0F2-4D23-BC0F-E4188C5E6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EAE2-69F5-4358-9AB4-FEC62EE5B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5119-4C1D-417B-9585-F58744A54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BDD1-6172-41D7-AF23-C324187DF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BFE2-5C8C-4FAF-A2E6-CCFFE1309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43EC-FF4E-4A93-9950-B4280DC76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4C28-D6BA-4930-99FE-DD9ADB5C5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B989-2D9C-47DF-8E5B-1A4817F10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4CFF-2B2E-471B-B2D0-28518B564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80F1-F85E-4B50-B25E-3FE6DCDCA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07AD-DA04-4C52-81B0-4B4EB652D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0ADC-9B1B-4A09-9219-333621846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B9A6-3436-4685-8152-DB565B14E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459E-6602-449C-998D-8809E4165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ECFA-FD55-411E-88E4-2F7A8D4EF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3E8D-52FB-4EB1-BE8D-D5196CDFA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0164-4F29-466C-920D-AC2DA834F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6839-0466-404E-849B-4B687D9EE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879E-E745-4356-8D05-F247328B2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F004-74A9-4ABD-A505-F29039EC2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2AA4-E423-42B5-9601-80CEDCC27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B0D3-DCBE-4AC0-AF4E-C7032FE2E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C6D4-CA99-4581-A7CA-CE6152578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74FC-582A-4E52-B43D-AB432B570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6521-25C2-41D1-8B07-A0A765F80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CBBB-E570-497C-BFE8-216659143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16B2-6B73-43BD-A647-460EA6383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591E-8ACA-4AB7-A488-0187C3B0B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AEFD-ED02-4D20-91FC-9DF067204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DCC1-C388-424E-9B10-FF57C5630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F3C9-685C-4C41-8BBB-D4A432407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BEEB-1857-4465-872C-35B625ADC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DA03-90DB-4BE6-9F74-267B9661C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0F5C-F650-40E2-9361-EB09E8B46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CBB1-6F54-41A8-AAB3-73D00133B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EBAD-B512-447C-B3D8-252AEFEA5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B1B4-FB07-4CC2-AB11-4FB5604D0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7406-F365-48AB-B08E-23E4D98DA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2490-344D-4EBA-98EF-3FEADA02C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2781-8532-4172-B419-307476112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5BFE-4720-4A12-BB7F-AC8E481A8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F6C1-43D5-4E63-9B08-9C1896ACC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433D-9044-4ACF-8D79-8A766C850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6F2B-F064-48B3-91F9-4B63982F7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E9A2-3929-40B3-87A3-66EEC27E7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67A1-C14F-4253-BC0B-F3940BB14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B810-1231-4576-86B4-C8BF6F558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68D3-C850-4B55-AB7F-94529635B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9944-7F36-413B-B8C4-BB6255F1A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C9FC-3092-4942-A61D-CD335225B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9380-0C3F-45C8-855C-7BE7F5284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C1A4-FCDF-4969-991F-9614C7CD4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B275-E527-469C-8510-ED23BB7C7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B9CE-BAFD-4FB1-A898-A8885DEFB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175D-1D52-41BC-8CF8-599F8D766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89AE-2100-479B-B6E8-51BB30BC3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F0D2-AED0-42BF-BBF7-5E4E769EE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1A9D-5E86-47D1-B684-3890A9D6E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ACC4-1EAC-4CDD-AA7C-092BC3FE4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5C7A-BE4C-41EA-98B4-0AB8D8671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22AA-CD4D-4759-8091-45A523656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D6C4-5EC7-4959-8543-1CAE5C2CB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2D15-715C-4311-B3B9-C03F42C9B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64DC-49B6-4628-9A16-F1D590F8D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BF8E-FF7B-4E2F-BE68-FF884E1E4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62CB-CCEF-46F4-B279-EDCE3DBA6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E4C3-1309-4613-9CD3-7F5012295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3CFB-1361-4693-858E-EB9C9C2D4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AE4E-733E-48D8-BB06-8852B92EF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A3E7-0E2B-4633-82FA-6B6EEFABD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171D-7E52-43BB-A75C-3B0304FED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2E83-AE20-4693-A711-07111001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1D32-90A6-4692-B2D2-6DA3F046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F440-A7B4-4A2B-9AB4-1DB2DBDDB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B6BC-C15C-4D2D-9D14-CB2E942B0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09A9-560E-4B1C-AC8F-43BA6A7A7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1EDA-7C56-4331-A70A-E3C21BF8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A383-6F63-4476-A2F4-E5C4C4BF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FF4F-8D66-4CD5-B91D-32F67B52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AC38-B4EF-4227-A593-ADFC09EB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EDB3-4B49-4756-A631-AE05791E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0FFE-C227-4D04-9342-AEEC6D98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627B-AE3B-4601-BF61-EA6B5B0A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F6A7-CA15-4533-A873-CBA17320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AB05-D2C8-4EE3-BA4C-C2CF5DFD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28F2-AD4C-4F1B-8978-C6EAB4FF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EE61-3AE7-4CBB-9CEB-3304DFE6E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BB50-DA37-4C61-BE32-61FCE8343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53E12-49D5-4CE0-9D18-7D23A03C2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52F1B-49A6-4096-AC51-75C9947C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5354F-BB5E-47FE-96BB-CD8A2BDA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4CCB9-FF1F-4872-A60F-98EFED4C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79154-4339-48FA-A75A-6DCEF566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9B39-CC34-44AF-80AF-D781DFC4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1CEC9-DBD9-4A6F-9D66-64F134A7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702F0-1393-4155-B89F-8F452A26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1ACC7-9D23-436C-BEEE-0130E8ED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6BDDB-B8E5-45C7-B512-7F68FDFB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9F690-0ABC-4AD5-B858-7CF62099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B61E1-B3BB-4181-9E7D-0D3B01408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CD8BF-50BB-4034-BBED-1B4139633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09474-5B27-4EEB-A45E-EF5AA29EA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8AAB3-50EB-4010-BCCA-5B3CD427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393B0-08D4-4920-AE38-20CD3D9E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CB20-F780-4B7C-8ED1-76D5492C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A1EAF-E7AD-4326-9598-1D7C2D67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8C5D7-E631-4FFD-BD2D-D05ED558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905D4-0FB7-49CA-874B-60F4A97F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303AC-F10A-47AC-85FE-1F150F24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194E9-1E54-46A8-BA3C-FD12E187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A31F3-A406-4772-8304-9433B090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51B95-0401-4116-88E3-1A0CDE9A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2A04C-B92D-41D1-A4F8-159095B96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3C64C-5D22-4244-9851-1F345D427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E725B-F907-4694-A0CD-832AE140D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F095-9B2C-49E2-9710-7B16AB07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4416D-CC44-4631-A2D3-7354E3F9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9D833-2291-487F-8540-DCECBB93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C2F24-BFEB-43C9-8951-BEBB58DF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FCB3F-EE14-422A-8504-C6D7C288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B8EFD-F5F2-4C87-89D3-A81817FB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6FCE1-3109-48E3-8F6C-D6DE5442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73F85-A28A-4A2A-87B9-29E5C784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4556B-3CF8-43CC-95E7-2459CB61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117D0-1521-4F6B-B220-4F585147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37ADA-FAE3-48EE-A6F0-8E762AB0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D71D-132F-4717-B1D4-FE1B56E8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5E52D-57FA-46A0-B8C6-FC9ED21CE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2E38-473D-47C2-940E-2E356664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E436-54B7-4E76-AD10-9504021E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5130-883E-4F37-93F5-6B508ED4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DA13-7604-4768-8574-9E907B18F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3B09-9607-4629-AACC-3DB01F685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6587-DAB9-49A3-A9A7-6E119911D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0122-B659-4561-80C6-65ABEC08C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9086-8C7F-41A9-B823-1885B269C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tatistics – OR 155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ction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447920" y="32763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. S. Marron, Profess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partment of Stat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Operations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Sampling 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ious Problem that has aris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Black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te format of Question and Answ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lease use this, and send me an emai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Poll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chance of being in a poll of 1000, from S.R.S. out of 200,000,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rude estimate of # of U. S. vot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each sample is equally likely 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   this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5,733 digits, too big for easy handling…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2"/>
              <p:cNvSpPr txBox="1"/>
              <p:nvPr/>
            </p:nvSpPr>
            <p:spPr>
              <a:xfrm>
                <a:off x="2157480" y="4191120"/>
                <a:ext cx="52117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amp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ou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ampl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o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ampl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3"/>
              <p:cNvSpPr txBox="1"/>
              <p:nvPr/>
            </p:nvSpPr>
            <p:spPr>
              <a:xfrm>
                <a:off x="5638680" y="5029200"/>
                <a:ext cx="22860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573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75" name="Line 6"/>
          <p:cNvSpPr/>
          <p:nvPr/>
        </p:nvSpPr>
        <p:spPr>
          <a:xfrm flipV="1">
            <a:off x="3124080" y="4876920"/>
            <a:ext cx="19051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Poll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areful calcu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Object 2"/>
              <p:cNvSpPr txBox="1"/>
              <p:nvPr/>
            </p:nvSpPr>
            <p:spPr>
              <a:xfrm>
                <a:off x="380880" y="1981080"/>
                <a:ext cx="792504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amp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ou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ampl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o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ample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99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9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9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9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Poll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areful calcu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Object 2"/>
              <p:cNvSpPr txBox="1"/>
              <p:nvPr/>
            </p:nvSpPr>
            <p:spPr>
              <a:xfrm>
                <a:off x="380880" y="1981080"/>
                <a:ext cx="792504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amp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ou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ampl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o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ample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99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9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9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9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3"/>
              <p:cNvSpPr txBox="1"/>
              <p:nvPr/>
            </p:nvSpPr>
            <p:spPr>
              <a:xfrm>
                <a:off x="2362320" y="3657600"/>
                <a:ext cx="640080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!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!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!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  <m:r>
                              <m:t xml:space="preserve">!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Poll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areful calcu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sense, since you are “equally likely to be in sampl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Object 2"/>
              <p:cNvSpPr txBox="1"/>
              <p:nvPr/>
            </p:nvSpPr>
            <p:spPr>
              <a:xfrm>
                <a:off x="380880" y="1981080"/>
                <a:ext cx="792504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amp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ou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ampl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o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ample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99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9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9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9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3"/>
              <p:cNvSpPr txBox="1"/>
              <p:nvPr/>
            </p:nvSpPr>
            <p:spPr>
              <a:xfrm>
                <a:off x="2362320" y="3657600"/>
                <a:ext cx="640080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!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!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!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  <m:r>
                              <m:t xml:space="preserve">!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Sampling 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 on “Equally Likely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2 page phone book &amp; only 4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ing Scheme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ly choose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ly choose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 Doug is chosen half the ti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equally likel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2590920" y="2514600"/>
            <a:ext cx="685800" cy="916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3815640" y="2514600"/>
            <a:ext cx="724680" cy="916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Sampling 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 on “Equally Likely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2 page phone book &amp; only 4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ing Scheme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ly choose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ly choose i = 1,…,max pag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person i on chosen page, repeat both dr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3"/>
          <p:cNvSpPr/>
          <p:nvPr/>
        </p:nvSpPr>
        <p:spPr>
          <a:xfrm>
            <a:off x="2590920" y="2514600"/>
            <a:ext cx="685800" cy="916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4"/>
          <p:cNvSpPr/>
          <p:nvPr/>
        </p:nvSpPr>
        <p:spPr>
          <a:xfrm>
            <a:off x="3815640" y="2514600"/>
            <a:ext cx="724680" cy="916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On Surve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ommon Sen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you ask the qu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a big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.75,  3.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Note:  work &amp; turn in,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in order assigned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simple random sample” (recall “each equally likely”)  can b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.g. nationwide political poll, collected by personal intervie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here are many cheaper vari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ified 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 Stage 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text, Section 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re are many others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 up to Speed on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 C2: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ass Problem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n Blackboard – HW Assignm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:  only turn in one printed page (per problem p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call HW rules in Course Inf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you can also write on that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.g. your name &amp;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ighligh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sw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 up to Speed on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cal Step:  Load Analysis ToolPa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ular Office Button   (upper lef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Options   (low butt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-Ins   (menu on lef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 Excel Add-Ins    &gt;    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: Analysis ToolPak    &gt;   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“Analysis Box” appear on right, under “Data”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generation of random s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stat-or.unc.edu/webspace/courses/marron/UNCstor155-2009/ClassNotes/Stor155Eg1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1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 Random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generation of random s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stat-or.unc.edu/webspace/courses/marron/UNCstor155-2009/ClassNotes/Stor155Eg1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1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 Random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approach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 function (under Formula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 Librar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th &amp; Tri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generation of random s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stat-or.unc.edu/webspace/courses/marron/UNCstor155-2009/ClassNotes/Stor155Eg1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1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 Random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approach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 function (under Formula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 Librar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th &amp; Tri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alysi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andom Number 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ass In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Blackboa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this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ontrol Pa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“Course Inform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document in “Course Info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L Random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ly Reorder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L Random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ly Reorder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ight block with list &amp; random num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 whole thing on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L Random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ly Reorder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ight block with list &amp; random num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 whole thing on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3:    Random Sample fro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L Random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ly Reorder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ight block with list &amp; random num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 whole thing on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3:    Random Sample fro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bset from random re-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, eac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qually lik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each sp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lso get from menu under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find on “All”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no (explicit) in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put in desired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g downwards for several random #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u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hese change on each re-com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 not recommended for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alysi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andom Number Gener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-70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:   # Variables:    1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:   Uniform  (over  [0,1]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-70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s Fixed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oesn’t change with re-compu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te entries are “just numbers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-70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 stable for later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-70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ed for random sample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ing Lis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ight Block with Bo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s to s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Sort &amp; Filter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Column to sort on (B or 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is random re-ordering of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Sampling 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3: For the letters A – L, use EXCEL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a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ut in a random 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b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hoose a random sample of 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Hints:   for (a), want each equally like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r (b), reorder, and choose a subs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4: 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 quantify (get numerical) uncertai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4: 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 quantify (get numerical) uncertai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to answering questions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.g.  what is “natural vari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random sample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.g. which effects are “significant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ass In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Chan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A’s Office Ho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. 10:30-11:30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Wed. 10:30-11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w on Blackbo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4: 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 quantify (get numerical) uncertai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to answering questions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.g.  what is “natural vari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random sample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.g. which effects are “significant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Represent “how likely” something is by a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(will use for a while, since simplicity gives easy insigh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 a die (6 sided cube, faces 1,2,…,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(will use for a while, since simplicity gives easy insigh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 a die (6 sided cube, faces 1,2,…,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of 6 faces is a “4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say “chances of a 4”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out of 6”           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2"/>
              <p:cNvSpPr txBox="1"/>
              <p:nvPr/>
            </p:nvSpPr>
            <p:spPr>
              <a:xfrm>
                <a:off x="5029200" y="4267080"/>
                <a:ext cx="10666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(will use for a while, since simplicity gives easy insigh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 a die (6 sided cube, faces 1,2,…,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of 6 faces is a “4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say “chances of a 4”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out of 6”           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at number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find such for harder probl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2"/>
              <p:cNvSpPr txBox="1"/>
              <p:nvPr/>
            </p:nvSpPr>
            <p:spPr>
              <a:xfrm>
                <a:off x="5029200" y="4267080"/>
                <a:ext cx="10666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ay to make this preci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tist Approac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ay to make this preci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tist Approac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any replications (repeat of die roll), expect about          of total will be   4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2"/>
              <p:cNvSpPr txBox="1"/>
              <p:nvPr/>
            </p:nvSpPr>
            <p:spPr>
              <a:xfrm>
                <a:off x="3733920" y="3124080"/>
                <a:ext cx="5601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ay to make this preci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tist Approac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any replications (repeat of die roll), expect about          of total will be   4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ology  (attach buzzwords to idea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2"/>
              <p:cNvSpPr txBox="1"/>
              <p:nvPr/>
            </p:nvSpPr>
            <p:spPr>
              <a:xfrm>
                <a:off x="3733920" y="3124080"/>
                <a:ext cx="5601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ay to make this preci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tist Approac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any replications (repeat of die roll), expect about          of total will be   4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ology  (attach buzzwords to idea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about “outcomes” from 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experim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#s on 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roll die, observe 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2"/>
              <p:cNvSpPr txBox="1"/>
              <p:nvPr/>
            </p:nvSpPr>
            <p:spPr>
              <a:xfrm>
                <a:off x="3733920" y="3124080"/>
                <a:ext cx="5601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Line 5"/>
          <p:cNvSpPr/>
          <p:nvPr/>
        </p:nvSpPr>
        <p:spPr>
          <a:xfrm flipV="1">
            <a:off x="1905120" y="4723920"/>
            <a:ext cx="16761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6"/>
          <p:cNvSpPr/>
          <p:nvPr/>
        </p:nvSpPr>
        <p:spPr>
          <a:xfrm flipV="1">
            <a:off x="4343400" y="52578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fy “how likely” outcomes are by assigning “probabiliti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a number between 0 and 1, to each outcome, reflecting “how likely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fy “how likely” outcomes are by assigning “probabiliti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a number between 0 and 1, to each outcome, reflecting “how likely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ui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   means    “can’t happe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½   means   “happens half the ti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 means   “must happe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udio Recording Inf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o Recordings + Displayed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d at:  http://coursecast.unc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 “Studen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 “155STOR, Section 1: J S Marr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 “Test Record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ase nee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ID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5S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word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5S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4:  Match one of the probabil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, 0.01, 0.3, 0.6, 0.99,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ith each statement about an ev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possible, can’t occ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ertain, will happen on every tr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ery unlikely, but will occur once in a long wh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vent will occur more often than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Ru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of all probabilities (i.e. over all outcomes) is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Ru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of all probabilities (i.e. over all outcomes) is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die rolling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2"/>
              <p:cNvSpPr txBox="1"/>
              <p:nvPr/>
            </p:nvSpPr>
            <p:spPr>
              <a:xfrm>
                <a:off x="4495680" y="3124080"/>
                <a:ext cx="121932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3"/>
              <p:cNvSpPr txBox="1"/>
              <p:nvPr/>
            </p:nvSpPr>
            <p:spPr>
              <a:xfrm>
                <a:off x="4471920" y="3505320"/>
                <a:ext cx="119052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4"/>
              <p:cNvSpPr txBox="1"/>
              <p:nvPr/>
            </p:nvSpPr>
            <p:spPr>
              <a:xfrm>
                <a:off x="4419720" y="5029200"/>
                <a:ext cx="12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5"/>
              <p:cNvSpPr txBox="1"/>
              <p:nvPr/>
            </p:nvSpPr>
            <p:spPr>
              <a:xfrm>
                <a:off x="4483080" y="3886200"/>
                <a:ext cx="116856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6"/>
              <p:cNvSpPr txBox="1"/>
              <p:nvPr/>
            </p:nvSpPr>
            <p:spPr>
              <a:xfrm>
                <a:off x="4471920" y="4267080"/>
                <a:ext cx="11905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7"/>
              <p:cNvSpPr txBox="1"/>
              <p:nvPr/>
            </p:nvSpPr>
            <p:spPr>
              <a:xfrm>
                <a:off x="4483080" y="4648320"/>
                <a:ext cx="116856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8"/>
              <p:cNvSpPr txBox="1"/>
              <p:nvPr/>
            </p:nvSpPr>
            <p:spPr>
              <a:xfrm>
                <a:off x="4572000" y="5791320"/>
                <a:ext cx="9320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Line 11"/>
          <p:cNvSpPr/>
          <p:nvPr/>
        </p:nvSpPr>
        <p:spPr>
          <a:xfrm flipH="1">
            <a:off x="3733920" y="55627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Ru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of all probabilities (i.e. over all outcomes) is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die rolling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ek l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ma”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2"/>
              <p:cNvSpPr txBox="1"/>
              <p:nvPr/>
            </p:nvSpPr>
            <p:spPr>
              <a:xfrm>
                <a:off x="4495680" y="3124080"/>
                <a:ext cx="121932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3"/>
              <p:cNvSpPr txBox="1"/>
              <p:nvPr/>
            </p:nvSpPr>
            <p:spPr>
              <a:xfrm>
                <a:off x="4471920" y="3505320"/>
                <a:ext cx="119052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4"/>
              <p:cNvSpPr txBox="1"/>
              <p:nvPr/>
            </p:nvSpPr>
            <p:spPr>
              <a:xfrm>
                <a:off x="4419720" y="5029200"/>
                <a:ext cx="12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5"/>
              <p:cNvSpPr txBox="1"/>
              <p:nvPr/>
            </p:nvSpPr>
            <p:spPr>
              <a:xfrm>
                <a:off x="4483080" y="3886200"/>
                <a:ext cx="116856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6"/>
              <p:cNvSpPr txBox="1"/>
              <p:nvPr/>
            </p:nvSpPr>
            <p:spPr>
              <a:xfrm>
                <a:off x="4471920" y="4267080"/>
                <a:ext cx="11905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7"/>
              <p:cNvSpPr txBox="1"/>
              <p:nvPr/>
            </p:nvSpPr>
            <p:spPr>
              <a:xfrm>
                <a:off x="4483080" y="4648320"/>
                <a:ext cx="116856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8"/>
              <p:cNvSpPr txBox="1"/>
              <p:nvPr/>
            </p:nvSpPr>
            <p:spPr>
              <a:xfrm>
                <a:off x="4572000" y="5791320"/>
                <a:ext cx="9320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Line 11"/>
          <p:cNvSpPr/>
          <p:nvPr/>
        </p:nvSpPr>
        <p:spPr>
          <a:xfrm flipH="1">
            <a:off x="3733920" y="55627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7" name="Straight Arrow Connector 12"/>
          <p:cNvCxnSpPr/>
          <p:nvPr/>
        </p:nvCxnSpPr>
        <p:spPr>
          <a:xfrm>
            <a:off x="1294920" y="5410080"/>
            <a:ext cx="312516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.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.24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Rules for assigning probabil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Rules for assigning probabil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requent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hat happens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ny repeti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Rules for assigning probabil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requent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hat happens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ny repeti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qually Lik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for   n  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one outcome}  =  1/n    (e.g. die roll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Rules for assigning probabil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requent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hat happens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ny repeti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qually Lik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for   n  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one outcome}  =  1/n    (e.g. die roll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bserved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fe tab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mmarize when people 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 “prob of dying” at a given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 expectanc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Rules for assigning probabil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rsonal Cho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ing “your assessm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Odds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ful:    requires some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ey is prob’s need to sum to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W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.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ading In Textboo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Today’s Mater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 237-2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Next Cla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251-2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 -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erminology (to carry this further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t of outc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 -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erminology (to carry this further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t of outc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 Rolling:  “an even #”, is the event {2, 4, 6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 -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erminology (to carry this further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t of outc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 Rolling:  “an even #”, is the event {2, 4, 6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betting on even don’t care about #, only even or o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v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our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utcome is an event:  the set containing just that out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more general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 on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ple Sp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set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 on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ple Sp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set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tcomes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“event with everything that can happe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 on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ple Sp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set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tcomes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“event with everything that can happe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ba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event} = sum of probs of outcomes in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 on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ple Sp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set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tcomes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“event with everything that can happe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ba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event} = sum of probs of outcomes in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2"/>
              <p:cNvSpPr txBox="1"/>
              <p:nvPr/>
            </p:nvSpPr>
            <p:spPr>
              <a:xfrm>
                <a:off x="2209680" y="4724280"/>
                <a:ext cx="236232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outcomes</m:t>
                        </m:r>
                        <m:r>
                          <m:t xml:space="preserve"> </m:t>
                        </m:r>
                        <m:r>
                          <m:t xml:space="preserve">O</m:t>
                        </m:r>
                      </m:sub>
                      <m:sup/>
                      <m:e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O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cal Summ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bability mod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ple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set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utc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lu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ba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cal Summ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bability mod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ple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set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utc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lu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ba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assigns numbers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set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ty, P, is a “function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on a set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ccu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(&amp; will) calculate using “probabilit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ifies term “scientific sampl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mprovement over quota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ty, P, is a “function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on a set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function in math: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2"/>
              <p:cNvSpPr txBox="1"/>
              <p:nvPr/>
            </p:nvSpPr>
            <p:spPr>
              <a:xfrm>
                <a:off x="5410080" y="2895480"/>
                <a:ext cx="24386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ty, P, is a “function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on a set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function in math: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g-in             get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2"/>
              <p:cNvSpPr txBox="1"/>
              <p:nvPr/>
            </p:nvSpPr>
            <p:spPr>
              <a:xfrm>
                <a:off x="5410080" y="2895480"/>
                <a:ext cx="24386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Line 5"/>
          <p:cNvSpPr/>
          <p:nvPr/>
        </p:nvSpPr>
        <p:spPr>
          <a:xfrm flipV="1">
            <a:off x="4952880" y="342900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7"/>
          <p:cNvSpPr/>
          <p:nvPr/>
        </p:nvSpPr>
        <p:spPr>
          <a:xfrm flipH="1" flipV="1">
            <a:off x="7314840" y="35053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ty, P, is a “function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on a set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function in math: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g-in             get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:        P{event}  =  “how likel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2"/>
              <p:cNvSpPr txBox="1"/>
              <p:nvPr/>
            </p:nvSpPr>
            <p:spPr>
              <a:xfrm>
                <a:off x="5410080" y="2895480"/>
                <a:ext cx="24386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Line 5"/>
          <p:cNvSpPr/>
          <p:nvPr/>
        </p:nvSpPr>
        <p:spPr>
          <a:xfrm flipV="1">
            <a:off x="4952880" y="342900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6"/>
          <p:cNvSpPr/>
          <p:nvPr/>
        </p:nvSpPr>
        <p:spPr>
          <a:xfrm flipH="1">
            <a:off x="4343040" y="4724280"/>
            <a:ext cx="6094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"/>
          <p:cNvSpPr/>
          <p:nvPr/>
        </p:nvSpPr>
        <p:spPr>
          <a:xfrm flipH="1" flipV="1">
            <a:off x="7314840" y="35053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8"/>
          <p:cNvSpPr/>
          <p:nvPr/>
        </p:nvSpPr>
        <p:spPr>
          <a:xfrm flipH="1">
            <a:off x="7086600" y="48006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Die Ro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pace  =  {1, 2, 3, 4, 5, 6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Die Ro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pace  =  {1, 2, 3, 4, 5, 6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ven #” is the event  {2, 4, 6} (a “set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Die Ro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pace  =  {1, 2, 3, 4, 5, 6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ven #” is the event  {2, 4, 6} (a “set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“even”}  =  P{2, 4, 6} 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P{2} + P{4} + P{6}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1/6 + 1/6 + 1/6  =  3/6  =  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2"/>
              <p:cNvSpPr txBox="1"/>
              <p:nvPr/>
            </p:nvSpPr>
            <p:spPr>
              <a:xfrm>
                <a:off x="6248520" y="3581280"/>
                <a:ext cx="8380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o</m:t>
                        </m:r>
                      </m:sub>
                      <m:sup/>
                      <m:e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o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Die Ro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pace  =  {1, 2, 3, 4, 5, 6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ven #” is the event  {2, 4, 6} (a “set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“even”}  =  P{2, 4, 6} 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P{2} + P{4} + P{6}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1/6 + 1/6 + 1/6  =  3/6  =  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s, since expect “even # half the ti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2"/>
              <p:cNvSpPr txBox="1"/>
              <p:nvPr/>
            </p:nvSpPr>
            <p:spPr>
              <a:xfrm>
                <a:off x="6248520" y="3581280"/>
                <a:ext cx="8380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o</m:t>
                        </m:r>
                      </m:sub>
                      <m:sup/>
                      <m:e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o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 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.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.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ff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00ccff"/>
                </a:solidFill>
                <a:latin typeface="Arial"/>
              </a:rPr>
              <a:t>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Is this class too “monoton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Easier to underst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Calm environment enhances lear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Or does it induce somnol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What is “somnolenc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Google 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Sleepiness, a condition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semiconsciousness approaching co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ff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00ccff"/>
                </a:solidFill>
                <a:latin typeface="Arial"/>
              </a:rPr>
              <a:t>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Recall last class’s Student Questionnai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I asked you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Maj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Contact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rand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Random Samp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member of population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qually lik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be in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Idea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“just choose so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ff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00ccff"/>
                </a:solidFill>
                <a:latin typeface="Arial"/>
              </a:rPr>
              <a:t>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One (previous class) respon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Object 2"/>
          <p:cNvGraphicFramePr/>
          <p:nvPr/>
        </p:nvGraphicFramePr>
        <p:xfrm>
          <a:off x="1447920" y="2209680"/>
          <a:ext cx="5943600" cy="44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943600" cy="44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ff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00ccff"/>
                </a:solidFill>
                <a:latin typeface="Arial"/>
              </a:rPr>
              <a:t>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OK, will try to send your mind in a diffe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Hopefully, a mental break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(not on the Homework Assignment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And now for something </a:t>
            </a:r>
            <a:br>
              <a:rPr sz="4400"/>
            </a:b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Did you hear about the constipated mathematic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And now for something </a:t>
            </a:r>
            <a:br>
              <a:rPr sz="4400"/>
            </a:b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Did you here about the constipated mathematic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He worked it out with a penci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And now for something </a:t>
            </a:r>
            <a:br>
              <a:rPr sz="4400"/>
            </a:b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Did you here about the constipated mathematic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He worked it out with a penci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Apologies for the juvenile natu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And now for something </a:t>
            </a:r>
            <a:br>
              <a:rPr sz="4400"/>
            </a:b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Did you here about the constipated mathematic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He worked it out with a penci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Apologies for the juvenile natu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But there is an important poi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And now for something </a:t>
            </a:r>
            <a:br>
              <a:rPr sz="4400"/>
            </a:b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Did you here about the constipated mathematic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He worked it out with a penci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Apologies for the juvenile natu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But there is an important poi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"/>
              </a:rPr>
              <a:t>The pencil is a powerfu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"/>
              </a:rPr>
              <a:t>mathematical t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And now for something </a:t>
            </a:r>
            <a:br>
              <a:rPr sz="4400"/>
            </a:b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"/>
              </a:rPr>
              <a:t>The pencil is a powerfu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"/>
              </a:rPr>
              <a:t>mathematical t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An old stud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I was once “good in math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But suddenly lost t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Reason: tried to do too much in 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Because: never learned power of the pe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And now for something </a:t>
            </a:r>
            <a:br>
              <a:rPr sz="4400"/>
            </a:b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"/>
              </a:rPr>
              <a:t>The pencil is a powerfu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"/>
              </a:rPr>
              <a:t>mathematical t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For us:  now is time to start using pe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I do PowerPoint in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You use pencil on HW (and exa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Change in mindset, from Excel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tretch ideas with more interesting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Sampling 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Ques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% of Male Students at UN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Your chance of da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take 100% -    to get your ch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W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1:  Class Hand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stat-or.unc.edu/webspace/courses/marron/UNCstor155-2009/HWAsst/Stor155HWC1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tretch ideas with more interesting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Political Polls, Simple Random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tretch ideas with more interesting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Political Polls, Simple Random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vie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individual equally likely to be in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tretch ideas with more interesting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Political Polls, Simple Random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vie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individual equally likely to be in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ossibl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equally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tretch ideas with more interesting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Political Polls, Simple Random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vie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individual equally likely to be in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ossibl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equally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for simple Probability Mod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4"/>
          <p:cNvSpPr/>
          <p:nvPr/>
        </p:nvSpPr>
        <p:spPr>
          <a:xfrm flipV="1">
            <a:off x="380880" y="49528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Random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ple Sp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set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l possible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Random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ple Sp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set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l possible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et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me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Random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ple Sp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set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l possible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et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me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For population A, B, C,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is a vo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4"/>
          <p:cNvSpPr/>
          <p:nvPr/>
        </p:nvSpPr>
        <p:spPr>
          <a:xfrm flipV="1">
            <a:off x="4114800" y="45720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5"/>
          <p:cNvSpPr/>
          <p:nvPr/>
        </p:nvSpPr>
        <p:spPr>
          <a:xfrm flipV="1">
            <a:off x="4191120" y="457200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6"/>
          <p:cNvSpPr/>
          <p:nvPr/>
        </p:nvSpPr>
        <p:spPr>
          <a:xfrm flipV="1">
            <a:off x="4267080" y="45720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7"/>
          <p:cNvSpPr/>
          <p:nvPr/>
        </p:nvSpPr>
        <p:spPr>
          <a:xfrm flipV="1">
            <a:off x="4343400" y="457200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Random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ple Sp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set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l possible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et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me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For population A, B, C,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is a vo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4, so easy to work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4"/>
          <p:cNvSpPr/>
          <p:nvPr/>
        </p:nvSpPr>
        <p:spPr>
          <a:xfrm flipV="1">
            <a:off x="4114800" y="45720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5"/>
          <p:cNvSpPr/>
          <p:nvPr/>
        </p:nvSpPr>
        <p:spPr>
          <a:xfrm flipV="1">
            <a:off x="4191120" y="457200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6"/>
          <p:cNvSpPr/>
          <p:nvPr/>
        </p:nvSpPr>
        <p:spPr>
          <a:xfrm flipV="1">
            <a:off x="4267080" y="45720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7"/>
          <p:cNvSpPr/>
          <p:nvPr/>
        </p:nvSpPr>
        <p:spPr>
          <a:xfrm flipV="1">
            <a:off x="4343400" y="457200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. R. S. 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opulation A, B, C, 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S. R. S. of siz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. R. S. 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opulation A, B, C, 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S. R. S. of siz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pac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(A,B), (A,C), (A,D), (B,C), (B,D), (C,D)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Sampling 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Ques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% of Male Students at UN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Your chance of da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take 100% -    to get your ch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W: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Class Problem #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1:  Class Hand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stat-or.unc.edu/webspace/courses/marron/UNCstor155-2009/HWAsst/Stor155HWC1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Straight Arrow Connector 4"/>
          <p:cNvCxnSpPr/>
          <p:nvPr/>
        </p:nvCxnSpPr>
        <p:spPr>
          <a:xfrm flipH="1">
            <a:off x="1066320" y="4494600"/>
            <a:ext cx="137232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1" name="Straight Connector 6"/>
          <p:cNvSpPr/>
          <p:nvPr/>
        </p:nvSpPr>
        <p:spPr>
          <a:xfrm flipH="1" flipV="1">
            <a:off x="2438280" y="4495320"/>
            <a:ext cx="243864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. R. S. 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opulation A, B, C, 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S. R. S. of siz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pac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(A,B), (A,C), (A,D), (B,C), (B,D), (C,D)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comes, i.e. possible samples of siz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4"/>
          <p:cNvSpPr/>
          <p:nvPr/>
        </p:nvSpPr>
        <p:spPr>
          <a:xfrm flipV="1">
            <a:off x="762120" y="4267080"/>
            <a:ext cx="761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5"/>
          <p:cNvSpPr/>
          <p:nvPr/>
        </p:nvSpPr>
        <p:spPr>
          <a:xfrm flipV="1">
            <a:off x="762120" y="426708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. R. S. 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ssign P, using “equally likely” ru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. R. S. 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ssign P, using “equally likely” ru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A,B} = P{A,C} = … = P{C,D}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/(#samples) = 1/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. R. S. 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ssign P, using “equally likely” ru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A,B} = P{A,C} = … = P{C,D}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/(#samples) = 1/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teresting event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in sample”  =  {(A,C),(B,C),(D,C)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t of samples with C in th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. R. S. 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C in sample}  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Object 2"/>
              <p:cNvSpPr txBox="1"/>
              <p:nvPr/>
            </p:nvSpPr>
            <p:spPr>
              <a:xfrm>
                <a:off x="4038480" y="1295280"/>
                <a:ext cx="3883320" cy="12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ith</m:t>
                            </m:r>
                            <m:r>
                              <m:t xml:space="preserve"> </m:t>
                            </m:r>
                            <m:r>
                              <m:t xml:space="preserve">C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sampl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. R. S. 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C in sample}  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2"/>
              <p:cNvSpPr txBox="1"/>
              <p:nvPr/>
            </p:nvSpPr>
            <p:spPr>
              <a:xfrm>
                <a:off x="4038480" y="1295280"/>
                <a:ext cx="3883320" cy="12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ith</m:t>
                            </m:r>
                            <m:r>
                              <m:t xml:space="preserve"> </m:t>
                            </m:r>
                            <m:r>
                              <m:t xml:space="preserve">C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sampl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Object 3"/>
              <p:cNvSpPr txBox="1"/>
              <p:nvPr/>
            </p:nvSpPr>
            <p:spPr>
              <a:xfrm>
                <a:off x="2209680" y="2666880"/>
                <a:ext cx="548640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ampl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. R. S. 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C in sample}  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 happens “half the tim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Object 2"/>
              <p:cNvSpPr txBox="1"/>
              <p:nvPr/>
            </p:nvSpPr>
            <p:spPr>
              <a:xfrm>
                <a:off x="4038480" y="1295280"/>
                <a:ext cx="3883320" cy="12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ith</m:t>
                            </m:r>
                            <m:r>
                              <m:t xml:space="preserve"> </m:t>
                            </m:r>
                            <m:r>
                              <m:t xml:space="preserve">C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sampl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3"/>
              <p:cNvSpPr txBox="1"/>
              <p:nvPr/>
            </p:nvSpPr>
            <p:spPr>
              <a:xfrm>
                <a:off x="2209680" y="2666880"/>
                <a:ext cx="548640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ampl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. R. S.  Probability 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W    C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bby, Bob, Mei-Ling, Sally and Roberto work for a firm.  Two will be chosen at random to attend an overseas meeting.  The choice will be made by drawing names from a hat (this is an S. R. S. of 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rite down all possible choices of 2 of the 5 names.  This is the sample 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dom choice makes all choices equally likely.  What is the probability of each choice?  (1/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at is the prob. that Sally is chosen?  (4/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at is the prob. that neither Bob, nor Roberto is chosen?  (3/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Poll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chance of being in a poll of 1000, from S.R.S. out of 200,000,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rude estimate of # of U. S. vot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Poll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chance of being in a poll of 1000, from S.R.S. out of 200,000,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rude estimate of # of U. S. vot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each sample is equally likely 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Object 2"/>
              <p:cNvSpPr txBox="1"/>
              <p:nvPr/>
            </p:nvSpPr>
            <p:spPr>
              <a:xfrm>
                <a:off x="2157480" y="4191120"/>
                <a:ext cx="52117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amp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ou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ampl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o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ample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marron</dc:creator>
  <dc:description/>
  <dc:language>en-US</dc:language>
  <cp:lastModifiedBy>UNC</cp:lastModifiedBy>
  <dcterms:modified xsi:type="dcterms:W3CDTF">2009-01-15T22:02:43Z</dcterms:modified>
  <cp:revision>129</cp:revision>
  <dc:subject/>
  <dc:title>Slide 1</dc:title>
</cp:coreProperties>
</file>