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091D-77C9-4DA9-BDB2-2F41BC29C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1AAE-CC85-439F-AA63-12B7654A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CAC6-4C7C-484B-ACBF-6AA231D5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44E-F378-4F01-B0AF-D018E808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0FA9-33D4-4BA8-B495-A2F5B86A8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F31A-53FB-4140-B77B-C74F4D6D8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F19-7ABF-45AA-8137-A1024E8A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6231-EBE5-46FC-9720-7B20E3730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A043-B73C-4615-8730-C0761AEA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E6FD-7025-4F0F-B55A-267D6800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6B1D-CCD3-4DCB-9640-4D8EA3A1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23EE-A904-4E11-9FB6-ADB1C62F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9F40-5250-46A1-B5A6-52DF3E84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8730-B67C-4BFA-A0B4-42A5E34D5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EACD-61F7-4F42-A6CA-F830D6B9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82B4-B26B-4635-8892-4B0B8E92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2DD-FEE3-423E-AE40-9F0F27B04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DF56-356B-454F-A407-5886BE89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C038-0755-4BAB-8CC3-7E1641D3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3CB-1AAF-4F68-9389-7EEF9B9A9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1124-F542-425F-9972-FE50A7D6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F5B4-E672-42B5-B30A-E71BE97C9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3681-6228-405A-AC9A-8C2C1929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C2E4-B3EA-4996-AF4F-BE3E5927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B874-A11B-4D35-BFF6-18BFCD4C8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4F95-63EC-473A-BEC6-58AE4148F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132E-8C6F-4579-94E5-E96264646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34BB-5F3F-4EF2-B3FD-5F9FA5B3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BAC0-0E86-4571-8658-26D7D4EF6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DE18-037C-47A0-A9D1-C9A9251B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B6A8-F26F-4B77-A240-21A975C3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D720-4357-4AD8-8213-3CD0384CE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3B3D-FEC9-42F4-AD73-9DC77682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8E6A-13D4-4F43-8B07-C3A8E89C2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FA91-EA79-46C2-96C8-ACE7E9438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8BA1-546F-4A2E-9092-2536E32D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A015-D047-45C3-A6D6-73AB59B0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F129-78C1-4401-BD4A-418F44DB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1CEE-C1B4-43A5-A4CF-AC7CEC19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3776-2E95-4CED-A47B-C941DF20B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0CA-03AC-466A-A773-C4D62A94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62A9-51D3-4B57-BA71-4F19413B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5025-564A-46AB-8926-5760EB095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F5C6-82A8-4F23-8AEB-239861135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C4E2-DD93-4882-B7CF-72D3945F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68BF-22F8-4189-805F-713155D52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708C-D543-48EA-9437-A1024D6E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70A0-5328-45CC-8614-8B3A7E264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A141-1583-4980-9EF3-F822808F8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2530-B68A-402D-8AA3-A02960FFF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F594-10B8-4C06-ADFF-8E99C1C4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F214-DFE5-49D2-B298-0E81D6F3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9B0B-DA10-4680-B9A8-E1EC7FE7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E3F-B881-402F-846A-38F43A3C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4C04-22E7-4512-BBEF-189D1113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E9A6-6CF0-4115-9E3D-CB14E56B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7CFD-CAEF-4D5D-8BB6-0E513DA2B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29E-0FB7-49EA-B4FD-15F4898C9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99E5-FC7B-4495-96D0-2A2A8BD9C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62F-EFE0-40A3-A877-1B4CE6FB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0E80-AAD6-4C81-A11B-9F6B082E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CEC3-2923-4571-BBE4-0CBFED3BA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7DC1-6047-4D5B-9C5B-B516233E7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DEA-E742-4D65-9FA9-CC5E9FB3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AB15-BE19-4C3B-8F3F-DDFDC2165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70A-0705-4BE2-8CF6-D14F64007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7EC3-231F-4EB4-8B45-57B2325A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60DB-1D24-411F-A279-07DF484A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6CE9-9A42-4D52-ADB7-B89B78D5A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AF5-20D5-404B-8059-DE616D554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C242-5B18-4C70-8519-C66BBB367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C20-E2C4-453D-9460-867D06939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B284-D582-4D20-A269-FDCC4F7D0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7F0-05E6-40F3-8138-470F381CF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D027-8AE5-49BD-8259-CF6C57C5A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F07-680C-494F-AF9F-7BA8DA34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C8EC-C0F4-4956-83A7-4C712B2F1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0C2A-DD2C-48FF-8775-45965AB9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5D31-7F85-46E0-8071-663D1DF0B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9CBA-74C8-4540-A919-30C045E3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03A6-899A-4D99-A802-63B0DF4E8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E1DB-4639-4510-A460-B89492A5A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7902-B336-43A2-AB42-E8AF74DC9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D381-D0AD-4287-BE1E-D2E2E186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D1CD-0B8B-42EF-B5D9-7EDA6F7F4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71C1-AD88-4818-B9DB-F6F753AC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143A-023F-4A86-ABE1-036C4ABE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97F2-7398-4F87-B187-2DEB9032F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26EA-9293-4E45-8EBD-74FC7B324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95ED-3287-437D-BD94-EB092388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5CC-FEF1-4863-ABFF-DADFD0EE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052F-2416-4C29-A6E4-B08A90F0D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5958-E1AC-4A47-B17A-D5C3A140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0CAB-AFA9-48EA-AE6F-3AECEC09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13DC-64C9-4184-90EB-4F364A69C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ADF1-4AC6-4604-B540-40470F372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829B-1434-43DF-988F-45A0AA36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DF0-B0CA-4405-8F7A-5E0F9F9F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76BB-9F17-4D03-9EBC-648E4368B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DC12-A832-45C7-BA20-2DC07DAD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B0F9-8EC7-42CD-BE79-7343511B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CF99-34CA-423A-8F5F-101F87C8A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8F24-7FFB-4BC6-B365-31232A9E7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6AFC-F967-46AE-B336-AC8E0D61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7FA8-9BE0-4BE3-A7D0-1045A114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A7F2-1574-43AF-88B7-AF4147F6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2682-C4A3-47F7-9944-877507A3B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49F7-0250-4434-967A-4ECE3B831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906D-FA77-43B4-9FFC-34B1A8DF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3EB-BE5F-49BC-A5AC-DFD16A63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7205-52AF-4924-8ED4-E9BC59964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A404-624F-4539-A1F7-7FFE4D431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943A-0E1E-46B4-8CF8-3C41C333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1D86-4155-4912-A23C-74D22B9C3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2B5-4F54-4541-A782-A294CEB6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3AC-4BA9-45C9-88D9-C51A2707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752F-0F43-45AC-9A34-C07CD4F2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0AC3-3B44-4278-B377-0E838ACA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E14F-4FEC-48E5-98F6-635B4A109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95C-AC78-423D-A279-D9E629C7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09A0-A9B4-497E-AD68-323A7552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F28-A1E1-4019-B7B9-ACE8D6E0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29E-EE4F-4710-A24F-D8DFC843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21BF-5D94-445A-A5E6-FCD4E9FF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ECD5-CD52-4D46-8E51-677888DCF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BCCA-1258-4F70-965A-65EAF7AFB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FE3-BB9F-4490-AC25-3577B0E6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CAB3-5AE2-469A-9C4E-CD9EE817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9E7-AF5C-4C1A-9C24-57304821E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F9E9-1DA5-4980-94BF-BE8293DF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4DFE-55B9-44A9-955E-16D4F3D4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9169-C22E-4C9E-954E-3F0DA5FAC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263E-9AEA-4807-A27F-C730B5482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3672-4ABA-472C-BF81-D353E44E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C3EC-E7B3-4E4B-ACFB-C6242C936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3BFD-BAF5-4B97-9E02-6DDBE8882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F369-3A5A-496A-A89D-4086F4E7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5B4-6C8B-4789-8F21-11CA56678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CF38-3C3D-45FC-9B7E-F7008DF3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5AE-92B9-45C4-AD25-029CEA712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6F10-DEF8-4412-859A-D50D419C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CB70-235A-4636-AB92-961A96DF0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A94C-76AD-4A7B-A6AE-64B93EAB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375C-A405-423A-9D8D-E1BF4C91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802A-FFDF-4062-AFBC-5BB1ECDB0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31B2-470D-4BD4-9648-5B0A365C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BD44-64AA-4E99-9584-4CBD7CB4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004A-0411-47D1-B25A-CD615D7F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0CD0-3368-4592-B15D-99BCA181F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406D-05AA-425A-868B-3F268F05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AEA0-EB34-4972-8740-FBF8B7AA3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7CFD-D639-4FD3-A044-DCACC872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FAD1-7DD4-4FD1-8DBF-AB0E6D8C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F371-BDDD-4580-A8A2-2BE6A42F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89B-DDD7-4CBE-A286-C841BF66A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551-0FA9-462F-A7BE-E628C18C9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3980-AA58-48A4-A41D-1096FBCCA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07DC-EB67-4F47-972F-1FA90F04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ABEB-EB04-41D0-88B3-DBEA88FE7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AF38-FB58-4437-A75D-B1A4714AB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F710-F93A-4AFD-861C-58C8765EB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582-EED3-4940-931A-A42EF8741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8FE1-DC39-42A6-91A7-D32960EB4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9A8E-F578-4A72-BA83-880D9591C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778A-2C3F-462B-8432-5F04BB58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55F-2462-47D4-9A87-60295E8A4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605A-153A-42F0-84A4-AFB3494D0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144-4EAC-406A-9DAB-10C3D44A9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BAC-B5C8-4D10-A3E7-9307C67D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032A-0C75-4CD5-9EB5-3B5E1188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B2C-013D-4E5B-93A4-96245A14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9F8-C14F-47A3-8F69-8CCA3365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A53-4694-40AD-8B7D-9DE21F5C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5BE-F1BD-44D9-8F65-61B6FBDA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C15E-FEDE-474D-91F8-B9148655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869D-A877-46E5-A67D-4D7FA0D7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7BE4-402B-4E59-93EB-6F10C611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05DB-6DBD-4B0C-8AD1-915BE772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C2F4-CA92-44BA-9D67-8B9B7FBB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4C09-3C9E-489B-9465-29B13B4E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08AC-7359-415D-90B4-73B5051F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DD5-C9D9-42F9-8D06-37A9CBC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E437-7143-48FF-946B-D25E8B4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92FE-6990-42CB-A75C-3D4C03B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8694-C2C7-4B42-BE00-76E2C3F4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9856-2606-4BFE-922D-77068A43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20E1-71B9-40BB-A4AB-60E15852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F46C-07D6-430D-97F8-ABFCD5A1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B9A3-5638-4612-8BFC-826E4A20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D640-A744-4C5E-B310-C79CAE22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A8E4-965F-421E-91C7-25CFAAE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BD3B-ABE2-458E-8569-0BCB42AD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CB1-B783-44F8-AA87-598D9D45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1647C-C9FF-4878-855D-9BA8C876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EBFC-81A1-42A3-A91A-1E35D4C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F83C-266F-4287-9D47-52D7112D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29AC-3FD0-48D2-882A-3FA7A5E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4D7D-8ABF-4573-9D4A-46828DE9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C583-1280-4F58-8C93-B572C59B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02D9-71E5-41FB-ABBA-0DE32484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E47-CB82-4746-A5E4-5345233C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118-0903-446C-9333-853DC6B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5C2-F17E-407A-A117-FFD3EFC4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EA9-C697-4FE8-B65C-CE8D474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B8C-14F6-497E-A23F-9A06B5AE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951-FBFD-4624-8B2C-F4E9ABE4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CE77-268C-4E28-AA58-934A9B7D0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D4C2-F6A3-424C-BB4F-DD3E16548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7EB4-C951-4517-929D-6B473419A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atistics – OR 155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3276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. S. Marron, Prof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perations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324120" y="190512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Dandy 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NSCDDandyLions.jpg"/>
          <p:cNvPicPr/>
          <p:nvPr/>
        </p:nvPicPr>
        <p:blipFill>
          <a:blip r:embed="rId1"/>
          <a:stretch/>
        </p:blipFill>
        <p:spPr>
          <a:xfrm>
            <a:off x="1600200" y="1509840"/>
            <a:ext cx="35053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NSCDIPod.jpg"/>
          <p:cNvPicPr/>
          <p:nvPr/>
        </p:nvPicPr>
        <p:blipFill>
          <a:blip r:embed="rId1"/>
          <a:stretch/>
        </p:blipFill>
        <p:spPr>
          <a:xfrm>
            <a:off x="1447920" y="1523880"/>
            <a:ext cx="399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NSCDIPod.jpg"/>
          <p:cNvPicPr/>
          <p:nvPr/>
        </p:nvPicPr>
        <p:blipFill>
          <a:blip r:embed="rId1"/>
          <a:stretch/>
        </p:blipFill>
        <p:spPr>
          <a:xfrm>
            <a:off x="1447920" y="1523880"/>
            <a:ext cx="3998880" cy="53341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53080" y="160020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I P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hinking Outside the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Also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Please suggest ad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 Puzz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     P{not A} =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or B} = P{A} + P{B} – P{A and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     P{not A} =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or B} = P{A} + P{B} – P{A and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rul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     P{not A} =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or B} = P{A} + P{B} – P{A and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rul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 logic is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     P{not A} =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or B} = P{A} + P{B} – P{A and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rul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 logic is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 rule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ead towards a rule for “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 new con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ead towards a rule for “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 new con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If event A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n to have occur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hance of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, since you are “equally likely to be in samp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ead towards a rule for “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a new con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If event A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n to have occur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hance of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“knowing A” means sample spac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trict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body rolls (and hides d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body rolls (and hides d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ells you “ev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body rolls (and hides d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ells you “ev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“&lt;= 3” is no longer 50-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body rolls (and hides d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ells you “ev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“&lt;= 3” is no longer 50-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fewer even #s are &lt;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“equally 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EFUL:   This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2"/>
              <p:cNvSpPr txBox="1"/>
              <p:nvPr/>
            </p:nvSpPr>
            <p:spPr>
              <a:xfrm>
                <a:off x="4876920" y="3200400"/>
                <a:ext cx="2514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“equally 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EFUL:   This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for B, sh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 1 or 3, since they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2"/>
              <p:cNvSpPr txBox="1"/>
              <p:nvPr/>
            </p:nvSpPr>
            <p:spPr>
              <a:xfrm>
                <a:off x="4876920" y="3200400"/>
                <a:ext cx="2514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by too 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earlier examp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  {A, B, C, D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Simple Random Sample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2"/>
              <p:cNvSpPr txBox="1"/>
              <p:nvPr/>
            </p:nvSpPr>
            <p:spPr>
              <a:xfrm>
                <a:off x="3733920" y="3581280"/>
                <a:ext cx="47671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    A = {even},    B = {1,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B, when A is known}  =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, since chance should go down from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3733920" y="3581280"/>
                <a:ext cx="47671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of B given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"/>
              <p:cNvSpPr txBox="1"/>
              <p:nvPr/>
            </p:nvSpPr>
            <p:spPr>
              <a:xfrm>
                <a:off x="2779560" y="2975040"/>
                <a:ext cx="59454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∧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of B given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by multiplying by P{A},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2779560" y="2975040"/>
                <a:ext cx="59454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∧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of B given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by multiplying by P{A},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2"/>
              <p:cNvSpPr txBox="1"/>
              <p:nvPr/>
            </p:nvSpPr>
            <p:spPr>
              <a:xfrm>
                <a:off x="2779560" y="2975040"/>
                <a:ext cx="59454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∧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4038480" y="5791320"/>
                <a:ext cx="46008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∧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ule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A &amp; B} = P{A|B} P{B} = P{B|A}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ule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A &amp; B} = P{A|B} P{B} = P{B|A}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rick: like “canceling fractions”, but make bar vertica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a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 flipV="1">
            <a:off x="2895480" y="297180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ule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A &amp; B} = P{A|B} P{B} = P{B|A}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rick: like “canceling fractions”, but make bar vertica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a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2 ways to do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"/>
          <p:cNvSpPr/>
          <p:nvPr/>
        </p:nvSpPr>
        <p:spPr>
          <a:xfrm flipV="1">
            <a:off x="2895480" y="297180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"/>
          <p:cNvSpPr/>
          <p:nvPr/>
        </p:nvSpPr>
        <p:spPr>
          <a:xfrm flipH="1" flipV="1">
            <a:off x="4419720" y="3124080"/>
            <a:ext cx="3045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"/>
          <p:cNvSpPr/>
          <p:nvPr/>
        </p:nvSpPr>
        <p:spPr>
          <a:xfrm flipV="1">
            <a:off x="4724280" y="30477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ule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A &amp; B} = P{A|B} P{B} = P{B|A}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rick: like “canceling fractions”, but make bar vertica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a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2 ways to do this. Good strategy: look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 one is often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"/>
          <p:cNvSpPr/>
          <p:nvPr/>
        </p:nvSpPr>
        <p:spPr>
          <a:xfrm flipV="1">
            <a:off x="2895480" y="297180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 flipH="1" flipV="1">
            <a:off x="4419720" y="3124080"/>
            <a:ext cx="3045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V="1">
            <a:off x="4724280" y="30477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115   (see description before 4.1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  {A, B, C, D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Simple Random Sample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(samples with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(s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(AC BC CD)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                                  =          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(AB AC AD BC BD CD)      6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4"/>
          <p:cNvSpPr/>
          <p:nvPr/>
        </p:nvSpPr>
        <p:spPr>
          <a:xfrm>
            <a:off x="3657600" y="3733920"/>
            <a:ext cx="358128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7"/>
          <p:cNvSpPr/>
          <p:nvPr/>
        </p:nvSpPr>
        <p:spPr>
          <a:xfrm>
            <a:off x="1752480" y="5638680"/>
            <a:ext cx="441972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8"/>
          <p:cNvSpPr/>
          <p:nvPr/>
        </p:nvSpPr>
        <p:spPr>
          <a:xfrm>
            <a:off x="6781680" y="5638680"/>
            <a:ext cx="68580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illustrating power (and use) of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a Co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illustrating power (and use) of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a Co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 H  take a ball from I: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G G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"/>
          <p:cNvSpPr/>
          <p:nvPr/>
        </p:nvSpPr>
        <p:spPr>
          <a:xfrm>
            <a:off x="594360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"/>
          <p:cNvSpPr/>
          <p:nvPr/>
        </p:nvSpPr>
        <p:spPr>
          <a:xfrm flipV="1">
            <a:off x="5943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 flipV="1">
            <a:off x="8229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illustrating power (and use) of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a Co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 H  take a ball from I: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G G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 T   take a ball from II: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594360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6019920" y="4648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 flipV="1">
            <a:off x="5943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"/>
          <p:cNvSpPr/>
          <p:nvPr/>
        </p:nvSpPr>
        <p:spPr>
          <a:xfrm flipV="1">
            <a:off x="8229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 flipV="1">
            <a:off x="60199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 flipV="1">
            <a:off x="74674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illustrating power (and use) of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a Co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 H  take a ball from I: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G G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 T   take a ball from II: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udy progressively harder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>
            <a:off x="594360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6019920" y="4648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V="1">
            <a:off x="5943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8229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60199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 flipV="1">
            <a:off x="74674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| H} =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| H} =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ance of R, if know got 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| H} =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ance of R, if know got 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| H} =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ance of R, if know got 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“equally likely” calculation (just counting) work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C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company makes 40% of its cars at factory A, and the rest at factory B.  Factory A produces 10% lemons, and Factory B produces 5% lemons.  A car is chosen at random.  What is the probability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came from Factory A?    (0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is a lemon, if it came from Fact. A? (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  {A, B, C, D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Simple Random Sample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, using generalizab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# of samples  =  “four choose 2” 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1600200" y="4648320"/>
                <a:ext cx="568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:         P{R &amp; H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:         P{R &amp; H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simple coun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&amp; H} =                                   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ution:   This is wro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3429000" y="3657600"/>
                <a:ext cx="3240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:         P{R &amp; H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simple coun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&amp; H} =                                   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ution:   This is wro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ball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3429000" y="3657600"/>
                <a:ext cx="3240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:         P{R &amp; H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:         P{R &amp; H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&amp; H} = P{H | R} P{R}  (OK, bu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:         P{R &amp; H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&amp; H} = P{H | R} P{R}  (OK, bu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R | H} P{H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 often one is hard, the other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as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Straight Arrow Connector 10"/>
          <p:cNvCxnSpPr/>
          <p:nvPr/>
        </p:nvCxnSpPr>
        <p:spPr>
          <a:xfrm flipH="1" flipV="1">
            <a:off x="4571640" y="4343040"/>
            <a:ext cx="45792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4" name="Straight Arrow Connector 11"/>
          <p:cNvCxnSpPr/>
          <p:nvPr/>
        </p:nvCxnSpPr>
        <p:spPr>
          <a:xfrm flipH="1" flipV="1">
            <a:off x="4647960" y="4952520"/>
            <a:ext cx="320112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:         P{R &amp; H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&amp; H} = P{H | R} P{R}  (OK, bu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R | H} P{H} = (2/5)(1/2) = 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B:         P{R &amp; H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 &amp; H} = P{H | R} P{R}  (OK, bu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R | H} P{H} = (2/5)(1/2) = 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&lt;  ¼  (from wrong answer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C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is a lemon, from Factory A? (0.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think carefully about contrast with (b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P{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# of samples  =  “four choose 2”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447920" y="1981080"/>
                <a:ext cx="56847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P{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simple coun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} =                              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ution:   This is wro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2"/>
              <p:cNvSpPr txBox="1"/>
              <p:nvPr/>
            </p:nvSpPr>
            <p:spPr>
              <a:xfrm>
                <a:off x="3200400" y="3581280"/>
                <a:ext cx="3438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P{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simple coun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} =                              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ution:   This is wro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again ball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3200400" y="3581280"/>
                <a:ext cx="3438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P{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now expect   &gt;  ½,  since R’s in II are more likely (thus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P{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now expect   &gt;  ½,  since R’s in II are more likely (thus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t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ch 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account, so write event in terms of the urn ball cam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  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} = P{(R &amp; H) or (R &amp; T)} =   (“expan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terms of coin toss resu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  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} = P{(R &amp; H) or (R &amp; T)} =   (“expan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R &amp; H} + P{R &amp; T} – 0   (or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se of “disjoint OR rul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  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} = P{(R &amp; H) or (R &amp; T)} =   (“expan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R &amp; H} + P{R &amp; T} – 0   (or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5 + P{R | T} P{T} =        (from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  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} = P{(R &amp; H) or (R &amp; T)} =   (“expan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R &amp; H} + P{R &amp; T} – 0   (or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5 + P{R | T} P{T} =        (from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5 + (2/3)(1/2) = 8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C:           Correct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R} = P{(R &amp; H) or (R &amp; T)} =   (“expan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R &amp; H} + P{R &amp; T} – 0   (or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5 + P{R | T} P{T} =        (from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5 + (2/3)(1/2) = 8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slightly  &gt;  ½  (as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C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is a lemon?     (0.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# of samples  =  “four choose 2”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# ways to fill 2 slots __, __  with A,B,C,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447920" y="1981080"/>
                <a:ext cx="56847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Oval 7"/>
          <p:cNvSpPr/>
          <p:nvPr/>
        </p:nvSpPr>
        <p:spPr>
          <a:xfrm>
            <a:off x="3276720" y="2133720"/>
            <a:ext cx="1218960" cy="12952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 flipV="1">
            <a:off x="609480" y="3124080"/>
            <a:ext cx="2743200" cy="10670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      P{H | 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      P{H | 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d for last,  since this is hard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      P{H | 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d for last,  since this is hard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nly “turn around” of  e.g.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      P{H | R} =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d for last,  since this is hard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only “turn around” of  e.g.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ommon: One Cond. Prob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ch eas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the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P{H | R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Conditional Pr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2"/>
              <p:cNvSpPr txBox="1"/>
              <p:nvPr/>
            </p:nvSpPr>
            <p:spPr>
              <a:xfrm>
                <a:off x="2895480" y="3048120"/>
                <a:ext cx="5715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∧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58" name="Straight Arrow Connector 12"/>
          <p:cNvCxnSpPr/>
          <p:nvPr/>
        </p:nvCxnSpPr>
        <p:spPr>
          <a:xfrm flipV="1">
            <a:off x="609120" y="3580560"/>
            <a:ext cx="251532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P{H | R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Conditional Pr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s as in above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2"/>
              <p:cNvSpPr txBox="1"/>
              <p:nvPr/>
            </p:nvSpPr>
            <p:spPr>
              <a:xfrm>
                <a:off x="2895480" y="3048120"/>
                <a:ext cx="5715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∧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68" name="Straight Arrow Connector 10"/>
          <p:cNvCxnSpPr/>
          <p:nvPr/>
        </p:nvCxnSpPr>
        <p:spPr>
          <a:xfrm flipV="1">
            <a:off x="609480" y="3276360"/>
            <a:ext cx="5182560" cy="175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14"/>
          <p:cNvCxnSpPr/>
          <p:nvPr/>
        </p:nvCxnSpPr>
        <p:spPr>
          <a:xfrm flipV="1">
            <a:off x="609120" y="3961800"/>
            <a:ext cx="434376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P{H | R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plug in numbers from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2"/>
              <p:cNvSpPr txBox="1"/>
              <p:nvPr/>
            </p:nvSpPr>
            <p:spPr>
              <a:xfrm>
                <a:off x="2895480" y="3048120"/>
                <a:ext cx="5715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∧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9" name="Straight Arrow Connector 10"/>
          <p:cNvCxnSpPr/>
          <p:nvPr/>
        </p:nvCxnSpPr>
        <p:spPr>
          <a:xfrm flipH="1" flipV="1">
            <a:off x="6476400" y="3428640"/>
            <a:ext cx="15300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0" name="Straight Arrow Connector 15"/>
          <p:cNvCxnSpPr/>
          <p:nvPr/>
        </p:nvCxnSpPr>
        <p:spPr>
          <a:xfrm flipH="1" flipV="1">
            <a:off x="5638320" y="3885480"/>
            <a:ext cx="990000" cy="8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1" name="Straight Arrow Connector 16"/>
          <p:cNvCxnSpPr/>
          <p:nvPr/>
        </p:nvCxnSpPr>
        <p:spPr>
          <a:xfrm flipH="1" flipV="1">
            <a:off x="6248160" y="3885840"/>
            <a:ext cx="38160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2" name="Straight Arrow Connector 17"/>
          <p:cNvCxnSpPr/>
          <p:nvPr/>
        </p:nvCxnSpPr>
        <p:spPr>
          <a:xfrm flipV="1">
            <a:off x="6629400" y="3885840"/>
            <a:ext cx="13723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3" name="Straight Arrow Connector 18"/>
          <p:cNvCxnSpPr/>
          <p:nvPr/>
        </p:nvCxnSpPr>
        <p:spPr>
          <a:xfrm flipV="1">
            <a:off x="6628320" y="3885840"/>
            <a:ext cx="76284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4" name="Straight Arrow Connector 19"/>
          <p:cNvCxnSpPr/>
          <p:nvPr/>
        </p:nvCxnSpPr>
        <p:spPr>
          <a:xfrm flipV="1">
            <a:off x="6628320" y="3428640"/>
            <a:ext cx="61020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5" name="Straight Connector 33"/>
          <p:cNvSpPr/>
          <p:nvPr/>
        </p:nvSpPr>
        <p:spPr>
          <a:xfrm flipV="1">
            <a:off x="609480" y="4723920"/>
            <a:ext cx="601992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P{H | R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2"/>
              <p:cNvSpPr txBox="1"/>
              <p:nvPr/>
            </p:nvSpPr>
            <p:spPr>
              <a:xfrm>
                <a:off x="2895480" y="3048120"/>
                <a:ext cx="5715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∧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3"/>
              <p:cNvSpPr txBox="1"/>
              <p:nvPr/>
            </p:nvSpPr>
            <p:spPr>
              <a:xfrm>
                <a:off x="2971800" y="4038480"/>
                <a:ext cx="365760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s in Ur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:   P{H | R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: if see 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4"/>
          <p:cNvSpPr/>
          <p:nvPr/>
        </p:nvSpPr>
        <p:spPr>
          <a:xfrm>
            <a:off x="2057400" y="2057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5"/>
          <p:cNvSpPr/>
          <p:nvPr/>
        </p:nvSpPr>
        <p:spPr>
          <a:xfrm>
            <a:off x="70866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6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7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8"/>
          <p:cNvSpPr/>
          <p:nvPr/>
        </p:nvSpPr>
        <p:spPr>
          <a:xfrm flipV="1">
            <a:off x="7086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9"/>
          <p:cNvSpPr/>
          <p:nvPr/>
        </p:nvSpPr>
        <p:spPr>
          <a:xfrm flipV="1">
            <a:off x="86868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2"/>
              <p:cNvSpPr txBox="1"/>
              <p:nvPr/>
            </p:nvSpPr>
            <p:spPr>
              <a:xfrm>
                <a:off x="2895480" y="3048120"/>
                <a:ext cx="5715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∧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3"/>
              <p:cNvSpPr txBox="1"/>
              <p:nvPr/>
            </p:nvSpPr>
            <p:spPr>
              <a:xfrm>
                <a:off x="2971800" y="4038480"/>
                <a:ext cx="365760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C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came from Factory A, if it is a lemon?     (4/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1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108  (ignore Venn Dia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# of samples  =  “four choose 2”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# ways to fill 2 slots __, __  with A,B,C,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Divide out # </a:t>
            </a:r>
            <a:r>
              <a:rPr b="0" i="1" lang="en-US" sz="3200" spc="-1" strike="noStrike">
                <a:solidFill>
                  <a:srgbClr val="00ccff"/>
                </a:solidFill>
                <a:latin typeface="Arial"/>
              </a:rPr>
              <a:t>orde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447920" y="1981080"/>
                <a:ext cx="56847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Oval 7"/>
          <p:cNvSpPr/>
          <p:nvPr/>
        </p:nvSpPr>
        <p:spPr>
          <a:xfrm>
            <a:off x="3276720" y="2133720"/>
            <a:ext cx="1218960" cy="12952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"/>
          <p:cNvSpPr/>
          <p:nvPr/>
        </p:nvSpPr>
        <p:spPr>
          <a:xfrm flipV="1">
            <a:off x="609480" y="3124080"/>
            <a:ext cx="2743200" cy="10670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819520" y="2666880"/>
            <a:ext cx="457200" cy="533520"/>
          </a:xfrm>
          <a:prstGeom prst="ellipse">
            <a:avLst/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2"/>
          <p:cNvSpPr/>
          <p:nvPr/>
        </p:nvSpPr>
        <p:spPr>
          <a:xfrm flipH="1">
            <a:off x="609480" y="3122640"/>
            <a:ext cx="2276640" cy="175428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# of samples  =  “four choose 2”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all notation of “factorial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! = n•(n-1)•(n-2)•••2•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1447920" y="1981080"/>
                <a:ext cx="56847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Oval 4"/>
          <p:cNvSpPr/>
          <p:nvPr/>
        </p:nvSpPr>
        <p:spPr>
          <a:xfrm>
            <a:off x="4876920" y="2057400"/>
            <a:ext cx="167616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6"/>
          <p:cNvSpPr/>
          <p:nvPr/>
        </p:nvSpPr>
        <p:spPr>
          <a:xfrm flipH="1">
            <a:off x="609480" y="2324160"/>
            <a:ext cx="4267440" cy="3162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samples with C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#(ways to choose C)  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 #(samples of 1 from {A B D})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on BlackBo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OK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email, and I will personally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don’t make me post you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are welcome on how this is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mail delay la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only answered this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yourself enough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samples with C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#(ways to choose C)  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 #(samples of 1 from {A B D})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“1 choose 1”    ×    “3 choose 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samples with C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#(ways to choose C)  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 #(samples of 1 from {A B D})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“1 choose 1”    ×    “3 choose 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143000" y="4191120"/>
                <a:ext cx="36702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piec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(samples with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(s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    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4"/>
          <p:cNvSpPr/>
          <p:nvPr/>
        </p:nvSpPr>
        <p:spPr>
          <a:xfrm>
            <a:off x="3581280" y="3048120"/>
            <a:ext cx="358164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8"/>
          <p:cNvSpPr/>
          <p:nvPr/>
        </p:nvSpPr>
        <p:spPr>
          <a:xfrm>
            <a:off x="3581280" y="5029200"/>
            <a:ext cx="91440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piec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(samples with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(s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    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pply to realistic examp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4"/>
          <p:cNvSpPr/>
          <p:nvPr/>
        </p:nvSpPr>
        <p:spPr>
          <a:xfrm>
            <a:off x="3581280" y="3048120"/>
            <a:ext cx="358164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8"/>
          <p:cNvSpPr/>
          <p:nvPr/>
        </p:nvSpPr>
        <p:spPr>
          <a:xfrm>
            <a:off x="3581280" y="5029200"/>
            <a:ext cx="91440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each sample is equally likely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157480" y="4191120"/>
                <a:ext cx="5211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,000,000 choose 100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15" name="Straight Arrow Connector 7"/>
          <p:cNvCxnSpPr/>
          <p:nvPr/>
        </p:nvCxnSpPr>
        <p:spPr>
          <a:xfrm flipV="1">
            <a:off x="609480" y="3504600"/>
            <a:ext cx="556344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,000,000 choose 100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ways to choo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19" name="Straight Arrow Connector 7"/>
          <p:cNvCxnSpPr/>
          <p:nvPr/>
        </p:nvCxnSpPr>
        <p:spPr>
          <a:xfrm flipV="1">
            <a:off x="609120" y="2438280"/>
            <a:ext cx="5411160" cy="2439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,000,000 choose 100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ways to choo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ways to choose rest of sample (999) from rest of population (199,999,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23" name="Straight Arrow Connector 7"/>
          <p:cNvCxnSpPr/>
          <p:nvPr/>
        </p:nvCxnSpPr>
        <p:spPr>
          <a:xfrm flipV="1">
            <a:off x="609120" y="2742840"/>
            <a:ext cx="5715720" cy="274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ministrative Ma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pay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ware: technology can entail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ff on the right fo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 AM (this mo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difficulty with the whole excel orde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utorials are excellent in this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canc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Straight Connector 6"/>
          <p:cNvSpPr/>
          <p:nvPr/>
        </p:nvSpPr>
        <p:spPr>
          <a:xfrm>
            <a:off x="2590920" y="4191120"/>
            <a:ext cx="190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7"/>
          <p:cNvSpPr/>
          <p:nvPr/>
        </p:nvSpPr>
        <p:spPr>
          <a:xfrm>
            <a:off x="2514600" y="4876920"/>
            <a:ext cx="1905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9"/>
          <p:cNvCxnSpPr/>
          <p:nvPr/>
        </p:nvCxnSpPr>
        <p:spPr>
          <a:xfrm flipV="1">
            <a:off x="609120" y="4343040"/>
            <a:ext cx="2057760" cy="175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Straight Arrow Connector 10"/>
          <p:cNvCxnSpPr/>
          <p:nvPr/>
        </p:nvCxnSpPr>
        <p:spPr>
          <a:xfrm flipV="1">
            <a:off x="609480" y="4952160"/>
            <a:ext cx="190584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1000!  =  1000•999!    and can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Straight Connector 6"/>
          <p:cNvSpPr/>
          <p:nvPr/>
        </p:nvSpPr>
        <p:spPr>
          <a:xfrm>
            <a:off x="2590920" y="4191120"/>
            <a:ext cx="190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7"/>
          <p:cNvSpPr/>
          <p:nvPr/>
        </p:nvSpPr>
        <p:spPr>
          <a:xfrm>
            <a:off x="2514600" y="4876920"/>
            <a:ext cx="1905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9"/>
          <p:cNvCxnSpPr/>
          <p:nvPr/>
        </p:nvCxnSpPr>
        <p:spPr>
          <a:xfrm flipV="1">
            <a:off x="609480" y="4266720"/>
            <a:ext cx="4115520" cy="18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Straight Arrow Connector 10"/>
          <p:cNvCxnSpPr/>
          <p:nvPr/>
        </p:nvCxnSpPr>
        <p:spPr>
          <a:xfrm flipV="1">
            <a:off x="609120" y="4952160"/>
            <a:ext cx="449676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Straight Connector 11"/>
          <p:cNvSpPr/>
          <p:nvPr/>
        </p:nvSpPr>
        <p:spPr>
          <a:xfrm>
            <a:off x="4648320" y="4191120"/>
            <a:ext cx="609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4"/>
          <p:cNvSpPr/>
          <p:nvPr/>
        </p:nvSpPr>
        <p:spPr>
          <a:xfrm>
            <a:off x="5105520" y="487692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larly for 200,000,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Straight Connector 6"/>
          <p:cNvSpPr/>
          <p:nvPr/>
        </p:nvSpPr>
        <p:spPr>
          <a:xfrm>
            <a:off x="2590920" y="4191120"/>
            <a:ext cx="190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7"/>
          <p:cNvSpPr/>
          <p:nvPr/>
        </p:nvSpPr>
        <p:spPr>
          <a:xfrm>
            <a:off x="2514600" y="4876920"/>
            <a:ext cx="1905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9"/>
          <p:cNvCxnSpPr/>
          <p:nvPr/>
        </p:nvCxnSpPr>
        <p:spPr>
          <a:xfrm flipV="1">
            <a:off x="609480" y="3885840"/>
            <a:ext cx="2363040" cy="22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0"/>
          <p:cNvCxnSpPr/>
          <p:nvPr/>
        </p:nvCxnSpPr>
        <p:spPr>
          <a:xfrm flipV="1">
            <a:off x="609480" y="4571280"/>
            <a:ext cx="411552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Straight Connector 11"/>
          <p:cNvSpPr/>
          <p:nvPr/>
        </p:nvSpPr>
        <p:spPr>
          <a:xfrm>
            <a:off x="4648320" y="4191120"/>
            <a:ext cx="609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4"/>
          <p:cNvSpPr/>
          <p:nvPr/>
        </p:nvSpPr>
        <p:spPr>
          <a:xfrm>
            <a:off x="5105520" y="487692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2"/>
          <p:cNvSpPr/>
          <p:nvPr/>
        </p:nvSpPr>
        <p:spPr>
          <a:xfrm>
            <a:off x="4724280" y="4495680"/>
            <a:ext cx="228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3"/>
          <p:cNvSpPr/>
          <p:nvPr/>
        </p:nvSpPr>
        <p:spPr>
          <a:xfrm>
            <a:off x="2971800" y="3809880"/>
            <a:ext cx="1905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, since you are “equally likely to be in samp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in Stat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in Stat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n’t statistical methods all kn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in Stat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n’t statistical methods all kn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e some things in this course that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in Stat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n’t statistical methods all kn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e some things in this course that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re are man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e some things that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re are man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e some things that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re are man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n by “automated data colle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Matters – Blackboar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ly likely pr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imple Random Sampling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e some things that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re are man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n by “automated data colle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more and bigger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e some things that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re are man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n by “automated data colle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more and bigger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exotic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ic 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ic 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ic 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nderstand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Population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ic 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ic 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in “Multivariate Analysi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tic 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in “Multivariate Analysi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nderstand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Population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f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variate Analysis: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variate Analysis: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Research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242-250,  289-2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51-255,  301-303,  258-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variate Analysis: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Data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variate Analysis: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Data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nderstand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Population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f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atom of an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ourse: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variate Analysis: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Data Analysis: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Data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mages, Shapes, Trees, Movi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Data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.g.  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                   , …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rcRect l="1677" t="17647" r="56178" b="41176"/>
          <a:stretch/>
        </p:blipFill>
        <p:spPr>
          <a:xfrm>
            <a:off x="685800" y="3505320"/>
            <a:ext cx="2068560" cy="1439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2"/>
          <a:srcRect l="1677" t="17647" r="56178" b="41176"/>
          <a:stretch/>
        </p:blipFill>
        <p:spPr>
          <a:xfrm>
            <a:off x="2971800" y="3505320"/>
            <a:ext cx="2068560" cy="1439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"/>
          <p:cNvPicPr/>
          <p:nvPr/>
        </p:nvPicPr>
        <p:blipFill>
          <a:blip r:embed="rId3"/>
          <a:srcRect l="1677" t="17647" r="56178" b="41176"/>
          <a:stretch/>
        </p:blipFill>
        <p:spPr>
          <a:xfrm>
            <a:off x="6400800" y="3429000"/>
            <a:ext cx="20685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ave prob.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ave prob.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hard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ave prob.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hard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rob’s we care about, such as “accuracy estimators”, need bet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ave prob.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hard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rob’s we care about, such as “accuracy estimators”, need bet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look more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calculate “complicated prob’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calculate “complicated prob’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omposing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erms of 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calculate “complicated prob’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omposing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erms of 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alculating probs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 flipH="1" flipV="1">
            <a:off x="3733560" y="3200040"/>
            <a:ext cx="3276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calculate “complicated prob’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omposing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erms of 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alculating probs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using simple rules of probabilty to com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 flipH="1" flipV="1">
            <a:off x="3733560" y="3200040"/>
            <a:ext cx="3276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not A}  = 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not A}  = 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qually likely sampl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3048120" y="3809880"/>
                <a:ext cx="4647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otal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not A}  = 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qually likely sampl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 gener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3048120" y="3809880"/>
                <a:ext cx="4647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otal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3962520" y="5410080"/>
                <a:ext cx="4724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prob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  <m:r>
                              <m:t xml:space="preserve">'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bs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Not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Terminology (sec. 4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complement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 theoretic te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prefer “not”, since more intui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3124080" y="2133720"/>
                <a:ext cx="5335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Line 5"/>
          <p:cNvSpPr/>
          <p:nvPr/>
        </p:nvSpPr>
        <p:spPr>
          <a:xfrm flipV="1">
            <a:off x="2286000" y="2361960"/>
            <a:ext cx="1219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Not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Rework, using the “not”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2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A or B}  =  P{A} + P{B} – P{A and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A or B}  =  P{A} + P{B} – P{A and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qually likely sampl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914400" y="3809880"/>
                <a:ext cx="6937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B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A or B}  =  P{A} + P{B} – P{A and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qually likely sampl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P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914400" y="3809880"/>
                <a:ext cx="6937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B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Oval 5"/>
          <p:cNvSpPr/>
          <p:nvPr/>
        </p:nvSpPr>
        <p:spPr>
          <a:xfrm>
            <a:off x="3352680" y="5105520"/>
            <a:ext cx="251460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4724280" y="5181480"/>
            <a:ext cx="2057400" cy="1067040"/>
          </a:xfrm>
          <a:prstGeom prst="ellipse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each sample is equally likely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157480" y="4191120"/>
                <a:ext cx="5211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s work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s work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:    P{not A} = P{5, 6} = 2/6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s work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:    P{not A} = P{5, 6} = 2/6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le I:  P{not A} = 1 – P{A} = 1 – 4/6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 works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 works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:    P{A or B} = P{1, 2, 3, 4, 5} = 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 works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:    P{A or B} = P{1, 2, 3, 4, 5} = 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le II:  P{A or B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A} + P{B} – P{A and B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/6 + 3/6 – 2/6 = 5/6        (check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o eas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rules for these simpl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o eas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rules for these simpl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y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igg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each sample is equally likely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  thi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733 digits, too big for easy handling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2157480" y="4191120"/>
                <a:ext cx="5211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638680" y="5029200"/>
                <a:ext cx="2286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7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Line 6"/>
          <p:cNvSpPr/>
          <p:nvPr/>
        </p:nvSpPr>
        <p:spPr>
          <a:xfrm flipV="1">
            <a:off x="3124080" y="4876920"/>
            <a:ext cx="19051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o eas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rules for these simpl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y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igg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o eas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rules for these simpl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y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igg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4.106 (0.31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A college has 60% Women and 40% smokers, and 50% women who don’t sm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hance that a randomly selected student is either a women or a non-smok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A college has 60% Women and 40% smokers, and 50% women who don’t sm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hance that a randomly selected student is either a women or a non-smok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ms “&gt;60%”, but twice? Must be &lt; 100%, i.e. must be some overlap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 Women – Smokers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W or NS} = P{W} + P{NS} - P{W &amp; N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ce of letters make easy to work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 flipH="1" flipV="1">
            <a:off x="342864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"/>
          <p:cNvSpPr/>
          <p:nvPr/>
        </p:nvSpPr>
        <p:spPr>
          <a:xfrm flipV="1">
            <a:off x="35812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 Women – Smokers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W or NS} = P{W} + P{NS} - P{W &amp; N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ce of letters make easy to work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 + (1 – 0.4) – 0.5 = 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swer is 70% Women or Non-Smo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"/>
          <p:cNvSpPr/>
          <p:nvPr/>
        </p:nvSpPr>
        <p:spPr>
          <a:xfrm flipH="1" flipV="1">
            <a:off x="342864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 flipV="1">
            <a:off x="35812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 Women – Smokers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W or NS} = P{W} + P{NS} = P{W &amp; N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ce of letters make easy to work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 + (1 – 0.4) – 0.5 = 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swer is 70% Women or Non-Smo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rules are powerful when us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"/>
          <p:cNvSpPr/>
          <p:nvPr/>
        </p:nvSpPr>
        <p:spPr>
          <a:xfrm flipH="1" flipV="1">
            <a:off x="342864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5812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“Or” Rule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C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building company bids on two large projects.  The president believes the chance of winning the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s 0.6, the chance of winning the 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s 0.5, and the chance of winning both is 0.3.  What is the chance of winning at least one of the jobs?    (0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Events A &amp; B are “mutually exclusive”, i.e. “disjoint”, when  P{A &amp; B}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Events A &amp; B are “mutually exclusive”, i.e. “disjoint”, when  P{A &amp; B}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ce of seeing bo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same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Events A &amp; B are “mutually exclusive”, i.e. “disjoint”, when  P{A &amp; B}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ce of seeing bo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same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i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3048120" y="3505320"/>
            <a:ext cx="1295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4876920" y="3429000"/>
            <a:ext cx="60948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Events A &amp; B are “mutually exclusive”, i.e. “disjoint”, when  P{A &amp; B}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ce of seeing bo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same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i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or B} = P{A} + P{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3048120" y="3505320"/>
            <a:ext cx="1295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4876920" y="3429000"/>
            <a:ext cx="60948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Events A &amp; B are “mutually exclusive”, i.e. “disjoint”, when  P{A &amp; B}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ce of seeing bo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same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i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or B} = P{A} + P{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suggests “new rule”, I say “special c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4"/>
          <p:cNvSpPr/>
          <p:nvPr/>
        </p:nvSpPr>
        <p:spPr>
          <a:xfrm>
            <a:off x="3048120" y="3505320"/>
            <a:ext cx="1295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876920" y="3429000"/>
            <a:ext cx="60948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Exclusive Or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C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oose an acre of land in Canada at random.  The probability is 0.35 that it is forest, and 0.03 that it is pas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is the probability that the acre chosen is not forested?  (0.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is the probability that it is either forest or pasture?  (0.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is the probability that a randomly chosen acre in Canada is neither forest nor pasture?   (0.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an you guess the phr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hat these pictures intend to conv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an you guess the phr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hat these pictures intend to conv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hinking Outside the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Can you guess the phr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hat these pictures intend to conv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Thinking Outside the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Also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Lateral Think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NSCDDrPepper.jpg"/>
          <p:cNvPicPr/>
          <p:nvPr/>
        </p:nvPicPr>
        <p:blipFill>
          <a:blip r:embed="rId1"/>
          <a:stretch/>
        </p:blipFill>
        <p:spPr>
          <a:xfrm>
            <a:off x="0" y="1600200"/>
            <a:ext cx="63500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629040" y="1676160"/>
            <a:ext cx="2514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Dr. Pe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NSCDDrPepper.jpg"/>
          <p:cNvPicPr/>
          <p:nvPr/>
        </p:nvPicPr>
        <p:blipFill>
          <a:blip r:embed="rId1"/>
          <a:stretch/>
        </p:blipFill>
        <p:spPr>
          <a:xfrm>
            <a:off x="0" y="1600200"/>
            <a:ext cx="63500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NSCDDandyLions.jpg"/>
          <p:cNvPicPr/>
          <p:nvPr/>
        </p:nvPicPr>
        <p:blipFill>
          <a:blip r:embed="rId1"/>
          <a:stretch/>
        </p:blipFill>
        <p:spPr>
          <a:xfrm>
            <a:off x="1600200" y="1509840"/>
            <a:ext cx="35053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UNC</cp:lastModifiedBy>
  <dcterms:modified xsi:type="dcterms:W3CDTF">2009-01-22T14:59:22Z</dcterms:modified>
  <cp:revision>202</cp:revision>
  <dc:subject/>
  <dc:title>Slide 1</dc:title>
</cp:coreProperties>
</file>