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8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2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7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120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79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2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53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60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161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  <p:sldId id="375" r:id="rId126"/>
    <p:sldId id="376" r:id="rId127"/>
    <p:sldId id="377" r:id="rId128"/>
    <p:sldId id="378" r:id="rId129"/>
    <p:sldId id="379" r:id="rId130"/>
    <p:sldId id="380" r:id="rId131"/>
    <p:sldId id="381" r:id="rId132"/>
    <p:sldId id="382" r:id="rId133"/>
    <p:sldId id="383" r:id="rId134"/>
    <p:sldId id="384" r:id="rId135"/>
    <p:sldId id="385" r:id="rId136"/>
    <p:sldId id="386" r:id="rId137"/>
    <p:sldId id="387" r:id="rId138"/>
    <p:sldId id="388" r:id="rId139"/>
    <p:sldId id="389" r:id="rId140"/>
    <p:sldId id="390" r:id="rId141"/>
    <p:sldId id="391" r:id="rId142"/>
    <p:sldId id="392" r:id="rId143"/>
    <p:sldId id="393" r:id="rId144"/>
    <p:sldId id="394" r:id="rId145"/>
    <p:sldId id="395" r:id="rId146"/>
    <p:sldId id="396" r:id="rId147"/>
    <p:sldId id="397" r:id="rId148"/>
    <p:sldId id="398" r:id="rId149"/>
    <p:sldId id="399" r:id="rId150"/>
    <p:sldId id="400" r:id="rId151"/>
    <p:sldId id="401" r:id="rId152"/>
    <p:sldId id="402" r:id="rId153"/>
    <p:sldId id="403" r:id="rId154"/>
    <p:sldId id="404" r:id="rId155"/>
    <p:sldId id="405" r:id="rId156"/>
    <p:sldId id="406" r:id="rId157"/>
    <p:sldId id="407" r:id="rId158"/>
    <p:sldId id="408" r:id="rId159"/>
    <p:sldId id="409" r:id="rId160"/>
    <p:sldId id="410" r:id="rId161"/>
    <p:sldId id="411" r:id="rId162"/>
    <p:sldId id="412" r:id="rId163"/>
    <p:sldId id="413" r:id="rId164"/>
    <p:sldId id="414" r:id="rId165"/>
    <p:sldId id="415" r:id="rId166"/>
    <p:sldId id="416" r:id="rId167"/>
    <p:sldId id="417" r:id="rId168"/>
    <p:sldId id="418" r:id="rId169"/>
    <p:sldId id="419" r:id="rId1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slide" Target="slides/slide120.xml"/><Relationship Id="rId127" Type="http://schemas.openxmlformats.org/officeDocument/2006/relationships/slide" Target="slides/slide121.xml"/><Relationship Id="rId128" Type="http://schemas.openxmlformats.org/officeDocument/2006/relationships/slide" Target="slides/slide122.xml"/><Relationship Id="rId129" Type="http://schemas.openxmlformats.org/officeDocument/2006/relationships/slide" Target="slides/slide123.xml"/><Relationship Id="rId130" Type="http://schemas.openxmlformats.org/officeDocument/2006/relationships/slide" Target="slides/slide124.xml"/><Relationship Id="rId131" Type="http://schemas.openxmlformats.org/officeDocument/2006/relationships/slide" Target="slides/slide125.xml"/><Relationship Id="rId132" Type="http://schemas.openxmlformats.org/officeDocument/2006/relationships/slide" Target="slides/slide126.xml"/><Relationship Id="rId133" Type="http://schemas.openxmlformats.org/officeDocument/2006/relationships/slide" Target="slides/slide127.xml"/><Relationship Id="rId134" Type="http://schemas.openxmlformats.org/officeDocument/2006/relationships/slide" Target="slides/slide128.xml"/><Relationship Id="rId135" Type="http://schemas.openxmlformats.org/officeDocument/2006/relationships/slide" Target="slides/slide129.xml"/><Relationship Id="rId136" Type="http://schemas.openxmlformats.org/officeDocument/2006/relationships/slide" Target="slides/slide130.xml"/><Relationship Id="rId137" Type="http://schemas.openxmlformats.org/officeDocument/2006/relationships/slide" Target="slides/slide131.xml"/><Relationship Id="rId138" Type="http://schemas.openxmlformats.org/officeDocument/2006/relationships/slide" Target="slides/slide132.xml"/><Relationship Id="rId139" Type="http://schemas.openxmlformats.org/officeDocument/2006/relationships/slide" Target="slides/slide133.xml"/><Relationship Id="rId140" Type="http://schemas.openxmlformats.org/officeDocument/2006/relationships/slide" Target="slides/slide134.xml"/><Relationship Id="rId141" Type="http://schemas.openxmlformats.org/officeDocument/2006/relationships/slide" Target="slides/slide135.xml"/><Relationship Id="rId142" Type="http://schemas.openxmlformats.org/officeDocument/2006/relationships/slide" Target="slides/slide136.xml"/><Relationship Id="rId143" Type="http://schemas.openxmlformats.org/officeDocument/2006/relationships/slide" Target="slides/slide137.xml"/><Relationship Id="rId144" Type="http://schemas.openxmlformats.org/officeDocument/2006/relationships/slide" Target="slides/slide138.xml"/><Relationship Id="rId145" Type="http://schemas.openxmlformats.org/officeDocument/2006/relationships/slide" Target="slides/slide139.xml"/><Relationship Id="rId146" Type="http://schemas.openxmlformats.org/officeDocument/2006/relationships/slide" Target="slides/slide140.xml"/><Relationship Id="rId147" Type="http://schemas.openxmlformats.org/officeDocument/2006/relationships/slide" Target="slides/slide141.xml"/><Relationship Id="rId148" Type="http://schemas.openxmlformats.org/officeDocument/2006/relationships/slide" Target="slides/slide142.xml"/><Relationship Id="rId149" Type="http://schemas.openxmlformats.org/officeDocument/2006/relationships/slide" Target="slides/slide143.xml"/><Relationship Id="rId150" Type="http://schemas.openxmlformats.org/officeDocument/2006/relationships/slide" Target="slides/slide144.xml"/><Relationship Id="rId151" Type="http://schemas.openxmlformats.org/officeDocument/2006/relationships/slide" Target="slides/slide145.xml"/><Relationship Id="rId152" Type="http://schemas.openxmlformats.org/officeDocument/2006/relationships/slide" Target="slides/slide146.xml"/><Relationship Id="rId153" Type="http://schemas.openxmlformats.org/officeDocument/2006/relationships/slide" Target="slides/slide147.xml"/><Relationship Id="rId154" Type="http://schemas.openxmlformats.org/officeDocument/2006/relationships/slide" Target="slides/slide148.xml"/><Relationship Id="rId155" Type="http://schemas.openxmlformats.org/officeDocument/2006/relationships/slide" Target="slides/slide149.xml"/><Relationship Id="rId156" Type="http://schemas.openxmlformats.org/officeDocument/2006/relationships/slide" Target="slides/slide150.xml"/><Relationship Id="rId157" Type="http://schemas.openxmlformats.org/officeDocument/2006/relationships/slide" Target="slides/slide151.xml"/><Relationship Id="rId158" Type="http://schemas.openxmlformats.org/officeDocument/2006/relationships/slide" Target="slides/slide152.xml"/><Relationship Id="rId159" Type="http://schemas.openxmlformats.org/officeDocument/2006/relationships/slide" Target="slides/slide153.xml"/><Relationship Id="rId160" Type="http://schemas.openxmlformats.org/officeDocument/2006/relationships/slide" Target="slides/slide154.xml"/><Relationship Id="rId161" Type="http://schemas.openxmlformats.org/officeDocument/2006/relationships/slide" Target="slides/slide155.xml"/><Relationship Id="rId162" Type="http://schemas.openxmlformats.org/officeDocument/2006/relationships/slide" Target="slides/slide156.xml"/><Relationship Id="rId163" Type="http://schemas.openxmlformats.org/officeDocument/2006/relationships/slide" Target="slides/slide157.xml"/><Relationship Id="rId164" Type="http://schemas.openxmlformats.org/officeDocument/2006/relationships/slide" Target="slides/slide158.xml"/><Relationship Id="rId165" Type="http://schemas.openxmlformats.org/officeDocument/2006/relationships/slide" Target="slides/slide159.xml"/><Relationship Id="rId166" Type="http://schemas.openxmlformats.org/officeDocument/2006/relationships/slide" Target="slides/slide160.xml"/><Relationship Id="rId167" Type="http://schemas.openxmlformats.org/officeDocument/2006/relationships/slide" Target="slides/slide161.xml"/><Relationship Id="rId168" Type="http://schemas.openxmlformats.org/officeDocument/2006/relationships/slide" Target="slides/slide162.xml"/><Relationship Id="rId169" Type="http://schemas.openxmlformats.org/officeDocument/2006/relationships/slide" Target="slides/slide163.xml"/><Relationship Id="rId170" Type="http://schemas.openxmlformats.org/officeDocument/2006/relationships/slide" Target="slides/slide164.xml"/><Relationship Id="rId1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09CA1-4523-435D-B164-CCF7E1752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FDADC-4717-451E-AB4B-96CB196CB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1CC00-916C-4CAA-BA5E-A2C785662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6B29E-69F0-4E16-B3D2-59860B2C4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11DEB-5FB8-4E6D-AF1A-F1286AA1A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2954C-0D8B-42E1-829E-87FD7BE6B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3AB08-6420-48E6-8BBF-4994DB53E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DFC62-45F7-4912-8F67-C987B926C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8850C-8259-4ECA-BBAF-EE4F1790D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9E5A4-1ADD-44DD-9F56-B7AA0AE8A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A009E-219E-45DA-A402-08B0DCDB1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64A32-F68D-4811-B0E2-35457542B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C1E5C-6ADE-4DB8-8418-BD10B242A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068F0-361E-4BAE-98D1-C8550BB60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D35CD-5FEC-47E5-B8A7-8BDE28DA5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4DF99-7112-4AE2-A0C5-9C8E8A46D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114EA-08C2-428F-AE86-10D4DFE7A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799B2-8372-404B-8C85-B9A10D451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BFA74-1324-42A1-96AF-91E9013DC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B7780-247B-4C8E-B136-068ADB9E7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A0778-A931-44C4-BACE-0A31567B2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3F8CB-B331-4321-9976-B0A11B59A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8135F-1283-439B-B0AA-FAE75A1F7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F5C0E-06D2-4783-B7EE-EE911D81B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8C9F6-870C-421A-8D14-3E0621306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C0E6A-90A2-4056-83EB-051367608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98D51-6D6E-4E25-BA4A-4EC988F8D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CB7B9-CAB3-46BD-A1A5-3CDCA1D3C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923B3-68C4-445B-830F-C3FC6C8B4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6FD48-A5AA-4B58-B505-F6F15661F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C651C-B7B2-4631-AB4F-0CAB7E61A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43FD0-60E5-4EB3-AC0C-E67723792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E93DC-F687-417B-9CB6-E03592FEA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4ABD2-77BD-4EC6-BEF9-C98D2BADB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62A58-4700-4545-912E-F6D9FD7A3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B9E7D-06E3-4265-88DC-E4D58A3B9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7318D-14FC-4968-93A0-8DAA12A65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0278D-1FFD-4F78-BAFD-0AF59DAEC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74F13-FA74-4EB0-B7BA-6D56E248D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B3D9C-E28C-4DAA-98BB-142E9578B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4BB00-DD1C-4C50-9325-32E4EC92A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1D9C4-F5D0-44E0-8997-9DFADA11A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C5A15-F3BF-4080-B126-EED7F06C7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02AD7-9807-4257-B142-107454CFB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88805-2370-4586-85E5-6022626D5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730B5-EE85-4DF6-9A7E-C374D109C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518E7-7BA6-4B5B-9ED9-5125D81C6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A6B94-EA2E-4F24-9B65-40166AADC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071B6-E3EA-4E86-A961-63615B46C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D1BBF-E2AC-4049-871A-3127F37B5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B8879-3D73-4D4E-9DA2-1DADDEEE3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BFB61-DD80-47BF-A58E-5007BF8CE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191EB-ED13-42FD-98C5-4E2B321AC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1D69F-B630-413A-8425-89BBF2CAF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37F98-F288-40B2-9122-68E14D86F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3E630-4502-426D-A1A2-5DAA4C2E2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21303-76EC-4B60-AFE8-1C39C98DE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D2C74-C955-42B8-B07C-E972D753A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2E3FA-9214-4E5A-AA35-0BDFDDC46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18075-8BE8-41F7-8B50-63E0A4860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81DE7-A21A-4CAD-B4B0-3278C16B1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D9D49-1E4A-4825-8C17-B929A91C4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8B7B2-C249-4A39-84CE-8CED166D0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87AA4-C71B-4278-BFD7-AA36E6390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D97FE-804C-45CA-A2F4-91E9BF668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A448-7C30-46A3-9E66-A9CE72750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22D6D-0C2D-48D6-83C4-7AF55E8CB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8C6B-AFA4-4076-AC85-20804AD78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EA558-184C-4618-BA19-D9DA90BDB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C5FE1-4768-42F7-95B4-A766AD2A3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79A53-B0BE-4D7C-B63F-EBCEFCF91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E8A1-33EB-40DC-AAD2-4A07EF95A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CF85-C5A7-4366-8A55-90DB9669F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D5F0-D7BB-4FDD-9170-78425CAF2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E41DD-03D2-4B10-948F-27C06BD94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0602A-BF10-4F19-B959-ED1F24F81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538B3-FF94-40DC-9D77-7EFF75B04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8A4A6-FC0E-44C5-86C2-1B3A5652E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6C24A-1C66-406F-B83E-6B6600861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6D869-2EEE-4E89-9880-B03E78D26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F476D-D5F2-4EED-A8F7-1F4A81844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CBE1-BDB2-4CD8-BE5A-5120CFE11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E12AF-AA4B-4366-ACC6-5F69A3999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6CB2E-3B5C-48E1-A9FC-3400C0777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A20C0-C476-45D4-B15B-21F696A13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B806C-BE44-4B96-81FD-09909149E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07829-0BD7-4386-A59F-3A1148742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548A1-AAD1-4C99-A399-0A70DD559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C5079-078C-41FC-A5B2-4F364B260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1DB5-386C-45B5-A7B5-0627183AA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9DFA5-5716-49A1-A060-94A94BAAC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D29C8-00CE-49FA-887F-E77491B36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A914F-D4EA-4668-A846-078B9FDC9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C1797-3E3F-475B-BBAA-1CDB9A9AA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5905B-DF33-4AA5-BEBB-43AB97C80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2815F-13B7-4B19-90B0-B0FA9381D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525BC-9FA7-47C1-BB36-D181FDFEE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BC9FC-2F5A-4A05-9579-A849B99FA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52DDB-583C-4A58-A100-3B659DA61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441B5-3B7E-478C-BE5B-FF6DCA5FF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7E290-5097-4C65-82F4-19265DC7D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ADF9A-7763-4CAF-9658-83262A0D3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95250-FB86-4DBC-A700-C8465C349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2AFF6-0D6A-4DF5-B838-89CFF8670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FBDD7-5BEC-487E-919F-7351EF388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89295-7D7D-4FF0-8A65-DE4B27B4B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37F2D-FE11-4F75-9FDA-E3359FD5B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CFFBA-71AF-4591-B5B9-716CD8E51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6562A-CD4B-4404-BDE2-FB9425855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0C949-7685-4899-AB38-DBD57201E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BBB3C-CB76-40EC-B7E0-207F85A65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F184E-7C7E-4BA6-BC5C-F422BD65E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83273-3CEC-47D0-A1CF-CBB0EDB94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ECF5A-3E19-4830-8853-517C55BB7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D0B6-1FA3-42F5-A3AE-1A077EC38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D08C1-A74E-4F62-821B-D2A3D7C07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EDEF5-5F4F-4F69-A51E-5BC1522B9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1240B-FE7C-4CD3-9C89-B13CA06EF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443CD-42A7-4741-A60A-A4DE3BF53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6F8A2-2E2E-489C-9380-9D1E7D85B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2B259-EFF2-47B1-ABA2-C2403D9C3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C245A-86BA-4788-8EE3-BC81252C7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228B6-2FD1-4E1F-B3D1-5A833951C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D08BE-6039-41B4-980F-95EA5AE8C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0531F-D6E4-4215-A4F8-BE02B6D56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97E6B-FFA5-4570-9A42-A042CB638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A2C08-E8C3-4E68-AA12-05EFD7D67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74F03-1E0A-4588-9EAA-63D4FCE47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BB094-CFF2-4C15-A8F1-5A048A790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0C0F2-9363-4155-9AFF-E3F2A22A0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FE520-FF84-45CE-97B4-B9E2F3F0F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FB045-BB24-4F0F-8C4B-DDCAFA75E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24F35-C68B-405F-9A8B-EC212FCC7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72807-7CC5-478A-B89F-9E3A6013D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AD33B-7C1E-4A55-86F6-A05EB408E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465AB-C9EC-48A8-9383-8BF4D3ABF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0ED67-AAE5-4AA5-81EC-9338F191C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56576-71DA-4E17-A96F-904EB6C98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4E6D1-A8C2-4E26-B92A-C89E6FA12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F476E-0BB8-4AD6-9A0E-D9F11844F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11396-09C7-4118-8E15-1EFD45CAF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3011C-07B2-408B-AB4D-5AAB3E107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D8025-8875-441A-BF8B-86F412C78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574AF-1DF7-477E-AC49-EA5F6A16A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3F4C9-7DA4-4D6F-BBA9-0EBF9CC3B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33845-B1EF-4300-80DF-0090DB409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96C2F-6606-48E7-8131-FF76B5F6A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C7BA9-2AAF-451B-A344-D4FC5392A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F0362-F2E5-40FB-8908-92EE639BB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2F32B-7DEB-4D8B-9243-4C14E2B4A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44D83-DE88-480B-9B45-F72ACC9A7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25928-85F3-4CDD-884A-F467E5DF8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4F0DF-42E0-4867-B93B-6B7F89350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5416D-9287-49FC-BCE0-2A6A7BBF4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92B63-3947-403F-B5F8-1B2B2CC8B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3FBFD-64A0-4936-8F5A-389415A30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60922-CDFB-4E6E-A838-3DAE56E39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D867E-1C9F-49D8-9038-A64D37CA5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59230-2238-4A0D-9800-3AC1C7DFD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7F67E-247B-476E-8869-124472993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C063D-7929-4D1D-A0E2-FA86EE79F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A8879-5871-4B9D-899C-6040FA6A6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A1B9E-D753-485F-BFE8-56BE9242F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A30F8-8E2D-443D-9BE1-9F42A86ED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F8D31-FB43-48EB-8EC3-535248B81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1CC1-39F8-484D-BB1C-DC83FFF49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87C7-853A-4BCF-AAE5-E5E7AFF0C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ECE1-0DCA-4CD9-956E-221EDE25E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6980-2FB2-4149-95F3-9989D10F1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6D086-1BF8-4C2B-8421-CE2A252CE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862F8-6753-4755-8603-62737D594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4166C-5046-4D62-9CD6-041FFD5AF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04068-9C78-47FD-92DD-FD3BFBE37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DF176-C1FD-490D-B47C-521587C33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D9654-C65F-4750-A7EE-90F509D88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1BB69-1E41-4C5E-88D0-4A16ECB2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559E-BCEB-4475-920B-CE68CDE03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72DA4-04F9-4EDF-8A33-5FE01702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084A9-C602-44DE-AEC2-8FC70324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2F1A0-C127-46F1-8989-A17F8FCEC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3C327-2F08-4807-A7EF-AC7350C63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C7E24-B6D3-4622-A81D-5A98CF0CE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A0DAC-A8AA-403B-909D-F8BC886AB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D41D1-9C73-41CA-AD3F-243C0782B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6537E-73F2-482C-B67D-243A4CC94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38BE1-9A17-4B4D-B6AA-484CBA274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FA3E7-0DC1-4E98-8B34-730C8242E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2367-3B32-4422-B78D-91BE1E1A7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81EC8-447F-43D4-9B0A-E78B308BE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A73AB-736B-4042-A4CE-D5C65A6F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6312B-FE30-4BF0-B6E9-A5ABC834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0D440-058D-4BC5-AF4D-005F99F9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DD0A6-241F-4ED9-A57C-702B35EFD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11370-592E-4E6C-9780-DB10B5645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3FF22-DBD6-495C-8875-60FF9F24A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5AFA7-D9E1-4641-8481-618F8DA7F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B0EE4-29B7-4A33-8301-B65981FA8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4EBB2-4C93-423D-B9F0-D2AB1A5A9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45B0-ED61-4470-91A0-70A041417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95FF0-BDB5-422A-BDFF-223EA8F76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14387-110C-462B-81BB-4AC2C68DD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9A1DA-7138-4840-BEFC-0E9940FD7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BAD23-B15E-4587-BD97-2221CC2D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D483F-E3C6-49A0-81CC-47E1A0D0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38C9A-310C-4DE6-82E3-41AD268E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95482-9746-4C1D-A50C-F93727F7C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B01BD-8727-4EDF-9EDC-F796A9B80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8E129-C725-4504-AE71-82A5A1B51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1E9E-9FEA-4EE0-A44C-1EE14D424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5A0F-5775-4335-B09B-AAAF39DCC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8E75-5DB0-442F-A002-7723D6C2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7C5C-DF09-436E-BB74-63F4C0E9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804C-D6C1-416E-90B6-9B921E49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00FA5-C28C-4A78-9020-F1476F959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FF11-2577-4404-AA08-8DDAAAA9B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73ECF-CEC2-4E72-857E-5B4A1AFD7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9AD5D-ACDC-4B64-930C-8C8046079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>
            <a:alpha val="4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st Ti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ministrative Matters – Blackboard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yes R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ease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Case of And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ep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l a di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imes, find  P[#6’s = 3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main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hat requi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thematical mode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iscre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 i.e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u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o look only at “counting numbers”, 1,2,3,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learly Relevant to Political Po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d now for something completely diffe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Find the word or simple phrase suggest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    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 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4.  r  </a:t>
            </a:r>
            <a:br>
              <a:rPr sz="3200"/>
            </a:b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      road  </a:t>
            </a:r>
            <a:br>
              <a:rPr sz="3200"/>
            </a:b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       a</a:t>
            </a:r>
            <a:br>
              <a:rPr sz="3200"/>
            </a:b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       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d now for something completely diffe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Find the word or simple phrase suggest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    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 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4.  r  </a:t>
            </a:r>
            <a:br>
              <a:rPr sz="3200"/>
            </a:b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      road  </a:t>
            </a:r>
            <a:br>
              <a:rPr sz="3200"/>
            </a:b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       a</a:t>
            </a:r>
            <a:br>
              <a:rPr sz="3200"/>
            </a:b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       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cccc"/>
                </a:solidFill>
                <a:latin typeface="Arial"/>
              </a:rPr>
              <a:t> Cross Ro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7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Prob.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appro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fining probability distribution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“empirical distribu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7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Prob.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appro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fining probability distribution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7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Prob.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appro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fining probability distribution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“empirical distribu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able of values based 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known previous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0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7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pirical Dis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   Textbook,   problem 4.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government data base:  fractions of household siz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3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504" name=""/>
          <p:cNvGraphicFramePr/>
          <p:nvPr/>
        </p:nvGraphicFramePr>
        <p:xfrm>
          <a:off x="1905120" y="3809880"/>
          <a:ext cx="6430680" cy="743040"/>
        </p:xfrm>
        <a:graphic>
          <a:graphicData uri="http://schemas.openxmlformats.org/drawingml/2006/table">
            <a:tbl>
              <a:tblPr/>
              <a:tblGrid>
                <a:gridCol w="109692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Peo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7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pirical Dis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   Textbook,   problem 4.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government data base:  fractions of household siz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X = Size of randomly chosen househ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7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508" name=""/>
          <p:cNvGraphicFramePr/>
          <p:nvPr/>
        </p:nvGraphicFramePr>
        <p:xfrm>
          <a:off x="1905120" y="3809880"/>
          <a:ext cx="6430680" cy="743040"/>
        </p:xfrm>
        <a:graphic>
          <a:graphicData uri="http://schemas.openxmlformats.org/drawingml/2006/table">
            <a:tbl>
              <a:tblPr/>
              <a:tblGrid>
                <a:gridCol w="109692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Peo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7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pirical Dis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   Textbook,   problem 4.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government data base:  fractions of household siz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X = Size of randomly chosen househ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distribution of X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1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512" name=""/>
          <p:cNvGraphicFramePr/>
          <p:nvPr/>
        </p:nvGraphicFramePr>
        <p:xfrm>
          <a:off x="1905120" y="3809880"/>
          <a:ext cx="6430680" cy="743040"/>
        </p:xfrm>
        <a:graphic>
          <a:graphicData uri="http://schemas.openxmlformats.org/drawingml/2006/table">
            <a:tbl>
              <a:tblPr/>
              <a:tblGrid>
                <a:gridCol w="109692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Peo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7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pirical Dis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104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ctions of household siz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X = Size of randomly chosen househ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distribution of X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probability function to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516" name=""/>
          <p:cNvGraphicFramePr/>
          <p:nvPr/>
        </p:nvGraphicFramePr>
        <p:xfrm>
          <a:off x="1828800" y="1905120"/>
          <a:ext cx="6431040" cy="742680"/>
        </p:xfrm>
        <a:graphic>
          <a:graphicData uri="http://schemas.openxmlformats.org/drawingml/2006/table">
            <a:tbl>
              <a:tblPr/>
              <a:tblGrid>
                <a:gridCol w="10969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Peo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7" name=""/>
          <p:cNvGraphicFramePr/>
          <p:nvPr/>
        </p:nvGraphicFramePr>
        <p:xfrm>
          <a:off x="1828800" y="5181480"/>
          <a:ext cx="6431040" cy="743040"/>
        </p:xfrm>
        <a:graphic>
          <a:graphicData uri="http://schemas.openxmlformats.org/drawingml/2006/table">
            <a:tbl>
              <a:tblPr/>
              <a:tblGrid>
                <a:gridCol w="10969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7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pirical Dis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104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6825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ctions of household siz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X = Size of randomly chosen househ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distribution of X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probability function to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table!     (only matter of viewpoi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0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521" name=""/>
          <p:cNvGraphicFramePr/>
          <p:nvPr/>
        </p:nvGraphicFramePr>
        <p:xfrm>
          <a:off x="1828800" y="1905120"/>
          <a:ext cx="6431040" cy="742680"/>
        </p:xfrm>
        <a:graphic>
          <a:graphicData uri="http://schemas.openxmlformats.org/drawingml/2006/table">
            <a:tbl>
              <a:tblPr/>
              <a:tblGrid>
                <a:gridCol w="10969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Peo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2" name=""/>
          <p:cNvGraphicFramePr/>
          <p:nvPr/>
        </p:nvGraphicFramePr>
        <p:xfrm>
          <a:off x="1828800" y="5181480"/>
          <a:ext cx="6431040" cy="743040"/>
        </p:xfrm>
        <a:graphic>
          <a:graphicData uri="http://schemas.openxmlformats.org/drawingml/2006/table">
            <a:tbl>
              <a:tblPr/>
              <a:tblGrid>
                <a:gridCol w="10969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main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hat requi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thematical mode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iscre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 i.e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u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o look only at “counting numbers”, 1,2,3,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ontinuo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 i.e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asu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7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pirical Dis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104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. Dist’n of random household size, 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P{X &lt; 6}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5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526" name=""/>
          <p:cNvGraphicFramePr/>
          <p:nvPr/>
        </p:nvGraphicFramePr>
        <p:xfrm>
          <a:off x="1981080" y="1905120"/>
          <a:ext cx="6431040" cy="742680"/>
        </p:xfrm>
        <a:graphic>
          <a:graphicData uri="http://schemas.openxmlformats.org/drawingml/2006/table">
            <a:tbl>
              <a:tblPr/>
              <a:tblGrid>
                <a:gridCol w="109692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7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pirical Dis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104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. Dist’n of random household size, 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P{X &lt; 6}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9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530" name=""/>
          <p:cNvGraphicFramePr/>
          <p:nvPr/>
        </p:nvGraphicFramePr>
        <p:xfrm>
          <a:off x="1981080" y="1905120"/>
          <a:ext cx="6431040" cy="742680"/>
        </p:xfrm>
        <a:graphic>
          <a:graphicData uri="http://schemas.openxmlformats.org/drawingml/2006/table">
            <a:tbl>
              <a:tblPr/>
              <a:tblGrid>
                <a:gridCol w="109692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7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pirical Dis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104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67572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. Dist’n of random household size, 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572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572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P{X &lt; 6}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572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approa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572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572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main use of prob. func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572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 to get prob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3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534" name=""/>
          <p:cNvGraphicFramePr/>
          <p:nvPr/>
        </p:nvGraphicFramePr>
        <p:xfrm>
          <a:off x="1981080" y="1905120"/>
          <a:ext cx="6431040" cy="742680"/>
        </p:xfrm>
        <a:graphic>
          <a:graphicData uri="http://schemas.openxmlformats.org/drawingml/2006/table">
            <a:tbl>
              <a:tblPr/>
              <a:tblGrid>
                <a:gridCol w="109692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535" name="Object 3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Object 4"/>
              <p:cNvSpPr txBox="1"/>
              <p:nvPr/>
            </p:nvSpPr>
            <p:spPr>
              <a:xfrm>
                <a:off x="762120" y="4343400"/>
                <a:ext cx="312408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6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6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cxnSp>
        <p:nvCxnSpPr>
          <p:cNvPr id="537" name="Straight Arrow Connector 9"/>
          <p:cNvCxnSpPr/>
          <p:nvPr/>
        </p:nvCxnSpPr>
        <p:spPr>
          <a:xfrm flipV="1">
            <a:off x="1981080" y="5028480"/>
            <a:ext cx="610560" cy="61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7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pirical Dis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104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. Dist’n of random household size, 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P{X &lt; 6}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approa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0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541" name=""/>
          <p:cNvGraphicFramePr/>
          <p:nvPr/>
        </p:nvGraphicFramePr>
        <p:xfrm>
          <a:off x="1981080" y="1905120"/>
          <a:ext cx="6431040" cy="742680"/>
        </p:xfrm>
        <a:graphic>
          <a:graphicData uri="http://schemas.openxmlformats.org/drawingml/2006/table">
            <a:tbl>
              <a:tblPr/>
              <a:tblGrid>
                <a:gridCol w="109692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542" name="Object 3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Object 4"/>
              <p:cNvSpPr txBox="1"/>
              <p:nvPr/>
            </p:nvSpPr>
            <p:spPr>
              <a:xfrm>
                <a:off x="762120" y="4343400"/>
                <a:ext cx="58658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6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6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7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pirical Dis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104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. Dist’n of random household size, 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P{X &lt; 6}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approa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6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547" name=""/>
          <p:cNvGraphicFramePr/>
          <p:nvPr/>
        </p:nvGraphicFramePr>
        <p:xfrm>
          <a:off x="1981080" y="1905120"/>
          <a:ext cx="6431040" cy="742680"/>
        </p:xfrm>
        <a:graphic>
          <a:graphicData uri="http://schemas.openxmlformats.org/drawingml/2006/table">
            <a:tbl>
              <a:tblPr/>
              <a:tblGrid>
                <a:gridCol w="109692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548" name="Object 3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Object 4"/>
              <p:cNvSpPr txBox="1"/>
              <p:nvPr/>
            </p:nvSpPr>
            <p:spPr>
              <a:xfrm>
                <a:off x="762120" y="4343400"/>
                <a:ext cx="58658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6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6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Object 5"/>
              <p:cNvSpPr txBox="1"/>
              <p:nvPr/>
            </p:nvSpPr>
            <p:spPr>
              <a:xfrm>
                <a:off x="2286000" y="5342040"/>
                <a:ext cx="655308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7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pirical Dis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104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6825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. Dist’n of random household size, 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P{X &lt; 6}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rect (but easier!) approa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“not” rule of probabili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ill save addition step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3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554" name=""/>
          <p:cNvGraphicFramePr/>
          <p:nvPr/>
        </p:nvGraphicFramePr>
        <p:xfrm>
          <a:off x="1981080" y="1905120"/>
          <a:ext cx="6431040" cy="742680"/>
        </p:xfrm>
        <a:graphic>
          <a:graphicData uri="http://schemas.openxmlformats.org/drawingml/2006/table">
            <a:tbl>
              <a:tblPr/>
              <a:tblGrid>
                <a:gridCol w="109692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555" name="Object 3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Object 4"/>
              <p:cNvSpPr txBox="1"/>
              <p:nvPr/>
            </p:nvSpPr>
            <p:spPr>
              <a:xfrm>
                <a:off x="1066680" y="4419720"/>
                <a:ext cx="38260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6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557" name="Straight Arrow Connector 9"/>
          <p:cNvCxnSpPr/>
          <p:nvPr/>
        </p:nvCxnSpPr>
        <p:spPr>
          <a:xfrm flipV="1">
            <a:off x="1981080" y="5028480"/>
            <a:ext cx="610560" cy="61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7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pirical Dis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104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67572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. Dist’n of random household size, 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572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572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P{X &lt; 6}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572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rect (but easier!) approa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572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572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main use of prob. func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572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 to get prob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0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561" name=""/>
          <p:cNvGraphicFramePr/>
          <p:nvPr/>
        </p:nvGraphicFramePr>
        <p:xfrm>
          <a:off x="1981080" y="1905120"/>
          <a:ext cx="6431040" cy="742680"/>
        </p:xfrm>
        <a:graphic>
          <a:graphicData uri="http://schemas.openxmlformats.org/drawingml/2006/table">
            <a:tbl>
              <a:tblPr/>
              <a:tblGrid>
                <a:gridCol w="109692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562" name="Object 3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Object 4"/>
              <p:cNvSpPr txBox="1"/>
              <p:nvPr/>
            </p:nvSpPr>
            <p:spPr>
              <a:xfrm>
                <a:off x="1066680" y="4343400"/>
                <a:ext cx="583416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6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6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6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cxnSp>
        <p:nvCxnSpPr>
          <p:cNvPr id="564" name="Straight Arrow Connector 9"/>
          <p:cNvCxnSpPr/>
          <p:nvPr/>
        </p:nvCxnSpPr>
        <p:spPr>
          <a:xfrm flipV="1">
            <a:off x="1980720" y="4876560"/>
            <a:ext cx="3582360" cy="76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7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pirical Dis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104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6825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. Dist’n of random household size, 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P{X &lt; 6}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rect (but easier!) approa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ame answer, but fewer terms in su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7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568" name=""/>
          <p:cNvGraphicFramePr/>
          <p:nvPr/>
        </p:nvGraphicFramePr>
        <p:xfrm>
          <a:off x="1981080" y="1905120"/>
          <a:ext cx="6431040" cy="742680"/>
        </p:xfrm>
        <a:graphic>
          <a:graphicData uri="http://schemas.openxmlformats.org/drawingml/2006/table">
            <a:tbl>
              <a:tblPr/>
              <a:tblGrid>
                <a:gridCol w="109692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569" name="Object 3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Object 4"/>
              <p:cNvSpPr txBox="1"/>
              <p:nvPr/>
            </p:nvSpPr>
            <p:spPr>
              <a:xfrm>
                <a:off x="1066680" y="4343400"/>
                <a:ext cx="583416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6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6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6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Object 6"/>
              <p:cNvSpPr txBox="1"/>
              <p:nvPr/>
            </p:nvSpPr>
            <p:spPr>
              <a:xfrm>
                <a:off x="2590920" y="5181480"/>
                <a:ext cx="5792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3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4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7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pirical Dis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104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4.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4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5" name="Object 3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 Po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Random Sam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8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main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hat requi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thematical mode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iscre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 i.e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u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o look only at “counting numbers”, 1,2,3,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ontinuo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 i.e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asu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call 2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main co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 Po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Random Sam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pulation memb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qually 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sampl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ally 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 Po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Random Sam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pulation memb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qually 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sampl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ally 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Random Varia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 =  # People for Candidate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4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 Po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 =  # People for Candidate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distribution of X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 Po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 =  # People for Candidate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distribution of X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known, can calculate many useful pro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 Po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 =  # People for Candidate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distribution of X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known, can calculate many useful pro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s on how sampling is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ing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2 views of Simple Random Sampl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mp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qually 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4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ing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2 views of Simple Random Sampl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-6897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mp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qually 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Pop’n = {A, B, C, D},   draw sample of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pace = {AB, AC, AD, BC, BD, CD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ne of the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equally likely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7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98" name="Straight Connector 7"/>
          <p:cNvSpPr/>
          <p:nvPr/>
        </p:nvSpPr>
        <p:spPr>
          <a:xfrm flipV="1">
            <a:off x="3429000" y="5257440"/>
            <a:ext cx="220968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Straight Connector 8"/>
          <p:cNvSpPr/>
          <p:nvPr/>
        </p:nvSpPr>
        <p:spPr>
          <a:xfrm>
            <a:off x="3505320" y="4876920"/>
            <a:ext cx="213336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Straight Connector 9"/>
          <p:cNvSpPr/>
          <p:nvPr/>
        </p:nvSpPr>
        <p:spPr>
          <a:xfrm flipV="1">
            <a:off x="5638680" y="4876920"/>
            <a:ext cx="22860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ing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2 views of Simple Random Sampl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mp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qually 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3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ing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2 views of Simple Random Sampl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mp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qually 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quentially draw sampl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mb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n an equally likely fash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6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ing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2 views of Simple Random Sampl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mp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qually 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quentially draw sampl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mb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n an equally likely fash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as in Male-Female H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9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main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hat requi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thematical mode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iscre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 i.e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u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o look only at “counting numbers”, 1,2,3,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ontinuo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 i.e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asu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harder math, since need all fractions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ing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2 views of Simple Random Sampl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mp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qually 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quentially draw sampl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mb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n an equally likely fash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Pop’n = {A, B, C, D},   draw sample of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2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ing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2 views of Simple Random Sampl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-7041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mp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qually 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-7041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quentially draw sampl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mb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n an equally likely fash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Pop’n = {A, B, C, D},   draw sample of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mb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fill 2 slots:     ___,   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5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16" name="Straight Connector 5"/>
          <p:cNvSpPr/>
          <p:nvPr/>
        </p:nvSpPr>
        <p:spPr>
          <a:xfrm>
            <a:off x="2819520" y="4876920"/>
            <a:ext cx="99036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Straight Connector 6"/>
          <p:cNvSpPr/>
          <p:nvPr/>
        </p:nvSpPr>
        <p:spPr>
          <a:xfrm flipV="1">
            <a:off x="3809880" y="4800240"/>
            <a:ext cx="83844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8" name="Straight Arrow Connector 11"/>
          <p:cNvCxnSpPr/>
          <p:nvPr/>
        </p:nvCxnSpPr>
        <p:spPr>
          <a:xfrm>
            <a:off x="3809880" y="5105160"/>
            <a:ext cx="2363040" cy="99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19" name="Straight Arrow Connector 12"/>
          <p:cNvCxnSpPr/>
          <p:nvPr/>
        </p:nvCxnSpPr>
        <p:spPr>
          <a:xfrm>
            <a:off x="3809520" y="5105160"/>
            <a:ext cx="3506040" cy="99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ing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quentially draw sampl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two vari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Replacement” – after member is drawn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n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raw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2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ing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quentially draw sampl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two vari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Replacement” – after member is drawn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n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raw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imple Random Sampl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5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ing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quentially draw sampl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two vari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Replacement” – after member is drawn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n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raw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Replacement” – after member is drawn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n b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rawn again l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8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ing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quentially draw sampl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two vari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Replacement” – after member is drawn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n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raw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Replacement” – after member is drawn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n b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rawn again l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imple Random Sampl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1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ing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Replacement” – after member is drawn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n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raw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Replacement” – after member is drawn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n b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rawn again l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arge popul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his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ery un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4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cxnSp>
        <p:nvCxnSpPr>
          <p:cNvPr id="635" name="Straight Arrow Connector 5"/>
          <p:cNvCxnSpPr/>
          <p:nvPr/>
        </p:nvCxnSpPr>
        <p:spPr>
          <a:xfrm flipH="1" flipV="1">
            <a:off x="4494960" y="3885840"/>
            <a:ext cx="686520" cy="381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ing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Replacement” – after member is drawn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n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raw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Replacement” – after member is drawn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n b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rawn again l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arge popul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his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ery un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s these are nearly the s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8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cxnSp>
        <p:nvCxnSpPr>
          <p:cNvPr id="639" name="Straight Arrow Connector 5"/>
          <p:cNvCxnSpPr/>
          <p:nvPr/>
        </p:nvCxnSpPr>
        <p:spPr>
          <a:xfrm flipH="1" flipV="1">
            <a:off x="4494960" y="3885840"/>
            <a:ext cx="686520" cy="381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0" name="Straight Arrow Connector 6"/>
          <p:cNvCxnSpPr/>
          <p:nvPr/>
        </p:nvCxnSpPr>
        <p:spPr>
          <a:xfrm flipV="1">
            <a:off x="1828800" y="3351960"/>
            <a:ext cx="915120" cy="1753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1" name="Straight Arrow Connector 7"/>
          <p:cNvCxnSpPr/>
          <p:nvPr/>
        </p:nvCxnSpPr>
        <p:spPr>
          <a:xfrm flipH="1" flipV="1">
            <a:off x="1294920" y="1980360"/>
            <a:ext cx="534240" cy="3125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ing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Replacement” – after member is drawn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n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raw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Replacement” – after member is drawn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n b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rawn again l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arge popul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his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ery un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s these are nearly the s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wil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pproxim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RS, by “With Replace’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4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cxnSp>
        <p:nvCxnSpPr>
          <p:cNvPr id="645" name="Straight Arrow Connector 5"/>
          <p:cNvCxnSpPr/>
          <p:nvPr/>
        </p:nvCxnSpPr>
        <p:spPr>
          <a:xfrm flipH="1" flipV="1">
            <a:off x="4494960" y="3885840"/>
            <a:ext cx="686520" cy="381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6" name="Straight Arrow Connector 6"/>
          <p:cNvCxnSpPr/>
          <p:nvPr/>
        </p:nvCxnSpPr>
        <p:spPr>
          <a:xfrm flipV="1">
            <a:off x="1828800" y="3351960"/>
            <a:ext cx="915120" cy="1753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7" name="Straight Arrow Connector 7"/>
          <p:cNvCxnSpPr/>
          <p:nvPr/>
        </p:nvCxnSpPr>
        <p:spPr>
          <a:xfrm flipH="1" flipV="1">
            <a:off x="1294920" y="1980360"/>
            <a:ext cx="534240" cy="3125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ing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pproxim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RS, by “With Replace’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ier to work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:    X  =  # for Candidate A in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ndomly selec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itical po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call all that mea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5"/>
          <p:cNvSpPr/>
          <p:nvPr/>
        </p:nvSpPr>
        <p:spPr>
          <a:xfrm flipV="1">
            <a:off x="6934320" y="21337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ing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pproxim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RS, by “With Replace’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ier to work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an Excel function for p.d.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ing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pproxim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RS, by “With Replace’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ier to work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an Excel function for p.d.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essentially the same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 die n times, let X = #6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4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ing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pproxim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RS, by “With Replace’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ier to work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an Excel function for p.d.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essentially the same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 die n times, let X = #6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ach roll like drawing a sample memb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7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ing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pproxim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RS, by “With Replace’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-6897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ier to work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-6897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an Excel function for p.d.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-6897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essentially the same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 die n times, let X = #6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ach roll like drawing a sample memb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generalize this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ting:    n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dependent tria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n experiment with outcomes “Success” and “Failur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ting:    n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dependent tria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n experiment with outcomes “Success” and “Failure”, with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{S} = 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ting:    n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dependent tria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n experiment with outcomes “Success” and “Failure”, with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{S} = 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y  X = #S’s  has a “Binomial(n,p) distribu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ting:    n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dependent tria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n experiment with outcomes “Success” and “Failure”, with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{S} = 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y  X = #S’s  has a “Binomial(n,p) distribution”, and write   “X ~ Bi(n,p)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ting:    n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dependent tria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n experiment with outcomes “Success” and “Failure”, with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{S} = 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y  X = #S’s  has a “Binomial(n,p) distribution”, and write   “X ~ Bi(n,p)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ed “parameter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1" name="Straight Arrow Connector 4"/>
          <p:cNvCxnSpPr/>
          <p:nvPr/>
        </p:nvCxnSpPr>
        <p:spPr>
          <a:xfrm flipV="1">
            <a:off x="6552000" y="4647960"/>
            <a:ext cx="229320" cy="3052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2" name="Straight Arrow Connector 5"/>
          <p:cNvCxnSpPr/>
          <p:nvPr/>
        </p:nvCxnSpPr>
        <p:spPr>
          <a:xfrm flipV="1">
            <a:off x="6553080" y="4723560"/>
            <a:ext cx="457920" cy="229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3" name="Straight Connector 9"/>
          <p:cNvSpPr/>
          <p:nvPr/>
        </p:nvSpPr>
        <p:spPr>
          <a:xfrm flipV="1">
            <a:off x="457200" y="4952520"/>
            <a:ext cx="609588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ting:    n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dependent tria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n experiment with outcomes “Success” and “Failure”, with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{S} = 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y  X = #S’s  has a “Binomial(n,p) distribution”, and write   “X ~ Bi(n,p)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ed “parameter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he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distribu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6" name="Straight Arrow Connector 4"/>
          <p:cNvCxnSpPr/>
          <p:nvPr/>
        </p:nvCxnSpPr>
        <p:spPr>
          <a:xfrm flipV="1">
            <a:off x="6552000" y="4647960"/>
            <a:ext cx="229320" cy="3052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7" name="Straight Arrow Connector 5"/>
          <p:cNvCxnSpPr/>
          <p:nvPr/>
        </p:nvCxnSpPr>
        <p:spPr>
          <a:xfrm flipV="1">
            <a:off x="6553080" y="4723560"/>
            <a:ext cx="457920" cy="229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8" name="Straight Connector 9"/>
          <p:cNvSpPr/>
          <p:nvPr/>
        </p:nvSpPr>
        <p:spPr>
          <a:xfrm flipV="1">
            <a:off x="457200" y="4952520"/>
            <a:ext cx="609588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:    X  =  # for Candidate A in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ndomly selec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itical poll: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scr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call all that mea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5"/>
          <p:cNvSpPr/>
          <p:nvPr/>
        </p:nvSpPr>
        <p:spPr>
          <a:xfrm flipV="1">
            <a:off x="6934320" y="21337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ting:    n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dependent tria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n experiment with outcomes “Success” and “Failure”, with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{S} = 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y  X = #S’s  has a “Binomial(n,p) distribution”, and write   “X ~ Bi(n,p)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ed “parameter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ally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ami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distrib’ns, indexed by n &amp; 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1" name="Straight Arrow Connector 4"/>
          <p:cNvCxnSpPr/>
          <p:nvPr/>
        </p:nvCxnSpPr>
        <p:spPr>
          <a:xfrm flipV="1">
            <a:off x="6552000" y="4647960"/>
            <a:ext cx="229320" cy="3052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2" name="Straight Arrow Connector 5"/>
          <p:cNvCxnSpPr/>
          <p:nvPr/>
        </p:nvCxnSpPr>
        <p:spPr>
          <a:xfrm flipV="1">
            <a:off x="6553080" y="4723560"/>
            <a:ext cx="457920" cy="229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3" name="Straight Connector 9"/>
          <p:cNvSpPr/>
          <p:nvPr/>
        </p:nvSpPr>
        <p:spPr>
          <a:xfrm flipV="1">
            <a:off x="457200" y="4952520"/>
            <a:ext cx="609588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Sampl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pla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” is “draw a sample memb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6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Sampl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pla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” is “draw a sample memb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” is “vote for Candidate 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9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Sampl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pla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” is “draw a sample memb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” is “vote for Candidate 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” is proportion in population for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ote unknown, and goal of pol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2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Sampl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pla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” is “draw a sample memb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” is “vote for Candidate 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” is proportion in population for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ote unknown, and goal of pol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t?  (sinc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place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5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Sampl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pla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-6897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” is “draw a sample memb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-6897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” is “vote for Candidate 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-6897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” is proportion in population for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ote unknown, and goal of pol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-6897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t?  (sinc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place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= #(for A)  has a Binomial(n,p) dist’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8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Sampl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itho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pla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1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Sampl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itho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pla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s a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pen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 of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raw changes probs of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r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4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Sampl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itho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pla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s a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pen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 of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raw changes probs of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r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(S) on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raw is no longer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gain depends on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ra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7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Sampl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itho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pla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s a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pen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 of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raw changes probs of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r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(S) on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raw is no longer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gain depends on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ra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= #(for A)  is NOT Binom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0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:    X  =  # for Candidate A in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ndomly selec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itical poll: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scr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call all that mea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of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andom vari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de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s something to “get a hold of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5"/>
          <p:cNvSpPr/>
          <p:nvPr/>
        </p:nvSpPr>
        <p:spPr>
          <a:xfrm flipV="1">
            <a:off x="6934320" y="21337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Sampl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itho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pla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-6897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s a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pen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 of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raw changes probs of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r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-6897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(S) on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raw is no longer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gain depends on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ra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= #(for A)  is NOT Binom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lthough approximately true for large pop’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3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s much more than political pol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6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s much more than political pol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Coin tossing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call saw “independence” was go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9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s much more than political pol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Coin tossing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call saw “independence” was go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Shooting free throws (in basketbal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 p  always the sa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ly independent?   (turns out to be O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2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W on Binomial Assum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5.11,   5.12   (a. no, not count, b. yes, c. approx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5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:    X  =  # for Candidate A in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ndomly selec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itical poll: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scr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call all that mea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of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andom vari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de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s something to “get a hold of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in spirit to high school algebra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19" name="Line 5"/>
          <p:cNvSpPr/>
          <p:nvPr/>
        </p:nvSpPr>
        <p:spPr>
          <a:xfrm flipV="1">
            <a:off x="6934320" y="21337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gh School Algeb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Main Ide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s for solving equations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gh School Algeb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Main Ide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s for solving equations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jor breakthroug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>
            <a:alpha val="4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ading In Textboo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e Reading for Today’s Mater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s 258-265,  311-319,   488-4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e Reading for Next Cla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s  262,   6-17,   270-275,   30-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gh School Algeb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Main Ide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s for solving equations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jor breakthroug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unknown(s) a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equation(s) with un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equation(s) to find unknown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:    X  =  # that comes up, in die ro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:    X  =  # that comes up, in die roll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scre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:    X  =  # that comes up, in die roll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scre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nteresting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:    X  =  # that comes up, in die roll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scre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nteresting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study by simple methods (as abo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really ne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andom vari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cep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:    X  =  # that comes up, in die roll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scre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nteresting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study by simple methods (as abo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really ne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andom vari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cep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bility to general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: Measurement err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X  =  measurement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: Measurement err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X  =  measure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tinuo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: Measurement err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X  =  measure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tinuo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model probabilities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: Measurement err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X  =  measure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tinuo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model probabilities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ep and interesting 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study l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ll Course Big Pi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cal Polls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Simple Random Sam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W on discrete vs. continuo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4.4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ie rolling exam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andom vari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cept is usefu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ie rolling exam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andom vari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cept is usefu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 $9  if 5 or 6,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ie rolling exam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andom vari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cept is usefu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 $9  if 5 or 6,   Pay $4, if 1, 2 or 3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ie rolling exam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andom vari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cept is usefu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 $9  if 5 or 6,   Pay $4, if 1, 2 or 3, otherwise (4) break 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ie rolling exam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andom vari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cept is usefu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 $9  if 5 or 6,   Pay $4, if 1, 2 or 3, otherwise (4) break 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care about number that comes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andom Vari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bstraction allows focusing on important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ie rolling exam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andom vari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cept is usefu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 $9  if 5 or 6,   Pay $4, if 1, 2 or 3, otherwise (4) break 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care about number that comes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andom Vari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bstraction allows focusing on important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you keen to play?   (will calculate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 rolling exam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 $9  if 5 or 6,   Pay $4, if 1, 2 or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X = “net winning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 rolling exam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 $9  if 5 or 6,   Pay $4, if 1, 2 or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X = “net winning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X  takes on values   9,   -4    and 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 rolling exam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 $9  if 5 or 6,   Pay $4, if 1, 2 or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X = “net winning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X  takes on values   9,   -4    and 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Structure of X is summariz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X = 9} = 1/3   P{X = -4} = 1/2   P{X = 0} = 1/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ll Course Big Pi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cal Polls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Simple Random Sam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still need deeper 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 rolling exam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 $9  if 5 or 6,   Pay $4, if 1, 2 or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X = “net winning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X  takes on values   9,   -4    and 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Structure of X is summariz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X = 9} = 1/3   P{X = -4} = 1/2   P{X = 0} = 1/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hould you want to play?, study la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 rolling example,    for X = “net winnings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 $9  if 5 or 6,   Pay $4, if 1, 2 or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Structure of X is summariz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X = 9} = 1/3   P{X = -4} = 1/2   P{X = 0} = 1/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 rolling example,    for X = “net winnings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 $9  if 5 or 6,   Pay $4, if 1, 2 or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Structure of X is summariz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X = 9} = 1/3   P{X = -4} = 1/2   P{X = 0} = 1/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nient form:   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290" name=""/>
          <p:cNvGraphicFramePr/>
          <p:nvPr/>
        </p:nvGraphicFramePr>
        <p:xfrm>
          <a:off x="2133720" y="5105520"/>
          <a:ext cx="6476760" cy="1249200"/>
        </p:xfrm>
        <a:graphic>
          <a:graphicData uri="http://schemas.openxmlformats.org/drawingml/2006/table">
            <a:tbl>
              <a:tblPr/>
              <a:tblGrid>
                <a:gridCol w="1795320"/>
                <a:gridCol w="1560600"/>
                <a:gridCol w="1560600"/>
                <a:gridCol w="1560240"/>
              </a:tblGrid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Prob.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general:  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scre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X,  summarize “distribution” (i.e. full prob. Structu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Prob.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general:  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scre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X,  summarize “distribution” (i.e. full prob. Structure) by a ta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2819520" y="2971800"/>
          <a:ext cx="5105160" cy="1249200"/>
        </p:xfrm>
        <a:graphic>
          <a:graphicData uri="http://schemas.openxmlformats.org/drawingml/2006/table">
            <a:tbl>
              <a:tblPr/>
              <a:tblGrid>
                <a:gridCol w="1447560"/>
                <a:gridCol w="684360"/>
                <a:gridCol w="990720"/>
                <a:gridCol w="990360"/>
                <a:gridCol w="992160"/>
              </a:tblGrid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Prob.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general:  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scre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X,  summarize “distribution” (i.e. full prob. Structure) by a ta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     are between 0 and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300" name=""/>
          <p:cNvGraphicFramePr/>
          <p:nvPr/>
        </p:nvGraphicFramePr>
        <p:xfrm>
          <a:off x="2819520" y="2971800"/>
          <a:ext cx="5105160" cy="1249200"/>
        </p:xfrm>
        <a:graphic>
          <a:graphicData uri="http://schemas.openxmlformats.org/drawingml/2006/table">
            <a:tbl>
              <a:tblPr/>
              <a:tblGrid>
                <a:gridCol w="1447560"/>
                <a:gridCol w="684360"/>
                <a:gridCol w="990720"/>
                <a:gridCol w="990360"/>
                <a:gridCol w="992160"/>
              </a:tblGrid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01" name="Object 4"/>
              <p:cNvSpPr txBox="1"/>
              <p:nvPr/>
            </p:nvSpPr>
            <p:spPr>
              <a:xfrm>
                <a:off x="1676520" y="5029200"/>
                <a:ext cx="3045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Prob.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general:  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scre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X,  summarize “distribution” (i.e. full prob. Structure) by a ta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     are between 0 and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o get a prob. funct’n as abo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305" name=""/>
          <p:cNvGraphicFramePr/>
          <p:nvPr/>
        </p:nvGraphicFramePr>
        <p:xfrm>
          <a:off x="2819520" y="2971800"/>
          <a:ext cx="5105160" cy="1249200"/>
        </p:xfrm>
        <a:graphic>
          <a:graphicData uri="http://schemas.openxmlformats.org/drawingml/2006/table">
            <a:tbl>
              <a:tblPr/>
              <a:tblGrid>
                <a:gridCol w="1447560"/>
                <a:gridCol w="684360"/>
                <a:gridCol w="990720"/>
                <a:gridCol w="990360"/>
                <a:gridCol w="992160"/>
              </a:tblGrid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06" name="Object 3"/>
              <p:cNvSpPr txBox="1"/>
              <p:nvPr/>
            </p:nvSpPr>
            <p:spPr>
              <a:xfrm>
                <a:off x="990720" y="5549760"/>
                <a:ext cx="144756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4"/>
              <p:cNvSpPr txBox="1"/>
              <p:nvPr/>
            </p:nvSpPr>
            <p:spPr>
              <a:xfrm>
                <a:off x="1676520" y="5029200"/>
                <a:ext cx="3045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Prob.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ize distribution, 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scre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X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a ta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of this ide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311" name=""/>
          <p:cNvGraphicFramePr/>
          <p:nvPr/>
        </p:nvGraphicFramePr>
        <p:xfrm>
          <a:off x="3048120" y="2438280"/>
          <a:ext cx="5105160" cy="1249560"/>
        </p:xfrm>
        <a:graphic>
          <a:graphicData uri="http://schemas.openxmlformats.org/drawingml/2006/table">
            <a:tbl>
              <a:tblPr/>
              <a:tblGrid>
                <a:gridCol w="1447560"/>
                <a:gridCol w="684360"/>
                <a:gridCol w="990720"/>
                <a:gridCol w="990360"/>
                <a:gridCol w="992160"/>
              </a:tblGrid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Prob.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ize distribution, 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scre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X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a ta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of this ide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probs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umming table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 case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sjoint OR r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315" name=""/>
          <p:cNvGraphicFramePr/>
          <p:nvPr/>
        </p:nvGraphicFramePr>
        <p:xfrm>
          <a:off x="3048120" y="2438280"/>
          <a:ext cx="5105160" cy="1249560"/>
        </p:xfrm>
        <a:graphic>
          <a:graphicData uri="http://schemas.openxmlformats.org/drawingml/2006/table">
            <a:tbl>
              <a:tblPr/>
              <a:tblGrid>
                <a:gridCol w="1447560"/>
                <a:gridCol w="684360"/>
                <a:gridCol w="990720"/>
                <a:gridCol w="990360"/>
                <a:gridCol w="992160"/>
              </a:tblGrid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Prob.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  Die Rolling game abo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X = 9} = 1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4114800" y="2514600"/>
          <a:ext cx="3581280" cy="1036800"/>
        </p:xfrm>
        <a:graphic>
          <a:graphicData uri="http://schemas.openxmlformats.org/drawingml/2006/table">
            <a:tbl>
              <a:tblPr/>
              <a:tblGrid>
                <a:gridCol w="1523880"/>
                <a:gridCol w="685800"/>
                <a:gridCol w="685800"/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ll Course Big Pi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cal Polls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Simple Random Sam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still need deeper 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Level: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Variabl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Prob.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  Die Rolling game abo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X = 9} = 1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X &lt; 2} = P{X = 0} + P{X = -4} =1/6+1/2 = 2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4114800" y="2514600"/>
          <a:ext cx="3581280" cy="1036800"/>
        </p:xfrm>
        <a:graphic>
          <a:graphicData uri="http://schemas.openxmlformats.org/drawingml/2006/table">
            <a:tbl>
              <a:tblPr/>
              <a:tblGrid>
                <a:gridCol w="1523880"/>
                <a:gridCol w="685800"/>
                <a:gridCol w="685800"/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Prob.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  Die Rolling game abo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X = 9} = 1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X &lt; 2} = P{X = 0} + P{X = -4} =1/6+1/2 = 2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X = 5} = 0        (not in table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4114800" y="2514600"/>
          <a:ext cx="3581280" cy="1036800"/>
        </p:xfrm>
        <a:graphic>
          <a:graphicData uri="http://schemas.openxmlformats.org/drawingml/2006/table">
            <a:tbl>
              <a:tblPr/>
              <a:tblGrid>
                <a:gridCol w="1523880"/>
                <a:gridCol w="685800"/>
                <a:gridCol w="685800"/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Prob.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969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  Die Rolling game abo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X = 9} = 1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X &lt; 2} = P{X = 0} + P{X = -4} =1/6+1/2 = 2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X = 5} = 0        (not in table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 algn="ctr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general assumption from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4114800" y="2514600"/>
          <a:ext cx="3581280" cy="1036800"/>
        </p:xfrm>
        <a:graphic>
          <a:graphicData uri="http://schemas.openxmlformats.org/drawingml/2006/table">
            <a:tbl>
              <a:tblPr/>
              <a:tblGrid>
                <a:gridCol w="1523880"/>
                <a:gridCol w="685800"/>
                <a:gridCol w="685800"/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Prob.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  Die Rolling game abo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Object 2"/>
              <p:cNvSpPr txBox="1"/>
              <p:nvPr/>
            </p:nvSpPr>
            <p:spPr>
              <a:xfrm>
                <a:off x="7086600" y="2438280"/>
                <a:ext cx="773280" cy="264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331" name=""/>
          <p:cNvGraphicFramePr/>
          <p:nvPr/>
        </p:nvGraphicFramePr>
        <p:xfrm>
          <a:off x="5257800" y="2133720"/>
          <a:ext cx="3581280" cy="1036440"/>
        </p:xfrm>
        <a:graphic>
          <a:graphicData uri="http://schemas.openxmlformats.org/drawingml/2006/table">
            <a:tbl>
              <a:tblPr/>
              <a:tblGrid>
                <a:gridCol w="1523880"/>
                <a:gridCol w="685800"/>
                <a:gridCol w="685800"/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32" name="Object 3"/>
              <p:cNvSpPr txBox="1"/>
              <p:nvPr/>
            </p:nvSpPr>
            <p:spPr>
              <a:xfrm>
                <a:off x="457200" y="3352680"/>
                <a:ext cx="685800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9</m:t>
                                </m:r>
                              </m:e>
                            </m:d>
                            <m:r>
                              <m:t xml:space="preserve">∧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≥</m:t>
                                </m:r>
                                <m:r>
                                  <m:t xml:space="preserve">0</m:t>
                                </m:r>
                              </m:e>
                            </m:d>
                          </m:e>
                        </m:d>
                      </m:num>
                      <m:den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Prob.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041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  Die Rolling game abo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 of:  “Both ‘= 9’ and at the same time ‘≥ 0’”?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Object 2"/>
              <p:cNvSpPr txBox="1"/>
              <p:nvPr/>
            </p:nvSpPr>
            <p:spPr>
              <a:xfrm>
                <a:off x="7086600" y="2438280"/>
                <a:ext cx="773280" cy="264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336" name=""/>
          <p:cNvGraphicFramePr/>
          <p:nvPr/>
        </p:nvGraphicFramePr>
        <p:xfrm>
          <a:off x="5257800" y="2133720"/>
          <a:ext cx="3581280" cy="1036440"/>
        </p:xfrm>
        <a:graphic>
          <a:graphicData uri="http://schemas.openxmlformats.org/drawingml/2006/table">
            <a:tbl>
              <a:tblPr/>
              <a:tblGrid>
                <a:gridCol w="1523880"/>
                <a:gridCol w="685800"/>
                <a:gridCol w="685800"/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37" name="Object 3"/>
              <p:cNvSpPr txBox="1"/>
              <p:nvPr/>
            </p:nvSpPr>
            <p:spPr>
              <a:xfrm>
                <a:off x="457200" y="3352680"/>
                <a:ext cx="685800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9</m:t>
                                </m:r>
                              </m:e>
                            </m:d>
                            <m:r>
                              <m:t xml:space="preserve">∧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≥</m:t>
                                </m:r>
                                <m:r>
                                  <m:t xml:space="preserve">0</m:t>
                                </m:r>
                              </m:e>
                            </m:d>
                          </m:e>
                        </m:d>
                      </m:num>
                      <m:den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338" name="Straight Arrow Connector 7"/>
          <p:cNvCxnSpPr/>
          <p:nvPr/>
        </p:nvCxnSpPr>
        <p:spPr>
          <a:xfrm flipV="1">
            <a:off x="1294920" y="3733200"/>
            <a:ext cx="2667960" cy="14482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Prob.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041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  Die Rolling game abo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 of:  “Both ‘= 9’ and at the same time ‘≥ 0’”?        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ame 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“= 9”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Object 2"/>
              <p:cNvSpPr txBox="1"/>
              <p:nvPr/>
            </p:nvSpPr>
            <p:spPr>
              <a:xfrm>
                <a:off x="7086600" y="2438280"/>
                <a:ext cx="773280" cy="264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342" name=""/>
          <p:cNvGraphicFramePr/>
          <p:nvPr/>
        </p:nvGraphicFramePr>
        <p:xfrm>
          <a:off x="5257800" y="2133720"/>
          <a:ext cx="3581280" cy="1036440"/>
        </p:xfrm>
        <a:graphic>
          <a:graphicData uri="http://schemas.openxmlformats.org/drawingml/2006/table">
            <a:tbl>
              <a:tblPr/>
              <a:tblGrid>
                <a:gridCol w="1523880"/>
                <a:gridCol w="685800"/>
                <a:gridCol w="685800"/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43" name="Object 3"/>
              <p:cNvSpPr txBox="1"/>
              <p:nvPr/>
            </p:nvSpPr>
            <p:spPr>
              <a:xfrm>
                <a:off x="457200" y="3352680"/>
                <a:ext cx="685800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9</m:t>
                                </m:r>
                              </m:e>
                            </m:d>
                            <m:r>
                              <m:t xml:space="preserve">∧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≥</m:t>
                                </m:r>
                                <m:r>
                                  <m:t xml:space="preserve">0</m:t>
                                </m:r>
                              </m:e>
                            </m:d>
                          </m:e>
                        </m:d>
                      </m:num>
                      <m:den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344" name="Straight Arrow Connector 7"/>
          <p:cNvCxnSpPr/>
          <p:nvPr/>
        </p:nvCxnSpPr>
        <p:spPr>
          <a:xfrm flipV="1">
            <a:off x="1294920" y="3733200"/>
            <a:ext cx="2667960" cy="14482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Prob.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  Die Rolling game abo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2"/>
              <p:cNvSpPr txBox="1"/>
              <p:nvPr/>
            </p:nvSpPr>
            <p:spPr>
              <a:xfrm>
                <a:off x="7086600" y="2438280"/>
                <a:ext cx="773280" cy="264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348" name=""/>
          <p:cNvGraphicFramePr/>
          <p:nvPr/>
        </p:nvGraphicFramePr>
        <p:xfrm>
          <a:off x="5257800" y="2133720"/>
          <a:ext cx="3581280" cy="1036440"/>
        </p:xfrm>
        <a:graphic>
          <a:graphicData uri="http://schemas.openxmlformats.org/drawingml/2006/table">
            <a:tbl>
              <a:tblPr/>
              <a:tblGrid>
                <a:gridCol w="1523880"/>
                <a:gridCol w="685800"/>
                <a:gridCol w="685800"/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49" name="Object 3"/>
              <p:cNvSpPr txBox="1"/>
              <p:nvPr/>
            </p:nvSpPr>
            <p:spPr>
              <a:xfrm>
                <a:off x="457200" y="3352680"/>
                <a:ext cx="685800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9</m:t>
                                </m:r>
                              </m:e>
                            </m:d>
                            <m:r>
                              <m:t xml:space="preserve">∧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≥</m:t>
                                </m:r>
                                <m:r>
                                  <m:t xml:space="preserve">0</m:t>
                                </m:r>
                              </m:e>
                            </m:d>
                          </m:e>
                        </m:d>
                      </m:num>
                      <m:den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4"/>
              <p:cNvSpPr txBox="1"/>
              <p:nvPr/>
            </p:nvSpPr>
            <p:spPr>
              <a:xfrm>
                <a:off x="3352680" y="4495680"/>
                <a:ext cx="4648320" cy="188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9</m:t>
                            </m:r>
                          </m:e>
                        </m:d>
                      </m:num>
                      <m:den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4.50  a, c  (0.44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4.51  b,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fun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es a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data point is a digital 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from U. Carlos, III in Madr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hard to do here for confidentiality reas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:  What distinguishes men from wom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SampleRMovie.avi" descr=""/>
          <p:cNvPicPr/>
          <p:nvPr/>
        </p:nvPicPr>
        <p:blipFill>
          <a:blip r:embed="rId1"/>
          <a:stretch/>
        </p:blipFill>
        <p:spPr>
          <a:xfrm>
            <a:off x="2743200" y="1752480"/>
            <a:ext cx="386388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3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, Section 4.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e are jumping around a lo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ext:  statistical problem of “classification”, i.e. “discrimina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ically “automatic disease diagnosis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measurm’ts on sick &amp; healthy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n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ew pers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make measm’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est to sick or healthy popul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roach:  Distance Weight Discri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Marron &amp; Tod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:  find “best separating direction” in high dimensional data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are im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es:  Male &amp; Fem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n new image:  classify male - fem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n visualiza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ch through point clou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ong separating 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ptures “Femaleness” &amp; “Malenes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e relation to “training dat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DWD_RprojMovie.avi" descr=""/>
          <p:cNvPicPr/>
          <p:nvPr/>
        </p:nvPicPr>
        <p:blipFill>
          <a:blip r:embed="rId1"/>
          <a:stretch/>
        </p:blipFill>
        <p:spPr>
          <a:xfrm>
            <a:off x="1219320" y="1581120"/>
            <a:ext cx="64767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3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Prob.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more abstra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Distribution Func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u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unction nota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ummarize probability stru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Object 2"/>
              <p:cNvSpPr txBox="1"/>
              <p:nvPr/>
            </p:nvSpPr>
            <p:spPr>
              <a:xfrm>
                <a:off x="7086600" y="2438280"/>
                <a:ext cx="773280" cy="264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Prob.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   for a discrete random variable 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Object 2"/>
              <p:cNvSpPr txBox="1"/>
              <p:nvPr/>
            </p:nvSpPr>
            <p:spPr>
              <a:xfrm>
                <a:off x="7086600" y="2438280"/>
                <a:ext cx="773280" cy="264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Prob.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   for a discrete random variable  X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ize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obability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Prob.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   for a discrete random variable  X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ize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obability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the “distribution”  (way prob. is distrib’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Prob.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   for a discrete random variable  X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ize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obability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the “distribution”  (way prob. is distrib’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bability Distribution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Prob.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   for a discrete random variable  X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ize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obability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the “distribution”  (way prob. is distrib’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bability Distribution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Object 2"/>
              <p:cNvSpPr txBox="1"/>
              <p:nvPr/>
            </p:nvSpPr>
            <p:spPr>
              <a:xfrm>
                <a:off x="2895480" y="5257800"/>
                <a:ext cx="350532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andom vari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usually denoted as X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quantity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s on values at random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. Distribution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   for a discrete random variable  X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Object 2"/>
              <p:cNvSpPr txBox="1"/>
              <p:nvPr/>
            </p:nvSpPr>
            <p:spPr>
              <a:xfrm>
                <a:off x="2743200" y="2362320"/>
                <a:ext cx="350532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. Distribution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   for a discrete random variable  X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mmy variable”, as in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hows how numbers are “plugged in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Object 2"/>
              <p:cNvSpPr txBox="1"/>
              <p:nvPr/>
            </p:nvSpPr>
            <p:spPr>
              <a:xfrm>
                <a:off x="2743200" y="2362320"/>
                <a:ext cx="350532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Object 3"/>
              <p:cNvSpPr txBox="1"/>
              <p:nvPr/>
            </p:nvSpPr>
            <p:spPr>
              <a:xfrm>
                <a:off x="6934320" y="3276720"/>
                <a:ext cx="200016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cxnSp>
        <p:nvCxnSpPr>
          <p:cNvPr id="387" name="Straight Arrow Connector 6"/>
          <p:cNvCxnSpPr/>
          <p:nvPr/>
        </p:nvCxnSpPr>
        <p:spPr>
          <a:xfrm flipV="1">
            <a:off x="2666520" y="2818800"/>
            <a:ext cx="686520" cy="61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8" name="Straight Arrow Connector 7"/>
          <p:cNvCxnSpPr/>
          <p:nvPr/>
        </p:nvCxnSpPr>
        <p:spPr>
          <a:xfrm flipV="1">
            <a:off x="2666520" y="2818800"/>
            <a:ext cx="3048840" cy="61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. Distribution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   for a discrete random variable  X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ful:  this one is the Random 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e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ymbols for X &amp; 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1" name="Object 2"/>
              <p:cNvSpPr txBox="1"/>
              <p:nvPr/>
            </p:nvSpPr>
            <p:spPr>
              <a:xfrm>
                <a:off x="2743200" y="2362320"/>
                <a:ext cx="350532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392" name="Straight Arrow Connector 7"/>
          <p:cNvCxnSpPr/>
          <p:nvPr/>
        </p:nvCxnSpPr>
        <p:spPr>
          <a:xfrm flipV="1">
            <a:off x="3352680" y="2895120"/>
            <a:ext cx="1524960" cy="1524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. Distribution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969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   for a discrete random variable  X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-69696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haps new method (of defining func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 algn="ctr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ll be important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Object 2"/>
              <p:cNvSpPr txBox="1"/>
              <p:nvPr/>
            </p:nvSpPr>
            <p:spPr>
              <a:xfrm>
                <a:off x="2743200" y="2362320"/>
                <a:ext cx="350532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396" name="Straight Arrow Connector 7"/>
          <p:cNvCxnSpPr/>
          <p:nvPr/>
        </p:nvCxnSpPr>
        <p:spPr>
          <a:xfrm flipV="1">
            <a:off x="3276720" y="2895120"/>
            <a:ext cx="762480" cy="2286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. Distribution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   X = # on d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. Distribution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   X = # on d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1" name="Object 2"/>
              <p:cNvSpPr txBox="1"/>
              <p:nvPr/>
            </p:nvSpPr>
            <p:spPr>
              <a:xfrm>
                <a:off x="2174760" y="2725560"/>
                <a:ext cx="4604040" cy="160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6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t xml:space="preserve">⋯</m:t>
                              </m:r>
                              <m:r>
                                <m:t xml:space="preserve">,</m:t>
                              </m:r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otherwise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. Distribution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   X = # on d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nch” form of function 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Object 2"/>
              <p:cNvSpPr txBox="1"/>
              <p:nvPr/>
            </p:nvSpPr>
            <p:spPr>
              <a:xfrm>
                <a:off x="2174760" y="2725560"/>
                <a:ext cx="4604040" cy="160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6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t xml:space="preserve">⋯</m:t>
                              </m:r>
                              <m:r>
                                <m:t xml:space="preserve">,</m:t>
                              </m:r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otherwise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. Distribution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  Win $9  if 5 or 6,   Pay $4, if 1, 2 or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. Distribution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  Win $9  if 5 or 6,   Pay $4, if 1, 2 or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Object 2"/>
              <p:cNvSpPr txBox="1"/>
              <p:nvPr/>
            </p:nvSpPr>
            <p:spPr>
              <a:xfrm>
                <a:off x="2209680" y="2666880"/>
                <a:ext cx="4604040" cy="312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9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6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otherwise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. Distribution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(conceptual level)     For any set  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Object 3"/>
              <p:cNvSpPr txBox="1"/>
              <p:nvPr/>
            </p:nvSpPr>
            <p:spPr>
              <a:xfrm>
                <a:off x="304920" y="2286000"/>
                <a:ext cx="21780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main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hat requi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thematical mode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. Distribution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(conceptual level)     For any set  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s of s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and event, so can use big rules of pro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3"/>
              <p:cNvSpPr txBox="1"/>
              <p:nvPr/>
            </p:nvSpPr>
            <p:spPr>
              <a:xfrm>
                <a:off x="304920" y="2286000"/>
                <a:ext cx="848988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  <m:r>
                          <m:t xml:space="preserve">⋯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416" name="Straight Arrow Connector 6"/>
          <p:cNvCxnSpPr/>
          <p:nvPr/>
        </p:nvCxnSpPr>
        <p:spPr>
          <a:xfrm flipV="1">
            <a:off x="380880" y="2819160"/>
            <a:ext cx="4115520" cy="1676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7" name="Straight Arrow Connector 7"/>
          <p:cNvCxnSpPr/>
          <p:nvPr/>
        </p:nvCxnSpPr>
        <p:spPr>
          <a:xfrm flipV="1">
            <a:off x="380880" y="2819160"/>
            <a:ext cx="6477840" cy="1676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. Distribution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(conceptual level)     For any set  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joint “or” rule     (add prob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Object 3"/>
              <p:cNvSpPr txBox="1"/>
              <p:nvPr/>
            </p:nvSpPr>
            <p:spPr>
              <a:xfrm>
                <a:off x="304920" y="2286000"/>
                <a:ext cx="848988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  <m:r>
                          <m:t xml:space="preserve">⋯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Object 3"/>
              <p:cNvSpPr txBox="1"/>
              <p:nvPr/>
            </p:nvSpPr>
            <p:spPr>
              <a:xfrm>
                <a:off x="2438280" y="3124080"/>
                <a:ext cx="62676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r>
                      <m:t xml:space="preserve">⋯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422" name="Straight Arrow Connector 5"/>
          <p:cNvCxnSpPr/>
          <p:nvPr/>
        </p:nvCxnSpPr>
        <p:spPr>
          <a:xfrm flipV="1">
            <a:off x="380520" y="3657240"/>
            <a:ext cx="2057760" cy="838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. Distribution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(conceptual level)     For any set  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joint “or” rule     (add prob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’t have both      and       at sam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5" name="Object 3"/>
              <p:cNvSpPr txBox="1"/>
              <p:nvPr/>
            </p:nvSpPr>
            <p:spPr>
              <a:xfrm>
                <a:off x="304920" y="2286000"/>
                <a:ext cx="848988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  <m:r>
                          <m:t xml:space="preserve">⋯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Object 3"/>
              <p:cNvSpPr txBox="1"/>
              <p:nvPr/>
            </p:nvSpPr>
            <p:spPr>
              <a:xfrm>
                <a:off x="2438280" y="3124080"/>
                <a:ext cx="62676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r>
                      <m:t xml:space="preserve">⋯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427" name="Straight Arrow Connector 5"/>
          <p:cNvCxnSpPr/>
          <p:nvPr/>
        </p:nvCxnSpPr>
        <p:spPr>
          <a:xfrm flipV="1">
            <a:off x="380520" y="3657240"/>
            <a:ext cx="2057760" cy="838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428" name="Object 4"/>
              <p:cNvSpPr txBox="1"/>
              <p:nvPr/>
            </p:nvSpPr>
            <p:spPr>
              <a:xfrm>
                <a:off x="3962520" y="4952880"/>
                <a:ext cx="4842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Object 5"/>
              <p:cNvSpPr txBox="1"/>
              <p:nvPr/>
            </p:nvSpPr>
            <p:spPr>
              <a:xfrm>
                <a:off x="5370480" y="4952880"/>
                <a:ext cx="5652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. Distribution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(conceptual level)     For any set  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hand “sigma” 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2" name="Object 3"/>
              <p:cNvSpPr txBox="1"/>
              <p:nvPr/>
            </p:nvSpPr>
            <p:spPr>
              <a:xfrm>
                <a:off x="304920" y="2286000"/>
                <a:ext cx="848988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  <m:r>
                          <m:t xml:space="preserve">⋯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3"/>
              <p:cNvSpPr txBox="1"/>
              <p:nvPr/>
            </p:nvSpPr>
            <p:spPr>
              <a:xfrm>
                <a:off x="2438280" y="3124080"/>
                <a:ext cx="62676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r>
                      <m:t xml:space="preserve">⋯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434" name="Straight Arrow Connector 5"/>
          <p:cNvCxnSpPr/>
          <p:nvPr/>
        </p:nvCxnSpPr>
        <p:spPr>
          <a:xfrm flipV="1">
            <a:off x="380880" y="4571280"/>
            <a:ext cx="2363040" cy="762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435" name="Object 4"/>
              <p:cNvSpPr txBox="1"/>
              <p:nvPr/>
            </p:nvSpPr>
            <p:spPr>
              <a:xfrm>
                <a:off x="2438280" y="3886200"/>
                <a:ext cx="3200400" cy="12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sub>
                      <m:sup/>
                      <m:e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. Distribution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969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(conceptual level)     For any set  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-69696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hand “sigma” 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-69696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y “summation over x in 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Object 3"/>
              <p:cNvSpPr txBox="1"/>
              <p:nvPr/>
            </p:nvSpPr>
            <p:spPr>
              <a:xfrm>
                <a:off x="304920" y="2286000"/>
                <a:ext cx="848988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  <m:r>
                          <m:t xml:space="preserve">⋯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Object 3"/>
              <p:cNvSpPr txBox="1"/>
              <p:nvPr/>
            </p:nvSpPr>
            <p:spPr>
              <a:xfrm>
                <a:off x="2438280" y="3124080"/>
                <a:ext cx="62676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r>
                      <m:t xml:space="preserve">⋯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440" name="Straight Arrow Connector 5"/>
          <p:cNvCxnSpPr/>
          <p:nvPr/>
        </p:nvCxnSpPr>
        <p:spPr>
          <a:xfrm flipV="1">
            <a:off x="380880" y="4571280"/>
            <a:ext cx="2363040" cy="762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441" name="Object 4"/>
              <p:cNvSpPr txBox="1"/>
              <p:nvPr/>
            </p:nvSpPr>
            <p:spPr>
              <a:xfrm>
                <a:off x="2438280" y="3886200"/>
                <a:ext cx="3200400" cy="12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sub>
                      <m:sup/>
                      <m:e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. Distribution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(conceptual level)     For any set  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4" name="Object 3"/>
              <p:cNvSpPr txBox="1"/>
              <p:nvPr/>
            </p:nvSpPr>
            <p:spPr>
              <a:xfrm>
                <a:off x="304920" y="2286000"/>
                <a:ext cx="848988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  <m:r>
                          <m:t xml:space="preserve">⋯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Object 3"/>
              <p:cNvSpPr txBox="1"/>
              <p:nvPr/>
            </p:nvSpPr>
            <p:spPr>
              <a:xfrm>
                <a:off x="2438280" y="3124080"/>
                <a:ext cx="62676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r>
                      <m:t xml:space="preserve">⋯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2438280" y="3886200"/>
                <a:ext cx="5334120" cy="12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sub>
                      <m:sup/>
                      <m:e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sub>
                      <m:sup/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. Distribution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969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(conceptual level)     For any set  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Lesson:     to get any probabili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 algn="ctr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sum up the Prob. Dist.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9" name="Object 3"/>
              <p:cNvSpPr txBox="1"/>
              <p:nvPr/>
            </p:nvSpPr>
            <p:spPr>
              <a:xfrm>
                <a:off x="304920" y="2286000"/>
                <a:ext cx="848988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  <m:r>
                          <m:t xml:space="preserve">⋯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Object 3"/>
              <p:cNvSpPr txBox="1"/>
              <p:nvPr/>
            </p:nvSpPr>
            <p:spPr>
              <a:xfrm>
                <a:off x="2438280" y="3124080"/>
                <a:ext cx="62676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r>
                      <m:t xml:space="preserve">⋯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Object 4"/>
              <p:cNvSpPr txBox="1"/>
              <p:nvPr/>
            </p:nvSpPr>
            <p:spPr>
              <a:xfrm>
                <a:off x="2438280" y="3886200"/>
                <a:ext cx="5334120" cy="12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sub>
                      <m:sup/>
                      <m:e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sub>
                      <m:sup/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Prob.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  Die Rolling game abo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Prob.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  Die Rolling game abo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X = 9} = 1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X &lt; 2} = P{X = 0} + P{X = -4} =1/6+1/2 = 2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X = 5} = 0        (not in table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6" name=""/>
          <p:cNvGraphicFramePr/>
          <p:nvPr/>
        </p:nvGraphicFramePr>
        <p:xfrm>
          <a:off x="4114800" y="2514600"/>
          <a:ext cx="3581280" cy="1036800"/>
        </p:xfrm>
        <a:graphic>
          <a:graphicData uri="http://schemas.openxmlformats.org/drawingml/2006/table">
            <a:tbl>
              <a:tblPr/>
              <a:tblGrid>
                <a:gridCol w="1523880"/>
                <a:gridCol w="685800"/>
                <a:gridCol w="685800"/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Prob.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  Die Rolling game abo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X = 9} = f(9) = 1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X &lt; 2} = f(0) + f(-4) = 1/6 + 1/2 = 2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X = 5} = f(5) = 0        (not in table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4114800" y="2514600"/>
          <a:ext cx="3581280" cy="1036800"/>
        </p:xfrm>
        <a:graphic>
          <a:graphicData uri="http://schemas.openxmlformats.org/drawingml/2006/table">
            <a:tbl>
              <a:tblPr/>
              <a:tblGrid>
                <a:gridCol w="1523880"/>
                <a:gridCol w="685800"/>
                <a:gridCol w="685800"/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main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hat requi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thematical mode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iscre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 i.e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u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o look only at “counting numbers”, 1,2,3,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Prob.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  Die Rolling game abo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2" name="Object 2"/>
              <p:cNvSpPr txBox="1"/>
              <p:nvPr/>
            </p:nvSpPr>
            <p:spPr>
              <a:xfrm>
                <a:off x="7086600" y="2438280"/>
                <a:ext cx="773280" cy="264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463" name=""/>
          <p:cNvGraphicFramePr/>
          <p:nvPr/>
        </p:nvGraphicFramePr>
        <p:xfrm>
          <a:off x="5257800" y="2133720"/>
          <a:ext cx="3581280" cy="1036440"/>
        </p:xfrm>
        <a:graphic>
          <a:graphicData uri="http://schemas.openxmlformats.org/drawingml/2006/table">
            <a:tbl>
              <a:tblPr/>
              <a:tblGrid>
                <a:gridCol w="1523880"/>
                <a:gridCol w="685800"/>
                <a:gridCol w="685800"/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464" name="Object 3"/>
              <p:cNvSpPr txBox="1"/>
              <p:nvPr/>
            </p:nvSpPr>
            <p:spPr>
              <a:xfrm>
                <a:off x="457200" y="3352680"/>
                <a:ext cx="685800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9</m:t>
                                </m:r>
                              </m:e>
                            </m:d>
                            <m:r>
                              <m:t xml:space="preserve">∧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≥</m:t>
                                </m:r>
                                <m:r>
                                  <m:t xml:space="preserve">0</m:t>
                                </m:r>
                              </m:e>
                            </m:d>
                          </m:e>
                        </m:d>
                      </m:num>
                      <m:den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Object 4"/>
              <p:cNvSpPr txBox="1"/>
              <p:nvPr/>
            </p:nvSpPr>
            <p:spPr>
              <a:xfrm>
                <a:off x="3352680" y="4495680"/>
                <a:ext cx="4648320" cy="188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9</m:t>
                            </m:r>
                          </m:e>
                        </m:d>
                      </m:num>
                      <m:den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Prob.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  Die Rolling game abo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Object 2"/>
              <p:cNvSpPr txBox="1"/>
              <p:nvPr/>
            </p:nvSpPr>
            <p:spPr>
              <a:xfrm>
                <a:off x="7086600" y="2438280"/>
                <a:ext cx="773280" cy="264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469" name=""/>
          <p:cNvGraphicFramePr/>
          <p:nvPr/>
        </p:nvGraphicFramePr>
        <p:xfrm>
          <a:off x="5257800" y="2133720"/>
          <a:ext cx="3581280" cy="1036440"/>
        </p:xfrm>
        <a:graphic>
          <a:graphicData uri="http://schemas.openxmlformats.org/drawingml/2006/table">
            <a:tbl>
              <a:tblPr/>
              <a:tblGrid>
                <a:gridCol w="1523880"/>
                <a:gridCol w="685800"/>
                <a:gridCol w="685800"/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470" name="Object 3"/>
              <p:cNvSpPr txBox="1"/>
              <p:nvPr/>
            </p:nvSpPr>
            <p:spPr>
              <a:xfrm>
                <a:off x="457200" y="3352680"/>
                <a:ext cx="685800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9</m:t>
                                </m:r>
                              </m:e>
                            </m:d>
                            <m:r>
                              <m:t xml:space="preserve">∧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≥</m:t>
                                </m:r>
                                <m:r>
                                  <m:t xml:space="preserve">0</m:t>
                                </m:r>
                              </m:e>
                            </m:d>
                          </m:e>
                        </m:d>
                      </m:num>
                      <m:den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Object 4"/>
              <p:cNvSpPr txBox="1"/>
              <p:nvPr/>
            </p:nvSpPr>
            <p:spPr>
              <a:xfrm>
                <a:off x="1981080" y="4572000"/>
                <a:ext cx="7015320" cy="19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9</m:t>
                            </m:r>
                          </m:e>
                        </m:d>
                      </m:num>
                      <m:den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9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9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7631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6685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 11:  For a random variable Y, with distribut’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85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85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i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8520" indent="-66852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{Y = 5}      (1/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8520" indent="-66852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{Y = 3}      (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8520" indent="-66852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{Y ≤ 0}      (3/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8520" indent="-66852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{-1 ≤ Y ≤ 1}      (1/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8520" indent="-66852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{Y ≥ 1 | Y ≤ -1}      (4/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8520" indent="-66852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Y = 5 | Y ≤ 0}      (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3886200" y="1447920"/>
          <a:ext cx="4389480" cy="1036440"/>
        </p:xfrm>
        <a:graphic>
          <a:graphicData uri="http://schemas.openxmlformats.org/drawingml/2006/table">
            <a:tbl>
              <a:tblPr/>
              <a:tblGrid>
                <a:gridCol w="731880"/>
                <a:gridCol w="731880"/>
                <a:gridCol w="730080"/>
                <a:gridCol w="731880"/>
                <a:gridCol w="731880"/>
                <a:gridCol w="731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(y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d now for something completely diffe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Thinking Outside the Box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Also Call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Lateral Thinking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d now for something completely diffe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Find the word or simple phrase suggest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      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man  </a:t>
            </a:r>
            <a:br>
              <a:rPr sz="3200"/>
            </a:b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     1. ------------ </a:t>
            </a:r>
            <a:br>
              <a:rPr sz="3200"/>
            </a:b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           boar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d now for something completely diffe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Find the word or simple phrase suggest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      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man  </a:t>
            </a:r>
            <a:br>
              <a:rPr sz="3200"/>
            </a:b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     1. ------------ </a:t>
            </a:r>
            <a:br>
              <a:rPr sz="3200"/>
            </a:b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           boar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cccc"/>
                </a:solidFill>
                <a:latin typeface="Arial"/>
              </a:rPr>
              <a:t>Man Over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d now for something completely diffe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Find the word or simple phrase suggest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    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 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stand </a:t>
            </a:r>
            <a:br>
              <a:rPr sz="3200"/>
            </a:b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    2. ------------</a:t>
            </a:r>
            <a:br>
              <a:rPr sz="3200"/>
            </a:b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      i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d now for something completely diffe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Find the word or simple phrase suggest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    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 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stand </a:t>
            </a:r>
            <a:br>
              <a:rPr sz="3200"/>
            </a:b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    2. ------------</a:t>
            </a:r>
            <a:br>
              <a:rPr sz="3200"/>
            </a:b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      i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cccc"/>
                </a:solidFill>
                <a:latin typeface="Arial"/>
              </a:rPr>
              <a:t>I Under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d now for something completely diffe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Find the word or simple phrase suggest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    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 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3. /r/e/a/d/i/n/g/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d now for something completely diffe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Find the word or simple phrase suggest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    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 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3. /r/e/a/d/i/n/g/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cccc"/>
                </a:solidFill>
                <a:latin typeface="Arial"/>
              </a:rPr>
              <a:t> Reading Between the 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3T01:07:03Z</dcterms:created>
  <dc:creator>marron</dc:creator>
  <dc:description/>
  <dc:language>en-US</dc:language>
  <cp:lastModifiedBy>UNC</cp:lastModifiedBy>
  <dcterms:modified xsi:type="dcterms:W3CDTF">2009-01-29T15:45:03Z</dcterms:modified>
  <cp:revision>287</cp:revision>
  <dc:subject/>
  <dc:title>Slide 1</dc:title>
</cp:coreProperties>
</file>