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6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3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5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  <p:sldId id="337" r:id="rId89"/>
    <p:sldId id="338" r:id="rId90"/>
    <p:sldId id="339" r:id="rId91"/>
    <p:sldId id="340" r:id="rId92"/>
    <p:sldId id="341" r:id="rId93"/>
    <p:sldId id="342" r:id="rId94"/>
    <p:sldId id="343" r:id="rId95"/>
    <p:sldId id="344" r:id="rId96"/>
    <p:sldId id="345" r:id="rId97"/>
    <p:sldId id="346" r:id="rId98"/>
    <p:sldId id="347" r:id="rId99"/>
    <p:sldId id="348" r:id="rId100"/>
    <p:sldId id="349" r:id="rId101"/>
    <p:sldId id="350" r:id="rId102"/>
    <p:sldId id="351" r:id="rId103"/>
    <p:sldId id="352" r:id="rId104"/>
    <p:sldId id="353" r:id="rId105"/>
    <p:sldId id="354" r:id="rId106"/>
    <p:sldId id="355" r:id="rId107"/>
    <p:sldId id="356" r:id="rId108"/>
    <p:sldId id="357" r:id="rId109"/>
    <p:sldId id="358" r:id="rId110"/>
    <p:sldId id="359" r:id="rId111"/>
    <p:sldId id="360" r:id="rId112"/>
    <p:sldId id="361" r:id="rId113"/>
    <p:sldId id="362" r:id="rId114"/>
    <p:sldId id="363" r:id="rId115"/>
    <p:sldId id="364" r:id="rId116"/>
    <p:sldId id="365" r:id="rId117"/>
    <p:sldId id="366" r:id="rId118"/>
    <p:sldId id="367" r:id="rId119"/>
    <p:sldId id="368" r:id="rId120"/>
    <p:sldId id="369" r:id="rId121"/>
    <p:sldId id="370" r:id="rId122"/>
    <p:sldId id="371" r:id="rId123"/>
    <p:sldId id="372" r:id="rId124"/>
    <p:sldId id="373" r:id="rId125"/>
    <p:sldId id="374" r:id="rId126"/>
    <p:sldId id="375" r:id="rId127"/>
    <p:sldId id="376" r:id="rId128"/>
    <p:sldId id="377" r:id="rId129"/>
    <p:sldId id="378" r:id="rId130"/>
    <p:sldId id="379" r:id="rId131"/>
    <p:sldId id="380" r:id="rId132"/>
    <p:sldId id="381" r:id="rId133"/>
    <p:sldId id="382" r:id="rId134"/>
    <p:sldId id="383" r:id="rId135"/>
    <p:sldId id="384" r:id="rId136"/>
    <p:sldId id="385" r:id="rId137"/>
    <p:sldId id="386" r:id="rId138"/>
    <p:sldId id="387" r:id="rId139"/>
    <p:sldId id="388" r:id="rId140"/>
    <p:sldId id="389" r:id="rId141"/>
    <p:sldId id="390" r:id="rId142"/>
    <p:sldId id="391" r:id="rId143"/>
    <p:sldId id="392" r:id="rId144"/>
    <p:sldId id="393" r:id="rId145"/>
    <p:sldId id="394" r:id="rId146"/>
    <p:sldId id="395" r:id="rId147"/>
    <p:sldId id="396" r:id="rId148"/>
    <p:sldId id="397" r:id="rId149"/>
    <p:sldId id="398" r:id="rId150"/>
    <p:sldId id="399" r:id="rId151"/>
    <p:sldId id="400" r:id="rId152"/>
    <p:sldId id="401" r:id="rId153"/>
    <p:sldId id="402" r:id="rId154"/>
    <p:sldId id="403" r:id="rId155"/>
    <p:sldId id="404" r:id="rId156"/>
    <p:sldId id="405" r:id="rId157"/>
    <p:sldId id="406" r:id="rId158"/>
    <p:sldId id="407" r:id="rId159"/>
    <p:sldId id="408" r:id="rId160"/>
    <p:sldId id="409" r:id="rId1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slide" Target="slides/slide82.xml"/><Relationship Id="rId90" Type="http://schemas.openxmlformats.org/officeDocument/2006/relationships/slide" Target="slides/slide83.xml"/><Relationship Id="rId91" Type="http://schemas.openxmlformats.org/officeDocument/2006/relationships/slide" Target="slides/slide84.xml"/><Relationship Id="rId92" Type="http://schemas.openxmlformats.org/officeDocument/2006/relationships/slide" Target="slides/slide85.xml"/><Relationship Id="rId93" Type="http://schemas.openxmlformats.org/officeDocument/2006/relationships/slide" Target="slides/slide86.xml"/><Relationship Id="rId94" Type="http://schemas.openxmlformats.org/officeDocument/2006/relationships/slide" Target="slides/slide87.xml"/><Relationship Id="rId95" Type="http://schemas.openxmlformats.org/officeDocument/2006/relationships/slide" Target="slides/slide88.xml"/><Relationship Id="rId96" Type="http://schemas.openxmlformats.org/officeDocument/2006/relationships/slide" Target="slides/slide89.xml"/><Relationship Id="rId97" Type="http://schemas.openxmlformats.org/officeDocument/2006/relationships/slide" Target="slides/slide90.xml"/><Relationship Id="rId98" Type="http://schemas.openxmlformats.org/officeDocument/2006/relationships/slide" Target="slides/slide91.xml"/><Relationship Id="rId99" Type="http://schemas.openxmlformats.org/officeDocument/2006/relationships/slide" Target="slides/slide92.xml"/><Relationship Id="rId100" Type="http://schemas.openxmlformats.org/officeDocument/2006/relationships/slide" Target="slides/slide93.xml"/><Relationship Id="rId101" Type="http://schemas.openxmlformats.org/officeDocument/2006/relationships/slide" Target="slides/slide94.xml"/><Relationship Id="rId102" Type="http://schemas.openxmlformats.org/officeDocument/2006/relationships/slide" Target="slides/slide95.xml"/><Relationship Id="rId103" Type="http://schemas.openxmlformats.org/officeDocument/2006/relationships/slide" Target="slides/slide96.xml"/><Relationship Id="rId104" Type="http://schemas.openxmlformats.org/officeDocument/2006/relationships/slide" Target="slides/slide97.xml"/><Relationship Id="rId105" Type="http://schemas.openxmlformats.org/officeDocument/2006/relationships/slide" Target="slides/slide98.xml"/><Relationship Id="rId106" Type="http://schemas.openxmlformats.org/officeDocument/2006/relationships/slide" Target="slides/slide99.xml"/><Relationship Id="rId107" Type="http://schemas.openxmlformats.org/officeDocument/2006/relationships/slide" Target="slides/slide100.xml"/><Relationship Id="rId108" Type="http://schemas.openxmlformats.org/officeDocument/2006/relationships/slide" Target="slides/slide101.xml"/><Relationship Id="rId109" Type="http://schemas.openxmlformats.org/officeDocument/2006/relationships/slide" Target="slides/slide102.xml"/><Relationship Id="rId110" Type="http://schemas.openxmlformats.org/officeDocument/2006/relationships/slide" Target="slides/slide103.xml"/><Relationship Id="rId111" Type="http://schemas.openxmlformats.org/officeDocument/2006/relationships/slide" Target="slides/slide104.xml"/><Relationship Id="rId112" Type="http://schemas.openxmlformats.org/officeDocument/2006/relationships/slide" Target="slides/slide105.xml"/><Relationship Id="rId113" Type="http://schemas.openxmlformats.org/officeDocument/2006/relationships/slide" Target="slides/slide106.xml"/><Relationship Id="rId114" Type="http://schemas.openxmlformats.org/officeDocument/2006/relationships/slide" Target="slides/slide107.xml"/><Relationship Id="rId115" Type="http://schemas.openxmlformats.org/officeDocument/2006/relationships/slide" Target="slides/slide108.xml"/><Relationship Id="rId116" Type="http://schemas.openxmlformats.org/officeDocument/2006/relationships/slide" Target="slides/slide109.xml"/><Relationship Id="rId117" Type="http://schemas.openxmlformats.org/officeDocument/2006/relationships/slide" Target="slides/slide110.xml"/><Relationship Id="rId118" Type="http://schemas.openxmlformats.org/officeDocument/2006/relationships/slide" Target="slides/slide111.xml"/><Relationship Id="rId119" Type="http://schemas.openxmlformats.org/officeDocument/2006/relationships/slide" Target="slides/slide112.xml"/><Relationship Id="rId120" Type="http://schemas.openxmlformats.org/officeDocument/2006/relationships/slide" Target="slides/slide113.xml"/><Relationship Id="rId121" Type="http://schemas.openxmlformats.org/officeDocument/2006/relationships/slide" Target="slides/slide114.xml"/><Relationship Id="rId122" Type="http://schemas.openxmlformats.org/officeDocument/2006/relationships/slide" Target="slides/slide115.xml"/><Relationship Id="rId123" Type="http://schemas.openxmlformats.org/officeDocument/2006/relationships/slide" Target="slides/slide116.xml"/><Relationship Id="rId124" Type="http://schemas.openxmlformats.org/officeDocument/2006/relationships/slide" Target="slides/slide117.xml"/><Relationship Id="rId125" Type="http://schemas.openxmlformats.org/officeDocument/2006/relationships/slide" Target="slides/slide118.xml"/><Relationship Id="rId126" Type="http://schemas.openxmlformats.org/officeDocument/2006/relationships/slide" Target="slides/slide119.xml"/><Relationship Id="rId127" Type="http://schemas.openxmlformats.org/officeDocument/2006/relationships/slide" Target="slides/slide120.xml"/><Relationship Id="rId128" Type="http://schemas.openxmlformats.org/officeDocument/2006/relationships/slide" Target="slides/slide121.xml"/><Relationship Id="rId129" Type="http://schemas.openxmlformats.org/officeDocument/2006/relationships/slide" Target="slides/slide122.xml"/><Relationship Id="rId130" Type="http://schemas.openxmlformats.org/officeDocument/2006/relationships/slide" Target="slides/slide123.xml"/><Relationship Id="rId131" Type="http://schemas.openxmlformats.org/officeDocument/2006/relationships/slide" Target="slides/slide124.xml"/><Relationship Id="rId132" Type="http://schemas.openxmlformats.org/officeDocument/2006/relationships/slide" Target="slides/slide125.xml"/><Relationship Id="rId133" Type="http://schemas.openxmlformats.org/officeDocument/2006/relationships/slide" Target="slides/slide126.xml"/><Relationship Id="rId134" Type="http://schemas.openxmlformats.org/officeDocument/2006/relationships/slide" Target="slides/slide127.xml"/><Relationship Id="rId135" Type="http://schemas.openxmlformats.org/officeDocument/2006/relationships/slide" Target="slides/slide128.xml"/><Relationship Id="rId136" Type="http://schemas.openxmlformats.org/officeDocument/2006/relationships/slide" Target="slides/slide129.xml"/><Relationship Id="rId137" Type="http://schemas.openxmlformats.org/officeDocument/2006/relationships/slide" Target="slides/slide130.xml"/><Relationship Id="rId138" Type="http://schemas.openxmlformats.org/officeDocument/2006/relationships/slide" Target="slides/slide131.xml"/><Relationship Id="rId139" Type="http://schemas.openxmlformats.org/officeDocument/2006/relationships/slide" Target="slides/slide132.xml"/><Relationship Id="rId140" Type="http://schemas.openxmlformats.org/officeDocument/2006/relationships/slide" Target="slides/slide133.xml"/><Relationship Id="rId141" Type="http://schemas.openxmlformats.org/officeDocument/2006/relationships/slide" Target="slides/slide134.xml"/><Relationship Id="rId142" Type="http://schemas.openxmlformats.org/officeDocument/2006/relationships/slide" Target="slides/slide135.xml"/><Relationship Id="rId143" Type="http://schemas.openxmlformats.org/officeDocument/2006/relationships/slide" Target="slides/slide136.xml"/><Relationship Id="rId144" Type="http://schemas.openxmlformats.org/officeDocument/2006/relationships/slide" Target="slides/slide137.xml"/><Relationship Id="rId145" Type="http://schemas.openxmlformats.org/officeDocument/2006/relationships/slide" Target="slides/slide138.xml"/><Relationship Id="rId146" Type="http://schemas.openxmlformats.org/officeDocument/2006/relationships/slide" Target="slides/slide139.xml"/><Relationship Id="rId147" Type="http://schemas.openxmlformats.org/officeDocument/2006/relationships/slide" Target="slides/slide140.xml"/><Relationship Id="rId148" Type="http://schemas.openxmlformats.org/officeDocument/2006/relationships/slide" Target="slides/slide141.xml"/><Relationship Id="rId149" Type="http://schemas.openxmlformats.org/officeDocument/2006/relationships/slide" Target="slides/slide142.xml"/><Relationship Id="rId150" Type="http://schemas.openxmlformats.org/officeDocument/2006/relationships/slide" Target="slides/slide143.xml"/><Relationship Id="rId151" Type="http://schemas.openxmlformats.org/officeDocument/2006/relationships/slide" Target="slides/slide144.xml"/><Relationship Id="rId152" Type="http://schemas.openxmlformats.org/officeDocument/2006/relationships/slide" Target="slides/slide145.xml"/><Relationship Id="rId153" Type="http://schemas.openxmlformats.org/officeDocument/2006/relationships/slide" Target="slides/slide146.xml"/><Relationship Id="rId154" Type="http://schemas.openxmlformats.org/officeDocument/2006/relationships/slide" Target="slides/slide147.xml"/><Relationship Id="rId155" Type="http://schemas.openxmlformats.org/officeDocument/2006/relationships/slide" Target="slides/slide148.xml"/><Relationship Id="rId156" Type="http://schemas.openxmlformats.org/officeDocument/2006/relationships/slide" Target="slides/slide149.xml"/><Relationship Id="rId157" Type="http://schemas.openxmlformats.org/officeDocument/2006/relationships/slide" Target="slides/slide150.xml"/><Relationship Id="rId158" Type="http://schemas.openxmlformats.org/officeDocument/2006/relationships/slide" Target="slides/slide151.xml"/><Relationship Id="rId159" Type="http://schemas.openxmlformats.org/officeDocument/2006/relationships/slide" Target="slides/slide152.xml"/><Relationship Id="rId160" Type="http://schemas.openxmlformats.org/officeDocument/2006/relationships/slide" Target="slides/slide153.xml"/><Relationship Id="rId161" Type="http://schemas.openxmlformats.org/officeDocument/2006/relationships/slide" Target="slides/slide154.xml"/><Relationship Id="rId1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B333-466F-49FD-B2F1-34ABBC829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892A-9ED6-4AF8-81E8-223D0D188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D692-07A4-4FB0-BE61-9859CC02D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FD6F-0AB6-44F5-BB67-12B1E2E51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7F24-3E52-4468-BBEE-1C7B0AD9C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046C-BFED-4778-A7F7-C67A714EC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F515-5265-4F85-8587-5770703C8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1174-A6B0-447A-8406-819448E32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2475-B13D-4E5F-9937-8F8985833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125D-FFC5-49F7-B098-A05E79113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90E9-0E1F-46CE-B7CB-79BCF3335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7826-DA9B-4582-8E50-43EA0A8D9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1B49-AABB-4BB9-A453-9C1ED5CA7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5AA6-CEA2-4F99-8205-6E93213DC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3483-34EA-4973-B34B-7D797DEC8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8650-638E-4B93-86F2-D3CCC7D9F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D2B9-B8EB-43A6-BDAC-503545A73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A0A0-CDFF-4244-8AA7-AA3A8D56A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CB55-911C-41A5-83F5-3EF4CEF80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0597-DE26-4D1F-8A2C-8C0A88FEC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36B8-A444-4D7D-82C7-201658CF7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D4DC-F551-4710-8500-83DAE6A64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34CF-0320-4849-83B5-AFDB81A28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D05C-957E-4677-B1CE-51A7F59FB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2C04-46EC-477D-BA4B-16F16D8A7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F788-66AA-4A74-91CC-034287BB7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DEEF-E0EA-45BE-9BEA-DCB17BA12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665C-4529-42D4-8DB4-B1138792D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6FA8-31F4-4645-963A-904C4B990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2049-7F07-4215-A7A1-DC4B6FEEC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ADE1-C05E-43AF-B9D4-3C4F06D2D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EAE5-8025-4FEF-90BC-34519A5D2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89A6-06AF-491F-B4E5-A319D1FF8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7085-FE68-4BD1-8B70-3CB37B0D8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0BAF-7A66-4500-81EA-B6753BA1B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361E-35F2-4B6C-8851-D5B630433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5659-ED06-4F6E-A9D8-49095ACA4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1327-EA8B-48A2-8C11-CA41B00A8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FA20-81F3-4757-8571-EEDF2A4F0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9BBE-9C77-477C-B055-1EF9BE07D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CE96-F949-46A8-AEAD-1E258BB4A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8C79-89BD-4F22-B266-1C5FF9EAA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13D1-838F-4277-ABBF-BAA1B53F1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76AC-1E8C-45AA-92BF-9A77589AC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24A4-FB5E-4D7A-A083-956AFCF4B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9914-9961-4897-AFA0-017BC8618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9EC8-C6BC-4A7E-8B7E-A30E64CBE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86AB-B740-430E-B9CB-4888DFD29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4CEC-F29B-497B-8505-ABAF2F90A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E4F6-29E7-40B3-9D8C-88FD0B117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A0E8-E73E-4D97-8E4A-27E3A8FBB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51C0-5592-4516-B767-39B64C030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F6A6-69DC-4C2F-8365-4535A6570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3757-521F-45BD-83BD-AA2554C18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FE9B-74D2-43DA-95E4-EFB7E9109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234F-9439-4AC1-92CF-778CC3FCC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05EA-F10E-446E-8925-C868BE2A4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6724-759D-450F-9CA3-DAC8A9ECA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E81E-7515-4C8A-ADD2-36FEDE1FB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AA9F-B0D1-4299-BF9A-D73F798A1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80E8-CB02-407D-ABAA-D7A10312B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258C-47F3-4AD6-AD44-17608B23E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9903-B1A3-487E-8DB1-8CDF80D1B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EE34-5686-4E85-B40D-CC41F256E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9243-822A-4E56-9559-3121EAE37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C4BB-38BC-4B9A-ABAD-F319D5D54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F8F6-3059-4F66-83D2-955107AC1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E094-180F-4E10-BF7F-0549BC1EB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C1B1-6F9F-4930-AC4A-15FCDBDB2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B07E-7707-4964-8FF8-B42B5D537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CC29-CBAB-4096-B1D0-435AC6CBA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C5D6-BE0B-4636-8467-C60A2A7A4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8E8B-1A78-4FD7-9AAE-DD08D1D3F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7608-5F3D-4E23-A17D-29EEC200B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5652-A204-4393-86E2-565119AAF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84E1-C80B-4C4D-B33E-5B47CF9DA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425F-4BC7-45E2-A6F4-C60511285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2EF2-D0B8-471C-945E-D95E05162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2DAA-8FA5-469C-A9BF-8D4ABAF0D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C47B-7DE9-4E58-9225-0A531C11E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04B5-7EC1-447D-A40E-B82FCB9CC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57D5-DC9D-4C6A-9709-9C5FD86FA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F84A-E740-4E86-8C5C-5B9FDB7D6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989D-5CCF-4171-A81F-BB51A39B9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91B4-4EB4-4996-BAC4-A60052787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D1AE-804D-4317-A4CA-6E9861980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A802-60BB-4928-B02D-0800CAB69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55D5-FFC3-42F1-ACD8-27ABD9581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88DB-E5B6-451C-BEAA-1C1A9F7D0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FD95-CE79-410E-ABD3-1D5764763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7722-D376-4226-A93A-07A2664E2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B6C5-4253-4885-8D0F-7F7279D2B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943F-389B-4682-A358-41F41FE88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92E0-E31F-47B1-96AB-2802D4C31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DED7-F211-40EE-B2F6-A95A78E74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FEF7-E407-41C8-A739-EA6D7E506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8CBC-84A6-4AEB-9EB8-E0DCBC055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E1F9-5F75-4E32-A3E1-32C3F63F0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C07C-0D5E-41C4-955C-43B168212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5591-10BC-46A5-AAE6-ACBC43977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2568-DA93-4219-A225-EB94F1F47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A3D6-08A7-4838-80D3-708BF02E5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E8CD-1BA3-4F08-B3D7-BF4F7A71F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2D4E-4003-43BF-8DB9-1A74E7228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69C9-F520-4CE9-B145-ACF34A1F4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C51B-E2D7-47E7-9EFB-894EE5716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86D9-59B9-4767-B292-6746AFCEA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BBD4-D33B-4676-8E0D-CF6A3364A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BE01-83BE-4098-BA47-083AF32CE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E6B0-816A-4797-A8DE-8BE94CF71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4737-A493-425F-8E68-1DAD2E32D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ED5A-7391-4804-A6B8-795586ED7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6D88-ED17-464E-B74D-5F90EE6F8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7C16-D61E-43BC-B84D-9E7953202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A458-465A-48D5-B58A-2F3CC2A5F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1F3D-AAE6-4973-B96F-9BE693F14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76F3-092C-473B-A3AD-12107CB08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C131-7A11-405A-9294-82E20E5A6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3B14-8D7C-4AA2-9A6B-AB2C596C5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B8B8-1ABA-479B-B018-8048EF8E8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7EBB-B24D-4298-BE72-DBD1938C5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AB5C-D524-4D1C-8DC5-86B7377D99F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26AC-5C27-4728-B4EA-ECD5BED2B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FFB3-A73A-46F9-843A-45BF6AD2BDB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171B-93A4-4087-8BAC-22ED179B9CF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BE1C-F3D0-40C7-8655-9013F586AC6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0754-E04C-4B95-B415-6C719ABE4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A9E5-5337-462B-A757-D507D22AD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B876-8180-413B-AE0B-177EAC884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302F-EEAC-405B-A644-C0765ABEF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ABCC-3BD8-458F-90D8-265B0076E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989E-26E5-44F1-B723-8189ABB7063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5460-3DB8-41DB-9247-FFEC28EE564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CB88-9635-4E77-95A8-7EFA1BBE2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81CE-027D-4ED6-BC3D-F533092D417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1B68-1233-424E-A0A1-D3137FB94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EC19-84D7-4D0C-92A0-55B70EE39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1996-9663-4B11-90B7-444FBAD93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39B6-2EDC-4341-88FB-8E8B00E05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B367-42D1-44FD-83B5-DFC2C7CD5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B3BF-153B-4992-A2C5-1746D5447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024F-3F30-4754-8B81-6C6880C22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9BF5-2A82-4737-84E7-C0E1A9AD3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B9D1-549B-4EF2-81B5-42433E4ED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FD18-033D-4DC3-A0B0-6279731E4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3297-D7EF-4915-B122-9D6A0F71C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22BD-A92F-4217-A8B9-5537068F5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B1C9-4A13-44D6-8F01-0789FBDB3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EA4D-DEA7-4168-9A51-13A7267D9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F700-8472-4E8C-BF95-1CFB5545F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7ECF-D910-4A9D-9362-6384BE2BA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E1CC-C061-44DA-A6BC-E7BFA3A0D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6A44-1C08-4D27-AE8F-A3E3EDDF3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1AE4-4162-4A0A-B02F-C8C3E1C18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713F-B918-4013-A594-26769A0F0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C9B0-3389-4D47-BECE-134BD7B8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573-72A2-4E92-B5B4-52D612A4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9816-B444-42FA-B5CB-7F4D3AB3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A469-6F2F-4D2F-A4C1-5916934C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2BA4-7D92-4E2B-8D05-AE38F5BA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1D18-F72B-4909-BDD3-1933E055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1161-9556-4E51-B3C6-AEA07637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239B-A1B6-4585-8A6A-41645061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9C2A-B420-4E6E-B120-39C74F46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7825-6597-4035-ABC3-67048058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5098-D977-4AC3-9B90-7C885F9C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02A-1ABA-45A8-98D2-F5EFA6B8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0804-7B13-45D0-86D9-35C0E7B0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9ABC-1101-4621-AB2E-B5F01DE3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DF28-AADE-42B7-A54F-16985393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13CF-89B2-49B2-83E0-879C65B3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ED30-DE85-4CDF-A0C0-6DBE7A8F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E5A36-0B21-4D80-A36F-5B24EDDD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BFBCF-8FC6-4EDF-8FF1-2815A1E8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68D83-8694-48A9-B7B7-F999BCE2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BFB8B-97BB-4786-BBB9-CEED34E8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934D5-ADF8-4F59-A211-EDFE65E0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C534-5596-4657-99FE-6F902333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D3BD7-3EAB-41F6-B790-22551E01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4C03D-CB43-4EE0-A6CB-F2B555DF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ECD50-58BA-4BF8-BD24-22C65497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9F8DD-CEC9-4EA3-8DB3-D1F82479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41311-D208-4F53-87BA-5020F298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AB4C4-3122-4F71-8A6B-C4002958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8BDB8-6B0B-4A66-B2ED-756FD99E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17D48-63E6-4D9B-9820-7E0C721D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5782E-89E9-4E51-BA0A-8813D8E2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9A06A-ECA5-46AE-B2FD-C69F44D5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CB1E-F725-4857-B0B8-26A30FFA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73635-2616-4BD8-81CD-90BD0D30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90468-6313-43C1-9FFC-263EB93E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65173-A24A-44D7-BE9D-4525D51B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FDC8D-C26A-48BD-B72D-EF77568C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0E758-06D3-45CA-AD40-1508E0D6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A8E47-E5C6-4AC9-AF6E-996C4947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64981-069D-4E2C-88B3-5FB55282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1613A-CD2D-4D3B-818E-AEDBF1D3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B6FE9-EA03-409F-A857-BF575F0E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969A-586C-4B68-BB9F-8FC6792D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AC3-8B33-43FE-8E9C-FB6DD8AF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773-1950-4949-BE06-62268010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A8F-1AAB-491D-8608-63D83324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4B2-2604-4D50-A841-79E132BC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AC99-B94B-4600-9120-830E3C20E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1C74-8FB2-4CC4-A7F0-A727E8ED6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2431-2D95-4A25-93A1-292B53346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EEDB-C369-4A14-8992-C7665BDC5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2.xls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2.xls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st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ve Matters – Blackboard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s probability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to get any pr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much more than political po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Coin toss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saw “independence” was g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hooting free throws (in basketb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 p  always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ly independent?   (turns out to be 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:    BINO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:    BINO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:    BINO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in Exc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ays to access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:    BINO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 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589" name="Picture 3" descr=""/>
          <p:cNvPicPr/>
          <p:nvPr/>
        </p:nvPicPr>
        <p:blipFill>
          <a:blip r:embed="rId1"/>
          <a:srcRect l="5555" t="18948" r="37030" b="15790"/>
          <a:stretch/>
        </p:blipFill>
        <p:spPr>
          <a:xfrm>
            <a:off x="3200400" y="4648320"/>
            <a:ext cx="5670720" cy="1888920"/>
          </a:xfrm>
          <a:prstGeom prst="rect">
            <a:avLst/>
          </a:prstGeom>
          <a:ln w="0">
            <a:noFill/>
          </a:ln>
        </p:spPr>
      </p:pic>
      <p:cxnSp>
        <p:nvCxnSpPr>
          <p:cNvPr id="590" name="Straight Arrow Connector 6"/>
          <p:cNvCxnSpPr/>
          <p:nvPr/>
        </p:nvCxnSpPr>
        <p:spPr>
          <a:xfrm>
            <a:off x="3732840" y="3962160"/>
            <a:ext cx="991080" cy="1524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:    BINO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 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ls up function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cxnSp>
        <p:nvCxnSpPr>
          <p:cNvPr id="594" name="Straight Arrow Connector 6"/>
          <p:cNvCxnSpPr/>
          <p:nvPr/>
        </p:nvCxnSpPr>
        <p:spPr>
          <a:xfrm flipV="1">
            <a:off x="3733920" y="2818800"/>
            <a:ext cx="1296000" cy="1600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5" name="Picture 3" descr=""/>
          <p:cNvPicPr/>
          <p:nvPr/>
        </p:nvPicPr>
        <p:blipFill>
          <a:blip r:embed="rId1"/>
          <a:stretch/>
        </p:blipFill>
        <p:spPr>
          <a:xfrm>
            <a:off x="5114880" y="2666880"/>
            <a:ext cx="40291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:    BINO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 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ls up function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“statistic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599" name="Picture 3" descr=""/>
          <p:cNvPicPr/>
          <p:nvPr/>
        </p:nvPicPr>
        <p:blipFill>
          <a:blip r:embed="rId1"/>
          <a:stretch/>
        </p:blipFill>
        <p:spPr>
          <a:xfrm>
            <a:off x="5114880" y="2666880"/>
            <a:ext cx="4029120" cy="3448080"/>
          </a:xfrm>
          <a:prstGeom prst="rect">
            <a:avLst/>
          </a:prstGeom>
          <a:ln w="0">
            <a:noFill/>
          </a:ln>
        </p:spPr>
      </p:pic>
      <p:cxnSp>
        <p:nvCxnSpPr>
          <p:cNvPr id="600" name="Straight Arrow Connector 9"/>
          <p:cNvCxnSpPr/>
          <p:nvPr/>
        </p:nvCxnSpPr>
        <p:spPr>
          <a:xfrm flipV="1">
            <a:off x="4343400" y="3580560"/>
            <a:ext cx="1829520" cy="1600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:    BINO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 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ls up function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“statistic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INOMD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04" name="Picture 3" descr=""/>
          <p:cNvPicPr/>
          <p:nvPr/>
        </p:nvPicPr>
        <p:blipFill>
          <a:blip r:embed="rId1"/>
          <a:stretch/>
        </p:blipFill>
        <p:spPr>
          <a:xfrm>
            <a:off x="5114880" y="2666880"/>
            <a:ext cx="4029120" cy="3448080"/>
          </a:xfrm>
          <a:prstGeom prst="rect">
            <a:avLst/>
          </a:prstGeom>
          <a:ln w="0">
            <a:noFill/>
          </a:ln>
        </p:spPr>
      </p:pic>
      <p:cxnSp>
        <p:nvCxnSpPr>
          <p:cNvPr id="605" name="Straight Arrow Connector 10"/>
          <p:cNvCxnSpPr/>
          <p:nvPr/>
        </p:nvCxnSpPr>
        <p:spPr>
          <a:xfrm flipV="1">
            <a:off x="4114440" y="4343040"/>
            <a:ext cx="1524600" cy="144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6472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:    BINO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-6472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 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6472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6472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ls up function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6472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“statistic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6472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INOMD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6472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BINOMDIST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09" name="Picture 3" descr=""/>
          <p:cNvPicPr/>
          <p:nvPr/>
        </p:nvPicPr>
        <p:blipFill>
          <a:blip r:embed="rId1"/>
          <a:stretch/>
        </p:blipFill>
        <p:spPr>
          <a:xfrm>
            <a:off x="5105520" y="2971800"/>
            <a:ext cx="4924440" cy="2933640"/>
          </a:xfrm>
          <a:prstGeom prst="rect">
            <a:avLst/>
          </a:prstGeom>
          <a:ln w="0">
            <a:noFill/>
          </a:ln>
        </p:spPr>
      </p:pic>
      <p:cxnSp>
        <p:nvCxnSpPr>
          <p:cNvPr id="610" name="Straight Arrow Connector 10"/>
          <p:cNvCxnSpPr/>
          <p:nvPr/>
        </p:nvCxnSpPr>
        <p:spPr>
          <a:xfrm flipV="1">
            <a:off x="4191120" y="3428280"/>
            <a:ext cx="1219680" cy="289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:    BINO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 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14" name="Picture 3" descr=""/>
          <p:cNvPicPr/>
          <p:nvPr/>
        </p:nvPicPr>
        <p:blipFill>
          <a:blip r:embed="rId1"/>
          <a:srcRect l="20000" t="3200" r="40000" b="57603"/>
          <a:stretch/>
        </p:blipFill>
        <p:spPr>
          <a:xfrm>
            <a:off x="4876920" y="2057400"/>
            <a:ext cx="5486400" cy="3360600"/>
          </a:xfrm>
          <a:prstGeom prst="rect">
            <a:avLst/>
          </a:prstGeom>
          <a:ln w="0">
            <a:noFill/>
          </a:ln>
        </p:spPr>
      </p:pic>
      <p:cxnSp>
        <p:nvCxnSpPr>
          <p:cNvPr id="615" name="Straight Arrow Connector 6"/>
          <p:cNvCxnSpPr/>
          <p:nvPr/>
        </p:nvCxnSpPr>
        <p:spPr>
          <a:xfrm flipV="1">
            <a:off x="3504240" y="2361960"/>
            <a:ext cx="1524600" cy="1676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:    BINO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 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19" name="Picture 3" descr=""/>
          <p:cNvPicPr/>
          <p:nvPr/>
        </p:nvPicPr>
        <p:blipFill>
          <a:blip r:embed="rId1"/>
          <a:srcRect l="20000" t="3200" r="40000" b="57603"/>
          <a:stretch/>
        </p:blipFill>
        <p:spPr>
          <a:xfrm>
            <a:off x="4876920" y="2057400"/>
            <a:ext cx="5486400" cy="3360600"/>
          </a:xfrm>
          <a:prstGeom prst="rect">
            <a:avLst/>
          </a:prstGeom>
          <a:ln w="0">
            <a:noFill/>
          </a:ln>
        </p:spPr>
      </p:pic>
      <p:cxnSp>
        <p:nvCxnSpPr>
          <p:cNvPr id="620" name="Straight Arrow Connector 6"/>
          <p:cNvCxnSpPr/>
          <p:nvPr/>
        </p:nvCxnSpPr>
        <p:spPr>
          <a:xfrm flipV="1">
            <a:off x="3962520" y="2819160"/>
            <a:ext cx="320112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all prob’s for X ~ Bi(n,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:    BINO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 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24" name="Picture 3" descr=""/>
          <p:cNvPicPr/>
          <p:nvPr/>
        </p:nvPicPr>
        <p:blipFill>
          <a:blip r:embed="rId1"/>
          <a:srcRect l="20000" t="3200" r="40000" b="57603"/>
          <a:stretch/>
        </p:blipFill>
        <p:spPr>
          <a:xfrm>
            <a:off x="4876920" y="2057400"/>
            <a:ext cx="5486400" cy="3360600"/>
          </a:xfrm>
          <a:prstGeom prst="rect">
            <a:avLst/>
          </a:prstGeom>
          <a:ln w="0">
            <a:noFill/>
          </a:ln>
        </p:spPr>
      </p:pic>
      <p:cxnSp>
        <p:nvCxnSpPr>
          <p:cNvPr id="625" name="Straight Arrow Connector 6"/>
          <p:cNvCxnSpPr/>
          <p:nvPr/>
        </p:nvCxnSpPr>
        <p:spPr>
          <a:xfrm flipV="1">
            <a:off x="3048120" y="3199680"/>
            <a:ext cx="4115520" cy="2134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:    BINO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 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OMD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29" name="Picture 3" descr=""/>
          <p:cNvPicPr/>
          <p:nvPr/>
        </p:nvPicPr>
        <p:blipFill>
          <a:blip r:embed="rId1"/>
          <a:srcRect l="20000" t="3200" r="40000" b="57603"/>
          <a:stretch/>
        </p:blipFill>
        <p:spPr>
          <a:xfrm>
            <a:off x="4876920" y="2057400"/>
            <a:ext cx="5486400" cy="3360600"/>
          </a:xfrm>
          <a:prstGeom prst="rect">
            <a:avLst/>
          </a:prstGeom>
          <a:ln w="0">
            <a:noFill/>
          </a:ln>
        </p:spPr>
      </p:pic>
      <p:cxnSp>
        <p:nvCxnSpPr>
          <p:cNvPr id="630" name="Straight Arrow Connector 6"/>
          <p:cNvCxnSpPr/>
          <p:nvPr/>
        </p:nvCxnSpPr>
        <p:spPr>
          <a:xfrm flipV="1">
            <a:off x="3428640" y="4876200"/>
            <a:ext cx="487764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6472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:    BINO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-6472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 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-6472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6472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6472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6472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OMD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s to same menu (as abo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34" name="Picture 3" descr=""/>
          <p:cNvPicPr/>
          <p:nvPr/>
        </p:nvPicPr>
        <p:blipFill>
          <a:blip r:embed="rId1"/>
          <a:stretch/>
        </p:blipFill>
        <p:spPr>
          <a:xfrm>
            <a:off x="5105520" y="2971800"/>
            <a:ext cx="4924440" cy="2933640"/>
          </a:xfrm>
          <a:prstGeom prst="rect">
            <a:avLst/>
          </a:prstGeom>
          <a:ln w="0">
            <a:noFill/>
          </a:ln>
        </p:spPr>
      </p:pic>
      <p:cxnSp>
        <p:nvCxnSpPr>
          <p:cNvPr id="635" name="Straight Arrow Connector 6"/>
          <p:cNvCxnSpPr/>
          <p:nvPr/>
        </p:nvCxnSpPr>
        <p:spPr>
          <a:xfrm flipV="1">
            <a:off x="3429000" y="3351960"/>
            <a:ext cx="1829520" cy="3048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:    BINO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se out,    Class Example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2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ute   P{X=x},     for  X ~ Bi(n,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42" name="Picture 5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44960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ute   P{X=x},     for  X ~ Bi(n,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Comple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46" name="Picture 5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44960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ute   P{X=x},     for  X ~ Bi(n,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50" name="Picture 5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4496040" cy="3216240"/>
          </a:xfrm>
          <a:prstGeom prst="rect">
            <a:avLst/>
          </a:prstGeom>
          <a:ln w="0">
            <a:noFill/>
          </a:ln>
        </p:spPr>
      </p:pic>
      <p:sp>
        <p:nvSpPr>
          <p:cNvPr id="651" name="Line 6"/>
          <p:cNvSpPr/>
          <p:nvPr/>
        </p:nvSpPr>
        <p:spPr>
          <a:xfrm>
            <a:off x="2514600" y="2895480"/>
            <a:ext cx="2133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ute   P{X=x},     for  X ~ Bi(n,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55" name="Picture 5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4496040" cy="3216240"/>
          </a:xfrm>
          <a:prstGeom prst="rect">
            <a:avLst/>
          </a:prstGeom>
          <a:ln w="0">
            <a:noFill/>
          </a:ln>
        </p:spPr>
      </p:pic>
      <p:sp>
        <p:nvSpPr>
          <p:cNvPr id="656" name="Line 6"/>
          <p:cNvSpPr/>
          <p:nvPr/>
        </p:nvSpPr>
        <p:spPr>
          <a:xfrm>
            <a:off x="2514600" y="2895480"/>
            <a:ext cx="2133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7"/>
          <p:cNvSpPr/>
          <p:nvPr/>
        </p:nvSpPr>
        <p:spPr>
          <a:xfrm flipV="1">
            <a:off x="2590920" y="3505320"/>
            <a:ext cx="2286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ute   P{X=x},     for  X ~ Bi(n,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61" name="Picture 5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4496040" cy="3216240"/>
          </a:xfrm>
          <a:prstGeom prst="rect">
            <a:avLst/>
          </a:prstGeom>
          <a:ln w="0">
            <a:noFill/>
          </a:ln>
        </p:spPr>
      </p:pic>
      <p:sp>
        <p:nvSpPr>
          <p:cNvPr id="662" name="Line 6"/>
          <p:cNvSpPr/>
          <p:nvPr/>
        </p:nvSpPr>
        <p:spPr>
          <a:xfrm>
            <a:off x="2514600" y="2895480"/>
            <a:ext cx="2133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7"/>
          <p:cNvSpPr/>
          <p:nvPr/>
        </p:nvSpPr>
        <p:spPr>
          <a:xfrm flipV="1">
            <a:off x="2590920" y="3505320"/>
            <a:ext cx="2286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8"/>
          <p:cNvSpPr/>
          <p:nvPr/>
        </p:nvSpPr>
        <p:spPr>
          <a:xfrm flipV="1">
            <a:off x="2590920" y="3733560"/>
            <a:ext cx="19047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ute   P{X=x},     for  X ~ Bi(n,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mula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=x}: 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68" name="Picture 5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4496040" cy="3216240"/>
          </a:xfrm>
          <a:prstGeom prst="rect">
            <a:avLst/>
          </a:prstGeom>
          <a:ln w="0">
            <a:noFill/>
          </a:ln>
        </p:spPr>
      </p:pic>
      <p:sp>
        <p:nvSpPr>
          <p:cNvPr id="669" name="Line 6"/>
          <p:cNvSpPr/>
          <p:nvPr/>
        </p:nvSpPr>
        <p:spPr>
          <a:xfrm>
            <a:off x="2590920" y="3809880"/>
            <a:ext cx="1981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all prob’s for X ~ Bi(n,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4267080" y="2133720"/>
                <a:ext cx="341640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ute   P{X=x},     for  X ~ Bi(n,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mula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=x}: 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&lt;=x}: 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ll illustrate so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0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73" name="Picture 5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4496040" cy="3216240"/>
          </a:xfrm>
          <a:prstGeom prst="rect">
            <a:avLst/>
          </a:prstGeom>
          <a:ln w="0">
            <a:noFill/>
          </a:ln>
        </p:spPr>
      </p:pic>
      <p:sp>
        <p:nvSpPr>
          <p:cNvPr id="674" name="Line 6"/>
          <p:cNvSpPr/>
          <p:nvPr/>
        </p:nvSpPr>
        <p:spPr>
          <a:xfrm>
            <a:off x="2590920" y="3809880"/>
            <a:ext cx="1981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:    BINO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heck out specific proble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2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1,0.5), i.e. toss a fair coin once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1,0.5), i.e. toss a fair coin once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prob. of a Head"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{X = 1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1,0.5), i.e. toss a fair coin once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prob. of a Head"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{X = 1}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87" name="Picture 3" descr=""/>
          <p:cNvPicPr/>
          <p:nvPr/>
        </p:nvPicPr>
        <p:blipFill>
          <a:blip r:embed="rId1"/>
          <a:stretch/>
        </p:blipFill>
        <p:spPr>
          <a:xfrm>
            <a:off x="4876920" y="3924360"/>
            <a:ext cx="49244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1,0.5), i.e. toss a fair coin once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prob. of a Head"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{X = 1}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4876920" y="3924360"/>
            <a:ext cx="4924440" cy="2933640"/>
          </a:xfrm>
          <a:prstGeom prst="rect">
            <a:avLst/>
          </a:prstGeom>
          <a:ln w="0">
            <a:noFill/>
          </a:ln>
        </p:spPr>
      </p:pic>
      <p:cxnSp>
        <p:nvCxnSpPr>
          <p:cNvPr id="692" name="Straight Arrow Connector 5"/>
          <p:cNvCxnSpPr/>
          <p:nvPr/>
        </p:nvCxnSpPr>
        <p:spPr>
          <a:xfrm>
            <a:off x="2286000" y="5333760"/>
            <a:ext cx="5563440" cy="76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1,0.5), i.e. toss a fair coin once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prob. of a Head" =  P{X = 1} =  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could also ju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formula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96" name="Picture 3" descr=""/>
          <p:cNvPicPr/>
          <p:nvPr/>
        </p:nvPicPr>
        <p:blipFill>
          <a:blip r:embed="rId1"/>
          <a:srcRect l="7686" t="28571" r="53804" b="34286"/>
          <a:stretch/>
        </p:blipFill>
        <p:spPr>
          <a:xfrm>
            <a:off x="3505320" y="5135400"/>
            <a:ext cx="6637320" cy="1722600"/>
          </a:xfrm>
          <a:prstGeom prst="rect">
            <a:avLst/>
          </a:prstGeom>
          <a:ln w="0">
            <a:noFill/>
          </a:ln>
        </p:spPr>
      </p:pic>
      <p:cxnSp>
        <p:nvCxnSpPr>
          <p:cNvPr id="697" name="Straight Arrow Connector 7"/>
          <p:cNvCxnSpPr/>
          <p:nvPr/>
        </p:nvCxnSpPr>
        <p:spPr>
          <a:xfrm>
            <a:off x="3200040" y="5333760"/>
            <a:ext cx="243900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1,0.5), i.e. toss a fair coin once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prob. of a Tail"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{X = 0}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01" name="Picture 3" descr=""/>
          <p:cNvPicPr/>
          <p:nvPr/>
        </p:nvPicPr>
        <p:blipFill>
          <a:blip r:embed="rId1"/>
          <a:stretch/>
        </p:blipFill>
        <p:spPr>
          <a:xfrm>
            <a:off x="5334120" y="3924360"/>
            <a:ext cx="49244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2,0.5), i.e. toss a fair coin twice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2,0.5), i.e. toss a fair coin twice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prob. of no Heads"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= 0}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all prob’s for X ~ Bi(n,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ver this for any prob. about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4267080" y="2133720"/>
                <a:ext cx="341640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2,0.5), i.e. toss a fair coin twice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prob. of no Heads"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= 0}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11" name="Picture 3" descr=""/>
          <p:cNvPicPr/>
          <p:nvPr/>
        </p:nvPicPr>
        <p:blipFill>
          <a:blip r:embed="rId1"/>
          <a:stretch/>
        </p:blipFill>
        <p:spPr>
          <a:xfrm>
            <a:off x="5410080" y="3924360"/>
            <a:ext cx="49244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2,0.5), i.e. toss a fair coin twice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prob. of no Heads"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= 0}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*P{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= 0.2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15" name="Picture 3" descr=""/>
          <p:cNvPicPr/>
          <p:nvPr/>
        </p:nvPicPr>
        <p:blipFill>
          <a:blip r:embed="rId1"/>
          <a:stretch/>
        </p:blipFill>
        <p:spPr>
          <a:xfrm>
            <a:off x="5410080" y="3924360"/>
            <a:ext cx="49244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2,0.5), i.e. toss a fair coin twice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"prob. of one Head"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= 1}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arder calcu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19" name="Picture 3" descr=""/>
          <p:cNvPicPr/>
          <p:nvPr/>
        </p:nvPicPr>
        <p:blipFill>
          <a:blip r:embed="rId1"/>
          <a:stretch/>
        </p:blipFill>
        <p:spPr>
          <a:xfrm>
            <a:off x="5410080" y="3924360"/>
            <a:ext cx="49244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2,0.3), i.e. toss an unbalanced coin twice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2,0.3), i.e. toss an unbalanced coin twice, count the number of H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prob. of no Heads"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= 0}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*P{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= 0.4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3" descr=""/>
          <p:cNvPicPr/>
          <p:nvPr/>
        </p:nvPicPr>
        <p:blipFill>
          <a:blip r:embed="rId1"/>
          <a:stretch/>
        </p:blipFill>
        <p:spPr>
          <a:xfrm>
            <a:off x="5181480" y="3924360"/>
            <a:ext cx="49244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2,0.3), i.e. toss an unbalanced coin twice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"prob. of one Head"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= 1}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3" descr=""/>
          <p:cNvPicPr/>
          <p:nvPr/>
        </p:nvPicPr>
        <p:blipFill>
          <a:blip r:embed="rId1"/>
          <a:stretch/>
        </p:blipFill>
        <p:spPr>
          <a:xfrm>
            <a:off x="5105520" y="3924360"/>
            <a:ext cx="49244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20,0.3), i.e. toss an unbalanced coin 20 times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20,0.3), i.e. toss an unbalanced coin 20 times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prob. of no Heads"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= 0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35" name="Picture 3" descr=""/>
          <p:cNvPicPr/>
          <p:nvPr/>
        </p:nvPicPr>
        <p:blipFill>
          <a:blip r:embed="rId1"/>
          <a:stretch/>
        </p:blipFill>
        <p:spPr>
          <a:xfrm>
            <a:off x="4876920" y="3924360"/>
            <a:ext cx="49244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20,0.3), i.e. toss an unbalanced coin 20 times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prob. of no Heads"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= 0}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00079792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39" name="Picture 3" descr=""/>
          <p:cNvPicPr/>
          <p:nvPr/>
        </p:nvPicPr>
        <p:blipFill>
          <a:blip r:embed="rId1"/>
          <a:stretch/>
        </p:blipFill>
        <p:spPr>
          <a:xfrm>
            <a:off x="4876920" y="3924360"/>
            <a:ext cx="4924440" cy="2933640"/>
          </a:xfrm>
          <a:prstGeom prst="rect">
            <a:avLst/>
          </a:prstGeom>
          <a:ln w="0">
            <a:noFill/>
          </a:ln>
        </p:spPr>
      </p:pic>
      <p:cxnSp>
        <p:nvCxnSpPr>
          <p:cNvPr id="740" name="Straight Arrow Connector 6"/>
          <p:cNvCxnSpPr/>
          <p:nvPr/>
        </p:nvCxnSpPr>
        <p:spPr>
          <a:xfrm flipH="1" flipV="1">
            <a:off x="4038120" y="5257080"/>
            <a:ext cx="3810960" cy="15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20,0.3), i.e. toss an unbalanced coin 20 times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prob. of no Heads"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= 0}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0007979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:        0.7^20 = 0.000797923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-6969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all prob’s for X ~ Bi(n,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ver this for any prob. about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s doing complicated calculation each time want a pr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3"/>
              <p:cNvSpPr txBox="1"/>
              <p:nvPr/>
            </p:nvSpPr>
            <p:spPr>
              <a:xfrm>
                <a:off x="4267080" y="2133720"/>
                <a:ext cx="341640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20,0.3), i.e. toss an unbalanced coin 20 times, count the number of H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"prob. of six Heads"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= 6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47" name="Picture 3" descr=""/>
          <p:cNvPicPr/>
          <p:nvPr/>
        </p:nvPicPr>
        <p:blipFill>
          <a:blip r:embed="rId1"/>
          <a:stretch/>
        </p:blipFill>
        <p:spPr>
          <a:xfrm>
            <a:off x="5029200" y="3924360"/>
            <a:ext cx="49244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20,0.3), i.e. toss an unbalanced coin 20 times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"prob. of at most 6 Heads"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≤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20,0.3), i.e. toss an unbalanced coin 20 times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"prob. of at most 6 Heads"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≤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1:   Add the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54" name="Picture 3" descr=""/>
          <p:cNvPicPr/>
          <p:nvPr/>
        </p:nvPicPr>
        <p:blipFill>
          <a:blip r:embed="rId1"/>
          <a:srcRect l="12800" t="19201" r="12800" b="30173"/>
          <a:stretch/>
        </p:blipFill>
        <p:spPr>
          <a:xfrm>
            <a:off x="6377040" y="3505320"/>
            <a:ext cx="2374920" cy="2514600"/>
          </a:xfrm>
          <a:prstGeom prst="rect">
            <a:avLst/>
          </a:prstGeom>
          <a:ln w="0">
            <a:noFill/>
          </a:ln>
        </p:spPr>
      </p:pic>
      <p:cxnSp>
        <p:nvCxnSpPr>
          <p:cNvPr id="755" name="Straight Arrow Connector 6"/>
          <p:cNvCxnSpPr/>
          <p:nvPr/>
        </p:nvCxnSpPr>
        <p:spPr>
          <a:xfrm>
            <a:off x="4952880" y="5257800"/>
            <a:ext cx="137232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20,0.3), i.e. toss an unbalanced coin 20 times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"prob. of at most 6 Heads"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≤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1:   Add the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6080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59" name="Picture 3" descr=""/>
          <p:cNvPicPr/>
          <p:nvPr/>
        </p:nvPicPr>
        <p:blipFill>
          <a:blip r:embed="rId1"/>
          <a:srcRect l="12800" t="19201" r="12800" b="30173"/>
          <a:stretch/>
        </p:blipFill>
        <p:spPr>
          <a:xfrm>
            <a:off x="6377040" y="3505320"/>
            <a:ext cx="2374920" cy="2514600"/>
          </a:xfrm>
          <a:prstGeom prst="rect">
            <a:avLst/>
          </a:prstGeom>
          <a:ln w="0">
            <a:noFill/>
          </a:ln>
        </p:spPr>
      </p:pic>
      <p:cxnSp>
        <p:nvCxnSpPr>
          <p:cNvPr id="760" name="Straight Arrow Connector 6"/>
          <p:cNvCxnSpPr/>
          <p:nvPr/>
        </p:nvCxnSpPr>
        <p:spPr>
          <a:xfrm>
            <a:off x="4952880" y="5257800"/>
            <a:ext cx="137232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1" name="Straight Arrow Connector 7"/>
          <p:cNvCxnSpPr/>
          <p:nvPr/>
        </p:nvCxnSpPr>
        <p:spPr>
          <a:xfrm flipH="1">
            <a:off x="3047760" y="5791320"/>
            <a:ext cx="449640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20,0.3), i.e. toss an unbalanced coin 20 times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"prob. of at most 6 Heads"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≤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1:   Add,  = 0.6080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20,0.3), i.e. toss an unbalanced coin 20 times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"prob. of at most 6 Heads"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≤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1:   Add,  = 0.608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2:   Use Cumu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20,0.3), i.e. toss an unbalanced coin 20 times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"prob. of at most 6 Heads"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≤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1:   Add,  = 0.608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2:   Use Cumu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71" name="Picture 3" descr=""/>
          <p:cNvPicPr/>
          <p:nvPr/>
        </p:nvPicPr>
        <p:blipFill>
          <a:blip r:embed="rId1"/>
          <a:stretch/>
        </p:blipFill>
        <p:spPr>
          <a:xfrm>
            <a:off x="5486400" y="3924360"/>
            <a:ext cx="49244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20,0.3), i.e. toss an unbalanced coin 20 times, count the number of Hea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"prob. of at most 6 Heads"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≤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1:   Add,  = 0.608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2:   Use Cumu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75" name="Picture 3" descr=""/>
          <p:cNvPicPr/>
          <p:nvPr/>
        </p:nvPicPr>
        <p:blipFill>
          <a:blip r:embed="rId1"/>
          <a:stretch/>
        </p:blipFill>
        <p:spPr>
          <a:xfrm>
            <a:off x="5486400" y="3924360"/>
            <a:ext cx="4924440" cy="2933640"/>
          </a:xfrm>
          <a:prstGeom prst="rect">
            <a:avLst/>
          </a:prstGeom>
          <a:ln w="0">
            <a:noFill/>
          </a:ln>
        </p:spPr>
      </p:pic>
      <p:cxnSp>
        <p:nvCxnSpPr>
          <p:cNvPr id="776" name="Straight Arrow Connector 6"/>
          <p:cNvCxnSpPr/>
          <p:nvPr/>
        </p:nvCxnSpPr>
        <p:spPr>
          <a:xfrm flipV="1">
            <a:off x="3580920" y="5409360"/>
            <a:ext cx="4953960" cy="1296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7" name="Straight Arrow Connector 7"/>
          <p:cNvCxnSpPr/>
          <p:nvPr/>
        </p:nvCxnSpPr>
        <p:spPr>
          <a:xfrm flipV="1">
            <a:off x="3581280" y="5562000"/>
            <a:ext cx="53424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4:    For X ~ Bi(20,0.3)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prob. of at least 6 Heads" = P{X ≥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4:    For X ~ Bi(20,0.3)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prob. of at least 6 Heads" = P{X ≥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cumulative works "other way", so need to put in Excel usabl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“experiment”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4:    For X ~ Bi(20,0.3)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prob. of at least 6 Heads" = P{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X ≥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        5         6  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traight Connector 4"/>
          <p:cNvSpPr/>
          <p:nvPr/>
        </p:nvSpPr>
        <p:spPr>
          <a:xfrm>
            <a:off x="380880" y="4876920"/>
            <a:ext cx="5410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traight Connector 5"/>
          <p:cNvSpPr/>
          <p:nvPr/>
        </p:nvSpPr>
        <p:spPr>
          <a:xfrm flipH="1">
            <a:off x="1064880" y="4726080"/>
            <a:ext cx="3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traight Connector 8"/>
          <p:cNvSpPr/>
          <p:nvPr/>
        </p:nvSpPr>
        <p:spPr>
          <a:xfrm flipH="1">
            <a:off x="2362320" y="472428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traight Connector 9"/>
          <p:cNvSpPr/>
          <p:nvPr/>
        </p:nvSpPr>
        <p:spPr>
          <a:xfrm flipH="1">
            <a:off x="3580920" y="4724280"/>
            <a:ext cx="18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traight Connector 10"/>
          <p:cNvSpPr/>
          <p:nvPr/>
        </p:nvSpPr>
        <p:spPr>
          <a:xfrm flipH="1">
            <a:off x="4800600" y="472428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traight Connector 12"/>
          <p:cNvSpPr/>
          <p:nvPr/>
        </p:nvSpPr>
        <p:spPr>
          <a:xfrm>
            <a:off x="3429000" y="4876920"/>
            <a:ext cx="2514600" cy="1440"/>
          </a:xfrm>
          <a:prstGeom prst="line">
            <a:avLst/>
          </a:prstGeom>
          <a:ln w="152280">
            <a:solidFill>
              <a:srgbClr val="0000ff">
                <a:alpha val="4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traight Connector 14"/>
          <p:cNvSpPr/>
          <p:nvPr/>
        </p:nvSpPr>
        <p:spPr>
          <a:xfrm flipH="1">
            <a:off x="5410080" y="2666880"/>
            <a:ext cx="1524240" cy="2133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4:    For X ~ Bi(20,0.3)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prob. of at least 6 Heads" = P{X ≥ 6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 - P{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 X ≥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        5         6  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traight Connector 4"/>
          <p:cNvSpPr/>
          <p:nvPr/>
        </p:nvSpPr>
        <p:spPr>
          <a:xfrm>
            <a:off x="380880" y="4876920"/>
            <a:ext cx="5410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traight Connector 5"/>
          <p:cNvSpPr/>
          <p:nvPr/>
        </p:nvSpPr>
        <p:spPr>
          <a:xfrm flipH="1">
            <a:off x="1064880" y="4726080"/>
            <a:ext cx="3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traight Connector 8"/>
          <p:cNvSpPr/>
          <p:nvPr/>
        </p:nvSpPr>
        <p:spPr>
          <a:xfrm flipH="1">
            <a:off x="2362320" y="472428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traight Connector 9"/>
          <p:cNvSpPr/>
          <p:nvPr/>
        </p:nvSpPr>
        <p:spPr>
          <a:xfrm flipH="1">
            <a:off x="3580920" y="4724280"/>
            <a:ext cx="18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10"/>
          <p:cNvSpPr/>
          <p:nvPr/>
        </p:nvSpPr>
        <p:spPr>
          <a:xfrm flipH="1">
            <a:off x="4800600" y="472428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traight Connector 13"/>
          <p:cNvSpPr/>
          <p:nvPr/>
        </p:nvSpPr>
        <p:spPr>
          <a:xfrm flipH="1" flipV="1">
            <a:off x="228600" y="4876920"/>
            <a:ext cx="3124080" cy="1440"/>
          </a:xfrm>
          <a:prstGeom prst="line">
            <a:avLst/>
          </a:prstGeom>
          <a:ln w="152280">
            <a:solidFill>
              <a:srgbClr val="ff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traight Connector 15"/>
          <p:cNvSpPr/>
          <p:nvPr/>
        </p:nvSpPr>
        <p:spPr>
          <a:xfrm flipH="1">
            <a:off x="1981080" y="3505320"/>
            <a:ext cx="533520" cy="129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4:    For X ~ Bi(20,0.3)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prob. of at least 6 Heads" = P{X ≥ 6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 - P{not X ≥ 6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 - P{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&lt;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        5         6  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traight Connector 4"/>
          <p:cNvSpPr/>
          <p:nvPr/>
        </p:nvSpPr>
        <p:spPr>
          <a:xfrm>
            <a:off x="380880" y="4876920"/>
            <a:ext cx="5410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traight Connector 5"/>
          <p:cNvSpPr/>
          <p:nvPr/>
        </p:nvSpPr>
        <p:spPr>
          <a:xfrm flipH="1">
            <a:off x="1064880" y="4726080"/>
            <a:ext cx="3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traight Connector 8"/>
          <p:cNvSpPr/>
          <p:nvPr/>
        </p:nvSpPr>
        <p:spPr>
          <a:xfrm flipH="1">
            <a:off x="2362320" y="472428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traight Connector 9"/>
          <p:cNvSpPr/>
          <p:nvPr/>
        </p:nvSpPr>
        <p:spPr>
          <a:xfrm flipH="1">
            <a:off x="3580920" y="4724280"/>
            <a:ext cx="18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traight Connector 10"/>
          <p:cNvSpPr/>
          <p:nvPr/>
        </p:nvSpPr>
        <p:spPr>
          <a:xfrm flipH="1">
            <a:off x="4800600" y="472428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traight Connector 13"/>
          <p:cNvSpPr/>
          <p:nvPr/>
        </p:nvSpPr>
        <p:spPr>
          <a:xfrm flipH="1" flipV="1">
            <a:off x="228600" y="4876920"/>
            <a:ext cx="3124080" cy="1440"/>
          </a:xfrm>
          <a:prstGeom prst="line">
            <a:avLst/>
          </a:prstGeom>
          <a:ln w="152280">
            <a:solidFill>
              <a:srgbClr val="ff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aight Connector 11"/>
          <p:cNvSpPr/>
          <p:nvPr/>
        </p:nvSpPr>
        <p:spPr>
          <a:xfrm flipH="1">
            <a:off x="1981080" y="4191120"/>
            <a:ext cx="15264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4:    For X ~ Bi(20,0.3)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prob. of at least 6 Heads" = P{X ≥ 6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 - P{not X ≥ 6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 - P{X &lt; 6} = 1 - P{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≤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         (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        5         6         7                  numb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traight Connector 4"/>
          <p:cNvSpPr/>
          <p:nvPr/>
        </p:nvSpPr>
        <p:spPr>
          <a:xfrm>
            <a:off x="380880" y="4876920"/>
            <a:ext cx="5410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traight Connector 5"/>
          <p:cNvSpPr/>
          <p:nvPr/>
        </p:nvSpPr>
        <p:spPr>
          <a:xfrm flipH="1">
            <a:off x="1064880" y="4726080"/>
            <a:ext cx="3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traight Connector 8"/>
          <p:cNvSpPr/>
          <p:nvPr/>
        </p:nvSpPr>
        <p:spPr>
          <a:xfrm flipH="1">
            <a:off x="2362320" y="472428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traight Connector 9"/>
          <p:cNvSpPr/>
          <p:nvPr/>
        </p:nvSpPr>
        <p:spPr>
          <a:xfrm flipH="1">
            <a:off x="3580920" y="4724280"/>
            <a:ext cx="18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traight Connector 10"/>
          <p:cNvSpPr/>
          <p:nvPr/>
        </p:nvSpPr>
        <p:spPr>
          <a:xfrm flipH="1">
            <a:off x="4800600" y="472428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traight Connector 13"/>
          <p:cNvSpPr/>
          <p:nvPr/>
        </p:nvSpPr>
        <p:spPr>
          <a:xfrm flipH="1" flipV="1">
            <a:off x="228600" y="4876920"/>
            <a:ext cx="2286000" cy="1440"/>
          </a:xfrm>
          <a:prstGeom prst="line">
            <a:avLst/>
          </a:prstGeom>
          <a:ln w="152280">
            <a:solidFill>
              <a:srgbClr val="ff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traight Connector 11"/>
          <p:cNvSpPr/>
          <p:nvPr/>
        </p:nvSpPr>
        <p:spPr>
          <a:xfrm flipH="1">
            <a:off x="1981080" y="4190400"/>
            <a:ext cx="243864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.4:    For X ~ Bi(20,0.3)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prob. of at least 6 Heads" = P{X ≥ 6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 - P{not X ≥ 6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 - P{X &lt; 6} = 1 - P{X ≤ 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use BINOMDIST &amp; Cumulative =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“experiment”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 “Success” or “Fail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“experiment”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 “Success” or “Fail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repe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# of S’s    (count S’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(ind.), let X = # of S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(ind.), let X = # of S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[X = x]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d probability distribution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ges  311-317,    327-331,    372-3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 377-381,    385-391,    488-4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(ind.), let X = # of S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[X = x]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particular dra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expand in those term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use Big Rules of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(ind.), let X = # of S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[X = x] = P[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r …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“S on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”,    “S on x-th draw”,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Straight Arrow Connector 6"/>
          <p:cNvCxnSpPr/>
          <p:nvPr/>
        </p:nvCxnSpPr>
        <p:spPr>
          <a:xfrm flipV="1">
            <a:off x="2666880" y="2666520"/>
            <a:ext cx="15336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Straight Arrow Connector 7"/>
          <p:cNvCxnSpPr/>
          <p:nvPr/>
        </p:nvCxnSpPr>
        <p:spPr>
          <a:xfrm flipH="1" flipV="1">
            <a:off x="4266720" y="2666520"/>
            <a:ext cx="106776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757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(ind.), let X = # of S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[X = x] = P[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r …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-67572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“S on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”,    “S on x-th draw”,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-67572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ossible ordering of S,…,S,F,…,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-x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5"/>
          <p:cNvSpPr/>
          <p:nvPr/>
        </p:nvSpPr>
        <p:spPr>
          <a:xfrm flipH="1">
            <a:off x="380520" y="2895480"/>
            <a:ext cx="434340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8"/>
          <p:cNvSpPr/>
          <p:nvPr/>
        </p:nvSpPr>
        <p:spPr>
          <a:xfrm flipH="1" flipV="1">
            <a:off x="2666520" y="2666520"/>
            <a:ext cx="21337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9"/>
          <p:cNvSpPr/>
          <p:nvPr/>
        </p:nvSpPr>
        <p:spPr>
          <a:xfrm flipH="1">
            <a:off x="4723920" y="2666160"/>
            <a:ext cx="20574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Straight Arrow Connector 16"/>
          <p:cNvCxnSpPr/>
          <p:nvPr/>
        </p:nvCxnSpPr>
        <p:spPr>
          <a:xfrm flipH="1" flipV="1">
            <a:off x="6171480" y="4494960"/>
            <a:ext cx="61020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0" name="Straight Arrow Connector 17"/>
          <p:cNvCxnSpPr/>
          <p:nvPr/>
        </p:nvCxnSpPr>
        <p:spPr>
          <a:xfrm flipV="1">
            <a:off x="7161840" y="4571280"/>
            <a:ext cx="153000" cy="167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757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(ind.), let X = # of S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[X = x] = P[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r …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-67572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“S on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”,    “S on x-th draw”,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-67572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ossible ordering of S,…,S,F,…,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-67572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ncludes all other orde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ery many, but we can think of th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Straight Arrow Connector 16"/>
          <p:cNvCxnSpPr/>
          <p:nvPr/>
        </p:nvCxnSpPr>
        <p:spPr>
          <a:xfrm flipV="1">
            <a:off x="380880" y="2590920"/>
            <a:ext cx="7392240" cy="266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(ind.), let X = # of S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[X = x] = P[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r …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decompos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– or – not Rules of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(ind.), let X = # of S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[X = x] = P[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r …] = = P[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] 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j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rule     [“or”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Straight Arrow Connector 6"/>
          <p:cNvCxnSpPr/>
          <p:nvPr/>
        </p:nvCxnSpPr>
        <p:spPr>
          <a:xfrm flipV="1">
            <a:off x="380880" y="3428280"/>
            <a:ext cx="6020640" cy="1677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685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(ind.), let X = # of S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5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[X = x] = P[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r …] = = P[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] 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5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520" indent="-66852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j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rule     [“or”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52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“no overlap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Straight Arrow Connector 6"/>
          <p:cNvCxnSpPr/>
          <p:nvPr/>
        </p:nvCxnSpPr>
        <p:spPr>
          <a:xfrm flipV="1">
            <a:off x="380880" y="3428280"/>
            <a:ext cx="6020640" cy="1677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613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(ind.), let X = # of S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[X = x] = P[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r …] = = P[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] 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…P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P(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…P(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+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-66132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rule     [“and”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lt.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4"/>
          <p:cNvSpPr/>
          <p:nvPr/>
        </p:nvSpPr>
        <p:spPr>
          <a:xfrm flipH="1">
            <a:off x="380880" y="4800600"/>
            <a:ext cx="327672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8"/>
          <p:cNvSpPr/>
          <p:nvPr/>
        </p:nvSpPr>
        <p:spPr>
          <a:xfrm flipH="1" flipV="1">
            <a:off x="1371600" y="4419720"/>
            <a:ext cx="228600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9"/>
          <p:cNvSpPr/>
          <p:nvPr/>
        </p:nvSpPr>
        <p:spPr>
          <a:xfrm flipH="1">
            <a:off x="3657240" y="4419720"/>
            <a:ext cx="25909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6541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(ind.), let X = # of S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[X = x] = P[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r …] = = P[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] 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…P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P(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…P(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+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 p = P[S]          since (1-p) = P[F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1371600" y="4648320"/>
                <a:ext cx="35053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00" name="Straight Arrow Connector 7"/>
          <p:cNvCxnSpPr/>
          <p:nvPr/>
        </p:nvCxnSpPr>
        <p:spPr>
          <a:xfrm flipH="1" flipV="1">
            <a:off x="3123720" y="5257440"/>
            <a:ext cx="228672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Straight Arrow Connector 12"/>
          <p:cNvCxnSpPr/>
          <p:nvPr/>
        </p:nvCxnSpPr>
        <p:spPr>
          <a:xfrm flipH="1" flipV="1">
            <a:off x="1599480" y="5333400"/>
            <a:ext cx="151560" cy="764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6541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(ind.), let X = # of S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[X = x] = P[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r …] = = P[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] 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…P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P(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…P(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+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 x = #S’s          since (n-x) = #F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2"/>
              <p:cNvSpPr txBox="1"/>
              <p:nvPr/>
            </p:nvSpPr>
            <p:spPr>
              <a:xfrm>
                <a:off x="1371600" y="4648320"/>
                <a:ext cx="35053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05" name="Straight Arrow Connector 7"/>
          <p:cNvCxnSpPr/>
          <p:nvPr/>
        </p:nvCxnSpPr>
        <p:spPr>
          <a:xfrm flipH="1" flipV="1">
            <a:off x="3504600" y="5028480"/>
            <a:ext cx="190548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Straight Arrow Connector 12"/>
          <p:cNvCxnSpPr/>
          <p:nvPr/>
        </p:nvCxnSpPr>
        <p:spPr>
          <a:xfrm flipV="1">
            <a:off x="1751040" y="5105160"/>
            <a:ext cx="78480" cy="992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:    n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 t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experiment with outcomes “Success” and “Failure”, with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{S} =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613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(ind.), let X = # of S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[X = x] = P[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r …] = = P[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…&amp;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] 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…P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P(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…P(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+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                            =  #(term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all of these are the same, just cou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"/>
              <p:cNvSpPr txBox="1"/>
              <p:nvPr/>
            </p:nvSpPr>
            <p:spPr>
              <a:xfrm>
                <a:off x="1371600" y="4648320"/>
                <a:ext cx="33098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10" name="Straight Arrow Connector 7"/>
          <p:cNvCxnSpPr/>
          <p:nvPr/>
        </p:nvCxnSpPr>
        <p:spPr>
          <a:xfrm flipH="1" flipV="1">
            <a:off x="6324120" y="5333400"/>
            <a:ext cx="915120" cy="61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Straight Arrow Connector 12"/>
          <p:cNvCxnSpPr/>
          <p:nvPr/>
        </p:nvCxnSpPr>
        <p:spPr>
          <a:xfrm flipH="1" flipV="1">
            <a:off x="2437560" y="5409720"/>
            <a:ext cx="38196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6746760" y="4724280"/>
                <a:ext cx="23972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(ind.), let X = # of S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[X = x] = #(ter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ways to order  S …S F …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Straight Arrow Connector 12"/>
          <p:cNvCxnSpPr/>
          <p:nvPr/>
        </p:nvCxnSpPr>
        <p:spPr>
          <a:xfrm flipV="1">
            <a:off x="685800" y="2742480"/>
            <a:ext cx="1829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3733920" y="2057400"/>
                <a:ext cx="23968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(ind.), let X = # of S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[X = x] = #(ter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ways to order  S …S F …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 have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lo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Straight Arrow Connector 12"/>
          <p:cNvCxnSpPr/>
          <p:nvPr/>
        </p:nvCxnSpPr>
        <p:spPr>
          <a:xfrm flipV="1">
            <a:off x="685800" y="2742480"/>
            <a:ext cx="1829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20" name="Object 3"/>
              <p:cNvSpPr txBox="1"/>
              <p:nvPr/>
            </p:nvSpPr>
            <p:spPr>
              <a:xfrm>
                <a:off x="3733920" y="2057400"/>
                <a:ext cx="23968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1" name="Straight Connector 7"/>
          <p:cNvSpPr/>
          <p:nvPr/>
        </p:nvSpPr>
        <p:spPr>
          <a:xfrm flipV="1">
            <a:off x="5103000" y="3733560"/>
            <a:ext cx="1800" cy="61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10"/>
          <p:cNvSpPr/>
          <p:nvPr/>
        </p:nvSpPr>
        <p:spPr>
          <a:xfrm flipV="1">
            <a:off x="5105520" y="3581280"/>
            <a:ext cx="99036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14"/>
          <p:cNvSpPr/>
          <p:nvPr/>
        </p:nvSpPr>
        <p:spPr>
          <a:xfrm>
            <a:off x="3962520" y="3581280"/>
            <a:ext cx="114300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(ind.), let X = # of S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[X = x] = #(ter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ways to order  S …S F …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 have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lo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o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of them to in which to put 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Straight Arrow Connector 12"/>
          <p:cNvCxnSpPr/>
          <p:nvPr/>
        </p:nvCxnSpPr>
        <p:spPr>
          <a:xfrm flipV="1">
            <a:off x="685800" y="2742480"/>
            <a:ext cx="1829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27" name="Object 3"/>
              <p:cNvSpPr txBox="1"/>
              <p:nvPr/>
            </p:nvSpPr>
            <p:spPr>
              <a:xfrm>
                <a:off x="3733920" y="2057400"/>
                <a:ext cx="23968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8" name="Straight Connector 7"/>
          <p:cNvSpPr/>
          <p:nvPr/>
        </p:nvSpPr>
        <p:spPr>
          <a:xfrm flipV="1">
            <a:off x="5103000" y="3733560"/>
            <a:ext cx="1800" cy="61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0"/>
          <p:cNvSpPr/>
          <p:nvPr/>
        </p:nvSpPr>
        <p:spPr>
          <a:xfrm flipV="1">
            <a:off x="5105520" y="3581280"/>
            <a:ext cx="99036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14"/>
          <p:cNvSpPr/>
          <p:nvPr/>
        </p:nvSpPr>
        <p:spPr>
          <a:xfrm>
            <a:off x="3962520" y="3581280"/>
            <a:ext cx="114300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(ind.), let X = # of S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[X = x] = #(ter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ways to order  S …S F …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 have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lo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o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of them to in which to put 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have       #(terms)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Straight Arrow Connector 12"/>
          <p:cNvCxnSpPr/>
          <p:nvPr/>
        </p:nvCxnSpPr>
        <p:spPr>
          <a:xfrm flipV="1">
            <a:off x="685800" y="2742480"/>
            <a:ext cx="1829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3733920" y="2057400"/>
                <a:ext cx="23968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3"/>
              <p:cNvSpPr txBox="1"/>
              <p:nvPr/>
            </p:nvSpPr>
            <p:spPr>
              <a:xfrm>
                <a:off x="5562720" y="5562720"/>
                <a:ext cx="67788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6" name="Straight Connector 7"/>
          <p:cNvSpPr/>
          <p:nvPr/>
        </p:nvSpPr>
        <p:spPr>
          <a:xfrm flipV="1">
            <a:off x="5103000" y="3733560"/>
            <a:ext cx="1800" cy="61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10"/>
          <p:cNvSpPr/>
          <p:nvPr/>
        </p:nvSpPr>
        <p:spPr>
          <a:xfrm flipV="1">
            <a:off x="5105520" y="3581280"/>
            <a:ext cx="99036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traight Connector 14"/>
          <p:cNvSpPr/>
          <p:nvPr/>
        </p:nvSpPr>
        <p:spPr>
          <a:xfrm>
            <a:off x="3962520" y="3581280"/>
            <a:ext cx="114300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6472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(ind.), let X = # of S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[X = x] = #(ter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formula that work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n, p,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Straight Arrow Connector 12"/>
          <p:cNvCxnSpPr/>
          <p:nvPr/>
        </p:nvCxnSpPr>
        <p:spPr>
          <a:xfrm flipV="1">
            <a:off x="1065600" y="4266360"/>
            <a:ext cx="1296360" cy="1296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42" name="Object 3"/>
              <p:cNvSpPr txBox="1"/>
              <p:nvPr/>
            </p:nvSpPr>
            <p:spPr>
              <a:xfrm>
                <a:off x="3733920" y="2057400"/>
                <a:ext cx="23968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2362320" y="3048120"/>
                <a:ext cx="2832120" cy="13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9724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(ind.), let X = # of S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[X = x] = #(ter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Probability Distribution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 any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3733920" y="2057400"/>
                <a:ext cx="23968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2362320" y="3048120"/>
                <a:ext cx="2832120" cy="13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4"/>
              <p:cNvSpPr txBox="1"/>
              <p:nvPr/>
            </p:nvSpPr>
            <p:spPr>
              <a:xfrm>
                <a:off x="2362320" y="4572000"/>
                <a:ext cx="9684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(ind.), let X = # of S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plet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4"/>
              <p:cNvSpPr txBox="1"/>
              <p:nvPr/>
            </p:nvSpPr>
            <p:spPr>
              <a:xfrm>
                <a:off x="1447920" y="2895480"/>
                <a:ext cx="6521400" cy="19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  <m:sSup>
                                <m:e>
                                  <m:r>
                                    <m:t xml:space="preserve">p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p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(S or F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(ind.), let X = # of S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plet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generally assume    is understood, &amp;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4"/>
              <p:cNvSpPr txBox="1"/>
              <p:nvPr/>
            </p:nvSpPr>
            <p:spPr>
              <a:xfrm>
                <a:off x="1447920" y="2895480"/>
                <a:ext cx="6521400" cy="19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  <m:sSup>
                                <m:e>
                                  <m:r>
                                    <m:t xml:space="preserve">p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p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2590920" y="5518080"/>
                <a:ext cx="4098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356" name="Straight Arrow Connector 6"/>
          <p:cNvCxnSpPr/>
          <p:nvPr/>
        </p:nvCxnSpPr>
        <p:spPr>
          <a:xfrm flipV="1">
            <a:off x="4419360" y="4647600"/>
            <a:ext cx="160092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7"/>
          <p:cNvCxnSpPr/>
          <p:nvPr/>
        </p:nvCxnSpPr>
        <p:spPr>
          <a:xfrm flipH="1" flipV="1">
            <a:off x="4343400" y="4647600"/>
            <a:ext cx="7668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. Dist’n Fu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~ Bi(n,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ability for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umming over appropriat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4"/>
              <p:cNvSpPr txBox="1"/>
              <p:nvPr/>
            </p:nvSpPr>
            <p:spPr>
              <a:xfrm>
                <a:off x="3124080" y="838080"/>
                <a:ext cx="4098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:    n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 t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experiment with outcomes “Success” and “Failure”, with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{S} =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 X = #S’s  has a “Binomial(n,p) distribution”, and write   “X ~ Bi(n,p)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of Bi. Pro. Dist.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 A system fails if any 3 of 5 independent components f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3124080" y="838080"/>
                <a:ext cx="4098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of Bi. Pro. Dist.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 A system fails if any 3 of 5 independent components f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etup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liability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3124080" y="838080"/>
                <a:ext cx="4098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of Bi. Pro. Dist.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 A system fails if any 3 of 5 independent components f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etup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liability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n things “really need to wor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ircraft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4"/>
              <p:cNvSpPr txBox="1"/>
              <p:nvPr/>
            </p:nvSpPr>
            <p:spPr>
              <a:xfrm>
                <a:off x="3124080" y="838080"/>
                <a:ext cx="4098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of Bi. Pro. Dist.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 A system fails if any 3 of 5 independent components f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ach component works 99% of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4"/>
              <p:cNvSpPr txBox="1"/>
              <p:nvPr/>
            </p:nvSpPr>
            <p:spPr>
              <a:xfrm>
                <a:off x="3124080" y="838080"/>
                <a:ext cx="4098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of Bi. Pro. Dist.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 A system fails if any 3 of 5 independent components f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ach component works 99% of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ikely is the system to break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4"/>
              <p:cNvSpPr txBox="1"/>
              <p:nvPr/>
            </p:nvSpPr>
            <p:spPr>
              <a:xfrm>
                <a:off x="3124080" y="838080"/>
                <a:ext cx="4098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of Bi. Pro. Dist.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 Sys. F if 3 of 5 F, each works 99%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ikely is the system to break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4"/>
              <p:cNvSpPr txBox="1"/>
              <p:nvPr/>
            </p:nvSpPr>
            <p:spPr>
              <a:xfrm>
                <a:off x="3124080" y="838080"/>
                <a:ext cx="4098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of Bi. Pro. Dist.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 Sys. F if 3 of 5 F, each works 99%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ikely is the system to break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#F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3124080" y="838080"/>
                <a:ext cx="4098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of Bi. Pro. Dist.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 Sys. F if 3 of 5 F, each works 99%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ikely is the system to break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#F’s,      model  X ~ Bi(5,0.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4"/>
              <p:cNvSpPr txBox="1"/>
              <p:nvPr/>
            </p:nvSpPr>
            <p:spPr>
              <a:xfrm>
                <a:off x="3124080" y="838080"/>
                <a:ext cx="4098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of Bi. Pro. Dist.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 Sys. F if 3 of 5 F, each works 99%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ikely is the system to break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#F’s,      model  X ~ Bi(5,0.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n = # of trials (repeats of experim’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4"/>
              <p:cNvSpPr txBox="1"/>
              <p:nvPr/>
            </p:nvSpPr>
            <p:spPr>
              <a:xfrm>
                <a:off x="3124080" y="838080"/>
                <a:ext cx="4098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397" name="Straight Arrow Connector 6"/>
          <p:cNvCxnSpPr/>
          <p:nvPr/>
        </p:nvCxnSpPr>
        <p:spPr>
          <a:xfrm flipV="1">
            <a:off x="380880" y="4494960"/>
            <a:ext cx="548712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of Bi. Pro. Dist.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 Sys. F if 3 of 5 F, each works 99%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ikely is the system to break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#F’s,      model  X ~ Bi(5,0.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assumed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3124080" y="838080"/>
                <a:ext cx="4098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:    n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 t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experiment with outcomes “Success” and “Failure”, with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{S} =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 X = #S’s  has a “Binomial(n,p) distribution”, and write   “X ~ Bi(n,p)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“parame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ally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m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istrib’ns, indexed by n &amp; 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4"/>
          <p:cNvCxnSpPr/>
          <p:nvPr/>
        </p:nvCxnSpPr>
        <p:spPr>
          <a:xfrm flipV="1">
            <a:off x="6552000" y="4647960"/>
            <a:ext cx="22932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5"/>
          <p:cNvCxnSpPr/>
          <p:nvPr/>
        </p:nvCxnSpPr>
        <p:spPr>
          <a:xfrm flipV="1">
            <a:off x="6553080" y="4723560"/>
            <a:ext cx="45792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Straight Connector 9"/>
          <p:cNvSpPr/>
          <p:nvPr/>
        </p:nvSpPr>
        <p:spPr>
          <a:xfrm flipV="1">
            <a:off x="457200" y="4952520"/>
            <a:ext cx="609588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of Bi. Pro. Dist.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 Sys. F if 3 of 5 F, each works 99%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ikely is the system to break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#F’s,      model  X ~ Bi(5,0.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p = P(“S”), on each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orks 99%, so fails 1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4"/>
              <p:cNvSpPr txBox="1"/>
              <p:nvPr/>
            </p:nvSpPr>
            <p:spPr>
              <a:xfrm>
                <a:off x="3124080" y="838080"/>
                <a:ext cx="4098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404" name="Straight Arrow Connector 6"/>
          <p:cNvCxnSpPr/>
          <p:nvPr/>
        </p:nvCxnSpPr>
        <p:spPr>
          <a:xfrm flipV="1">
            <a:off x="380520" y="4495320"/>
            <a:ext cx="5792040" cy="106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of Bi. Pro. Dist.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757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 Sys. F if 3 of 5 F, each works 99%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ikely is the system to break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#F’s,      model  X ~ Bi(5,0.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75720" indent="-67572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S can in fact be “Failure of comp’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usual intu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4"/>
              <p:cNvSpPr txBox="1"/>
              <p:nvPr/>
            </p:nvSpPr>
            <p:spPr>
              <a:xfrm>
                <a:off x="3124080" y="838080"/>
                <a:ext cx="4098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408" name="Straight Arrow Connector 6"/>
          <p:cNvCxnSpPr/>
          <p:nvPr/>
        </p:nvCxnSpPr>
        <p:spPr>
          <a:xfrm flipV="1">
            <a:off x="380520" y="4494960"/>
            <a:ext cx="160092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of Bi. Pro. Dist.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757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 Sys. F if 3 of 5 F, each works 99%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ikely is the system to break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#F’s,      model  X ~ Bi(5,0.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75720" indent="-67572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S can in fact be “Failure of comp’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t is just one outcome of exp’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4"/>
              <p:cNvSpPr txBox="1"/>
              <p:nvPr/>
            </p:nvSpPr>
            <p:spPr>
              <a:xfrm>
                <a:off x="3124080" y="838080"/>
                <a:ext cx="4098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412" name="Straight Arrow Connector 6"/>
          <p:cNvCxnSpPr/>
          <p:nvPr/>
        </p:nvCxnSpPr>
        <p:spPr>
          <a:xfrm flipV="1">
            <a:off x="380520" y="4494960"/>
            <a:ext cx="160092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of Bi. Pro. Dist.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 Sys. F if 3 of 5 F, each works 99%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ikely is the system to break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[system breaks down] = P[X ≥ 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X~Bi(5,0.01) cou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4"/>
              <p:cNvSpPr txBox="1"/>
              <p:nvPr/>
            </p:nvSpPr>
            <p:spPr>
              <a:xfrm>
                <a:off x="3124080" y="838080"/>
                <a:ext cx="4098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417" name="Straight Arrow Connector 6"/>
          <p:cNvCxnSpPr/>
          <p:nvPr/>
        </p:nvCxnSpPr>
        <p:spPr>
          <a:xfrm flipV="1">
            <a:off x="3352680" y="4571640"/>
            <a:ext cx="1905840" cy="1372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of Bi. Pro. Dist.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 Sys. F if 3 of 5 F, each works 99%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ikely is the system to break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[system breaks down] = P[X ≥ 3]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m of prob. dist. func. over x ≥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4"/>
              <p:cNvSpPr txBox="1"/>
              <p:nvPr/>
            </p:nvSpPr>
            <p:spPr>
              <a:xfrm>
                <a:off x="3124080" y="838080"/>
                <a:ext cx="4098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4"/>
              <p:cNvSpPr txBox="1"/>
              <p:nvPr/>
            </p:nvSpPr>
            <p:spPr>
              <a:xfrm>
                <a:off x="1066680" y="4648320"/>
                <a:ext cx="36514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of Bi. Pro. Dist.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 Sys. F if 3 of 5 F, each works 99%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ikely is the system to break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[system breaks down] = P[X ≥ 3]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4"/>
              <p:cNvSpPr txBox="1"/>
              <p:nvPr/>
            </p:nvSpPr>
            <p:spPr>
              <a:xfrm>
                <a:off x="3124080" y="838080"/>
                <a:ext cx="4098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4"/>
              <p:cNvSpPr txBox="1"/>
              <p:nvPr/>
            </p:nvSpPr>
            <p:spPr>
              <a:xfrm>
                <a:off x="1066680" y="4648320"/>
                <a:ext cx="36514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5"/>
              <p:cNvSpPr txBox="1"/>
              <p:nvPr/>
            </p:nvSpPr>
            <p:spPr>
              <a:xfrm>
                <a:off x="1066680" y="5257800"/>
                <a:ext cx="792504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of Bi. Pro. Dist.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 Sys. F if 3 of 5 F, each works 99%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ikely is the system to break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[system breaks down] = P[X ≥ 3]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4"/>
              <p:cNvSpPr txBox="1"/>
              <p:nvPr/>
            </p:nvSpPr>
            <p:spPr>
              <a:xfrm>
                <a:off x="3124080" y="838080"/>
                <a:ext cx="4098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4"/>
              <p:cNvSpPr txBox="1"/>
              <p:nvPr/>
            </p:nvSpPr>
            <p:spPr>
              <a:xfrm>
                <a:off x="1066680" y="4648320"/>
                <a:ext cx="36514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5"/>
              <p:cNvSpPr txBox="1"/>
              <p:nvPr/>
            </p:nvSpPr>
            <p:spPr>
              <a:xfrm>
                <a:off x="1066680" y="5257800"/>
                <a:ext cx="792504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6"/>
              <p:cNvSpPr txBox="1"/>
              <p:nvPr/>
            </p:nvSpPr>
            <p:spPr>
              <a:xfrm>
                <a:off x="1066680" y="6095880"/>
                <a:ext cx="2533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of Bi. Pro. Dist.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6472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 Sys. F if 3 of 5 F, each works 99%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ikely is the system to break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[system breaks down] = P[X ≥ 3]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:  great 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2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4"/>
              <p:cNvSpPr txBox="1"/>
              <p:nvPr/>
            </p:nvSpPr>
            <p:spPr>
              <a:xfrm>
                <a:off x="3124080" y="838080"/>
                <a:ext cx="4098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3"/>
              <p:cNvSpPr txBox="1"/>
              <p:nvPr/>
            </p:nvSpPr>
            <p:spPr>
              <a:xfrm>
                <a:off x="1066680" y="4648320"/>
                <a:ext cx="36514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5"/>
              <p:cNvSpPr txBox="1"/>
              <p:nvPr/>
            </p:nvSpPr>
            <p:spPr>
              <a:xfrm>
                <a:off x="1066680" y="5257800"/>
                <a:ext cx="792504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6"/>
              <p:cNvSpPr txBox="1"/>
              <p:nvPr/>
            </p:nvSpPr>
            <p:spPr>
              <a:xfrm>
                <a:off x="1066680" y="6095880"/>
                <a:ext cx="2533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of Bi. Pro. Dist.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 C 12:   A factory makes 10% defective items &amp; items are independently def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y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gr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sumption, because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of defects will gi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efe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of Bi. Pro. Dist.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 C 12:   A factory makes 10% defective items &amp; items are independently def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y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gr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sumption, because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of defects will gi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efe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ut can call this an “approximate model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amp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” is “draw a sample memb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” is “vote for Candidate 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” is proportion in population fo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e unknown, and goal of po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?  (sin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lac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of Bi. Pro. Dist.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 C 12:   A factory makes 10% defective items &amp; items are independently def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nd P{9 or more good items in 1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ing X = # good items, and Binomial probability distribution function.  (0.73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int:  consider “not” r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of Bi. Pro. Dist.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 C 12:   A factory makes 10% defective items &amp; items are independently def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nd P{9 or more good items in 1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ing X = # good items, and Binomial probability distribution function.  (0.73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ing X = # bad items, and Binomial probability distribution function. (0.73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of Bi. Pro. Dist.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6132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 C 12:   A factory makes 10% defective items &amp; items are independently def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nd P{9 or more good items in 1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-661320">
              <a:lnSpc>
                <a:spcPct val="130000"/>
              </a:lnSpc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ing X = # good items, and Binomial probability distribution function.  (0.73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-661320">
              <a:lnSpc>
                <a:spcPct val="130000"/>
              </a:lnSpc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ing X = # bad items, and Binomial probability distribution function. (0.73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will soon see easier way to do this, but please use Bi. P. D. F.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l Imaging – A Challenging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l Imaging – A Challenging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le Pel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adder – Prostate – Rec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l Imaging – A Challenging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le Pel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adder – Prostate – Rec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 they move over time (day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tical to Radiation 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e.g. Prostate Canc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l Imaging – A Challenging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le Pel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adder – Prostate – Rec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 they move over time (day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tical to Radiation 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 with 3-d 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“Computed Tomography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3d version of X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l Imaging – A Challenging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le Pel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adder – Prostate – Rec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 they move over time (day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tical to Radiation Treatment 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 with 3-d 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allenging to “Seg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d boundary of each o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resent each O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l Imaging – A Challenging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le Pel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adder – Prostate – Rec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 they move over time (day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tical to Radiation Treatment 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 with 3-d 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allenging to “Seg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d boundary of each o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resent each O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e Pelvis – Raw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666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CT S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 3d im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ccy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ail B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3" descr="BladderProstateRectumRawCT.JPG"/>
          <p:cNvPicPr/>
          <p:nvPr/>
        </p:nvPicPr>
        <p:blipFill>
          <a:blip r:embed="rId1"/>
          <a:srcRect l="1566" t="17092" r="1566" b="17092"/>
          <a:stretch/>
        </p:blipFill>
        <p:spPr>
          <a:xfrm>
            <a:off x="3200400" y="1981080"/>
            <a:ext cx="5656320" cy="4226040"/>
          </a:xfrm>
          <a:prstGeom prst="rect">
            <a:avLst/>
          </a:prstGeom>
          <a:ln w="0">
            <a:noFill/>
          </a:ln>
        </p:spPr>
      </p:pic>
      <p:cxnSp>
        <p:nvCxnSpPr>
          <p:cNvPr id="467" name="Straight Arrow Connector 5"/>
          <p:cNvCxnSpPr/>
          <p:nvPr/>
        </p:nvCxnSpPr>
        <p:spPr>
          <a:xfrm flipV="1">
            <a:off x="1676520" y="3200040"/>
            <a:ext cx="6401520" cy="83880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stealth" w="lg"/>
          </a:ln>
        </p:spPr>
      </p:cxnSp>
      <p:cxnSp>
        <p:nvCxnSpPr>
          <p:cNvPr id="468" name="Straight Arrow Connector 9"/>
          <p:cNvCxnSpPr/>
          <p:nvPr/>
        </p:nvCxnSpPr>
        <p:spPr>
          <a:xfrm flipV="1">
            <a:off x="1752120" y="3351960"/>
            <a:ext cx="4343760" cy="213444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stealth" w="lg"/>
          </a:ln>
        </p:spPr>
      </p:cxnSp>
      <p:cxnSp>
        <p:nvCxnSpPr>
          <p:cNvPr id="469" name="Straight Arrow Connector 10"/>
          <p:cNvCxnSpPr/>
          <p:nvPr/>
        </p:nvCxnSpPr>
        <p:spPr>
          <a:xfrm flipV="1">
            <a:off x="1828440" y="4190760"/>
            <a:ext cx="3963240" cy="205776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amp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” is “draw a sample memb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” is “vote for Candidate 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” is proportion in population fo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e unknown, and goal of po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?  (sin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lac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#(for A)  has a Binomial(n,p)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e Pelvis – Raw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479240"/>
            <a:ext cx="26668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d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nual 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ce by s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sem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7" descr="BladderProstateRectumCTHandSegment.JPG"/>
          <p:cNvPicPr/>
          <p:nvPr/>
        </p:nvPicPr>
        <p:blipFill>
          <a:blip r:embed="rId1"/>
          <a:srcRect l="1574" t="24579" r="1574" b="5783"/>
          <a:stretch/>
        </p:blipFill>
        <p:spPr>
          <a:xfrm>
            <a:off x="3216240" y="1782720"/>
            <a:ext cx="56260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e Pelvis – Raw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28600" y="1479240"/>
            <a:ext cx="46483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d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sembled in 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w to repres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:  Ja-Yeon Je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4" descr="BladderProstateRectumHandSegment.JPG"/>
          <p:cNvPicPr/>
          <p:nvPr/>
        </p:nvPicPr>
        <p:blipFill>
          <a:blip r:embed="rId1"/>
          <a:srcRect l="34453" t="18516" r="1566" b="7122"/>
          <a:stretch/>
        </p:blipFill>
        <p:spPr>
          <a:xfrm>
            <a:off x="4983120" y="1627200"/>
            <a:ext cx="37353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-d m-r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5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2783160" cy="31100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9" descr=""/>
          <p:cNvPicPr/>
          <p:nvPr/>
        </p:nvPicPr>
        <p:blipFill>
          <a:blip r:embed="rId2"/>
          <a:stretch/>
        </p:blipFill>
        <p:spPr>
          <a:xfrm>
            <a:off x="3276720" y="3352680"/>
            <a:ext cx="2746080" cy="30704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2"/>
          <p:cNvSpPr/>
          <p:nvPr/>
        </p:nvSpPr>
        <p:spPr>
          <a:xfrm>
            <a:off x="685800" y="14479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3"/>
          <p:cNvSpPr/>
          <p:nvPr/>
        </p:nvSpPr>
        <p:spPr>
          <a:xfrm>
            <a:off x="228600" y="1447920"/>
            <a:ext cx="86104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dder – Prostate – Rectum    (multiple objects, J. Y. Jeo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l Atoms provide “skelet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ied Boundary from “spokes” 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“surfa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 level variation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 level variation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ach:  Principal Geodesic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“modes of vari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 level variation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ach:  Principal Geodesic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“modes of vari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ered by “magnitude of vari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 level variation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ach:  Principal Geodesic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“modes of vari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ered by “magnitude of vari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“independent of each o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 level variation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ach:  Principal Geodesic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“modes of vari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ered by “magnitude of vari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“independent of each o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question for us:  how to quantify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GA for m-reps, Bladder-Prostate-Rec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31440" y="1479600"/>
            <a:ext cx="80550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dder – Prostate – Rectum,  1 person, 17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G 1                   PG 2                  PG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nalysis by Ja Yeon Jeo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4" descr=""/>
          <p:cNvPicPr/>
          <p:nvPr/>
        </p:nvPicPr>
        <p:blipFill>
          <a:blip r:embed="rId1"/>
          <a:stretch/>
        </p:blipFill>
        <p:spPr>
          <a:xfrm>
            <a:off x="327672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6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8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2716200" cy="30355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2" descr=""/>
          <p:cNvPicPr/>
          <p:nvPr/>
        </p:nvPicPr>
        <p:blipFill>
          <a:blip r:embed="rId4"/>
          <a:stretch/>
        </p:blipFill>
        <p:spPr>
          <a:xfrm>
            <a:off x="380880" y="3352680"/>
            <a:ext cx="26942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GA for m-reps, Bladder-Prostate-Rec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31440" y="1479600"/>
            <a:ext cx="80550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dder – Prostate – Rectum,  1 person, 17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G 1                   PG 2                  PG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nalysis by Ja Yeon Jeo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"/>
          <a:stretch/>
        </p:blipFill>
        <p:spPr>
          <a:xfrm>
            <a:off x="327672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27162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amp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of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 changes probs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S) o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 is no longer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gain depends on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#(for A)  is NOT B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GA for m-reps, Bladder-Prostate-Rec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31440" y="1479600"/>
            <a:ext cx="80550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dder – Prostate – Rectum,  1 person, 17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G 1                   PG 2                  PG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nalysis by Ja Yeon Jeo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"/>
          <p:cNvPicPr/>
          <p:nvPr/>
        </p:nvPicPr>
        <p:blipFill>
          <a:blip r:embed="rId1"/>
          <a:stretch/>
        </p:blipFill>
        <p:spPr>
          <a:xfrm>
            <a:off x="327672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6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2716200" cy="30355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"/>
          <p:cNvPicPr/>
          <p:nvPr/>
        </p:nvPicPr>
        <p:blipFill>
          <a:blip r:embed="rId4"/>
          <a:stretch/>
        </p:blipFill>
        <p:spPr>
          <a:xfrm>
            <a:off x="380880" y="3352680"/>
            <a:ext cx="2692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many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many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powerful method of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Binomial probability dist’n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sum over neede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many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powerful method of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a little painful to 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is involved (not easy hand calcu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be very many terms (e.g. political po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many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powerful method of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a little painful to 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summa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many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powerful method of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a little painful to 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summa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Approach:    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6248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Approach:    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somebody else calculates “many Binomial probabilities”, and stores results you can look 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526" name="Picture 3" descr=""/>
          <p:cNvPicPr/>
          <p:nvPr/>
        </p:nvPicPr>
        <p:blipFill>
          <a:blip r:embed="rId1"/>
          <a:srcRect l="58916" t="47670" r="6545" b="5297"/>
          <a:stretch/>
        </p:blipFill>
        <p:spPr>
          <a:xfrm>
            <a:off x="7086600" y="2286000"/>
            <a:ext cx="1855800" cy="4162320"/>
          </a:xfrm>
          <a:prstGeom prst="rect">
            <a:avLst/>
          </a:prstGeom>
          <a:ln w="0">
            <a:noFill/>
          </a:ln>
        </p:spPr>
      </p:pic>
      <p:cxnSp>
        <p:nvCxnSpPr>
          <p:cNvPr id="527" name="Straight Arrow Connector 6"/>
          <p:cNvCxnSpPr/>
          <p:nvPr/>
        </p:nvCxnSpPr>
        <p:spPr>
          <a:xfrm>
            <a:off x="2590560" y="4419720"/>
            <a:ext cx="42678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6248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Approach:    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ur Text:    Tabl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531" name="Picture 3" descr=""/>
          <p:cNvPicPr/>
          <p:nvPr/>
        </p:nvPicPr>
        <p:blipFill>
          <a:blip r:embed="rId1"/>
          <a:srcRect l="58916" t="47670" r="6545" b="5297"/>
          <a:stretch/>
        </p:blipFill>
        <p:spPr>
          <a:xfrm>
            <a:off x="7086600" y="2286000"/>
            <a:ext cx="18558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6248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Approach:    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ur Text:    Tabl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Indexed by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Binomial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xed fam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ist’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535" name="Picture 3" descr=""/>
          <p:cNvPicPr/>
          <p:nvPr/>
        </p:nvPicPr>
        <p:blipFill>
          <a:blip r:embed="rId1"/>
          <a:srcRect l="58916" t="47670" r="6545" b="5297"/>
          <a:stretch/>
        </p:blipFill>
        <p:spPr>
          <a:xfrm>
            <a:off x="7086600" y="2286000"/>
            <a:ext cx="1855800" cy="4162320"/>
          </a:xfrm>
          <a:prstGeom prst="rect">
            <a:avLst/>
          </a:prstGeom>
          <a:ln w="0">
            <a:noFill/>
          </a:ln>
        </p:spPr>
      </p:pic>
      <p:cxnSp>
        <p:nvCxnSpPr>
          <p:cNvPr id="536" name="Straight Arrow Connector 6"/>
          <p:cNvCxnSpPr/>
          <p:nvPr/>
        </p:nvCxnSpPr>
        <p:spPr>
          <a:xfrm>
            <a:off x="4114800" y="3200040"/>
            <a:ext cx="312480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7" name="Straight Arrow Connector 9"/>
          <p:cNvCxnSpPr/>
          <p:nvPr/>
        </p:nvCxnSpPr>
        <p:spPr>
          <a:xfrm flipV="1">
            <a:off x="4038480" y="3123360"/>
            <a:ext cx="426816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6248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Approach:    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ur Text:    Tabl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Indexed by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an inp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read off P[X≤k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541" name="Picture 3" descr=""/>
          <p:cNvPicPr/>
          <p:nvPr/>
        </p:nvPicPr>
        <p:blipFill>
          <a:blip r:embed="rId1"/>
          <a:srcRect l="58916" t="47670" r="6545" b="5297"/>
          <a:stretch/>
        </p:blipFill>
        <p:spPr>
          <a:xfrm>
            <a:off x="7086600" y="2286000"/>
            <a:ext cx="1855800" cy="4162320"/>
          </a:xfrm>
          <a:prstGeom prst="rect">
            <a:avLst/>
          </a:prstGeom>
          <a:ln w="0">
            <a:noFill/>
          </a:ln>
        </p:spPr>
      </p:pic>
      <p:cxnSp>
        <p:nvCxnSpPr>
          <p:cNvPr id="542" name="Straight Arrow Connector 6"/>
          <p:cNvCxnSpPr/>
          <p:nvPr/>
        </p:nvCxnSpPr>
        <p:spPr>
          <a:xfrm>
            <a:off x="4114800" y="3200040"/>
            <a:ext cx="312480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3" name="Straight Arrow Connector 9"/>
          <p:cNvCxnSpPr/>
          <p:nvPr/>
        </p:nvCxnSpPr>
        <p:spPr>
          <a:xfrm flipV="1">
            <a:off x="4038480" y="3123360"/>
            <a:ext cx="426816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7"/>
          <p:cNvCxnSpPr/>
          <p:nvPr/>
        </p:nvCxnSpPr>
        <p:spPr>
          <a:xfrm flipV="1">
            <a:off x="3733920" y="4114440"/>
            <a:ext cx="4039200" cy="53424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45" name="Straight Arrow Connector 11"/>
          <p:cNvCxnSpPr/>
          <p:nvPr/>
        </p:nvCxnSpPr>
        <p:spPr>
          <a:xfrm flipV="1">
            <a:off x="4723920" y="4114440"/>
            <a:ext cx="3506040" cy="129600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amp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of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 changes probs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S) o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 is no longer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gain depends on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#(for A)  is NOT B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though approximately true for large pop’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ical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bles were constructed well before modern computers (1910s – 1930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ical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bles were constructed well before modern computers (1910s – 1930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was it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ical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bles were constructed well before modern computers (1910s – 1930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was it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in To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chanical calc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hand powe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did repeated add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5162400" y="3200400"/>
            <a:ext cx="3772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ical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was a “computer” in the early 1900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ical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was a “computer” in the early 1900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the term did exis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ical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was a “computer” in the early 1900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the term did exis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(human) job tit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ical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was a “computer” in the early 1900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the term did exis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(human) job tit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bles made by (carefully organiz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ooms full of people, all using mecha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nd calcu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storical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was a “computer” in the early 1900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the term did exis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(human) job tit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bles made by (carefully organiz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ooms full of people, all using mecha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nd calcu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ep math was used for allocating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many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powerful method of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a little painful to 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summa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 Approach:    Computers (electro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many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powerful method of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a little painful to 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summa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 Approach:   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xcel:     BINOMDIST 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marron</dc:creator>
  <dc:description/>
  <dc:language>en-US</dc:language>
  <cp:lastModifiedBy>marron</cp:lastModifiedBy>
  <dcterms:modified xsi:type="dcterms:W3CDTF">2009-02-08T00:30:35Z</dcterms:modified>
  <cp:revision>408</cp:revision>
  <dc:subject/>
  <dc:title>Slide 1</dc:title>
</cp:coreProperties>
</file>