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179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6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1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67B8-EB9C-4EBD-9958-0740E0DA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4C66-6552-4C10-A04E-F1B3E576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945F-8587-44EF-B4D8-036719618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D9CD-CD9B-43D8-847F-5EDC2AAF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278B-011F-48E4-A27D-E4229F060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A064-49D6-4E73-B92C-310DD4D60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E063-61C5-4869-B624-F086693F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E3F-72EA-42EF-8048-877E0E4D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9A2D-08A7-4CD2-B1DB-15CB2D77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BFB0-F76A-41F3-8E9E-B969BBB51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E887-0432-43FE-B645-211211B0D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C587-4443-4678-AEE4-BFF6F128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C7F8-30C8-406D-8B42-5C845FEF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6ADA-758F-410A-84D1-21C73A8A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82D6-66B6-4986-B42D-CCD27907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DB66-C1C2-4199-B552-5EEDC6DAE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1892-6C3A-4A8A-8533-D13215BE7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5124-0784-426A-9E0D-AC3EA7F9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B9E2-B41E-4D5D-B596-78637066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6D05-9F54-4F82-8760-63CCC7BE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7104-7D20-4CF1-93B4-84C3B3F3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DE8B-6CF8-46EB-8334-27F8D734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5E94-9081-426F-A3CC-64053F0AF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2FC2-093F-42F3-B5CA-7F34AEEE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AF33-6532-4526-8AE7-B1B228A42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2E6C-86F8-4CF1-8E20-53A8C3D9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A0C4-B60D-4B58-8529-A0F208B5D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37CB-394C-47E8-9D00-B08B134F8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71D5-4C33-4C76-9250-35B603B9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6544-410D-4335-9B6D-FFA4C27F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8EAE-9834-43C8-8C94-6050EC2BF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1FB0-D5AA-429A-9020-53D277CB8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1508-5AED-41B7-94C6-BE649BD7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971E-CC33-42E1-B1DA-FFA96B91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4986-4297-4BFF-926B-090D1B15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95E2-10CA-478F-BC54-44EAE472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E60C-935F-4062-B4B0-9DA247F1E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B1E5-0E5F-4B4F-9C34-C793DFA7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314F-F97B-4FCF-809C-F02A8D21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D950-F181-49ED-97B8-C182EE424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7A08-032C-4480-85AC-9565C1DE3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2984-1874-401A-A690-46A1210F5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857E-1263-4C9D-96BF-91E884460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7F42-B1FF-4427-8EA1-C46F1E84A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1F03-86B2-4AAB-BC80-ED7E4BD2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5144-D72D-4C20-AE8A-AFFCC1B14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38F-0DA4-424E-B6A9-7586B93A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CB90-8738-4347-8456-533B631B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3FE-7B36-45FA-9CAD-33C515E5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0BE2-7714-457B-A47B-DD209A62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7BB7-E866-46E7-AD96-8FFE0FD0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558D-98CB-488C-ACFC-ADBBF1DB5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6C59-1714-4372-A6B5-91231BCF0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AE84-1F0B-475B-BA2E-3DEA4FD5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05C-6D35-4564-AE52-D0B45E07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2909-CD00-4EC5-BA70-37872BA49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487B-C488-474C-815B-CBD596996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586F-74E8-45A7-8AD0-69B27477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5438-59B1-4168-87ED-F1A4518D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2FD-6736-433B-821F-BC03435BB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4F2-28CE-4563-9CA8-3A264D42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6F8E-8CA5-4148-BB47-FFE1FD531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2FD2-97F9-4BA4-A2E6-86EEBFFF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106D-CA7E-484B-BBB4-1A6B552BF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E869-9454-4F5D-A1C5-F2A80F05E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37CD-034C-45D3-A529-23019173D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E014-970A-4925-8AB4-497E04CD9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30B5-7F04-4406-AE02-B397F31BE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48F3-6CBB-4763-BABF-880A9055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A183-1E84-4109-A6EE-3AA119A2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69F7-1BDA-40CD-BBFE-3A8884700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FE9B-A3C3-4EC6-AD3C-F4E86A6B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A09D-5030-4D41-973F-4E814E5AD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B361-A2DB-4204-AE96-6632A8C10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385-671F-4CF1-996D-6A32E496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D323-38D4-4E04-A906-ACF9D6B92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C842-FE82-44CC-95CD-C95ADC6AE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1A21-1C26-43EA-8228-4CF04EC7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375C-4C26-4771-8A7C-4A007284C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0A7-F341-4E18-9C33-D78DAE812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9CCD-9917-4942-9755-27E6848F2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3864-E11C-4B81-A99F-99F677228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5230-AF80-46AD-86DE-04301117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F496-470D-4599-913D-E15F32EF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8872-5A9E-4644-8635-48047691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A4AF-F1CC-4927-AF9F-43D39BF26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9EB-0B93-4EF2-93C0-89E439C38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DCB6-EBFA-4E52-8418-97DE7AA89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606A-9892-4E51-B627-133F1C361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346F-4EFD-46A9-B869-663A50FB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1D02-3975-4F94-9A33-80E99D5E5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B46E-2BE9-441A-82AE-ED53A0454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460F-2439-4ED9-BDB8-66F216F50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8BD6-DE44-4957-8B6F-2CAF9025E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FB59-439D-4E81-88DD-BE02122E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D7B1-5051-4AA4-AA7B-2F830EAF3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BC66-E06A-4570-ADF9-5FEB3F353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05F-750F-469C-8F64-1EC99E29B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5B03-4839-4E0E-A976-A7DEE5BEC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3BC6-2D9B-4CCB-B908-406CD690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C487-019A-4952-88A5-53A5D59B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1906-5147-4803-9EAB-C1515647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B25E-4E25-4922-8D0F-882E9F88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2A0F-ACD7-4014-8223-E3E905ED2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2566-40E1-4C3E-B137-BE7B43F1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9192-85AD-4989-B2D5-4A889B8A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A552-3F65-4FB7-8F8D-2BA1880AD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39D0-A6AA-450D-A878-E59BF4D3E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EF9D-8D99-4D1F-BAF0-BDA25AD2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3D04-B508-4674-8527-D1E812018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4144-2276-417D-9AA8-935ACC3C1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A9DC-AAFD-4A22-B4E5-604D3D41D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3EBE-FEB2-461B-BD02-5A8B8074C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D90C-592F-4C79-812A-D75BD710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C69A-A3FD-4C83-A6C6-D4AA32BCA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8E10-4E7B-4B7D-9FDB-0BDE14037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BA08-9FA2-425A-BEFD-962F1040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8DBB-F1BF-49B5-86A9-823CCCA28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B95E-C000-4E13-83CB-4F6DCBBE5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600-A0A0-4894-901A-6D1E78389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5215-750C-416D-8328-036B1F205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ABF6-9ADE-4593-A1DA-F394D644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7D18-2D47-4D46-8EA1-2F0858C0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4C8D-3F7C-4E1E-9CE5-3980F6EF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E75-58F3-4E49-9867-66A415B3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1203-4444-4D83-88AF-878C3BE5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D5D2-229B-4623-A980-EB4E8943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FB04-07E3-4010-BA58-849C40A2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2D6E-F175-452D-A01D-5FD46B19A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BEF7-5502-4D2E-AC3F-34E4C9A45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89AB-B9CD-4573-A965-04C31A06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C849-3DDA-480B-B8AB-523971E47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12C2-3AFA-4EBB-9065-A614EE4B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9169-6134-40E7-9635-3771251D2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D35-2F24-4CBF-BD33-790769140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9E3A-EA57-4B99-A458-C8248731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AEA6-5F1C-445C-B579-A476115F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3707-2E8A-4BE0-854C-D448BF398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E0C2-FBF5-44A2-9412-40EA07DBF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0BE7-C262-408F-A770-CB862BCE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34C-8049-4ED4-BC55-C0C27019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F43D-2F4F-4AE3-ACDE-A1894367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9FE0-DF7F-4069-9276-43EA5979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5570-C209-4DBB-9951-8713DED0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4D74-6B81-4718-986C-DB538CF1E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4A8F-E5D0-43D6-A204-611A0B5AA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F1C9-41D2-4AFE-91AE-A77467878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8D12-787E-44C6-8B36-9B16529E3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EFBA-25A7-4035-B10D-7F389CFC6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CD1E-2462-47D2-BD31-46DDF94D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525C-8994-428A-9D0E-29796C45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D1C1-8E1F-4690-9A6A-EBFDD1063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50F1-8904-48C3-963C-C515C193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C82-9C39-47DF-98B9-A1AFE1B5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3F87-A59F-47AF-8ECF-AAF5A69B6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F076-1B34-449E-A07E-B443AA087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5D04-7977-4427-8A77-5004D9AC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A240-A48B-408A-8139-D24AD20D7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6818-F416-4A85-9FFD-A916B0AC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499D-2F25-4021-9BCD-152A66AF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F829-95AB-48A3-9213-D790F8EE0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FE3A-16C8-4448-9CD6-E3B58EE95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13E-267B-4408-AF2F-52EF96CC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65EE-C4B2-4354-9E6F-5108D64E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25A3-2C5B-463F-B500-D0D3AF91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81D3-3A1F-4A9E-A205-C2AFDFA8E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8872-D8E7-4E80-BAC7-CD22C5E2C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78AD-E0B6-49D6-B15E-E0BC3CCD9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184B-0BFE-4CF6-A57D-5E734BA8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404E-A454-4011-B97B-92338BC30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66F7-6799-49B4-8049-0C63B8E9B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9703-047F-4D71-9145-A570507E6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CD65-DEF4-4210-B26E-5D08E3321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A75F-E1D6-4149-988C-6505B5376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E508-B7F2-4C84-91FA-EFAAA975A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7F3C-7BFB-4828-87AD-608AD5FE3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484B-6A21-4B09-A660-C199578D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2AD8-CB30-44C2-BC11-3ED63EDEA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3812-4C9F-4FA6-A673-5DF5E97F7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B10B-1BF3-4A91-BF0F-09220DACC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2813-B99C-4DCE-A093-DBE5D386F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761-2C10-4E02-8BA0-3F98C76A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B78C-9281-494A-9226-FB000EBA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3095-A072-46C4-8CF1-7033E5EC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4B9C-5DC0-4FB8-ACCD-046DE62F7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B183-8A49-49D7-ADC5-FC2B8BAC5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A154-2101-4CAD-9C63-A7F96EF8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1434-5E8D-447C-8450-8D4C6E6D7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FA8-F7C8-4239-BE10-904920A4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5EA-E5AB-4F88-8DDD-D0392BC8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02A-6856-49BF-92D8-28384045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3D8-C32E-423D-8E95-4DA5344B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FBEB-F488-4524-A34F-4FC772CB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4C79-5224-4936-B775-AB744487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2CC-2A57-4E6F-A805-F70612D8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EE85-2556-470A-885D-602A4F0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9888-1AF2-4B49-8A84-7016CF5E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4254-4BA9-4EBA-8FA5-1158F5CA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5263-32C1-46D1-9ACB-CB935B2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8EB-254B-4612-99F3-046BB185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04EB-612F-45C8-9368-5F833214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3056-6760-4137-BA67-0A875029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BA12-FDB7-4472-8B78-65971B6D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F87F-D33B-427D-9C4F-59AED4F2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D65D-50CF-4490-9276-C7B43BA9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FFD-AE95-4DC5-8E81-A1E7002C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264-3953-4D45-8889-2E85369C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0EF-C8D4-4678-9C17-2973EEBF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CDE-03C0-4B87-ADB2-8255C865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D3E-9CDC-49F8-9513-96BDDD8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E4D-F146-4335-8FB1-AE58952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9B4-737A-425B-9BEA-4607A96D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17D-7FA2-4E84-A1E5-70D4D7E2A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7CF8-0384-4B8C-8271-A67C9F847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4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4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4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4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– N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Pits vs.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 “cure rate” of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K to be sure of “at least as good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pits nicer than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3"/>
          <p:cNvCxnSpPr/>
          <p:nvPr/>
        </p:nvCxnSpPr>
        <p:spPr>
          <a:xfrm flipV="1">
            <a:off x="6399720" y="3504600"/>
            <a:ext cx="22932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 P[ X ≥ 13 | p = 0.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1447920" y="2743200"/>
                <a:ext cx="4593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 P[ X ≥ 13 | p = 0.6] = 0.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447920" y="2743200"/>
                <a:ext cx="4593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 P[ X ≥ 13 | p = 0.6] = 0.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similar to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1447920" y="2743200"/>
                <a:ext cx="4593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 P[ X ≥ 13 | p = 0.6] = 0.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 P[ X ≥ 13 | p = 0.6] = 0.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 0.027  &lt;  0.05, so can 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rm conclusion pits ar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472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 P[ X ≥ 13 | p = 0.6] = 0.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 0.027  &lt;  0.05, so can 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rm conclusion pits ar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:  Strong case, nearly very strong that pits ar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what was se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ore conclusive | 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boundary betwe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what was se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ore conclusive | 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boundary betwe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use this throughout the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beyond Binomial distribu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 C14:  Answer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gray-level and yes-no view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a)  A TV ad claims that less than 40% of people prefer Brand X.  Suppose 7 out of 10 randomly selected people prefer Brand X.  Should we dispute the claim?  (p-value = 0.0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 C14:  Answer from both gray-level and yes-no view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 80% of the sheet metal we buy from supplier A meets our specs.  Supplier B sends us 12 shipments, and 11 meet our specs.  Is it safe to say the quality of B is higher?  (p-value = 0.2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,      E.g. C14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,      E.g. C14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hat Excel n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738760" y="2209680"/>
            <a:ext cx="6810480" cy="4057920"/>
          </a:xfrm>
          <a:prstGeom prst="rect">
            <a:avLst/>
          </a:prstGeom>
          <a:ln w="0">
            <a:noFill/>
          </a:ln>
        </p:spPr>
      </p:pic>
      <p:cxnSp>
        <p:nvCxnSpPr>
          <p:cNvPr id="381" name="Straight Arrow Connector 5"/>
          <p:cNvCxnSpPr/>
          <p:nvPr/>
        </p:nvCxnSpPr>
        <p:spPr>
          <a:xfrm>
            <a:off x="4648320" y="2209320"/>
            <a:ext cx="121968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,      E.g. C14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hat Excel n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_s:     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:                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_s:     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:      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lug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738760" y="2209680"/>
            <a:ext cx="68104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,      E.g. C14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iven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0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6933960" cy="4130640"/>
          </a:xfrm>
          <a:prstGeom prst="rect">
            <a:avLst/>
          </a:prstGeom>
          <a:ln w="0">
            <a:noFill/>
          </a:ln>
        </p:spPr>
      </p:pic>
      <p:cxnSp>
        <p:nvCxnSpPr>
          <p:cNvPr id="388" name="Straight Arrow Connector 6"/>
          <p:cNvCxnSpPr/>
          <p:nvPr/>
        </p:nvCxnSpPr>
        <p:spPr>
          <a:xfrm>
            <a:off x="2590920" y="2971800"/>
            <a:ext cx="586800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,      E.g. C14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iven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0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of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6933960" cy="4130640"/>
          </a:xfrm>
          <a:prstGeom prst="rect">
            <a:avLst/>
          </a:prstGeom>
          <a:ln w="0">
            <a:noFill/>
          </a:ln>
        </p:spPr>
      </p:pic>
      <p:cxnSp>
        <p:nvCxnSpPr>
          <p:cNvPr id="392" name="Straight Arrow Connector 6"/>
          <p:cNvCxnSpPr/>
          <p:nvPr/>
        </p:nvCxnSpPr>
        <p:spPr>
          <a:xfrm>
            <a:off x="2590920" y="2971800"/>
            <a:ext cx="586800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,      E.g. C14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iven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0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off!  Try “1 -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arget  (0.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6933960" cy="4130640"/>
          </a:xfrm>
          <a:prstGeom prst="rect">
            <a:avLst/>
          </a:prstGeom>
          <a:ln w="0">
            <a:noFill/>
          </a:ln>
        </p:spPr>
      </p:pic>
      <p:cxnSp>
        <p:nvCxnSpPr>
          <p:cNvPr id="396" name="Straight Arrow Connector 6"/>
          <p:cNvCxnSpPr/>
          <p:nvPr/>
        </p:nvCxnSpPr>
        <p:spPr>
          <a:xfrm flipV="1">
            <a:off x="3580920" y="3885840"/>
            <a:ext cx="48776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,      E.g. C14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iven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0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off!  Try “1 -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arget  (0.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off, how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&gt; vs. ≥”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6933960" cy="4130640"/>
          </a:xfrm>
          <a:prstGeom prst="rect">
            <a:avLst/>
          </a:prstGeom>
          <a:ln w="0">
            <a:noFill/>
          </a:ln>
        </p:spPr>
      </p:pic>
      <p:cxnSp>
        <p:nvCxnSpPr>
          <p:cNvPr id="400" name="Straight Arrow Connector 6"/>
          <p:cNvCxnSpPr/>
          <p:nvPr/>
        </p:nvCxnSpPr>
        <p:spPr>
          <a:xfrm flipV="1">
            <a:off x="1676520" y="3885480"/>
            <a:ext cx="67824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1" name="Straight Arrow Connector 8"/>
          <p:cNvCxnSpPr/>
          <p:nvPr/>
        </p:nvCxnSpPr>
        <p:spPr>
          <a:xfrm flipV="1">
            <a:off x="1752120" y="4647960"/>
            <a:ext cx="68652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,      E.g. C14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iven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0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off!  Try “1 -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arget  (0.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off, how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&gt; vs. ≥”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replacing 7 by 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6933960" cy="4130640"/>
          </a:xfrm>
          <a:prstGeom prst="rect">
            <a:avLst/>
          </a:prstGeom>
          <a:ln w="0">
            <a:noFill/>
          </a:ln>
        </p:spPr>
      </p:pic>
      <p:cxnSp>
        <p:nvCxnSpPr>
          <p:cNvPr id="405" name="Straight Arrow Connector 6"/>
          <p:cNvCxnSpPr/>
          <p:nvPr/>
        </p:nvCxnSpPr>
        <p:spPr>
          <a:xfrm flipV="1">
            <a:off x="4037400" y="2590560"/>
            <a:ext cx="1600920" cy="4039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,      E.g. C14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iven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0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off!  Try “1 -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arget  (0.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off, how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&gt; vs. ≥”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replacing 7 by 6?       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6914880" cy="4119840"/>
          </a:xfrm>
          <a:prstGeom prst="rect">
            <a:avLst/>
          </a:prstGeom>
          <a:ln w="0">
            <a:noFill/>
          </a:ln>
        </p:spPr>
      </p:pic>
      <p:cxnSp>
        <p:nvCxnSpPr>
          <p:cNvPr id="409" name="Straight Arrow Connector 6"/>
          <p:cNvCxnSpPr/>
          <p:nvPr/>
        </p:nvCxnSpPr>
        <p:spPr>
          <a:xfrm flipV="1">
            <a:off x="5181480" y="3885480"/>
            <a:ext cx="327744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9"/>
          <p:cNvCxnSpPr/>
          <p:nvPr/>
        </p:nvCxnSpPr>
        <p:spPr>
          <a:xfrm flipH="1" flipV="1">
            <a:off x="3504960" y="4571640"/>
            <a:ext cx="167688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observe  X = 11, out of 15 were cured by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olve HW 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olve HW 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o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umerical answer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teraction with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“Excel Twiddle Trap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olve HW 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o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umerical answer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teraction with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Goal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stand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:   What is the phr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NSCDCardShark.jpg"/>
          <p:cNvPicPr/>
          <p:nvPr/>
        </p:nvPicPr>
        <p:blipFill>
          <a:blip r:embed="rId1"/>
          <a:stretch/>
        </p:blipFill>
        <p:spPr>
          <a:xfrm>
            <a:off x="304920" y="2514600"/>
            <a:ext cx="6350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:   What is the phr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NSCDCardShark.jpg"/>
          <p:cNvPicPr/>
          <p:nvPr/>
        </p:nvPicPr>
        <p:blipFill>
          <a:blip r:embed="rId1"/>
          <a:stretch/>
        </p:blipFill>
        <p:spPr>
          <a:xfrm>
            <a:off x="304920" y="2514600"/>
            <a:ext cx="6350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hat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hr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NSCDKnightMare.jpg"/>
          <p:cNvPicPr/>
          <p:nvPr/>
        </p:nvPicPr>
        <p:blipFill>
          <a:blip r:embed="rId1"/>
          <a:stretch/>
        </p:blipFill>
        <p:spPr>
          <a:xfrm>
            <a:off x="4038480" y="1546200"/>
            <a:ext cx="49276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hat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hr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Knight 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NSCDKnightMare.jpg"/>
          <p:cNvPicPr/>
          <p:nvPr/>
        </p:nvPicPr>
        <p:blipFill>
          <a:blip r:embed="rId1"/>
          <a:stretch/>
        </p:blipFill>
        <p:spPr>
          <a:xfrm>
            <a:off x="4038480" y="1546200"/>
            <a:ext cx="49276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73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hat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hr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NSCDGatorAide.jpg"/>
          <p:cNvPicPr/>
          <p:nvPr/>
        </p:nvPicPr>
        <p:blipFill>
          <a:blip r:embed="rId1"/>
          <a:stretch/>
        </p:blipFill>
        <p:spPr>
          <a:xfrm>
            <a:off x="152280" y="1308240"/>
            <a:ext cx="43689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73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hat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hr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Gator A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NSCDGatorAide.jpg"/>
          <p:cNvPicPr/>
          <p:nvPr/>
        </p:nvPicPr>
        <p:blipFill>
          <a:blip r:embed="rId1"/>
          <a:stretch/>
        </p:blipFill>
        <p:spPr>
          <a:xfrm>
            <a:off x="152280" y="1308240"/>
            <a:ext cx="43689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what was se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ore conclusive | 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boundary betwe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observe  X = 11, out of 15 were cured by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:  “best guess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1600200" y="4343400"/>
                <a:ext cx="423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what was se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boundary betwe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Straight Arrow Connector 4"/>
          <p:cNvCxnSpPr/>
          <p:nvPr/>
        </p:nvCxnSpPr>
        <p:spPr>
          <a:xfrm flipV="1">
            <a:off x="3886200" y="3123360"/>
            <a:ext cx="137232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  Need to decid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  Need to decid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p &lt;         vs.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iven numer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4876920" y="411480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8077320" y="411480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Straight Arrow Connector 6"/>
          <p:cNvCxnSpPr/>
          <p:nvPr/>
        </p:nvCxnSpPr>
        <p:spPr>
          <a:xfrm flipV="1">
            <a:off x="4951440" y="4647960"/>
            <a:ext cx="78480" cy="99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Straight Arrow Connector 10"/>
          <p:cNvCxnSpPr/>
          <p:nvPr/>
        </p:nvCxnSpPr>
        <p:spPr>
          <a:xfrm flipV="1">
            <a:off x="4952520" y="4494960"/>
            <a:ext cx="297252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  Need to decid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p &lt;         vs.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4876920" y="411480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8077320" y="411480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  Need to decid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p &lt;         vs.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p =         vs.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4876920" y="411480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8077320" y="411480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876920" y="556272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8077320" y="556272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p =         vs.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Can never have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800600" y="1981080"/>
            <a:ext cx="3049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8077320" y="1981080"/>
            <a:ext cx="30456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6324480" y="3429000"/>
            <a:ext cx="30492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p =         vs.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Can never have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an’t tell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      + 0.00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4800600" y="1981080"/>
            <a:ext cx="3049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8077320" y="1981080"/>
            <a:ext cx="30456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6324480" y="3429000"/>
            <a:ext cx="30492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2743200" y="4876920"/>
            <a:ext cx="30492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4648320" y="487692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p =         vs.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Can never have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an’t tell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      + 0.00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: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rden of pro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800600" y="1981080"/>
            <a:ext cx="3049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8077320" y="1981080"/>
            <a:ext cx="30456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6324480" y="3429000"/>
            <a:ext cx="30492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2743200" y="4876920"/>
            <a:ext cx="30492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4648320" y="4876920"/>
            <a:ext cx="30456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   &amp;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observe  X = 11, out of 15 were cured by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:  “best guess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1600200" y="4343400"/>
                <a:ext cx="5494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   &amp;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mportant choice will need to make a l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   &amp;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-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Rule:    set up  2-sided  when problem uses words like “equal” or “differ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bl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Straight Arrow Connector 4"/>
          <p:cNvCxnSpPr/>
          <p:nvPr/>
        </p:nvCxnSpPr>
        <p:spPr>
          <a:xfrm flipH="1" flipV="1">
            <a:off x="2666160" y="1752120"/>
            <a:ext cx="76284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bl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s put mone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bl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s put mone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(small) probability, win a “jackpo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f quite a lot more mon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real life, focus is on “return rat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real life, focus is on “return rat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people enjoy fewer, but bigger jackpo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real life, focus is on “return rat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people enjoy fewer, but bigger jackpo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t usually no s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return rate is &lt;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observe  X = 11, out of 15 were cured by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:  “best guess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1600200" y="4343400"/>
                <a:ext cx="5494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Box 4"/>
          <p:cNvSpPr/>
          <p:nvPr/>
        </p:nvSpPr>
        <p:spPr>
          <a:xfrm>
            <a:off x="6484320" y="5486400"/>
            <a:ext cx="132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6"/>
          <p:cNvCxnSpPr/>
          <p:nvPr/>
        </p:nvCxnSpPr>
        <p:spPr>
          <a:xfrm flipH="1" flipV="1">
            <a:off x="6095520" y="4952520"/>
            <a:ext cx="45792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conclude sign is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conclude sign is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amp; thus have grounds for complai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s this a reasonable occurrenc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ual approach: give unknown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, so can work w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,      let X = # wins in 10 play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,      let X = # wins in 10 play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     X ~ Bi(10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,      let X = # wins in 10 play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     X ~ Bi(10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 up as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point wa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,      let X = # wins in 10 play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     X ~ Bi(10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,      let X = # wins in 10 play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     X ~ Bi(10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false” mea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n 30% of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o 2-si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de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never set up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observe  X = 11, out of 15 were cured by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:  “best guess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s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1600200" y="4343400"/>
                <a:ext cx="5494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de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never set up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 =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de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never set up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 =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an’t hand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hypo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de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never set up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 =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an’t hand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hypo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’t distingu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 p = 0.3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de (similar to abo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never set up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 =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an’t hand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hypo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’t distingu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 p = 0.3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ld al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“off a little b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,      let X = # wins in 10 play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     X ~ Bi(10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,      let X = # wins in 10 play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     X ~ Bi(10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w test &amp; see how weird X = 0 is, for p = 0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 slot machine bears a sign which says “Win 30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0 plays, I don’t w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Conclude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P[win],      let X = # wins in 10 play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     X ~ Bi(10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nderstand this by visualizing #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observe  X = 11, out of 15 were cured by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:  “best guess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s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1600200" y="4343400"/>
                <a:ext cx="5494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TextBox 6"/>
          <p:cNvSpPr/>
          <p:nvPr/>
        </p:nvSpPr>
        <p:spPr>
          <a:xfrm>
            <a:off x="5124240" y="579132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just du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vari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0% of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 =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ast con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Straight Arrow Connector 21"/>
          <p:cNvCxnSpPr/>
          <p:nvPr/>
        </p:nvCxnSpPr>
        <p:spPr>
          <a:xfrm flipV="1">
            <a:off x="1981080" y="4190760"/>
            <a:ext cx="1524960" cy="16768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64" name="Straight Arrow Connector 23"/>
          <p:cNvCxnSpPr/>
          <p:nvPr/>
        </p:nvCxnSpPr>
        <p:spPr>
          <a:xfrm flipH="1">
            <a:off x="7848000" y="2590560"/>
            <a:ext cx="76680" cy="2819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21"/>
          <p:cNvCxnSpPr/>
          <p:nvPr/>
        </p:nvCxnSpPr>
        <p:spPr>
          <a:xfrm flipH="1" flipV="1">
            <a:off x="1447200" y="4114440"/>
            <a:ext cx="4648680" cy="991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8" name="Straight Arrow Connector 23"/>
          <p:cNvCxnSpPr/>
          <p:nvPr/>
        </p:nvCxnSpPr>
        <p:spPr>
          <a:xfrm flipH="1">
            <a:off x="4114440" y="2590920"/>
            <a:ext cx="381600" cy="22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9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nce 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also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Straight Arrow Connector 21"/>
          <p:cNvCxnSpPr/>
          <p:nvPr/>
        </p:nvCxnSpPr>
        <p:spPr>
          <a:xfrm flipH="1" flipV="1">
            <a:off x="1447200" y="4114440"/>
            <a:ext cx="4648680" cy="991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3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Straight Arrow Connector 24"/>
          <p:cNvCxnSpPr/>
          <p:nvPr/>
        </p:nvCxnSpPr>
        <p:spPr>
          <a:xfrm flipH="1" flipV="1">
            <a:off x="6552360" y="4114440"/>
            <a:ext cx="229320" cy="1753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Straight Arrow Connector 21"/>
          <p:cNvCxnSpPr/>
          <p:nvPr/>
        </p:nvCxnSpPr>
        <p:spPr>
          <a:xfrm flipH="1">
            <a:off x="1218960" y="2437920"/>
            <a:ext cx="4579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3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st Likel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Arrow Connector 21"/>
          <p:cNvCxnSpPr/>
          <p:nvPr/>
        </p:nvCxnSpPr>
        <p:spPr>
          <a:xfrm flipH="1">
            <a:off x="1218960" y="2437920"/>
            <a:ext cx="4579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8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Straight Arrow Connector 24"/>
          <p:cNvCxnSpPr/>
          <p:nvPr/>
        </p:nvCxnSpPr>
        <p:spPr>
          <a:xfrm flipH="1">
            <a:off x="3885840" y="2970720"/>
            <a:ext cx="9151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st Likel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spaces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Straight Arrow Connector 21"/>
          <p:cNvCxnSpPr/>
          <p:nvPr/>
        </p:nvCxnSpPr>
        <p:spPr>
          <a:xfrm flipH="1">
            <a:off x="1218960" y="2437920"/>
            <a:ext cx="4579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54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6" name="Straight Arrow Connector 24"/>
          <p:cNvCxnSpPr/>
          <p:nvPr/>
        </p:nvCxnSpPr>
        <p:spPr>
          <a:xfrm flipH="1">
            <a:off x="3885840" y="2970720"/>
            <a:ext cx="9151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657" name="Straight Connector 22"/>
          <p:cNvSpPr/>
          <p:nvPr/>
        </p:nvSpPr>
        <p:spPr>
          <a:xfrm>
            <a:off x="1219320" y="4191120"/>
            <a:ext cx="1218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23"/>
          <p:cNvSpPr/>
          <p:nvPr/>
        </p:nvSpPr>
        <p:spPr>
          <a:xfrm flipH="1">
            <a:off x="2057400" y="46483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25"/>
          <p:cNvSpPr/>
          <p:nvPr/>
        </p:nvSpPr>
        <p:spPr>
          <a:xfrm flipV="1">
            <a:off x="2438280" y="4191120"/>
            <a:ext cx="12956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how to calcu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st Likel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spaces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o 3 spaces in other direc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Straight Arrow Connector 21"/>
          <p:cNvCxnSpPr/>
          <p:nvPr/>
        </p:nvCxnSpPr>
        <p:spPr>
          <a:xfrm flipH="1">
            <a:off x="1218960" y="2437920"/>
            <a:ext cx="4579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3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Straight Arrow Connector 24"/>
          <p:cNvCxnSpPr/>
          <p:nvPr/>
        </p:nvCxnSpPr>
        <p:spPr>
          <a:xfrm flipH="1">
            <a:off x="3885840" y="2970720"/>
            <a:ext cx="9151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676" name="Straight Connector 22"/>
          <p:cNvSpPr/>
          <p:nvPr/>
        </p:nvSpPr>
        <p:spPr>
          <a:xfrm>
            <a:off x="1219320" y="4191120"/>
            <a:ext cx="1218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23"/>
          <p:cNvSpPr/>
          <p:nvPr/>
        </p:nvSpPr>
        <p:spPr>
          <a:xfrm flipH="1">
            <a:off x="2057400" y="46483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25"/>
          <p:cNvSpPr/>
          <p:nvPr/>
        </p:nvSpPr>
        <p:spPr>
          <a:xfrm flipV="1">
            <a:off x="2438280" y="4191120"/>
            <a:ext cx="12956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26"/>
          <p:cNvSpPr/>
          <p:nvPr/>
        </p:nvSpPr>
        <p:spPr>
          <a:xfrm>
            <a:off x="3733920" y="4191120"/>
            <a:ext cx="11430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27"/>
          <p:cNvSpPr/>
          <p:nvPr/>
        </p:nvSpPr>
        <p:spPr>
          <a:xfrm flipV="1">
            <a:off x="2971800" y="4648320"/>
            <a:ext cx="190512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28"/>
          <p:cNvSpPr/>
          <p:nvPr/>
        </p:nvSpPr>
        <p:spPr>
          <a:xfrm flipV="1">
            <a:off x="4876920" y="4191120"/>
            <a:ext cx="1218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1      2     3     4     5    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4"/>
          <p:cNvSpPr/>
          <p:nvPr/>
        </p:nvSpPr>
        <p:spPr>
          <a:xfrm>
            <a:off x="685800" y="3886200"/>
            <a:ext cx="655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6"/>
          <p:cNvSpPr/>
          <p:nvPr/>
        </p:nvSpPr>
        <p:spPr>
          <a:xfrm flipH="1">
            <a:off x="1217160" y="365904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10"/>
          <p:cNvSpPr/>
          <p:nvPr/>
        </p:nvSpPr>
        <p:spPr>
          <a:xfrm flipH="1">
            <a:off x="20574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1"/>
          <p:cNvSpPr/>
          <p:nvPr/>
        </p:nvSpPr>
        <p:spPr>
          <a:xfrm flipH="1">
            <a:off x="28951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2"/>
          <p:cNvSpPr/>
          <p:nvPr/>
        </p:nvSpPr>
        <p:spPr>
          <a:xfrm flipH="1">
            <a:off x="373392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3"/>
          <p:cNvSpPr/>
          <p:nvPr/>
        </p:nvSpPr>
        <p:spPr>
          <a:xfrm flipH="1">
            <a:off x="52578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4"/>
          <p:cNvSpPr/>
          <p:nvPr/>
        </p:nvSpPr>
        <p:spPr>
          <a:xfrm flipH="1">
            <a:off x="44953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5"/>
          <p:cNvSpPr/>
          <p:nvPr/>
        </p:nvSpPr>
        <p:spPr>
          <a:xfrm flipH="1">
            <a:off x="6858000" y="3657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16"/>
          <p:cNvSpPr/>
          <p:nvPr/>
        </p:nvSpPr>
        <p:spPr>
          <a:xfrm flipH="1">
            <a:off x="6095520" y="36576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18"/>
          <p:cNvSpPr/>
          <p:nvPr/>
        </p:nvSpPr>
        <p:spPr>
          <a:xfrm>
            <a:off x="3581280" y="3886200"/>
            <a:ext cx="304920" cy="1440"/>
          </a:xfrm>
          <a:prstGeom prst="line">
            <a:avLst/>
          </a:prstGeom>
          <a:ln w="254160">
            <a:solidFill>
              <a:srgbClr val="0000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19"/>
          <p:cNvSpPr/>
          <p:nvPr/>
        </p:nvSpPr>
        <p:spPr>
          <a:xfrm flipH="1" flipV="1">
            <a:off x="457200" y="3886200"/>
            <a:ext cx="99072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20"/>
          <p:cNvSpPr/>
          <p:nvPr/>
        </p:nvSpPr>
        <p:spPr>
          <a:xfrm>
            <a:off x="5943600" y="3886200"/>
            <a:ext cx="1828800" cy="1440"/>
          </a:xfrm>
          <a:prstGeom prst="line">
            <a:avLst/>
          </a:prstGeom>
          <a:ln w="254160">
            <a:solidFill>
              <a:srgbClr val="ff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X ≤ 0] + (1 – P[X ≤ 5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X ≤ 0] + (1 – P[X ≤ 5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[X = 0 or more conclusive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0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p = 0.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[X ≤ 0] + (1 – P[X ≤ 5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resul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 Conclusion: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6 &gt; 0.0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t safe to conclude “P[win] = 0.3”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rong, at level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 Conclusion: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6 &gt; 0.0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t safe to conclude “P[win] = 0.3”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rong, at level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 straight los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reasonab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9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= 0.3    vs.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 ≠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-No Conclusion: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6 &gt; 0.0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t safe to conclude “P[win] = 0.3”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rong, at level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Level Conclusion: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fuzzy zone”, some evidence, but not too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I, coming Tuesday, Feb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say more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“significance prob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“significance prob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3"/>
          <p:cNvSpPr/>
          <p:nvPr/>
        </p:nvSpPr>
        <p:spPr>
          <a:xfrm>
            <a:off x="3809880" y="2133720"/>
            <a:ext cx="2819520" cy="1447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5"/>
          <p:cNvSpPr/>
          <p:nvPr/>
        </p:nvSpPr>
        <p:spPr>
          <a:xfrm flipH="1">
            <a:off x="2133720" y="2971800"/>
            <a:ext cx="1676160" cy="990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for      could use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“X/n = 0.733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3"/>
          <p:cNvSpPr/>
          <p:nvPr/>
        </p:nvSpPr>
        <p:spPr>
          <a:xfrm>
            <a:off x="3809880" y="2133720"/>
            <a:ext cx="2819520" cy="1447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5"/>
          <p:cNvSpPr/>
          <p:nvPr/>
        </p:nvSpPr>
        <p:spPr>
          <a:xfrm flipH="1">
            <a:off x="2133720" y="2971800"/>
            <a:ext cx="1676160" cy="990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for      could use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“X/n = 0.733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is depends too much on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3"/>
          <p:cNvSpPr/>
          <p:nvPr/>
        </p:nvSpPr>
        <p:spPr>
          <a:xfrm>
            <a:off x="3809880" y="2133720"/>
            <a:ext cx="2819520" cy="1447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5"/>
          <p:cNvSpPr/>
          <p:nvPr/>
        </p:nvSpPr>
        <p:spPr>
          <a:xfrm flipH="1">
            <a:off x="2133720" y="2971800"/>
            <a:ext cx="1676160" cy="990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for      could use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“X/n = 0.733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is depends too much on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ok at example illustrating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3"/>
          <p:cNvSpPr/>
          <p:nvPr/>
        </p:nvSpPr>
        <p:spPr>
          <a:xfrm>
            <a:off x="3809880" y="2133720"/>
            <a:ext cx="2819520" cy="1447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5"/>
          <p:cNvSpPr/>
          <p:nvPr/>
        </p:nvSpPr>
        <p:spPr>
          <a:xfrm flipH="1">
            <a:off x="2133720" y="2971800"/>
            <a:ext cx="1676160" cy="990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0.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114800" y="2057400"/>
          <a:ext cx="4724280" cy="4191120"/>
        </p:xfrm>
        <a:graphic>
          <a:graphicData uri="http://schemas.openxmlformats.org/drawingml/2006/table">
            <a:tbl>
              <a:tblPr/>
              <a:tblGrid>
                <a:gridCol w="871560"/>
                <a:gridCol w="1817640"/>
                <a:gridCol w="2035080"/>
              </a:tblGrid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&gt;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0.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d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038480" y="1295280"/>
          <a:ext cx="4724640" cy="4191120"/>
        </p:xfrm>
        <a:graphic>
          <a:graphicData uri="http://schemas.openxmlformats.org/drawingml/2006/table">
            <a:tbl>
              <a:tblPr/>
              <a:tblGrid>
                <a:gridCol w="871560"/>
                <a:gridCol w="1817640"/>
                <a:gridCol w="2035440"/>
              </a:tblGrid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&gt;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68" name="Straight Arrow Connector 4"/>
          <p:cNvCxnSpPr/>
          <p:nvPr/>
        </p:nvCxnSpPr>
        <p:spPr>
          <a:xfrm flipV="1">
            <a:off x="1905120" y="3200040"/>
            <a:ext cx="502992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0.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these go to 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at “mo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114800" y="2057400"/>
          <a:ext cx="4724280" cy="4191120"/>
        </p:xfrm>
        <a:graphic>
          <a:graphicData uri="http://schemas.openxmlformats.org/drawingml/2006/table">
            <a:tbl>
              <a:tblPr/>
              <a:tblGrid>
                <a:gridCol w="871560"/>
                <a:gridCol w="1817640"/>
                <a:gridCol w="2035080"/>
              </a:tblGrid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&gt;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72" name="Straight Arrow Connector 5"/>
          <p:cNvCxnSpPr/>
          <p:nvPr/>
        </p:nvCxnSpPr>
        <p:spPr>
          <a:xfrm flipV="1">
            <a:off x="2362320" y="2361600"/>
            <a:ext cx="26672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 488-491,   317-3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 261-262,   9-14,   270-276,   30-3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0.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these go to 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at “mo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“small”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114800" y="2057400"/>
          <a:ext cx="4724280" cy="4191120"/>
        </p:xfrm>
        <a:graphic>
          <a:graphicData uri="http://schemas.openxmlformats.org/drawingml/2006/table">
            <a:tbl>
              <a:tblPr/>
              <a:tblGrid>
                <a:gridCol w="871560"/>
                <a:gridCol w="1817640"/>
                <a:gridCol w="2035080"/>
              </a:tblGrid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&gt;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76" name="Straight Arrow Connector 5"/>
          <p:cNvCxnSpPr/>
          <p:nvPr/>
        </p:nvCxnSpPr>
        <p:spPr>
          <a:xfrm flipV="1">
            <a:off x="2362320" y="2361600"/>
            <a:ext cx="26672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0.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or th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114800" y="2057400"/>
          <a:ext cx="4724280" cy="4191120"/>
        </p:xfrm>
        <a:graphic>
          <a:graphicData uri="http://schemas.openxmlformats.org/drawingml/2006/table">
            <a:tbl>
              <a:tblPr/>
              <a:tblGrid>
                <a:gridCol w="871560"/>
                <a:gridCol w="1817640"/>
                <a:gridCol w="2035080"/>
              </a:tblGrid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&gt;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80" name="Straight Arrow Connector 5"/>
          <p:cNvCxnSpPr/>
          <p:nvPr/>
        </p:nvCxnSpPr>
        <p:spPr>
          <a:xfrm flipV="1">
            <a:off x="2057040" y="2437560"/>
            <a:ext cx="48776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0.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or th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 conclu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114800" y="2057400"/>
          <a:ext cx="4724280" cy="4191120"/>
        </p:xfrm>
        <a:graphic>
          <a:graphicData uri="http://schemas.openxmlformats.org/drawingml/2006/table">
            <a:tbl>
              <a:tblPr/>
              <a:tblGrid>
                <a:gridCol w="871560"/>
                <a:gridCol w="1817640"/>
                <a:gridCol w="2035080"/>
              </a:tblGrid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/n &gt;= 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84" name="Straight Arrow Connector 5"/>
          <p:cNvCxnSpPr/>
          <p:nvPr/>
        </p:nvCxnSpPr>
        <p:spPr>
          <a:xfrm flipV="1">
            <a:off x="2057040" y="2437560"/>
            <a:ext cx="48776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11 or mor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= “observed significanc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11 or mor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X ≥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use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4"/>
          <p:cNvCxnSpPr/>
          <p:nvPr/>
        </p:nvCxnSpPr>
        <p:spPr>
          <a:xfrm flipV="1">
            <a:off x="4038480" y="2133360"/>
            <a:ext cx="61056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use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4"/>
          <p:cNvCxnSpPr/>
          <p:nvPr/>
        </p:nvCxnSpPr>
        <p:spPr>
          <a:xfrm flipV="1">
            <a:off x="4038480" y="2133360"/>
            <a:ext cx="61056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use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    P[X ≥ 11 | p]     depend on 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4"/>
          <p:cNvCxnSpPr/>
          <p:nvPr/>
        </p:nvCxnSpPr>
        <p:spPr>
          <a:xfrm flipV="1">
            <a:off x="4038480" y="2133360"/>
            <a:ext cx="61056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    P[X ≥ 11 | p]     depend on 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ircu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time.com/time/health/article/0,8599,1733719,0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    P[X ≥ 11 | p]     depend on 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in Class EG 4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5880" y="2133720"/>
          <a:ext cx="2692440" cy="3828960"/>
        </p:xfrm>
        <a:graphic>
          <a:graphicData uri="http://schemas.openxmlformats.org/drawingml/2006/table">
            <a:tbl>
              <a:tblPr/>
              <a:tblGrid>
                <a:gridCol w="720720"/>
                <a:gridCol w="1971720"/>
              </a:tblGrid>
              <a:tr h="428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 &gt;= 11|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205" name="Straight Arrow Connector 4"/>
          <p:cNvCxnSpPr/>
          <p:nvPr/>
        </p:nvCxnSpPr>
        <p:spPr>
          <a:xfrm flipV="1">
            <a:off x="4876920" y="4266720"/>
            <a:ext cx="213408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    P[X ≥ 11 | p]     depend on 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Bigger assumed p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igger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.e.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Arial"/>
              </a:rPr>
              <a:t>less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con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095880" y="2133720"/>
          <a:ext cx="2692440" cy="3828960"/>
        </p:xfrm>
        <a:graphic>
          <a:graphicData uri="http://schemas.openxmlformats.org/drawingml/2006/table">
            <a:tbl>
              <a:tblPr/>
              <a:tblGrid>
                <a:gridCol w="720720"/>
                <a:gridCol w="1971720"/>
              </a:tblGrid>
              <a:tr h="428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 &gt;= 11|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209" name="Straight Arrow Connector 4"/>
          <p:cNvCxnSpPr/>
          <p:nvPr/>
        </p:nvCxnSpPr>
        <p:spPr>
          <a:xfrm flipH="1">
            <a:off x="6474600" y="3354480"/>
            <a:ext cx="3960" cy="2286720"/>
          </a:xfrm>
          <a:prstGeom prst="straightConnector1">
            <a:avLst/>
          </a:prstGeom>
          <a:ln w="19080">
            <a:solidFill>
              <a:srgbClr val="336600"/>
            </a:solidFill>
            <a:miter/>
            <a:tailEnd len="med" type="arrow" w="med"/>
          </a:ln>
        </p:spPr>
      </p:cxnSp>
      <p:sp>
        <p:nvSpPr>
          <p:cNvPr id="210" name="Straight Connector 9"/>
          <p:cNvSpPr/>
          <p:nvPr/>
        </p:nvSpPr>
        <p:spPr>
          <a:xfrm>
            <a:off x="3733920" y="3276720"/>
            <a:ext cx="2743200" cy="114300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12"/>
          <p:cNvCxnSpPr/>
          <p:nvPr/>
        </p:nvCxnSpPr>
        <p:spPr>
          <a:xfrm flipH="1">
            <a:off x="7846200" y="3352320"/>
            <a:ext cx="2520" cy="2288520"/>
          </a:xfrm>
          <a:prstGeom prst="straightConnector1">
            <a:avLst/>
          </a:prstGeom>
          <a:ln w="19080">
            <a:solidFill>
              <a:srgbClr val="a50021"/>
            </a:solidFill>
            <a:miter/>
            <a:tailEnd len="med" type="arrow" w="med"/>
          </a:ln>
        </p:spPr>
      </p:cxnSp>
      <p:sp>
        <p:nvSpPr>
          <p:cNvPr id="212" name="Straight Connector 16"/>
          <p:cNvSpPr/>
          <p:nvPr/>
        </p:nvSpPr>
        <p:spPr>
          <a:xfrm>
            <a:off x="2590920" y="4724280"/>
            <a:ext cx="5257800" cy="38124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X ≥ 11 | p &lt; 0.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X ≥ 11 | p &lt; 0.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o be “sure” of conclusion, us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larg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ailable value of P[X ≥ 11 | 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X ≥ 11 | p &lt; 0.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o be “sure” of conclusion, us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larg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ailable value of P[X ≥ 11 | 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0.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X ≥ 11 | p &lt; 0.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o be “sure” of conclusion, us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larg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ailable value of P[X ≥ 11 | 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0.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“=” giv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f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4"/>
          <p:cNvCxnSpPr/>
          <p:nvPr/>
        </p:nvCxnSpPr>
        <p:spPr>
          <a:xfrm flipV="1">
            <a:off x="4572000" y="5409720"/>
            <a:ext cx="38160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: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=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: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=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undary 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&amp;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"/>
          <p:cNvCxnSpPr/>
          <p:nvPr/>
        </p:nvCxnSpPr>
        <p:spPr>
          <a:xfrm flipV="1">
            <a:off x="4191120" y="4266720"/>
            <a:ext cx="259128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: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[seeing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usual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= 11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ru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undary 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&amp;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ove e.g.  p = 0.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Straight Arrow Connector 4"/>
          <p:cNvCxnSpPr/>
          <p:nvPr/>
        </p:nvCxnSpPr>
        <p:spPr>
          <a:xfrm flipV="1">
            <a:off x="4191120" y="4266720"/>
            <a:ext cx="259128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ircu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1690" t="23835" r="3380" b="7945"/>
          <a:stretch/>
        </p:blipFill>
        <p:spPr>
          <a:xfrm>
            <a:off x="650880" y="1646280"/>
            <a:ext cx="7704000" cy="471024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5"/>
          <p:cNvSpPr/>
          <p:nvPr/>
        </p:nvSpPr>
        <p:spPr>
          <a:xfrm>
            <a:off x="5257800" y="3200400"/>
            <a:ext cx="2666880" cy="144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8"/>
          <p:cNvSpPr/>
          <p:nvPr/>
        </p:nvSpPr>
        <p:spPr>
          <a:xfrm>
            <a:off x="2590920" y="4114800"/>
            <a:ext cx="2361960" cy="144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0"/>
          <p:cNvSpPr/>
          <p:nvPr/>
        </p:nvSpPr>
        <p:spPr>
          <a:xfrm>
            <a:off x="685800" y="4343400"/>
            <a:ext cx="3429000" cy="144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lculate numer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lculate numer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ready d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G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lculate numer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ready d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G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lculate numer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ready d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G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interpr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p-value reflects chance of error wh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p-value reflects chance of error wh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when conclusion is ma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p-value reflects chance of error wh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when conclusion is ma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sed on available evi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   p-value reflects chance of error wh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when conclusion is ma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sed on available evi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-valu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safe to mak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-value, safe to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-value, safe to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Suppose surgery cures (a certain type of) cancer 60%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 is eating apricot pits a more effective c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-value, safe to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Traditional (&amp; legal) cu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-value, safe to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Traditional (&amp; legal) cu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here “Yes-N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-value, safe to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Traditional (&amp; legal) cu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here “Yes-N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-value, safe to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Traditional (&amp; legal) cu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here “Yes-N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ust an agreed upon val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dely 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-value, safe to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Traditional (&amp; legal) cu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here “Yes-N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t sometimes want different valu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our airplane is safe to f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      “Yes-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      “Yes-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  say results are “statistically significant”, when this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      “Yes-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  say results are “statistically significant”, when this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specify a value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 letter “alph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Straight Arrow Connector 4"/>
          <p:cNvCxnSpPr/>
          <p:nvPr/>
        </p:nvCxnSpPr>
        <p:spPr>
          <a:xfrm flipH="1" flipV="1">
            <a:off x="5485680" y="4799880"/>
            <a:ext cx="30564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      “Yes-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  say results are “statistically significant”, when this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specify a value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cutoff   (different from 0.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2:        “Gray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allow “shades of conclu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Pits vs.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 “cure rate” of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proportion of people cu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2:        “Gray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allow “shades of conclu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Do  p-val = 0.049 and p-val = 0.051 represent very different levels of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2:        “Gray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allow “shades of conclu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words describ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&lt; p-val: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1 &lt; p-val &lt; 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 &lt; 0.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2:        “Gray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words describ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&lt; p-val: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1 &lt; p-val &lt; 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 &lt; 0.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2:        “Gray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words describ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&lt; p-val: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1 &lt; p-val &lt; 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 &lt; 0.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when closer to 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4"/>
          <p:cNvCxnSpPr/>
          <p:nvPr/>
        </p:nvCxnSpPr>
        <p:spPr>
          <a:xfrm flipV="1">
            <a:off x="1600200" y="4038120"/>
            <a:ext cx="38160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2:        “Gray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words describ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&lt; p-val: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1 &lt; p-val &lt; 0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 &lt; 0.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when closer to 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er when closer to 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4"/>
          <p:cNvCxnSpPr/>
          <p:nvPr/>
        </p:nvCxnSpPr>
        <p:spPr>
          <a:xfrm flipV="1">
            <a:off x="1600200" y="4038120"/>
            <a:ext cx="38160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Straight Arrow Connector 5"/>
          <p:cNvCxnSpPr/>
          <p:nvPr/>
        </p:nvCxnSpPr>
        <p:spPr>
          <a:xfrm flipV="1">
            <a:off x="3048120" y="4037760"/>
            <a:ext cx="305280" cy="213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 Line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can not rejec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17 &g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no firm evidence pits better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:    not much in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irm evidence pits better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:    not much in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irm evidence pits better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:    not much in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Issue:   since 73% = observed rate for pits &gt; 60% (surger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irm evidence pits better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:    not much in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Issue:   since 73% = observed rate for pits &gt; 60% (surgery), may want to ga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”  =  P[X ≥ 11 | p = 6]  =  0.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irm evidence pits better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:    not much in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Issue:   since 73% = observed rate for pits &gt; 60% (surgery), may want to ga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ight show value of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Pits vs.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 “cure rate” of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&amp;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  New method need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 it’s wor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put burden of proof on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nother Fu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nother Fu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= Outer su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nother Fu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= Outer su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vature” import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nother Fu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= Outer su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vature” import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t ma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NORMLWR.MPG" descr=""/>
          <p:cNvPicPr/>
          <p:nvPr/>
        </p:nvPicPr>
        <p:blipFill>
          <a:blip r:embed="rId1"/>
          <a:stretch/>
        </p:blipFill>
        <p:spPr>
          <a:xfrm>
            <a:off x="5105520" y="2416320"/>
            <a:ext cx="37335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t ma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mage is on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NORMLWR.MPG" descr=""/>
          <p:cNvPicPr/>
          <p:nvPr/>
        </p:nvPicPr>
        <p:blipFill>
          <a:blip r:embed="rId1"/>
          <a:stretch/>
        </p:blipFill>
        <p:spPr>
          <a:xfrm>
            <a:off x="5105520" y="2416320"/>
            <a:ext cx="37335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t ma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mage is on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“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NORMLWR.MPG" descr=""/>
          <p:cNvPicPr/>
          <p:nvPr/>
        </p:nvPicPr>
        <p:blipFill>
          <a:blip r:embed="rId1"/>
          <a:stretch/>
        </p:blipFill>
        <p:spPr>
          <a:xfrm>
            <a:off x="5105520" y="2416320"/>
            <a:ext cx="37335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at ma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mage is on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“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oo messy for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ummar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NORMLWR.MPG" descr=""/>
          <p:cNvPicPr/>
          <p:nvPr/>
        </p:nvPicPr>
        <p:blipFill>
          <a:blip r:embed="rId1"/>
          <a:stretch/>
        </p:blipFill>
        <p:spPr>
          <a:xfrm>
            <a:off x="5105520" y="2416320"/>
            <a:ext cx="37335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: 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NORM100.MPG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5905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: 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:  follow “direction”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sp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NORM100.MPG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5905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: 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:  follow “direction”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space, that 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pulation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NORM100.MPG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5905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Pits vs.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 “cure rate” of p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cure rate of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peting treat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4"/>
          <p:cNvCxnSpPr/>
          <p:nvPr/>
        </p:nvCxnSpPr>
        <p:spPr>
          <a:xfrm flipH="1" flipV="1">
            <a:off x="3504960" y="3504600"/>
            <a:ext cx="3816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pulation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NORM100.MPG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5905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pulation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ot –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NORM100.MPG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5905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pulation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ot –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rule astigma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gure 8 patt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NORM100.MPG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5905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pulation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ot –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rule astigma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gure 8 patt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NORM100.MPG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5905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ured by p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ured by p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above saw 11 / 25 not conclus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w suppose stronger evi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1447920" y="274320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1447920" y="2743200"/>
                <a:ext cx="4593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e conclusive than before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447920" y="2743200"/>
                <a:ext cx="6529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6      vs.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≥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 X  had been  13 out of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e conclusive than before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w much stronger is the evidenc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1447920" y="2743200"/>
                <a:ext cx="6529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2-11T05:01:06Z</dcterms:modified>
  <cp:revision>568</cp:revision>
  <dc:subject/>
  <dc:title>Slide 1</dc:title>
</cp:coreProperties>
</file>