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  <p:sldId id="427" r:id="rId177"/>
    <p:sldId id="428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slide" Target="slides/slide172.xml"/><Relationship Id="rId178" Type="http://schemas.openxmlformats.org/officeDocument/2006/relationships/slide" Target="slides/slide173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583-6287-447A-B5A1-0C75C80C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C48-6115-4230-B25D-6DBB8B04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0349-A304-4B67-9B0E-258F5CD7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FD3-BDE2-4E95-84D4-56186C27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FA0F-A17A-4ABF-BE04-A5DD6E5E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C58-79AE-48AD-9DD4-E814A26F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75E-6013-4462-AB3A-123148B0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24E7-2B3F-47A9-8059-8170A328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E5A-1B23-465D-9D3E-D20EB46C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B2C-4E9D-4B1B-AC4F-EE4B5214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5C3D-65B4-4484-A71B-7FEC9659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5498-6D3E-451E-A6F5-7D803583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6D4-57A6-4DCF-9DA4-D20AEF60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07B-1580-4B41-BCA8-677343ABB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7E20-E2C6-4352-8FF3-64244FC5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4340-7B6E-4903-93F5-96CB5C8A4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4011-B812-468D-9E12-5EE75A57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598F-5747-47FD-AE88-1F822637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4D5-4595-4AA5-9346-46A42372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84B-3E83-483E-93B1-C28D99330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0796-3298-4831-B1E4-31635208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D24-7A2D-4CD5-8856-8A03594C4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FB3-BE29-4986-BC63-61AFF88F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624-4545-48BB-B8DB-F03F6101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1D3F-21CA-4283-8CBE-3977532A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410-F2D1-4B8C-A4FB-55E0F408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671-6986-46CA-BD5B-B073E85A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0AA-09E3-4817-828E-61D6B79D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214A-019F-46F3-B9FD-BAC6479B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CCB-A242-425D-8867-EC2A225C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1D4-D538-4E59-A99A-92F23310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F683-D386-4957-8C1C-ED8334B7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589-5AFE-4628-B856-08B82F4B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17E-4899-4EAA-8F7C-5E8F77D32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290-F02D-44B3-92D2-8FED8FDF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2DE-CB10-48D5-BF0D-B5766A775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8706-903A-414F-AD09-49D43582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05D-E9B8-40D0-AB73-805C10BE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8C8-815B-48A0-86D5-D23E7F2A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9B0-AD80-40A5-9909-EE60014D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C05-0969-48EE-B7B7-C51D7DC4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FF1-7036-4B15-8E12-4B7411F0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621-B2F1-44F0-A474-2BFC66C1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AE4-CEBC-4F55-9E00-D7E7568C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EDC9-F93C-4F0A-ABB7-7C4B27D1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BB12-A770-4076-8354-E2426D71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36B-F444-4F84-A34E-0551CAC2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319-3B62-48A2-B594-4AF807506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3FCB-825A-49A7-86AD-B0707CA3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943-0A96-435A-8ACB-B4A65051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6FF-4174-4617-BD2A-F6C2C5D4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44D-B8A6-47FF-A7AE-025AA4E3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6B9-0008-41FB-85E4-05CD9BF3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AD4-24C8-43A4-A73E-FE5487E7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B341-1932-4405-BC76-E6FE54B4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97F6-7795-4618-87A4-952E12AB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C19-5FEE-4AC8-9F5B-217BFD8F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94AC-8421-4DDF-9F93-A939BC31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6F3C-D4B2-49C6-A1D0-AE8C6B9D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EAF-721C-4032-A132-20EB3D81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A4A6-FC6C-4313-9948-4E1D1FC5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6065-E103-4EFE-BA73-A736B02B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7F19-9926-4FD4-BEF9-7236D257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2BA-19BA-43BC-A956-B3E73951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E9AB-F609-41CF-8BBE-EC55CC63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900-1931-49F1-9146-95FFD1749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07F-CEA3-4390-A7F8-D9ABBDCAA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92F-7102-405A-A3E5-1A4F0C42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CA33-C506-4456-834D-7ECD0E86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B1F-9E2F-42D6-BCFB-7AC48873B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A765-5C01-4B64-BC92-7030AC7E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879-BAA1-479D-A79F-83C890FA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BA66-A67E-417D-8A04-01D7E8AB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2392-E471-43DF-8793-D7A36FCD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66C5-C6AB-465E-A158-2CD7BF22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FD3-ECDE-454F-BAC8-7644DCB1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E675-0797-4C8D-BEEC-DC4F5C01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676-92F9-47A4-B003-8EC7BC40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63B-9662-4368-8722-7B2431BB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15BA-C952-43F3-B385-77A0732F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8B4-E397-4560-8BAB-4B8CC62A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CCF2-D2AB-45E2-BEF3-456D12B8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AC0C-DF6C-4550-8CC2-8F49F979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459D-67D6-413E-9383-E56989FF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C02F-93D9-4CEA-9D31-432302CE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4FE3-C96D-4BC7-8874-D569EA16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27D-0500-4CB0-B860-BF6500FF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D5B-C7F1-484C-A47F-E794EBF4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207F-E234-4753-8851-C5B41623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17F-EB63-47EC-BC02-78CF0550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8A6-F0FE-4507-A338-95A7F02A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B4D6-D185-48C2-B262-ECEF96A4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75D6-CE13-423D-AAAB-6FFAD5F43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E25D-AEE4-4687-9574-A5EF9C154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332-73EC-449F-9456-3B1DFF8D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FA7-5B95-4B58-B5E3-9DBB6E36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C47-6525-48AA-AF1C-285BE636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303-19CB-42BC-9C47-16CD25E2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0201-43EA-445A-860D-3FDC1FB0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C08-E56B-43C3-8679-D4E677C2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43F-AF2B-448E-8127-83DF502A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A8F7-1A0C-49B7-816C-15B193E7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943-8694-4694-8F5A-8538AFF5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AAE-418F-46A5-8AE1-8F0E9FED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4F54-19F7-4C6B-9D5D-5EA25852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15C-8663-4BAA-8791-A057F163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430-4396-4660-9CDB-82ACEC45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3A0F-8F1F-4FCA-98C4-2DE140F5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9EA-4BE9-49D2-9D57-02FD4DFB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A2BE-5A15-452F-93A3-472C4C3C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001-1FB1-42DA-ADA9-16A173EB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C1F-B6F7-4298-85F3-09AE0BA3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6ED-E415-4E62-A27E-95578432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AF47-C110-40E8-B1F5-9208FBAE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2EB-315F-471D-A36F-D1F31AEA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09A-F9D1-4567-85BE-0D49F0E7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3AA-E47A-4378-AF61-6647B399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C43-AD19-4E8B-A814-7C70DBC8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8ED-6AD7-41C8-9F94-FCB4068B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4C2A-0782-4E4A-A061-1D0ED8B1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4E9-D75C-47F8-B7D1-E9E352E9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DF4-8208-4B0F-97ED-74CB6981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07C-AED8-46FC-B598-BA4563E1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021-88E1-43DF-BDC1-116CA977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A83-195B-4B5E-9B5C-EECFAC1E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4E7-F8DA-41EA-A5BA-F4D87F8AF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A40-129C-4BDC-82D5-8D3755CCC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D651-9C16-4A66-BABF-45AFE63C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14A5-C7D2-4A33-9CAE-9255847D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193-08A5-4B2F-ABFE-27AA619E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61B-709C-4996-B8ED-0D31CBFD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9E15-12C7-49BE-85F2-79CEF9AF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38F-07FA-44B6-BD5C-548F3124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4725-4193-4FAA-9BF9-67E276A5E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5D2-29A0-4296-9770-9BE7C4FC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C41-04C0-4720-98D9-36763576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5A1-CE50-4CCF-A42D-F7A563BC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97C-43DB-4B47-95A9-36A5C7DD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96C-9711-4500-ADE5-401F3D18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EB6-18D9-4390-AB15-05183B16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FCE-14FA-487B-AE75-618621D6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44C-0BC0-4FFD-82F6-FA4D2846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353-DB49-4E31-AB3C-81E803CE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CBCB-0BF0-4B2B-A839-AEE36815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6F9-0429-4909-9BB7-58514DE2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8EC0-09DD-483A-96E7-6868CD8D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981-595A-4E03-AA6F-AB09CF80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A98E-327B-4A2B-AD21-3526FD1F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BB4-A944-4AE2-B020-25EF20AB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54C9-E347-48BD-A672-BF387AF46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C95F-9D18-4282-8936-B89CAEFC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042-ACF9-414A-AB8E-A9ACFEC4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4B3D-E079-4B90-847C-F010C18E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9CC-2FC4-4EB2-9BA2-24DF895A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7AFA-D46C-43A0-BB27-83E7C101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8F5-AF3D-45D2-93E8-23A97B9C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D4B1-3DA5-4B1C-9379-A90E97636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433-B892-4BC0-A5C5-77D87CA6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E92-9973-4589-965C-04BE91ED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1E8-9D1B-4135-98E2-0E9F33506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DC1-365F-45DC-86FD-13B596F2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B19-0187-4BEE-B35A-54F7C720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31D3-BCBD-4D73-B4DA-892F2CAB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9C87-0592-4BD4-8EC3-38BCFEE5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104-2F68-4D73-B85C-BBE7C4C9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7012-79E7-40B8-80F5-4954E9FA4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FED2-E111-4CC5-867C-4E521CE9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2F0-5C9E-40C5-A756-C9605470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B4E8-9A29-47A1-9B90-58488E45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BA6-BFDD-4BA1-8DB7-9A1D5B30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E78-52E6-4728-8A97-58B77130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AB85-C341-4351-AFBE-A93D8CB1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5D2-8DB9-4F5E-B790-95470BAC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5E2A-297F-47EC-9EEA-0EFF97CA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766-08DD-4E94-A58C-6145783F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274-C982-4E1A-8BE4-3522B28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D3A-64E5-4FE6-9443-D36960AC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2D5-32F3-4ECA-B39E-4128030A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8A1B-4D8B-442C-A238-159703A4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B87-2E8D-4C5C-9886-3D156CA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6E3-C9A0-4DBC-95C3-B7D619E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F58C-D747-4CE6-B804-665D3CE3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919F-D608-45F1-B084-B9BFAE0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C01-80A0-498B-A094-384D36CF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8BF0-CC04-43D5-8100-A110AB2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425-0D41-4A93-8993-82AA7E9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057D-28AB-448B-96C8-4FC7601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65AE-1D04-429D-B640-44C2203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D77C-68BD-4B1A-982C-C8619D74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B8B2-CEC7-48DB-A24C-1AFBACD2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EC96-7B71-4D04-ACFB-847C7635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3992-4564-496E-B642-BF76280A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1339-963A-406D-8397-162650E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42B0-790A-405C-B720-1AE8AAFF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CC06-E989-4E6C-B744-8478464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8039-7B9E-4F27-B4F3-7D2430F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9DA-24D2-4610-A7BF-8363581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A295-53E0-4275-A2A2-BCB64EC6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C9CC-F96B-4D1C-A875-9A097D0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3E1E-852F-4CB8-BA70-12E169E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12C9-DD62-497D-AE12-3DF9883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C20B-DEF9-4478-AD3F-DCA7329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7B4B-0294-4D54-9A4D-BAA41F1D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4239-9B7A-4332-87BF-CE0113E1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4B9-BF75-4136-8946-402321FA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B38-B1DC-4795-890B-8A9EAEEE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454-1364-4ED0-BE41-CB92390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E79-528F-470D-BA97-C6F94B7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615-ACA7-4CC4-A172-1B17998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EA3-3F70-496E-9AC3-D4CE79B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7C8-072C-4654-85CD-35E39F30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8406-ADB1-4039-B551-810C6B0D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425D-2EAA-4F70-964D-B19EB95A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5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-stat.stanford.edu/~cgates/PERSI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p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what saw or m.c. | Boundar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 con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sided vs. 2-s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keep HW problems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One “Root node” per HW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o p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 tree)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dist’n,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ed list by draw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val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dist’n,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ed list by draw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val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Bi(1,0.5)      (toss coins, count H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1, 1, 0, 0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ing of these as random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lower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Straight Arrow Connector 4"/>
          <p:cNvCxnSpPr/>
          <p:nvPr/>
        </p:nvCxnSpPr>
        <p:spPr>
          <a:xfrm flipH="1" flipV="1">
            <a:off x="4647600" y="2514240"/>
            <a:ext cx="68652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fferent symbol, to distinguish from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05" name="Straight Arrow Connector 5"/>
          <p:cNvCxnSpPr/>
          <p:nvPr/>
        </p:nvCxnSpPr>
        <p:spPr>
          <a:xfrm flipV="1">
            <a:off x="4343040" y="3047400"/>
            <a:ext cx="15246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fferent symbol, to distinguish from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hat” to indicate “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09" name="Straight Arrow Connector 5"/>
          <p:cNvCxnSpPr/>
          <p:nvPr/>
        </p:nvCxnSpPr>
        <p:spPr>
          <a:xfrm flipV="1">
            <a:off x="2895120" y="2819160"/>
            <a:ext cx="3048840" cy="205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above list:      1, 1, 1, 0, 0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keep HW problems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One “Root node” per HW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o p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 tree)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etter “Subject 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just dumb “Repl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er anything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make it clear to read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when “not following current l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above list:      1, 1, 1, 0, 0, 0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2286000" y="4267080"/>
                <a:ext cx="4724280" cy="213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the “empirical prob. dist’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frequency 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prob. dist’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st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’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the “empirical prob. dist’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frequency 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probability model for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ose random number fro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5867280" y="2438280"/>
                <a:ext cx="2743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(as in (i)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(as in (i)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ndom, so use ca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"/>
          <p:cNvCxnSpPr/>
          <p:nvPr/>
        </p:nvCxnSpPr>
        <p:spPr>
          <a:xfrm flipV="1">
            <a:off x="4951800" y="2515320"/>
            <a:ext cx="2520" cy="1675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struct frequency distribution  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6934320" y="3276720"/>
                <a:ext cx="81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33" name="Straight Arrow Connector 4"/>
          <p:cNvCxnSpPr/>
          <p:nvPr/>
        </p:nvCxnSpPr>
        <p:spPr>
          <a:xfrm flipH="1" flipV="1">
            <a:off x="6552720" y="2590200"/>
            <a:ext cx="20577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struct frequency distribution  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6934320" y="3276720"/>
                <a:ext cx="81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37" name="Straight Arrow Connector 4"/>
          <p:cNvCxnSpPr/>
          <p:nvPr/>
        </p:nvCxnSpPr>
        <p:spPr>
          <a:xfrm flipH="1" flipV="1">
            <a:off x="6552720" y="2590200"/>
            <a:ext cx="20577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4267080" y="4038480"/>
                <a:ext cx="18511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struct frequency distribution  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“hat” notation is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6934320" y="3276720"/>
                <a:ext cx="81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42" name="Straight Arrow Connector 4"/>
          <p:cNvCxnSpPr/>
          <p:nvPr/>
        </p:nvCxnSpPr>
        <p:spPr>
          <a:xfrm flipH="1" flipV="1">
            <a:off x="6552720" y="2590200"/>
            <a:ext cx="20577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4267080" y="4038480"/>
                <a:ext cx="18511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44" name="Straight Arrow Connector 6"/>
          <p:cNvCxnSpPr/>
          <p:nvPr/>
        </p:nvCxnSpPr>
        <p:spPr>
          <a:xfrm flipV="1">
            <a:off x="4190040" y="4571280"/>
            <a:ext cx="2293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struct frequency distribution  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“frequentist interpretation”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"/>
              <p:cNvSpPr txBox="1"/>
              <p:nvPr/>
            </p:nvSpPr>
            <p:spPr>
              <a:xfrm>
                <a:off x="6934320" y="3276720"/>
                <a:ext cx="81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48" name="Straight Arrow Connector 4"/>
          <p:cNvCxnSpPr/>
          <p:nvPr/>
        </p:nvCxnSpPr>
        <p:spPr>
          <a:xfrm flipH="1" flipV="1">
            <a:off x="6552720" y="2590200"/>
            <a:ext cx="20577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267080" y="4038480"/>
                <a:ext cx="18511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261-262,   9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0-276,   30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f start with  f(x),    and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struct frequency distribution  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“frequentist interpretation”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precise,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6934320" y="3276720"/>
                <a:ext cx="81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53" name="Straight Arrow Connector 4"/>
          <p:cNvCxnSpPr/>
          <p:nvPr/>
        </p:nvCxnSpPr>
        <p:spPr>
          <a:xfrm flipH="1" flipV="1">
            <a:off x="6552720" y="2590200"/>
            <a:ext cx="20577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267080" y="4038480"/>
                <a:ext cx="18511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5638680" y="5334120"/>
                <a:ext cx="8208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Straight Arrow Connector 13"/>
          <p:cNvCxnSpPr/>
          <p:nvPr/>
        </p:nvCxnSpPr>
        <p:spPr>
          <a:xfrm flipH="1">
            <a:off x="1523160" y="3123000"/>
            <a:ext cx="167724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7" name="Straight Connector 15"/>
          <p:cNvSpPr/>
          <p:nvPr/>
        </p:nvSpPr>
        <p:spPr>
          <a:xfrm>
            <a:off x="1295280" y="3886200"/>
            <a:ext cx="1526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Straight Arrow Connector 13"/>
          <p:cNvCxnSpPr/>
          <p:nvPr/>
        </p:nvCxnSpPr>
        <p:spPr>
          <a:xfrm>
            <a:off x="4038480" y="3123720"/>
            <a:ext cx="13723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8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Straight Arrow Connector 13"/>
          <p:cNvCxnSpPr/>
          <p:nvPr/>
        </p:nvCxnSpPr>
        <p:spPr>
          <a:xfrm>
            <a:off x="4800600" y="3123720"/>
            <a:ext cx="99144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1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4"/>
          <p:cNvSpPr/>
          <p:nvPr/>
        </p:nvSpPr>
        <p:spPr>
          <a:xfrm>
            <a:off x="579060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17"/>
          <p:cNvSpPr/>
          <p:nvPr/>
        </p:nvSpPr>
        <p:spPr>
          <a:xfrm flipH="1">
            <a:off x="579096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Straight Arrow Connector 13"/>
          <p:cNvCxnSpPr/>
          <p:nvPr/>
        </p:nvCxnSpPr>
        <p:spPr>
          <a:xfrm>
            <a:off x="5637600" y="3123720"/>
            <a:ext cx="38196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6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4"/>
          <p:cNvSpPr/>
          <p:nvPr/>
        </p:nvSpPr>
        <p:spPr>
          <a:xfrm>
            <a:off x="579060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7"/>
          <p:cNvSpPr/>
          <p:nvPr/>
        </p:nvSpPr>
        <p:spPr>
          <a:xfrm flipH="1">
            <a:off x="579096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traight Connector 21"/>
          <p:cNvSpPr/>
          <p:nvPr/>
        </p:nvSpPr>
        <p:spPr>
          <a:xfrm>
            <a:off x="59428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22"/>
          <p:cNvSpPr/>
          <p:nvPr/>
        </p:nvSpPr>
        <p:spPr>
          <a:xfrm flipH="1">
            <a:off x="59432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Straight Arrow Connector 13"/>
          <p:cNvCxnSpPr/>
          <p:nvPr/>
        </p:nvCxnSpPr>
        <p:spPr>
          <a:xfrm>
            <a:off x="6400800" y="3200040"/>
            <a:ext cx="766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14"/>
          <p:cNvSpPr/>
          <p:nvPr/>
        </p:nvSpPr>
        <p:spPr>
          <a:xfrm>
            <a:off x="579060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17"/>
          <p:cNvSpPr/>
          <p:nvPr/>
        </p:nvSpPr>
        <p:spPr>
          <a:xfrm flipH="1">
            <a:off x="579096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21"/>
          <p:cNvSpPr/>
          <p:nvPr/>
        </p:nvSpPr>
        <p:spPr>
          <a:xfrm>
            <a:off x="59428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22"/>
          <p:cNvSpPr/>
          <p:nvPr/>
        </p:nvSpPr>
        <p:spPr>
          <a:xfrm flipH="1">
            <a:off x="59432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18"/>
          <p:cNvSpPr/>
          <p:nvPr/>
        </p:nvSpPr>
        <p:spPr>
          <a:xfrm>
            <a:off x="64000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19"/>
          <p:cNvSpPr/>
          <p:nvPr/>
        </p:nvSpPr>
        <p:spPr>
          <a:xfrm flipH="1">
            <a:off x="64004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ready gives better impression than list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14"/>
          <p:cNvSpPr/>
          <p:nvPr/>
        </p:nvSpPr>
        <p:spPr>
          <a:xfrm>
            <a:off x="579060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 flipH="1">
            <a:off x="579096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21"/>
          <p:cNvSpPr/>
          <p:nvPr/>
        </p:nvSpPr>
        <p:spPr>
          <a:xfrm>
            <a:off x="59428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22"/>
          <p:cNvSpPr/>
          <p:nvPr/>
        </p:nvSpPr>
        <p:spPr>
          <a:xfrm flipH="1">
            <a:off x="59432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8"/>
          <p:cNvSpPr/>
          <p:nvPr/>
        </p:nvSpPr>
        <p:spPr>
          <a:xfrm>
            <a:off x="64000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9"/>
          <p:cNvSpPr/>
          <p:nvPr/>
        </p:nvSpPr>
        <p:spPr>
          <a:xfrm flipH="1">
            <a:off x="64004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what was 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4"/>
          <p:cNvCxnSpPr/>
          <p:nvPr/>
        </p:nvCxnSpPr>
        <p:spPr>
          <a:xfrm flipV="1">
            <a:off x="3886200" y="3123360"/>
            <a:ext cx="137232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representation for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 line, put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 (above)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           3              4              5        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much better when lists become “too long to compreh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4"/>
          <p:cNvSpPr/>
          <p:nvPr/>
        </p:nvSpPr>
        <p:spPr>
          <a:xfrm>
            <a:off x="380880" y="40384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5"/>
          <p:cNvSpPr/>
          <p:nvPr/>
        </p:nvSpPr>
        <p:spPr>
          <a:xfrm flipH="1">
            <a:off x="836280" y="3811680"/>
            <a:ext cx="3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8"/>
          <p:cNvSpPr/>
          <p:nvPr/>
        </p:nvSpPr>
        <p:spPr>
          <a:xfrm flipH="1">
            <a:off x="8077320" y="38098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9"/>
          <p:cNvSpPr/>
          <p:nvPr/>
        </p:nvSpPr>
        <p:spPr>
          <a:xfrm flipH="1">
            <a:off x="63241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0"/>
          <p:cNvSpPr/>
          <p:nvPr/>
        </p:nvSpPr>
        <p:spPr>
          <a:xfrm flipH="1">
            <a:off x="44953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1"/>
          <p:cNvSpPr/>
          <p:nvPr/>
        </p:nvSpPr>
        <p:spPr>
          <a:xfrm flipH="1">
            <a:off x="2666520" y="38098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5"/>
          <p:cNvSpPr/>
          <p:nvPr/>
        </p:nvSpPr>
        <p:spPr>
          <a:xfrm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6"/>
          <p:cNvSpPr/>
          <p:nvPr/>
        </p:nvSpPr>
        <p:spPr>
          <a:xfrm flipH="1">
            <a:off x="12952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2"/>
          <p:cNvSpPr/>
          <p:nvPr/>
        </p:nvSpPr>
        <p:spPr>
          <a:xfrm flipH="1"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20"/>
          <p:cNvSpPr/>
          <p:nvPr/>
        </p:nvSpPr>
        <p:spPr>
          <a:xfrm>
            <a:off x="5410080" y="3886200"/>
            <a:ext cx="152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4"/>
          <p:cNvSpPr/>
          <p:nvPr/>
        </p:nvSpPr>
        <p:spPr>
          <a:xfrm>
            <a:off x="579060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17"/>
          <p:cNvSpPr/>
          <p:nvPr/>
        </p:nvSpPr>
        <p:spPr>
          <a:xfrm flipH="1">
            <a:off x="579096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21"/>
          <p:cNvSpPr/>
          <p:nvPr/>
        </p:nvSpPr>
        <p:spPr>
          <a:xfrm>
            <a:off x="59428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22"/>
          <p:cNvSpPr/>
          <p:nvPr/>
        </p:nvSpPr>
        <p:spPr>
          <a:xfrm flipH="1">
            <a:off x="59432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8"/>
          <p:cNvSpPr/>
          <p:nvPr/>
        </p:nvSpPr>
        <p:spPr>
          <a:xfrm>
            <a:off x="640008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9"/>
          <p:cNvSpPr/>
          <p:nvPr/>
        </p:nvSpPr>
        <p:spPr>
          <a:xfrm flipH="1">
            <a:off x="6400440" y="38862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 of:    Number line, &amp;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 of:    Number line, &amp;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ave many data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ee all (overplot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nterp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(Text, Sec. 1.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(Text, Sec. 1.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ver visualization, for only pencil &amp;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hav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on’t study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(Text, Sec. 1.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udy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Displ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pic i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ar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think carefully to do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for attempts to foo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Displays:    Interesting Arti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isplay Data Bad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ard W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merican Statistici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38, 137-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links.jsto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Idea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ut 12 types of bad dis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reasons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some favori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ing the data in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rcRect l="11453" t="23791" r="9162" b="8922"/>
          <a:stretch/>
        </p:blipFill>
        <p:spPr>
          <a:xfrm>
            <a:off x="5791320" y="1981080"/>
            <a:ext cx="2678040" cy="41259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"/>
          <p:cNvPicPr/>
          <p:nvPr/>
        </p:nvPicPr>
        <p:blipFill>
          <a:blip r:embed="rId2"/>
          <a:srcRect l="9162" t="33920" r="9162" b="10600"/>
          <a:stretch/>
        </p:blipFill>
        <p:spPr>
          <a:xfrm>
            <a:off x="914400" y="3048120"/>
            <a:ext cx="3913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  Need to decid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&lt;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=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8769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876920" y="55627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8077320" y="55627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ye perceiv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“siz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1"/>
          <a:srcRect l="9162" t="21452" r="9162" b="9385"/>
          <a:stretch/>
        </p:blipFill>
        <p:spPr>
          <a:xfrm>
            <a:off x="5791320" y="1676520"/>
            <a:ext cx="2778120" cy="4748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2"/>
          <a:srcRect l="6872" t="30290" r="6872" b="11359"/>
          <a:stretch/>
        </p:blipFill>
        <p:spPr>
          <a:xfrm>
            <a:off x="1066680" y="3276720"/>
            <a:ext cx="3463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stical Folk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cales in Mid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ly trust the Po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1"/>
          <a:srcRect l="6872" t="21452" r="4581" b="8044"/>
          <a:stretch/>
        </p:blipFill>
        <p:spPr>
          <a:xfrm>
            <a:off x="4267080" y="1676520"/>
            <a:ext cx="3556080" cy="4840200"/>
          </a:xfrm>
          <a:prstGeom prst="rect">
            <a:avLst/>
          </a:prstGeom>
          <a:ln w="0">
            <a:noFill/>
          </a:ln>
        </p:spPr>
      </p:pic>
      <p:sp>
        <p:nvSpPr>
          <p:cNvPr id="706" name="Line 5"/>
          <p:cNvSpPr/>
          <p:nvPr/>
        </p:nvSpPr>
        <p:spPr>
          <a:xfrm>
            <a:off x="2209680" y="3505320"/>
            <a:ext cx="25146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will studies these in parallel for a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veral concepts appl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Straight Arrow Connector 4"/>
          <p:cNvCxnSpPr/>
          <p:nvPr/>
        </p:nvCxnSpPr>
        <p:spPr>
          <a:xfrm flipH="1" flipV="1">
            <a:off x="1980360" y="3123720"/>
            <a:ext cx="213444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6" name="Straight Arrow Connector 5"/>
          <p:cNvCxnSpPr/>
          <p:nvPr/>
        </p:nvCxnSpPr>
        <p:spPr>
          <a:xfrm flipH="1" flipV="1">
            <a:off x="2666520" y="2437560"/>
            <a:ext cx="144864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vari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sed on areas, se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r 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t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:  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(of numbers):    #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vari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sed on areas, se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r 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ye perceives area, so sensible to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conclude sign is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thus have grounds for compla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is a reasonable occurrenc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 values are:   x = 0, 1, … , 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 values are:   x = 0, 1, … , 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od picture from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-½, ½), [½, 1.5), [1.5, 2.5), … , [n-½, n+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 values are:   x = 0, 1, … , 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od picture from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-½, ½), [½, 1.5), [1.5, 2.5), … , [n-½, n+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[1.5, 2.5) is “all #s ≥ 1.5 and &lt; 2.5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 values are:   x = 0, 1, … , 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od picture from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-½, ½), [½, 1.5), [1.5, 2.5), … , [n-½, n+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[1.5, 2.5) is “all #s ≥ 1.5 and &lt; 2.5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led a “half open interv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e.g.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Straight Arrow Connector 4"/>
          <p:cNvCxnSpPr/>
          <p:nvPr/>
        </p:nvCxnSpPr>
        <p:spPr>
          <a:xfrm flipH="1" flipV="1">
            <a:off x="4494960" y="4190760"/>
            <a:ext cx="3056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pen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Straight Arrow Connector 4"/>
          <p:cNvCxnSpPr/>
          <p:nvPr/>
        </p:nvCxnSpPr>
        <p:spPr>
          <a:xfrm flipH="1" flipV="1">
            <a:off x="457128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9" name="Straight Arrow Connector 5"/>
          <p:cNvCxnSpPr/>
          <p:nvPr/>
        </p:nvCxnSpPr>
        <p:spPr>
          <a:xfrm flipV="1">
            <a:off x="4800240" y="4647960"/>
            <a:ext cx="610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pen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break 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Straight Arrow Connector 4"/>
          <p:cNvCxnSpPr/>
          <p:nvPr/>
        </p:nvCxnSpPr>
        <p:spPr>
          <a:xfrm flipH="1" flipV="1">
            <a:off x="457128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3" name="Straight Arrow Connector 5"/>
          <p:cNvCxnSpPr/>
          <p:nvPr/>
        </p:nvCxnSpPr>
        <p:spPr>
          <a:xfrm flipV="1">
            <a:off x="4800240" y="4647960"/>
            <a:ext cx="610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pen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These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"/>
          <p:cNvCxnSpPr/>
          <p:nvPr/>
        </p:nvCxnSpPr>
        <p:spPr>
          <a:xfrm flipH="1" flipV="1">
            <a:off x="4723920" y="3962160"/>
            <a:ext cx="137232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Straight Arrow Connector 5"/>
          <p:cNvCxnSpPr/>
          <p:nvPr/>
        </p:nvCxnSpPr>
        <p:spPr>
          <a:xfrm flipV="1">
            <a:off x="6095880" y="3962160"/>
            <a:ext cx="91512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nything for class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Straight Arrow Connector 4"/>
          <p:cNvCxnSpPr/>
          <p:nvPr/>
        </p:nvCxnSpPr>
        <p:spPr>
          <a:xfrm flipH="1" flipV="1">
            <a:off x="4647960" y="4647600"/>
            <a:ext cx="76248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Straight Arrow Connector 5"/>
          <p:cNvCxnSpPr/>
          <p:nvPr/>
        </p:nvCxnSpPr>
        <p:spPr>
          <a:xfrm flipV="1">
            <a:off x="5409000" y="4647600"/>
            <a:ext cx="2293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Prob.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Lists:    e.g.   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[1,3), [3,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nything for class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choices better than oth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traight Arrow Connector 4"/>
          <p:cNvCxnSpPr/>
          <p:nvPr/>
        </p:nvCxnSpPr>
        <p:spPr>
          <a:xfrm flipH="1" flipV="1">
            <a:off x="4647960" y="4647600"/>
            <a:ext cx="76248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5" name="Straight Arrow Connector 5"/>
          <p:cNvCxnSpPr/>
          <p:nvPr/>
        </p:nvCxnSpPr>
        <p:spPr>
          <a:xfrm flipV="1">
            <a:off x="5409000" y="4647600"/>
            <a:ext cx="2293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use  f(x)  for  [x-½, x+½)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use  f(x)  for  [x-½, x+½)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 Lists:   [1,3):   rel. freq. = 1/5 =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3,7):   rel. freq. = 4/5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Constructing Hist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nt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l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probabilities” or “relative frequencies” for each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If width = 1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width x height =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If width = 1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width x height =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by tak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ight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ach interval, draw rectangle wh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class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Probs:  If width = 1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width x height =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by tak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ight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wo, and drag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ea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e, and drag tw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-67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”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Colum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– Sele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orizontal – x’s,  “Add series”, Pr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ze, and move by dra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le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and chang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67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on Bars, Format Data Se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-67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Color, Solid Line,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-67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ptions,  Gap Width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5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rob.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lum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ba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everal, for interesting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derstand this by visualizing #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0% of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ast 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1"/>
          <p:cNvCxnSpPr/>
          <p:nvPr/>
        </p:nvCxnSpPr>
        <p:spPr>
          <a:xfrm flipV="1">
            <a:off x="1981080" y="4190760"/>
            <a:ext cx="1524960" cy="1676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98" name="Straight Arrow Connector 23"/>
          <p:cNvCxnSpPr/>
          <p:nvPr/>
        </p:nvCxnSpPr>
        <p:spPr>
          <a:xfrm flipH="1">
            <a:off x="7848000" y="2590560"/>
            <a:ext cx="76680" cy="2819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 flipV="1">
            <a:off x="1447200" y="4114440"/>
            <a:ext cx="4648680" cy="99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Straight Arrow Connector 23"/>
          <p:cNvCxnSpPr/>
          <p:nvPr/>
        </p:nvCxnSpPr>
        <p:spPr>
          <a:xfrm flipH="1">
            <a:off x="4114440" y="2590920"/>
            <a:ext cx="38160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nce 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also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21"/>
          <p:cNvCxnSpPr/>
          <p:nvPr/>
        </p:nvCxnSpPr>
        <p:spPr>
          <a:xfrm flipH="1" flipV="1">
            <a:off x="1447200" y="4114440"/>
            <a:ext cx="4648680" cy="99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7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4"/>
          <p:cNvCxnSpPr/>
          <p:nvPr/>
        </p:nvCxnSpPr>
        <p:spPr>
          <a:xfrm flipH="1" flipV="1">
            <a:off x="6552360" y="4114440"/>
            <a:ext cx="229320" cy="1753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7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2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paces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8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91" name="Straight Connector 22"/>
          <p:cNvSpPr/>
          <p:nvPr/>
        </p:nvSpPr>
        <p:spPr>
          <a:xfrm>
            <a:off x="12193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3"/>
          <p:cNvSpPr/>
          <p:nvPr/>
        </p:nvSpPr>
        <p:spPr>
          <a:xfrm flipH="1">
            <a:off x="2057400" y="46483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25"/>
          <p:cNvSpPr/>
          <p:nvPr/>
        </p:nvSpPr>
        <p:spPr>
          <a:xfrm flipV="1">
            <a:off x="2438280" y="41911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paces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 3 spaces in other direc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7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10" name="Straight Connector 22"/>
          <p:cNvSpPr/>
          <p:nvPr/>
        </p:nvSpPr>
        <p:spPr>
          <a:xfrm>
            <a:off x="12193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23"/>
          <p:cNvSpPr/>
          <p:nvPr/>
        </p:nvSpPr>
        <p:spPr>
          <a:xfrm flipH="1">
            <a:off x="2057400" y="46483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5"/>
          <p:cNvSpPr/>
          <p:nvPr/>
        </p:nvSpPr>
        <p:spPr>
          <a:xfrm flipV="1">
            <a:off x="2438280" y="41911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26"/>
          <p:cNvSpPr/>
          <p:nvPr/>
        </p:nvSpPr>
        <p:spPr>
          <a:xfrm>
            <a:off x="3733920" y="4191120"/>
            <a:ext cx="11430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7"/>
          <p:cNvSpPr/>
          <p:nvPr/>
        </p:nvSpPr>
        <p:spPr>
          <a:xfrm flipV="1">
            <a:off x="2971800" y="4648320"/>
            <a:ext cx="190512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8"/>
          <p:cNvSpPr/>
          <p:nvPr/>
        </p:nvSpPr>
        <p:spPr>
          <a:xfrm flipV="1">
            <a:off x="48769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uters, no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write Excel formulas  (e.g. =9+4^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rithmetic  (e.g. use such formu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4"/>
          <p:cNvCxnSpPr/>
          <p:nvPr/>
        </p:nvCxnSpPr>
        <p:spPr>
          <a:xfrm flipH="1" flipV="1">
            <a:off x="7238160" y="3656880"/>
            <a:ext cx="3819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 straight los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reasonab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 Conclusion: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fuzzy zone”, some evidence, but not too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sam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uters, no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write Excel formulas  (e.g. =9+4^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rithmetic  (e.g. use such formu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5 x 11 inch sheet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vorite info (formulas, Excel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4"/>
          <p:cNvCxnSpPr/>
          <p:nvPr/>
        </p:nvCxnSpPr>
        <p:spPr>
          <a:xfrm flipH="1" flipV="1">
            <a:off x="7238160" y="3656880"/>
            <a:ext cx="3819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sam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,  “≠”  became  “&lt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sam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,  “≠”  became  “&lt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2-sided  hypo  became  1-sided hy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sam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,  “≠”  became  “&lt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2-sided  hypo  became  1-sided hy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can have maj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4"/>
          <p:cNvCxnSpPr/>
          <p:nvPr/>
        </p:nvCxnSpPr>
        <p:spPr>
          <a:xfrm flipV="1">
            <a:off x="2057400" y="3809160"/>
            <a:ext cx="3582000" cy="129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 X ≤ 0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 X ≤ 0 | p = 0.3]  = 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uters, no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write Excel formulas  (e.g. =9+4^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rithmetic  (e.g. use such formu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5 x 11 inch sheet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vorite info (formulas, Excel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4"/>
          <p:cNvCxnSpPr/>
          <p:nvPr/>
        </p:nvCxnSpPr>
        <p:spPr>
          <a:xfrm flipH="1" flipV="1">
            <a:off x="7238160" y="3656880"/>
            <a:ext cx="3819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&lt;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 X = 0 or m. c.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 X ≤ 0 | p = 0.3]  = 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rong evidence that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P[win] diff’t from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P[win] diff’t from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P[win] diff’t from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logic of statistical significance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“ordinary log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 of Yes-No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P[win] diff’t from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logic - stat. sig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ordinary log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54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for 2-sided, uncertainty comes from both sides, just adds to gra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Evidence still flaky, but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appy with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Evidence still flaky, but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y level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Evidence still flaky, but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y level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o cutoff, just “somewhat stronger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Question:        Same set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clude:    P[win] &lt; 30%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de  P[win] &lt;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Evidence still flaky, but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y level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o cutoff, just “somewhat stronger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-640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I recommend gra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rongly affects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rongly affects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rongly affects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ion of “P[win]≠30%”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fferent from usu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so bad with Gray Leve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:    1-sided  vs.  2-sided  issues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so bad with Gray Level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trong”                          p-val &lt; 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” – “flaky”      0.01 ≤ p-val ≤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k”                   0.1 &lt; p-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 C14:    Answer from both gray-level and yes-no view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-6328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TV ad claims that 30% of people prefer Brand X.  Should we dispute this claim if a random sample of 10 people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6328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people who prefer Brand X  (p-val = 0.7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6328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people who prefer Brand X  (p-val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6328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 people who prefer Brand X  (p-val = 0.0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6328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people who prefer Brand X  (p-val = 5.9e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appy with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nk 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“where to p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urrent Thread HW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“diffusion of ques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ind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 C14:    Answer from both gray-level and yes-no view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manager asks 12 workers, of whom 7 say they are satisfied with working conditions.  Does this contradict the CEO’s claim that ¾ of the workers are satis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p-val = 0.3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.22a, ignore “z statistic” (p-val = 0.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.29a, ignore “sketch …” (p-val = 0.1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ing &amp;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ing &amp;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Useful thought models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ing &amp;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Useful thought models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e’ve calculated various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ing &amp;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Useful thought models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e’ve calculated various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del for “randomnes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ing &amp;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Useful thought models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e’ve calculated various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odel for “randomnes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But how </a:t>
            </a:r>
            <a:r>
              <a:rPr b="0" lang="en-US" sz="3200" spc="-1" strike="noStrike" u="sng">
                <a:solidFill>
                  <a:srgbClr val="ccff66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are they re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Excellent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rof. Persi Diaconis (Stanford U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Excellent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rof. Persi Diaconis (Stanford U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stat.stanford.edu/~cgates/PERS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appy with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nk 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“where to p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urrent Thread HW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“diffusion of ques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ind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keep HW problems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One “Root node” per HW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rcRect l="1366" t="22475" r="4097" b="6421"/>
          <a:stretch/>
        </p:blipFill>
        <p:spPr>
          <a:xfrm>
            <a:off x="2590920" y="2590920"/>
            <a:ext cx="63309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rof. Persi Diaconis (Stanford U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rained as performing mag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rof. Persi Diaconis (Stanford U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rained as performing mag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egendary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50000"/>
              </a:lnSpc>
              <a:spcBef>
                <a:spcPts val="700"/>
              </a:spcBef>
              <a:buClr>
                <a:srgbClr val="cc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He tosses coin, you call it, he catches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coin to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rof. Persi Diaconis (Stanford U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rained as performing mag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egendary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50000"/>
              </a:lnSpc>
              <a:spcBef>
                <a:spcPts val="700"/>
              </a:spcBef>
              <a:buClr>
                <a:srgbClr val="cc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He tosses coin, you call it, he catches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oin tosses </a:t>
            </a:r>
            <a:r>
              <a:rPr b="0" lang="en-US" sz="3200" spc="-1" strike="noStrike" u="sng">
                <a:solidFill>
                  <a:srgbClr val="ccff66"/>
                </a:solidFill>
                <a:uFillTx/>
                <a:latin typeface="Arial"/>
              </a:rPr>
              <a:t>not really 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andomness in die ro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DieRolling.wmv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olve using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Straight Arrow Connector 4"/>
          <p:cNvCxnSpPr/>
          <p:nvPr/>
        </p:nvCxnSpPr>
        <p:spPr>
          <a:xfrm flipV="1">
            <a:off x="2970720" y="2818800"/>
            <a:ext cx="1143720" cy="1524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ind dist’n, use to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ind dist’n, use to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given amount of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n dist’n, answer “yes-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ind dist’n, use to measure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given amount of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.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Straight Arrow Connector 3"/>
          <p:cNvCxnSpPr/>
          <p:nvPr/>
        </p:nvCxnSpPr>
        <p:spPr>
          <a:xfrm flipV="1">
            <a:off x="1371240" y="3961800"/>
            <a:ext cx="335340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6"/>
          <p:cNvCxnSpPr/>
          <p:nvPr/>
        </p:nvCxnSpPr>
        <p:spPr>
          <a:xfrm flipV="1">
            <a:off x="1371600" y="4571640"/>
            <a:ext cx="38160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BlackBoard 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keep HW problems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One “Root node” per HW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5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etter prob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visualizing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y to “alternate representatio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Straight Arrow Connector 3"/>
          <p:cNvCxnSpPr/>
          <p:nvPr/>
        </p:nvCxnSpPr>
        <p:spPr>
          <a:xfrm flipV="1">
            <a:off x="1447920" y="2437560"/>
            <a:ext cx="8388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Straight Arrow Connector 6"/>
          <p:cNvCxnSpPr/>
          <p:nvPr/>
        </p:nvCxnSpPr>
        <p:spPr>
          <a:xfrm flipV="1">
            <a:off x="1447920" y="1675800"/>
            <a:ext cx="3052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Visually represent “distributions” (2 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Visually represent “distributions” (2 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 (e.g. Binom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Visually represent “distributions” (2 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 (e.g. Binom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by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Visually represent “distributions” (2 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 (e.g. Binom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by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,   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Visually represent “distributions” (2 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s (e.g. Binom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by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umbers,   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ubscripts to index different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Straight Arrow Connector 4"/>
          <p:cNvCxnSpPr/>
          <p:nvPr/>
        </p:nvCxnSpPr>
        <p:spPr>
          <a:xfrm flipV="1">
            <a:off x="4724280" y="5486040"/>
            <a:ext cx="1533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Straight Arrow Connector 5"/>
          <p:cNvCxnSpPr/>
          <p:nvPr/>
        </p:nvCxnSpPr>
        <p:spPr>
          <a:xfrm flipV="1">
            <a:off x="4724280" y="5333400"/>
            <a:ext cx="19058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lists:        (will often use be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“#’s of Males, from HW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lists:        (will often use be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“#’s of Males, from HW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, 4.5, 4.7, 4.8, 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13T04:26:34Z</dcterms:modified>
  <cp:revision>617</cp:revision>
  <dc:subject/>
  <dc:title>Slide 1</dc:title>
</cp:coreProperties>
</file>