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2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289-EE9F-4307-BBFF-3D6D3BD7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D1E-BD45-4729-B776-282C6BBF3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5D4-50EB-480D-8C3D-1AF89247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C04-7701-4F4E-8D72-E1B773D6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8F2-662C-47FE-BB32-B34B781D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8C4-29A7-4370-BB59-5CE3F90F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C5B-0D36-4372-BE33-937F9D21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5B6-8479-4F46-8714-5DE08AA9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A18-FD49-4858-8C58-9A6467B4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BAC-66A8-4CC1-9640-CFDB6B09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7DF-D6F9-4275-AFDC-B592BE45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7A6-89AE-4A5B-99B7-E6159116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D71-C741-4FF2-82A4-13CF565A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6D4-4059-41A6-86E4-10A222B6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CAE-A696-4972-A0BF-6BD639D7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F3C-8ECD-4CF5-AC30-3388C806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AC8-DB10-48E0-87AD-69EB93C3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085-E5C0-45B6-8064-CD50E4242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1D0-EC35-4E88-88A3-F3DD26067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999-4A1F-4465-8B24-2A5E2FE0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4D1-DA72-45C3-BD50-AB476682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A931-01F2-4347-8ECB-F5B80104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FEC-E9AF-448C-9F04-38FC0C38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F8FB-9A33-45EE-8B33-E56CA06D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5B3-7D01-4FE5-B37F-F9B9E494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43F-68CB-4029-A20D-A2E838D6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B0AD-BE3D-43A1-93E7-71BFF6AE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C98-47EC-475F-9BF2-1B543BF4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FB0-5BD3-415D-B604-F06D100B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0EC9-1021-40A1-8F01-EFB1B64E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7E54-E52E-4433-A34E-F2987968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AF3-8F19-479D-9201-3B3FE85F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21F9-CD82-4631-9526-8BC03D5C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CAB-1AB5-4C7D-BFAF-85CCA612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A3A-40E4-4DF3-8E89-ADC89AED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D2A-0E1B-4918-A91F-7E52EF65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224-746B-453A-97D5-DF80B2E1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F882-361A-411C-92A7-0DFD925B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E8B-181F-46C9-9471-4A56F4FAE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9C5-283D-4F64-84C1-E3DEB5B6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11C0-99DA-414C-8080-ACC2D72C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2118-DE54-484D-BDA1-1D067452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515-B4EF-42FE-A514-5C2D4E3F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859-2CDB-4ABA-967F-D0872209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575-FF1A-472A-AD60-8880C87D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862-4E43-4017-9B92-6CBD9B81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EB5-F335-4B12-AA62-1EEFF77D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0E9-8BF0-407F-9632-AB00EEEA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C46-00F4-4F38-B8BA-379B67C6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15D1-E615-4354-A950-0CD1F108F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EE9-2022-45C7-851C-4ABBA745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E77-C568-4FFD-A2E9-D63E77D3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777-D817-49E6-B177-235BAABC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1CF-5A0E-4D70-9775-25220B32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1C6-E0F0-4930-9E95-F4B69D68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DA0-FC98-4E0B-A80F-5D3F055D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745-D9E6-4DB7-80C7-7FA68286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F7F-A0FB-4941-B4C2-F31823F5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D2F-EFE0-4149-8CE1-83C61772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B87A-33F2-4CBE-A7F0-1A462912F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171-BBEF-44F6-851E-6E76CB2B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EAD-80AC-4D7B-BAC5-79DB85E3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87C-9E47-4B45-9BDB-9F221CB2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B414-7DF1-4B51-BCD2-ABFD241B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F9C-8321-4CDE-9175-EDDE9906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689D-3923-4E81-9ACE-4E5404F9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C9B-34B5-4B3F-A242-64AC1770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5789-12E3-43AA-B19F-B4B64285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4F50-E98E-4F93-9DDD-04FA1C40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7EB-B8AA-4FE1-B9FD-2689600B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44D-9EF1-4E01-B52F-73A8B149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18A-7D63-4F03-BA59-2B9E4AC4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3BA-1FE2-4ADA-A4F6-A06F5453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F93D-1AF8-48BE-A7BC-8B36A56C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2AF-BB17-4E56-B2C2-D2E2F987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788C-44B6-42C0-95A1-E99A881FF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C3FC-B73E-47CF-B651-83260DAB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31B-4DAE-4088-A4F0-ECD2C21A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07B-4275-4D5D-9DD5-878196E5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64CB-5867-4A4F-8C49-DF31886C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E9D-88FC-4975-B6D1-FFD16A01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93BD-E7B1-4BAA-A0F8-D67EFF49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38F-704C-4FB3-AA2B-C41DB584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9B61-E396-4E33-95ED-02DEC9B38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DF4-1C9F-4585-B431-0612FBE9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701-5872-41F0-993C-7D55137C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29D-F793-4906-BD10-DF497A81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B98-1A00-4CCD-B0E1-FD3365F5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69B-76F5-48A3-9537-FC40CC46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6B4-B996-41C6-8607-ED3C22FB3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8E8-97B9-4D01-BF49-9B132F3D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CA0-C8E0-4A1E-970C-55FC46B9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3A4-C9D5-4C36-9DC1-B2FFEAD1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A93-3452-4D9E-92A8-DA6C06E16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7721-4196-4505-93A8-CE2EED0FD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90F8-9972-4858-92EE-585D1BF2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3A66-1D47-4696-850B-55CC6BF4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3C9-C74E-497F-87AE-E8CF9C3A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C03A-E165-4F60-8E5A-70FA5BA8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6C1-4559-4EA2-B7C7-54E2C285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9653-F669-4B1D-99BE-E31B0840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AE4-49CD-4C70-9549-9DFDDBE0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23F-D57A-4351-8CA6-E04AF14E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4A5-4099-45B2-9061-B5F7AF69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FD44-B3DE-4EAB-BB28-8DE28748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6AB9-40D4-482F-B3A3-DF851E64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8A57-2530-4045-AD14-F3D16E5A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271-5480-4DDE-9601-50C6087A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05C-C56F-47B0-8117-C1F8E871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E09-96FE-4D2F-BBF2-EDC281DD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ED28-05C2-4278-8899-657E55D1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87AC-73F1-4A77-9119-93D28EEE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1F6-F66F-45ED-A6B5-F6C87725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1458-D3E1-4868-BA11-E0E3E8804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85F-69FE-4FA4-AF12-5EF59A02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D31-9C58-4EA8-96AB-8C29732E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7A1-2CC0-4EAB-840A-0F402F1E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D4E-9AE3-41C6-A366-747EC41E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A77B-D28B-4769-B4AC-12BB511D2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ED1-0F33-4F0A-9E7A-D2E840AB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7853-9CC8-4A01-B08C-384704FC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A8E-E4D0-4E26-8EAA-E69128B4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EFB-35C3-42AC-A8E3-388CCCF9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C95E-12F5-4567-B240-DD556F42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3B84-CAC6-498A-872F-32C7F645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A3D0-DB31-4694-9B28-E72DB16B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BD41-581B-40A2-B2FB-38FA6BEA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D8E-B5AB-4A4B-A4A8-C1B8E272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67B-53AA-4C29-9014-E643EC68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726D-6D95-441B-85B7-D01924F7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ABA7-575D-4D67-83AB-32DAA19A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C2D-EF7C-4C6F-A4AE-96AFD7818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60F-73B0-4C89-BC6D-C19BD0E6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CCB-7F64-456A-AEF9-AC706E03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0B2-1C05-4361-8F38-BC9452E8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D770-95EC-4BE8-9D3F-B53B1404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448D-1FBF-4450-8491-E12D7232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B371-68A7-4031-8F4B-1E4FCB02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9E9-0E7C-4991-ABAF-7A64053B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F72-6BD4-45EE-8044-47360D46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297-6BDB-4AC4-B1B9-AA60CDE9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105B-06D7-4895-A763-2D0101EC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13A2-0441-4B19-812D-AD4642C3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0D5-B7BC-40F9-97D9-72F449A4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B06-3424-4FE1-99FC-559E918E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198-FF84-4A95-BBD6-43C440DF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C81-6C1B-4467-8EDB-4C6D3AF9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8C0A-AEEF-4F34-B55D-3C903A3E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B42-9EEE-49BA-96DB-1127FF05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58E-D197-4BE5-98F9-04F99B5C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E1D-59DF-46FB-BBE9-F2719764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DD6C-2637-413B-90FF-C0621239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98CD-FCFC-43D7-BCAB-B0D2D8FD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82D-403F-457C-BCA4-C6A1D005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EB69-A1FC-4689-BFFF-876924E3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081-535F-44AE-88A6-A2E07180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CF6-9C64-4F34-BEE8-E143DEBDD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2CD-E97E-4205-A5F2-014BB39C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0D5D-3487-4C3B-8240-0FE94855E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A72-B21B-414E-A39A-7A43A9DC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D49C-7FB2-48B8-9AF0-BDFC42FC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694F-7ED6-41E7-B637-96A37BF7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AFA-D928-40A2-8977-26D85938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6CE-7907-444E-8DDA-0537A6EA8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1DF4-B7C6-405B-85EA-BF5D8F6F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B2EA-93DE-4337-B4EC-F8594115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F11-253E-4674-81A5-61A696D9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188-9B6E-46D8-B04E-50E9F8DF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C91-4B5E-4F5F-97C2-F2331E25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1BF-8F33-42C5-8E8A-1EF98184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ABC-6E53-414E-8755-2595C5E7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0F3-7CA3-4E59-BAE2-BD36246C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FFC-867A-4C3B-BD90-EE6A7004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55BC-F772-4D69-8CCD-9696AAE4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F6E7-E8DF-44B0-98AF-65775658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A43-F6DE-4955-B90D-F6D6E68F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872-8D59-480F-90E8-F7CE17E4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FA1-9C47-45DB-A2BF-302AB60C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D39-BA99-4423-8DBF-906EFE87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334-85C2-49DB-A876-EC491575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864A-6703-4E69-8E8F-6DA9FCFD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EF48-EAC2-4C11-979D-38C87B69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8EB6-FB33-4E85-A82E-8D41F8383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3CE-3AFA-4211-A7CC-6A5FCF73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8BE-D962-4FDF-92B3-F0A82F0D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2366-F37D-46E3-8011-F4A4F8DE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BD9-4CBE-4131-83BD-A65225F7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E69-DFA8-4FF0-8857-B4565131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E5E-2910-4667-BD75-84DDC21F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B75D-4340-41AD-B736-645919CDC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2327-5718-4503-BBCE-1E278B30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FDC-4B16-405C-80CB-CF48EEA7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608C-905B-4D3E-BE45-1ACAC31A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A81D-2F51-411E-9D2B-B49A40CF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205-101C-4094-8263-937337F9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B30-5D77-4A20-827A-2E396CA5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BC6-A1A1-4C04-8018-017CA7F2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DE76-F177-4B06-9A37-33CBDE2C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917-F9ED-4A96-8E7F-3F946343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183C-D398-4609-BDC7-8CF3CE72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B00-A70A-4138-995C-8AB90454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407-2D3E-42D8-BA7D-D743C50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14E-AAE8-41FE-B932-8A527B76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C40-95CE-49D1-9580-8EF6A80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BC5-2503-4A06-AB79-6ABB294A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B699-A5A4-4337-A72E-168BEDD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E7B2-42A0-4039-BBC4-7AC1F501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1CDC-A7F5-4DF1-AC66-E08F772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79C-FF97-489D-B1DE-DC1EAE73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F29-518E-4871-A984-D32BC695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D92-3745-4235-BA97-4E1C302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7DE-2461-4A65-9D87-88422948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AFF4-BA2F-418E-9932-6FF2F59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B3E8-2E89-4335-9E87-5ED5E90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5A12-B71E-4076-94F4-F7197109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AFD-EE47-4C2C-9CF1-460022CE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0DF-FF40-4F8D-B712-94AD8DCE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4FB-CFCC-47EA-A7E7-335DBF8C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8FA-51E2-4757-AF0B-8B8612B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CE5-F194-4210-92F0-3CD3FDA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78F-DA7D-4187-806D-7FBF1F59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70E-29C0-4455-B618-F771DD0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A1E-CB19-475A-9C44-CED1687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F62-14D7-4B8F-BEF6-D42330B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F8D-26A7-465E-B862-71ECF18D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0B9E-3E0B-4350-BA91-817C9084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6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sided vs. 2-sided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261-262,   9-14,   270-276,   30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279-282,   34-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bel vertical axis as “% per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bel vertical axis as “% per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 for “Class Interval”  is  “b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bel vertical axis as “% per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 for “Class Interval”  is  “b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of relative frequency as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that “fall into bin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bel vertical axis as “% per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 for “Class Interval”  is  “b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of relative frequency as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that “fall into bin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bins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bel vertical axis as “% per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 for “Class Interval”  is  “b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of relative frequency as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that “fall into bin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bins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mplification:  Equally 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bins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mplification:  Equally 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ve choice of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so very challen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C15   For th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8, 2.1, 2.6, 0.9, 2.2, 0.8, 2.2, 0.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histograms using the b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,1), [1,2), [2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.5,1.5), [1.5,2.5), [2.5,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82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,1), 1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Interesting to look at dif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C15   For th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8, 2.1, 2.6, 0.9, 2.2, 0.8, 2.2, 0.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histograms using the b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,1), [1,2), [2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.5,1.5), [1.5,2.5), [2.5,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0,1), 1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)  Why are bins [0,2), [1,3) inappropriat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)  Why are bins [1,2), [2,5) inappropriat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totals (in in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totals (in in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uffalo, N.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ind dist’n, use to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given amount of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.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3"/>
          <p:cNvCxnSpPr/>
          <p:nvPr/>
        </p:nvCxnSpPr>
        <p:spPr>
          <a:xfrm flipV="1">
            <a:off x="1371240" y="3961800"/>
            <a:ext cx="335340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6"/>
          <p:cNvCxnSpPr/>
          <p:nvPr/>
        </p:nvCxnSpPr>
        <p:spPr>
          <a:xfrm flipV="1">
            <a:off x="1371600" y="4571640"/>
            <a:ext cx="38160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totals (in in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uffalo, N.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 years, ranging from ~30 to ~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totals (in in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uffalo, N.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 years, ranging from ~30 to ~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snow, due to “lake ef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totals (in in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uffalo, N.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 years, ranging from ~30 to ~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snow, due to “lake ef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vailable in Class 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nd column of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vailable in Class 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nd column of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6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o histogra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3456000" y="3276720"/>
            <a:ext cx="5545080" cy="2666880"/>
          </a:xfrm>
          <a:prstGeom prst="rect">
            <a:avLst/>
          </a:prstGeom>
          <a:ln w="0">
            <a:noFill/>
          </a:ln>
        </p:spPr>
      </p:pic>
      <p:cxnSp>
        <p:nvCxnSpPr>
          <p:cNvPr id="994" name="Straight Arrow Connector 5"/>
          <p:cNvCxnSpPr/>
          <p:nvPr/>
        </p:nvCxnSpPr>
        <p:spPr>
          <a:xfrm flipV="1">
            <a:off x="2666520" y="3504600"/>
            <a:ext cx="68652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"/>
          <p:cNvPicPr/>
          <p:nvPr/>
        </p:nvPicPr>
        <p:blipFill>
          <a:blip r:embed="rId1"/>
          <a:stretch/>
        </p:blipFill>
        <p:spPr>
          <a:xfrm>
            <a:off x="3456000" y="3276720"/>
            <a:ext cx="5545080" cy="2666880"/>
          </a:xfrm>
          <a:prstGeom prst="rect">
            <a:avLst/>
          </a:prstGeom>
          <a:ln w="0">
            <a:noFill/>
          </a:ln>
        </p:spPr>
      </p:pic>
      <p:cxnSp>
        <p:nvCxnSpPr>
          <p:cNvPr id="998" name="Straight Arrow Connector 5"/>
          <p:cNvCxnSpPr/>
          <p:nvPr/>
        </p:nvCxnSpPr>
        <p:spPr>
          <a:xfrm>
            <a:off x="2666880" y="4495320"/>
            <a:ext cx="99144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Straight Arrow Connector 5"/>
          <p:cNvCxnSpPr/>
          <p:nvPr/>
        </p:nvCxnSpPr>
        <p:spPr>
          <a:xfrm flipV="1">
            <a:off x="2743200" y="2133000"/>
            <a:ext cx="129600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2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y to “alternate representatio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006" name="Straight Arrow Connector 5"/>
          <p:cNvCxnSpPr/>
          <p:nvPr/>
        </p:nvCxnSpPr>
        <p:spPr>
          <a:xfrm flipV="1">
            <a:off x="3733920" y="2666160"/>
            <a:ext cx="26672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for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010" name="Straight Arrow Connector 5"/>
          <p:cNvCxnSpPr/>
          <p:nvPr/>
        </p:nvCxnSpPr>
        <p:spPr>
          <a:xfrm flipV="1">
            <a:off x="4038480" y="3047400"/>
            <a:ext cx="2743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for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014" name="Straight Arrow Connector 5"/>
          <p:cNvCxnSpPr/>
          <p:nvPr/>
        </p:nvCxnSpPr>
        <p:spPr>
          <a:xfrm flipV="1">
            <a:off x="3429000" y="4114080"/>
            <a:ext cx="91512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for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018" name="Straight Arrow Connector 5"/>
          <p:cNvCxnSpPr/>
          <p:nvPr/>
        </p:nvCxnSpPr>
        <p:spPr>
          <a:xfrm flipV="1">
            <a:off x="3276720" y="4190400"/>
            <a:ext cx="320112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s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for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Histo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4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72148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022" name="Straight Arrow Connector 5"/>
          <p:cNvCxnSpPr/>
          <p:nvPr/>
        </p:nvCxnSpPr>
        <p:spPr>
          <a:xfrm flipV="1">
            <a:off x="3580920" y="5637960"/>
            <a:ext cx="6865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Output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Series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Output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Series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Gap 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Output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Series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Gap 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Border Col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Output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Series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Gap 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Border Col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ools – Design – Choose Ti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ly Chart Resul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Output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Series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Gap 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Data Series – Border Col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ools – Design – Choose Ti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6969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oun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in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oun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in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nterp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oun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oun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ata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and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Excel Default H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oun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ata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and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y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Chart 4" descr=""/>
          <p:cNvPicPr/>
          <p:nvPr/>
        </p:nvPicPr>
        <p:blipFill>
          <a:blip r:embed="rId1"/>
          <a:stretch/>
        </p:blipFill>
        <p:spPr>
          <a:xfrm>
            <a:off x="4565520" y="1822320"/>
            <a:ext cx="437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Chart 3" descr=""/>
          <p:cNvPicPr/>
          <p:nvPr/>
        </p:nvPicPr>
        <p:blipFill>
          <a:blip r:embed="rId1"/>
          <a:stretch/>
        </p:blipFill>
        <p:spPr>
          <a:xfrm>
            <a:off x="3730680" y="1749600"/>
            <a:ext cx="50785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entered around 8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entered around 8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entered around 8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3 ma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entered around 8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3 m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led “modes” or “clust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Small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entered around 8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3 m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led “modes” or “clust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n’t see this abov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n width 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Chart 4" descr=""/>
          <p:cNvPicPr/>
          <p:nvPr/>
        </p:nvPicPr>
        <p:blipFill>
          <a:blip r:embed="rId1"/>
          <a:stretch/>
        </p:blipFill>
        <p:spPr>
          <a:xfrm>
            <a:off x="2279520" y="2054160"/>
            <a:ext cx="63342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will studies these in parallel for a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veral concepts appl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4"/>
          <p:cNvCxnSpPr/>
          <p:nvPr/>
        </p:nvCxnSpPr>
        <p:spPr>
          <a:xfrm flipH="1" flipV="1">
            <a:off x="1980360" y="3123720"/>
            <a:ext cx="213444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5"/>
          <p:cNvCxnSpPr/>
          <p:nvPr/>
        </p:nvCxnSpPr>
        <p:spPr>
          <a:xfrm flipH="1" flipV="1">
            <a:off x="2666520" y="2437560"/>
            <a:ext cx="144864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ode (cluster)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ode (cluster)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symmet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 Fall Data – Larg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ode (cluster)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symmet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from abov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n width 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Real Dat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28    [data in ta01_005.xl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(c)  loses bump near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36    [data in ex01_036.xl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(a) 4  (b) 2  (c)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inted in Mexico, 1800’s, over ~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inted in Mexico, 1800’s, over ~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y different paper thickn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inted in Mexico, 1800’s, over ~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y different paper thickn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pape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vari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sed on areas, se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r 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ye perceives area, so sensible to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inted in Mexico, 1800’s, over ~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y different paper thickn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pape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nknown, since records are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sto Bin Width    (serious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eresting Data Set:   Hidalgo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amous among postage stamp col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inted in Mexico, 1800’s, over ~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y different paper thickn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pape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nknown, since records are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udy histogram of stamp thic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wid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wid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much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isual impr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wid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much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isual impr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wid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much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isual impr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nswer publish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iterature:   2, 3, 5, 7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vie over bin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ow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wid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much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isual impr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nswer publish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iterature:   2, 3, 5, 7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ry challenging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StampsHistBWidth.mpg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lieve in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lieve in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lieve in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lieve in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w many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lieve in 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2" descr=""/>
          <p:cNvPicPr/>
          <p:nvPr/>
        </p:nvPicPr>
        <p:blipFill>
          <a:blip r:embed="rId1"/>
          <a:stretch/>
        </p:blipFill>
        <p:spPr>
          <a:xfrm>
            <a:off x="4809960" y="2181240"/>
            <a:ext cx="4334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1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5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cxnSp>
        <p:nvCxnSpPr>
          <p:cNvPr id="1151" name="Straight Arrow Connector 9"/>
          <p:cNvCxnSpPr/>
          <p:nvPr/>
        </p:nvCxnSpPr>
        <p:spPr>
          <a:xfrm flipH="1">
            <a:off x="1065960" y="3200400"/>
            <a:ext cx="76284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2" name="Straight Arrow Connector 10"/>
          <p:cNvCxnSpPr/>
          <p:nvPr/>
        </p:nvCxnSpPr>
        <p:spPr>
          <a:xfrm>
            <a:off x="1828800" y="3200040"/>
            <a:ext cx="1829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3733920"/>
            <a:ext cx="4114800" cy="29667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4680" y="3733920"/>
            <a:ext cx="4557960" cy="2968560"/>
          </a:xfrm>
          <a:prstGeom prst="rect">
            <a:avLst/>
          </a:prstGeom>
          <a:ln w="0">
            <a:noFill/>
          </a:ln>
        </p:spPr>
      </p:pic>
      <p:cxnSp>
        <p:nvCxnSpPr>
          <p:cNvPr id="1157" name="Straight Arrow Connector 9"/>
          <p:cNvCxnSpPr/>
          <p:nvPr/>
        </p:nvCxnSpPr>
        <p:spPr>
          <a:xfrm flipH="1">
            <a:off x="5485680" y="3200400"/>
            <a:ext cx="30564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8" name="Straight Arrow Connector 10"/>
          <p:cNvCxnSpPr/>
          <p:nvPr/>
        </p:nvCxnSpPr>
        <p:spPr>
          <a:xfrm>
            <a:off x="5790240" y="3200040"/>
            <a:ext cx="190548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se ideas, to put them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 values are:   x = 0, 1, … , 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od picture from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-½, ½), [½, 1.5), [1.5, 2.5), … , [n-½, n+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[1.5, 2.5) is “all #s ≥ 1.5 and &lt; 2.5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led a “half open interv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ater study “notions of spre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Sections  4.4  and 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arall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4"/>
          <p:cNvCxnSpPr/>
          <p:nvPr/>
        </p:nvCxnSpPr>
        <p:spPr>
          <a:xfrm flipH="1" flipV="1">
            <a:off x="2666160" y="3961800"/>
            <a:ext cx="2293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”  or  “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”  or  “Mean” o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 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Object 2"/>
              <p:cNvSpPr txBox="1"/>
              <p:nvPr/>
            </p:nvSpPr>
            <p:spPr>
              <a:xfrm>
                <a:off x="6477120" y="3352680"/>
                <a:ext cx="52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3"/>
              <p:cNvSpPr txBox="1"/>
              <p:nvPr/>
            </p:nvSpPr>
            <p:spPr>
              <a:xfrm>
                <a:off x="4495680" y="2590920"/>
                <a:ext cx="126864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”  or  “Mean” o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 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2"/>
              <p:cNvSpPr txBox="1"/>
              <p:nvPr/>
            </p:nvSpPr>
            <p:spPr>
              <a:xfrm>
                <a:off x="6477120" y="3352680"/>
                <a:ext cx="52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Object 3"/>
              <p:cNvSpPr txBox="1"/>
              <p:nvPr/>
            </p:nvSpPr>
            <p:spPr>
              <a:xfrm>
                <a:off x="4495680" y="2590920"/>
                <a:ext cx="126864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182" name="Straight Arrow Connector 6"/>
          <p:cNvCxnSpPr/>
          <p:nvPr/>
        </p:nvCxnSpPr>
        <p:spPr>
          <a:xfrm flipV="1">
            <a:off x="5562720" y="3962160"/>
            <a:ext cx="91512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-63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”  or  “Mean” o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 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before)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“sum over I = 1,…,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2"/>
              <p:cNvSpPr txBox="1"/>
              <p:nvPr/>
            </p:nvSpPr>
            <p:spPr>
              <a:xfrm>
                <a:off x="6477120" y="3352680"/>
                <a:ext cx="52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3"/>
              <p:cNvSpPr txBox="1"/>
              <p:nvPr/>
            </p:nvSpPr>
            <p:spPr>
              <a:xfrm>
                <a:off x="4495680" y="2590920"/>
                <a:ext cx="126864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187" name="Straight Arrow Connector 6"/>
          <p:cNvCxnSpPr/>
          <p:nvPr/>
        </p:nvCxnSpPr>
        <p:spPr>
          <a:xfrm flipV="1">
            <a:off x="4950360" y="3734640"/>
            <a:ext cx="396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16:  for the data of 1.57, find the mean using the Excel function AVERAGE     (10.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pen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break 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4"/>
          <p:cNvCxnSpPr/>
          <p:nvPr/>
        </p:nvCxnSpPr>
        <p:spPr>
          <a:xfrm flipH="1" flipV="1">
            <a:off x="457128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5"/>
          <p:cNvCxnSpPr/>
          <p:nvPr/>
        </p:nvCxnSpPr>
        <p:spPr>
          <a:xfrm flipV="1">
            <a:off x="4800240" y="4647960"/>
            <a:ext cx="610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allow non-equal weights on      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Object 2"/>
              <p:cNvSpPr txBox="1"/>
              <p:nvPr/>
            </p:nvSpPr>
            <p:spPr>
              <a:xfrm>
                <a:off x="6629400" y="2590920"/>
                <a:ext cx="495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allow non-equal weights on      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Object 2"/>
              <p:cNvSpPr txBox="1"/>
              <p:nvPr/>
            </p:nvSpPr>
            <p:spPr>
              <a:xfrm>
                <a:off x="6629400" y="2590920"/>
                <a:ext cx="495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3"/>
              <p:cNvSpPr txBox="1"/>
              <p:nvPr/>
            </p:nvSpPr>
            <p:spPr>
              <a:xfrm>
                <a:off x="3886200" y="3276720"/>
                <a:ext cx="1449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1199" name="Straight Arrow Connector 6"/>
          <p:cNvCxnSpPr/>
          <p:nvPr/>
        </p:nvCxnSpPr>
        <p:spPr>
          <a:xfrm flipH="1">
            <a:off x="4799880" y="3200400"/>
            <a:ext cx="2293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allow non-equal weights on      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       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Object 2"/>
              <p:cNvSpPr txBox="1"/>
              <p:nvPr/>
            </p:nvSpPr>
            <p:spPr>
              <a:xfrm>
                <a:off x="6629400" y="2590920"/>
                <a:ext cx="495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ct 3"/>
              <p:cNvSpPr txBox="1"/>
              <p:nvPr/>
            </p:nvSpPr>
            <p:spPr>
              <a:xfrm>
                <a:off x="3886200" y="3276720"/>
                <a:ext cx="1449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ct 4"/>
              <p:cNvSpPr txBox="1"/>
              <p:nvPr/>
            </p:nvSpPr>
            <p:spPr>
              <a:xfrm>
                <a:off x="1752480" y="4724280"/>
                <a:ext cx="13622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ct 5"/>
              <p:cNvSpPr txBox="1"/>
              <p:nvPr/>
            </p:nvSpPr>
            <p:spPr>
              <a:xfrm>
                <a:off x="3657600" y="4732200"/>
                <a:ext cx="1752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ordinary mean ha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Object 2"/>
              <p:cNvSpPr txBox="1"/>
              <p:nvPr/>
            </p:nvSpPr>
            <p:spPr>
              <a:xfrm>
                <a:off x="6095880" y="3200400"/>
                <a:ext cx="1501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ordinary mean ha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Object 2"/>
              <p:cNvSpPr txBox="1"/>
              <p:nvPr/>
            </p:nvSpPr>
            <p:spPr>
              <a:xfrm>
                <a:off x="6095880" y="3200400"/>
                <a:ext cx="1501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eights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eights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traight Connector 4"/>
          <p:cNvSpPr/>
          <p:nvPr/>
        </p:nvSpPr>
        <p:spPr>
          <a:xfrm>
            <a:off x="1143000" y="4876920"/>
            <a:ext cx="6934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traight Connector 5"/>
          <p:cNvSpPr/>
          <p:nvPr/>
        </p:nvSpPr>
        <p:spPr>
          <a:xfrm flipV="1">
            <a:off x="2284560" y="4726080"/>
            <a:ext cx="2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traight Connector 8"/>
          <p:cNvSpPr/>
          <p:nvPr/>
        </p:nvSpPr>
        <p:spPr>
          <a:xfrm flipV="1">
            <a:off x="320040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traight Connector 9"/>
          <p:cNvSpPr/>
          <p:nvPr/>
        </p:nvSpPr>
        <p:spPr>
          <a:xfrm flipV="1">
            <a:off x="716292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Object 2"/>
              <p:cNvSpPr txBox="1"/>
              <p:nvPr/>
            </p:nvSpPr>
            <p:spPr>
              <a:xfrm>
                <a:off x="2057400" y="3962520"/>
                <a:ext cx="533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Object 3"/>
              <p:cNvSpPr txBox="1"/>
              <p:nvPr/>
            </p:nvSpPr>
            <p:spPr>
              <a:xfrm>
                <a:off x="2949480" y="3962520"/>
                <a:ext cx="577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4"/>
              <p:cNvSpPr txBox="1"/>
              <p:nvPr/>
            </p:nvSpPr>
            <p:spPr>
              <a:xfrm>
                <a:off x="6889680" y="3940200"/>
                <a:ext cx="57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traight Connector 4"/>
          <p:cNvSpPr/>
          <p:nvPr/>
        </p:nvSpPr>
        <p:spPr>
          <a:xfrm>
            <a:off x="1143000" y="4876920"/>
            <a:ext cx="6934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traight Connector 5"/>
          <p:cNvSpPr/>
          <p:nvPr/>
        </p:nvSpPr>
        <p:spPr>
          <a:xfrm flipV="1">
            <a:off x="2284560" y="4726080"/>
            <a:ext cx="2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traight Connector 8"/>
          <p:cNvSpPr/>
          <p:nvPr/>
        </p:nvSpPr>
        <p:spPr>
          <a:xfrm flipV="1">
            <a:off x="320040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traight Connector 9"/>
          <p:cNvSpPr/>
          <p:nvPr/>
        </p:nvSpPr>
        <p:spPr>
          <a:xfrm flipV="1">
            <a:off x="716292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2"/>
              <p:cNvSpPr txBox="1"/>
              <p:nvPr/>
            </p:nvSpPr>
            <p:spPr>
              <a:xfrm>
                <a:off x="2057400" y="3962520"/>
                <a:ext cx="533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Object 3"/>
              <p:cNvSpPr txBox="1"/>
              <p:nvPr/>
            </p:nvSpPr>
            <p:spPr>
              <a:xfrm>
                <a:off x="2949480" y="3962520"/>
                <a:ext cx="577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Object 4"/>
              <p:cNvSpPr txBox="1"/>
              <p:nvPr/>
            </p:nvSpPr>
            <p:spPr>
              <a:xfrm>
                <a:off x="6889680" y="3940200"/>
                <a:ext cx="57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2" name="Rectangle 11"/>
          <p:cNvSpPr/>
          <p:nvPr/>
        </p:nvSpPr>
        <p:spPr>
          <a:xfrm>
            <a:off x="21337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30481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7010280" y="5257800"/>
            <a:ext cx="30492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traight Connector 17"/>
          <p:cNvSpPr/>
          <p:nvPr/>
        </p:nvSpPr>
        <p:spPr>
          <a:xfrm flipH="1">
            <a:off x="2284560" y="4878360"/>
            <a:ext cx="2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traight Connector 18"/>
          <p:cNvSpPr/>
          <p:nvPr/>
        </p:nvSpPr>
        <p:spPr>
          <a:xfrm flipH="1">
            <a:off x="3200400" y="4876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traight Connector 19"/>
          <p:cNvSpPr/>
          <p:nvPr/>
        </p:nvSpPr>
        <p:spPr>
          <a:xfrm flipH="1">
            <a:off x="7160760" y="4876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8" name="Straight Arrow Connector 21"/>
          <p:cNvCxnSpPr/>
          <p:nvPr/>
        </p:nvCxnSpPr>
        <p:spPr>
          <a:xfrm flipH="1">
            <a:off x="2437920" y="3809520"/>
            <a:ext cx="457920" cy="12963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39" name="Straight Arrow Connector 22"/>
          <p:cNvCxnSpPr/>
          <p:nvPr/>
        </p:nvCxnSpPr>
        <p:spPr>
          <a:xfrm>
            <a:off x="2894400" y="3809520"/>
            <a:ext cx="229320" cy="12963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40" name="Straight Arrow Connector 23"/>
          <p:cNvCxnSpPr/>
          <p:nvPr/>
        </p:nvCxnSpPr>
        <p:spPr>
          <a:xfrm>
            <a:off x="2895120" y="3809880"/>
            <a:ext cx="4039560" cy="144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Corresponds to finding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ala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traight Connector 5"/>
          <p:cNvSpPr/>
          <p:nvPr/>
        </p:nvSpPr>
        <p:spPr>
          <a:xfrm flipV="1">
            <a:off x="2284560" y="4726080"/>
            <a:ext cx="2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traight Connector 8"/>
          <p:cNvSpPr/>
          <p:nvPr/>
        </p:nvSpPr>
        <p:spPr>
          <a:xfrm flipV="1">
            <a:off x="320040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traight Connector 9"/>
          <p:cNvSpPr/>
          <p:nvPr/>
        </p:nvSpPr>
        <p:spPr>
          <a:xfrm flipV="1">
            <a:off x="7162920" y="47239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2"/>
              <p:cNvSpPr txBox="1"/>
              <p:nvPr/>
            </p:nvSpPr>
            <p:spPr>
              <a:xfrm>
                <a:off x="2057400" y="3962520"/>
                <a:ext cx="533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Object 3"/>
              <p:cNvSpPr txBox="1"/>
              <p:nvPr/>
            </p:nvSpPr>
            <p:spPr>
              <a:xfrm>
                <a:off x="2949480" y="3962520"/>
                <a:ext cx="577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Object 4"/>
              <p:cNvSpPr txBox="1"/>
              <p:nvPr/>
            </p:nvSpPr>
            <p:spPr>
              <a:xfrm>
                <a:off x="6889680" y="3940200"/>
                <a:ext cx="57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9" name="Rectangle 11"/>
          <p:cNvSpPr/>
          <p:nvPr/>
        </p:nvSpPr>
        <p:spPr>
          <a:xfrm>
            <a:off x="21337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14"/>
          <p:cNvSpPr/>
          <p:nvPr/>
        </p:nvSpPr>
        <p:spPr>
          <a:xfrm>
            <a:off x="3048120" y="5257800"/>
            <a:ext cx="30456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15"/>
          <p:cNvSpPr/>
          <p:nvPr/>
        </p:nvSpPr>
        <p:spPr>
          <a:xfrm>
            <a:off x="7010280" y="5257800"/>
            <a:ext cx="304920" cy="304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traight Connector 17"/>
          <p:cNvSpPr/>
          <p:nvPr/>
        </p:nvSpPr>
        <p:spPr>
          <a:xfrm flipH="1">
            <a:off x="2284560" y="4878360"/>
            <a:ext cx="2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traight Connector 18"/>
          <p:cNvSpPr/>
          <p:nvPr/>
        </p:nvSpPr>
        <p:spPr>
          <a:xfrm flipH="1">
            <a:off x="3200400" y="4876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traight Connector 19"/>
          <p:cNvSpPr/>
          <p:nvPr/>
        </p:nvSpPr>
        <p:spPr>
          <a:xfrm flipH="1">
            <a:off x="7160760" y="4876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5" name="Straight Arrow Connector 23"/>
          <p:cNvCxnSpPr/>
          <p:nvPr/>
        </p:nvCxnSpPr>
        <p:spPr>
          <a:xfrm flipH="1">
            <a:off x="4571640" y="3199320"/>
            <a:ext cx="2286720" cy="16009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1256" name="Straight Connector 24"/>
          <p:cNvSpPr/>
          <p:nvPr/>
        </p:nvSpPr>
        <p:spPr>
          <a:xfrm flipV="1">
            <a:off x="4114080" y="4876920"/>
            <a:ext cx="304920" cy="4572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traight Connector 25"/>
          <p:cNvSpPr/>
          <p:nvPr/>
        </p:nvSpPr>
        <p:spPr>
          <a:xfrm flipH="1" flipV="1">
            <a:off x="4419720" y="4876920"/>
            <a:ext cx="304560" cy="4572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traight Connector 4"/>
          <p:cNvSpPr/>
          <p:nvPr/>
        </p:nvSpPr>
        <p:spPr>
          <a:xfrm>
            <a:off x="1143000" y="4876920"/>
            <a:ext cx="6934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 C17:    Calculate (and think about as “balance point”) weighted average of 1, 2, 3, 10 for the weigh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, ¼, ¼, 1/4,   (ordinary avg.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1, 0.1, 0.1, 0.7    (more on 10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7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3, 0.3, 0.3, 0.1    (less on 10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2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/3, 1/3, 1/3, 0      (none on 10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, 1, 0, 0             (all on 2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notation to avoid actua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o computers or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sheet of formul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nything for class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choices better than oth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4"/>
          <p:cNvCxnSpPr/>
          <p:nvPr/>
        </p:nvCxnSpPr>
        <p:spPr>
          <a:xfrm flipH="1" flipV="1">
            <a:off x="4647960" y="4647600"/>
            <a:ext cx="76248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5"/>
          <p:cNvCxnSpPr/>
          <p:nvPr/>
        </p:nvCxnSpPr>
        <p:spPr>
          <a:xfrm flipV="1">
            <a:off x="5409000" y="4647600"/>
            <a:ext cx="2293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use  f(x)  for  [x-½, x+½)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 Lists:   [1,3):   rel. freq. = 1/5 =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3,7):   rel. freq. = 4/5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If width = 1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width x height =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by tak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ight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If width = 1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width x height =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by tak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ight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-67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”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Colum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– Sele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orizontal – x’s,  “Add series”, Pr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ze, and move by dr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and chang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on Bars, Format Data Se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-67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Color, Solid Line,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-67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ptions,  Gap Width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everal, for interesting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</a:tblGrid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notation to avoid actua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o computers or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sheet of formul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lue book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-568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exploit this f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quantify, and use this,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3124080" y="175248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show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show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dumping dirt out of a tr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show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dumping dirt out of a tr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-568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exploit this f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notation to avoid actua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o computers or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sheet of formul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lue book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just write on my printed ver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heck a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heck a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quantify, and use this,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dth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dth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quantify, and use this,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7805" t="23089" r="4878" b="6076"/>
          <a:stretch/>
        </p:blipFill>
        <p:spPr>
          <a:xfrm>
            <a:off x="3276720" y="1676520"/>
            <a:ext cx="57290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show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p &amp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dumping dirt out of a tr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show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p &amp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dumping dirt out of a tr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for later:   How can we put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ecall survey from first clas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6940" t="40120" r="2313" b="8022"/>
          <a:stretch/>
        </p:blipFill>
        <p:spPr>
          <a:xfrm>
            <a:off x="990720" y="2514600"/>
            <a:ext cx="7173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ecall survey from first clas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Display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6940" t="40120" r="2313" b="8022"/>
          <a:stretch/>
        </p:blipFill>
        <p:spPr>
          <a:xfrm>
            <a:off x="990720" y="2514600"/>
            <a:ext cx="7173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ecall survey from first clas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Display Results?    Use “bar grap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6940" t="40120" r="2313" b="8022"/>
          <a:stretch/>
        </p:blipFill>
        <p:spPr>
          <a:xfrm>
            <a:off x="990720" y="2514600"/>
            <a:ext cx="7173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(tru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iology 2</a:t>
            </a:r>
            <a:r>
              <a:rPr b="0" lang="en-US" sz="3200" spc="-1" strike="noStrike" baseline="30000">
                <a:solidFill>
                  <a:srgbClr val="ccff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(fairly n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iology 2</a:t>
            </a:r>
            <a:r>
              <a:rPr b="0" lang="en-US" sz="3200" spc="-1" strike="noStrike" baseline="30000">
                <a:solidFill>
                  <a:srgbClr val="ccff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Variety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bels,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lass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5"/>
          <p:cNvCxnSpPr/>
          <p:nvPr/>
        </p:nvCxnSpPr>
        <p:spPr>
          <a:xfrm>
            <a:off x="1599840" y="3200400"/>
            <a:ext cx="2896200" cy="22104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in b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ow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35" name="Straight Arrow Connector 5"/>
          <p:cNvCxnSpPr/>
          <p:nvPr/>
        </p:nvCxnSpPr>
        <p:spPr>
          <a:xfrm flipV="1">
            <a:off x="2209680" y="3504600"/>
            <a:ext cx="1448640" cy="5338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tudy Coun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ot rel. fr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39" name="Straight Arrow Connector 5"/>
          <p:cNvCxnSpPr/>
          <p:nvPr/>
        </p:nvCxnSpPr>
        <p:spPr>
          <a:xfrm flipV="1">
            <a:off x="2284920" y="3504600"/>
            <a:ext cx="1067400" cy="15246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tudy Coun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ot rel. fr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not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hart 3" descr=""/>
          <p:cNvPicPr/>
          <p:nvPr/>
        </p:nvPicPr>
        <p:blipFill>
          <a:blip r:embed="rId1"/>
          <a:stretch/>
        </p:blipFill>
        <p:spPr>
          <a:xfrm>
            <a:off x="3193920" y="2511360"/>
            <a:ext cx="595656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5"/>
          <p:cNvCxnSpPr/>
          <p:nvPr/>
        </p:nvCxnSpPr>
        <p:spPr>
          <a:xfrm flipV="1">
            <a:off x="2284920" y="3504600"/>
            <a:ext cx="1067400" cy="15246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hart 4" descr=""/>
          <p:cNvPicPr/>
          <p:nvPr/>
        </p:nvPicPr>
        <p:blipFill>
          <a:blip r:embed="rId1"/>
          <a:stretch/>
        </p:blipFill>
        <p:spPr>
          <a:xfrm>
            <a:off x="3882960" y="2359080"/>
            <a:ext cx="5267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akes se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Chart 4" descr=""/>
          <p:cNvPicPr/>
          <p:nvPr/>
        </p:nvPicPr>
        <p:blipFill>
          <a:blip r:embed="rId1"/>
          <a:stretch/>
        </p:blipFill>
        <p:spPr>
          <a:xfrm>
            <a:off x="3882960" y="2359080"/>
            <a:ext cx="5267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ue Thursday, Feb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4"/>
          <p:cNvCxnSpPr/>
          <p:nvPr/>
        </p:nvCxnSpPr>
        <p:spPr>
          <a:xfrm flipV="1">
            <a:off x="1066320" y="3200040"/>
            <a:ext cx="3582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 data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Chart 4" descr=""/>
          <p:cNvPicPr/>
          <p:nvPr/>
        </p:nvPicPr>
        <p:blipFill>
          <a:blip r:embed="rId1"/>
          <a:stretch/>
        </p:blipFill>
        <p:spPr>
          <a:xfrm>
            <a:off x="3882960" y="2359080"/>
            <a:ext cx="5267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ort of)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ar Graph from Survey, o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rter &amp; fe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bels appear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hart 4" descr=""/>
          <p:cNvPicPr/>
          <p:nvPr/>
        </p:nvPicPr>
        <p:blipFill>
          <a:blip r:embed="rId1"/>
          <a:stretch/>
        </p:blipFill>
        <p:spPr>
          <a:xfrm>
            <a:off x="3882960" y="2359080"/>
            <a:ext cx="5267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5.21b  (make &amp; print an Excel p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e.g.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Straight Arrow Connector 4"/>
          <p:cNvCxnSpPr/>
          <p:nvPr/>
        </p:nvCxnSpPr>
        <p:spPr>
          <a:xfrm flipV="1">
            <a:off x="4799520" y="3885480"/>
            <a:ext cx="3056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ue Thursday, Feb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k grader to return Mon. Feb.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bov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9"/>
          <p:cNvCxnSpPr/>
          <p:nvPr/>
        </p:nvCxnSpPr>
        <p:spPr>
          <a:xfrm flipV="1">
            <a:off x="4419360" y="2513880"/>
            <a:ext cx="25153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bov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ee: not very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19"/>
          <p:cNvCxnSpPr/>
          <p:nvPr/>
        </p:nvCxnSpPr>
        <p:spPr>
          <a:xfrm flipV="1">
            <a:off x="4419360" y="2513880"/>
            <a:ext cx="25153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22"/>
          <p:cNvCxnSpPr/>
          <p:nvPr/>
        </p:nvCxnSpPr>
        <p:spPr>
          <a:xfrm flipH="1">
            <a:off x="3276000" y="2437200"/>
            <a:ext cx="3734280" cy="3048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22"/>
          <p:cNvCxnSpPr/>
          <p:nvPr/>
        </p:nvCxnSpPr>
        <p:spPr>
          <a:xfrm flipH="1">
            <a:off x="6171840" y="2437920"/>
            <a:ext cx="2057760" cy="3125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41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ach is 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2"/>
          <p:cNvCxnSpPr/>
          <p:nvPr/>
        </p:nvCxnSpPr>
        <p:spPr>
          <a:xfrm flipH="1" flipV="1">
            <a:off x="3733560" y="2437920"/>
            <a:ext cx="137232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26"/>
          <p:cNvCxnSpPr/>
          <p:nvPr/>
        </p:nvCxnSpPr>
        <p:spPr>
          <a:xfrm flipH="1" flipV="1">
            <a:off x="1294920" y="2437920"/>
            <a:ext cx="381096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22"/>
          <p:cNvCxnSpPr/>
          <p:nvPr/>
        </p:nvCxnSpPr>
        <p:spPr>
          <a:xfrm>
            <a:off x="837720" y="2438280"/>
            <a:ext cx="1296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Straight Arrow Connector 22"/>
          <p:cNvCxnSpPr/>
          <p:nvPr/>
        </p:nvCxnSpPr>
        <p:spPr>
          <a:xfrm>
            <a:off x="837720" y="2438280"/>
            <a:ext cx="1296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4" name="Straight Arrow Connector 26"/>
          <p:cNvCxnSpPr/>
          <p:nvPr/>
        </p:nvCxnSpPr>
        <p:spPr>
          <a:xfrm flipV="1">
            <a:off x="2971440" y="3809520"/>
            <a:ext cx="1677240" cy="13723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15" name="Straight Connector 28"/>
          <p:cNvSpPr/>
          <p:nvPr/>
        </p:nvSpPr>
        <p:spPr>
          <a:xfrm flipV="1">
            <a:off x="1905120" y="5181120"/>
            <a:ext cx="106668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29"/>
          <p:cNvSpPr/>
          <p:nvPr/>
        </p:nvSpPr>
        <p:spPr>
          <a:xfrm>
            <a:off x="2971800" y="5181480"/>
            <a:ext cx="91440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2 * ht = 2 * (10% /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Straight Arrow Connector 22"/>
          <p:cNvCxnSpPr/>
          <p:nvPr/>
        </p:nvCxnSpPr>
        <p:spPr>
          <a:xfrm>
            <a:off x="837720" y="2438280"/>
            <a:ext cx="1296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2 * ht = 2 * (10% /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Straight Arrow Connector 22"/>
          <p:cNvCxnSpPr/>
          <p:nvPr/>
        </p:nvCxnSpPr>
        <p:spPr>
          <a:xfrm>
            <a:off x="837720" y="2438280"/>
            <a:ext cx="129636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26"/>
          <p:cNvCxnSpPr/>
          <p:nvPr/>
        </p:nvCxnSpPr>
        <p:spPr>
          <a:xfrm flipH="1">
            <a:off x="4114440" y="3809880"/>
            <a:ext cx="282024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5" name="TextBox 29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ue Thursday, Feb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k grader to return Mon. Feb.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ickup in my office (Hanes 3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Straight Arrow Connector 22"/>
          <p:cNvCxnSpPr/>
          <p:nvPr/>
        </p:nvCxnSpPr>
        <p:spPr>
          <a:xfrm>
            <a:off x="1522800" y="2361960"/>
            <a:ext cx="7628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29"/>
          <p:cNvCxnSpPr/>
          <p:nvPr/>
        </p:nvCxnSpPr>
        <p:spPr>
          <a:xfrm flipH="1" flipV="1">
            <a:off x="4952520" y="3885480"/>
            <a:ext cx="1067760" cy="12200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76" name="Straight Connector 32"/>
          <p:cNvSpPr/>
          <p:nvPr/>
        </p:nvSpPr>
        <p:spPr>
          <a:xfrm>
            <a:off x="6019920" y="5105520"/>
            <a:ext cx="2057400" cy="3045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35"/>
          <p:cNvSpPr/>
          <p:nvPr/>
        </p:nvSpPr>
        <p:spPr>
          <a:xfrm flipV="1">
            <a:off x="4038480" y="5105520"/>
            <a:ext cx="1981440" cy="380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9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4 * ht = 4 * (5% /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Straight Arrow Connector 22"/>
          <p:cNvCxnSpPr/>
          <p:nvPr/>
        </p:nvCxnSpPr>
        <p:spPr>
          <a:xfrm>
            <a:off x="1522800" y="2361960"/>
            <a:ext cx="7628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7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Straight Arrow Connector 26"/>
          <p:cNvCxnSpPr/>
          <p:nvPr/>
        </p:nvCxnSpPr>
        <p:spPr>
          <a:xfrm flipH="1">
            <a:off x="6324120" y="3809520"/>
            <a:ext cx="61056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9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4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requency =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= Area = 4 * ht = 4 * (5% /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22"/>
          <p:cNvCxnSpPr/>
          <p:nvPr/>
        </p:nvCxnSpPr>
        <p:spPr>
          <a:xfrm>
            <a:off x="2209680" y="2438280"/>
            <a:ext cx="7668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9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26"/>
          <p:cNvCxnSpPr/>
          <p:nvPr/>
        </p:nvCxnSpPr>
        <p:spPr>
          <a:xfrm flipH="1">
            <a:off x="6552360" y="3809880"/>
            <a:ext cx="3819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1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1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% = Area = 4 * ht = 4 * (5% /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Straight Arrow Connector 22"/>
          <p:cNvCxnSpPr/>
          <p:nvPr/>
        </p:nvCxnSpPr>
        <p:spPr>
          <a:xfrm flipH="1">
            <a:off x="2666160" y="2362320"/>
            <a:ext cx="2293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2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26"/>
          <p:cNvCxnSpPr/>
          <p:nvPr/>
        </p:nvCxnSpPr>
        <p:spPr>
          <a:xfrm flipH="1">
            <a:off x="6705360" y="3124080"/>
            <a:ext cx="38160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8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le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, Class Interval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Straight Arrow Connector 22"/>
          <p:cNvCxnSpPr/>
          <p:nvPr/>
        </p:nvCxnSpPr>
        <p:spPr>
          <a:xfrm>
            <a:off x="3733560" y="2361960"/>
            <a:ext cx="99108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6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4038480" y="30481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0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togram hides structure in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8"/>
          <p:cNvSpPr/>
          <p:nvPr/>
        </p:nvSpPr>
        <p:spPr>
          <a:xfrm>
            <a:off x="4038480" y="30481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5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6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9" name="TextBox 50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ite spars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4038480" y="30481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3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5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6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37"/>
          <p:cNvCxnSpPr/>
          <p:nvPr/>
        </p:nvCxnSpPr>
        <p:spPr>
          <a:xfrm>
            <a:off x="2819520" y="1752480"/>
            <a:ext cx="1372320" cy="3658320"/>
          </a:xfrm>
          <a:prstGeom prst="straightConnector1">
            <a:avLst/>
          </a:prstGeom>
          <a:ln w="1908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628" name="TextBox 39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ite dens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8"/>
          <p:cNvSpPr/>
          <p:nvPr/>
        </p:nvSpPr>
        <p:spPr>
          <a:xfrm>
            <a:off x="4038480" y="30481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6" name="Straight Arrow Connector 37"/>
          <p:cNvCxnSpPr/>
          <p:nvPr/>
        </p:nvCxnSpPr>
        <p:spPr>
          <a:xfrm>
            <a:off x="3809880" y="1676160"/>
            <a:ext cx="1905840" cy="37342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57" name="TextBox 39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Endpoints way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7"/>
          <p:cNvSpPr/>
          <p:nvPr/>
        </p:nvSpPr>
        <p:spPr>
          <a:xfrm>
            <a:off x="1981080" y="4419720"/>
            <a:ext cx="20574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3"/>
          <p:cNvSpPr/>
          <p:nvPr/>
        </p:nvSpPr>
        <p:spPr>
          <a:xfrm>
            <a:off x="4038480" y="510552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0"/>
          <p:cNvSpPr/>
          <p:nvPr/>
        </p:nvSpPr>
        <p:spPr>
          <a:xfrm>
            <a:off x="4038480" y="44197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2"/>
          <p:cNvSpPr/>
          <p:nvPr/>
        </p:nvSpPr>
        <p:spPr>
          <a:xfrm>
            <a:off x="4038480" y="37339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8"/>
          <p:cNvSpPr/>
          <p:nvPr/>
        </p:nvSpPr>
        <p:spPr>
          <a:xfrm>
            <a:off x="4038480" y="3048120"/>
            <a:ext cx="40388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3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Straight Arrow Connector 37"/>
          <p:cNvCxnSpPr/>
          <p:nvPr/>
        </p:nvCxnSpPr>
        <p:spPr>
          <a:xfrm>
            <a:off x="4951800" y="1752480"/>
            <a:ext cx="3048840" cy="381096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86" name="Straight Arrow Connector 40"/>
          <p:cNvCxnSpPr/>
          <p:nvPr/>
        </p:nvCxnSpPr>
        <p:spPr>
          <a:xfrm flipH="1">
            <a:off x="2056680" y="1752480"/>
            <a:ext cx="2896200" cy="381096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87" name="TextBox 44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Major Challeng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ass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19"/>
          <p:cNvSpPr/>
          <p:nvPr/>
        </p:nvSpPr>
        <p:spPr>
          <a:xfrm>
            <a:off x="1905120" y="5715000"/>
            <a:ext cx="19810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8"/>
          <p:cNvSpPr/>
          <p:nvPr/>
        </p:nvSpPr>
        <p:spPr>
          <a:xfrm>
            <a:off x="3962520" y="5715000"/>
            <a:ext cx="403848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20"/>
          <p:cNvSpPr/>
          <p:nvPr/>
        </p:nvSpPr>
        <p:spPr>
          <a:xfrm flipH="1" flipV="1">
            <a:off x="838080" y="5105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24"/>
          <p:cNvSpPr/>
          <p:nvPr/>
        </p:nvSpPr>
        <p:spPr>
          <a:xfrm flipH="1" flipV="1">
            <a:off x="838080" y="36576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Straight Arrow Connector 28"/>
          <p:cNvCxnSpPr/>
          <p:nvPr/>
        </p:nvCxnSpPr>
        <p:spPr>
          <a:xfrm flipH="1">
            <a:off x="3123360" y="2514240"/>
            <a:ext cx="839160" cy="28962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6" name="Straight Arrow Connector 29"/>
          <p:cNvCxnSpPr/>
          <p:nvPr/>
        </p:nvCxnSpPr>
        <p:spPr>
          <a:xfrm>
            <a:off x="3961440" y="2514240"/>
            <a:ext cx="1981800" cy="28962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7" name="TextBox 39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1 – HW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ue Thursday, Feb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k grader to return Mon. Feb.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ickup in my office (Hanes 3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oday’s H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0890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or “better” cho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traight Connector 20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24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8" name="Straight Connector 37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39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0890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or “better” cho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4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[5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traight Arrow Connector 28"/>
          <p:cNvCxnSpPr/>
          <p:nvPr/>
        </p:nvCxnSpPr>
        <p:spPr>
          <a:xfrm>
            <a:off x="684720" y="2438280"/>
            <a:ext cx="251532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4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5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6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8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37"/>
          <p:cNvCxnSpPr/>
          <p:nvPr/>
        </p:nvCxnSpPr>
        <p:spPr>
          <a:xfrm flipH="1">
            <a:off x="4114080" y="2971440"/>
            <a:ext cx="2515320" cy="25916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52" name="Straight Arrow Connector 39"/>
          <p:cNvCxnSpPr/>
          <p:nvPr/>
        </p:nvCxnSpPr>
        <p:spPr>
          <a:xfrm flipH="1">
            <a:off x="5562000" y="3657600"/>
            <a:ext cx="991080" cy="1829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53" name="Straight Arrow Connector 42"/>
          <p:cNvCxnSpPr/>
          <p:nvPr/>
        </p:nvCxnSpPr>
        <p:spPr>
          <a:xfrm flipH="1">
            <a:off x="6476400" y="4419360"/>
            <a:ext cx="76680" cy="1067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4" name="Straight Connector 45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46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47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4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build histogram as abov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28"/>
          <p:cNvCxnSpPr/>
          <p:nvPr/>
        </p:nvCxnSpPr>
        <p:spPr>
          <a:xfrm>
            <a:off x="685800" y="2438280"/>
            <a:ext cx="228672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2" name="Straight Arrow Connector 29"/>
          <p:cNvCxnSpPr/>
          <p:nvPr/>
        </p:nvCxnSpPr>
        <p:spPr>
          <a:xfrm>
            <a:off x="1600200" y="2438280"/>
            <a:ext cx="4039200" cy="327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3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4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5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6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build histogram as abov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28"/>
          <p:cNvCxnSpPr/>
          <p:nvPr/>
        </p:nvCxnSpPr>
        <p:spPr>
          <a:xfrm>
            <a:off x="685800" y="2438280"/>
            <a:ext cx="228672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29"/>
          <p:cNvCxnSpPr/>
          <p:nvPr/>
        </p:nvCxnSpPr>
        <p:spPr>
          <a:xfrm>
            <a:off x="1980720" y="2590920"/>
            <a:ext cx="304884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0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31"/>
          <p:cNvCxnSpPr/>
          <p:nvPr/>
        </p:nvCxnSpPr>
        <p:spPr>
          <a:xfrm>
            <a:off x="2209320" y="2361960"/>
            <a:ext cx="358236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1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2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build histogram as abov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Straight Arrow Connector 28"/>
          <p:cNvCxnSpPr/>
          <p:nvPr/>
        </p:nvCxnSpPr>
        <p:spPr>
          <a:xfrm>
            <a:off x="685800" y="2438280"/>
            <a:ext cx="228672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7" name="Straight Arrow Connector 29"/>
          <p:cNvCxnSpPr/>
          <p:nvPr/>
        </p:nvCxnSpPr>
        <p:spPr>
          <a:xfrm>
            <a:off x="1980720" y="2590920"/>
            <a:ext cx="304884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8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Straight Arrow Connector 31"/>
          <p:cNvCxnSpPr/>
          <p:nvPr/>
        </p:nvCxnSpPr>
        <p:spPr>
          <a:xfrm>
            <a:off x="2209680" y="2361960"/>
            <a:ext cx="274392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9" name="Rectangle 41"/>
          <p:cNvSpPr/>
          <p:nvPr/>
        </p:nvSpPr>
        <p:spPr>
          <a:xfrm>
            <a:off x="5029200" y="39625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Straight Arrow Connector 34"/>
          <p:cNvCxnSpPr/>
          <p:nvPr/>
        </p:nvCxnSpPr>
        <p:spPr>
          <a:xfrm>
            <a:off x="2970720" y="2361960"/>
            <a:ext cx="29725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1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build histogram as abov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Straight Arrow Connector 28"/>
          <p:cNvCxnSpPr/>
          <p:nvPr/>
        </p:nvCxnSpPr>
        <p:spPr>
          <a:xfrm>
            <a:off x="685800" y="2438280"/>
            <a:ext cx="228672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6" name="Straight Arrow Connector 29"/>
          <p:cNvCxnSpPr/>
          <p:nvPr/>
        </p:nvCxnSpPr>
        <p:spPr>
          <a:xfrm>
            <a:off x="1980720" y="2590920"/>
            <a:ext cx="304884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7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Straight Arrow Connector 31"/>
          <p:cNvCxnSpPr/>
          <p:nvPr/>
        </p:nvCxnSpPr>
        <p:spPr>
          <a:xfrm>
            <a:off x="2209680" y="2361960"/>
            <a:ext cx="274392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8" name="Rectangle 41"/>
          <p:cNvSpPr/>
          <p:nvPr/>
        </p:nvSpPr>
        <p:spPr>
          <a:xfrm>
            <a:off x="5029200" y="39625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Straight Arrow Connector 34"/>
          <p:cNvCxnSpPr/>
          <p:nvPr/>
        </p:nvCxnSpPr>
        <p:spPr>
          <a:xfrm>
            <a:off x="2971440" y="2361960"/>
            <a:ext cx="19818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0" name="Straight Arrow Connector 35"/>
          <p:cNvCxnSpPr/>
          <p:nvPr/>
        </p:nvCxnSpPr>
        <p:spPr>
          <a:xfrm>
            <a:off x="3732840" y="2361960"/>
            <a:ext cx="243900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1" name="Rectangle 37"/>
          <p:cNvSpPr/>
          <p:nvPr/>
        </p:nvSpPr>
        <p:spPr>
          <a:xfrm>
            <a:off x="5029200" y="30481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build histogram as abov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Straight Arrow Connector 28"/>
          <p:cNvCxnSpPr/>
          <p:nvPr/>
        </p:nvCxnSpPr>
        <p:spPr>
          <a:xfrm>
            <a:off x="685800" y="2438280"/>
            <a:ext cx="228672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6" name="Straight Arrow Connector 29"/>
          <p:cNvCxnSpPr/>
          <p:nvPr/>
        </p:nvCxnSpPr>
        <p:spPr>
          <a:xfrm>
            <a:off x="1980720" y="2590920"/>
            <a:ext cx="304884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7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7" name="Straight Arrow Connector 31"/>
          <p:cNvCxnSpPr/>
          <p:nvPr/>
        </p:nvCxnSpPr>
        <p:spPr>
          <a:xfrm>
            <a:off x="2209680" y="2361960"/>
            <a:ext cx="274392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8" name="Rectangle 41"/>
          <p:cNvSpPr/>
          <p:nvPr/>
        </p:nvSpPr>
        <p:spPr>
          <a:xfrm>
            <a:off x="5029200" y="39625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Straight Arrow Connector 34"/>
          <p:cNvCxnSpPr/>
          <p:nvPr/>
        </p:nvCxnSpPr>
        <p:spPr>
          <a:xfrm>
            <a:off x="2971440" y="2361960"/>
            <a:ext cx="198180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0" name="Straight Arrow Connector 35"/>
          <p:cNvCxnSpPr/>
          <p:nvPr/>
        </p:nvCxnSpPr>
        <p:spPr>
          <a:xfrm>
            <a:off x="3733920" y="2362320"/>
            <a:ext cx="221040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1" name="Rectangle 37"/>
          <p:cNvSpPr/>
          <p:nvPr/>
        </p:nvSpPr>
        <p:spPr>
          <a:xfrm>
            <a:off x="5029200" y="30481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2"/>
          <p:cNvSpPr/>
          <p:nvPr/>
        </p:nvSpPr>
        <p:spPr>
          <a:xfrm>
            <a:off x="6019920" y="48769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much better visual i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1"/>
          <p:cNvSpPr/>
          <p:nvPr/>
        </p:nvSpPr>
        <p:spPr>
          <a:xfrm>
            <a:off x="5029200" y="39625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7"/>
          <p:cNvSpPr/>
          <p:nvPr/>
        </p:nvSpPr>
        <p:spPr>
          <a:xfrm>
            <a:off x="5029200" y="30481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2"/>
          <p:cNvSpPr/>
          <p:nvPr/>
        </p:nvSpPr>
        <p:spPr>
          <a:xfrm>
            <a:off x="6019920" y="48769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much better visual i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better reflects “structure in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2       3       4       5       6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4"/>
          <p:cNvSpPr/>
          <p:nvPr/>
        </p:nvSpPr>
        <p:spPr>
          <a:xfrm>
            <a:off x="609480" y="5715000"/>
            <a:ext cx="8077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5"/>
          <p:cNvSpPr/>
          <p:nvPr/>
        </p:nvSpPr>
        <p:spPr>
          <a:xfrm flipV="1">
            <a:off x="1064520" y="2439720"/>
            <a:ext cx="324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8"/>
          <p:cNvSpPr/>
          <p:nvPr/>
        </p:nvSpPr>
        <p:spPr>
          <a:xfrm flipV="1">
            <a:off x="1978920" y="5487840"/>
            <a:ext cx="3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2"/>
          <p:cNvSpPr/>
          <p:nvPr/>
        </p:nvSpPr>
        <p:spPr>
          <a:xfrm flipV="1">
            <a:off x="80773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3"/>
          <p:cNvSpPr/>
          <p:nvPr/>
        </p:nvSpPr>
        <p:spPr>
          <a:xfrm flipV="1">
            <a:off x="70866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4"/>
          <p:cNvSpPr/>
          <p:nvPr/>
        </p:nvSpPr>
        <p:spPr>
          <a:xfrm flipV="1">
            <a:off x="601992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5"/>
          <p:cNvSpPr/>
          <p:nvPr/>
        </p:nvSpPr>
        <p:spPr>
          <a:xfrm flipV="1">
            <a:off x="50292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6"/>
          <p:cNvSpPr/>
          <p:nvPr/>
        </p:nvSpPr>
        <p:spPr>
          <a:xfrm flipV="1">
            <a:off x="4037760" y="548640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17"/>
          <p:cNvSpPr/>
          <p:nvPr/>
        </p:nvSpPr>
        <p:spPr>
          <a:xfrm flipV="1">
            <a:off x="2971800" y="548640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3"/>
          <p:cNvSpPr/>
          <p:nvPr/>
        </p:nvSpPr>
        <p:spPr>
          <a:xfrm flipH="1" flipV="1">
            <a:off x="838080" y="2895120"/>
            <a:ext cx="45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5"/>
          <p:cNvSpPr/>
          <p:nvPr/>
        </p:nvSpPr>
        <p:spPr>
          <a:xfrm flipH="1" flipV="1">
            <a:off x="838080" y="44197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36"/>
          <p:cNvSpPr/>
          <p:nvPr/>
        </p:nvSpPr>
        <p:spPr>
          <a:xfrm>
            <a:off x="2895480" y="5715000"/>
            <a:ext cx="198144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2"/>
          <p:cNvSpPr/>
          <p:nvPr/>
        </p:nvSpPr>
        <p:spPr>
          <a:xfrm>
            <a:off x="4952880" y="5715000"/>
            <a:ext cx="99072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0"/>
          <p:cNvSpPr/>
          <p:nvPr/>
        </p:nvSpPr>
        <p:spPr>
          <a:xfrm>
            <a:off x="6019920" y="5715000"/>
            <a:ext cx="990360" cy="1440"/>
          </a:xfrm>
          <a:prstGeom prst="line">
            <a:avLst/>
          </a:prstGeom>
          <a:ln w="190440">
            <a:solidFill>
              <a:srgbClr val="c0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27"/>
          <p:cNvSpPr/>
          <p:nvPr/>
        </p:nvSpPr>
        <p:spPr>
          <a:xfrm flipH="1" flipV="1">
            <a:off x="838080" y="342900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32"/>
          <p:cNvSpPr/>
          <p:nvPr/>
        </p:nvSpPr>
        <p:spPr>
          <a:xfrm flipH="1" flipV="1">
            <a:off x="838080" y="39625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33"/>
          <p:cNvSpPr/>
          <p:nvPr/>
        </p:nvSpPr>
        <p:spPr>
          <a:xfrm flipH="1" flipV="1">
            <a:off x="838080" y="48769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38"/>
          <p:cNvSpPr/>
          <p:nvPr/>
        </p:nvSpPr>
        <p:spPr>
          <a:xfrm flipH="1" flipV="1">
            <a:off x="838080" y="5334120"/>
            <a:ext cx="455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40"/>
          <p:cNvSpPr/>
          <p:nvPr/>
        </p:nvSpPr>
        <p:spPr>
          <a:xfrm>
            <a:off x="2971800" y="5334120"/>
            <a:ext cx="2057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43"/>
          <p:cNvSpPr/>
          <p:nvPr/>
        </p:nvSpPr>
        <p:spPr>
          <a:xfrm rot="16200000">
            <a:off x="-462960" y="35870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9"/>
          <p:cNvSpPr/>
          <p:nvPr/>
        </p:nvSpPr>
        <p:spPr>
          <a:xfrm>
            <a:off x="5029200" y="4876920"/>
            <a:ext cx="9907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1"/>
          <p:cNvSpPr/>
          <p:nvPr/>
        </p:nvSpPr>
        <p:spPr>
          <a:xfrm>
            <a:off x="5029200" y="39625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7"/>
          <p:cNvSpPr/>
          <p:nvPr/>
        </p:nvSpPr>
        <p:spPr>
          <a:xfrm>
            <a:off x="5029200" y="3048120"/>
            <a:ext cx="99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2"/>
          <p:cNvSpPr/>
          <p:nvPr/>
        </p:nvSpPr>
        <p:spPr>
          <a:xfrm>
            <a:off x="6019920" y="48769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rea under histogram is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18T01:53:33Z</dcterms:modified>
  <cp:revision>715</cp:revision>
  <dc:subject/>
  <dc:title>Slide 1</dc:title>
</cp:coreProperties>
</file>