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0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8574-285D-45DD-BE95-D772CDCAB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1D34-5120-4B3C-9279-CC247C8E5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2D9E-DF47-42A9-BBAE-E18139A64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71F4-7710-4D6C-B5C0-C926885D5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B06C-CF16-4B91-8527-C166A01D5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73A6-33F5-4598-B113-7AE1D1150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C42E-BBF2-4053-B734-538E3D416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D039-79C2-4DE8-9334-D26E03A30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49B3-C1A1-41ED-95FC-57E92C693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162B-CEC8-4056-B126-36418283B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3152-78CF-4228-984D-DA4C5B5CE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14C3-FFD2-4E3F-BF2E-5EFF903AD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6B65-BEDB-4D1C-AD44-A998F5695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E506-285E-475B-A64C-907FFD946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7223-C8A4-4391-A514-13AA09B18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BA23-85AB-41F4-A5A9-CC1E1CF03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F21B-4EE5-4D0A-BD55-547284AD2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C296-24FE-46B5-9933-400F1B8EE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D629-272C-45EE-AF7E-21E1E4E7E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33FC-FAE7-4001-9596-8507F8E2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CDE3-DF5F-41A8-9551-36FA151AD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BAAC-385B-481A-883B-DB4B48A6A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400D-9218-43B1-B76B-7A71206AD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B9CB-251B-436C-8E46-C9B423486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541A-7037-4CB7-ABB0-13289835B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F189-ECDB-49CD-945F-449D335F5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E1D7-E3FB-40BB-A279-D631225EA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78A7-5465-42F8-9BCD-04465013A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911D-4CC9-4C64-9C55-FE5D85069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D4F6-D69E-4CA1-9F7A-6FBB881CF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3222-A050-4AB2-82FF-DD918838D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CF40-D4EE-4971-B564-DBEB6C25C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BE27-2177-4EB1-8163-FE7ED1B08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BD89-6E28-492C-94AF-5A7516286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CC00-B955-4138-B730-747A54207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517C-4776-4FF5-926F-D7BFE6D05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AF7D-2387-4E84-812B-832D7D154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6DDC-6BBD-4229-919D-916B60605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9E5C-2CC3-4E5E-861F-9474ACEEB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66A5-762E-4FE6-8E52-55C0158A5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81D7-CF9E-47CA-A6CF-17A62AAB1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15AA-6FC2-4461-BDA3-E78530132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0B26-0CB4-4285-936D-7751E7419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C5EA-3F99-4346-838D-04A4D282C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0E58-9B6D-4BFF-8CF0-A856A79BE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6271-77A5-4F3C-AEA0-55D79BFE1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CD63-B612-4164-BE12-CDBC5652B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C7CA-B851-46D5-9A06-B6CC8DB5C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8FFA-1C28-48FD-AB22-05AA8B9F2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FED6-BECA-4174-A08A-F053376EF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A797-7BB5-42AA-A80F-C2465BD3E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4F22-8481-4EF8-AD7D-6870F816F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AFCE-374B-43A3-B6BC-D4C402E27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E44A-306A-44C2-804F-3C86BC6B6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197E-4B38-493F-88E8-C3CB09195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4554-DAEB-48E7-8B19-1DAFBFC6A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5C3B-25BA-4E16-B842-E5A23179B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2AC4-9455-42C0-B936-399315361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8156-4C15-4BDC-B822-2B2B8B88A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FF15-C3FD-4A67-AC58-CA15CBFC7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5D7C-9A34-401F-BA43-74008873C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BEA5-9B4E-4B2B-940D-7189E26D7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99C2-2366-4007-9591-3A2DD58B3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7EDF-6256-4E79-9438-5C22227FD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15CF-A4F8-4295-8622-C0887AC9E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1229-38C3-4845-83F3-924A7FB50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A4DB-53DD-4E71-BAB6-821AA7552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754D-D157-4604-84FF-6AD8B6139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C717-5CCA-46EA-A93A-C64FFCCE8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8FA1-2342-4133-812C-08C6546F0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88B5-C82D-4A37-A57D-A011B3082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986F-78D4-405F-8955-9A137E7CB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8676-0CF0-4936-9232-0BFC21A54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25DF-3231-4DD8-8026-08B5FA0C0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C5EF-46D1-4C74-86EC-CDBBC937E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DA09-DFA0-4855-B04B-B171B537B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D02A-50FF-4A4D-B51B-F6CFDA7E5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F1C2-2C9F-4ABA-AC58-21EF606E6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2D55-0130-491D-BC8C-CA69D16E9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BEE3-FF45-4AE2-9EE4-A11FC03B6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4BD8-8A25-42AA-9C06-DA63119C8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CCBD-99B8-4DB6-81B1-00A45310B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56A0-1D50-493B-B74C-461913830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D57E-30F8-436D-86B3-24C01430A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2075-7ADF-40BE-A6CC-C8403B76D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4D47-9562-433A-AB6E-74A457BB1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30D9-DFF4-428D-8778-710B151A4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7962-C443-467F-90CF-B26E8C532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A5C6-54A5-4531-813B-85A29FAD6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1FFE-8FF6-497B-8F9B-5BBC1AB0B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12A0-AEF1-46A8-891B-1467A2FB8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89B2-7BD9-4CB4-95EF-8011D5C3A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8845-B66C-4CE3-9A53-DF4B8964B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0A01-F6FE-462A-99E9-DF999AB3B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4406-CB59-44D0-846B-3FFB969EB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1BB4-8EEF-40A1-94ED-3C66EEBF8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1A7C-87F8-4B9B-86E4-6E2C1DC49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6519-0B01-4D58-BDD6-554AD153B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779E-04CE-4547-9763-7EA6DEB3F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08D4-9749-484A-8559-BD7E9D9B4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EC57-73CF-4585-BF7B-6D275F6B9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5684-42B3-4A16-BDA3-34D6B892B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4767-14F6-42BD-A0D3-D7E01A59F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43E0-09DA-47A6-BCB1-A85080129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F953-4352-4E65-B4ED-0B026EAEA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4208-ECD8-42A4-9B23-DE95540C3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2C20-BEE3-49E1-9E7E-461321995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3F9C-2B25-465D-9ECE-A86D2B8AF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E2A1-D623-438F-AF74-E1B62263C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FA32-0248-4FD1-B0E0-C714F1E49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73DE-22D2-4A6E-A71B-44D41E825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4250-3E44-4BB8-94C6-45690FC33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343B-B6ED-4C68-91B7-F7C5B8EDF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662F-0C88-45AA-8288-A9F1B15EE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F40D-6E52-47E5-8B96-BEC5B8614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571B-35C7-460F-827C-8898D6AD7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5430-692B-4178-99A5-5037633F9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27DE-102C-40F6-9881-0DAAA72FF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C1BE-24DC-42CE-AE1A-DD9285114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55BB-56C2-40EE-B094-C89A3F3E6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BFC2-9F0D-4845-8B15-252AA1B89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BF1A-31BF-4FD9-A57E-25DC2F6E9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5283-CC69-4E78-90C0-09C48CE78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F452-D2FE-4619-98B4-3A0AC98D3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B978-72B9-4335-9F8B-B338255B1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100F-D413-4CA2-9162-117556E52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5EE2-2EDE-438F-8EA5-395065787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88FA-CA72-4363-AF27-124AD8EA5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3269-3F1E-4ACE-8DAA-98A1C8285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1A84-2338-46C4-B8B1-9A20D82CC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6383-B961-4208-8D3A-BBC064AB0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6617-5994-4585-B784-7EBD0A725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AFEB-DC30-481F-89BE-5D85147B2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444E-19EF-4687-97A7-62AFCD7A9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3C01-389C-4D34-BFE4-3900476BF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9410-0BE2-4656-A41A-BD06C2425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2A66-F526-4C9C-84C8-480C18EE8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5A61-1B2C-4CE8-9075-CC9452FCC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59DF-0D31-437D-93D8-589BCA978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387C-C66A-4150-A698-4A96D72D1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5260-9047-4A0E-B38F-6E8A57906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6570-9B40-43F4-B87C-FEA22C51A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3A2C-733C-4C88-BDD6-FC7159C09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D344-C044-4516-89F8-74859231F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4DB2-5CB0-4AF9-963B-EECB765C7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77B5-7B7A-4A3F-93BD-2C4B748D5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423E-2D47-4F40-91C7-6CBBD12D5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2F69-EDF2-4D21-BCAC-D19796AAB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CEC0-3099-4A2A-9D85-49E653B6D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CB93-67E1-464D-89DA-D354D9E78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B18B-9859-455D-9FE5-221A241B5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08FC-9DB4-4830-BF1E-1B3CE2EA7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7447-AD9A-49E7-9B3F-84E5C5E5C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AFAA-4858-4EF3-AD68-593A7DC37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FA76-0D1A-4257-89FC-67CE901F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1C83-5979-435C-935E-3AC233EAA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7E4E-1F67-457E-B1A9-012642576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33F-366E-46D2-9D39-9F4F2047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750-648C-4CA1-A7CE-B8511E02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F69-0C14-4A49-817F-BA1286CD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D3E-CB8E-4465-B1BD-43416CDF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AF6D-D191-499F-BFFF-9DB0095B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1B4D-F8B0-49CA-AC51-1ABA00DD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31E1-DE15-432B-B5F4-DC581E5A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7B10-86F1-4678-AD39-1DC4CA20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923B-3251-46AB-A64F-70E63A1D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5765-1E30-4EE9-BE9E-7C9CF8E0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F3EE-B4DB-46F9-A540-BE4CCBF9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AEB3-C0E9-43B8-B2B2-92887108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E773-EC36-4274-B4FC-54D28B09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A5A5-0E31-41CB-8CCC-20EF7494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EB29-1A30-405C-A858-F75F013A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D8C8-0DFB-4CA4-907A-6ADDC3A7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F8FC-9C07-453D-8539-5B8A3EF4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B6A-3324-4686-915F-3BAFE95E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4F4-84B6-4DDA-81CF-AD7D6CB5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334-63D1-4004-A94A-2481E1E1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6C1-BC07-46B1-9FB1-32D90B0E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EB8-8674-490E-A963-34D8DAC8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88A-A7AA-44B5-8A42-CE09D79D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F50-4D5E-42D4-8D8E-EF4DE7BF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0DA8-3939-45D3-9E63-51B8C1AD7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1165-4E3E-4FB9-8831-00BF488D5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6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6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6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ial Probabilit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of list of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p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rcRect l="7456" t="21259" r="9320" b="6713"/>
          <a:stretch/>
        </p:blipFill>
        <p:spPr>
          <a:xfrm>
            <a:off x="152280" y="3733920"/>
            <a:ext cx="4114800" cy="2966760"/>
          </a:xfrm>
          <a:prstGeom prst="rect">
            <a:avLst/>
          </a:prstGeom>
          <a:ln w="0">
            <a:noFill/>
          </a:ln>
        </p:spPr>
      </p:pic>
      <p:cxnSp>
        <p:nvCxnSpPr>
          <p:cNvPr id="114" name="Straight Arrow Connector 9"/>
          <p:cNvCxnSpPr/>
          <p:nvPr/>
        </p:nvCxnSpPr>
        <p:spPr>
          <a:xfrm flipH="1">
            <a:off x="1065960" y="3200400"/>
            <a:ext cx="762840" cy="144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0"/>
          <p:cNvCxnSpPr/>
          <p:nvPr/>
        </p:nvCxnSpPr>
        <p:spPr>
          <a:xfrm>
            <a:off x="1828800" y="3200040"/>
            <a:ext cx="1829520" cy="289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ty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f(x)    and    Y ~ g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aX + bY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f(x)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y) +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g(y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x f(x)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 y g(y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f(x) + b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g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stributive R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ty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f(x)    and    Y ~ g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aX + bY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f(x)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y) +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g(y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x f(x)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 y g(y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f(x) + b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g(y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E(X) + b E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ty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f(x)    and    Y ~ g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aX + bY) =  a E(X) + b E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E(linear combo)  =  linear combo 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4.81   (mean part 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4.84    (mean part 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W:     C18  An insurance company sells 1378 policies to cover bicycles against theft for 1 year.  It costs $300 to replace a stolen bicycle and the probability of theft is estimated at 0.08.  Suppose there is no chance of more than one theft per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W:     C18 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alculate the expected payout for each policy, to give a break even price for each policy.    ($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f 2 times the break even price is actually charged, what is the company’s expected profit per policy, if the theft rate is actually 0.10?    ($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Hidal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ampData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vie ov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StampsHistBWidth.mpg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Hidal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ampData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vie ov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ain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inwidth dr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istogram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StampsHistBWidth.mpg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Less known f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in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location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also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rious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even for fixed wid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StampsHistLoc.mpg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~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4809960" y="2181240"/>
            <a:ext cx="43340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p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rcRect l="7456" t="21259" r="9320" b="6713"/>
          <a:stretch/>
        </p:blipFill>
        <p:spPr>
          <a:xfrm>
            <a:off x="152280" y="3733920"/>
            <a:ext cx="4114800" cy="2966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rcRect l="7805" t="23089" r="4878" b="6076"/>
          <a:stretch/>
        </p:blipFill>
        <p:spPr>
          <a:xfrm>
            <a:off x="4414680" y="3733920"/>
            <a:ext cx="4557960" cy="2968560"/>
          </a:xfrm>
          <a:prstGeom prst="rect">
            <a:avLst/>
          </a:prstGeom>
          <a:ln w="0">
            <a:noFill/>
          </a:ln>
        </p:spPr>
      </p:pic>
      <p:cxnSp>
        <p:nvCxnSpPr>
          <p:cNvPr id="120" name="Straight Arrow Connector 9"/>
          <p:cNvCxnSpPr/>
          <p:nvPr/>
        </p:nvCxnSpPr>
        <p:spPr>
          <a:xfrm flipH="1">
            <a:off x="5485680" y="3200400"/>
            <a:ext cx="305640" cy="12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Straight Arrow Connector 10"/>
          <p:cNvCxnSpPr/>
          <p:nvPr/>
        </p:nvCxnSpPr>
        <p:spPr>
          <a:xfrm>
            <a:off x="5790240" y="3200040"/>
            <a:ext cx="1905480" cy="2515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~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4809960" y="2181240"/>
            <a:ext cx="43340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~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1"/>
          <a:stretch/>
        </p:blipFill>
        <p:spPr>
          <a:xfrm>
            <a:off x="4809960" y="2181240"/>
            <a:ext cx="43340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~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4809960" y="2181240"/>
            <a:ext cx="43340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xplan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ompare with “smoot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rsion”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StampsHistLocKDE.mpg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ompare with “smoot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rsion”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eaks appe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when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entirely in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 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5114880" y="2181240"/>
            <a:ext cx="43340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ompare with “smoot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rsion”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eaks disappe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when split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wo bins 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5105520" y="2181240"/>
            <a:ext cx="43336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uestion:  If understand problem with histogram, using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en why not use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D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for data analy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Will explore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D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for ~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for ~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Chart 3" descr=""/>
          <p:cNvPicPr/>
          <p:nvPr/>
        </p:nvPicPr>
        <p:blipFill>
          <a:blip r:embed="rId1"/>
          <a:stretch/>
        </p:blipFill>
        <p:spPr>
          <a:xfrm>
            <a:off x="4260960" y="2584440"/>
            <a:ext cx="48895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for ~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6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p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se ideas, to put them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for ~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an = 8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rom Exc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Chart 3" descr=""/>
          <p:cNvPicPr/>
          <p:nvPr/>
        </p:nvPicPr>
        <p:blipFill>
          <a:blip r:embed="rId1"/>
          <a:stretch/>
        </p:blipFill>
        <p:spPr>
          <a:xfrm>
            <a:off x="4260960" y="2584440"/>
            <a:ext cx="48895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for ~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an = 8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rom Exc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Chart 3" descr=""/>
          <p:cNvPicPr/>
          <p:nvPr/>
        </p:nvPicPr>
        <p:blipFill>
          <a:blip r:embed="rId1"/>
          <a:stretch/>
        </p:blipFill>
        <p:spPr>
          <a:xfrm>
            <a:off x="4260960" y="2584440"/>
            <a:ext cx="4889520" cy="4280040"/>
          </a:xfrm>
          <a:prstGeom prst="rect">
            <a:avLst/>
          </a:prstGeom>
          <a:ln w="0">
            <a:noFill/>
          </a:ln>
        </p:spPr>
      </p:pic>
      <p:sp>
        <p:nvSpPr>
          <p:cNvPr id="477" name="Straight Connector 5"/>
          <p:cNvSpPr/>
          <p:nvPr/>
        </p:nvSpPr>
        <p:spPr>
          <a:xfrm flipV="1">
            <a:off x="7085160" y="3278160"/>
            <a:ext cx="2880" cy="3581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Straight Arrow Connector 7"/>
          <p:cNvCxnSpPr/>
          <p:nvPr/>
        </p:nvCxnSpPr>
        <p:spPr>
          <a:xfrm flipV="1">
            <a:off x="2742840" y="3504960"/>
            <a:ext cx="4267800" cy="91512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for ~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an = 8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ly s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on of “Cen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Chart 3" descr=""/>
          <p:cNvPicPr/>
          <p:nvPr/>
        </p:nvPicPr>
        <p:blipFill>
          <a:blip r:embed="rId1"/>
          <a:stretch/>
        </p:blipFill>
        <p:spPr>
          <a:xfrm>
            <a:off x="4260960" y="2584440"/>
            <a:ext cx="4889520" cy="4280040"/>
          </a:xfrm>
          <a:prstGeom prst="rect">
            <a:avLst/>
          </a:prstGeom>
          <a:ln w="0">
            <a:noFill/>
          </a:ln>
        </p:spPr>
      </p:pic>
      <p:sp>
        <p:nvSpPr>
          <p:cNvPr id="482" name="Straight Connector 5"/>
          <p:cNvSpPr/>
          <p:nvPr/>
        </p:nvSpPr>
        <p:spPr>
          <a:xfrm flipV="1">
            <a:off x="7085160" y="3278160"/>
            <a:ext cx="2880" cy="3581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Straight Arrow Connector 7"/>
          <p:cNvCxnSpPr/>
          <p:nvPr/>
        </p:nvCxnSpPr>
        <p:spPr>
          <a:xfrm flipV="1">
            <a:off x="2742840" y="3504960"/>
            <a:ext cx="4267800" cy="91512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(in days) to suicide attem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Suicide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nitial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6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asym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later study “notions of sprea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asym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“right skew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  <p:sp>
        <p:nvSpPr>
          <p:cNvPr id="510" name="Straight Connector 5"/>
          <p:cNvSpPr/>
          <p:nvPr/>
        </p:nvSpPr>
        <p:spPr>
          <a:xfrm flipV="1">
            <a:off x="6172200" y="3430080"/>
            <a:ext cx="1440" cy="342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Straight Arrow Connector 8"/>
          <p:cNvCxnSpPr/>
          <p:nvPr/>
        </p:nvCxnSpPr>
        <p:spPr>
          <a:xfrm>
            <a:off x="2895480" y="3962160"/>
            <a:ext cx="3201120" cy="610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ble as “center”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  <p:sp>
        <p:nvSpPr>
          <p:cNvPr id="515" name="Straight Connector 5"/>
          <p:cNvSpPr/>
          <p:nvPr/>
        </p:nvSpPr>
        <p:spPr>
          <a:xfrm flipV="1">
            <a:off x="6172200" y="3430080"/>
            <a:ext cx="1440" cy="342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Straight Arrow Connector 8"/>
          <p:cNvCxnSpPr/>
          <p:nvPr/>
        </p:nvCxnSpPr>
        <p:spPr>
          <a:xfrm>
            <a:off x="2895480" y="3962160"/>
            <a:ext cx="3201120" cy="610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ble as “center”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(data ≥) =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0.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  <p:sp>
        <p:nvSpPr>
          <p:cNvPr id="520" name="Straight Connector 5"/>
          <p:cNvSpPr/>
          <p:nvPr/>
        </p:nvSpPr>
        <p:spPr>
          <a:xfrm flipV="1">
            <a:off x="6172200" y="3430080"/>
            <a:ext cx="1440" cy="342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Straight Arrow Connector 8"/>
          <p:cNvCxnSpPr/>
          <p:nvPr/>
        </p:nvCxnSpPr>
        <p:spPr>
          <a:xfrm>
            <a:off x="2895480" y="3962160"/>
            <a:ext cx="3201120" cy="610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22" name="Straight Connector 7"/>
          <p:cNvSpPr/>
          <p:nvPr/>
        </p:nvSpPr>
        <p:spPr>
          <a:xfrm>
            <a:off x="6172200" y="4876920"/>
            <a:ext cx="2971800" cy="1440"/>
          </a:xfrm>
          <a:prstGeom prst="line">
            <a:avLst/>
          </a:prstGeom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3" name="Straight Arrow Connector 10"/>
          <p:cNvCxnSpPr/>
          <p:nvPr/>
        </p:nvCxnSpPr>
        <p:spPr>
          <a:xfrm flipV="1">
            <a:off x="3733560" y="5028840"/>
            <a:ext cx="2896200" cy="3816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 about mea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poorly for asymmetric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ble as “center”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(data ≥) =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0.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Sma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  <p:sp>
        <p:nvSpPr>
          <p:cNvPr id="527" name="Straight Connector 5"/>
          <p:cNvSpPr/>
          <p:nvPr/>
        </p:nvSpPr>
        <p:spPr>
          <a:xfrm flipV="1">
            <a:off x="6172200" y="3430080"/>
            <a:ext cx="1440" cy="342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Straight Arrow Connector 8"/>
          <p:cNvCxnSpPr/>
          <p:nvPr/>
        </p:nvCxnSpPr>
        <p:spPr>
          <a:xfrm>
            <a:off x="2895480" y="3962160"/>
            <a:ext cx="3201120" cy="610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29" name="Straight Connector 7"/>
          <p:cNvSpPr/>
          <p:nvPr/>
        </p:nvSpPr>
        <p:spPr>
          <a:xfrm>
            <a:off x="6172200" y="4876920"/>
            <a:ext cx="2971800" cy="1440"/>
          </a:xfrm>
          <a:prstGeom prst="line">
            <a:avLst/>
          </a:prstGeom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Straight Arrow Connector 10"/>
          <p:cNvCxnSpPr/>
          <p:nvPr/>
        </p:nvCxnSpPr>
        <p:spPr>
          <a:xfrm flipV="1">
            <a:off x="3733560" y="5028840"/>
            <a:ext cx="2896200" cy="3816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haps better notion of “center”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int in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have 50% of data sm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50% of data la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alled the “medi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: = Value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: = Value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orted E.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: = Value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orted E.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in middle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Arrow Connector 4"/>
          <p:cNvCxnSpPr/>
          <p:nvPr/>
        </p:nvCxnSpPr>
        <p:spPr>
          <a:xfrm flipH="1" flipV="1">
            <a:off x="1294560" y="3961800"/>
            <a:ext cx="83916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  Sections  4.4  and 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arallel develop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ince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 flipH="1" flipV="1">
            <a:off x="2666160" y="3961800"/>
            <a:ext cx="22932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: = Value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orted E.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in middle???    NO, must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Straight Arrow Connector 4"/>
          <p:cNvCxnSpPr/>
          <p:nvPr/>
        </p:nvCxnSpPr>
        <p:spPr>
          <a:xfrm flipH="1" flipV="1">
            <a:off x="1294560" y="3961800"/>
            <a:ext cx="83916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7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: = Value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orted E.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n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sion of “midd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Straight Arrow Connector 4"/>
          <p:cNvCxnSpPr/>
          <p:nvPr/>
        </p:nvCxnSpPr>
        <p:spPr>
          <a:xfrm flipV="1">
            <a:off x="2133720" y="3809880"/>
            <a:ext cx="3658320" cy="243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for point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0" name="Straight Arrow Connector 4"/>
          <p:cNvCxnSpPr/>
          <p:nvPr/>
        </p:nvCxnSpPr>
        <p:spPr>
          <a:xfrm>
            <a:off x="3048120" y="3123720"/>
            <a:ext cx="2743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1" name="Straight Arrow Connector 5"/>
          <p:cNvCxnSpPr/>
          <p:nvPr/>
        </p:nvCxnSpPr>
        <p:spPr>
          <a:xfrm>
            <a:off x="3048120" y="3124080"/>
            <a:ext cx="27439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for point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by ta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f two tied value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4" name="Straight Arrow Connector 4"/>
          <p:cNvCxnSpPr/>
          <p:nvPr/>
        </p:nvCxnSpPr>
        <p:spPr>
          <a:xfrm>
            <a:off x="3048120" y="3123720"/>
            <a:ext cx="2743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Straight Arrow Connector 5"/>
          <p:cNvCxnSpPr/>
          <p:nvPr/>
        </p:nvCxnSpPr>
        <p:spPr>
          <a:xfrm>
            <a:off x="3048120" y="3124080"/>
            <a:ext cx="27439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for point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by ta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f two tied value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Median = 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Straight Arrow Connector 4"/>
          <p:cNvCxnSpPr/>
          <p:nvPr/>
        </p:nvCxnSpPr>
        <p:spPr>
          <a:xfrm>
            <a:off x="3048120" y="3123720"/>
            <a:ext cx="2743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9" name="Straight Arrow Connector 5"/>
          <p:cNvCxnSpPr/>
          <p:nvPr/>
        </p:nvCxnSpPr>
        <p:spPr>
          <a:xfrm>
            <a:off x="3048120" y="3124080"/>
            <a:ext cx="27439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: = Value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orted E.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:    use function “MEDI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:    use function “MEDI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imilar to other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6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an = 8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Chart 3" descr=""/>
          <p:cNvPicPr/>
          <p:nvPr/>
        </p:nvPicPr>
        <p:blipFill>
          <a:blip r:embed="rId1"/>
          <a:stretch/>
        </p:blipFill>
        <p:spPr>
          <a:xfrm>
            <a:off x="4260960" y="2584440"/>
            <a:ext cx="4889520" cy="4280040"/>
          </a:xfrm>
          <a:prstGeom prst="rect">
            <a:avLst/>
          </a:prstGeom>
          <a:ln w="0">
            <a:noFill/>
          </a:ln>
        </p:spPr>
      </p:pic>
      <p:sp>
        <p:nvSpPr>
          <p:cNvPr id="567" name="Straight Connector 5"/>
          <p:cNvSpPr/>
          <p:nvPr/>
        </p:nvSpPr>
        <p:spPr>
          <a:xfrm flipV="1">
            <a:off x="7085160" y="3278160"/>
            <a:ext cx="2880" cy="3581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Straight Arrow Connector 7"/>
          <p:cNvCxnSpPr/>
          <p:nvPr/>
        </p:nvCxnSpPr>
        <p:spPr>
          <a:xfrm>
            <a:off x="2742840" y="2895480"/>
            <a:ext cx="4267800" cy="61056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an = 8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Median = 7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rom Exc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Chart 3" descr=""/>
          <p:cNvPicPr/>
          <p:nvPr/>
        </p:nvPicPr>
        <p:blipFill>
          <a:blip r:embed="rId1"/>
          <a:stretch/>
        </p:blipFill>
        <p:spPr>
          <a:xfrm>
            <a:off x="4260960" y="2584440"/>
            <a:ext cx="4889520" cy="4280040"/>
          </a:xfrm>
          <a:prstGeom prst="rect">
            <a:avLst/>
          </a:prstGeom>
          <a:ln w="0">
            <a:noFill/>
          </a:ln>
        </p:spPr>
      </p:pic>
      <p:sp>
        <p:nvSpPr>
          <p:cNvPr id="572" name="Straight Connector 5"/>
          <p:cNvSpPr/>
          <p:nvPr/>
        </p:nvSpPr>
        <p:spPr>
          <a:xfrm flipV="1">
            <a:off x="7085160" y="3278160"/>
            <a:ext cx="2880" cy="3581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3" name="Straight Arrow Connector 7"/>
          <p:cNvCxnSpPr/>
          <p:nvPr/>
        </p:nvCxnSpPr>
        <p:spPr>
          <a:xfrm>
            <a:off x="2742840" y="2895480"/>
            <a:ext cx="4267800" cy="61056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”  or  “Mean” o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         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6477120" y="3352680"/>
                <a:ext cx="527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4495680" y="2590920"/>
                <a:ext cx="1268640" cy="20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33" name="Straight Arrow Connector 6"/>
          <p:cNvCxnSpPr/>
          <p:nvPr/>
        </p:nvCxnSpPr>
        <p:spPr>
          <a:xfrm flipV="1">
            <a:off x="5562720" y="3962160"/>
            <a:ext cx="915120" cy="1219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an = 8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Median = 7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Chart 3" descr=""/>
          <p:cNvPicPr/>
          <p:nvPr/>
        </p:nvPicPr>
        <p:blipFill>
          <a:blip r:embed="rId1"/>
          <a:stretch/>
        </p:blipFill>
        <p:spPr>
          <a:xfrm>
            <a:off x="4260960" y="2584440"/>
            <a:ext cx="4889520" cy="4280040"/>
          </a:xfrm>
          <a:prstGeom prst="rect">
            <a:avLst/>
          </a:prstGeom>
          <a:ln w="0">
            <a:noFill/>
          </a:ln>
        </p:spPr>
      </p:pic>
      <p:sp>
        <p:nvSpPr>
          <p:cNvPr id="577" name="Straight Connector 5"/>
          <p:cNvSpPr/>
          <p:nvPr/>
        </p:nvSpPr>
        <p:spPr>
          <a:xfrm flipV="1">
            <a:off x="7085160" y="3278160"/>
            <a:ext cx="2880" cy="3581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8" name="Straight Arrow Connector 7"/>
          <p:cNvCxnSpPr/>
          <p:nvPr/>
        </p:nvCxnSpPr>
        <p:spPr>
          <a:xfrm>
            <a:off x="2742840" y="2895480"/>
            <a:ext cx="4267800" cy="61056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  <p:sp>
        <p:nvSpPr>
          <p:cNvPr id="579" name="Straight Connector 8"/>
          <p:cNvSpPr/>
          <p:nvPr/>
        </p:nvSpPr>
        <p:spPr>
          <a:xfrm flipH="1">
            <a:off x="7085160" y="3278160"/>
            <a:ext cx="2880" cy="3581280"/>
          </a:xfrm>
          <a:prstGeom prst="line">
            <a:avLst/>
          </a:prstGeom>
          <a:ln w="5076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0" name="Straight Arrow Connector 10"/>
          <p:cNvCxnSpPr/>
          <p:nvPr/>
        </p:nvCxnSpPr>
        <p:spPr>
          <a:xfrm>
            <a:off x="2971440" y="3657600"/>
            <a:ext cx="3963240" cy="129600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an = 8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Median = 7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xpected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Chart 3" descr=""/>
          <p:cNvPicPr/>
          <p:nvPr/>
        </p:nvPicPr>
        <p:blipFill>
          <a:blip r:embed="rId1"/>
          <a:stretch/>
        </p:blipFill>
        <p:spPr>
          <a:xfrm>
            <a:off x="4260960" y="2584440"/>
            <a:ext cx="4889520" cy="4280040"/>
          </a:xfrm>
          <a:prstGeom prst="rect">
            <a:avLst/>
          </a:prstGeom>
          <a:ln w="0">
            <a:noFill/>
          </a:ln>
        </p:spPr>
      </p:pic>
      <p:sp>
        <p:nvSpPr>
          <p:cNvPr id="584" name="Straight Connector 5"/>
          <p:cNvSpPr/>
          <p:nvPr/>
        </p:nvSpPr>
        <p:spPr>
          <a:xfrm flipV="1">
            <a:off x="7085160" y="3278160"/>
            <a:ext cx="2880" cy="3581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Straight Arrow Connector 7"/>
          <p:cNvCxnSpPr/>
          <p:nvPr/>
        </p:nvCxnSpPr>
        <p:spPr>
          <a:xfrm>
            <a:off x="2742840" y="2895480"/>
            <a:ext cx="4267800" cy="61056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  <p:sp>
        <p:nvSpPr>
          <p:cNvPr id="586" name="Straight Connector 8"/>
          <p:cNvSpPr/>
          <p:nvPr/>
        </p:nvSpPr>
        <p:spPr>
          <a:xfrm flipH="1">
            <a:off x="7085160" y="3278160"/>
            <a:ext cx="2880" cy="3581280"/>
          </a:xfrm>
          <a:prstGeom prst="line">
            <a:avLst/>
          </a:prstGeom>
          <a:ln w="5076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Straight Arrow Connector 10"/>
          <p:cNvCxnSpPr/>
          <p:nvPr/>
        </p:nvCxnSpPr>
        <p:spPr>
          <a:xfrm>
            <a:off x="2971440" y="3657600"/>
            <a:ext cx="3963240" cy="129600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=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l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  <p:sp>
        <p:nvSpPr>
          <p:cNvPr id="591" name="Straight Connector 5"/>
          <p:cNvSpPr/>
          <p:nvPr/>
        </p:nvSpPr>
        <p:spPr>
          <a:xfrm flipV="1">
            <a:off x="6172200" y="3430080"/>
            <a:ext cx="1440" cy="342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Straight Arrow Connector 8"/>
          <p:cNvCxnSpPr/>
          <p:nvPr/>
        </p:nvCxnSpPr>
        <p:spPr>
          <a:xfrm>
            <a:off x="2819160" y="2514240"/>
            <a:ext cx="3353400" cy="1220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3" name="Straight Connector 9"/>
          <p:cNvSpPr/>
          <p:nvPr/>
        </p:nvSpPr>
        <p:spPr>
          <a:xfrm flipV="1">
            <a:off x="5943600" y="3428640"/>
            <a:ext cx="1440" cy="3430440"/>
          </a:xfrm>
          <a:prstGeom prst="line">
            <a:avLst/>
          </a:prstGeom>
          <a:ln w="3816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4" name="Straight Arrow Connector 15"/>
          <p:cNvCxnSpPr/>
          <p:nvPr/>
        </p:nvCxnSpPr>
        <p:spPr>
          <a:xfrm>
            <a:off x="2971440" y="3200040"/>
            <a:ext cx="2896200" cy="167724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=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l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  <p:sp>
        <p:nvSpPr>
          <p:cNvPr id="598" name="Straight Connector 5"/>
          <p:cNvSpPr/>
          <p:nvPr/>
        </p:nvSpPr>
        <p:spPr>
          <a:xfrm flipV="1">
            <a:off x="6172200" y="3430080"/>
            <a:ext cx="1440" cy="342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Straight Arrow Connector 8"/>
          <p:cNvCxnSpPr/>
          <p:nvPr/>
        </p:nvCxnSpPr>
        <p:spPr>
          <a:xfrm>
            <a:off x="2819160" y="2514240"/>
            <a:ext cx="3353400" cy="1220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00" name="Straight Connector 9"/>
          <p:cNvSpPr/>
          <p:nvPr/>
        </p:nvSpPr>
        <p:spPr>
          <a:xfrm flipV="1">
            <a:off x="5943600" y="3428640"/>
            <a:ext cx="1440" cy="3430440"/>
          </a:xfrm>
          <a:prstGeom prst="line">
            <a:avLst/>
          </a:prstGeom>
          <a:ln w="3816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Straight Arrow Connector 15"/>
          <p:cNvCxnSpPr/>
          <p:nvPr/>
        </p:nvCxnSpPr>
        <p:spPr>
          <a:xfrm>
            <a:off x="2971440" y="3200040"/>
            <a:ext cx="2896200" cy="167724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=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l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ich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  <p:sp>
        <p:nvSpPr>
          <p:cNvPr id="605" name="Straight Connector 5"/>
          <p:cNvSpPr/>
          <p:nvPr/>
        </p:nvSpPr>
        <p:spPr>
          <a:xfrm flipV="1">
            <a:off x="6172200" y="3430080"/>
            <a:ext cx="1440" cy="342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Straight Arrow Connector 8"/>
          <p:cNvCxnSpPr/>
          <p:nvPr/>
        </p:nvCxnSpPr>
        <p:spPr>
          <a:xfrm>
            <a:off x="2819160" y="2514240"/>
            <a:ext cx="3353400" cy="1220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07" name="Straight Connector 9"/>
          <p:cNvSpPr/>
          <p:nvPr/>
        </p:nvSpPr>
        <p:spPr>
          <a:xfrm flipV="1">
            <a:off x="5943600" y="3428640"/>
            <a:ext cx="1440" cy="3430440"/>
          </a:xfrm>
          <a:prstGeom prst="line">
            <a:avLst/>
          </a:prstGeom>
          <a:ln w="3816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Straight Arrow Connector 15"/>
          <p:cNvCxnSpPr/>
          <p:nvPr/>
        </p:nvCxnSpPr>
        <p:spPr>
          <a:xfrm>
            <a:off x="2971440" y="3200040"/>
            <a:ext cx="2896200" cy="167724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=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l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ich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1:  ½ - ½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  <p:sp>
        <p:nvSpPr>
          <p:cNvPr id="612" name="Straight Connector 5"/>
          <p:cNvSpPr/>
          <p:nvPr/>
        </p:nvSpPr>
        <p:spPr>
          <a:xfrm flipV="1">
            <a:off x="6172200" y="3430080"/>
            <a:ext cx="1440" cy="342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Straight Arrow Connector 8"/>
          <p:cNvCxnSpPr/>
          <p:nvPr/>
        </p:nvCxnSpPr>
        <p:spPr>
          <a:xfrm>
            <a:off x="2819160" y="2514240"/>
            <a:ext cx="3353400" cy="1220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14" name="Straight Connector 9"/>
          <p:cNvSpPr/>
          <p:nvPr/>
        </p:nvSpPr>
        <p:spPr>
          <a:xfrm flipV="1">
            <a:off x="5943600" y="3428640"/>
            <a:ext cx="1440" cy="3430440"/>
          </a:xfrm>
          <a:prstGeom prst="line">
            <a:avLst/>
          </a:prstGeom>
          <a:ln w="3816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Straight Arrow Connector 15"/>
          <p:cNvCxnSpPr/>
          <p:nvPr/>
        </p:nvCxnSpPr>
        <p:spPr>
          <a:xfrm>
            <a:off x="2971440" y="3200040"/>
            <a:ext cx="2896200" cy="167724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16" name="Straight Arrow Connector 11"/>
          <p:cNvCxnSpPr/>
          <p:nvPr/>
        </p:nvCxnSpPr>
        <p:spPr>
          <a:xfrm flipH="1" flipV="1">
            <a:off x="2818800" y="3352320"/>
            <a:ext cx="1448280" cy="205776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British Suicid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=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7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l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ich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1:  ½ - ½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2:  long run averag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  <p:sp>
        <p:nvSpPr>
          <p:cNvPr id="620" name="Straight Connector 5"/>
          <p:cNvSpPr/>
          <p:nvPr/>
        </p:nvSpPr>
        <p:spPr>
          <a:xfrm flipV="1">
            <a:off x="6172200" y="3430080"/>
            <a:ext cx="1440" cy="342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Straight Arrow Connector 8"/>
          <p:cNvCxnSpPr/>
          <p:nvPr/>
        </p:nvCxnSpPr>
        <p:spPr>
          <a:xfrm>
            <a:off x="2819160" y="2514240"/>
            <a:ext cx="3353400" cy="1220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2" name="Straight Connector 9"/>
          <p:cNvSpPr/>
          <p:nvPr/>
        </p:nvSpPr>
        <p:spPr>
          <a:xfrm flipV="1">
            <a:off x="5943600" y="3428640"/>
            <a:ext cx="1440" cy="3430440"/>
          </a:xfrm>
          <a:prstGeom prst="line">
            <a:avLst/>
          </a:prstGeom>
          <a:ln w="3816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Straight Arrow Connector 15"/>
          <p:cNvCxnSpPr/>
          <p:nvPr/>
        </p:nvCxnSpPr>
        <p:spPr>
          <a:xfrm>
            <a:off x="2971440" y="3200040"/>
            <a:ext cx="2896200" cy="167724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24" name="Straight Arrow Connector 11"/>
          <p:cNvCxnSpPr/>
          <p:nvPr/>
        </p:nvCxnSpPr>
        <p:spPr>
          <a:xfrm flipH="1" flipV="1">
            <a:off x="2513880" y="2742480"/>
            <a:ext cx="2439000" cy="350604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 of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Aver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   Corresponds to find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lance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4"/>
          <p:cNvSpPr/>
          <p:nvPr/>
        </p:nvSpPr>
        <p:spPr>
          <a:xfrm>
            <a:off x="1143000" y="4876920"/>
            <a:ext cx="6934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5"/>
          <p:cNvSpPr/>
          <p:nvPr/>
        </p:nvSpPr>
        <p:spPr>
          <a:xfrm flipV="1">
            <a:off x="2284560" y="4726080"/>
            <a:ext cx="2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8"/>
          <p:cNvSpPr/>
          <p:nvPr/>
        </p:nvSpPr>
        <p:spPr>
          <a:xfrm flipV="1">
            <a:off x="3200400" y="47239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9"/>
          <p:cNvSpPr/>
          <p:nvPr/>
        </p:nvSpPr>
        <p:spPr>
          <a:xfrm flipV="1">
            <a:off x="7162920" y="47239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2057400" y="3962520"/>
                <a:ext cx="533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3"/>
              <p:cNvSpPr txBox="1"/>
              <p:nvPr/>
            </p:nvSpPr>
            <p:spPr>
              <a:xfrm>
                <a:off x="2949480" y="3962520"/>
                <a:ext cx="577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6889680" y="3940200"/>
                <a:ext cx="57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Rectangle 11"/>
          <p:cNvSpPr/>
          <p:nvPr/>
        </p:nvSpPr>
        <p:spPr>
          <a:xfrm>
            <a:off x="2133720" y="5257800"/>
            <a:ext cx="304560" cy="3049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3048120" y="5257800"/>
            <a:ext cx="304560" cy="3049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7010280" y="5257800"/>
            <a:ext cx="304920" cy="3049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7"/>
          <p:cNvSpPr/>
          <p:nvPr/>
        </p:nvSpPr>
        <p:spPr>
          <a:xfrm flipH="1">
            <a:off x="2284560" y="4878360"/>
            <a:ext cx="2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8"/>
          <p:cNvSpPr/>
          <p:nvPr/>
        </p:nvSpPr>
        <p:spPr>
          <a:xfrm flipH="1">
            <a:off x="3200400" y="48769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9"/>
          <p:cNvSpPr/>
          <p:nvPr/>
        </p:nvSpPr>
        <p:spPr>
          <a:xfrm flipH="1">
            <a:off x="7160760" y="48769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Arrow Connector 21"/>
          <p:cNvCxnSpPr/>
          <p:nvPr/>
        </p:nvCxnSpPr>
        <p:spPr>
          <a:xfrm flipH="1">
            <a:off x="2437920" y="3809520"/>
            <a:ext cx="457920" cy="129636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50" name="Straight Arrow Connector 22"/>
          <p:cNvCxnSpPr/>
          <p:nvPr/>
        </p:nvCxnSpPr>
        <p:spPr>
          <a:xfrm>
            <a:off x="2894400" y="3809520"/>
            <a:ext cx="229320" cy="129636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51" name="Straight Arrow Connector 23"/>
          <p:cNvCxnSpPr/>
          <p:nvPr/>
        </p:nvCxnSpPr>
        <p:spPr>
          <a:xfrm>
            <a:off x="2895120" y="3809880"/>
            <a:ext cx="4039560" cy="144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 of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Aver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   Corresponds to finding 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alance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5"/>
          <p:cNvSpPr/>
          <p:nvPr/>
        </p:nvSpPr>
        <p:spPr>
          <a:xfrm flipV="1">
            <a:off x="2284560" y="4726080"/>
            <a:ext cx="2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8"/>
          <p:cNvSpPr/>
          <p:nvPr/>
        </p:nvSpPr>
        <p:spPr>
          <a:xfrm flipV="1">
            <a:off x="3200400" y="47239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9"/>
          <p:cNvSpPr/>
          <p:nvPr/>
        </p:nvSpPr>
        <p:spPr>
          <a:xfrm flipV="1">
            <a:off x="7162920" y="47239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2057400" y="3962520"/>
                <a:ext cx="533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3"/>
              <p:cNvSpPr txBox="1"/>
              <p:nvPr/>
            </p:nvSpPr>
            <p:spPr>
              <a:xfrm>
                <a:off x="2949480" y="3962520"/>
                <a:ext cx="577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6889680" y="3940200"/>
                <a:ext cx="57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Rectangle 11"/>
          <p:cNvSpPr/>
          <p:nvPr/>
        </p:nvSpPr>
        <p:spPr>
          <a:xfrm>
            <a:off x="2133720" y="5257800"/>
            <a:ext cx="304560" cy="3049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3048120" y="5257800"/>
            <a:ext cx="304560" cy="3049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7010280" y="5257800"/>
            <a:ext cx="304920" cy="3049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7"/>
          <p:cNvSpPr/>
          <p:nvPr/>
        </p:nvSpPr>
        <p:spPr>
          <a:xfrm flipH="1">
            <a:off x="2284560" y="4878360"/>
            <a:ext cx="2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8"/>
          <p:cNvSpPr/>
          <p:nvPr/>
        </p:nvSpPr>
        <p:spPr>
          <a:xfrm flipH="1">
            <a:off x="3200400" y="48769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9"/>
          <p:cNvSpPr/>
          <p:nvPr/>
        </p:nvSpPr>
        <p:spPr>
          <a:xfrm flipH="1">
            <a:off x="7160760" y="48769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Straight Arrow Connector 23"/>
          <p:cNvCxnSpPr/>
          <p:nvPr/>
        </p:nvCxnSpPr>
        <p:spPr>
          <a:xfrm flipH="1">
            <a:off x="4571640" y="3199320"/>
            <a:ext cx="2286720" cy="160092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  <p:sp>
        <p:nvSpPr>
          <p:cNvPr id="167" name="Straight Connector 24"/>
          <p:cNvSpPr/>
          <p:nvPr/>
        </p:nvSpPr>
        <p:spPr>
          <a:xfrm flipV="1">
            <a:off x="4114080" y="4876920"/>
            <a:ext cx="304920" cy="45720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5"/>
          <p:cNvSpPr/>
          <p:nvPr/>
        </p:nvSpPr>
        <p:spPr>
          <a:xfrm flipH="1" flipV="1">
            <a:off x="4419720" y="4876920"/>
            <a:ext cx="304560" cy="45720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4"/>
          <p:cNvSpPr/>
          <p:nvPr/>
        </p:nvSpPr>
        <p:spPr>
          <a:xfrm>
            <a:off x="1143000" y="4876920"/>
            <a:ext cx="6934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  Sections  4.4  and 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arallel develop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, 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 use connection to 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notation to avoid actual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no computers or cal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sheet of formula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lue book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just write on my printed ver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, 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 use connection to 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:  think about many repeated dr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Straight Arrow Connector 4"/>
          <p:cNvCxnSpPr/>
          <p:nvPr/>
        </p:nvCxnSpPr>
        <p:spPr>
          <a:xfrm flipH="1" flipV="1">
            <a:off x="3656880" y="2361960"/>
            <a:ext cx="3056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, 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 use connection to 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rom 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, 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 use connection to 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rom 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          and express in terms of 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2286000" y="3886200"/>
                <a:ext cx="6858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609480" y="1066680"/>
                <a:ext cx="3429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609480" y="1066680"/>
                <a:ext cx="3780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1116000" y="2449440"/>
                <a:ext cx="635148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TextBox 4"/>
          <p:cNvSpPr/>
          <p:nvPr/>
        </p:nvSpPr>
        <p:spPr>
          <a:xfrm>
            <a:off x="2362320" y="4648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rrange list, depending on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6"/>
          <p:cNvCxnSpPr/>
          <p:nvPr/>
        </p:nvCxnSpPr>
        <p:spPr>
          <a:xfrm flipH="1" flipV="1">
            <a:off x="6171840" y="2971440"/>
            <a:ext cx="1448640" cy="1753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7"/>
          <p:cNvCxnSpPr/>
          <p:nvPr/>
        </p:nvCxnSpPr>
        <p:spPr>
          <a:xfrm flipH="1" flipV="1">
            <a:off x="3656880" y="2895120"/>
            <a:ext cx="39632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609480" y="1066680"/>
                <a:ext cx="3780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1116000" y="2449440"/>
                <a:ext cx="635148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TextBox 4"/>
          <p:cNvSpPr/>
          <p:nvPr/>
        </p:nvSpPr>
        <p:spPr>
          <a:xfrm>
            <a:off x="685800" y="510552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that ar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7"/>
          <p:cNvCxnSpPr/>
          <p:nvPr/>
        </p:nvCxnSpPr>
        <p:spPr>
          <a:xfrm flipV="1">
            <a:off x="1522800" y="3200040"/>
            <a:ext cx="839160" cy="190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"/>
              <p:cNvSpPr txBox="1"/>
              <p:nvPr/>
            </p:nvSpPr>
            <p:spPr>
              <a:xfrm>
                <a:off x="609480" y="1066680"/>
                <a:ext cx="3780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"/>
              <p:cNvSpPr txBox="1"/>
              <p:nvPr/>
            </p:nvSpPr>
            <p:spPr>
              <a:xfrm>
                <a:off x="1116000" y="2449440"/>
                <a:ext cx="635148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TextBox 4"/>
          <p:cNvSpPr/>
          <p:nvPr/>
        </p:nvSpPr>
        <p:spPr>
          <a:xfrm>
            <a:off x="685800" y="55627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Distributive Law of Arithm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traight Arrow Connector 7"/>
          <p:cNvCxnSpPr/>
          <p:nvPr/>
        </p:nvCxnSpPr>
        <p:spPr>
          <a:xfrm flipV="1">
            <a:off x="2589840" y="3656880"/>
            <a:ext cx="1524600" cy="19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1149480" y="3809880"/>
                <a:ext cx="65466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01" name="Straight Arrow Connector 13"/>
          <p:cNvCxnSpPr/>
          <p:nvPr/>
        </p:nvCxnSpPr>
        <p:spPr>
          <a:xfrm flipH="1" flipV="1">
            <a:off x="2437920" y="4952160"/>
            <a:ext cx="15336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609480" y="1066680"/>
                <a:ext cx="3780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1116000" y="2449440"/>
                <a:ext cx="635148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TextBox 4"/>
          <p:cNvSpPr/>
          <p:nvPr/>
        </p:nvSpPr>
        <p:spPr>
          <a:xfrm>
            <a:off x="2209680" y="6334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“Empirical Probability Func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2819520" y="5943240"/>
            <a:ext cx="4579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149480" y="3809880"/>
                <a:ext cx="65466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08" name="Straight Arrow Connector 13"/>
          <p:cNvCxnSpPr/>
          <p:nvPr/>
        </p:nvCxnSpPr>
        <p:spPr>
          <a:xfrm flipH="1" flipV="1">
            <a:off x="2361960" y="6019560"/>
            <a:ext cx="4579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09" name="Object 5"/>
              <p:cNvSpPr txBox="1"/>
              <p:nvPr/>
            </p:nvSpPr>
            <p:spPr>
              <a:xfrm>
                <a:off x="1219320" y="5257800"/>
                <a:ext cx="45212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609480" y="1066680"/>
                <a:ext cx="3780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1219320" y="2438280"/>
                <a:ext cx="45212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609480" y="1066680"/>
                <a:ext cx="3780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1219320" y="2438280"/>
                <a:ext cx="45212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266840" y="3468600"/>
                <a:ext cx="6353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TextBox 6"/>
          <p:cNvSpPr/>
          <p:nvPr/>
        </p:nvSpPr>
        <p:spPr>
          <a:xfrm>
            <a:off x="2514600" y="5486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ist approx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Straight Arrow Connector 7"/>
          <p:cNvCxnSpPr/>
          <p:nvPr/>
        </p:nvCxnSpPr>
        <p:spPr>
          <a:xfrm flipH="1" flipV="1">
            <a:off x="1523520" y="4037760"/>
            <a:ext cx="91512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 Cov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 1 – HW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due Thursday, Feb.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sk grader to return Mon. Feb.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ickup in my office (Hanes 35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is weeks H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609480" y="1066680"/>
                <a:ext cx="3780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1219320" y="2438280"/>
                <a:ext cx="45212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266840" y="3468600"/>
                <a:ext cx="6353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1239840" y="4441680"/>
                <a:ext cx="417024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609480" y="1066680"/>
                <a:ext cx="3780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1219320" y="2438280"/>
                <a:ext cx="45212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1266840" y="3468600"/>
                <a:ext cx="6353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TextBox 6"/>
          <p:cNvSpPr/>
          <p:nvPr/>
        </p:nvSpPr>
        <p:spPr>
          <a:xfrm>
            <a:off x="380880" y="54864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ighted average of values that  X  take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7"/>
          <p:cNvCxnSpPr/>
          <p:nvPr/>
        </p:nvCxnSpPr>
        <p:spPr>
          <a:xfrm flipH="1" flipV="1">
            <a:off x="2818800" y="4876200"/>
            <a:ext cx="14482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1239840" y="4441680"/>
                <a:ext cx="417024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31" name="Straight Arrow Connector 10"/>
          <p:cNvCxnSpPr/>
          <p:nvPr/>
        </p:nvCxnSpPr>
        <p:spPr>
          <a:xfrm flipV="1">
            <a:off x="4267080" y="4953960"/>
            <a:ext cx="154800" cy="608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609480" y="1066680"/>
                <a:ext cx="3780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1219320" y="2438280"/>
                <a:ext cx="45212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266840" y="3468600"/>
                <a:ext cx="6353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TextBox 6"/>
          <p:cNvSpPr/>
          <p:nvPr/>
        </p:nvSpPr>
        <p:spPr>
          <a:xfrm>
            <a:off x="380880" y="54864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ighted average of values that  X  takes on, where weights are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7"/>
          <p:cNvCxnSpPr/>
          <p:nvPr/>
        </p:nvCxnSpPr>
        <p:spPr>
          <a:xfrm flipH="1" flipV="1">
            <a:off x="2437560" y="4952520"/>
            <a:ext cx="1753560" cy="106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38" name="Object 5"/>
              <p:cNvSpPr txBox="1"/>
              <p:nvPr/>
            </p:nvSpPr>
            <p:spPr>
              <a:xfrm>
                <a:off x="1239840" y="4441680"/>
                <a:ext cx="417024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39" name="Straight Arrow Connector 10"/>
          <p:cNvCxnSpPr/>
          <p:nvPr/>
        </p:nvCxnSpPr>
        <p:spPr>
          <a:xfrm flipH="1" flipV="1">
            <a:off x="3809160" y="5028840"/>
            <a:ext cx="381960" cy="989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609480" y="1066680"/>
                <a:ext cx="3780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TextBox 6"/>
          <p:cNvSpPr/>
          <p:nvPr/>
        </p:nvSpPr>
        <p:spPr>
          <a:xfrm>
            <a:off x="380880" y="34290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ighted average of values that  X  takes on, where weights are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239840" y="2514600"/>
                <a:ext cx="41702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TextBox 9"/>
          <p:cNvSpPr/>
          <p:nvPr/>
        </p:nvSpPr>
        <p:spPr>
          <a:xfrm>
            <a:off x="380880" y="48006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ncept deserves its own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ed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random variable 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ed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random variable 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2438280" y="1828800"/>
                <a:ext cx="33163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</m:e>
                    </m:nary>
                    <m:r>
                      <m:t xml:space="preserve">⋅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ed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random variable 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shorthand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2438280" y="1828800"/>
                <a:ext cx="33163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</m:e>
                    </m:nary>
                    <m:r>
                      <m:t xml:space="preserve">⋅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53" name="Straight Arrow Connector 5"/>
          <p:cNvCxnSpPr/>
          <p:nvPr/>
        </p:nvCxnSpPr>
        <p:spPr>
          <a:xfrm flipV="1">
            <a:off x="914040" y="2361960"/>
            <a:ext cx="1524600" cy="1219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ed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random variable 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f(x) = 0,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, so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perates for values X takes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2438280" y="1828800"/>
                <a:ext cx="33163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</m:e>
                    </m:nary>
                    <m:r>
                      <m:t xml:space="preserve">⋅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57" name="Straight Arrow Connector 5"/>
          <p:cNvCxnSpPr/>
          <p:nvPr/>
        </p:nvCxnSpPr>
        <p:spPr>
          <a:xfrm flipV="1">
            <a:off x="3732840" y="2590200"/>
            <a:ext cx="1067400" cy="160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Roll a die, bet (as befor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Roll a die, bet (as befor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3, otherwise (4) break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Office H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, Feb. 23    8:00 – 9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, Feb. 23    9:00 – 10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, Feb. 23    10:00 – 11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esday, Feb. 24    8:00 – 9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esday, Feb. 24    9:00 – 10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esday, Feb. 24    1:00 – 2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Roll a die, bet (as befor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3, otherwise (4) break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“net winn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Roll a die, bet (as befor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3, otherwise (4) break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“net winn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4191120" y="3276720"/>
                <a:ext cx="4603680" cy="31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Roll a die, bet (as befor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3, otherwise (4) break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“net winn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keen to p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4191120" y="3276720"/>
                <a:ext cx="4603680" cy="31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“net winn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4540320" y="1066680"/>
                <a:ext cx="4603680" cy="31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“net winn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average,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4540320" y="1066680"/>
                <a:ext cx="4603680" cy="31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228600" y="4114800"/>
                <a:ext cx="34020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277" name="Straight Arrow Connector 6"/>
          <p:cNvCxnSpPr/>
          <p:nvPr/>
        </p:nvCxnSpPr>
        <p:spPr>
          <a:xfrm flipH="1" flipV="1">
            <a:off x="2361960" y="4571280"/>
            <a:ext cx="3658320" cy="11437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8" name="Straight Arrow Connector 9"/>
          <p:cNvCxnSpPr/>
          <p:nvPr/>
        </p:nvCxnSpPr>
        <p:spPr>
          <a:xfrm flipH="1" flipV="1">
            <a:off x="3504960" y="4723920"/>
            <a:ext cx="121968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“net winn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average,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4540320" y="1066680"/>
                <a:ext cx="4603680" cy="31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228600" y="4114800"/>
                <a:ext cx="81504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83" name="Straight Arrow Connector 5"/>
          <p:cNvCxnSpPr/>
          <p:nvPr/>
        </p:nvCxnSpPr>
        <p:spPr>
          <a:xfrm flipV="1">
            <a:off x="4721760" y="4801680"/>
            <a:ext cx="3960" cy="91512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84" name="Straight Arrow Connector 7"/>
          <p:cNvCxnSpPr/>
          <p:nvPr/>
        </p:nvCxnSpPr>
        <p:spPr>
          <a:xfrm flipV="1">
            <a:off x="4723920" y="4723920"/>
            <a:ext cx="17535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85" name="Straight Arrow Connector 12"/>
          <p:cNvCxnSpPr/>
          <p:nvPr/>
        </p:nvCxnSpPr>
        <p:spPr>
          <a:xfrm flipV="1">
            <a:off x="4723920" y="4647600"/>
            <a:ext cx="3048840" cy="106740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86" name="Straight Arrow Connector 15"/>
          <p:cNvCxnSpPr/>
          <p:nvPr/>
        </p:nvCxnSpPr>
        <p:spPr>
          <a:xfrm flipH="1" flipV="1">
            <a:off x="4266720" y="4647600"/>
            <a:ext cx="1982160" cy="10674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87" name="Straight Arrow Connector 18"/>
          <p:cNvCxnSpPr/>
          <p:nvPr/>
        </p:nvCxnSpPr>
        <p:spPr>
          <a:xfrm flipH="1" flipV="1">
            <a:off x="5942880" y="4723920"/>
            <a:ext cx="305640" cy="99144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88" name="Straight Arrow Connector 19"/>
          <p:cNvCxnSpPr/>
          <p:nvPr/>
        </p:nvCxnSpPr>
        <p:spPr>
          <a:xfrm flipV="1">
            <a:off x="6247440" y="4647600"/>
            <a:ext cx="1067400" cy="10674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“net winn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weight average of values 9, -4 &amp; 0,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s of “how often expect”,  thus “expect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4540320" y="1066680"/>
                <a:ext cx="4603680" cy="31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3"/>
              <p:cNvSpPr txBox="1"/>
              <p:nvPr/>
            </p:nvSpPr>
            <p:spPr>
              <a:xfrm>
                <a:off x="228600" y="4114800"/>
                <a:ext cx="87836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“net winn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 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verage in many pl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in $1 per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4540320" y="1066680"/>
                <a:ext cx="4603680" cy="31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228600" y="4114800"/>
                <a:ext cx="87836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“Expected value”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one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ich is either  9,  -4  or  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stea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 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ver man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 4.73,    4.74  (1.9,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fe applications of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basis for making business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esence of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:  maximiz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go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erage results over long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tu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ork HW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problems come from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do, not “just look o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ndom order (as on ex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HW sheets, use as a 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Practice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d in Blackboard “Course Information”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fe applications of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ino Gam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ino offers games with + expect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+ from their perspe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goal:  go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verall average perform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Value is a useful tool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fe applications of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ino Gam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ies make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writing policies with + expect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goal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ng run averag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fe applications of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ino Gam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Lo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’s view:  games with + expect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money for state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g run over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lip Side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isions mad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lip Side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isions mad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 Gam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do people p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lip Side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isions mad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 Gam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do people p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dds are agains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 sure will lose “over long ru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lip Side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isions mad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 Gam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do people p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dds are agains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 sure will lose “over long ru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ov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short run successes, can make eventual long term loss worth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 buying enter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lip Side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isions mad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 Gam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should you buy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lip Side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isions mad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 Gam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should you buy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ou lose in expected value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lip Side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isions mad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 Gam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6969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should you buy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6969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ou lose in expected value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6969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t E not applicable since you only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lay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6969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voids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chanc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catastrophic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6969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ows low cos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haring of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 277-282,   34-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55-68,  319-3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lip Side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isions mad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 Gam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e Lo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do people p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lip Side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isions mad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 Gam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e Lo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do people p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ear loss in expect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lip Side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isions mad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 Gam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e Lo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825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do people p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825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ear loss in expect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825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t only play once (hopefull), so not appl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825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orth feeling of hope from buying tick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lip Side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esting issues about State Lotte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very different type of 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g Pl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ly totally voluntary 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g Min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x paid mostly by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lip Side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isions mad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ey Lesson:  Expected Value tells what happens o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verage over long ru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          not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n one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lip Side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isions mad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ey Lesson:  Expected Value tells what happens o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verage over long ru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          not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n one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clude Expected Value not good for everything, but very good for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many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you have $5000, and need $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you have $5000, and need $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you owe mafia $5000 (gambling debt?), clean out safe at work for $5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you have $5000, and need $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you owe mafia $5000 (gambling debt?), clean out safe at work for $5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give to mafia, you go to j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you have $5000, and need $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you owe mafia $5000 (gambling debt?), clean out safe at work for $5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give to mafia, you go to jail, so decide to raise another $5000 by gamb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better prob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3"/>
          <p:cNvCxnSpPr/>
          <p:nvPr/>
        </p:nvCxnSpPr>
        <p:spPr>
          <a:xfrm flipV="1">
            <a:off x="1447920" y="2437560"/>
            <a:ext cx="8388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Straight Arrow Connector 6"/>
          <p:cNvCxnSpPr/>
          <p:nvPr/>
        </p:nvCxnSpPr>
        <p:spPr>
          <a:xfrm flipV="1">
            <a:off x="1447920" y="1675800"/>
            <a:ext cx="30528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you have $5000, and need $10,000 and can make even bets, with P[win]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you have $5000, and need $10,000 and can make even bets, with P[win]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really do this, e.g. bet on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game of Roulette at a cas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295280" y="4572000"/>
            <a:ext cx="3276720" cy="2103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31240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you have $5000, and need $10,000 and can make even bets, with P[win]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ques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one large bet?  Or many small b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in betw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you have $5000, and need $10,000 and can make even bets, with P[win]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one large bet?  Or many small b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[Gain] = 0 x P[loss] + $2 x P[wi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0 x (0.52) + $2 x (0.48) = $0.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you have $5000, and need $10,000 and can make even bets, with P[win]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one large bet?  Or many small b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[Gain] = $0.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:  “expect” to lose $0.04 every time you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you have $5000, and need $10,000 and can make even bets, with P[win]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one large bet?  Or many small b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[Gain] = $0.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:  “expect” to lose $0.04 every time you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games are so profitable for cas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you have $5000, and need $10,000 and can make even bets, with P[win]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one large bet?  Or many small b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[Gain] = $0.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:  “expect” to lose $0.04 every time you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play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Expected Value dictates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you have $5000, and need $10,000 and can make even bets, with P[win]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one large bet?  Or many small b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[Gain] = $0.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:  “expect” to lose $0.04 every time you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best to m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just on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b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:  “expect” to lose $0.04 every time you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best to m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just on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b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:  “expect” to lose $0.04 every time you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best to m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just on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b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many plays, will surely lo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esson of expected va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better prob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3"/>
          <p:cNvCxnSpPr/>
          <p:nvPr/>
        </p:nvCxnSpPr>
        <p:spPr>
          <a:xfrm flipV="1">
            <a:off x="1447920" y="2437560"/>
            <a:ext cx="8388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 flipV="1">
            <a:off x="1447920" y="1675800"/>
            <a:ext cx="30528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View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[win $1,000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$5000 b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0.48  ≈  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View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[win $1,000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$5000 b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0.48  ≈  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$2500 be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≈ (0.48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≈ 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View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[win $1,000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$5000 b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0.48  ≈  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$2500 be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≈ (0.48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≈ 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$1250 be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≈  1/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View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[win $1,000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$5000 b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0.48  ≈  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$2500 be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≈ (0.48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≈ 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$1250 be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≈  1/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be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h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Inverse View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:  “expect” to lose $0.04 every time you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best to m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just on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b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ino Folklore:  Sometimes people really make such b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X ~ Bi(n,p),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X ~ Bi(n,p),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ed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weighted average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228600" y="2916360"/>
                <a:ext cx="30369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378" name="Straight Arrow Connector 5"/>
          <p:cNvCxnSpPr/>
          <p:nvPr/>
        </p:nvCxnSpPr>
        <p:spPr>
          <a:xfrm flipV="1">
            <a:off x="1904040" y="3428640"/>
            <a:ext cx="68652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9" name="Straight Arrow Connector 7"/>
          <p:cNvCxnSpPr/>
          <p:nvPr/>
        </p:nvCxnSpPr>
        <p:spPr>
          <a:xfrm flipH="1" flipV="1">
            <a:off x="2133360" y="3351960"/>
            <a:ext cx="502992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X ~ Bi(n,p),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ed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inomial Probabili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228600" y="2590920"/>
                <a:ext cx="71341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</m:m>
                          </m:e>
                        </m:d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383" name="Straight Arrow Connector 4"/>
          <p:cNvCxnSpPr/>
          <p:nvPr/>
        </p:nvCxnSpPr>
        <p:spPr>
          <a:xfrm flipV="1">
            <a:off x="1143000" y="3428640"/>
            <a:ext cx="1448640" cy="1753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4" name="Straight Arrow Connector 6"/>
          <p:cNvCxnSpPr/>
          <p:nvPr/>
        </p:nvCxnSpPr>
        <p:spPr>
          <a:xfrm flipV="1">
            <a:off x="1143000" y="3656880"/>
            <a:ext cx="3277440" cy="1524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X ~ Bi(n,p),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ed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long and tricky calc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tails beyond scope of this cou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228600" y="2590920"/>
                <a:ext cx="71341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</m:m>
                          </m:e>
                        </m:d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388" name="Straight Arrow Connector 4"/>
          <p:cNvCxnSpPr/>
          <p:nvPr/>
        </p:nvCxnSpPr>
        <p:spPr>
          <a:xfrm flipV="1">
            <a:off x="1523880" y="4190400"/>
            <a:ext cx="15336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89" name="Object 3"/>
              <p:cNvSpPr txBox="1"/>
              <p:nvPr/>
            </p:nvSpPr>
            <p:spPr>
              <a:xfrm>
                <a:off x="990720" y="3886200"/>
                <a:ext cx="22636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X ~ Bi(n,p)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se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” to win propor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4295880" y="1170000"/>
                <a:ext cx="21812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X ~ Bi(n,p)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se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” to win propor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use this formula from here o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4295880" y="1170000"/>
                <a:ext cx="21812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X ~ Bi(n,p)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se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” to win propor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use this formula from here o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o capture “shifting me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4295880" y="1170000"/>
                <a:ext cx="21812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99" name="Picture 5" descr=""/>
          <p:cNvPicPr/>
          <p:nvPr/>
        </p:nvPicPr>
        <p:blipFill>
          <a:blip r:embed="rId1"/>
          <a:srcRect l="7456" t="21259" r="9320" b="6713"/>
          <a:stretch/>
        </p:blipFill>
        <p:spPr>
          <a:xfrm>
            <a:off x="76320" y="5105520"/>
            <a:ext cx="4495680" cy="32414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"/>
          <p:cNvPicPr/>
          <p:nvPr/>
        </p:nvPicPr>
        <p:blipFill>
          <a:blip r:embed="rId2"/>
          <a:srcRect l="7456" t="58182" r="9320" b="6713"/>
          <a:stretch/>
        </p:blipFill>
        <p:spPr>
          <a:xfrm>
            <a:off x="4600440" y="5105520"/>
            <a:ext cx="454356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X ~ Bi(n,p)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28a, mean part only   (9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29a, mean part onl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3"/>
              <p:cNvSpPr txBox="1"/>
              <p:nvPr/>
            </p:nvSpPr>
            <p:spPr>
              <a:xfrm>
                <a:off x="4295880" y="1170000"/>
                <a:ext cx="21812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f(x)    and    Y ~ g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aX + bY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f(x)    and    Y ~ g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aX + bY)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x + by) f(x) g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average, where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4"/>
          <p:cNvCxnSpPr/>
          <p:nvPr/>
        </p:nvCxnSpPr>
        <p:spPr>
          <a:xfrm flipV="1">
            <a:off x="2133360" y="3504960"/>
            <a:ext cx="99108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9" name="Straight Arrow Connector 5"/>
          <p:cNvCxnSpPr/>
          <p:nvPr/>
        </p:nvCxnSpPr>
        <p:spPr>
          <a:xfrm flipV="1">
            <a:off x="4951800" y="3504600"/>
            <a:ext cx="839160" cy="1448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f(x)    and    Y ~ g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aX + bY)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x + by) f(x) g(y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x f(x) g(y) + by f(x) g(y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stributive R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f(x)    and    Y ~ g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aX + bY)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x + by) f(x) g(y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x f(x) g(y) + by f(x) g(y)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f(x)g(y)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f(x)g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sociative Property of Add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f(x)    and    Y ~ g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aX + bY)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x + by) f(x) g(y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x f(x) g(y) + by f(x) g(y)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f(x)g(y)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f(x)g(y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f(x)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y) +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g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72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stributive R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ty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f(x)    and    Y ~ g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aX + bY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f(x)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y) +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g(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ty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f(x)    and    Y ~ g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aX + bY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f(x)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y) +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g(y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x f(x)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 y g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(x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g(y) =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marron</dc:creator>
  <dc:description/>
  <dc:language>en-US</dc:language>
  <cp:lastModifiedBy>marron</cp:lastModifiedBy>
  <dcterms:modified xsi:type="dcterms:W3CDTF">2009-02-20T14:47:11Z</dcterms:modified>
  <cp:revision>778</cp:revision>
  <dc:subject/>
  <dc:title>Slide 1</dc:title>
</cp:coreProperties>
</file>