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E893-C168-4DEE-B3FE-B333360AB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D31A-B19E-4EBC-BC81-5B5CA4FC8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03DA-11A8-48D1-99FE-9B03FC8B7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76F5-3041-4410-B175-D4200085B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D7E9-FD05-4585-AFD2-FADAC686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8899-E506-4BB1-8D2B-07390FDDA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6CD9-8A3B-4331-B406-8CAB6D5FD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1C1A-A003-4CA3-A230-6A9A9E9C4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B4C3-372C-4A56-AB1D-AC6DE9707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8869-592A-4A5D-8D7A-E42BD758E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FEC8-69A3-493A-99EC-40F9D075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6196-248E-4CF4-AE30-FAF333465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9B8C-1B26-4A43-9717-80F6097E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C135-33E0-4379-89E7-66D27578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0A51-AAC9-4E7F-BDA2-F085ABA12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31CC-D0D9-432F-8510-44D39BA18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DEA5-99B5-464B-9B12-27DD6440D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16D3-B573-4883-8250-7B92DBB9D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80A5-0732-4C61-9ED7-15A4CC886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8DD8-F8D2-4861-8243-66A49F3F4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ED15-45F4-4FF7-8C75-BCB948211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5531-48AB-4C25-986C-2E58CB8F0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AD81-5EC2-403C-91BD-916534CDF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D7ED-CEF6-406B-95AE-2029B13F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C7EC-E82D-4133-BFF4-1CCD677DC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08D7-9841-49D2-AED4-2BB1A84B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30A5-91EF-4F84-918C-8DEDD5023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11F3-6730-49BB-A2B3-2DF893FA2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B57A-D0A7-4F9F-ADDA-8F0F9ED0F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9BD0-EFDB-44E5-BA54-AC086F4A2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B371-99F0-49CC-A8DC-226A88486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6454-4ED8-4059-8DD6-02BB3EF0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4105-4B30-4827-8867-9BAA3AA9E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C3FB-405A-4BF0-8728-208FE6AA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AC73-A6A0-4F09-BD0C-A6CA37348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AB59-82EB-41BD-8149-955E2AC3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64FF-25A0-4851-BC29-93BF9CBC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D447-E510-448B-87DC-1A9E176D6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84E4-34C6-40F8-8631-27D1DF025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C2F0-7966-4A2E-8762-9940D7551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6EBC-CC76-41AA-9D5B-0450C103E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61DB-1B2E-4F47-9D65-DE25E2D21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5FA4-8B8B-4673-9C1D-7B80B0824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1D37-BF4F-4212-867C-BBB5EFCB3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32D8-F848-4019-882C-0158CE4D7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67FF-D39B-452C-A434-1A4854AF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1537-F078-44B5-A723-4B724A5C8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D8EF-3B42-4842-8435-1D847837C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6E0A-6152-4171-B2E7-857486E00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E8E5-A870-47E1-A32C-7E1DACFAC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B56B-55B8-4F0E-9321-9A3CAA2F7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7F4C-CF3C-4113-8C7D-B29DC735B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0AFC-735C-4856-91CF-0816E59F4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7580-AEDE-4ADB-A8DB-9F05DA7D1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C124-C901-407D-9CA1-A803F2FA1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3D32-99CC-444C-93D6-E4FFF7323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185D-7DA4-49D2-BE46-8B167490F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910F-AD81-4214-ABA2-D7AA1177C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EA5F-5FB8-4F07-890D-8AF2BB22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9F30-DBF3-490A-95FB-398F66A1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CB24-7CF3-495B-A1CE-798AA5436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5385-98D5-409D-AE7C-7C41043F0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0B25-BE69-4DF6-9B17-EA187321C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EB95-E405-45C1-9655-EEFB35178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E8D1-7B6E-47B4-9989-6B4BFCB55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F4C3-E002-4E3C-A449-F889C054A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C245-9E4D-40DC-96FC-92262E688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6C33-32D9-4652-9A4B-635FAD58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0C18-3095-42FA-A1DF-E2035B641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D0C1-7DE3-4DD8-9444-A8DB1C7A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D23D-40B6-4849-A496-B5058A05C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69E9-5820-41EB-B81E-B9387A29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EA56-3044-430A-9D61-C8ABF4CCE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1677-4B7E-4491-BD31-653B9DCA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EF61-9AFA-4F57-8E59-0211BC8A4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C09F-13C7-4AD0-A24F-B6A58775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E841-48A0-44A9-A032-3517B7080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F3D2-724B-47ED-9CC5-C24A455D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D9EB-C870-4B16-836B-4408BDAF8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C903-118E-446A-9D90-7A2CB5801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2BE8-25F1-4704-9188-E775E308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9BAD-5B1D-4EA8-9AD4-EF8751F8F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C953-58CD-4F74-BF71-4EF829F89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6974-CD08-4D43-8196-1FAD839A8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00E8-A321-47F7-B0B1-6F112933E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68D7-BB11-4949-B257-199B62A2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D4BC-3DD8-4A4D-BE4C-BE929EB3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526D-4E33-4288-8A7A-83B3A7218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677D-86B9-4A0A-BD42-AF59F9465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9733-3439-41B3-A0E8-C8B8B4884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0B0-C52C-42CA-A105-C0E3CA19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F1C7-E31A-4FE0-AA58-14C54E98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31E1-BD11-4768-9D03-C9DD3317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529B-C521-432F-9D0B-84E3E1AFD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CF89-471D-49AA-A21E-34F85F817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9411-FD7D-4718-BCA9-072993E55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2E5A-9DF6-48D2-9F3A-4E315B261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C2A3-7728-4401-920E-7A625B48B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BAF7-B751-4CD0-AC9D-9A485AD03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E165-2F0A-4CA5-9F47-97D81B34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0452-F335-4812-8EC2-FD015E016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82C1-F3E7-4895-96AF-972717C62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A43B-2139-46E1-904E-FB6ACD224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17FB-EB15-49AB-A885-FB9845002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8FEE-C2B0-4F16-8254-C649E8D1A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A6FC-50C3-4A28-BDDD-D3D697413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740F-C7A6-4792-8EF5-533E2A7B4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A296-C3F3-41E0-BA2D-EF551FB4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5BBA-2AEE-4933-BE64-C5309342E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98A3-F041-494F-B216-8E3D7BB01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394E-96E9-43E4-9790-A4F7431E5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F310-5226-4019-A477-223F5DAA9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E64F-85BB-45C3-A24F-94BCAD0F2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8203-B8EC-43A0-880A-B4D977E38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D38B-C002-41B7-9CA0-C6A1A28A0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4D5C-FE5A-46EC-8564-B4D3C26D1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2F4B-CFCD-4512-B821-B9F411B7A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5FFC-C1E1-4390-8C42-E8364316F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4C42-D58F-4D7C-ABAA-775BB15B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7F6F-E876-4247-8811-8494A53C7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2091-C1C7-4F9D-A7F8-E4B3CE5C0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8D75-F341-4B5E-A4C8-CF9D15A91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32CA-07F1-4052-B3F8-035FDD6CD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68DC-A2A1-4BF8-A425-3F9B359E0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D194-3A68-4650-B07F-06C0E7185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6310-FA87-4EA3-96CD-97EA5DDA5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A4E9-620B-4CF6-8FF3-5CC553B8B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4BB5-74CA-4444-A2FF-BA06E383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12AA-6D15-4438-A738-312E8B75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038F-3FF6-4F34-8DDC-C008B8AEB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9167-B5AF-402C-B871-9721A4EBA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B3FB-7D1A-4E15-91B4-11A717A91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E640-340E-47E5-A57D-CE4177412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C959-5542-4FB7-AC27-546732210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FEC0-A171-4C81-9C1C-01FDDC14A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AF66-2794-447C-AD2A-21040DFF9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8DCD-E382-437B-860C-FEB222AA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EE2D-6B12-4DB7-99E9-D2A33EC4E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994C-EAC7-4F3A-9483-31A0FD59F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6259-C337-4BA9-A6D2-031475A3B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2E05-23A3-4F9B-AEA3-9167978CF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195B-BD7B-4318-998F-2DEBCC043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7575-2460-4ABC-873E-2FA484FFB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5FAB-046B-45CD-9A5C-12FEC5E4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7668-6990-413F-896F-FABBE8AC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5B8C-B97C-4714-8FFE-484FD929F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F502-D974-46E1-A146-07BDB625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5DF8-190F-4D09-BFB4-42227F342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D11A-1B37-4E1D-BD14-4A1BB76B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362E-1A69-49CD-98EA-1CA7608BF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1CA5-D7B6-49BB-B058-15DD04B7B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7B6C-D2E6-4B5A-B7E9-CA68F2D9C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32A8-E712-41BB-91E7-CD7A1E1BE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7427-B8C2-43B6-A1FB-766FD1D97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4A77-7A38-4244-937E-C6B545D01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C1EA-9A4E-4A96-B630-8187490E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D13D-8799-4186-AFD8-0FC2128E5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5BBF-8024-44CA-A97D-80CA5289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D1D4-749E-4FC5-A7D8-4BD99FBFC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6564-C729-490E-9E85-41DFBAB49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9EF2-7191-4555-A246-CCF70C8EB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BAB-CB84-4DCB-AB41-29DE9CD0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836D-3B4A-45E8-9FAC-22C40E66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746-0A72-4C32-8E85-5E1F4710F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EE54-F601-4657-A8FB-C1C81410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B785-F54B-43F6-A46F-108978A62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B8D8-72B0-415F-AE8F-95E1F6A19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2A95-A6BF-49C4-9146-3AE46D9F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C482-19E6-4DBA-8435-CB7483D42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5086-31CB-459F-830C-E0875E9D5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6F58-C8B3-4A04-A813-C7DF3D1E6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F7EE-C8F4-461F-8503-6C0394235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3D3F-4ACD-4647-816F-C2CC5CDE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C5C3-D670-4D82-BED0-60909572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9043-DD30-4A90-9A5B-4DCF1CBD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C70B-5E63-4A3F-9234-84D4619E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3DB5-9CD9-499D-9942-5990B1E7A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44C1-0349-4A3D-A6A0-AA0840CDF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060F-6670-4EB1-B8E0-DFD5F5171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960E-283C-415E-85BD-CE855E241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D947-9EBE-41C9-8939-0C1BFCDB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29D4-F768-49B9-89F2-BDE224996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99B0-8B1A-465D-820D-02D92D69C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792-E4B4-46A1-8EBD-1F5AE169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C5A-6A11-48D9-9B35-C42383CA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2C8-ABC2-4362-84AB-E8993CC0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7D5-A9B0-4A71-8862-5E952090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8499-8785-4ECB-9CAA-5A6B0F5A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5371-5916-4AB0-AD1C-2755CDAE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7EA3-7222-448B-B525-2F2B8BBA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EEB3-0B2F-457B-88AC-E3AB67A0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6392-9EC1-43CD-9EB6-FD4109C1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CBBA-E5A2-41E8-9868-9A410FBD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D88E-0AE2-4533-A542-FB42364C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08B-5808-4E2B-BE3E-2DE24615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8719-F5C2-482B-AFA1-6A5164F4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B6D8-7F01-4984-9821-03D6ADB8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D267-4DBB-4483-808C-1051538F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1F07-7A99-4009-B1F1-FED39275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0E34-07C3-45B5-B35C-46AFE4CF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8F4-2D1C-4170-BC4A-287E4107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7B7-4918-430A-97A2-ECFE2EF8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6DB-0189-438E-A620-B6A87D22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016-8A50-43EB-8734-56B7352B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684-B8AC-4A93-A6BB-D9BAA736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FF8-E680-4F0B-9454-7FAD1C8B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742-BC55-4B6B-9F5B-7BC2A4E4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A82A-305D-4005-876D-F8A82B921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E96A-41C5-444D-BCC0-7939ADF66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courses.bfwpub.com/ips6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Value (probability distribu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Expec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  Results:   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– 100      Very P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 – 8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– 6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: Drop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ant to?   Let’s tal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ore Lateral Thinking Puzz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ri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ore Lateral Thinking Puzz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h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ore Lateral Thinking Puzz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h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wo Degrees Below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ore Lateral Thinking Puzz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kn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ore Lateral Thinking Puzz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kn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neo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ore Lateral Thinking Puzz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feet feet feet feet feet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ore Lateral Thinking Puzz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feet feet feet feet feet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six feet under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152280" y="3733920"/>
            <a:ext cx="4114800" cy="2966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2"/>
          <a:srcRect l="7805" t="23089" r="4878" b="6076"/>
          <a:stretch/>
        </p:blipFill>
        <p:spPr>
          <a:xfrm>
            <a:off x="4414680" y="3733920"/>
            <a:ext cx="4557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  Sections  4.4  and 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arallel develop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both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55-68,  319-3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59-62, 279-285,   62-64, 337-3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1    =  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2    =    -10, 0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1    =  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2    =    -10, 0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have mea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1    =  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2    =    -10, 0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have mea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List 2 is f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1    =  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2    =    -10, 0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have mea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List 2 is f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easure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ces to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ces to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Random Variabl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ces to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Random Variabl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 = X – 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ces to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Random Variabl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 = X – 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X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Straight Arrow Connector 4"/>
          <p:cNvCxnSpPr/>
          <p:nvPr/>
        </p:nvCxnSpPr>
        <p:spPr>
          <a:xfrm flipV="1">
            <a:off x="4951800" y="4647960"/>
            <a:ext cx="76284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ces to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 = X – 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ces to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 = X – 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ces to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 = X – 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4495680" y="480060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ces to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 = X – 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s are: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4495680" y="480060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4191120" y="5562720"/>
                <a:ext cx="36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ces to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 = X – 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s are: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4495680" y="480060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4191120" y="5562720"/>
                <a:ext cx="36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1" name="TextBox 5"/>
          <p:cNvSpPr/>
          <p:nvPr/>
        </p:nvSpPr>
        <p:spPr>
          <a:xfrm>
            <a:off x="6858000" y="3962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: Aver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center of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Straight Arrow Connector 7"/>
          <p:cNvCxnSpPr/>
          <p:nvPr/>
        </p:nvCxnSpPr>
        <p:spPr>
          <a:xfrm flipH="1">
            <a:off x="5257080" y="4570920"/>
            <a:ext cx="1981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|X – E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|X – E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# spaces to cen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Straight Arrow Connector 5"/>
          <p:cNvCxnSpPr/>
          <p:nvPr/>
        </p:nvCxnSpPr>
        <p:spPr>
          <a:xfrm flipH="1">
            <a:off x="4799880" y="2438280"/>
            <a:ext cx="1220040" cy="106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|X – E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 positive, thu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en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Straight Arrow Connector 5"/>
          <p:cNvCxnSpPr/>
          <p:nvPr/>
        </p:nvCxnSpPr>
        <p:spPr>
          <a:xfrm flipH="1">
            <a:off x="4114080" y="2438280"/>
            <a:ext cx="22932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3" name="Straight Arrow Connector 7"/>
          <p:cNvCxnSpPr/>
          <p:nvPr/>
        </p:nvCxnSpPr>
        <p:spPr>
          <a:xfrm>
            <a:off x="4343040" y="2438280"/>
            <a:ext cx="106740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|X – E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marize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Straight Arrow Connector 7"/>
          <p:cNvCxnSpPr/>
          <p:nvPr/>
        </p:nvCxnSpPr>
        <p:spPr>
          <a:xfrm>
            <a:off x="2971800" y="2438280"/>
            <a:ext cx="83880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|X – E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2"/>
              <p:cNvSpPr txBox="1"/>
              <p:nvPr/>
            </p:nvSpPr>
            <p:spPr>
              <a:xfrm>
                <a:off x="3657600" y="4419720"/>
                <a:ext cx="208296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|X – E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# spaces to cen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"/>
              <p:cNvSpPr txBox="1"/>
              <p:nvPr/>
            </p:nvSpPr>
            <p:spPr>
              <a:xfrm>
                <a:off x="3657600" y="4419720"/>
                <a:ext cx="208296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483" name="Straight Arrow Connector 4"/>
          <p:cNvCxnSpPr/>
          <p:nvPr/>
        </p:nvCxnSpPr>
        <p:spPr>
          <a:xfrm flipH="1">
            <a:off x="5180760" y="2362320"/>
            <a:ext cx="762840" cy="266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|X – E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 positive, thu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en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3657600" y="4419720"/>
                <a:ext cx="208296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487" name="Straight Arrow Connector 4"/>
          <p:cNvCxnSpPr/>
          <p:nvPr/>
        </p:nvCxnSpPr>
        <p:spPr>
          <a:xfrm>
            <a:off x="4418640" y="2361960"/>
            <a:ext cx="153000" cy="236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8" name="Straight Arrow Connector 7"/>
          <p:cNvCxnSpPr/>
          <p:nvPr/>
        </p:nvCxnSpPr>
        <p:spPr>
          <a:xfrm>
            <a:off x="4419720" y="2361960"/>
            <a:ext cx="1219680" cy="236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|X – E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marize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"/>
              <p:cNvSpPr txBox="1"/>
              <p:nvPr/>
            </p:nvSpPr>
            <p:spPr>
              <a:xfrm>
                <a:off x="3657600" y="4419720"/>
                <a:ext cx="208296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492" name="Straight Arrow Connector 4"/>
          <p:cNvCxnSpPr/>
          <p:nvPr/>
        </p:nvCxnSpPr>
        <p:spPr>
          <a:xfrm>
            <a:off x="3047040" y="2362320"/>
            <a:ext cx="1067400" cy="22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find distribution (i.e. measure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find distribution (i.e. measure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alculus for minimizing (later in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find distribution (i.e. measure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alculus for minimizing (later in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shortcut formula” (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find distribution (i.e. measure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alculus for minimizing (later in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shortcut formula” (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y further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ummarize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find distribution (i.e. measure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alculus for minimizing (later in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shortcut formula” (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y further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more advanced cour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ummary of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ummary of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2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ummary of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 “sigma” (lower c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2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cxnSp>
        <p:nvCxnSpPr>
          <p:cNvPr id="513" name="Straight Arrow Connector 5"/>
          <p:cNvCxnSpPr/>
          <p:nvPr/>
        </p:nvCxnSpPr>
        <p:spPr>
          <a:xfrm flipV="1">
            <a:off x="4038480" y="3733200"/>
            <a:ext cx="99144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ummary of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root of average square dev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cxnSp>
        <p:nvCxnSpPr>
          <p:cNvPr id="517" name="Straight Arrow Connector 5"/>
          <p:cNvCxnSpPr/>
          <p:nvPr/>
        </p:nvCxnSpPr>
        <p:spPr>
          <a:xfrm flipV="1">
            <a:off x="3124080" y="3809520"/>
            <a:ext cx="274392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8" name="Straight Arrow Connector 9"/>
          <p:cNvCxnSpPr/>
          <p:nvPr/>
        </p:nvCxnSpPr>
        <p:spPr>
          <a:xfrm flipV="1">
            <a:off x="4800600" y="3733200"/>
            <a:ext cx="14486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9" name="Straight Arrow Connector 12"/>
          <p:cNvCxnSpPr/>
          <p:nvPr/>
        </p:nvCxnSpPr>
        <p:spPr>
          <a:xfrm flipV="1">
            <a:off x="6171840" y="3428640"/>
            <a:ext cx="1981800" cy="12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0" name="Straight Arrow Connector 14"/>
          <p:cNvCxnSpPr/>
          <p:nvPr/>
        </p:nvCxnSpPr>
        <p:spPr>
          <a:xfrm flipH="1" flipV="1">
            <a:off x="7238520" y="3657240"/>
            <a:ext cx="5342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ummary of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root makes units same a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ft, not f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q. 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2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cxnSp>
        <p:nvCxnSpPr>
          <p:cNvPr id="524" name="Straight Arrow Connector 5"/>
          <p:cNvCxnSpPr/>
          <p:nvPr/>
        </p:nvCxnSpPr>
        <p:spPr>
          <a:xfrm flipV="1">
            <a:off x="3428640" y="3809160"/>
            <a:ext cx="24390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ummary of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2"/>
              <p:cNvSpPr txBox="1"/>
              <p:nvPr/>
            </p:nvSpPr>
            <p:spPr>
              <a:xfrm>
                <a:off x="4495680" y="4267080"/>
                <a:ext cx="37116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ummary of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root of average square dev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4495680" y="4267080"/>
                <a:ext cx="37116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ummary of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square root makes units same a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2"/>
              <p:cNvSpPr txBox="1"/>
              <p:nvPr/>
            </p:nvSpPr>
            <p:spPr>
              <a:xfrm>
                <a:off x="4495680" y="4267080"/>
                <a:ext cx="37116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541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ummary of dev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-6541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-6541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 for       instead of      discussed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4495680" y="4267080"/>
                <a:ext cx="37116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5029200" y="304812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4"/>
              <p:cNvSpPr txBox="1"/>
              <p:nvPr/>
            </p:nvSpPr>
            <p:spPr>
              <a:xfrm>
                <a:off x="2362320" y="6095880"/>
                <a:ext cx="6048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5"/>
              <p:cNvSpPr txBox="1"/>
              <p:nvPr/>
            </p:nvSpPr>
            <p:spPr>
              <a:xfrm>
                <a:off x="5029200" y="6095880"/>
                <a:ext cx="3780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2"/>
              <p:cNvSpPr txBox="1"/>
              <p:nvPr/>
            </p:nvSpPr>
            <p:spPr>
              <a:xfrm>
                <a:off x="6172200" y="1176480"/>
                <a:ext cx="121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152280" y="3733920"/>
            <a:ext cx="4114800" cy="296676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Arrow Connector 9"/>
          <p:cNvCxnSpPr/>
          <p:nvPr/>
        </p:nvCxnSpPr>
        <p:spPr>
          <a:xfrm flipH="1">
            <a:off x="1065960" y="3200400"/>
            <a:ext cx="76284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Straight Arrow Connector 10"/>
          <p:cNvCxnSpPr/>
          <p:nvPr/>
        </p:nvCxnSpPr>
        <p:spPr>
          <a:xfrm>
            <a:off x="1828800" y="3200040"/>
            <a:ext cx="1829520" cy="28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s are: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2"/>
              <p:cNvSpPr txBox="1"/>
              <p:nvPr/>
            </p:nvSpPr>
            <p:spPr>
              <a:xfrm>
                <a:off x="6172200" y="1176480"/>
                <a:ext cx="121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s are: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"/>
              <p:cNvSpPr txBox="1"/>
              <p:nvPr/>
            </p:nvSpPr>
            <p:spPr>
              <a:xfrm>
                <a:off x="6172200" y="1176480"/>
                <a:ext cx="121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5257800" y="1752480"/>
                <a:ext cx="38862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s are: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for list  -1, 0,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"/>
              <p:cNvSpPr txBox="1"/>
              <p:nvPr/>
            </p:nvSpPr>
            <p:spPr>
              <a:xfrm>
                <a:off x="6172200" y="1176480"/>
                <a:ext cx="121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5257800" y="1752480"/>
                <a:ext cx="38862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s are: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for list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 does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el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"/>
              <p:cNvSpPr txBox="1"/>
              <p:nvPr/>
            </p:nvSpPr>
            <p:spPr>
              <a:xfrm>
                <a:off x="6172200" y="1176480"/>
                <a:ext cx="121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5257800" y="1752480"/>
                <a:ext cx="38862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s are: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for list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 does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el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ift all numb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"/>
              <p:cNvSpPr txBox="1"/>
              <p:nvPr/>
            </p:nvSpPr>
            <p:spPr>
              <a:xfrm>
                <a:off x="6172200" y="1176480"/>
                <a:ext cx="121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5257800" y="1752480"/>
                <a:ext cx="38862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s are: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for list  -1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 does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el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ift all numb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ist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change 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"/>
              <p:cNvSpPr txBox="1"/>
              <p:nvPr/>
            </p:nvSpPr>
            <p:spPr>
              <a:xfrm>
                <a:off x="6172200" y="1176480"/>
                <a:ext cx="121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5257800" y="1752480"/>
                <a:ext cx="38862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for list    0, 11,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for list    0, 11,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2"/>
              <p:cNvSpPr txBox="1"/>
              <p:nvPr/>
            </p:nvSpPr>
            <p:spPr>
              <a:xfrm>
                <a:off x="6172200" y="1828800"/>
                <a:ext cx="1219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for list    0, 11,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’ns are: -11, 0,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2"/>
              <p:cNvSpPr txBox="1"/>
              <p:nvPr/>
            </p:nvSpPr>
            <p:spPr>
              <a:xfrm>
                <a:off x="6172200" y="1828800"/>
                <a:ext cx="1219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for list    0, 11,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’ns are: -11, 0,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2"/>
              <p:cNvSpPr txBox="1"/>
              <p:nvPr/>
            </p:nvSpPr>
            <p:spPr>
              <a:xfrm>
                <a:off x="6172200" y="1828800"/>
                <a:ext cx="1219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3"/>
              <p:cNvSpPr txBox="1"/>
              <p:nvPr/>
            </p:nvSpPr>
            <p:spPr>
              <a:xfrm>
                <a:off x="4621320" y="2438280"/>
                <a:ext cx="45226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152280" y="3733920"/>
            <a:ext cx="4114800" cy="2966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rcRect l="7805" t="23089" r="4878" b="6076"/>
          <a:stretch/>
        </p:blipFill>
        <p:spPr>
          <a:xfrm>
            <a:off x="4414680" y="3733920"/>
            <a:ext cx="4557960" cy="2968560"/>
          </a:xfrm>
          <a:prstGeom prst="rect">
            <a:avLst/>
          </a:prstGeom>
          <a:ln w="0">
            <a:noFill/>
          </a:ln>
        </p:spPr>
      </p:pic>
      <p:cxnSp>
        <p:nvCxnSpPr>
          <p:cNvPr id="130" name="Straight Arrow Connector 9"/>
          <p:cNvCxnSpPr/>
          <p:nvPr/>
        </p:nvCxnSpPr>
        <p:spPr>
          <a:xfrm flipH="1">
            <a:off x="5485680" y="3200400"/>
            <a:ext cx="305640" cy="12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Straight Arrow Connector 10"/>
          <p:cNvCxnSpPr/>
          <p:nvPr/>
        </p:nvCxnSpPr>
        <p:spPr>
          <a:xfrm>
            <a:off x="5790240" y="3200040"/>
            <a:ext cx="1905480" cy="2515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for list    0, 11,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’ns are: -11, 0,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 for E.g. 2 is 11 times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2"/>
              <p:cNvSpPr txBox="1"/>
              <p:nvPr/>
            </p:nvSpPr>
            <p:spPr>
              <a:xfrm>
                <a:off x="6172200" y="1828800"/>
                <a:ext cx="1219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3"/>
              <p:cNvSpPr txBox="1"/>
              <p:nvPr/>
            </p:nvSpPr>
            <p:spPr>
              <a:xfrm>
                <a:off x="4621320" y="2438280"/>
                <a:ext cx="45226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for list   10, 11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for list    0, 11,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’ns are: -11, 0,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 for E.g. 2 is 11 times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#s  are 11 times more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 number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2"/>
              <p:cNvSpPr txBox="1"/>
              <p:nvPr/>
            </p:nvSpPr>
            <p:spPr>
              <a:xfrm>
                <a:off x="6172200" y="1828800"/>
                <a:ext cx="1219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3"/>
              <p:cNvSpPr txBox="1"/>
              <p:nvPr/>
            </p:nvSpPr>
            <p:spPr>
              <a:xfrm>
                <a:off x="4621320" y="2438280"/>
                <a:ext cx="45226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600200" y="1066680"/>
          <a:ext cx="5410080" cy="103680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Value (cen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600200" y="1066680"/>
          <a:ext cx="5410080" cy="103680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Value (cen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= (0.1)0 + (0.2)1 + (0.7)4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600200" y="1066680"/>
          <a:ext cx="5410080" cy="103680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= (0.1)0 + (0.2)1 + (0.7)4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1600200" y="1066680"/>
          <a:ext cx="5410080" cy="155412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600200" y="1066680"/>
          <a:ext cx="5410080" cy="207324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-EX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E(X – EX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0.1)9 + (0.2)4 + (0.7)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600200" y="1066680"/>
          <a:ext cx="5410080" cy="207324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-EX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E(X – EX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0.1)9 + (0.2)4 + (0.7)1  = 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600200" y="1066680"/>
          <a:ext cx="5410080" cy="207324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-EX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E(X – EX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0.1)9 + (0.2)4 + (0.7)1  = 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 =              =  sqrt(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600200" y="1066680"/>
          <a:ext cx="5410080" cy="207324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-EX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15" name="Object 2"/>
              <p:cNvSpPr txBox="1"/>
              <p:nvPr/>
            </p:nvSpPr>
            <p:spPr>
              <a:xfrm>
                <a:off x="2455920" y="4718160"/>
                <a:ext cx="11095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se ideas, to put them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closely related to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closely related to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s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closely related to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s square, calle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s:   var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closely related to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s square, calle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s:   var(X) = [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closely related to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s square, calle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s:   var(X) = [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closely related to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s square, calle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s:   var(X) = [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E(X - EX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closely related to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s square, calle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s:   var(X) = [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E(X - EX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2"/>
              <p:cNvSpPr txBox="1"/>
              <p:nvPr/>
            </p:nvSpPr>
            <p:spPr>
              <a:xfrm>
                <a:off x="2743200" y="3733920"/>
                <a:ext cx="35607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manually (using SUM &amp; SQ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manually (using SUM &amp; SQ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aste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D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later study “notions of spre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manually (using SUM &amp; SQ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aste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D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for othe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  C19:     Calculate the standard deviation for the following lists, and compar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qualitativel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in terms of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, 3, 3, 1         (1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6, -4, -4, -6        (1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, 5, 5, 1         (2.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, 1, 1, 1       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79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77     (2.689, 1.7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  Sections  4.4  and 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arallel develop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4"/>
          <p:cNvCxnSpPr/>
          <p:nvPr/>
        </p:nvCxnSpPr>
        <p:spPr>
          <a:xfrm flipH="1" flipV="1">
            <a:off x="2666160" y="3961800"/>
            <a:ext cx="22932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  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taken off in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oints for each problem in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[purpl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for each page, lower right co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those to score o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lackboard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for ~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 = 8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om Exc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VE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hart 3" descr=""/>
          <p:cNvPicPr/>
          <p:nvPr/>
        </p:nvPicPr>
        <p:blipFill>
          <a:blip r:embed="rId1"/>
          <a:stretch/>
        </p:blipFill>
        <p:spPr>
          <a:xfrm>
            <a:off x="4260960" y="2584440"/>
            <a:ext cx="4889520" cy="4280040"/>
          </a:xfrm>
          <a:prstGeom prst="rect">
            <a:avLst/>
          </a:prstGeom>
          <a:ln w="0">
            <a:noFill/>
          </a:ln>
        </p:spPr>
      </p:pic>
      <p:sp>
        <p:nvSpPr>
          <p:cNvPr id="142" name="Straight Connector 5"/>
          <p:cNvSpPr/>
          <p:nvPr/>
        </p:nvSpPr>
        <p:spPr>
          <a:xfrm flipV="1">
            <a:off x="7085160" y="3278160"/>
            <a:ext cx="2880" cy="3581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Arrow Connector 7"/>
          <p:cNvCxnSpPr/>
          <p:nvPr/>
        </p:nvCxnSpPr>
        <p:spPr>
          <a:xfrm flipV="1">
            <a:off x="2742840" y="3504960"/>
            <a:ext cx="4267800" cy="9151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for ~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 = 8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ly s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on of “Cen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Chart 3" descr=""/>
          <p:cNvPicPr/>
          <p:nvPr/>
        </p:nvPicPr>
        <p:blipFill>
          <a:blip r:embed="rId1"/>
          <a:stretch/>
        </p:blipFill>
        <p:spPr>
          <a:xfrm>
            <a:off x="4260960" y="2584440"/>
            <a:ext cx="4889520" cy="4280040"/>
          </a:xfrm>
          <a:prstGeom prst="rect">
            <a:avLst/>
          </a:prstGeom>
          <a:ln w="0">
            <a:noFill/>
          </a:ln>
        </p:spPr>
      </p:pic>
      <p:sp>
        <p:nvSpPr>
          <p:cNvPr id="147" name="Straight Connector 5"/>
          <p:cNvSpPr/>
          <p:nvPr/>
        </p:nvSpPr>
        <p:spPr>
          <a:xfrm flipV="1">
            <a:off x="7085160" y="3278160"/>
            <a:ext cx="2880" cy="3581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7"/>
          <p:cNvCxnSpPr/>
          <p:nvPr/>
        </p:nvCxnSpPr>
        <p:spPr>
          <a:xfrm flipV="1">
            <a:off x="2742840" y="3504960"/>
            <a:ext cx="4267800" cy="9151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(in days) to suicide attem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Suicide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nitial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a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right skew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ble as “center”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(data ≥) =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0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Sma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8"/>
          <p:cNvCxnSpPr/>
          <p:nvPr/>
        </p:nvCxnSpPr>
        <p:spPr>
          <a:xfrm>
            <a:off x="2895480" y="3962160"/>
            <a:ext cx="3201120" cy="610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3" name="Straight Connector 7"/>
          <p:cNvSpPr/>
          <p:nvPr/>
        </p:nvSpPr>
        <p:spPr>
          <a:xfrm>
            <a:off x="6172200" y="4876920"/>
            <a:ext cx="2971800" cy="1440"/>
          </a:xfrm>
          <a:prstGeom prst="line">
            <a:avLst/>
          </a:prstGeom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10"/>
          <p:cNvCxnSpPr/>
          <p:nvPr/>
        </p:nvCxnSpPr>
        <p:spPr>
          <a:xfrm flipV="1">
            <a:off x="3733560" y="5028840"/>
            <a:ext cx="2896200" cy="3816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ps better notion of “center”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int in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have 50% of data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50% of data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the “med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: = Valu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orted E.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: = Valu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orted E.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n middle???    NO, must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4"/>
          <p:cNvCxnSpPr/>
          <p:nvPr/>
        </p:nvCxnSpPr>
        <p:spPr>
          <a:xfrm flipH="1" flipV="1">
            <a:off x="1294560" y="3961800"/>
            <a:ext cx="83916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  Results:   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: = Valu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orted E.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n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sion of “midd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traight Arrow Connector 4"/>
          <p:cNvCxnSpPr/>
          <p:nvPr/>
        </p:nvCxnSpPr>
        <p:spPr>
          <a:xfrm flipV="1">
            <a:off x="2133720" y="3809880"/>
            <a:ext cx="365832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for point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4"/>
          <p:cNvCxnSpPr/>
          <p:nvPr/>
        </p:nvCxnSpPr>
        <p:spPr>
          <a:xfrm>
            <a:off x="3048120" y="3123720"/>
            <a:ext cx="2743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Straight Arrow Connector 5"/>
          <p:cNvCxnSpPr/>
          <p:nvPr/>
        </p:nvCxnSpPr>
        <p:spPr>
          <a:xfrm>
            <a:off x="3048120" y="3124080"/>
            <a:ext cx="27439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for point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by ta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two tied value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Median = 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4"/>
          <p:cNvCxnSpPr/>
          <p:nvPr/>
        </p:nvCxnSpPr>
        <p:spPr>
          <a:xfrm>
            <a:off x="3048120" y="3123720"/>
            <a:ext cx="2743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Straight Arrow Connector 5"/>
          <p:cNvCxnSpPr/>
          <p:nvPr/>
        </p:nvCxnSpPr>
        <p:spPr>
          <a:xfrm>
            <a:off x="3048120" y="3124080"/>
            <a:ext cx="27439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: = Valu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orted E.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:    use function “MED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:    use function “MED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ilar to othe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 = 8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edian = 7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xpecte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Chart 3" descr=""/>
          <p:cNvPicPr/>
          <p:nvPr/>
        </p:nvPicPr>
        <p:blipFill>
          <a:blip r:embed="rId1"/>
          <a:stretch/>
        </p:blipFill>
        <p:spPr>
          <a:xfrm>
            <a:off x="4260960" y="2584440"/>
            <a:ext cx="4889520" cy="4280040"/>
          </a:xfrm>
          <a:prstGeom prst="rect">
            <a:avLst/>
          </a:prstGeom>
          <a:ln w="0">
            <a:noFill/>
          </a:ln>
        </p:spPr>
      </p:pic>
      <p:sp>
        <p:nvSpPr>
          <p:cNvPr id="190" name="Straight Connector 5"/>
          <p:cNvSpPr/>
          <p:nvPr/>
        </p:nvSpPr>
        <p:spPr>
          <a:xfrm flipV="1">
            <a:off x="7085160" y="3278160"/>
            <a:ext cx="2880" cy="3581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traight Arrow Connector 7"/>
          <p:cNvCxnSpPr/>
          <p:nvPr/>
        </p:nvCxnSpPr>
        <p:spPr>
          <a:xfrm>
            <a:off x="2742840" y="2895480"/>
            <a:ext cx="4267800" cy="6105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192" name="Straight Connector 8"/>
          <p:cNvSpPr/>
          <p:nvPr/>
        </p:nvSpPr>
        <p:spPr>
          <a:xfrm flipH="1">
            <a:off x="7085160" y="3278160"/>
            <a:ext cx="2880" cy="3581280"/>
          </a:xfrm>
          <a:prstGeom prst="line">
            <a:avLst/>
          </a:prstGeom>
          <a:ln w="507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10"/>
          <p:cNvCxnSpPr/>
          <p:nvPr/>
        </p:nvCxnSpPr>
        <p:spPr>
          <a:xfrm>
            <a:off x="2971440" y="3657600"/>
            <a:ext cx="3963240" cy="129600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ich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:  ½ - ½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197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8"/>
          <p:cNvCxnSpPr/>
          <p:nvPr/>
        </p:nvCxnSpPr>
        <p:spPr>
          <a:xfrm>
            <a:off x="2819160" y="2514240"/>
            <a:ext cx="335340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9" name="Straight Connector 9"/>
          <p:cNvSpPr/>
          <p:nvPr/>
        </p:nvSpPr>
        <p:spPr>
          <a:xfrm flipV="1">
            <a:off x="5943600" y="3428640"/>
            <a:ext cx="1440" cy="3430440"/>
          </a:xfrm>
          <a:prstGeom prst="line">
            <a:avLst/>
          </a:prstGeom>
          <a:ln w="381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Straight Arrow Connector 15"/>
          <p:cNvCxnSpPr/>
          <p:nvPr/>
        </p:nvCxnSpPr>
        <p:spPr>
          <a:xfrm>
            <a:off x="2971440" y="3200040"/>
            <a:ext cx="2896200" cy="167724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/>
          <p:nvPr/>
        </p:nvCxnSpPr>
        <p:spPr>
          <a:xfrm flipH="1" flipV="1">
            <a:off x="2818800" y="3352320"/>
            <a:ext cx="1448280" cy="20577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ich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:  ½ - ½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2:  long run averag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8"/>
          <p:cNvCxnSpPr/>
          <p:nvPr/>
        </p:nvCxnSpPr>
        <p:spPr>
          <a:xfrm>
            <a:off x="2819160" y="2514240"/>
            <a:ext cx="335340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7" name="Straight Connector 9"/>
          <p:cNvSpPr/>
          <p:nvPr/>
        </p:nvSpPr>
        <p:spPr>
          <a:xfrm flipV="1">
            <a:off x="5943600" y="3428640"/>
            <a:ext cx="1440" cy="3430440"/>
          </a:xfrm>
          <a:prstGeom prst="line">
            <a:avLst/>
          </a:prstGeom>
          <a:ln w="381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traight Arrow Connector 15"/>
          <p:cNvCxnSpPr/>
          <p:nvPr/>
        </p:nvCxnSpPr>
        <p:spPr>
          <a:xfrm>
            <a:off x="2971440" y="3200040"/>
            <a:ext cx="2896200" cy="167724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209" name="Straight Arrow Connector 11"/>
          <p:cNvCxnSpPr/>
          <p:nvPr/>
        </p:nvCxnSpPr>
        <p:spPr>
          <a:xfrm flipH="1" flipV="1">
            <a:off x="2513880" y="2742480"/>
            <a:ext cx="2439000" cy="350604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63 a (median only),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65  (hint:   use histo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Hidal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ampData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vie ov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ain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inwidth dr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stogram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StampsHistBWidth.mpg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  Results:   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– 100      Very P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ess known f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in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location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also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rious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even for fixed wid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StampsHistLoc.mpg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ompare with “smoot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rsion”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eaks appe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entirely in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 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11488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ompare with “smoot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rsion”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eaks disappe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hen split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wo bins 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105520" y="2181240"/>
            <a:ext cx="43336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.g. Chond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ype of Meteor (never part of pla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.g. Chond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ype of Meteor (never part of pla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how many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ources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do they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.g. Chond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ype of Meteor (never part of pla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how many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ources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do they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Current Issue:  Meteors from Mars show lif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.g. Chond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ype of Meteor (never part of pla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how many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ources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do they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  Results:   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– 100      Very P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 letter grade yet, since to early, expect many to chan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.g. Chond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ype of Meteor (never part of pla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how many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ources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do they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ata Set    22 Chondr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.g. Chond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ype of Meteor (never part of pla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how many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ources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do they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ata Set    22 Chondr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Histograms as slipp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.g. Chond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ype of Meteor (never part of pla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how many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ources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do they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ata Set    22 Chondr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teresting measurement:    % Si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hond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% Si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hond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% Si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egkde1a.eps"/>
          <p:cNvPicPr/>
          <p:nvPr/>
        </p:nvPicPr>
        <p:blipFill>
          <a:blip r:embed="rId1"/>
          <a:stretch/>
        </p:blipFill>
        <p:spPr>
          <a:xfrm rot="16200000">
            <a:off x="4143960" y="1857960"/>
            <a:ext cx="4665600" cy="533412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5"/>
          <p:cNvCxnSpPr/>
          <p:nvPr/>
        </p:nvCxnSpPr>
        <p:spPr>
          <a:xfrm>
            <a:off x="1905120" y="3200040"/>
            <a:ext cx="2743920" cy="259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3" name="Straight Arrow Connector 6"/>
          <p:cNvCxnSpPr/>
          <p:nvPr/>
        </p:nvCxnSpPr>
        <p:spPr>
          <a:xfrm>
            <a:off x="1904760" y="3200400"/>
            <a:ext cx="5639400" cy="2667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hond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% Si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rea = 1/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ach dat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egkde1b.eps"/>
          <p:cNvPicPr/>
          <p:nvPr/>
        </p:nvPicPr>
        <p:blipFill>
          <a:blip r:embed="rId1"/>
          <a:stretch/>
        </p:blipFill>
        <p:spPr>
          <a:xfrm rot="16200000">
            <a:off x="4143960" y="1857960"/>
            <a:ext cx="4665600" cy="5334120"/>
          </a:xfrm>
          <a:prstGeom prst="rect">
            <a:avLst/>
          </a:prstGeom>
          <a:ln w="0">
            <a:noFill/>
          </a:ln>
        </p:spPr>
      </p:pic>
      <p:cxnSp>
        <p:nvCxnSpPr>
          <p:cNvPr id="257" name="Straight Arrow Connector 6"/>
          <p:cNvCxnSpPr/>
          <p:nvPr/>
        </p:nvCxnSpPr>
        <p:spPr>
          <a:xfrm>
            <a:off x="3124080" y="4572000"/>
            <a:ext cx="137232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hond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% Si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rea = 1/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ach dat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m for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a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0" descr="egkde1c.eps"/>
          <p:cNvPicPr/>
          <p:nvPr/>
        </p:nvPicPr>
        <p:blipFill>
          <a:blip r:embed="rId1"/>
          <a:stretch/>
        </p:blipFill>
        <p:spPr>
          <a:xfrm rot="16200000">
            <a:off x="4143960" y="1857960"/>
            <a:ext cx="4665600" cy="533412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6"/>
          <p:cNvCxnSpPr/>
          <p:nvPr/>
        </p:nvCxnSpPr>
        <p:spPr>
          <a:xfrm flipV="1">
            <a:off x="2895480" y="4876200"/>
            <a:ext cx="1982160" cy="1530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mooth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egkde1c.eps"/>
          <p:cNvPicPr/>
          <p:nvPr/>
        </p:nvPicPr>
        <p:blipFill>
          <a:blip r:embed="rId1"/>
          <a:stretch/>
        </p:blipFill>
        <p:spPr>
          <a:xfrm rot="16200000">
            <a:off x="4143960" y="1857960"/>
            <a:ext cx="4665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mooth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corresp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frequencies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egkde1c.eps"/>
          <p:cNvPicPr/>
          <p:nvPr/>
        </p:nvPicPr>
        <p:blipFill>
          <a:blip r:embed="rId1"/>
          <a:stretch/>
        </p:blipFill>
        <p:spPr>
          <a:xfrm rot="16200000">
            <a:off x="4143960" y="1857960"/>
            <a:ext cx="4665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mooth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hows 3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egkde1c.eps"/>
          <p:cNvPicPr/>
          <p:nvPr/>
        </p:nvPicPr>
        <p:blipFill>
          <a:blip r:embed="rId1"/>
          <a:stretch/>
        </p:blipFill>
        <p:spPr>
          <a:xfrm rot="16200000">
            <a:off x="4143960" y="1857960"/>
            <a:ext cx="4665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  Results:   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– 100      Very P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ood to see many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#(100s) = 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What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mooth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hows 3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uggests 3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f chondr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egkde1c.eps"/>
          <p:cNvPicPr/>
          <p:nvPr/>
        </p:nvPicPr>
        <p:blipFill>
          <a:blip r:embed="rId1"/>
          <a:stretch/>
        </p:blipFill>
        <p:spPr>
          <a:xfrm rot="16200000">
            <a:off x="4143960" y="1857960"/>
            <a:ext cx="4665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For Hidalgo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StampsKDE.mpg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500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For Hidalgo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Kernel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width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is cru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StampsKDE.mpg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6500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For Hidalgo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Kernel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width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is cru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ee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to cho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StampsKDE.mpg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6500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view of mean vs. medi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view of mean vs. medi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-textbook Applet:   “Mean and Med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view of mean vs. medi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-textbook Applet:   “Mean and Med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Construction of Toy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tats Por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urses.bfwpub.com/ips6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Resources – Statistical Ap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nd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1:  Understand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below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dd data 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294" name="Straight Arrow Connector 6"/>
          <p:cNvCxnSpPr/>
          <p:nvPr/>
        </p:nvCxnSpPr>
        <p:spPr>
          <a:xfrm>
            <a:off x="3657600" y="2743200"/>
            <a:ext cx="1372320" cy="2820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1:  Understand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below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dd data 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298" name="Straight Arrow Connector 6"/>
          <p:cNvCxnSpPr/>
          <p:nvPr/>
        </p:nvCxnSpPr>
        <p:spPr>
          <a:xfrm>
            <a:off x="3275640" y="3200040"/>
            <a:ext cx="205776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  Results:   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– 100      Very P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 – 8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1:  Understand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below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dd data 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ne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02" name="Straight Arrow Connector 6"/>
          <p:cNvCxnSpPr/>
          <p:nvPr/>
        </p:nvCxnSpPr>
        <p:spPr>
          <a:xfrm>
            <a:off x="3657240" y="3733560"/>
            <a:ext cx="434376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1:  Understand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) in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06" name="Straight Arrow Connector 6"/>
          <p:cNvCxnSpPr/>
          <p:nvPr/>
        </p:nvCxnSpPr>
        <p:spPr>
          <a:xfrm>
            <a:off x="3657240" y="3733920"/>
            <a:ext cx="2439000" cy="175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1:  Understand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½ -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)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10" name="Straight Arrow Connector 6"/>
          <p:cNvCxnSpPr/>
          <p:nvPr/>
        </p:nvCxnSpPr>
        <p:spPr>
          <a:xfrm>
            <a:off x="3200040" y="4266720"/>
            <a:ext cx="2057760" cy="1220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1:  Understand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diffe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k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2:  Effect of Sing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17" name="Straight Arrow Connector 4"/>
          <p:cNvCxnSpPr/>
          <p:nvPr/>
        </p:nvCxnSpPr>
        <p:spPr>
          <a:xfrm>
            <a:off x="7009200" y="1676160"/>
            <a:ext cx="839160" cy="388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2:  Effect of Sing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m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g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ata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4"/>
          <p:cNvCxnSpPr/>
          <p:nvPr/>
        </p:nvCxnSpPr>
        <p:spPr>
          <a:xfrm>
            <a:off x="2362320" y="2666880"/>
            <a:ext cx="3201120" cy="2820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2:  Effect of Sing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m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g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ata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25" name="Straight Arrow Connector 4"/>
          <p:cNvCxnSpPr/>
          <p:nvPr/>
        </p:nvCxnSpPr>
        <p:spPr>
          <a:xfrm>
            <a:off x="2514600" y="4419360"/>
            <a:ext cx="266724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2:  Effect of Sing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to “gra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er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29" name="Straight Arrow Connector 4"/>
          <p:cNvCxnSpPr/>
          <p:nvPr/>
        </p:nvCxnSpPr>
        <p:spPr>
          <a:xfrm>
            <a:off x="3200400" y="2133720"/>
            <a:ext cx="4572720" cy="350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2:  Effect of Sing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to “gra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er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33" name="Straight Arrow Connector 4"/>
          <p:cNvCxnSpPr/>
          <p:nvPr/>
        </p:nvCxnSpPr>
        <p:spPr>
          <a:xfrm>
            <a:off x="3200400" y="2133720"/>
            <a:ext cx="2667240" cy="350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2:  Effect of Sing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to “gra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er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“fee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37" name="Straight Arrow Connector 4"/>
          <p:cNvCxnSpPr/>
          <p:nvPr/>
        </p:nvCxnSpPr>
        <p:spPr>
          <a:xfrm>
            <a:off x="3200400" y="2133720"/>
            <a:ext cx="2667240" cy="350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  Results:   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– 100      Very P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 – 8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47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ust Stat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-647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nsitive to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-647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“robust notion of cen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-647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as part of statist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-647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eyond scope of this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lump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43" name="Straight Arrow Connector 4"/>
          <p:cNvCxnSpPr/>
          <p:nvPr/>
        </p:nvCxnSpPr>
        <p:spPr>
          <a:xfrm>
            <a:off x="4190040" y="2209680"/>
            <a:ext cx="991080" cy="335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4" name="Straight Arrow Connector 7"/>
          <p:cNvCxnSpPr/>
          <p:nvPr/>
        </p:nvCxnSpPr>
        <p:spPr>
          <a:xfrm>
            <a:off x="4190760" y="2209680"/>
            <a:ext cx="3810600" cy="335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lump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opulation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lump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opulation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51" name="Straight Arrow Connector 4"/>
          <p:cNvCxnSpPr/>
          <p:nvPr/>
        </p:nvCxnSpPr>
        <p:spPr>
          <a:xfrm>
            <a:off x="2590920" y="3809520"/>
            <a:ext cx="266724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lump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opulation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compe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55" name="Straight Arrow Connector 4"/>
          <p:cNvCxnSpPr/>
          <p:nvPr/>
        </p:nvCxnSpPr>
        <p:spPr>
          <a:xfrm>
            <a:off x="2590920" y="3809520"/>
            <a:ext cx="266724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lump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opulation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compe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59" name="Straight Arrow Connector 4"/>
          <p:cNvCxnSpPr/>
          <p:nvPr/>
        </p:nvCxnSpPr>
        <p:spPr>
          <a:xfrm>
            <a:off x="2286000" y="4876560"/>
            <a:ext cx="411552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lump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opulation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compe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re sen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63" name="Straight Arrow Connector 4"/>
          <p:cNvCxnSpPr/>
          <p:nvPr/>
        </p:nvCxnSpPr>
        <p:spPr>
          <a:xfrm>
            <a:off x="2286000" y="4876560"/>
            <a:ext cx="411552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d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at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67" name="Straight Arrow Connector 4"/>
          <p:cNvCxnSpPr/>
          <p:nvPr/>
        </p:nvCxnSpPr>
        <p:spPr>
          <a:xfrm>
            <a:off x="3885840" y="2590920"/>
            <a:ext cx="4343760" cy="3048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d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at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71" name="Straight Arrow Connector 4"/>
          <p:cNvCxnSpPr/>
          <p:nvPr/>
        </p:nvCxnSpPr>
        <p:spPr>
          <a:xfrm>
            <a:off x="2514600" y="3733920"/>
            <a:ext cx="411552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d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at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75" name="Straight Arrow Connector 4"/>
          <p:cNvCxnSpPr/>
          <p:nvPr/>
        </p:nvCxnSpPr>
        <p:spPr>
          <a:xfrm>
            <a:off x="2819160" y="4952880"/>
            <a:ext cx="381060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  Results:   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– 100      Very P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 – 8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– 6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: Drop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d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at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ie col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79" name="Straight Arrow Connector 4"/>
          <p:cNvCxnSpPr/>
          <p:nvPr/>
        </p:nvCxnSpPr>
        <p:spPr>
          <a:xfrm>
            <a:off x="3580920" y="5486400"/>
            <a:ext cx="3048840" cy="76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d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at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83" name="Straight Arrow Connector 4"/>
          <p:cNvCxnSpPr/>
          <p:nvPr/>
        </p:nvCxnSpPr>
        <p:spPr>
          <a:xfrm>
            <a:off x="3886200" y="2590920"/>
            <a:ext cx="4191840" cy="3048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 3:  Bimod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d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at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rcRect l="0" t="16783" r="0" b="0"/>
          <a:stretch/>
        </p:blipFill>
        <p:spPr>
          <a:xfrm>
            <a:off x="4076640" y="2324160"/>
            <a:ext cx="5067360" cy="4533840"/>
          </a:xfrm>
          <a:prstGeom prst="rect">
            <a:avLst/>
          </a:prstGeom>
          <a:ln w="0">
            <a:noFill/>
          </a:ln>
        </p:spPr>
      </p:pic>
      <p:cxnSp>
        <p:nvCxnSpPr>
          <p:cNvPr id="387" name="Straight Arrow Connector 4"/>
          <p:cNvCxnSpPr/>
          <p:nvPr/>
        </p:nvCxnSpPr>
        <p:spPr>
          <a:xfrm>
            <a:off x="2590920" y="3733920"/>
            <a:ext cx="4115520" cy="18295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388" name="Straight Arrow Connector 7"/>
          <p:cNvCxnSpPr/>
          <p:nvPr/>
        </p:nvCxnSpPr>
        <p:spPr>
          <a:xfrm>
            <a:off x="2819520" y="4876560"/>
            <a:ext cx="5029920" cy="686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vs. Medi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“bett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vs. Medi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“bett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comp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better some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better other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vs. Medi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“bett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comp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better some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better other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pecific c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vs. Medi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“bett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comp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better some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better other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pecific c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you can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sues, and mak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and Median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ore Lateral Thinking Puzz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ore Lateral Thinking Puzz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2-26T06:03:08Z</dcterms:modified>
  <cp:revision>845</cp:revision>
  <dc:subject/>
  <dc:title>Slide 1</dc:title>
</cp:coreProperties>
</file>