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53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0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222.xml" ContentType="application/vnd.openxmlformats-officedocument.presentationml.slide+xml"/>
  <Override PartName="/ppt/slides/slide138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5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26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27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16.xml" ContentType="application/vnd.openxmlformats-officedocument.presentationml.slide+xml"/>
  <Override PartName="/ppt/slides/slide228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464-7018-4777-81F9-505CE4FAD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EC9E-BEEA-4AB9-A23B-8BE1880A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6EE-3C96-4777-9E56-480F0DEF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853-E71B-4BBC-801A-552CC18B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A83-B41E-41D6-84E2-2C04E563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F7B-A4ED-4B63-A7CD-389F28A8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16C-9AC6-4D1F-B544-D97857BC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B2B-FFD0-4B81-934B-103B796F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57BA-9674-45F6-8413-1DE7D839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97F0-359B-4C89-A6FA-C8A801ABD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D0C1-CFFF-4892-85F6-95CAC8A9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48DD-951D-4FCC-BDBC-C07ABA46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5049-A46C-4029-9AC8-6B712EA6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73F-2888-403F-B162-8FD1A2A4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871-0CB8-4DC9-9A5B-DD05785C0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20AD-CBC0-4BF7-94A6-7C960E67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4CB9-372D-46E1-91D5-312118A7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20C-7707-4976-86D3-8500E3C98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471-D9F2-4E8C-9255-D5123B62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0F1-8F81-43E7-B886-BC181EFD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AFB-C418-4825-A26F-6D16809F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A950-DED9-43F2-A5A6-3D34E944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BDB0-7D4A-4D71-AA1D-67F13440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F13E-A0B5-4DFE-BC2F-26AC62EEF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6470-9100-422D-9C15-DB953DD5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D47-3800-43B5-AAF6-E48493AC0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8447-98F3-4B18-BBD2-EFD1857ED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EDDA-99EC-4DF0-9765-DA925129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F4D-33DD-49F5-989D-FDAD57AF8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112E-529C-4396-A6C6-6F35FE4A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3E02-DD90-45AF-B8A2-DB4394B4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029-D8D8-45FD-BCEE-84B96257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142-242C-4795-8347-3DEAA084B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6D96-E2AE-4A41-8438-CF805BD8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7E0B-96DD-4118-B86D-AC499993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6273-3D9E-42B2-8E85-24444D87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2E7-9CE9-4DF5-B611-C16DA57D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393-D7B9-44C3-83D6-4DAB4FF4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7B3-9045-4B12-B51D-E5DEFD26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3BA-F112-4B5D-8A71-53CC6423E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C2D5-2096-45CE-88B5-ACEF050E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C94-C521-4A99-9861-3DACDC5D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E17-E8B8-4B89-A904-9E02FD2F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663-BF13-4405-96B1-18A9E79F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E579-B05D-44A1-8EC7-E4FFF80D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D3DD-3366-4501-B47C-0AC09015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3BF-5FBB-420D-AA96-59C1AFD9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4065-1FDD-423A-BFE1-989C0378A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D07-A9F5-40B6-BB57-61F38DD0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78B-6678-485A-AE6D-090337D2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6BB5-C4A9-429D-899A-4E27F24D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1D2-6230-4D48-AD65-BD18A669D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9B1-B85C-4469-A66F-24B84E60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D010-E668-451E-81DE-B0A2D161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055-70A4-4F45-B92B-919FC0A7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6A03-2D0F-4050-9B95-90EEB6EB0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3361-7DD0-4D87-B619-10645BEB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B5A-6AE3-43F3-8380-358232D1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4335-2F1F-494D-9283-DA9FDBB16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D544-E0A7-4FC8-A408-C97FFC932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AD2E-AE65-4182-85F2-103F1F3D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A44-2F21-4552-885D-69D6FD00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D74E-607D-46A1-A5D1-D4439488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3842-E948-474F-A8B3-7945E8B2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EB3C-529C-4456-8F09-39293C614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EA41-2703-4A8C-8BC6-EE9494262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8560-7F07-4E9A-BAF8-440293B8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C8B-B118-425C-8DB8-60999F5F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540-9A4F-4018-898D-EB69878A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18F4-D437-444C-8372-BBFAE4028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4A9-B0E4-4048-9560-54763152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15C3-6521-4C83-AAF1-5CB86105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19C-A065-458E-9A36-EBB4B3B9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6B7-12A2-456B-8A33-65ADFFB9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D6D-8A43-44AC-93AC-DF805DC9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C63D-8148-4750-9C09-8A9A2D8B9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5AD0-4A5A-4DE6-B1ED-EB1CD5FC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841-B2A2-429F-A633-1E81F9BC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F743-438C-4DD4-B0FB-062FDA70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023-0BBF-4672-ADF0-45AB745B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5C08-C70A-4368-8D09-FFE8016E3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8A22-2EAF-4B3A-B68B-1ED69F02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60B-80FC-4056-B0C8-2C2DA605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3350-06B1-4197-A7DC-55588E5A9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38B7-C7AB-4373-B4BB-5862E4C3C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C93-977F-4EF4-B689-D7FEA50C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89F0-62BC-4EDF-97E3-462852F0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EE69-6687-4D5D-BE5A-EB75E7772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B79-9594-4D0A-BE02-29605ADF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93C-5B2E-467E-B9ED-0473F36D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A53-0380-4EAC-86E2-22920A6B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5CAE-5504-41BB-A403-53EB03C9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32CC-BDF4-495E-8B8C-A6F057F82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9A04-D30C-4566-9459-4CF5F727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162-1DB7-45E1-A319-1DE1EDA5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EDB2-7D22-4A66-AA0B-0B53C6B5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04FC-A34C-4C51-86CF-85BDF28A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82FB-795B-4A31-BD4F-9CC6FF71F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C08-FBF9-4E5C-9579-473BEA2A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ABD-FCEF-4026-A993-A9F4F935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1EB4-3765-4DE1-8ACF-9E77165B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27FE-87E1-463A-9359-6162B4DA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7FC6-1450-46BA-B303-382E333C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017E-BCF5-47F1-9703-B5EFF200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D8BA-21DB-493E-8A13-69314145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4DB-C304-4B5C-B437-DBAED649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20C-428A-40C8-AFB4-F9709C52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224-F09C-4AE4-ADFB-A6776531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88C-A821-43EE-9328-C8AE0ADE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C6D-7762-420C-AD8F-FCE9E2290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7527-479A-4229-9125-17ED9156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94E2-C290-44D8-9E76-0AFD03ED2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C26-DB80-4392-AECD-682AF83D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B5F-B9ED-4488-9136-EA5F92717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713-99CD-4F54-BDC3-79B73B65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B90-2E1E-4876-8638-0F89853B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98C-AD5D-460B-ABD4-E8AA7E8F1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389-ABA2-4F18-A01B-114C2EC7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4648-6B9F-4D52-BAA6-5AD5203E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AA7A-73EE-432C-ADBC-F99A5631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7481-9D06-4A98-A4FC-6F322C72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4C6-7991-4EA7-9437-654A58C8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8C63-B744-4D4D-A114-C0F12176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0F4-02DB-4604-BE51-045961E2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B6E2-BC82-4864-915A-1DB0CD16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9C5C-72F3-4E70-9C42-5BFF2E10D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159F-D713-4B1A-8ADD-2B1127D6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FCF-A48A-4D3A-B048-0F7E70C2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D42-F4ED-450C-97CF-C87EE2FE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473-9EF6-4C81-9163-0B58690A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0E58-8333-4319-9512-7942517E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E7F5-6538-436A-9EC7-0102C64F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9387-06A6-4DBE-98F2-119B454A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233-3C87-48C2-8649-C140DECB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652-0556-47F7-A45B-3B036F10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C560-C0EA-43A1-9EB2-0B9614ED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A238-FA6A-4809-AEC4-F1FC2A66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C5CF-307C-40CF-9D94-C5A66AF5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BDD-260B-4B3C-91C8-F31E683D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E036-B606-4C9C-9703-805EB8DE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DFC2-BC6E-403F-B0A7-3A12A1BF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4B6E-4CC9-418C-AEA1-603EB1134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308-658F-4D19-88F5-45A6E315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B750-1013-4FA3-BE23-BDBFA120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CD4-5FBF-45FA-A945-17F95BF5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2C2-2C3D-4175-94B2-43FC3869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F308-2CB4-4443-B209-F8898C51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F578-861B-4430-9993-9961917C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574E-9294-4CBC-8A7F-54E35779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BDA3-5ADF-4A88-9F18-90E0D1A5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B07-510A-4248-84B8-8D445C92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E0BE-DD5B-4C9A-99A4-78706583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C96-D1D8-46D4-9378-AC3287681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6E73-DE5C-4DD4-8C84-DCC505C4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385-71E5-4B0E-AC17-1D9CCB09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6C7-6ED5-476A-8B7B-7D6CF2CD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AD4-119A-42BA-A1ED-0CB17747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5ADB-7F34-4886-9C13-EB6ADE60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39A-BCE6-4A10-B60F-E1389ABE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3DE5-BE78-44AC-8DF1-415604D8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16A6-8394-405E-B5A9-CB3000C4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9AB7-FCFA-4306-B399-B5563DD9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AD8-6065-4B44-AF4C-3EA556C5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0E7-A64D-4683-95E3-852F040E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EE2-FC81-406D-912E-FE74D167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5D6A-2919-4DA6-A5AB-AF622E414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627-C37D-4D8D-A53F-E6E5E68A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F0D9-E948-4BD3-82BC-D1AD5E8A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55E7-9A36-4A98-8E90-BC63FC81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CFD-A26A-4F56-BBD8-F0758AA1F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BBFD-9655-4402-8740-4A939C24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22A5-FF8A-4803-B847-913CF34A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00B-E67E-430F-8656-567523C2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663B-7904-4FDD-9BE6-E3A2C950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0D7-5051-4948-BCFD-AE1939AD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C6A-162D-4C84-BF4C-BA0AF082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FDF5-6778-4FC3-AECF-2CB08CA9E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9475-F2B1-4E6E-83DE-6C30465F9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9CE0-EBE7-4B5D-BFE5-7FE2F5BB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29A-A2DD-4E1B-90E5-42630117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31B5-8497-42AE-AFF3-BD5EBFC62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8CF-51D4-4E5F-93D8-7ED112D7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C25-6A91-4365-AC9E-7CD68334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5605-49A6-47D1-9820-96F3D707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28C9-306A-4768-BFD8-323EAB08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C9E2-604E-4039-A55B-729E8E76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6814-5C57-44A7-A87C-37048F72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08AF-3703-4040-B3ED-72398EDB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49D-0969-4536-AB8C-69A038ED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9C19-9C7A-4802-9206-4DB3D8BBD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4E5-C2A0-4CAE-BE09-6F39FEB9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DB7-F3FF-46DE-B6E6-3DE71F9B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46A-9AFC-46B1-B7D7-E5069B77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C43C-8F17-42FD-984A-8A8678F3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81C-2C07-4916-8601-AB380A3A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8B4-3E6B-4383-A592-6BFC3260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A2C0-7762-4857-8DB1-234B796E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BF2-0BD6-44AA-A812-134282FA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2D5-CF0D-4A70-A64F-2089797C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7C4F-DC84-4F72-AC41-AF18EC68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1CA2-A816-4A53-91F7-57C377041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FCF-7C1E-40B2-AA9D-8F1430EE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B07E-4DB9-41DD-A1FC-845F0264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7F7-28F5-497E-A013-E30464E3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F6C6-5A97-4E83-9CF1-4515395C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AA9-C98A-4D10-A3FD-7489389B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9CA7-F4F6-4796-977F-E0B7FA64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EC8A-E3E7-4D6D-96F4-EB801C4C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49D1-E3F6-487D-AF0D-9DC79C9D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406A-9515-4EE2-AD61-CA1C883BB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3E4D-A553-4A34-8DFF-CAF4E5AE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8E5-C0FB-4400-A70F-BC27C050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EEAF-6668-4AF3-ADAC-BA9E79FE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52B-594F-4437-A565-EA0C4E30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E11-7E77-4F38-8F2C-0D46FDDA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FB3-89F4-4EE8-823E-4D0BFCC2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A6C9-1330-4CC8-B6FD-DB38B760B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5A8E-5933-4933-B3CA-C375385A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F21-E921-48A1-B4FE-BFE146D4A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871-C07E-4C36-A48B-D47FFDFEC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F8C6-CC79-4A38-AA1F-C5DE5B26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07BE-32D4-480D-BA22-BF1C6F89E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8BB1-137A-4A4F-8157-CE7BB242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DB3F-ACB4-46D1-9B6D-C943AEF2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E1A-22A5-4934-A3E5-E8CDA1A6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0B3C-05C9-45FE-9809-3B1CD26F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9312-6590-4ED2-BC94-D39D6FDE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010-DBBA-431D-AE04-1895BAD6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A0F-A06F-4FA5-9810-1A55A50A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B7E-9567-43B3-9475-9C399148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C7F-851D-4013-B2A5-B15125A9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BD3-671A-4727-BCD0-527D5568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848-E33B-4CEE-8645-EE97F067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71F1-9979-49B4-A88A-01B86DA7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1D78-D352-41E2-8787-41597856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15AB-3771-4E38-BB58-ED1A0D0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2EB-2FE0-4CF5-8156-E115AAEE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A84A-3BC1-4512-AF9F-3884C86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3EBD-FF25-4672-90AF-8034B03D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30ED-6E2B-4D09-8E32-90269312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5E2-C3BC-4EEB-9FF7-1CDA4B8E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5F91-DEC9-48F0-A2F8-DEC14C9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A32A-5EE4-4BCF-8371-6423972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0758-319E-4495-BF0B-7A0077E9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72A0-0800-4253-9C63-FAD8A351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43E6-460B-4220-ACC3-633E6D34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FBE-054F-4D48-A616-DA3FF70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8A0-FEE1-4E09-BCC7-1A055DE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EB1-53C9-410C-9D84-0300D69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336-097E-461C-886E-E6B788C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C96-5900-4F20-9D19-EC2EF26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597-DBA7-4079-9922-DD0B4AEB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ED7-BF76-4717-9994-B2B1D80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E754-D141-4B60-ACD7-B99E5B5B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B6A-321A-4047-B711-9BDED148C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recall from “Notions of Center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Outli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.5 *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outli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78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Straight Arrow Connector 12"/>
          <p:cNvCxnSpPr/>
          <p:nvPr/>
        </p:nvCxnSpPr>
        <p:spPr>
          <a:xfrm>
            <a:off x="2971440" y="3657240"/>
            <a:ext cx="1677240" cy="11437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483" name="Straight Connector 13"/>
          <p:cNvSpPr/>
          <p:nvPr/>
        </p:nvSpPr>
        <p:spPr>
          <a:xfrm>
            <a:off x="4572000" y="3429000"/>
            <a:ext cx="685800" cy="1440"/>
          </a:xfrm>
          <a:prstGeom prst="line">
            <a:avLst/>
          </a:prstGeom>
          <a:ln w="254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17"/>
          <p:cNvSpPr/>
          <p:nvPr/>
        </p:nvSpPr>
        <p:spPr>
          <a:xfrm flipH="1">
            <a:off x="4572000" y="2897280"/>
            <a:ext cx="1440" cy="39621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Outli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88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13"/>
          <p:cNvSpPr/>
          <p:nvPr/>
        </p:nvSpPr>
        <p:spPr>
          <a:xfrm>
            <a:off x="5791320" y="3429000"/>
            <a:ext cx="685800" cy="1440"/>
          </a:xfrm>
          <a:prstGeom prst="line">
            <a:avLst/>
          </a:prstGeom>
          <a:ln w="254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7"/>
          <p:cNvSpPr/>
          <p:nvPr/>
        </p:nvSpPr>
        <p:spPr>
          <a:xfrm flipH="1">
            <a:off x="6474960" y="2897280"/>
            <a:ext cx="1800" cy="39621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20"/>
          <p:cNvCxnSpPr/>
          <p:nvPr/>
        </p:nvCxnSpPr>
        <p:spPr>
          <a:xfrm flipV="1">
            <a:off x="2971440" y="3656880"/>
            <a:ext cx="2972520" cy="686520"/>
          </a:xfrm>
          <a:prstGeom prst="straightConnector1">
            <a:avLst/>
          </a:prstGeom>
          <a:ln w="190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5" name="Straight Arrow Connector 24"/>
          <p:cNvCxnSpPr/>
          <p:nvPr/>
        </p:nvCxnSpPr>
        <p:spPr>
          <a:xfrm>
            <a:off x="837720" y="4571640"/>
            <a:ext cx="4953960" cy="2057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Outli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utliers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3"/>
          <p:cNvSpPr/>
          <p:nvPr/>
        </p:nvSpPr>
        <p:spPr>
          <a:xfrm>
            <a:off x="5791320" y="3429000"/>
            <a:ext cx="685800" cy="1440"/>
          </a:xfrm>
          <a:prstGeom prst="line">
            <a:avLst/>
          </a:prstGeom>
          <a:ln w="254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17"/>
          <p:cNvSpPr/>
          <p:nvPr/>
        </p:nvSpPr>
        <p:spPr>
          <a:xfrm flipH="1">
            <a:off x="6474960" y="2897280"/>
            <a:ext cx="1800" cy="39621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Straight Arrow Connector 20"/>
          <p:cNvCxnSpPr/>
          <p:nvPr/>
        </p:nvCxnSpPr>
        <p:spPr>
          <a:xfrm flipV="1">
            <a:off x="2971440" y="3885840"/>
            <a:ext cx="3429720" cy="4579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Outli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utliers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cause of skew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509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13"/>
          <p:cNvSpPr/>
          <p:nvPr/>
        </p:nvSpPr>
        <p:spPr>
          <a:xfrm>
            <a:off x="5791320" y="3429000"/>
            <a:ext cx="685800" cy="1440"/>
          </a:xfrm>
          <a:prstGeom prst="line">
            <a:avLst/>
          </a:prstGeom>
          <a:ln w="254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17"/>
          <p:cNvSpPr/>
          <p:nvPr/>
        </p:nvSpPr>
        <p:spPr>
          <a:xfrm flipH="1">
            <a:off x="6474960" y="2897280"/>
            <a:ext cx="1800" cy="39621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20"/>
          <p:cNvCxnSpPr/>
          <p:nvPr/>
        </p:nvCxnSpPr>
        <p:spPr>
          <a:xfrm flipV="1">
            <a:off x="2971440" y="3885840"/>
            <a:ext cx="3429720" cy="4579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above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below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ells C36 &amp; C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21" name="Straight Arrow Connector 5"/>
          <p:cNvCxnSpPr/>
          <p:nvPr/>
        </p:nvCxnSpPr>
        <p:spPr>
          <a:xfrm>
            <a:off x="2819160" y="2895480"/>
            <a:ext cx="342972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25" name="Straight Arrow Connector 5"/>
          <p:cNvCxnSpPr/>
          <p:nvPr/>
        </p:nvCxnSpPr>
        <p:spPr>
          <a:xfrm flipV="1">
            <a:off x="6933240" y="2133000"/>
            <a:ext cx="991080" cy="297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29" name="Straight Arrow Connector 5"/>
          <p:cNvCxnSpPr/>
          <p:nvPr/>
        </p:nvCxnSpPr>
        <p:spPr>
          <a:xfrm flipH="1">
            <a:off x="7848000" y="2133360"/>
            <a:ext cx="2293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8"/>
          <p:cNvCxnSpPr/>
          <p:nvPr/>
        </p:nvCxnSpPr>
        <p:spPr>
          <a:xfrm flipH="1">
            <a:off x="8228880" y="2133720"/>
            <a:ext cx="610200" cy="16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8"/>
          <p:cNvCxnSpPr/>
          <p:nvPr/>
        </p:nvCxnSpPr>
        <p:spPr>
          <a:xfrm flipH="1" flipV="1">
            <a:off x="3580560" y="5104800"/>
            <a:ext cx="266796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8"/>
          <p:cNvCxnSpPr/>
          <p:nvPr/>
        </p:nvCxnSpPr>
        <p:spPr>
          <a:xfrm flipH="1" flipV="1">
            <a:off x="3580560" y="5104800"/>
            <a:ext cx="266796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recall from “Notions of Center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g run 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ected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flects skew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42" name="Straight Arrow Connector 8"/>
          <p:cNvCxnSpPr/>
          <p:nvPr/>
        </p:nvCxnSpPr>
        <p:spPr>
          <a:xfrm flipH="1" flipV="1">
            <a:off x="3580560" y="5104800"/>
            <a:ext cx="266796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imit = 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46" name="Straight Arrow Connector 8"/>
          <p:cNvCxnSpPr/>
          <p:nvPr/>
        </p:nvCxnSpPr>
        <p:spPr>
          <a:xfrm flipH="1" flipV="1">
            <a:off x="3428280" y="3809160"/>
            <a:ext cx="2972520" cy="213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imit = 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  <p:cxnSp>
        <p:nvCxnSpPr>
          <p:cNvPr id="550" name="Straight Arrow Connector 8"/>
          <p:cNvCxnSpPr/>
          <p:nvPr/>
        </p:nvCxnSpPr>
        <p:spPr>
          <a:xfrm flipH="1" flipV="1">
            <a:off x="3428280" y="3809160"/>
            <a:ext cx="2972520" cy="213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imit = 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-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imit = 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find substa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0" t="26097" r="12371" b="14913"/>
          <a:stretch/>
        </p:blipFill>
        <p:spPr>
          <a:xfrm>
            <a:off x="3941640" y="1676520"/>
            <a:ext cx="5202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ubsta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ubsta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ubsta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fi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rcRect l="0" t="44738" r="24742" b="11185"/>
          <a:stretch/>
        </p:blipFill>
        <p:spPr>
          <a:xfrm>
            <a:off x="3851280" y="2743200"/>
            <a:ext cx="52927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5"/>
          <p:cNvCxnSpPr/>
          <p:nvPr/>
        </p:nvCxnSpPr>
        <p:spPr>
          <a:xfrm flipV="1">
            <a:off x="2361960" y="5257080"/>
            <a:ext cx="251532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62 (5.7, 11.7, 12.75, 13.5, 17.6, outliers: Alaska, Florida, Uta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64 (0, 0.75, 3.2, 7.8, 19.9 outlier: U.S., although Canada and Australia seem 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72 b (both are outliers, 158.4, 43.7, 110.9, 66.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Approach to Skew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recall from “Notions of Center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g run 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ected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Approach to Skew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pproach (when right skew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loga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most analyses from previous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most analyses from previous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py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most analyses from previous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py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cross sheet cel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cross sheet cel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rcRect l="0" t="24233" r="14802" b="0"/>
          <a:stretch/>
        </p:blipFill>
        <p:spPr>
          <a:xfrm>
            <a:off x="4537080" y="2209680"/>
            <a:ext cx="46069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83" name="Straight Arrow Connector 5"/>
          <p:cNvCxnSpPr/>
          <p:nvPr/>
        </p:nvCxnSpPr>
        <p:spPr>
          <a:xfrm flipV="1">
            <a:off x="4267080" y="2666520"/>
            <a:ext cx="33537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cross sheet cel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to cell 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rcRect l="0" t="24233" r="14802" b="0"/>
          <a:stretch/>
        </p:blipFill>
        <p:spPr>
          <a:xfrm>
            <a:off x="4537080" y="2209680"/>
            <a:ext cx="46069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87" name="Straight Arrow Connector 5"/>
          <p:cNvCxnSpPr/>
          <p:nvPr/>
        </p:nvCxnSpPr>
        <p:spPr>
          <a:xfrm flipV="1">
            <a:off x="4038120" y="2666160"/>
            <a:ext cx="4801320" cy="175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cross sheet cel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to cell 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suicides”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rcRect l="0" t="24233" r="14802" b="0"/>
          <a:stretch/>
        </p:blipFill>
        <p:spPr>
          <a:xfrm>
            <a:off x="4537080" y="2209680"/>
            <a:ext cx="46069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91" name="Straight Arrow Connector 5"/>
          <p:cNvCxnSpPr/>
          <p:nvPr/>
        </p:nvCxnSpPr>
        <p:spPr>
          <a:xfrm flipV="1">
            <a:off x="3657600" y="2666880"/>
            <a:ext cx="457272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2" name="Straight Arrow Connector 8"/>
          <p:cNvCxnSpPr/>
          <p:nvPr/>
        </p:nvCxnSpPr>
        <p:spPr>
          <a:xfrm flipH="1">
            <a:off x="7162560" y="2666880"/>
            <a:ext cx="1219680" cy="3734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ike m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recall from “Notions of Center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g run 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ected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-50 spli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b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resistant to outl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ike m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left sk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ike m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left sk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08" name="Straight Connector 8"/>
          <p:cNvSpPr/>
          <p:nvPr/>
        </p:nvSpPr>
        <p:spPr>
          <a:xfrm flipV="1">
            <a:off x="7466760" y="1905120"/>
            <a:ext cx="1800" cy="4952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Arrow Connector 10"/>
          <p:cNvCxnSpPr/>
          <p:nvPr/>
        </p:nvCxnSpPr>
        <p:spPr>
          <a:xfrm flipV="1">
            <a:off x="3428640" y="2361960"/>
            <a:ext cx="396324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dian = 1.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13" name="Straight Connector 5"/>
          <p:cNvSpPr/>
          <p:nvPr/>
        </p:nvSpPr>
        <p:spPr>
          <a:xfrm flipV="1">
            <a:off x="7617600" y="1906560"/>
            <a:ext cx="1800" cy="4952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8"/>
          <p:cNvSpPr/>
          <p:nvPr/>
        </p:nvSpPr>
        <p:spPr>
          <a:xfrm flipV="1">
            <a:off x="7466760" y="1905120"/>
            <a:ext cx="1800" cy="4952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Straight Arrow Connector 10"/>
          <p:cNvCxnSpPr/>
          <p:nvPr/>
        </p:nvCxnSpPr>
        <p:spPr>
          <a:xfrm flipV="1">
            <a:off x="3428640" y="2361960"/>
            <a:ext cx="396324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6" name="Straight Arrow Connector 11"/>
          <p:cNvCxnSpPr/>
          <p:nvPr/>
        </p:nvCxnSpPr>
        <p:spPr>
          <a:xfrm flipV="1">
            <a:off x="3733560" y="2819160"/>
            <a:ext cx="3810600" cy="838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dian = 1.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20" name="Straight Connector 5"/>
          <p:cNvSpPr/>
          <p:nvPr/>
        </p:nvSpPr>
        <p:spPr>
          <a:xfrm flipV="1">
            <a:off x="7617600" y="1906560"/>
            <a:ext cx="1800" cy="4952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8"/>
          <p:cNvSpPr/>
          <p:nvPr/>
        </p:nvSpPr>
        <p:spPr>
          <a:xfrm flipV="1">
            <a:off x="7466760" y="1905120"/>
            <a:ext cx="1800" cy="4952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10"/>
          <p:cNvCxnSpPr/>
          <p:nvPr/>
        </p:nvCxnSpPr>
        <p:spPr>
          <a:xfrm flipV="1">
            <a:off x="3428640" y="2361960"/>
            <a:ext cx="396324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3" name="Straight Arrow Connector 11"/>
          <p:cNvCxnSpPr/>
          <p:nvPr/>
        </p:nvCxnSpPr>
        <p:spPr>
          <a:xfrm flipV="1">
            <a:off x="3733560" y="2819160"/>
            <a:ext cx="3810600" cy="838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dian = 1.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ght left sk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27" name="Straight Connector 5"/>
          <p:cNvSpPr/>
          <p:nvPr/>
        </p:nvSpPr>
        <p:spPr>
          <a:xfrm flipV="1">
            <a:off x="7617600" y="1906560"/>
            <a:ext cx="1800" cy="4952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8"/>
          <p:cNvSpPr/>
          <p:nvPr/>
        </p:nvSpPr>
        <p:spPr>
          <a:xfrm flipV="1">
            <a:off x="7466760" y="1905120"/>
            <a:ext cx="1800" cy="4952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Straight Arrow Connector 10"/>
          <p:cNvCxnSpPr/>
          <p:nvPr/>
        </p:nvCxnSpPr>
        <p:spPr>
          <a:xfrm flipV="1">
            <a:off x="3428640" y="2361960"/>
            <a:ext cx="396324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0" name="Straight Arrow Connector 11"/>
          <p:cNvCxnSpPr/>
          <p:nvPr/>
        </p:nvCxnSpPr>
        <p:spPr>
          <a:xfrm flipV="1">
            <a:off x="3733560" y="2819160"/>
            <a:ext cx="3810600" cy="838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dian = 1.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ght left sk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mall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34" name="Straight Connector 5"/>
          <p:cNvSpPr/>
          <p:nvPr/>
        </p:nvSpPr>
        <p:spPr>
          <a:xfrm flipV="1">
            <a:off x="7617600" y="1906560"/>
            <a:ext cx="1800" cy="4952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8"/>
          <p:cNvSpPr/>
          <p:nvPr/>
        </p:nvSpPr>
        <p:spPr>
          <a:xfrm flipV="1">
            <a:off x="7466760" y="1905120"/>
            <a:ext cx="1800" cy="4952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10"/>
          <p:cNvCxnSpPr/>
          <p:nvPr/>
        </p:nvCxnSpPr>
        <p:spPr>
          <a:xfrm flipV="1">
            <a:off x="3428640" y="2361960"/>
            <a:ext cx="396324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7" name="Straight Arrow Connector 11"/>
          <p:cNvCxnSpPr/>
          <p:nvPr/>
        </p:nvCxnSpPr>
        <p:spPr>
          <a:xfrm flipV="1">
            <a:off x="3733560" y="2819160"/>
            <a:ext cx="3810600" cy="838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41" name="Straight Arrow Connector 5"/>
          <p:cNvCxnSpPr/>
          <p:nvPr/>
        </p:nvCxnSpPr>
        <p:spPr>
          <a:xfrm>
            <a:off x="3733920" y="2209320"/>
            <a:ext cx="129600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utli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45" name="Straight Arrow Connector 5"/>
          <p:cNvCxnSpPr/>
          <p:nvPr/>
        </p:nvCxnSpPr>
        <p:spPr>
          <a:xfrm>
            <a:off x="3733920" y="2209320"/>
            <a:ext cx="129600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utli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+- 1.5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49" name="Straight Arrow Connector 5"/>
          <p:cNvCxnSpPr/>
          <p:nvPr/>
        </p:nvCxnSpPr>
        <p:spPr>
          <a:xfrm>
            <a:off x="3733920" y="2209320"/>
            <a:ext cx="129600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recall from “Notions of Center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g run 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ected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-50 spli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b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resistant to outl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s for Spre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utli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0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53" name="Straight Arrow Connector 5"/>
          <p:cNvCxnSpPr/>
          <p:nvPr/>
        </p:nvCxnSpPr>
        <p:spPr>
          <a:xfrm>
            <a:off x="3657240" y="3886200"/>
            <a:ext cx="213444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4" name="Straight Connector 12"/>
          <p:cNvSpPr/>
          <p:nvPr/>
        </p:nvSpPr>
        <p:spPr>
          <a:xfrm flipV="1">
            <a:off x="5865120" y="1906560"/>
            <a:ext cx="3240" cy="495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utli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= 0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onfirm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5"/>
          <p:cNvCxnSpPr/>
          <p:nvPr/>
        </p:nvCxnSpPr>
        <p:spPr>
          <a:xfrm>
            <a:off x="4266720" y="4800240"/>
            <a:ext cx="7628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utli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imit = 3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62" name="Straight Connector 6"/>
          <p:cNvSpPr/>
          <p:nvPr/>
        </p:nvSpPr>
        <p:spPr>
          <a:xfrm flipV="1">
            <a:off x="9066240" y="1906560"/>
            <a:ext cx="1440" cy="495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Straight Arrow Connector 8"/>
          <p:cNvCxnSpPr/>
          <p:nvPr/>
        </p:nvCxnSpPr>
        <p:spPr>
          <a:xfrm flipV="1">
            <a:off x="3733560" y="2742840"/>
            <a:ext cx="52585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ut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utli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imit = 3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 upper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visually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67" name="Straight Connector 6"/>
          <p:cNvSpPr/>
          <p:nvPr/>
        </p:nvSpPr>
        <p:spPr>
          <a:xfrm flipV="1">
            <a:off x="9066240" y="1906560"/>
            <a:ext cx="1440" cy="495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Straight Arrow Connector 8"/>
          <p:cNvCxnSpPr/>
          <p:nvPr/>
        </p:nvCxnSpPr>
        <p:spPr>
          <a:xfrm flipV="1">
            <a:off x="3733560" y="2742840"/>
            <a:ext cx="52585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72" name="Straight Arrow Connector 5"/>
          <p:cNvCxnSpPr/>
          <p:nvPr/>
        </p:nvCxnSpPr>
        <p:spPr>
          <a:xfrm>
            <a:off x="3504240" y="2209680"/>
            <a:ext cx="15246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these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cxnSp>
        <p:nvCxnSpPr>
          <p:cNvPr id="676" name="Straight Arrow Connector 5"/>
          <p:cNvCxnSpPr/>
          <p:nvPr/>
        </p:nvCxnSpPr>
        <p:spPr>
          <a:xfrm>
            <a:off x="3504240" y="2209680"/>
            <a:ext cx="15246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7"/>
          <p:cNvSpPr/>
          <p:nvPr/>
        </p:nvSpPr>
        <p:spPr>
          <a:xfrm>
            <a:off x="5029200" y="5334120"/>
            <a:ext cx="228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7"/>
          <p:cNvSpPr/>
          <p:nvPr/>
        </p:nvSpPr>
        <p:spPr>
          <a:xfrm>
            <a:off x="5029200" y="5334120"/>
            <a:ext cx="228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7"/>
          <p:cNvSpPr/>
          <p:nvPr/>
        </p:nvSpPr>
        <p:spPr>
          <a:xfrm>
            <a:off x="5029200" y="5334120"/>
            <a:ext cx="228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6"/>
          <p:cNvSpPr/>
          <p:nvPr/>
        </p:nvSpPr>
        <p:spPr>
          <a:xfrm flipV="1">
            <a:off x="7542360" y="1905120"/>
            <a:ext cx="1440" cy="4954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Straight Arrow Connector 13"/>
          <p:cNvCxnSpPr/>
          <p:nvPr/>
        </p:nvCxnSpPr>
        <p:spPr>
          <a:xfrm flipV="1">
            <a:off x="3505320" y="2437920"/>
            <a:ext cx="3962880" cy="198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dian = 1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7"/>
          <p:cNvSpPr/>
          <p:nvPr/>
        </p:nvSpPr>
        <p:spPr>
          <a:xfrm>
            <a:off x="5029200" y="5334120"/>
            <a:ext cx="228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6"/>
          <p:cNvSpPr/>
          <p:nvPr/>
        </p:nvSpPr>
        <p:spPr>
          <a:xfrm flipV="1">
            <a:off x="7542360" y="1905120"/>
            <a:ext cx="1440" cy="4954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 flipV="1">
            <a:off x="7569360" y="1905120"/>
            <a:ext cx="1440" cy="4952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Straight Arrow Connector 13"/>
          <p:cNvCxnSpPr/>
          <p:nvPr/>
        </p:nvCxnSpPr>
        <p:spPr>
          <a:xfrm flipV="1">
            <a:off x="3505320" y="2437920"/>
            <a:ext cx="3962880" cy="198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8" name="Straight Arrow Connector 16"/>
          <p:cNvCxnSpPr/>
          <p:nvPr/>
        </p:nvCxnSpPr>
        <p:spPr>
          <a:xfrm flipV="1">
            <a:off x="3657240" y="2894760"/>
            <a:ext cx="3886920" cy="22107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s for Spre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og10 of British Suicide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3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dian = 1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l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Chart 3" descr=""/>
          <p:cNvPicPr/>
          <p:nvPr/>
        </p:nvPicPr>
        <p:blipFill>
          <a:blip r:embed="rId1"/>
          <a:stretch/>
        </p:blipFill>
        <p:spPr>
          <a:xfrm>
            <a:off x="2147481000" y="-6480"/>
            <a:ext cx="3240" cy="129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7"/>
          <p:cNvSpPr/>
          <p:nvPr/>
        </p:nvSpPr>
        <p:spPr>
          <a:xfrm>
            <a:off x="5029200" y="5334120"/>
            <a:ext cx="228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6"/>
          <p:cNvSpPr/>
          <p:nvPr/>
        </p:nvSpPr>
        <p:spPr>
          <a:xfrm flipV="1">
            <a:off x="7542360" y="1905120"/>
            <a:ext cx="1440" cy="4954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9"/>
          <p:cNvSpPr/>
          <p:nvPr/>
        </p:nvSpPr>
        <p:spPr>
          <a:xfrm flipV="1">
            <a:off x="7569360" y="1905120"/>
            <a:ext cx="1440" cy="4952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Straight Arrow Connector 13"/>
          <p:cNvCxnSpPr/>
          <p:nvPr/>
        </p:nvCxnSpPr>
        <p:spPr>
          <a:xfrm flipV="1">
            <a:off x="3505320" y="2437920"/>
            <a:ext cx="3962880" cy="198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6" name="Straight Arrow Connector 16"/>
          <p:cNvCxnSpPr/>
          <p:nvPr/>
        </p:nvCxnSpPr>
        <p:spPr>
          <a:xfrm flipV="1">
            <a:off x="3657240" y="2894760"/>
            <a:ext cx="3886920" cy="22107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58, use log10 (0, 0, 0.784, 1.02, 1.87, right skewed and 2 pea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Airplane Landing on the 40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airplane_landing_on_the_405.wmv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ere is “the 40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rcRect l="0" t="20672" r="5239" b="0"/>
          <a:stretch/>
        </p:blipFill>
        <p:spPr>
          <a:xfrm>
            <a:off x="2743200" y="2209680"/>
            <a:ext cx="66168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ere is “the 40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rcRect l="0" t="20672" r="5239" b="0"/>
          <a:stretch/>
        </p:blipFill>
        <p:spPr>
          <a:xfrm>
            <a:off x="2743200" y="2209680"/>
            <a:ext cx="6616800" cy="5613480"/>
          </a:xfrm>
          <a:prstGeom prst="rect">
            <a:avLst/>
          </a:prstGeom>
          <a:ln w="0">
            <a:noFill/>
          </a:ln>
        </p:spPr>
      </p:pic>
      <p:sp>
        <p:nvSpPr>
          <p:cNvPr id="718" name="Oval 4"/>
          <p:cNvSpPr/>
          <p:nvPr/>
        </p:nvSpPr>
        <p:spPr>
          <a:xfrm>
            <a:off x="4267080" y="3886200"/>
            <a:ext cx="236232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ere is “the 40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rcRect l="0" t="20672" r="5239" b="0"/>
          <a:stretch/>
        </p:blipFill>
        <p:spPr>
          <a:xfrm>
            <a:off x="2743200" y="2209680"/>
            <a:ext cx="6616800" cy="5613480"/>
          </a:xfrm>
          <a:prstGeom prst="rect">
            <a:avLst/>
          </a:prstGeom>
          <a:ln w="0">
            <a:noFill/>
          </a:ln>
        </p:spPr>
      </p:pic>
      <p:sp>
        <p:nvSpPr>
          <p:cNvPr id="722" name="Oval 4"/>
          <p:cNvSpPr/>
          <p:nvPr/>
        </p:nvSpPr>
        <p:spPr>
          <a:xfrm>
            <a:off x="4191120" y="5867280"/>
            <a:ext cx="236196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ut also in Washing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rcRect l="0" t="20672" r="5239" b="0"/>
          <a:stretch/>
        </p:blipFill>
        <p:spPr>
          <a:xfrm>
            <a:off x="2819520" y="2362320"/>
            <a:ext cx="661644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Linearity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3"/>
              <p:cNvSpPr txBox="1"/>
              <p:nvPr/>
            </p:nvSpPr>
            <p:spPr>
              <a:xfrm>
                <a:off x="2133720" y="1905120"/>
                <a:ext cx="5181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Linearity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s for standard dev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3"/>
              <p:cNvSpPr txBox="1"/>
              <p:nvPr/>
            </p:nvSpPr>
            <p:spPr>
              <a:xfrm>
                <a:off x="2133720" y="1905120"/>
                <a:ext cx="5181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s for Spre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4"/>
          <p:cNvCxnSpPr/>
          <p:nvPr/>
        </p:nvCxnSpPr>
        <p:spPr>
          <a:xfrm>
            <a:off x="1675440" y="1752480"/>
            <a:ext cx="53388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Linearity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s for standard dev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pproach:  variance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3"/>
              <p:cNvSpPr txBox="1"/>
              <p:nvPr/>
            </p:nvSpPr>
            <p:spPr>
              <a:xfrm>
                <a:off x="2133720" y="1905120"/>
                <a:ext cx="5181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3"/>
              <p:cNvSpPr txBox="1"/>
              <p:nvPr/>
            </p:nvSpPr>
            <p:spPr>
              <a:xfrm>
                <a:off x="1676520" y="1846440"/>
                <a:ext cx="7080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742" name="Straight Arrow Connector 11"/>
          <p:cNvCxnSpPr/>
          <p:nvPr/>
        </p:nvCxnSpPr>
        <p:spPr>
          <a:xfrm flipH="1" flipV="1">
            <a:off x="4038120" y="2361600"/>
            <a:ext cx="15336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3"/>
              <p:cNvSpPr txBox="1"/>
              <p:nvPr/>
            </p:nvSpPr>
            <p:spPr>
              <a:xfrm>
                <a:off x="1676520" y="1846440"/>
                <a:ext cx="7080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4"/>
              <p:cNvSpPr txBox="1"/>
              <p:nvPr/>
            </p:nvSpPr>
            <p:spPr>
              <a:xfrm>
                <a:off x="3840120" y="2666880"/>
                <a:ext cx="492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747" name="Straight Arrow Connector 11"/>
          <p:cNvCxnSpPr/>
          <p:nvPr/>
        </p:nvCxnSpPr>
        <p:spPr>
          <a:xfrm flipV="1">
            <a:off x="2742840" y="3199680"/>
            <a:ext cx="106740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v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3"/>
              <p:cNvSpPr txBox="1"/>
              <p:nvPr/>
            </p:nvSpPr>
            <p:spPr>
              <a:xfrm>
                <a:off x="1676520" y="1846440"/>
                <a:ext cx="7080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4"/>
              <p:cNvSpPr txBox="1"/>
              <p:nvPr/>
            </p:nvSpPr>
            <p:spPr>
              <a:xfrm>
                <a:off x="3840120" y="2666880"/>
                <a:ext cx="492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5"/>
              <p:cNvSpPr txBox="1"/>
              <p:nvPr/>
            </p:nvSpPr>
            <p:spPr>
              <a:xfrm>
                <a:off x="3830760" y="3505320"/>
                <a:ext cx="3179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753" name="Straight Arrow Connector 11"/>
          <p:cNvCxnSpPr/>
          <p:nvPr/>
        </p:nvCxnSpPr>
        <p:spPr>
          <a:xfrm>
            <a:off x="3200040" y="3886200"/>
            <a:ext cx="686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3"/>
              <p:cNvSpPr txBox="1"/>
              <p:nvPr/>
            </p:nvSpPr>
            <p:spPr>
              <a:xfrm>
                <a:off x="1676520" y="1846440"/>
                <a:ext cx="7080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4"/>
              <p:cNvSpPr txBox="1"/>
              <p:nvPr/>
            </p:nvSpPr>
            <p:spPr>
              <a:xfrm>
                <a:off x="3840120" y="2666880"/>
                <a:ext cx="492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5"/>
              <p:cNvSpPr txBox="1"/>
              <p:nvPr/>
            </p:nvSpPr>
            <p:spPr>
              <a:xfrm>
                <a:off x="3830760" y="3505320"/>
                <a:ext cx="3179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6"/>
              <p:cNvSpPr txBox="1"/>
              <p:nvPr/>
            </p:nvSpPr>
            <p:spPr>
              <a:xfrm>
                <a:off x="3886200" y="4343400"/>
                <a:ext cx="3408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760" name="Straight Arrow Connector 11"/>
          <p:cNvCxnSpPr/>
          <p:nvPr/>
        </p:nvCxnSpPr>
        <p:spPr>
          <a:xfrm>
            <a:off x="2133720" y="4343400"/>
            <a:ext cx="17532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"/>
              <p:cNvSpPr txBox="1"/>
              <p:nvPr/>
            </p:nvSpPr>
            <p:spPr>
              <a:xfrm>
                <a:off x="1676520" y="1846440"/>
                <a:ext cx="7080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4"/>
              <p:cNvSpPr txBox="1"/>
              <p:nvPr/>
            </p:nvSpPr>
            <p:spPr>
              <a:xfrm>
                <a:off x="3840120" y="2666880"/>
                <a:ext cx="492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5"/>
              <p:cNvSpPr txBox="1"/>
              <p:nvPr/>
            </p:nvSpPr>
            <p:spPr>
              <a:xfrm>
                <a:off x="3830760" y="3505320"/>
                <a:ext cx="3179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6"/>
              <p:cNvSpPr txBox="1"/>
              <p:nvPr/>
            </p:nvSpPr>
            <p:spPr>
              <a:xfrm>
                <a:off x="3886200" y="4343400"/>
                <a:ext cx="3408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7"/>
              <p:cNvSpPr txBox="1"/>
              <p:nvPr/>
            </p:nvSpPr>
            <p:spPr>
              <a:xfrm>
                <a:off x="3886200" y="5105520"/>
                <a:ext cx="3106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768" name="Straight Arrow Connector 11"/>
          <p:cNvCxnSpPr/>
          <p:nvPr/>
        </p:nvCxnSpPr>
        <p:spPr>
          <a:xfrm>
            <a:off x="2742840" y="4648320"/>
            <a:ext cx="122004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3"/>
              <p:cNvSpPr txBox="1"/>
              <p:nvPr/>
            </p:nvSpPr>
            <p:spPr>
              <a:xfrm>
                <a:off x="1676520" y="1846440"/>
                <a:ext cx="70801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4"/>
              <p:cNvSpPr txBox="1"/>
              <p:nvPr/>
            </p:nvSpPr>
            <p:spPr>
              <a:xfrm>
                <a:off x="3840120" y="2666880"/>
                <a:ext cx="492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5"/>
              <p:cNvSpPr txBox="1"/>
              <p:nvPr/>
            </p:nvSpPr>
            <p:spPr>
              <a:xfrm>
                <a:off x="3830760" y="3505320"/>
                <a:ext cx="3179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6"/>
              <p:cNvSpPr txBox="1"/>
              <p:nvPr/>
            </p:nvSpPr>
            <p:spPr>
              <a:xfrm>
                <a:off x="3886200" y="4343400"/>
                <a:ext cx="3408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3886200" y="5105520"/>
                <a:ext cx="3106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8"/>
              <p:cNvSpPr txBox="1"/>
              <p:nvPr/>
            </p:nvSpPr>
            <p:spPr>
              <a:xfrm>
                <a:off x="3898800" y="5962680"/>
                <a:ext cx="2273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777" name="Straight Arrow Connector 10"/>
          <p:cNvCxnSpPr/>
          <p:nvPr/>
        </p:nvCxnSpPr>
        <p:spPr>
          <a:xfrm>
            <a:off x="2514600" y="5715000"/>
            <a:ext cx="14486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3"/>
              <p:cNvSpPr txBox="1"/>
              <p:nvPr/>
            </p:nvSpPr>
            <p:spPr>
              <a:xfrm>
                <a:off x="1600200" y="1908000"/>
                <a:ext cx="44290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xpress as standard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3"/>
              <p:cNvSpPr txBox="1"/>
              <p:nvPr/>
            </p:nvSpPr>
            <p:spPr>
              <a:xfrm>
                <a:off x="1600200" y="1908000"/>
                <a:ext cx="44290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3"/>
              <p:cNvSpPr txBox="1"/>
              <p:nvPr/>
            </p:nvSpPr>
            <p:spPr>
              <a:xfrm>
                <a:off x="762120" y="3657600"/>
                <a:ext cx="7797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xpress as standard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,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isap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3"/>
              <p:cNvSpPr txBox="1"/>
              <p:nvPr/>
            </p:nvSpPr>
            <p:spPr>
              <a:xfrm>
                <a:off x="1600200" y="1908000"/>
                <a:ext cx="44290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3"/>
              <p:cNvSpPr txBox="1"/>
              <p:nvPr/>
            </p:nvSpPr>
            <p:spPr>
              <a:xfrm>
                <a:off x="762120" y="3657600"/>
                <a:ext cx="7797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789" name="Straight Arrow Connector 6"/>
          <p:cNvCxnSpPr/>
          <p:nvPr/>
        </p:nvCxnSpPr>
        <p:spPr>
          <a:xfrm flipH="1" flipV="1">
            <a:off x="1828080" y="4342680"/>
            <a:ext cx="21344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0" name="Straight Arrow Connector 7"/>
          <p:cNvCxnSpPr/>
          <p:nvPr/>
        </p:nvCxnSpPr>
        <p:spPr>
          <a:xfrm flipV="1">
            <a:off x="3962160" y="4266360"/>
            <a:ext cx="373428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s for Spre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4"/>
          <p:cNvCxnSpPr/>
          <p:nvPr/>
        </p:nvCxnSpPr>
        <p:spPr>
          <a:xfrm flipH="1">
            <a:off x="1523520" y="2514240"/>
            <a:ext cx="15336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xpress as standard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,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isap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acto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factor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3"/>
              <p:cNvSpPr txBox="1"/>
              <p:nvPr/>
            </p:nvSpPr>
            <p:spPr>
              <a:xfrm>
                <a:off x="1600200" y="1908000"/>
                <a:ext cx="44290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3"/>
              <p:cNvSpPr txBox="1"/>
              <p:nvPr/>
            </p:nvSpPr>
            <p:spPr>
              <a:xfrm>
                <a:off x="762120" y="3657600"/>
                <a:ext cx="7797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795" name="Straight Arrow Connector 5"/>
          <p:cNvCxnSpPr/>
          <p:nvPr/>
        </p:nvCxnSpPr>
        <p:spPr>
          <a:xfrm flipV="1">
            <a:off x="6094800" y="4266360"/>
            <a:ext cx="160092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7"/>
          <p:cNvCxnSpPr/>
          <p:nvPr/>
        </p:nvCxnSpPr>
        <p:spPr>
          <a:xfrm flipH="1" flipV="1">
            <a:off x="1294560" y="4419000"/>
            <a:ext cx="4801320" cy="1524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Calculations (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by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)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2"/>
              <p:cNvSpPr txBox="1"/>
              <p:nvPr/>
            </p:nvSpPr>
            <p:spPr>
              <a:xfrm>
                <a:off x="3276720" y="3657600"/>
                <a:ext cx="2120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76720" y="2724120"/>
                <a:ext cx="2120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Calculations (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by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)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2"/>
              <p:cNvSpPr txBox="1"/>
              <p:nvPr/>
            </p:nvSpPr>
            <p:spPr>
              <a:xfrm>
                <a:off x="3276720" y="3657600"/>
                <a:ext cx="2120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3"/>
              <p:cNvSpPr txBox="1"/>
              <p:nvPr/>
            </p:nvSpPr>
            <p:spPr>
              <a:xfrm>
                <a:off x="3276720" y="2724120"/>
                <a:ext cx="2120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cxnSp>
        <p:nvCxnSpPr>
          <p:cNvPr id="805" name="Straight Arrow Connector 6"/>
          <p:cNvCxnSpPr/>
          <p:nvPr/>
        </p:nvCxnSpPr>
        <p:spPr>
          <a:xfrm flipV="1">
            <a:off x="3351600" y="4266360"/>
            <a:ext cx="22932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6" name="Straight Arrow Connector 7"/>
          <p:cNvCxnSpPr/>
          <p:nvPr/>
        </p:nvCxnSpPr>
        <p:spPr>
          <a:xfrm flipV="1">
            <a:off x="3352320" y="4114440"/>
            <a:ext cx="12963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Calculations (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by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)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subtract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2"/>
              <p:cNvSpPr txBox="1"/>
              <p:nvPr/>
            </p:nvSpPr>
            <p:spPr>
              <a:xfrm>
                <a:off x="3276720" y="3657600"/>
                <a:ext cx="2120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3"/>
              <p:cNvSpPr txBox="1"/>
              <p:nvPr/>
            </p:nvSpPr>
            <p:spPr>
              <a:xfrm>
                <a:off x="3276720" y="2724120"/>
                <a:ext cx="2120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cxnSp>
        <p:nvCxnSpPr>
          <p:cNvPr id="811" name="Straight Arrow Connector 6"/>
          <p:cNvCxnSpPr/>
          <p:nvPr/>
        </p:nvCxnSpPr>
        <p:spPr>
          <a:xfrm flipH="1" flipV="1">
            <a:off x="4114440" y="4266360"/>
            <a:ext cx="534240" cy="129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2" name="Straight Arrow Connector 7"/>
          <p:cNvCxnSpPr/>
          <p:nvPr/>
        </p:nvCxnSpPr>
        <p:spPr>
          <a:xfrm flipV="1">
            <a:off x="4648320" y="4114440"/>
            <a:ext cx="9151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81, standard deviation part onl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84, standard deviation part only (2.8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2 (5.26, 2.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6 (factor of 6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for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~ Bi(n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for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~ Bi(n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toss coin, with P(S) = p, count S’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sample with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for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~ Bi(n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 of Random Variables,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3"/>
              <p:cNvSpPr txBox="1"/>
              <p:nvPr/>
            </p:nvSpPr>
            <p:spPr>
              <a:xfrm>
                <a:off x="2666880" y="50292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for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p),      recall  EX =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for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p),      recall  EX =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(X) = np(1-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for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p),      recall  EX =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(X) = np(1-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tandard devi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3"/>
              <p:cNvSpPr txBox="1"/>
              <p:nvPr/>
            </p:nvSpPr>
            <p:spPr>
              <a:xfrm>
                <a:off x="2133720" y="4876920"/>
                <a:ext cx="3597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28a, standard deviation par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29a, standard deviation part only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using combination of two above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using combination of two above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mean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number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number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e of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number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robability Model: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4"/>
          <p:cNvCxnSpPr/>
          <p:nvPr/>
        </p:nvCxnSpPr>
        <p:spPr>
          <a:xfrm flipH="1" flipV="1">
            <a:off x="2209320" y="1751760"/>
            <a:ext cx="137232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robability Model: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robability Model: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any tools for analyzing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riving example of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investig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robability Model: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any tools for analyzing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mo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tural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2"/>
              <p:cNvSpPr txBox="1"/>
              <p:nvPr/>
            </p:nvSpPr>
            <p:spPr>
              <a:xfrm>
                <a:off x="3962520" y="571500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a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4"/>
          <p:cNvSpPr/>
          <p:nvPr/>
        </p:nvSpPr>
        <p:spPr>
          <a:xfrm>
            <a:off x="1752480" y="3505320"/>
            <a:ext cx="601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5"/>
          <p:cNvSpPr/>
          <p:nvPr/>
        </p:nvSpPr>
        <p:spPr>
          <a:xfrm flipH="1">
            <a:off x="312264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12"/>
          <p:cNvSpPr/>
          <p:nvPr/>
        </p:nvSpPr>
        <p:spPr>
          <a:xfrm flipH="1">
            <a:off x="3960360" y="312408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13"/>
          <p:cNvSpPr/>
          <p:nvPr/>
        </p:nvSpPr>
        <p:spPr>
          <a:xfrm flipH="1">
            <a:off x="480060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14"/>
          <p:cNvSpPr/>
          <p:nvPr/>
        </p:nvSpPr>
        <p:spPr>
          <a:xfrm flipH="1">
            <a:off x="571356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5"/>
          <p:cNvSpPr/>
          <p:nvPr/>
        </p:nvSpPr>
        <p:spPr>
          <a:xfrm flipH="1">
            <a:off x="6552720" y="312264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a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4"/>
          <p:cNvSpPr/>
          <p:nvPr/>
        </p:nvSpPr>
        <p:spPr>
          <a:xfrm>
            <a:off x="1752480" y="3505320"/>
            <a:ext cx="601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5"/>
          <p:cNvSpPr/>
          <p:nvPr/>
        </p:nvSpPr>
        <p:spPr>
          <a:xfrm flipH="1">
            <a:off x="312264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12"/>
          <p:cNvSpPr/>
          <p:nvPr/>
        </p:nvSpPr>
        <p:spPr>
          <a:xfrm flipH="1">
            <a:off x="3960360" y="312408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13"/>
          <p:cNvSpPr/>
          <p:nvPr/>
        </p:nvSpPr>
        <p:spPr>
          <a:xfrm flipH="1">
            <a:off x="480060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4"/>
          <p:cNvSpPr/>
          <p:nvPr/>
        </p:nvSpPr>
        <p:spPr>
          <a:xfrm flipH="1">
            <a:off x="571356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5"/>
          <p:cNvSpPr/>
          <p:nvPr/>
        </p:nvSpPr>
        <p:spPr>
          <a:xfrm flipH="1">
            <a:off x="6552720" y="312264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Object 2"/>
              <p:cNvSpPr txBox="1"/>
              <p:nvPr/>
            </p:nvSpPr>
            <p:spPr>
              <a:xfrm>
                <a:off x="228600" y="5334120"/>
                <a:ext cx="4910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in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a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       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4"/>
          <p:cNvSpPr/>
          <p:nvPr/>
        </p:nvSpPr>
        <p:spPr>
          <a:xfrm>
            <a:off x="1752480" y="3505320"/>
            <a:ext cx="601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5"/>
          <p:cNvSpPr/>
          <p:nvPr/>
        </p:nvSpPr>
        <p:spPr>
          <a:xfrm flipH="1">
            <a:off x="312264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12"/>
          <p:cNvSpPr/>
          <p:nvPr/>
        </p:nvSpPr>
        <p:spPr>
          <a:xfrm flipH="1">
            <a:off x="3960360" y="312408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3"/>
          <p:cNvSpPr/>
          <p:nvPr/>
        </p:nvSpPr>
        <p:spPr>
          <a:xfrm flipH="1">
            <a:off x="480060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4"/>
          <p:cNvSpPr/>
          <p:nvPr/>
        </p:nvSpPr>
        <p:spPr>
          <a:xfrm flipH="1">
            <a:off x="571356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5"/>
          <p:cNvSpPr/>
          <p:nvPr/>
        </p:nvSpPr>
        <p:spPr>
          <a:xfrm flipH="1">
            <a:off x="6552720" y="312264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7"/>
          <p:cNvSpPr/>
          <p:nvPr/>
        </p:nvSpPr>
        <p:spPr>
          <a:xfrm flipH="1" flipV="1">
            <a:off x="3123720" y="396216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traight Connector 18"/>
          <p:cNvSpPr/>
          <p:nvPr/>
        </p:nvSpPr>
        <p:spPr>
          <a:xfrm flipH="1">
            <a:off x="3962520" y="396180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19"/>
          <p:cNvSpPr/>
          <p:nvPr/>
        </p:nvSpPr>
        <p:spPr>
          <a:xfrm flipH="1" flipV="1">
            <a:off x="4800600" y="396216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20"/>
          <p:cNvSpPr/>
          <p:nvPr/>
        </p:nvSpPr>
        <p:spPr>
          <a:xfrm flipV="1">
            <a:off x="5715000" y="396216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2"/>
              <p:cNvSpPr txBox="1"/>
              <p:nvPr/>
            </p:nvSpPr>
            <p:spPr>
              <a:xfrm>
                <a:off x="228600" y="5334120"/>
                <a:ext cx="4910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in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a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       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4"/>
          <p:cNvSpPr/>
          <p:nvPr/>
        </p:nvSpPr>
        <p:spPr>
          <a:xfrm>
            <a:off x="1752480" y="3505320"/>
            <a:ext cx="601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5"/>
          <p:cNvSpPr/>
          <p:nvPr/>
        </p:nvSpPr>
        <p:spPr>
          <a:xfrm flipH="1">
            <a:off x="312264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 flipH="1">
            <a:off x="3960360" y="312408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80060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4"/>
          <p:cNvSpPr/>
          <p:nvPr/>
        </p:nvSpPr>
        <p:spPr>
          <a:xfrm flipH="1">
            <a:off x="571356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traight Connector 15"/>
          <p:cNvSpPr/>
          <p:nvPr/>
        </p:nvSpPr>
        <p:spPr>
          <a:xfrm flipH="1">
            <a:off x="6552720" y="312264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17"/>
          <p:cNvSpPr/>
          <p:nvPr/>
        </p:nvSpPr>
        <p:spPr>
          <a:xfrm flipH="1" flipV="1">
            <a:off x="3123720" y="396216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18"/>
          <p:cNvSpPr/>
          <p:nvPr/>
        </p:nvSpPr>
        <p:spPr>
          <a:xfrm flipH="1">
            <a:off x="3962520" y="396180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4800600" y="396216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20"/>
          <p:cNvSpPr/>
          <p:nvPr/>
        </p:nvSpPr>
        <p:spPr>
          <a:xfrm flipV="1">
            <a:off x="5715000" y="396216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43000" y="5275440"/>
                <a:ext cx="8672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in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34-38, 59-62, 279-285,   62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319-322, 258-265, 55-68, 265-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consi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ther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 flipH="1" flipV="1">
            <a:off x="2209320" y="1751760"/>
            <a:ext cx="137232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 flipV="1">
            <a:off x="5181120" y="5333760"/>
            <a:ext cx="76284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a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8          0.6          0.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       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4"/>
          <p:cNvSpPr/>
          <p:nvPr/>
        </p:nvSpPr>
        <p:spPr>
          <a:xfrm>
            <a:off x="1752480" y="3505320"/>
            <a:ext cx="601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5"/>
          <p:cNvSpPr/>
          <p:nvPr/>
        </p:nvSpPr>
        <p:spPr>
          <a:xfrm flipH="1">
            <a:off x="312264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2"/>
          <p:cNvSpPr/>
          <p:nvPr/>
        </p:nvSpPr>
        <p:spPr>
          <a:xfrm flipH="1">
            <a:off x="3960360" y="312408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traight Connector 13"/>
          <p:cNvSpPr/>
          <p:nvPr/>
        </p:nvSpPr>
        <p:spPr>
          <a:xfrm flipH="1">
            <a:off x="480060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14"/>
          <p:cNvSpPr/>
          <p:nvPr/>
        </p:nvSpPr>
        <p:spPr>
          <a:xfrm flipH="1">
            <a:off x="571356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15"/>
          <p:cNvSpPr/>
          <p:nvPr/>
        </p:nvSpPr>
        <p:spPr>
          <a:xfrm flipH="1">
            <a:off x="6552720" y="312264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17"/>
          <p:cNvSpPr/>
          <p:nvPr/>
        </p:nvSpPr>
        <p:spPr>
          <a:xfrm flipH="1" flipV="1">
            <a:off x="3123720" y="396216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18"/>
          <p:cNvSpPr/>
          <p:nvPr/>
        </p:nvSpPr>
        <p:spPr>
          <a:xfrm flipH="1">
            <a:off x="3962520" y="396180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19"/>
          <p:cNvSpPr/>
          <p:nvPr/>
        </p:nvSpPr>
        <p:spPr>
          <a:xfrm flipH="1" flipV="1">
            <a:off x="4800600" y="396216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20"/>
          <p:cNvSpPr/>
          <p:nvPr/>
        </p:nvSpPr>
        <p:spPr>
          <a:xfrm flipV="1">
            <a:off x="5715000" y="396216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2"/>
              <p:cNvSpPr txBox="1"/>
              <p:nvPr/>
            </p:nvSpPr>
            <p:spPr>
              <a:xfrm>
                <a:off x="243000" y="5275440"/>
                <a:ext cx="8672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in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a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8          0.6          0.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       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4"/>
          <p:cNvSpPr/>
          <p:nvPr/>
        </p:nvSpPr>
        <p:spPr>
          <a:xfrm>
            <a:off x="1752480" y="3505320"/>
            <a:ext cx="601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5"/>
          <p:cNvSpPr/>
          <p:nvPr/>
        </p:nvSpPr>
        <p:spPr>
          <a:xfrm flipH="1">
            <a:off x="312264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2"/>
          <p:cNvSpPr/>
          <p:nvPr/>
        </p:nvSpPr>
        <p:spPr>
          <a:xfrm flipH="1">
            <a:off x="3960360" y="312408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13"/>
          <p:cNvSpPr/>
          <p:nvPr/>
        </p:nvSpPr>
        <p:spPr>
          <a:xfrm flipH="1">
            <a:off x="480060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14"/>
          <p:cNvSpPr/>
          <p:nvPr/>
        </p:nvSpPr>
        <p:spPr>
          <a:xfrm flipH="1">
            <a:off x="5713560" y="3124080"/>
            <a:ext cx="144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15"/>
          <p:cNvSpPr/>
          <p:nvPr/>
        </p:nvSpPr>
        <p:spPr>
          <a:xfrm flipH="1">
            <a:off x="6552720" y="3122640"/>
            <a:ext cx="1800" cy="76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17"/>
          <p:cNvSpPr/>
          <p:nvPr/>
        </p:nvSpPr>
        <p:spPr>
          <a:xfrm flipH="1" flipV="1">
            <a:off x="3123720" y="3962160"/>
            <a:ext cx="838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18"/>
          <p:cNvSpPr/>
          <p:nvPr/>
        </p:nvSpPr>
        <p:spPr>
          <a:xfrm flipH="1">
            <a:off x="3962520" y="396180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19"/>
          <p:cNvSpPr/>
          <p:nvPr/>
        </p:nvSpPr>
        <p:spPr>
          <a:xfrm flipH="1" flipV="1">
            <a:off x="4800600" y="396216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20"/>
          <p:cNvSpPr/>
          <p:nvPr/>
        </p:nvSpPr>
        <p:spPr>
          <a:xfrm flipV="1">
            <a:off x="5715000" y="396216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2"/>
              <p:cNvSpPr txBox="1"/>
              <p:nvPr/>
            </p:nvSpPr>
            <p:spPr>
              <a:xfrm>
                <a:off x="243000" y="5275440"/>
                <a:ext cx="8672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in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3"/>
              <p:cNvSpPr txBox="1"/>
              <p:nvPr/>
            </p:nvSpPr>
            <p:spPr>
              <a:xfrm>
                <a:off x="2827440" y="6124680"/>
                <a:ext cx="3960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609480" y="3124080"/>
                <a:ext cx="3603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sampl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40" name="Straight Arrow Connector 5"/>
          <p:cNvCxnSpPr/>
          <p:nvPr/>
        </p:nvCxnSpPr>
        <p:spPr>
          <a:xfrm flipV="1">
            <a:off x="5943600" y="3885840"/>
            <a:ext cx="38160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hrough by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44" name="Straight Arrow Connector 5"/>
          <p:cNvCxnSpPr/>
          <p:nvPr/>
        </p:nvCxnSpPr>
        <p:spPr>
          <a:xfrm flipV="1">
            <a:off x="4114800" y="4723920"/>
            <a:ext cx="12960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945" name="Object 3"/>
              <p:cNvSpPr txBox="1"/>
              <p:nvPr/>
            </p:nvSpPr>
            <p:spPr>
              <a:xfrm>
                <a:off x="3886200" y="3809880"/>
                <a:ext cx="4989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 = 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49" name="Straight Arrow Connector 5"/>
          <p:cNvCxnSpPr/>
          <p:nvPr/>
        </p:nvCxnSpPr>
        <p:spPr>
          <a:xfrm flipV="1">
            <a:off x="2895120" y="5257080"/>
            <a:ext cx="11437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950" name="Object 3"/>
              <p:cNvSpPr txBox="1"/>
              <p:nvPr/>
            </p:nvSpPr>
            <p:spPr>
              <a:xfrm>
                <a:off x="3886200" y="3809880"/>
                <a:ext cx="4989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Object 4"/>
              <p:cNvSpPr txBox="1"/>
              <p:nvPr/>
            </p:nvSpPr>
            <p:spPr>
              <a:xfrm>
                <a:off x="2514600" y="4508640"/>
                <a:ext cx="6375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for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3"/>
              <p:cNvSpPr txBox="1"/>
              <p:nvPr/>
            </p:nvSpPr>
            <p:spPr>
              <a:xfrm>
                <a:off x="3886200" y="3809880"/>
                <a:ext cx="4989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4"/>
              <p:cNvSpPr txBox="1"/>
              <p:nvPr/>
            </p:nvSpPr>
            <p:spPr>
              <a:xfrm>
                <a:off x="2514600" y="4508640"/>
                <a:ext cx="6375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5"/>
              <p:cNvSpPr txBox="1"/>
              <p:nvPr/>
            </p:nvSpPr>
            <p:spPr>
              <a:xfrm>
                <a:off x="1366920" y="5332320"/>
                <a:ext cx="754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for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Object 5"/>
              <p:cNvSpPr txBox="1"/>
              <p:nvPr/>
            </p:nvSpPr>
            <p:spPr>
              <a:xfrm>
                <a:off x="1366920" y="3886200"/>
                <a:ext cx="754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INOMDIST(0.62*3000,3000,0.6,true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(0.58*3000,3000,0.6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5"/>
              <p:cNvSpPr txBox="1"/>
              <p:nvPr/>
            </p:nvSpPr>
            <p:spPr>
              <a:xfrm>
                <a:off x="1366920" y="3886200"/>
                <a:ext cx="754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INOMDIST(0.62*3000,3000,0.6,true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(0.58*3000,3000,0.6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Object 5"/>
              <p:cNvSpPr txBox="1"/>
              <p:nvPr/>
            </p:nvSpPr>
            <p:spPr>
              <a:xfrm>
                <a:off x="1366920" y="3886200"/>
                <a:ext cx="754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 political of poll of 3000, when p = 0.6, what is probability the sample proportion i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0.0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olitical polls use sample siz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0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3"/>
              <p:cNvSpPr txBox="1"/>
              <p:nvPr/>
            </p:nvSpPr>
            <p:spPr>
              <a:xfrm>
                <a:off x="609480" y="3105000"/>
                <a:ext cx="7523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22  (0.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hat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 &amp; Standard Dev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Object 3"/>
              <p:cNvSpPr txBox="1"/>
              <p:nvPr/>
            </p:nvSpPr>
            <p:spPr>
              <a:xfrm>
                <a:off x="849240" y="3429000"/>
                <a:ext cx="21988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, to use line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3"/>
              <p:cNvSpPr txBox="1"/>
              <p:nvPr/>
            </p:nvSpPr>
            <p:spPr>
              <a:xfrm>
                <a:off x="838080" y="3429000"/>
                <a:ext cx="3768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92" name="Straight Arrow Connector 6"/>
          <p:cNvCxnSpPr/>
          <p:nvPr/>
        </p:nvCxnSpPr>
        <p:spPr>
          <a:xfrm flipH="1" flipV="1">
            <a:off x="3885480" y="4114440"/>
            <a:ext cx="7628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3"/>
              <p:cNvSpPr txBox="1"/>
              <p:nvPr/>
            </p:nvSpPr>
            <p:spPr>
              <a:xfrm>
                <a:off x="838080" y="3429000"/>
                <a:ext cx="5340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97" name="Straight Arrow Connector 5"/>
          <p:cNvCxnSpPr/>
          <p:nvPr/>
        </p:nvCxnSpPr>
        <p:spPr>
          <a:xfrm flipV="1">
            <a:off x="2819520" y="3962160"/>
            <a:ext cx="213408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3"/>
              <p:cNvSpPr txBox="1"/>
              <p:nvPr/>
            </p:nvSpPr>
            <p:spPr>
              <a:xfrm>
                <a:off x="838080" y="3429000"/>
                <a:ext cx="6702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002" name="Straight Arrow Connector 5"/>
          <p:cNvCxnSpPr/>
          <p:nvPr/>
        </p:nvCxnSpPr>
        <p:spPr>
          <a:xfrm flipV="1">
            <a:off x="4875840" y="3885840"/>
            <a:ext cx="2057760" cy="205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obabilities for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alculated using:       X ~ Bi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2"/>
              <p:cNvSpPr txBox="1"/>
              <p:nvPr/>
            </p:nvSpPr>
            <p:spPr>
              <a:xfrm>
                <a:off x="3733920" y="175248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3"/>
              <p:cNvSpPr txBox="1"/>
              <p:nvPr/>
            </p:nvSpPr>
            <p:spPr>
              <a:xfrm>
                <a:off x="838080" y="3429000"/>
                <a:ext cx="74008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biggest – sm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Object 2"/>
              <p:cNvSpPr txBox="1"/>
              <p:nvPr/>
            </p:nvSpPr>
            <p:spPr>
              <a:xfrm>
                <a:off x="4924440" y="1795320"/>
                <a:ext cx="162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2"/>
              <p:cNvSpPr txBox="1"/>
              <p:nvPr/>
            </p:nvSpPr>
            <p:spPr>
              <a:xfrm>
                <a:off x="4924440" y="1795320"/>
                <a:ext cx="162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 calculation g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5" name="Object 2"/>
              <p:cNvSpPr txBox="1"/>
              <p:nvPr/>
            </p:nvSpPr>
            <p:spPr>
              <a:xfrm>
                <a:off x="4924440" y="1795320"/>
                <a:ext cx="162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Object 3"/>
              <p:cNvSpPr txBox="1"/>
              <p:nvPr/>
            </p:nvSpPr>
            <p:spPr>
              <a:xfrm>
                <a:off x="200160" y="4168800"/>
                <a:ext cx="8780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 calculation g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: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2"/>
              <p:cNvSpPr txBox="1"/>
              <p:nvPr/>
            </p:nvSpPr>
            <p:spPr>
              <a:xfrm>
                <a:off x="4924440" y="1795320"/>
                <a:ext cx="162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200160" y="4168800"/>
                <a:ext cx="8780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4"/>
              <p:cNvSpPr txBox="1"/>
              <p:nvPr/>
            </p:nvSpPr>
            <p:spPr>
              <a:xfrm>
                <a:off x="3303720" y="5486400"/>
                <a:ext cx="3325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Sample Pro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Object 2"/>
              <p:cNvSpPr txBox="1"/>
              <p:nvPr/>
            </p:nvSpPr>
            <p:spPr>
              <a:xfrm>
                <a:off x="4924440" y="1795320"/>
                <a:ext cx="162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3"/>
              <p:cNvSpPr txBox="1"/>
              <p:nvPr/>
            </p:nvSpPr>
            <p:spPr>
              <a:xfrm>
                <a:off x="4114800" y="4724280"/>
                <a:ext cx="3325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Object 5"/>
              <p:cNvSpPr txBox="1"/>
              <p:nvPr/>
            </p:nvSpPr>
            <p:spPr>
              <a:xfrm>
                <a:off x="4300560" y="3193920"/>
                <a:ext cx="3259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1828800" y="1371600"/>
          <a:ext cx="7315200" cy="3076560"/>
        </p:xfrm>
        <a:graphic>
          <a:graphicData uri="http://schemas.openxmlformats.org/drawingml/2006/table">
            <a:tbl>
              <a:tblPr/>
              <a:tblGrid>
                <a:gridCol w="2854440"/>
                <a:gridCol w="2022480"/>
                <a:gridCol w="2438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(1-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1-p)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p(1-p)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(1-p)/n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1828800" y="1371600"/>
          <a:ext cx="7315200" cy="3076560"/>
        </p:xfrm>
        <a:graphic>
          <a:graphicData uri="http://schemas.openxmlformats.org/drawingml/2006/table">
            <a:tbl>
              <a:tblPr/>
              <a:tblGrid>
                <a:gridCol w="2854440"/>
                <a:gridCol w="2022480"/>
                <a:gridCol w="2438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(1-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1-p)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p(1-p)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(1-p)/n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 careful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ep these stra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1828800" y="1371600"/>
          <a:ext cx="7315200" cy="3076560"/>
        </p:xfrm>
        <a:graphic>
          <a:graphicData uri="http://schemas.openxmlformats.org/drawingml/2006/table">
            <a:tbl>
              <a:tblPr/>
              <a:tblGrid>
                <a:gridCol w="2854440"/>
                <a:gridCol w="2022480"/>
                <a:gridCol w="2438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(1-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1-p)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p(1-p)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(1-p)/n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6 (7.5, 0.5, 75, 750, 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biggest – sm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ce between endpoi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biggest – sm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biggest – sm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fe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ing var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biggest – sm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fe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ing var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fee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n-robu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= biggest – smal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fe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ing var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fee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n-robu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nobody uses th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 chos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 chos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 chos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 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611640" indent="-611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for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 chos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-611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-611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 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1640" indent="-611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Quartile Range,      IQR  =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 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Quartile Range,      IQR  =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ental Picture:        for    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                   25%                       25%                   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QuartilesToyEg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1695600"/>
          </a:xfrm>
          <a:prstGeom prst="rect">
            <a:avLst/>
          </a:prstGeom>
          <a:ln w="0">
            <a:noFill/>
          </a:ln>
        </p:spPr>
      </p:pic>
      <p:sp>
        <p:nvSpPr>
          <p:cNvPr id="169" name="Line 7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3124080" y="32767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5029200" y="33526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6553080" y="33526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ental Picture:        for    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“quartiles”,   Q1 and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a:  shows where are 25% &amp; 75% “through the 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                   25%                       25%                   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       Q2 = median     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457200" y="3276720"/>
            <a:ext cx="8229600" cy="2286000"/>
            <a:chOff x="457200" y="3276720"/>
            <a:chExt cx="8229600" cy="2286000"/>
          </a:xfrm>
        </p:grpSpPr>
        <p:pic>
          <p:nvPicPr>
            <p:cNvPr id="176" name="Picture 5" descr="QuartilesToyEg"/>
            <p:cNvPicPr/>
            <p:nvPr/>
          </p:nvPicPr>
          <p:blipFill>
            <a:blip r:embed="rId1"/>
            <a:stretch/>
          </p:blipFill>
          <p:spPr>
            <a:xfrm>
              <a:off x="457200" y="3429000"/>
              <a:ext cx="82296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7"/>
            <p:cNvSpPr/>
            <p:nvPr/>
          </p:nvSpPr>
          <p:spPr>
            <a:xfrm>
              <a:off x="838080" y="335268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3124080" y="3276720"/>
              <a:ext cx="533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 flipH="1">
              <a:off x="5028840" y="3352680"/>
              <a:ext cx="533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H="1">
              <a:off x="6553440" y="335268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V="1">
              <a:off x="2819160" y="51055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 flipV="1">
              <a:off x="434340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 flipH="1" flipV="1">
              <a:off x="5866920" y="51055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ental Picture:        for    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“quartiles”,   Q1 and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a:  shows where are 25% &amp; 75% “through the 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                   25%                       25%                   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       Q2 = median     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QuartilesToyEg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1695600"/>
          </a:xfrm>
          <a:prstGeom prst="rect">
            <a:avLst/>
          </a:prstGeom>
          <a:ln w="0">
            <a:noFill/>
          </a:ln>
        </p:spPr>
      </p:pic>
      <p:sp>
        <p:nvSpPr>
          <p:cNvPr id="187" name="Line 7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32767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 flipH="1">
            <a:off x="5029200" y="33526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6553080" y="33526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28195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3434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H="1" flipV="1">
            <a:off x="5867280" y="51055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3"/>
          <p:cNvSpPr/>
          <p:nvPr/>
        </p:nvSpPr>
        <p:spPr>
          <a:xfrm>
            <a:off x="2971800" y="502920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4"/>
          <p:cNvSpPr/>
          <p:nvPr/>
        </p:nvSpPr>
        <p:spPr>
          <a:xfrm flipV="1">
            <a:off x="4343400" y="5029200"/>
            <a:ext cx="15238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9"/>
          <p:cNvSpPr/>
          <p:nvPr/>
        </p:nvSpPr>
        <p:spPr>
          <a:xfrm flipV="1">
            <a:off x="2971800" y="6019920"/>
            <a:ext cx="1371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 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Quartile Range,      IQR  =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rt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 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Quartile Range,      IQR  =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rt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oth sorts, &amp; finds “¼ &amp; ¾  of the way dow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85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points ¼ and ¾ way down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ile ,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Quartile Range,      IQR  =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rt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rcRect l="7805" t="23089" r="4878" b="6076"/>
          <a:stretch/>
        </p:blipFill>
        <p:spPr>
          <a:xfrm>
            <a:off x="4414680" y="3733920"/>
            <a:ext cx="4557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St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St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13" name="Straight Connector 5"/>
          <p:cNvSpPr/>
          <p:nvPr/>
        </p:nvSpPr>
        <p:spPr>
          <a:xfrm flipV="1">
            <a:off x="5713560" y="2897280"/>
            <a:ext cx="2880" cy="3962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10"/>
          <p:cNvCxnSpPr/>
          <p:nvPr/>
        </p:nvCxnSpPr>
        <p:spPr>
          <a:xfrm flipV="1">
            <a:off x="3505320" y="3656880"/>
            <a:ext cx="213408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St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 = 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5"/>
          <p:cNvSpPr/>
          <p:nvPr/>
        </p:nvSpPr>
        <p:spPr>
          <a:xfrm flipV="1">
            <a:off x="5713560" y="2897280"/>
            <a:ext cx="2880" cy="3962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0"/>
          <p:cNvCxnSpPr/>
          <p:nvPr/>
        </p:nvCxnSpPr>
        <p:spPr>
          <a:xfrm flipV="1">
            <a:off x="3505320" y="3656880"/>
            <a:ext cx="213408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0" name="Straight Connector 7"/>
          <p:cNvSpPr/>
          <p:nvPr/>
        </p:nvSpPr>
        <p:spPr>
          <a:xfrm flipV="1">
            <a:off x="5484960" y="2897280"/>
            <a:ext cx="288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11"/>
          <p:cNvCxnSpPr/>
          <p:nvPr/>
        </p:nvCxnSpPr>
        <p:spPr>
          <a:xfrm flipV="1">
            <a:off x="3962160" y="4952160"/>
            <a:ext cx="1448280" cy="12200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7"/>
          <p:cNvSpPr/>
          <p:nvPr/>
        </p:nvSpPr>
        <p:spPr>
          <a:xfrm flipV="1">
            <a:off x="548496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1"/>
          <p:cNvCxnSpPr/>
          <p:nvPr/>
        </p:nvCxnSpPr>
        <p:spPr>
          <a:xfrm>
            <a:off x="2971440" y="2133360"/>
            <a:ext cx="2439000" cy="14482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artil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82314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artil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n data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038480" y="3502080"/>
            <a:ext cx="8247240" cy="3693960"/>
          </a:xfrm>
          <a:prstGeom prst="rect">
            <a:avLst/>
          </a:prstGeom>
          <a:ln w="0">
            <a:noFill/>
          </a:ln>
        </p:spPr>
      </p:pic>
      <p:cxnSp>
        <p:nvCxnSpPr>
          <p:cNvPr id="233" name="Straight Arrow Connector 6"/>
          <p:cNvCxnSpPr/>
          <p:nvPr/>
        </p:nvCxnSpPr>
        <p:spPr>
          <a:xfrm>
            <a:off x="3962520" y="3657240"/>
            <a:ext cx="221040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artil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n data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041720" y="3502080"/>
            <a:ext cx="8247240" cy="3693960"/>
          </a:xfrm>
          <a:prstGeom prst="rect">
            <a:avLst/>
          </a:prstGeom>
          <a:ln w="0">
            <a:noFill/>
          </a:ln>
        </p:spPr>
      </p:pic>
      <p:cxnSp>
        <p:nvCxnSpPr>
          <p:cNvPr id="237" name="Straight Arrow Connector 6"/>
          <p:cNvCxnSpPr/>
          <p:nvPr/>
        </p:nvCxnSpPr>
        <p:spPr>
          <a:xfrm>
            <a:off x="3200040" y="4419360"/>
            <a:ext cx="297252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A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Q1 &amp; Q3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246880" cy="369396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6"/>
          <p:cNvCxnSpPr/>
          <p:nvPr/>
        </p:nvCxnSpPr>
        <p:spPr>
          <a:xfrm flipH="1">
            <a:off x="4723560" y="2514240"/>
            <a:ext cx="1677240" cy="297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8"/>
          <p:cNvCxnSpPr/>
          <p:nvPr/>
        </p:nvCxnSpPr>
        <p:spPr>
          <a:xfrm>
            <a:off x="6400800" y="2514240"/>
            <a:ext cx="991440" cy="297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Straight Arrow Connector 11"/>
          <p:cNvCxnSpPr/>
          <p:nvPr/>
        </p:nvCxnSpPr>
        <p:spPr>
          <a:xfrm flipH="1">
            <a:off x="5409720" y="2514600"/>
            <a:ext cx="991440" cy="312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se in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33639" t="32433" r="15526" b="11352"/>
          <a:stretch/>
        </p:blipFill>
        <p:spPr>
          <a:xfrm>
            <a:off x="5721480" y="1143000"/>
            <a:ext cx="323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se in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0 =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33639" t="32433" r="15526" b="11352"/>
          <a:stretch/>
        </p:blipFill>
        <p:spPr>
          <a:xfrm>
            <a:off x="5721480" y="1143000"/>
            <a:ext cx="3238200" cy="5715000"/>
          </a:xfrm>
          <a:prstGeom prst="rect">
            <a:avLst/>
          </a:prstGeom>
          <a:ln w="0">
            <a:noFill/>
          </a:ln>
        </p:spPr>
      </p:pic>
      <p:cxnSp>
        <p:nvCxnSpPr>
          <p:cNvPr id="250" name="Straight Arrow Connector 11"/>
          <p:cNvCxnSpPr/>
          <p:nvPr/>
        </p:nvCxnSpPr>
        <p:spPr>
          <a:xfrm>
            <a:off x="3047760" y="2971440"/>
            <a:ext cx="5258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6"/>
          <p:cNvCxnSpPr/>
          <p:nvPr/>
        </p:nvCxnSpPr>
        <p:spPr>
          <a:xfrm flipV="1">
            <a:off x="3047760" y="1523520"/>
            <a:ext cx="52585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se ideas, to put them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se in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0 =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 =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rcRect l="33639" t="32433" r="15526" b="11352"/>
          <a:stretch/>
        </p:blipFill>
        <p:spPr>
          <a:xfrm>
            <a:off x="5721480" y="1143000"/>
            <a:ext cx="3238200" cy="5715000"/>
          </a:xfrm>
          <a:prstGeom prst="rect">
            <a:avLst/>
          </a:prstGeom>
          <a:ln w="0">
            <a:noFill/>
          </a:ln>
        </p:spPr>
      </p:pic>
      <p:cxnSp>
        <p:nvCxnSpPr>
          <p:cNvPr id="255" name="Straight Arrow Connector 11"/>
          <p:cNvCxnSpPr/>
          <p:nvPr/>
        </p:nvCxnSpPr>
        <p:spPr>
          <a:xfrm>
            <a:off x="2742840" y="4343400"/>
            <a:ext cx="51822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6"/>
          <p:cNvCxnSpPr/>
          <p:nvPr/>
        </p:nvCxnSpPr>
        <p:spPr>
          <a:xfrm flipV="1">
            <a:off x="2742840" y="3276000"/>
            <a:ext cx="518220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se in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0 =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 =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 =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33639" t="32433" r="15526" b="11352"/>
          <a:stretch/>
        </p:blipFill>
        <p:spPr>
          <a:xfrm>
            <a:off x="5721480" y="1143000"/>
            <a:ext cx="3238200" cy="57150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1"/>
          <p:cNvCxnSpPr/>
          <p:nvPr/>
        </p:nvCxnSpPr>
        <p:spPr>
          <a:xfrm>
            <a:off x="2209320" y="5790960"/>
            <a:ext cx="57920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6"/>
          <p:cNvCxnSpPr/>
          <p:nvPr/>
        </p:nvCxnSpPr>
        <p:spPr>
          <a:xfrm flipV="1">
            <a:off x="2209320" y="2133360"/>
            <a:ext cx="5792040" cy="365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Straight Arrow Connector 11"/>
          <p:cNvCxnSpPr/>
          <p:nvPr/>
        </p:nvCxnSpPr>
        <p:spPr>
          <a:xfrm>
            <a:off x="2971440" y="2133360"/>
            <a:ext cx="2515320" cy="1524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½ way to me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70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11"/>
          <p:cNvCxnSpPr/>
          <p:nvPr/>
        </p:nvCxnSpPr>
        <p:spPr>
          <a:xfrm>
            <a:off x="2971440" y="2133360"/>
            <a:ext cx="2515320" cy="1524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72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13"/>
          <p:cNvCxnSpPr/>
          <p:nvPr/>
        </p:nvCxnSpPr>
        <p:spPr>
          <a:xfrm>
            <a:off x="2209320" y="2895480"/>
            <a:ext cx="2972520" cy="1372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½ way to me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ality check in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/4 = 86/4 = 21.5,   Ob’s # 21 = 31,    so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½ way to me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79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Straight Arrow Connector 11"/>
          <p:cNvCxnSpPr/>
          <p:nvPr/>
        </p:nvCxnSpPr>
        <p:spPr>
          <a:xfrm>
            <a:off x="2971440" y="2133360"/>
            <a:ext cx="2515320" cy="1524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81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13"/>
          <p:cNvCxnSpPr/>
          <p:nvPr/>
        </p:nvCxnSpPr>
        <p:spPr>
          <a:xfrm>
            <a:off x="2209320" y="2895480"/>
            <a:ext cx="2972520" cy="1372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½ way to me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½ way to 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86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Straight Arrow Connector 11"/>
          <p:cNvCxnSpPr/>
          <p:nvPr/>
        </p:nvCxnSpPr>
        <p:spPr>
          <a:xfrm>
            <a:off x="2971440" y="2133360"/>
            <a:ext cx="2515320" cy="1524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88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13"/>
          <p:cNvCxnSpPr/>
          <p:nvPr/>
        </p:nvCxnSpPr>
        <p:spPr>
          <a:xfrm>
            <a:off x="2209320" y="2895480"/>
            <a:ext cx="2972520" cy="1372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90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10"/>
          <p:cNvCxnSpPr/>
          <p:nvPr/>
        </p:nvCxnSpPr>
        <p:spPr>
          <a:xfrm>
            <a:off x="2438280" y="4419720"/>
            <a:ext cx="327744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295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(known by me!?!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36547" r="13079" b="14619"/>
          <a:stretch/>
        </p:blipFill>
        <p:spPr>
          <a:xfrm>
            <a:off x="4216320" y="1828800"/>
            <a:ext cx="492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(known by me!?!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 subtract quartiles in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rcRect l="0" t="36547" r="13079" b="14619"/>
          <a:stretch/>
        </p:blipFill>
        <p:spPr>
          <a:xfrm>
            <a:off x="4216320" y="1828800"/>
            <a:ext cx="4927680" cy="2971800"/>
          </a:xfrm>
          <a:prstGeom prst="rect">
            <a:avLst/>
          </a:prstGeom>
          <a:ln w="0">
            <a:noFill/>
          </a:ln>
        </p:spPr>
      </p:pic>
      <p:cxnSp>
        <p:nvCxnSpPr>
          <p:cNvPr id="312" name="Straight Arrow Connector 5"/>
          <p:cNvCxnSpPr/>
          <p:nvPr/>
        </p:nvCxnSpPr>
        <p:spPr>
          <a:xfrm flipV="1">
            <a:off x="3581280" y="4419360"/>
            <a:ext cx="3353760" cy="205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3" name="Straight Arrow Connector 6"/>
          <p:cNvCxnSpPr/>
          <p:nvPr/>
        </p:nvCxnSpPr>
        <p:spPr>
          <a:xfrm flipV="1">
            <a:off x="3581280" y="2056680"/>
            <a:ext cx="5029920" cy="442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(known by me!?!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 subtract quartiles in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0" t="36547" r="13079" b="14619"/>
          <a:stretch/>
        </p:blipFill>
        <p:spPr>
          <a:xfrm>
            <a:off x="4216320" y="1828800"/>
            <a:ext cx="4927680" cy="2971800"/>
          </a:xfrm>
          <a:prstGeom prst="rect">
            <a:avLst/>
          </a:prstGeom>
          <a:ln w="0">
            <a:noFill/>
          </a:ln>
        </p:spPr>
      </p:pic>
      <p:cxnSp>
        <p:nvCxnSpPr>
          <p:cNvPr id="317" name="Straight Arrow Connector 5"/>
          <p:cNvCxnSpPr/>
          <p:nvPr/>
        </p:nvCxnSpPr>
        <p:spPr>
          <a:xfrm flipV="1">
            <a:off x="7620120" y="2209320"/>
            <a:ext cx="1219680" cy="4191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V="1">
            <a:off x="7620120" y="2209320"/>
            <a:ext cx="762480" cy="4191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Straight Arrow Connector 12"/>
          <p:cNvCxnSpPr/>
          <p:nvPr/>
        </p:nvCxnSpPr>
        <p:spPr>
          <a:xfrm flipH="1">
            <a:off x="7619400" y="2286000"/>
            <a:ext cx="686520" cy="991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20" name="Straight Arrow Connector 15"/>
          <p:cNvCxnSpPr/>
          <p:nvPr/>
        </p:nvCxnSpPr>
        <p:spPr>
          <a:xfrm flipH="1">
            <a:off x="7619760" y="2209680"/>
            <a:ext cx="1219680" cy="6105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0" t="36547" r="13079" b="14619"/>
          <a:stretch/>
        </p:blipFill>
        <p:spPr>
          <a:xfrm>
            <a:off x="4216320" y="1828800"/>
            <a:ext cx="4927680" cy="2971800"/>
          </a:xfrm>
          <a:prstGeom prst="rect">
            <a:avLst/>
          </a:prstGeom>
          <a:ln w="0">
            <a:noFill/>
          </a:ln>
        </p:spPr>
      </p:pic>
      <p:cxnSp>
        <p:nvCxnSpPr>
          <p:cNvPr id="324" name="Straight Arrow Connector 8"/>
          <p:cNvCxnSpPr/>
          <p:nvPr/>
        </p:nvCxnSpPr>
        <p:spPr>
          <a:xfrm flipH="1">
            <a:off x="3657240" y="4266000"/>
            <a:ext cx="32774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328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1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13"/>
          <p:cNvCxnSpPr/>
          <p:nvPr/>
        </p:nvCxnSpPr>
        <p:spPr>
          <a:xfrm flipV="1">
            <a:off x="3581280" y="3657240"/>
            <a:ext cx="18295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iles  -  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1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3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Q3 – Q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# spaces between Q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11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3"/>
          <p:cNvCxnSpPr/>
          <p:nvPr/>
        </p:nvCxnSpPr>
        <p:spPr>
          <a:xfrm flipV="1">
            <a:off x="3581280" y="3657240"/>
            <a:ext cx="182952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quart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quart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Give feeling for distribu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isting values of quar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                 25%                    25%                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        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dian   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QuartilesToyEg"/>
          <p:cNvPicPr/>
          <p:nvPr/>
        </p:nvPicPr>
        <p:blipFill>
          <a:blip r:embed="rId1"/>
          <a:stretch/>
        </p:blipFill>
        <p:spPr>
          <a:xfrm>
            <a:off x="457200" y="3276720"/>
            <a:ext cx="8229600" cy="1695240"/>
          </a:xfrm>
          <a:prstGeom prst="rect">
            <a:avLst/>
          </a:prstGeom>
          <a:ln w="0">
            <a:noFill/>
          </a:ln>
        </p:spPr>
      </p:pic>
      <p:sp>
        <p:nvSpPr>
          <p:cNvPr id="348" name="Line 7"/>
          <p:cNvSpPr/>
          <p:nvPr/>
        </p:nvSpPr>
        <p:spPr>
          <a:xfrm>
            <a:off x="838080" y="320040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3124080" y="31240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5029200" y="320040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6553080" y="32004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 flipV="1">
            <a:off x="289548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3"/>
          <p:cNvSpPr/>
          <p:nvPr/>
        </p:nvSpPr>
        <p:spPr>
          <a:xfrm flipV="1">
            <a:off x="43434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 flipH="1" flipV="1">
            <a:off x="586728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 flipV="1">
            <a:off x="914400" y="48765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 flipH="1" flipV="1">
            <a:off x="7848360" y="487692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i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ax = 7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,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:   var(X) = 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(X - EX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2743200" y="3733920"/>
                <a:ext cx="35607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in =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ax = 7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in =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= 3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A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ax = 7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in =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= 3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A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median = 7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i.e. right skew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ax = 7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in =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= 3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A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median = 7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i.e. right skew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141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possible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ax = 7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i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 = 3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median = 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14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ax = 7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56  a (2.2, 10.95, 28.5, 41.9, 69.3), c, d  (right skewed, 2 pea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57  a,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te:  Spring Break Next W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 due following Thursday, March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 in stamp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pends 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5133960" y="2552760"/>
            <a:ext cx="4010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 in stamp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pends 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133960" y="2552760"/>
            <a:ext cx="4010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 in stamp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pends 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5143680" y="2552760"/>
            <a:ext cx="40003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 in stamp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pends 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143680" y="2552760"/>
            <a:ext cx="40003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manually (using SUM &amp; SQ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aste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for oth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 in stamp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pends 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ruth is 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say more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we nee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43680" y="2552760"/>
            <a:ext cx="40003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isualization:   Box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isualization:   Box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Box represent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Straight Arrow Connector 4"/>
          <p:cNvCxnSpPr/>
          <p:nvPr/>
        </p:nvCxnSpPr>
        <p:spPr>
          <a:xfrm flipH="1" flipV="1">
            <a:off x="4876560" y="1751760"/>
            <a:ext cx="7624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isualization:   Box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Box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1.20 from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5715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isualization:   Box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Box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edian   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5715000" cy="2262240"/>
          </a:xfrm>
          <a:prstGeom prst="rect">
            <a:avLst/>
          </a:prstGeom>
          <a:ln w="0">
            <a:noFill/>
          </a:ln>
        </p:spPr>
      </p:pic>
      <p:cxnSp>
        <p:nvCxnSpPr>
          <p:cNvPr id="405" name="Straight Arrow Connector 4"/>
          <p:cNvCxnSpPr/>
          <p:nvPr/>
        </p:nvCxnSpPr>
        <p:spPr>
          <a:xfrm flipV="1">
            <a:off x="761040" y="4647600"/>
            <a:ext cx="68652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Straight Arrow Connector 7"/>
          <p:cNvCxnSpPr/>
          <p:nvPr/>
        </p:nvCxnSpPr>
        <p:spPr>
          <a:xfrm flipV="1">
            <a:off x="1523880" y="5104800"/>
            <a:ext cx="7668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Straight Arrow Connector 8"/>
          <p:cNvCxnSpPr/>
          <p:nvPr/>
        </p:nvCxnSpPr>
        <p:spPr>
          <a:xfrm flipH="1" flipV="1">
            <a:off x="1751760" y="5104800"/>
            <a:ext cx="762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9"/>
          <p:cNvCxnSpPr/>
          <p:nvPr/>
        </p:nvCxnSpPr>
        <p:spPr>
          <a:xfrm flipH="1" flipV="1">
            <a:off x="1980360" y="5104800"/>
            <a:ext cx="34297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Straight Arrow Connector 10"/>
          <p:cNvCxnSpPr/>
          <p:nvPr/>
        </p:nvCxnSpPr>
        <p:spPr>
          <a:xfrm flipH="1" flipV="1">
            <a:off x="6857640" y="4647600"/>
            <a:ext cx="83880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isualization:   Box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Box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edian     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Right skewness   -  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5715000" cy="2262240"/>
          </a:xfrm>
          <a:prstGeom prst="rect">
            <a:avLst/>
          </a:prstGeom>
          <a:ln w="0">
            <a:noFill/>
          </a:ln>
        </p:spPr>
      </p:pic>
      <p:cxnSp>
        <p:nvCxnSpPr>
          <p:cNvPr id="413" name="Straight Arrow Connector 4"/>
          <p:cNvCxnSpPr/>
          <p:nvPr/>
        </p:nvCxnSpPr>
        <p:spPr>
          <a:xfrm flipV="1">
            <a:off x="761040" y="4647600"/>
            <a:ext cx="68652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4" name="Straight Arrow Connector 7"/>
          <p:cNvCxnSpPr/>
          <p:nvPr/>
        </p:nvCxnSpPr>
        <p:spPr>
          <a:xfrm flipV="1">
            <a:off x="1523880" y="5104800"/>
            <a:ext cx="7668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Straight Arrow Connector 8"/>
          <p:cNvCxnSpPr/>
          <p:nvPr/>
        </p:nvCxnSpPr>
        <p:spPr>
          <a:xfrm flipH="1" flipV="1">
            <a:off x="1751760" y="5104800"/>
            <a:ext cx="762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9"/>
          <p:cNvCxnSpPr/>
          <p:nvPr/>
        </p:nvCxnSpPr>
        <p:spPr>
          <a:xfrm flipH="1" flipV="1">
            <a:off x="1980360" y="5104800"/>
            <a:ext cx="34297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7" name="Straight Arrow Connector 10"/>
          <p:cNvCxnSpPr/>
          <p:nvPr/>
        </p:nvCxnSpPr>
        <p:spPr>
          <a:xfrm flipH="1" flipV="1">
            <a:off x="6857640" y="4647600"/>
            <a:ext cx="83880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isualization:   Box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from pencil &amp; pape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pported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won’t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use: comparing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Figure  1.50   from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1.19 from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quick visual comparisons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452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Box Plo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quick visual comparisons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Box Plo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quick visual comparisons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Better Software Package tha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use non-Microsoft Add-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9202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var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ox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ach piece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nd S.D?     Median and Q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5715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IQ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IQ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IQ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above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below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IQ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above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below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sons discussed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25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IQ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Determ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-6256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above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-6256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#s below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1.5 * 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sons discussed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use IQR, since SD driven by outli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43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49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2"/>
          <p:cNvCxnSpPr/>
          <p:nvPr/>
        </p:nvCxnSpPr>
        <p:spPr>
          <a:xfrm>
            <a:off x="2590920" y="2133360"/>
            <a:ext cx="25912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Outli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.5 *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57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Straight Arrow Connector 12"/>
          <p:cNvCxnSpPr/>
          <p:nvPr/>
        </p:nvCxnSpPr>
        <p:spPr>
          <a:xfrm>
            <a:off x="609480" y="3886200"/>
            <a:ext cx="4572720" cy="190584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462" name="Straight Connector 13"/>
          <p:cNvSpPr/>
          <p:nvPr/>
        </p:nvSpPr>
        <p:spPr>
          <a:xfrm>
            <a:off x="4572000" y="3429000"/>
            <a:ext cx="685800" cy="1440"/>
          </a:xfrm>
          <a:prstGeom prst="line">
            <a:avLst/>
          </a:prstGeom>
          <a:ln w="254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7"/>
          <p:cNvSpPr/>
          <p:nvPr/>
        </p:nvSpPr>
        <p:spPr>
          <a:xfrm flipH="1">
            <a:off x="4572000" y="2897280"/>
            <a:ext cx="1440" cy="39621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Straight Arrow Connector 20"/>
          <p:cNvCxnSpPr/>
          <p:nvPr/>
        </p:nvCxnSpPr>
        <p:spPr>
          <a:xfrm flipV="1">
            <a:off x="2971440" y="3428280"/>
            <a:ext cx="1677240" cy="229320"/>
          </a:xfrm>
          <a:prstGeom prst="straightConnector1">
            <a:avLst/>
          </a:prstGeom>
          <a:ln w="1908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= 10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Outli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.5 *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Q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Chart 3" descr=""/>
          <p:cNvPicPr/>
          <p:nvPr/>
        </p:nvPicPr>
        <p:blipFill>
          <a:blip r:embed="rId1"/>
          <a:stretch/>
        </p:blipFill>
        <p:spPr>
          <a:xfrm>
            <a:off x="2147481000" y="214748100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468" name="Straight Connector 7"/>
          <p:cNvSpPr/>
          <p:nvPr/>
        </p:nvSpPr>
        <p:spPr>
          <a:xfrm flipV="1">
            <a:off x="5486400" y="2897280"/>
            <a:ext cx="1440" cy="3962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8"/>
          <p:cNvSpPr/>
          <p:nvPr/>
        </p:nvSpPr>
        <p:spPr>
          <a:xfrm flipH="1">
            <a:off x="5256360" y="2895480"/>
            <a:ext cx="1440" cy="396396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 flipV="1">
            <a:off x="5791320" y="2895120"/>
            <a:ext cx="1440" cy="3962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5257800" y="3429000"/>
            <a:ext cx="533520" cy="14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Straight Arrow Connector 12"/>
          <p:cNvCxnSpPr/>
          <p:nvPr/>
        </p:nvCxnSpPr>
        <p:spPr>
          <a:xfrm>
            <a:off x="1676520" y="3962160"/>
            <a:ext cx="3048480" cy="9910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473" name="Straight Connector 13"/>
          <p:cNvSpPr/>
          <p:nvPr/>
        </p:nvSpPr>
        <p:spPr>
          <a:xfrm>
            <a:off x="4572000" y="3429000"/>
            <a:ext cx="685800" cy="1440"/>
          </a:xfrm>
          <a:prstGeom prst="line">
            <a:avLst/>
          </a:prstGeom>
          <a:ln w="254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7"/>
          <p:cNvSpPr/>
          <p:nvPr/>
        </p:nvSpPr>
        <p:spPr>
          <a:xfrm flipH="1">
            <a:off x="4572000" y="2897280"/>
            <a:ext cx="1440" cy="39621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3-03T12:58:39Z</dcterms:modified>
  <cp:revision>1001</cp:revision>
  <dc:subject/>
  <dc:title>Slide 1</dc:title>
</cp:coreProperties>
</file>