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DCF-F5E4-4BBD-83C3-1146E1384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C66-886B-4ECD-B0F1-B91D2158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433-0623-4170-BA5F-F7FFFE7CF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CDE9-44D0-4FCD-8AC8-4D75E49B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74B-241E-496F-930D-7B663492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9C7-3F10-4FB3-8CCE-FDA1D3AF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9E4-B63A-4ACF-8F70-7CB2066A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FE2A-0C47-4332-AA2C-1F29749C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6CA-4D40-49B3-93B1-93542F3B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76A0-E448-4B41-A0C2-CFCA43BB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193-85ED-42B3-BFFC-6C69622A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FCB8-4753-4053-BEB4-982E31BF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EC0-34C6-4F98-A1BA-A18FBC19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AE2-778B-4E45-811A-BAEEB04E8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859-2F66-43C8-A5E6-4ED447DB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29B9-C676-4039-A1EE-91D97E44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658-4017-4CA6-A5FA-1AD5DA00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901B-F05A-47B1-9448-063F342A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F1E4-B590-4CE0-9044-6D9DF2C5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A22C-46D0-488F-B77E-29EAFFA6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D45-AEC2-45D9-BC64-94BB5B5E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8C8A-0A33-4AC7-B9C5-AA46F95C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B70-55A3-4776-A4C5-4A6671C3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3BF7-295E-42F0-806F-2C494D69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1322-0256-463E-9EA3-9AF46B93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94F-50C5-492D-8CDE-17AD08CFF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681-FBB5-42B5-816B-4B117523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E84B-50F6-4B0C-B488-3B3DCB0D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FFC-0447-47FD-A0CA-E6BAB54F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4C29-A13C-4E8A-A03E-DDFCBB730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7D00-AD3B-407D-9829-761B5CEDD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96F-4CF5-4D82-BE9A-968C6C05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CB4-1280-471A-BA6D-611B8211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E32-5F5C-48A1-8777-2DB5BC009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DF8-625E-4238-A8A9-4FDCF17F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203-F4F1-4B80-8121-9BFC0A4A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266-F58B-483F-B53C-8345E11F7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70A-C6E8-4299-8F2F-DC27BEE1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FE3-ECCC-4B1C-9742-D554338A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8CF-745D-4A85-9E5E-1BDBB3D1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F27-6614-4A0A-B361-D176224D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53F-F42F-4138-AAD8-E15BE9ED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46FE-6AC8-41D1-976E-68CFE39C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AFE-C91D-4FF4-B28A-A2BE0723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AD3-24CA-433D-90D3-3699F6F3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C6E-D627-49E6-992D-F6ED6B10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533-9CAF-4045-849E-CC6B419B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23C8-6AD6-4147-9599-14D1987D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CA0-8EF6-4F67-8546-86F9B8F9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ACC4-93E9-41CD-B39A-156454B5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13F-C1D1-471A-863D-9BDE4BF48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B57B-61B7-4E9D-8F03-9137026E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E2A5-DBE3-4FDD-A6D3-4D5E0C5B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BF10-5565-44D9-B1A8-CAD1899B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FF7A-C9EB-46AA-8039-0D6313F0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34A-30D7-412C-BCC3-107FCFB0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C081-A491-4D3B-9BDB-9B2BDEE2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1CDA-5DE1-4D0E-ABC2-0A3CDEE08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26C-7AD7-4AAB-8376-857421B7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179C-F074-4537-9028-D33B6459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C438-B89A-4F0C-B10A-742A09CF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1D6-8E5E-457B-AC37-BA7000763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78D-36FE-4D40-862D-AB2C7100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51F2-8DFE-400F-9E1D-8740FEB4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4FD6-65F5-43FC-9AF2-3A135717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BC2-3B94-4483-9098-652F2F4D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68B1-2F6B-4849-A842-0B141FDD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1AC-490D-4239-97FA-29B60B95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498-9165-4504-AF91-57FD34598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738-FC42-4C13-B42C-C856487B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CDE-58EC-4592-9667-F34B64B9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6CA-D11E-4593-A861-0C74A66E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FEC-4E2C-4F1F-AE63-2985835A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64FF-F0AA-4BD3-A66C-BD327DC5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CFE-EB26-45ED-8CAD-F8F3A0EF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9E5-5F93-460C-AB9A-CC01A361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1BAA-E817-40E8-A8B9-556DF740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5BB5-C658-48BE-BB10-99D2E24E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02AB-C0F8-4938-81F8-8CB56544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7D1-95C0-40D5-8659-C2B5C6F5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F67-EE88-4E86-8419-535F2BC4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B010-B1CD-4B50-9A6E-E32AF42A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F91E-DA5D-47E8-8A80-E370AD5B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AC55-E9BC-45DD-98BD-BD915946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F0F1-E79A-45B3-BB26-03F47ED9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F48-2A4B-4E61-95D8-EE68935E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E92-CD3F-49AF-95A4-4574391C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AC4-B452-4A53-9962-9A04D0DD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958A-CE97-4FC6-8FDC-5BAB0A4E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CB6D-2354-4AC6-9937-2CC928F3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1281-CAF7-41CD-AD7A-7A93C499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10B-D5A1-43A0-8CB8-2AD6BCD3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378-E16E-4020-B5F0-3D1E3310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E30-9B81-4E30-886A-F7F36EE8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2FC2-38B2-47DC-B69F-C69636DB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9299-F24B-45A3-99DE-A8BE2F18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CCB-8230-43E2-807A-598E1659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DB6-CCE4-4645-A264-5967363D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0DA-4FC2-4D2B-812B-63FBBF25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C33-CF8E-44EE-8F80-730847B2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CF0F-CB39-46B1-9795-411E7F97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DEB-6180-43F0-9587-8F820234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17E-0AEC-41C9-8AE5-D868F805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52D-ED72-426A-B7FF-B10B6FAA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AA3-6D50-40D7-99A0-8F3F7C06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ACF4-4881-4E59-9F44-E4DED064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9160-5291-49D6-8F3F-B7D3BAF8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BD39-EDB7-4268-B2C4-07D923A5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7A5-953E-4EB9-A8FA-C9D43D45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4F7F-9A2A-4F4F-B5EA-1A80DB3B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B04-DB89-4A45-A00F-9A19F7CC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679-BB52-44A4-A015-5E5DAE51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AB6-0624-44EC-9AF8-67191D6A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F37B-BA26-40B3-86CF-3D3C1B32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744-16AB-4330-A40B-56B39FFE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3B60-2A61-43DB-93E3-42D4AE08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B815-D4AB-4D48-AF57-E1A9F907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A295-8F80-454A-BCD7-98090F27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CB9-51DF-46E5-9FCC-F52F5049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B46-1E73-44F1-94BD-76AA6529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71C-B4F2-49BB-BEC0-B9A9C720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403-3B0C-4129-A75F-7970BDE3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EB6-D0A8-4DAA-AB3B-53C77582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580F-73D4-402C-AD0E-DF6A8C45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A7D8-41F9-43CC-B867-72271D6A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51C-0426-43F3-82D7-ACA34B75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2216-721B-451F-A165-CFEF0C36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6BCD-21F1-49E8-B19F-74982822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E517-D873-462E-9443-817D3E5C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D122-B095-4646-9021-05BE68D4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CE01-768A-4B5F-8B0A-E272775D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743A-39EB-4332-B9F6-BA74D273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97D6-8F00-4741-B6D3-34B2D16E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179F-A2CC-432C-9A47-A6B35BC7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B5F-78A2-4F57-B536-B809EC2C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ED4-D189-440D-A69D-03A25191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40A-A612-490D-8198-681B1653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EFE-962C-458C-9311-3B191435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3BB-1F08-441A-8F13-444F1803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624-61F2-43C9-B1D3-450DAF3E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26FD-EB00-4FE5-8F87-3CC49D74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975-2E26-4A0B-AF8A-C649DB8C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76B-7B22-4676-970B-0C185FC0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6F1-2974-4A18-A492-BEEECB58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B9F-FC79-4E14-826B-8D87A1F9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200A-3F31-4862-8CEE-1877FD9B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FF1-3323-44DF-8948-C554B633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4D30-4C8E-461F-8142-8DB9A10F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562D-DE01-4917-AEE0-96824EAD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49B-961D-408D-B158-2AAFAA96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9C7D-0A6D-47FD-BA3A-9FC96A9DB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C7D-D62E-42FF-9E25-EA6B31B0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E93-063D-48A9-B497-6982F858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E17-40D2-49EA-BFA3-2352377E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4C6-7D0F-4FAA-BECB-F7BF9342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306-7169-40DD-B977-57787F17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34CA-06A2-48E1-BCF8-39CA3408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C2F-70EF-4309-902A-CE6E2C9C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CE6-39C9-4380-9DFD-76B2BD42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5F5-8B7B-48BC-BE8C-51388396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E34B-2437-4082-B3C4-A4DF54EB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77A5-5CDA-446F-9F42-2F484BF6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FAE3-7F2B-4213-AABC-2BFA9D84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E7F4-EF94-41A3-92F2-FA343B77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24D0-27DF-4FB6-80EC-BDE73A1B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920-B3F9-4B6E-A0CE-17B953061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D2F-94FA-43CD-A71B-BA6D3828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9341-F444-4954-AE7D-7BE9C811A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83D-BB53-40AB-BDD0-288FB963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5CAB-A8E4-44AD-B2D4-C752810E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BD7-A747-4A04-99C4-A56B283D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CF5-3E1B-4E22-9718-0A306888D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A3F-57C2-4741-AA4C-4873071A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6F7-C014-4EFA-A2F6-9C0F3E514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76C-4B97-46E2-9764-F5C6D6B9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3CE2-2FB3-4099-B138-6DF84B31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D67-2A14-408D-B338-FEC1E284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01D4-980A-418F-9D34-A9AFD75B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C40-E647-40CE-829F-6B999749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741-7DBE-4683-960E-5D25680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DCB-22E8-441F-9DD4-EECB9845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FD9-F175-4279-AF21-CF13218F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A08-BA8D-466C-8998-A395924E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A7C4-29D9-4BA9-9445-F9B6F1E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4A4B-E981-422F-9F38-80FA009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D14-A0E3-48AC-AE3A-EBAAC218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3A8B-22A8-4F1C-BB90-A8B2BABD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63BC-F644-4E65-8F8E-F673F70D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C8B5-B3D3-4E50-A259-082C56B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C8D0-8544-41DB-A6A9-98FE0AB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0E5-7935-473D-AEBE-A3C7184C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F1BA-6ABA-42D7-A305-3615DA2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5444-C97B-4379-B8CC-457A0F8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5E66-2A37-4B82-AF29-DEF43A7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A449-9171-4D76-9EBF-AC1B1A31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1F9-CF5C-4C31-B81B-369CA376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805-D7F0-4630-B1DA-B0A8879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D78-459A-40F0-AFA4-4D67BB0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20-1C5C-43C4-91F7-9B11E36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7BE-0258-417D-B2C4-D774F8C5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9B5-4CAB-4318-AAE9-87B3CD2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B58-808B-465D-B926-7BEAC93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617-5D15-4AE2-BD3C-F0D019D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ADA2-6770-492F-9F12-2CB5DD7DF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5F6D-0FA2-4FF5-9399-A9966076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X2_zsnPkq8&amp;mode=related&amp;search=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courses.bfwpub.com/ips6e.ph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9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at.tamu.edu/~west/applets/normaldemo1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t.tamu.edu/~west/applets/normaldemo1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t.tamu.edu/~west/applets/normaldemo1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155-2009/ClassNotes/Stor155Eg8.xls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-Femal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i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ed fa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in course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er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8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hort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6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3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hortcuts (summarized answer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1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hortcuts (summarized answer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:  table  (see Table A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9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hortcuts (summarized answer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:  table  (see Table A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:   function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6" name="Straight Arrow Connector 5"/>
          <p:cNvCxnSpPr/>
          <p:nvPr/>
        </p:nvCxnSpPr>
        <p:spPr>
          <a:xfrm flipV="1">
            <a:off x="3276360" y="3657240"/>
            <a:ext cx="3810600" cy="12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Straight Arrow Connector 5"/>
          <p:cNvCxnSpPr/>
          <p:nvPr/>
        </p:nvCxnSpPr>
        <p:spPr>
          <a:xfrm flipV="1">
            <a:off x="2819520" y="4419360"/>
            <a:ext cx="312480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8" name="Straight Arrow Connector 5"/>
          <p:cNvCxnSpPr/>
          <p:nvPr/>
        </p:nvCxnSpPr>
        <p:spPr>
          <a:xfrm flipV="1">
            <a:off x="2895120" y="4419360"/>
            <a:ext cx="480132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  <p:cxnSp>
        <p:nvCxnSpPr>
          <p:cNvPr id="583" name="Straight Arrow Connector 5"/>
          <p:cNvCxnSpPr/>
          <p:nvPr/>
        </p:nvCxnSpPr>
        <p:spPr>
          <a:xfrm flipV="1">
            <a:off x="3505320" y="1904400"/>
            <a:ext cx="129600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ilariti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i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ed fa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  <p:cxnSp>
        <p:nvCxnSpPr>
          <p:cNvPr id="591" name="Straight Arrow Connector 5"/>
          <p:cNvCxnSpPr/>
          <p:nvPr/>
        </p:nvCxnSpPr>
        <p:spPr>
          <a:xfrm flipV="1">
            <a:off x="3352680" y="2362320"/>
            <a:ext cx="274392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5"/>
          <p:cNvCxnSpPr/>
          <p:nvPr/>
        </p:nvCxnSpPr>
        <p:spPr>
          <a:xfrm flipV="1">
            <a:off x="2971800" y="2666160"/>
            <a:ext cx="312480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3"/>
              <p:cNvSpPr txBox="1"/>
              <p:nvPr/>
            </p:nvSpPr>
            <p:spPr>
              <a:xfrm>
                <a:off x="2286000" y="420048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5"/>
          <p:cNvCxnSpPr/>
          <p:nvPr/>
        </p:nvCxnSpPr>
        <p:spPr>
          <a:xfrm flipV="1">
            <a:off x="2895480" y="2971080"/>
            <a:ext cx="3201120" cy="3353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. = 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“Cumulative” to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2286000" y="420048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7472520" cy="4400640"/>
          </a:xfrm>
          <a:prstGeom prst="rect">
            <a:avLst/>
          </a:prstGeom>
          <a:ln w="0">
            <a:noFill/>
          </a:ln>
        </p:spPr>
      </p:pic>
      <p:cxnSp>
        <p:nvCxnSpPr>
          <p:cNvPr id="606" name="Straight Arrow Connector 5"/>
          <p:cNvCxnSpPr/>
          <p:nvPr/>
        </p:nvCxnSpPr>
        <p:spPr>
          <a:xfrm flipV="1">
            <a:off x="5104440" y="3351960"/>
            <a:ext cx="1067400" cy="297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≤  1.3 =   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1" name="Object 3"/>
              <p:cNvSpPr txBox="1"/>
              <p:nvPr/>
            </p:nvSpPr>
            <p:spPr>
              <a:xfrm>
                <a:off x="2286000" y="41148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2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 Normal” has mean 0, and s.d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“shade area”, use Excel to draw density, and then shade 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un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8 year old Skateboarding Tw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8X2_zsnPkq8&amp;mode=related&amp;search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they ever mi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can explore far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ks to previous student Devin Coley for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Oval 4"/>
          <p:cNvSpPr/>
          <p:nvPr/>
        </p:nvSpPr>
        <p:spPr>
          <a:xfrm>
            <a:off x="1752480" y="4191120"/>
            <a:ext cx="381240" cy="3808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6"/>
          <p:cNvCxnSpPr>
            <a:stCxn id="624" idx="7"/>
          </p:cNvCxnSpPr>
          <p:nvPr/>
        </p:nvCxnSpPr>
        <p:spPr>
          <a:xfrm flipV="1">
            <a:off x="2076840" y="3047400"/>
            <a:ext cx="4628520" cy="1199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s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Oval 4"/>
          <p:cNvSpPr/>
          <p:nvPr/>
        </p:nvSpPr>
        <p:spPr>
          <a:xfrm>
            <a:off x="1752480" y="4191120"/>
            <a:ext cx="381240" cy="3808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Straight Arrow Connector 6"/>
          <p:cNvCxnSpPr>
            <a:stCxn id="630" idx="7"/>
          </p:cNvCxnSpPr>
          <p:nvPr/>
        </p:nvCxnSpPr>
        <p:spPr>
          <a:xfrm flipV="1">
            <a:off x="2076840" y="3047400"/>
            <a:ext cx="4628520" cy="1199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i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ed fa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 (average, i.e. ce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“m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5"/>
          <p:cNvCxnSpPr/>
          <p:nvPr/>
        </p:nvCxnSpPr>
        <p:spPr>
          <a:xfrm flipH="1" flipV="1">
            <a:off x="1676160" y="4571640"/>
            <a:ext cx="22867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as “lower prob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as “lower prob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se Big Rul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 spirit as BINOMDIST bef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Visualization:   Stats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urses.bfwpub.com/ips6e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sPort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"/>
              <p:cNvSpPr txBox="1"/>
              <p:nvPr/>
            </p:nvSpPr>
            <p:spPr>
              <a:xfrm>
                <a:off x="2286000" y="441972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3" name="Picture 7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3962520" y="1371600"/>
            <a:ext cx="4960800" cy="3960720"/>
          </a:xfrm>
          <a:prstGeom prst="rect">
            <a:avLst/>
          </a:prstGeom>
          <a:ln w="0">
            <a:noFill/>
          </a:ln>
        </p:spPr>
      </p:pic>
      <p:sp>
        <p:nvSpPr>
          <p:cNvPr id="644" name="Oval 9"/>
          <p:cNvSpPr/>
          <p:nvPr/>
        </p:nvSpPr>
        <p:spPr>
          <a:xfrm>
            <a:off x="990720" y="4952880"/>
            <a:ext cx="243828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0"/>
          <p:cNvSpPr/>
          <p:nvPr/>
        </p:nvSpPr>
        <p:spPr>
          <a:xfrm flipV="1">
            <a:off x="3276720" y="3809880"/>
            <a:ext cx="2971800" cy="1371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per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“1 –”, i.e. “not” form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1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/>
          <a:srcRect l="13380" t="43463" r="11707" b="7670"/>
          <a:stretch/>
        </p:blipFill>
        <p:spPr>
          <a:xfrm>
            <a:off x="380880" y="3124080"/>
            <a:ext cx="3276720" cy="2797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"/>
          <p:cNvPicPr/>
          <p:nvPr/>
        </p:nvPicPr>
        <p:blipFill>
          <a:blip r:embed="rId2"/>
          <a:srcRect l="13380" t="43463" r="11707" b="7670"/>
          <a:stretch/>
        </p:blipFill>
        <p:spPr>
          <a:xfrm>
            <a:off x="5562720" y="3124080"/>
            <a:ext cx="32763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7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6705720" y="3809880"/>
            <a:ext cx="2184120" cy="1743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"/>
          <p:cNvPicPr/>
          <p:nvPr/>
        </p:nvPicPr>
        <p:blipFill>
          <a:blip r:embed="rId2"/>
          <a:srcRect l="29955" t="39428" r="5286" b="10285"/>
          <a:stretch/>
        </p:blipFill>
        <p:spPr>
          <a:xfrm>
            <a:off x="3657600" y="3809880"/>
            <a:ext cx="2184480" cy="1743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"/>
          <p:cNvPicPr/>
          <p:nvPr/>
        </p:nvPicPr>
        <p:blipFill>
          <a:blip r:embed="rId3"/>
          <a:srcRect l="29955" t="39428" r="5286" b="10285"/>
          <a:stretch/>
        </p:blipFill>
        <p:spPr>
          <a:xfrm>
            <a:off x="380880" y="3809880"/>
            <a:ext cx="2184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9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i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xed fa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ist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 (average, i.e. ce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deviation (sp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P{X ≤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P{X ≤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P{X = 1.3} =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P{X ≤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P{X = 1.3} =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X is a continuous random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35845" t="36743" r="14026" b="29387"/>
          <a:stretch/>
        </p:blipFill>
        <p:spPr>
          <a:xfrm>
            <a:off x="3276720" y="4038480"/>
            <a:ext cx="5294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 = 1 – P{not(X ≥ 1.3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 = 1 – P{not(X ≥ 1.3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 – 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nsight into effect o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by Webster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tamu.edu/~west/applets/normal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rcRect l="0" t="24700" r="0" b="0"/>
          <a:stretch/>
        </p:blipFill>
        <p:spPr>
          <a:xfrm>
            <a:off x="1905120" y="3200400"/>
            <a:ext cx="5314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 = 1 – P{not(X ≥ 1.3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 – 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 – 0.726 = 0.2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 = 1 – P{not(X ≥ 1.3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 – P{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 – 0.726 = 0.2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rcRect l="36202" t="52748" r="14164" b="14066"/>
          <a:stretch/>
        </p:blipFill>
        <p:spPr>
          <a:xfrm>
            <a:off x="3505320" y="5029200"/>
            <a:ext cx="51908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≥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rcRect l="31724" t="51626" r="5517" b="13763"/>
          <a:stretch/>
        </p:blipFill>
        <p:spPr>
          <a:xfrm>
            <a:off x="1371600" y="4419720"/>
            <a:ext cx="7488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same answer a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Straight Arrow Connector 4"/>
          <p:cNvCxnSpPr/>
          <p:nvPr/>
        </p:nvCxnSpPr>
        <p:spPr>
          <a:xfrm flipH="1" flipV="1">
            <a:off x="5181120" y="4266720"/>
            <a:ext cx="915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6"/>
          <p:cNvCxnSpPr/>
          <p:nvPr/>
        </p:nvCxnSpPr>
        <p:spPr>
          <a:xfrm flipV="1">
            <a:off x="6094800" y="2590920"/>
            <a:ext cx="175356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same answer as above         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Straight Arrow Connector 4"/>
          <p:cNvCxnSpPr/>
          <p:nvPr/>
        </p:nvCxnSpPr>
        <p:spPr>
          <a:xfrm flipH="1" flipV="1">
            <a:off x="5181120" y="4266720"/>
            <a:ext cx="915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6"/>
          <p:cNvCxnSpPr/>
          <p:nvPr/>
        </p:nvCxnSpPr>
        <p:spPr>
          <a:xfrm flipV="1">
            <a:off x="6094800" y="2590920"/>
            <a:ext cx="175356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nsight into effect o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by Webster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tamu.edu/~west/applets/normal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rcRect l="0" t="24700" r="0" b="0"/>
          <a:stretch/>
        </p:blipFill>
        <p:spPr>
          <a:xfrm>
            <a:off x="1905120" y="3200400"/>
            <a:ext cx="5314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 = P{X &lt; 1.3} – P{X &lt; -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same answer as above         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-4} ≈ 0    (to 4 decimal pla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Straight Arrow Connector 4"/>
          <p:cNvCxnSpPr/>
          <p:nvPr/>
        </p:nvCxnSpPr>
        <p:spPr>
          <a:xfrm flipH="1" flipV="1">
            <a:off x="5181120" y="4266720"/>
            <a:ext cx="915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1" name="Straight Arrow Connector 6"/>
          <p:cNvCxnSpPr/>
          <p:nvPr/>
        </p:nvCxnSpPr>
        <p:spPr>
          <a:xfrm flipV="1">
            <a:off x="6094800" y="2590920"/>
            <a:ext cx="1753560" cy="266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-4 &lt; X &l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1 -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1 -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0.7} + 1 - P{X &gt; 1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rcRect l="30794" t="51626" r="4017" b="20645"/>
          <a:stretch/>
        </p:blipFill>
        <p:spPr>
          <a:xfrm>
            <a:off x="457200" y="5530680"/>
            <a:ext cx="8013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rcRect l="13380" t="40906" r="13380" b="6392"/>
          <a:stretch/>
        </p:blipFill>
        <p:spPr>
          <a:xfrm>
            <a:off x="5140440" y="3087720"/>
            <a:ext cx="40035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nsight into effect o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by Webster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tamu.edu/~west/applets/normal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rcRect l="0" t="24700" r="0" b="0"/>
          <a:stretch/>
        </p:blipFill>
        <p:spPr>
          <a:xfrm>
            <a:off x="1905120" y="3200400"/>
            <a:ext cx="5314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* P{X &lt; 0.7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rcRect l="13380" t="40906" r="13380" b="6392"/>
          <a:stretch/>
        </p:blipFill>
        <p:spPr>
          <a:xfrm>
            <a:off x="5140440" y="3087720"/>
            <a:ext cx="40035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* P{X &lt; 0.7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rcRect l="13380" t="40906" r="13380" b="6392"/>
          <a:stretch/>
        </p:blipFill>
        <p:spPr>
          <a:xfrm>
            <a:off x="5140440" y="3087720"/>
            <a:ext cx="40035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* P{X &lt; 0.7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rcRect l="39785" t="48486" r="6919" b="12929"/>
          <a:stretch/>
        </p:blipFill>
        <p:spPr>
          <a:xfrm>
            <a:off x="3886200" y="4724280"/>
            <a:ext cx="507204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e on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e on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1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4"/>
          <p:cNvSpPr/>
          <p:nvPr/>
        </p:nvSpPr>
        <p:spPr>
          <a:xfrm>
            <a:off x="1219320" y="5334120"/>
            <a:ext cx="6629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6"/>
          <p:cNvSpPr/>
          <p:nvPr/>
        </p:nvSpPr>
        <p:spPr>
          <a:xfrm flipV="1">
            <a:off x="6858000" y="5183280"/>
            <a:ext cx="14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9"/>
          <p:cNvSpPr/>
          <p:nvPr/>
        </p:nvSpPr>
        <p:spPr>
          <a:xfrm flipV="1">
            <a:off x="4419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0"/>
          <p:cNvSpPr/>
          <p:nvPr/>
        </p:nvSpPr>
        <p:spPr>
          <a:xfrm flipV="1">
            <a:off x="2133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al centered a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1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4"/>
          <p:cNvSpPr/>
          <p:nvPr/>
        </p:nvSpPr>
        <p:spPr>
          <a:xfrm>
            <a:off x="1219320" y="5334120"/>
            <a:ext cx="6629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6"/>
          <p:cNvSpPr/>
          <p:nvPr/>
        </p:nvSpPr>
        <p:spPr>
          <a:xfrm flipV="1">
            <a:off x="6858000" y="5183280"/>
            <a:ext cx="14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9"/>
          <p:cNvSpPr/>
          <p:nvPr/>
        </p:nvSpPr>
        <p:spPr>
          <a:xfrm flipV="1">
            <a:off x="4419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0"/>
          <p:cNvSpPr/>
          <p:nvPr/>
        </p:nvSpPr>
        <p:spPr>
          <a:xfrm flipV="1">
            <a:off x="2133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Straight Arrow Connector 8"/>
          <p:cNvCxnSpPr/>
          <p:nvPr/>
        </p:nvCxnSpPr>
        <p:spPr>
          <a:xfrm>
            <a:off x="2438280" y="4190760"/>
            <a:ext cx="19058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(spaces from 1)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1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4"/>
          <p:cNvSpPr/>
          <p:nvPr/>
        </p:nvSpPr>
        <p:spPr>
          <a:xfrm>
            <a:off x="1219320" y="5334120"/>
            <a:ext cx="6629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6"/>
          <p:cNvSpPr/>
          <p:nvPr/>
        </p:nvSpPr>
        <p:spPr>
          <a:xfrm flipV="1">
            <a:off x="6858000" y="5183280"/>
            <a:ext cx="14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9"/>
          <p:cNvSpPr/>
          <p:nvPr/>
        </p:nvSpPr>
        <p:spPr>
          <a:xfrm flipV="1">
            <a:off x="4419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0"/>
          <p:cNvSpPr/>
          <p:nvPr/>
        </p:nvSpPr>
        <p:spPr>
          <a:xfrm flipV="1">
            <a:off x="2133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Straight Arrow Connector 8"/>
          <p:cNvCxnSpPr/>
          <p:nvPr/>
        </p:nvCxnSpPr>
        <p:spPr>
          <a:xfrm>
            <a:off x="2895480" y="4191120"/>
            <a:ext cx="10677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7" name="Straight Arrow Connector 13"/>
          <p:cNvCxnSpPr/>
          <p:nvPr/>
        </p:nvCxnSpPr>
        <p:spPr>
          <a:xfrm>
            <a:off x="2895480" y="4191120"/>
            <a:ext cx="19821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8" name="Straight Connector 17"/>
          <p:cNvSpPr/>
          <p:nvPr/>
        </p:nvSpPr>
        <p:spPr>
          <a:xfrm flipH="1" flipV="1">
            <a:off x="4038120" y="5028840"/>
            <a:ext cx="381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18"/>
          <p:cNvSpPr/>
          <p:nvPr/>
        </p:nvSpPr>
        <p:spPr>
          <a:xfrm flipH="1" flipV="1">
            <a:off x="480060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19"/>
          <p:cNvSpPr/>
          <p:nvPr/>
        </p:nvSpPr>
        <p:spPr>
          <a:xfrm flipV="1">
            <a:off x="441972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22"/>
          <p:cNvSpPr/>
          <p:nvPr/>
        </p:nvSpPr>
        <p:spPr>
          <a:xfrm flipV="1">
            <a:off x="365760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(spaces from 1) =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1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same answer a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4"/>
          <p:cNvSpPr/>
          <p:nvPr/>
        </p:nvSpPr>
        <p:spPr>
          <a:xfrm>
            <a:off x="1219320" y="5334120"/>
            <a:ext cx="6629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6"/>
          <p:cNvSpPr/>
          <p:nvPr/>
        </p:nvSpPr>
        <p:spPr>
          <a:xfrm flipV="1">
            <a:off x="6858000" y="5183280"/>
            <a:ext cx="14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9"/>
          <p:cNvSpPr/>
          <p:nvPr/>
        </p:nvSpPr>
        <p:spPr>
          <a:xfrm flipV="1">
            <a:off x="4419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0"/>
          <p:cNvSpPr/>
          <p:nvPr/>
        </p:nvSpPr>
        <p:spPr>
          <a:xfrm flipV="1">
            <a:off x="2133720" y="518112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Straight Arrow Connector 8"/>
          <p:cNvCxnSpPr/>
          <p:nvPr/>
        </p:nvCxnSpPr>
        <p:spPr>
          <a:xfrm>
            <a:off x="2895480" y="4191120"/>
            <a:ext cx="10677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9" name="Straight Arrow Connector 13"/>
          <p:cNvCxnSpPr/>
          <p:nvPr/>
        </p:nvCxnSpPr>
        <p:spPr>
          <a:xfrm>
            <a:off x="2895480" y="4191120"/>
            <a:ext cx="198216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0" name="Straight Connector 17"/>
          <p:cNvSpPr/>
          <p:nvPr/>
        </p:nvSpPr>
        <p:spPr>
          <a:xfrm flipH="1" flipV="1">
            <a:off x="4038120" y="5028840"/>
            <a:ext cx="381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8"/>
          <p:cNvSpPr/>
          <p:nvPr/>
        </p:nvSpPr>
        <p:spPr>
          <a:xfrm flipH="1" flipV="1">
            <a:off x="480060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 flipV="1">
            <a:off x="441972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2"/>
          <p:cNvSpPr/>
          <p:nvPr/>
        </p:nvSpPr>
        <p:spPr>
          <a:xfrm flipV="1">
            <a:off x="3657600" y="5028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7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0.7 or X &gt; 1.3} = 0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 – 1| &gt; 0.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mmetry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mmetry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,  asymmetric normal 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4"/>
          <p:cNvCxnSpPr/>
          <p:nvPr/>
        </p:nvCxnSpPr>
        <p:spPr>
          <a:xfrm flipH="1" flipV="1">
            <a:off x="3276360" y="2437920"/>
            <a:ext cx="4039200" cy="274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 = P{X &lt; -0.8 or X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 = P{X &lt; -0.8 or X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-0.8} + 1 – P{X &l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 = P{X &lt; -0.8 or X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-0.8} + 1 – P{X &l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,          P{X ≤ 1.3} = 0.7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proba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|X| &gt; 0.8} = P{X &lt; -0.8 or X &g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 &lt; -0.8} + 1 – P{X &lt; 0.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2" descr=""/>
          <p:cNvPicPr/>
          <p:nvPr/>
        </p:nvPicPr>
        <p:blipFill>
          <a:blip r:embed="rId1"/>
          <a:srcRect l="30456" t="50184" r="3972" b="16724"/>
          <a:stretch/>
        </p:blipFill>
        <p:spPr>
          <a:xfrm>
            <a:off x="609480" y="5229360"/>
            <a:ext cx="8150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1.125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1.121 b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1.136 (0.079, 0.2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1.1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Line 8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Line 9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8-6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6-70, 61-62, 59-61, 322-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 fit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029200" y="41911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 fit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Choose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fit to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029200" y="41911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fit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2438280" y="2133720"/>
                <a:ext cx="42674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4495680" y="35053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 careful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ep these stra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371600"/>
          <a:ext cx="7315200" cy="3076560"/>
        </p:xfrm>
        <a:graphic>
          <a:graphicData uri="http://schemas.openxmlformats.org/drawingml/2006/table">
            <a:tbl>
              <a:tblPr/>
              <a:tblGrid>
                <a:gridCol w="2854440"/>
                <a:gridCol w="2022480"/>
                <a:gridCol w="2438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,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(1-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1-p)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p(1-p)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(1-p)/n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3048120" y="564516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3" name="Picture 3" descr=""/>
          <p:cNvPicPr/>
          <p:nvPr/>
        </p:nvPicPr>
        <p:blipFill>
          <a:blip r:embed="rId1"/>
          <a:srcRect l="42398" t="38766" r="9421" b="20672"/>
          <a:stretch/>
        </p:blipFill>
        <p:spPr>
          <a:xfrm>
            <a:off x="4467240" y="0"/>
            <a:ext cx="4676760" cy="287028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5"/>
          <p:cNvCxnSpPr/>
          <p:nvPr/>
        </p:nvCxnSpPr>
        <p:spPr>
          <a:xfrm flipV="1">
            <a:off x="5180400" y="2056680"/>
            <a:ext cx="167724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8" name="Picture 3" descr=""/>
          <p:cNvPicPr/>
          <p:nvPr/>
        </p:nvPicPr>
        <p:blipFill>
          <a:blip r:embed="rId1"/>
          <a:srcRect l="45221" t="38766" r="2826" b="7752"/>
          <a:stretch/>
        </p:blipFill>
        <p:spPr>
          <a:xfrm>
            <a:off x="4102200" y="0"/>
            <a:ext cx="5041800" cy="3784680"/>
          </a:xfrm>
          <a:prstGeom prst="rect">
            <a:avLst/>
          </a:prstGeom>
          <a:ln w="0">
            <a:noFill/>
          </a:ln>
        </p:spPr>
      </p:pic>
      <p:cxnSp>
        <p:nvCxnSpPr>
          <p:cNvPr id="229" name="Straight Arrow Connector 6"/>
          <p:cNvCxnSpPr/>
          <p:nvPr/>
        </p:nvCxnSpPr>
        <p:spPr>
          <a:xfrm flipV="1">
            <a:off x="5181480" y="3047400"/>
            <a:ext cx="243900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, on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, on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winter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ity in Australia, on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winter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d over 1981-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lo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ant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erty of Binom’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p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l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   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7456" t="21259" r="9320" b="6713"/>
          <a:stretch/>
        </p:blipFill>
        <p:spPr>
          <a:xfrm>
            <a:off x="152280" y="2743200"/>
            <a:ext cx="4114800" cy="296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7805" t="23089" r="4878" b="6076"/>
          <a:stretch/>
        </p:blipFill>
        <p:spPr>
          <a:xfrm>
            <a:off x="4419720" y="2743200"/>
            <a:ext cx="45576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Choos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istogram of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155-2009/ClassNotes/Stor155Eg8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49568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deg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i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ld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7442" t="25168" r="9923" b="10786"/>
          <a:stretch/>
        </p:blipFill>
        <p:spPr>
          <a:xfrm>
            <a:off x="4870440" y="2127240"/>
            <a:ext cx="4273560" cy="457056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5"/>
          <p:cNvCxnSpPr/>
          <p:nvPr/>
        </p:nvCxnSpPr>
        <p:spPr>
          <a:xfrm>
            <a:off x="3505320" y="3200040"/>
            <a:ext cx="25912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deg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i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ld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7442" t="25168" r="9923" b="10786"/>
          <a:stretch/>
        </p:blipFill>
        <p:spPr>
          <a:xfrm>
            <a:off x="4870440" y="2127240"/>
            <a:ext cx="4273560" cy="4570560"/>
          </a:xfrm>
          <a:prstGeom prst="rect">
            <a:avLst/>
          </a:prstGeom>
          <a:ln w="0">
            <a:noFill/>
          </a:ln>
        </p:spPr>
      </p:pic>
      <p:cxnSp>
        <p:nvCxnSpPr>
          <p:cNvPr id="249" name="Straight Arrow Connector 4"/>
          <p:cNvCxnSpPr/>
          <p:nvPr/>
        </p:nvCxnSpPr>
        <p:spPr>
          <a:xfrm flipV="1">
            <a:off x="3504960" y="3428640"/>
            <a:ext cx="33534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deg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i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ld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7442" t="25168" r="9923" b="10786"/>
          <a:stretch/>
        </p:blipFill>
        <p:spPr>
          <a:xfrm>
            <a:off x="4870440" y="2127240"/>
            <a:ext cx="4273560" cy="4570560"/>
          </a:xfrm>
          <a:prstGeom prst="rect">
            <a:avLst/>
          </a:prstGeom>
          <a:ln w="0">
            <a:noFill/>
          </a:ln>
        </p:spPr>
      </p:pic>
      <p:cxnSp>
        <p:nvCxnSpPr>
          <p:cNvPr id="253" name="Straight Arrow Connector 4"/>
          <p:cNvCxnSpPr/>
          <p:nvPr/>
        </p:nvCxnSpPr>
        <p:spPr>
          <a:xfrm flipV="1">
            <a:off x="3504960" y="3428640"/>
            <a:ext cx="3353400" cy="175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5"/>
          <p:cNvCxnSpPr/>
          <p:nvPr/>
        </p:nvCxnSpPr>
        <p:spPr>
          <a:xfrm flipV="1">
            <a:off x="2666520" y="2514240"/>
            <a:ext cx="5258520" cy="190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ter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ter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ok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mound shaped, no outli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ter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ok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mound shaped, no outli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summe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s more powerful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(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(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(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(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on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it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rcRect l="0" t="30196" r="6560" b="32200"/>
          <a:stretch/>
        </p:blipFill>
        <p:spPr>
          <a:xfrm>
            <a:off x="4022640" y="2743200"/>
            <a:ext cx="58611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rom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rcRect l="0" t="30196" r="6560" b="32200"/>
          <a:stretch/>
        </p:blipFill>
        <p:spPr>
          <a:xfrm>
            <a:off x="4022640" y="2743200"/>
            <a:ext cx="5861160" cy="256392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5"/>
          <p:cNvCxnSpPr/>
          <p:nvPr/>
        </p:nvCxnSpPr>
        <p:spPr>
          <a:xfrm>
            <a:off x="1828440" y="3886200"/>
            <a:ext cx="52585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6"/>
          <p:cNvCxnSpPr/>
          <p:nvPr/>
        </p:nvCxnSpPr>
        <p:spPr>
          <a:xfrm flipV="1">
            <a:off x="1828800" y="3047760"/>
            <a:ext cx="586800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rom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. 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0" t="30196" r="6560" b="32200"/>
          <a:stretch/>
        </p:blipFill>
        <p:spPr>
          <a:xfrm>
            <a:off x="4022640" y="2743200"/>
            <a:ext cx="5861160" cy="2563920"/>
          </a:xfrm>
          <a:prstGeom prst="rect">
            <a:avLst/>
          </a:prstGeom>
          <a:ln w="0">
            <a:noFill/>
          </a:ln>
        </p:spPr>
      </p:pic>
      <p:cxnSp>
        <p:nvCxnSpPr>
          <p:cNvPr id="286" name="Straight Arrow Connector 6"/>
          <p:cNvCxnSpPr/>
          <p:nvPr/>
        </p:nvCxnSpPr>
        <p:spPr>
          <a:xfrm flipV="1">
            <a:off x="1752480" y="3047400"/>
            <a:ext cx="59443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5"/>
          <p:cNvCxnSpPr/>
          <p:nvPr/>
        </p:nvCxnSpPr>
        <p:spPr>
          <a:xfrm>
            <a:off x="1752120" y="4495680"/>
            <a:ext cx="54111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rcRect l="32688" t="27884" r="10322" b="9958"/>
          <a:stretch/>
        </p:blipFill>
        <p:spPr>
          <a:xfrm>
            <a:off x="4664160" y="2103480"/>
            <a:ext cx="4543200" cy="4279680"/>
          </a:xfrm>
          <a:prstGeom prst="rect">
            <a:avLst/>
          </a:prstGeom>
          <a:ln w="0">
            <a:noFill/>
          </a:ln>
        </p:spPr>
      </p:pic>
      <p:cxnSp>
        <p:nvCxnSpPr>
          <p:cNvPr id="291" name="Straight Arrow Connector 5"/>
          <p:cNvCxnSpPr/>
          <p:nvPr/>
        </p:nvCxnSpPr>
        <p:spPr>
          <a:xfrm>
            <a:off x="2971800" y="3124080"/>
            <a:ext cx="266724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ual typ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&amp;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rcRect l="32688" t="27884" r="10322" b="9958"/>
          <a:stretch/>
        </p:blipFill>
        <p:spPr>
          <a:xfrm>
            <a:off x="4664160" y="2103480"/>
            <a:ext cx="4543200" cy="42796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5"/>
          <p:cNvCxnSpPr/>
          <p:nvPr/>
        </p:nvCxnSpPr>
        <p:spPr>
          <a:xfrm>
            <a:off x="2971800" y="3124080"/>
            <a:ext cx="266724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compute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rcRect l="32688" t="27884" r="10322" b="9958"/>
          <a:stretch/>
        </p:blipFill>
        <p:spPr>
          <a:xfrm>
            <a:off x="4664160" y="2103480"/>
            <a:ext cx="4543200" cy="4279680"/>
          </a:xfrm>
          <a:prstGeom prst="rect">
            <a:avLst/>
          </a:prstGeom>
          <a:ln w="0">
            <a:noFill/>
          </a:ln>
        </p:spPr>
      </p:pic>
      <p:cxnSp>
        <p:nvCxnSpPr>
          <p:cNvPr id="299" name="Straight Arrow Connector 4"/>
          <p:cNvCxnSpPr/>
          <p:nvPr/>
        </p:nvCxnSpPr>
        <p:spPr>
          <a:xfrm flipV="1">
            <a:off x="4572000" y="3733200"/>
            <a:ext cx="23630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"/>
          <p:cNvCxnSpPr/>
          <p:nvPr/>
        </p:nvCxnSpPr>
        <p:spPr>
          <a:xfrm flipV="1">
            <a:off x="4572000" y="2590200"/>
            <a:ext cx="137232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compute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x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rcRect l="32688" t="27884" r="10322" b="9958"/>
          <a:stretch/>
        </p:blipFill>
        <p:spPr>
          <a:xfrm>
            <a:off x="4664160" y="2103480"/>
            <a:ext cx="4543200" cy="4279680"/>
          </a:xfrm>
          <a:prstGeom prst="rect">
            <a:avLst/>
          </a:prstGeom>
          <a:ln w="0">
            <a:noFill/>
          </a:ln>
        </p:spPr>
      </p:pic>
      <p:cxnSp>
        <p:nvCxnSpPr>
          <p:cNvPr id="304" name="Straight Arrow Connector 7"/>
          <p:cNvCxnSpPr/>
          <p:nvPr/>
        </p:nvCxnSpPr>
        <p:spPr>
          <a:xfrm flipV="1">
            <a:off x="1752480" y="2590560"/>
            <a:ext cx="4572720" cy="3201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compute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t faste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rcRect l="32688" t="27884" r="10322" b="9958"/>
          <a:stretch/>
        </p:blipFill>
        <p:spPr>
          <a:xfrm>
            <a:off x="4664160" y="2103480"/>
            <a:ext cx="45432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eat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compute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t faste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allels BINOMD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X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13" name="Straight Arrow Connector 5"/>
          <p:cNvCxnSpPr/>
          <p:nvPr/>
        </p:nvCxnSpPr>
        <p:spPr>
          <a:xfrm flipV="1">
            <a:off x="1828800" y="2971440"/>
            <a:ext cx="40392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X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ta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17" name="Straight Arrow Connector 5"/>
          <p:cNvCxnSpPr/>
          <p:nvPr/>
        </p:nvCxnSpPr>
        <p:spPr>
          <a:xfrm flipV="1">
            <a:off x="2895120" y="3276360"/>
            <a:ext cx="304884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X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ta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ta S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2743200" y="3733200"/>
            <a:ext cx="3201120" cy="144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X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ta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ta S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Not Cum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25" name="Straight Arrow Connector 5"/>
          <p:cNvCxnSpPr/>
          <p:nvPr/>
        </p:nvCxnSpPr>
        <p:spPr>
          <a:xfrm flipV="1">
            <a:off x="3657600" y="4038120"/>
            <a:ext cx="221040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$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rrect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$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rrect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s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32" name="Straight Arrow Connector 5"/>
          <p:cNvCxnSpPr/>
          <p:nvPr/>
        </p:nvCxnSpPr>
        <p:spPr>
          <a:xfrm flipV="1">
            <a:off x="3200400" y="3047760"/>
            <a:ext cx="2667240" cy="221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$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rrect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s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se a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7291440" cy="4294080"/>
          </a:xfrm>
          <a:prstGeom prst="rect">
            <a:avLst/>
          </a:prstGeom>
          <a:ln w="0">
            <a:noFill/>
          </a:ln>
        </p:spPr>
      </p:pic>
      <p:cxnSp>
        <p:nvCxnSpPr>
          <p:cNvPr id="336" name="Straight Arrow Connector 5"/>
          <p:cNvCxnSpPr/>
          <p:nvPr/>
        </p:nvCxnSpPr>
        <p:spPr>
          <a:xfrm flipV="1">
            <a:off x="3657600" y="3428280"/>
            <a:ext cx="2210400" cy="243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7" name="Straight Arrow Connector 7"/>
          <p:cNvCxnSpPr/>
          <p:nvPr/>
        </p:nvCxnSpPr>
        <p:spPr>
          <a:xfrm flipV="1">
            <a:off x="3657600" y="3733560"/>
            <a:ext cx="2210400" cy="2134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rcRect l="0" t="0" r="43790" b="63349"/>
          <a:stretch/>
        </p:blipFill>
        <p:spPr>
          <a:xfrm>
            <a:off x="2743200" y="4191120"/>
            <a:ext cx="7043760" cy="2539800"/>
          </a:xfrm>
          <a:prstGeom prst="rect">
            <a:avLst/>
          </a:prstGeom>
          <a:ln w="0">
            <a:noFill/>
          </a:ln>
        </p:spPr>
      </p:pic>
      <p:cxnSp>
        <p:nvCxnSpPr>
          <p:cNvPr id="341" name="Straight Arrow Connector 4"/>
          <p:cNvCxnSpPr/>
          <p:nvPr/>
        </p:nvCxnSpPr>
        <p:spPr>
          <a:xfrm>
            <a:off x="1904760" y="3886200"/>
            <a:ext cx="251532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Normal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rcRect l="0" t="0" r="43790" b="63349"/>
          <a:stretch/>
        </p:blipFill>
        <p:spPr>
          <a:xfrm>
            <a:off x="2743200" y="4191120"/>
            <a:ext cx="7043760" cy="2539800"/>
          </a:xfrm>
          <a:prstGeom prst="rect">
            <a:avLst/>
          </a:prstGeom>
          <a:ln w="0">
            <a:noFill/>
          </a:ln>
        </p:spPr>
      </p:pic>
      <p:cxnSp>
        <p:nvCxnSpPr>
          <p:cNvPr id="345" name="Straight Arrow Connector 4"/>
          <p:cNvCxnSpPr/>
          <p:nvPr/>
        </p:nvCxnSpPr>
        <p:spPr>
          <a:xfrm>
            <a:off x="1523880" y="4571640"/>
            <a:ext cx="548712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d li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rcRect l="7711" t="26939" r="6426" b="7347"/>
          <a:stretch/>
        </p:blipFill>
        <p:spPr>
          <a:xfrm>
            <a:off x="1752480" y="1951200"/>
            <a:ext cx="6108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s shape is good 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7711" t="26939" r="6426" b="42858"/>
          <a:stretch/>
        </p:blipFill>
        <p:spPr>
          <a:xfrm>
            <a:off x="1752480" y="1951200"/>
            <a:ext cx="61088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ds shape is good 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represents the populati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7711" t="26939" r="6426" b="42858"/>
          <a:stretch/>
        </p:blipFill>
        <p:spPr>
          <a:xfrm>
            <a:off x="1752480" y="1951200"/>
            <a:ext cx="61088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ybe 2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  <p:cxnSp>
        <p:nvCxnSpPr>
          <p:cNvPr id="366" name="Straight Arrow Connector 5"/>
          <p:cNvCxnSpPr/>
          <p:nvPr/>
        </p:nvCxnSpPr>
        <p:spPr>
          <a:xfrm>
            <a:off x="6629400" y="1905120"/>
            <a:ext cx="991440" cy="121968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367" name="Straight Arrow Connector 7"/>
          <p:cNvCxnSpPr/>
          <p:nvPr/>
        </p:nvCxnSpPr>
        <p:spPr>
          <a:xfrm>
            <a:off x="6628320" y="1904760"/>
            <a:ext cx="229320" cy="106740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  <p:sp>
        <p:nvSpPr>
          <p:cNvPr id="368" name="Straight Connector 11"/>
          <p:cNvSpPr/>
          <p:nvPr/>
        </p:nvSpPr>
        <p:spPr>
          <a:xfrm flipV="1">
            <a:off x="4114800" y="1905120"/>
            <a:ext cx="2514600" cy="1676160"/>
          </a:xfrm>
          <a:prstGeom prst="line">
            <a:avLst/>
          </a:prstGeom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ybe 2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maybe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  <p:cxnSp>
        <p:nvCxnSpPr>
          <p:cNvPr id="372" name="Straight Arrow Connector 5"/>
          <p:cNvCxnSpPr/>
          <p:nvPr/>
        </p:nvCxnSpPr>
        <p:spPr>
          <a:xfrm>
            <a:off x="6629400" y="1905120"/>
            <a:ext cx="991440" cy="121968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373" name="Straight Arrow Connector 7"/>
          <p:cNvCxnSpPr/>
          <p:nvPr/>
        </p:nvCxnSpPr>
        <p:spPr>
          <a:xfrm>
            <a:off x="6628320" y="1904760"/>
            <a:ext cx="229320" cy="106740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  <p:sp>
        <p:nvSpPr>
          <p:cNvPr id="374" name="Straight Connector 11"/>
          <p:cNvSpPr/>
          <p:nvPr/>
        </p:nvSpPr>
        <p:spPr>
          <a:xfrm flipV="1">
            <a:off x="3429000" y="1904760"/>
            <a:ext cx="3200400" cy="2361960"/>
          </a:xfrm>
          <a:prstGeom prst="line">
            <a:avLst/>
          </a:prstGeom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9"/>
          <p:cNvCxnSpPr/>
          <p:nvPr/>
        </p:nvCxnSpPr>
        <p:spPr>
          <a:xfrm flipH="1">
            <a:off x="6248160" y="1904760"/>
            <a:ext cx="381600" cy="1905480"/>
          </a:xfrm>
          <a:prstGeom prst="straightConnector1">
            <a:avLst/>
          </a:prstGeom>
          <a:ln w="19080">
            <a:solidFill>
              <a:srgbClr val="66cc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aybe 2 bu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maybe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r explain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plain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d li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and dumped from a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plain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seful t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Co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elbourne Average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xplain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tura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seful t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(will develop l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eed more 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rcRect l="11507" t="28613" r="3288" b="14307"/>
          <a:stretch/>
        </p:blipFill>
        <p:spPr>
          <a:xfrm>
            <a:off x="4389480" y="2103480"/>
            <a:ext cx="4738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pplication:    Prob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under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pplication:    Prob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under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ous probability den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71800" y="1644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5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11" name="Straight Arrow Connector 7"/>
          <p:cNvCxnSpPr/>
          <p:nvPr/>
        </p:nvCxnSpPr>
        <p:spPr>
          <a:xfrm>
            <a:off x="2895120" y="2209320"/>
            <a:ext cx="3963240" cy="129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18" name="Straight Arrow Connector 9"/>
          <p:cNvCxnSpPr/>
          <p:nvPr/>
        </p:nvCxnSpPr>
        <p:spPr>
          <a:xfrm>
            <a:off x="6477120" y="2743200"/>
            <a:ext cx="915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19" name="Straight Connector 11"/>
          <p:cNvSpPr/>
          <p:nvPr/>
        </p:nvSpPr>
        <p:spPr>
          <a:xfrm>
            <a:off x="3581280" y="2133720"/>
            <a:ext cx="32004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 spaces: mean to inflection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6" name="Straight Arrow Connector 9"/>
          <p:cNvCxnSpPr/>
          <p:nvPr/>
        </p:nvCxnSpPr>
        <p:spPr>
          <a:xfrm>
            <a:off x="6477120" y="2743200"/>
            <a:ext cx="915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27" name="Straight Connector 11"/>
          <p:cNvSpPr/>
          <p:nvPr/>
        </p:nvSpPr>
        <p:spPr>
          <a:xfrm>
            <a:off x="3581280" y="2133720"/>
            <a:ext cx="32004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below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int on #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Straight Connector 6"/>
          <p:cNvSpPr/>
          <p:nvPr/>
        </p:nvSpPr>
        <p:spPr>
          <a:xfrm flipV="1">
            <a:off x="2971800" y="2133360"/>
            <a:ext cx="335268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traight Arrow Connector 11"/>
          <p:cNvCxnSpPr/>
          <p:nvPr/>
        </p:nvCxnSpPr>
        <p:spPr>
          <a:xfrm>
            <a:off x="6323400" y="2133720"/>
            <a:ext cx="76284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6" name="Rectangle 14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f(x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d li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and dumped from a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(worse) descrip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ll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Rectangle 14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2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0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2654280" y="4162320"/>
                <a:ext cx="17654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9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4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7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2666880" y="4162320"/>
                <a:ext cx="6096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dle:   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ementary anti-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2666880" y="4162320"/>
                <a:ext cx="6096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dle:   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ementary anti-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pproaches of subst., parts, …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5" name="Rectangle 9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2666880" y="4162320"/>
                <a:ext cx="6096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4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1.3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Riemann sum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2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209680" y="17622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Straight Connector 6"/>
          <p:cNvSpPr/>
          <p:nvPr/>
        </p:nvSpPr>
        <p:spPr>
          <a:xfrm flipV="1">
            <a:off x="1066680" y="2133360"/>
            <a:ext cx="388620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11"/>
          <p:cNvCxnSpPr/>
          <p:nvPr/>
        </p:nvCxnSpPr>
        <p:spPr>
          <a:xfrm>
            <a:off x="4952880" y="2133360"/>
            <a:ext cx="18295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Rectangle 8"/>
          <p:cNvSpPr/>
          <p:nvPr/>
        </p:nvSpPr>
        <p:spPr>
          <a:xfrm>
            <a:off x="4648320" y="4038480"/>
            <a:ext cx="4495680" cy="1143000"/>
          </a:xfrm>
          <a:prstGeom prst="rect">
            <a:avLst/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marron</dc:creator>
  <dc:description/>
  <dc:language>en-US</dc:language>
  <cp:lastModifiedBy>marron</cp:lastModifiedBy>
  <dcterms:modified xsi:type="dcterms:W3CDTF">2009-03-17T01:31:20Z</dcterms:modified>
  <cp:revision>1177</cp:revision>
  <dc:subject/>
  <dc:title>Slide 1</dc:title>
</cp:coreProperties>
</file>