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1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2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2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4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21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21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17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21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207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8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1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217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219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221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22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6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4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211.xml" ContentType="application/vnd.openxmlformats-officedocument.presentationml.notesSlide+xml"/>
  <Override PartName="/ppt/notesSlides/notesSlide209.xml" ContentType="application/vnd.openxmlformats-officedocument.presentationml.notesSlide+xml"/>
  <Override PartName="/ppt/notesSlides/notesSlide210.xml" ContentType="application/vnd.openxmlformats-officedocument.presentationml.notesSlide+xml"/>
  <Override PartName="/ppt/notesSlides/notesSlide208.xml" ContentType="application/vnd.openxmlformats-officedocument.presentationml.notesSlide+xml"/>
  <Override PartName="/ppt/notesSlides/notesSlide207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13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7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1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218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5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70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149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43.xml.rels" ContentType="application/vnd.openxmlformats-package.relationships+xml"/>
  <Override PartName="/ppt/slides/_rels/slide223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2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42.xml.rels" ContentType="application/vnd.openxmlformats-package.relationships+xml"/>
  <Override PartName="/ppt/slides/_rels/slide222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21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11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53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20.xml" ContentType="application/vnd.openxmlformats-officedocument.presentationml.slide+xml"/>
  <Override PartName="/ppt/slides/slide219.xml" ContentType="application/vnd.openxmlformats-officedocument.presentationml.slide+xml"/>
  <Override PartName="/ppt/slides/slide136.xml" ContentType="application/vnd.openxmlformats-officedocument.presentationml.slide+xml"/>
  <Override PartName="/ppt/slides/slide221.xml" ContentType="application/vnd.openxmlformats-officedocument.presentationml.slide+xml"/>
  <Override PartName="/ppt/slides/slide137.xml" ContentType="application/vnd.openxmlformats-officedocument.presentationml.slide+xml"/>
  <Override PartName="/ppt/slides/slide222.xml" ContentType="application/vnd.openxmlformats-officedocument.presentationml.slide+xml"/>
  <Override PartName="/ppt/slides/slide138.xml" ContentType="application/vnd.openxmlformats-officedocument.presentationml.slide+xml"/>
  <Override PartName="/ppt/slides/slide223.xml" ContentType="application/vnd.openxmlformats-officedocument.presentationml.slide+xml"/>
  <Override PartName="/ppt/slides/slide30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5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26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27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16.xml" ContentType="application/vnd.openxmlformats-officedocument.presentationml.slide+xml"/>
  <Override PartName="/ppt/slides/slide228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187.xml" ContentType="application/vnd.openxmlformats-officedocument.presentationml.slide+xml"/>
  <Override PartName="/ppt/slides/slide119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210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20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  <p:sldId id="451" r:id="rId200"/>
    <p:sldId id="452" r:id="rId201"/>
    <p:sldId id="453" r:id="rId202"/>
    <p:sldId id="454" r:id="rId203"/>
    <p:sldId id="455" r:id="rId204"/>
    <p:sldId id="456" r:id="rId205"/>
    <p:sldId id="457" r:id="rId206"/>
    <p:sldId id="458" r:id="rId207"/>
    <p:sldId id="459" r:id="rId208"/>
    <p:sldId id="460" r:id="rId209"/>
    <p:sldId id="461" r:id="rId210"/>
    <p:sldId id="462" r:id="rId211"/>
    <p:sldId id="463" r:id="rId212"/>
    <p:sldId id="464" r:id="rId213"/>
    <p:sldId id="465" r:id="rId214"/>
    <p:sldId id="466" r:id="rId215"/>
    <p:sldId id="467" r:id="rId216"/>
    <p:sldId id="468" r:id="rId217"/>
    <p:sldId id="469" r:id="rId218"/>
    <p:sldId id="470" r:id="rId219"/>
    <p:sldId id="471" r:id="rId220"/>
    <p:sldId id="472" r:id="rId221"/>
    <p:sldId id="473" r:id="rId222"/>
    <p:sldId id="474" r:id="rId223"/>
    <p:sldId id="475" r:id="rId224"/>
    <p:sldId id="476" r:id="rId225"/>
    <p:sldId id="477" r:id="rId226"/>
    <p:sldId id="478" r:id="rId227"/>
    <p:sldId id="479" r:id="rId228"/>
    <p:sldId id="480" r:id="rId229"/>
    <p:sldId id="481" r:id="rId230"/>
    <p:sldId id="482" r:id="rId231"/>
    <p:sldId id="483" r:id="rId2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slide" Target="slides/slide196.xml"/><Relationship Id="rId201" Type="http://schemas.openxmlformats.org/officeDocument/2006/relationships/slide" Target="slides/slide197.xml"/><Relationship Id="rId202" Type="http://schemas.openxmlformats.org/officeDocument/2006/relationships/slide" Target="slides/slide198.xml"/><Relationship Id="rId203" Type="http://schemas.openxmlformats.org/officeDocument/2006/relationships/slide" Target="slides/slide199.xml"/><Relationship Id="rId204" Type="http://schemas.openxmlformats.org/officeDocument/2006/relationships/slide" Target="slides/slide200.xml"/><Relationship Id="rId205" Type="http://schemas.openxmlformats.org/officeDocument/2006/relationships/slide" Target="slides/slide201.xml"/><Relationship Id="rId206" Type="http://schemas.openxmlformats.org/officeDocument/2006/relationships/slide" Target="slides/slide202.xml"/><Relationship Id="rId207" Type="http://schemas.openxmlformats.org/officeDocument/2006/relationships/slide" Target="slides/slide203.xml"/><Relationship Id="rId208" Type="http://schemas.openxmlformats.org/officeDocument/2006/relationships/slide" Target="slides/slide204.xml"/><Relationship Id="rId209" Type="http://schemas.openxmlformats.org/officeDocument/2006/relationships/slide" Target="slides/slide205.xml"/><Relationship Id="rId210" Type="http://schemas.openxmlformats.org/officeDocument/2006/relationships/slide" Target="slides/slide206.xml"/><Relationship Id="rId211" Type="http://schemas.openxmlformats.org/officeDocument/2006/relationships/slide" Target="slides/slide207.xml"/><Relationship Id="rId212" Type="http://schemas.openxmlformats.org/officeDocument/2006/relationships/slide" Target="slides/slide208.xml"/><Relationship Id="rId213" Type="http://schemas.openxmlformats.org/officeDocument/2006/relationships/slide" Target="slides/slide209.xml"/><Relationship Id="rId214" Type="http://schemas.openxmlformats.org/officeDocument/2006/relationships/slide" Target="slides/slide210.xml"/><Relationship Id="rId215" Type="http://schemas.openxmlformats.org/officeDocument/2006/relationships/slide" Target="slides/slide211.xml"/><Relationship Id="rId216" Type="http://schemas.openxmlformats.org/officeDocument/2006/relationships/slide" Target="slides/slide212.xml"/><Relationship Id="rId217" Type="http://schemas.openxmlformats.org/officeDocument/2006/relationships/slide" Target="slides/slide213.xml"/><Relationship Id="rId218" Type="http://schemas.openxmlformats.org/officeDocument/2006/relationships/slide" Target="slides/slide214.xml"/><Relationship Id="rId219" Type="http://schemas.openxmlformats.org/officeDocument/2006/relationships/slide" Target="slides/slide215.xml"/><Relationship Id="rId220" Type="http://schemas.openxmlformats.org/officeDocument/2006/relationships/slide" Target="slides/slide216.xml"/><Relationship Id="rId221" Type="http://schemas.openxmlformats.org/officeDocument/2006/relationships/slide" Target="slides/slide217.xml"/><Relationship Id="rId222" Type="http://schemas.openxmlformats.org/officeDocument/2006/relationships/slide" Target="slides/slide218.xml"/><Relationship Id="rId223" Type="http://schemas.openxmlformats.org/officeDocument/2006/relationships/slide" Target="slides/slide219.xml"/><Relationship Id="rId224" Type="http://schemas.openxmlformats.org/officeDocument/2006/relationships/slide" Target="slides/slide220.xml"/><Relationship Id="rId225" Type="http://schemas.openxmlformats.org/officeDocument/2006/relationships/slide" Target="slides/slide221.xml"/><Relationship Id="rId226" Type="http://schemas.openxmlformats.org/officeDocument/2006/relationships/slide" Target="slides/slide222.xml"/><Relationship Id="rId227" Type="http://schemas.openxmlformats.org/officeDocument/2006/relationships/slide" Target="slides/slide223.xml"/><Relationship Id="rId228" Type="http://schemas.openxmlformats.org/officeDocument/2006/relationships/slide" Target="slides/slide224.xml"/><Relationship Id="rId229" Type="http://schemas.openxmlformats.org/officeDocument/2006/relationships/slide" Target="slides/slide225.xml"/><Relationship Id="rId230" Type="http://schemas.openxmlformats.org/officeDocument/2006/relationships/slide" Target="slides/slide226.xml"/><Relationship Id="rId231" Type="http://schemas.openxmlformats.org/officeDocument/2006/relationships/slide" Target="slides/slide227.xml"/><Relationship Id="rId232" Type="http://schemas.openxmlformats.org/officeDocument/2006/relationships/slide" Target="slides/slide228.xml"/><Relationship Id="rId2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431A-5465-440D-9612-0DB480A6C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07.xml.rels><?xml version="1.0" encoding="UTF-8"?>
<Relationships xmlns="http://schemas.openxmlformats.org/package/2006/relationships"><Relationship Id="rId1" Type="http://schemas.openxmlformats.org/officeDocument/2006/relationships/slide" Target="../slides/slide207.xml"/><Relationship Id="rId2" Type="http://schemas.openxmlformats.org/officeDocument/2006/relationships/notesMaster" Target="../notesMasters/notesMaster1.xml"/>
</Relationships>
</file>

<file path=ppt/notesSlides/_rels/notesSlide208.xml.rels><?xml version="1.0" encoding="UTF-8"?>
<Relationships xmlns="http://schemas.openxmlformats.org/package/2006/relationships"><Relationship Id="rId1" Type="http://schemas.openxmlformats.org/officeDocument/2006/relationships/slide" Target="../slides/slide208.xml"/><Relationship Id="rId2" Type="http://schemas.openxmlformats.org/officeDocument/2006/relationships/notesMaster" Target="../notesMasters/notesMaster1.xml"/>
</Relationships>
</file>

<file path=ppt/notesSlides/_rels/notesSlide209.xml.rels><?xml version="1.0" encoding="UTF-8"?>
<Relationships xmlns="http://schemas.openxmlformats.org/package/2006/relationships"><Relationship Id="rId1" Type="http://schemas.openxmlformats.org/officeDocument/2006/relationships/slide" Target="../slides/slide20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10.xml.rels><?xml version="1.0" encoding="UTF-8"?>
<Relationships xmlns="http://schemas.openxmlformats.org/package/2006/relationships"><Relationship Id="rId1" Type="http://schemas.openxmlformats.org/officeDocument/2006/relationships/slide" Target="../slides/slide210.xml"/><Relationship Id="rId2" Type="http://schemas.openxmlformats.org/officeDocument/2006/relationships/notesMaster" Target="../notesMasters/notesMaster1.xml"/>
</Relationships>
</file>

<file path=ppt/notesSlides/_rels/notesSlide211.xml.rels><?xml version="1.0" encoding="UTF-8"?>
<Relationships xmlns="http://schemas.openxmlformats.org/package/2006/relationships"><Relationship Id="rId1" Type="http://schemas.openxmlformats.org/officeDocument/2006/relationships/slide" Target="../slides/slide211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4.xml.rels><?xml version="1.0" encoding="UTF-8"?>
<Relationships xmlns="http://schemas.openxmlformats.org/package/2006/relationships"><Relationship Id="rId1" Type="http://schemas.openxmlformats.org/officeDocument/2006/relationships/slide" Target="../slides/slide214.xml"/><Relationship Id="rId2" Type="http://schemas.openxmlformats.org/officeDocument/2006/relationships/notesMaster" Target="../notesMasters/notesMaster1.xml"/>
</Relationships>
</file>

<file path=ppt/notesSlides/_rels/notesSlide215.xml.rels><?xml version="1.0" encoding="UTF-8"?>
<Relationships xmlns="http://schemas.openxmlformats.org/package/2006/relationships"><Relationship Id="rId1" Type="http://schemas.openxmlformats.org/officeDocument/2006/relationships/slide" Target="../slides/slide215.xml"/><Relationship Id="rId2" Type="http://schemas.openxmlformats.org/officeDocument/2006/relationships/notesMaster" Target="../notesMasters/notesMaster1.xml"/>
</Relationships>
</file>

<file path=ppt/notesSlides/_rels/notesSlide216.xml.rels><?xml version="1.0" encoding="UTF-8"?>
<Relationships xmlns="http://schemas.openxmlformats.org/package/2006/relationships"><Relationship Id="rId1" Type="http://schemas.openxmlformats.org/officeDocument/2006/relationships/slide" Target="../slides/slide216.xml"/><Relationship Id="rId2" Type="http://schemas.openxmlformats.org/officeDocument/2006/relationships/notesMaster" Target="../notesMasters/notesMaster1.xml"/>
</Relationships>
</file>

<file path=ppt/notesSlides/_rels/notesSlide217.xml.rels><?xml version="1.0" encoding="UTF-8"?>
<Relationships xmlns="http://schemas.openxmlformats.org/package/2006/relationships"><Relationship Id="rId1" Type="http://schemas.openxmlformats.org/officeDocument/2006/relationships/slide" Target="../slides/slide217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19.xml.rels><?xml version="1.0" encoding="UTF-8"?>
<Relationships xmlns="http://schemas.openxmlformats.org/package/2006/relationships"><Relationship Id="rId1" Type="http://schemas.openxmlformats.org/officeDocument/2006/relationships/slide" Target="../slides/slide2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1.xml.rels><?xml version="1.0" encoding="UTF-8"?>
<Relationships xmlns="http://schemas.openxmlformats.org/package/2006/relationships"><Relationship Id="rId1" Type="http://schemas.openxmlformats.org/officeDocument/2006/relationships/slide" Target="../slides/slide221.xml"/><Relationship Id="rId2" Type="http://schemas.openxmlformats.org/officeDocument/2006/relationships/notesMaster" Target="../notesMasters/notesMaster1.xml"/>
</Relationships>
</file>

<file path=ppt/notesSlides/_rels/notesSlide222.xml.rels><?xml version="1.0" encoding="UTF-8"?>
<Relationships xmlns="http://schemas.openxmlformats.org/package/2006/relationships"><Relationship Id="rId1" Type="http://schemas.openxmlformats.org/officeDocument/2006/relationships/slide" Target="../slides/slide222.xml"/><Relationship Id="rId2" Type="http://schemas.openxmlformats.org/officeDocument/2006/relationships/notesMaster" Target="../notesMasters/notesMaster1.xml"/>
</Relationships>
</file>

<file path=ppt/notesSlides/_rels/notesSlide223.xml.rels><?xml version="1.0" encoding="UTF-8"?>
<Relationships xmlns="http://schemas.openxmlformats.org/package/2006/relationships"><Relationship Id="rId1" Type="http://schemas.openxmlformats.org/officeDocument/2006/relationships/slide" Target="../slides/slide223.xml"/><Relationship Id="rId2" Type="http://schemas.openxmlformats.org/officeDocument/2006/relationships/notesMaster" Target="../notesMasters/notesMaster1.xml"/>
</Relationships>
</file>

<file path=ppt/notesSlides/_rels/notesSlide224.xml.rels><?xml version="1.0" encoding="UTF-8"?>
<Relationships xmlns="http://schemas.openxmlformats.org/package/2006/relationships"><Relationship Id="rId1" Type="http://schemas.openxmlformats.org/officeDocument/2006/relationships/slide" Target="../slides/slide224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7D5B-77A9-40B7-AF53-6A63E446E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7EBF-2331-426D-86CB-094647F47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6513-C2C9-4B77-BF28-7D50BB848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BA49-374F-453A-B281-268762E80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EDC7-119A-4A3B-A35F-50089C302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E62B-E964-4C37-9CEB-2190C55FF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1976-E03E-449A-BF6B-35FB86DF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33B7-8112-433D-958D-21DF875B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5F39-A078-486B-96A0-7C62307B8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7999-B8AB-419D-86FF-F08EEFFFA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904C-1624-4615-9627-8B6E4F225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5607-AF42-4C26-B132-6C8B4F716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DDD7-A060-4FD1-A0CE-BF327B072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4A0C-B2F2-49A5-BFF1-F5FB99BDA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E286-DCB3-4020-A966-79757EDB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58CD-2131-4533-8C54-F00A2E3FB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937B-D15A-4C0E-B096-3BA773DA7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5039-3CD1-488F-B5B5-E24B8529B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309C-19CE-45E7-BD39-27D647497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3688-5321-44CD-B807-34551A2AA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1042-B59A-48F6-BD04-BB9F24FD5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AC4A-2D02-4970-B241-EB9EAD2C9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DA3C-DC45-4B3F-94C0-93FDCBB62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B8A7-02D2-4097-8BCC-ECD42FF25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DE69-6453-416F-8F24-5CBED2507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6BFC-3B7D-4CA2-B6D9-0A0840DF8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08B6-8879-4CEC-90B0-4B82B408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928C-6B9B-4734-B531-F33848E09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E812-11CF-4A41-9850-941ECDDB4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2D09-6601-46E5-8F0B-12EB17551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68F0-DE66-466F-930F-2566406B8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388A-9916-4A11-817A-33EE5F488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38C6-0255-41E4-838D-20FCA53F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AC68-D794-4DA8-9B18-786B49160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C2D7-D94E-4262-96A8-43F480BBE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6E85-5B68-423A-A312-1B97689A3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3EB3-7FD8-4E1A-B7CD-B60757FE2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F03A-7905-4513-BD35-CF3E56D53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82A1-9571-4F70-8A69-0DA716E4B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ACE8-DD4B-4789-A0FE-463F8A0D7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4631-861D-4C74-8654-E2C375293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4D4B-FD1C-43BF-A0D7-CF60B5A93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8D29-AC9E-4858-8FAB-D0EF9240F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FBFB-739C-4876-875F-C60F76160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0873-582B-4798-8FEF-DCB1C4AD3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A006-55FC-400E-B467-7215774BC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F292-F37C-4F78-8A05-154D803AE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42D4-7332-411C-9FF9-0EBC44224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852C-6AEE-470B-B693-22894D320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346F-0942-4455-A2D8-54E701A8B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8910-E4E9-4E9E-901F-105E364D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FECC-6CFB-4CEF-8D8C-68BE50E2C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BCCA-2C0B-477E-AA7B-5B37B66A3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A6F1-4316-4EBE-805B-2F32F4CCC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62DB-0C5D-4F09-921B-7813B1C0E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8566-0968-4330-8C68-FD9865B14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1FC0-836C-4579-B0F5-738985E87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3922-F88A-460D-8379-30B7085D1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33D2-DD29-426A-BEA0-1B9A7B553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51E3-E24A-4B26-A32D-3442A050F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2660-1662-45C3-950D-AF385BAC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8117-82D3-4B69-A9AD-0174C28C6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E5A4-AFD7-46CD-9F36-D8AE0AF9B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EA65-688C-47EF-9E65-5C672CCE2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90B8-0CBB-40EC-B630-E3CAF253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AECE-DD1C-4932-9C8B-0C9AEA64E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A9B2-5A2C-4244-B066-27D01B158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42A8-1D71-47C6-8BC4-4890301FD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05F1-C64C-4868-8768-4C79D9567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95A4-4750-49E4-94A4-E1D8BC857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1E24-16E5-4305-9F1C-B9CA47B02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CE68-82AB-42D6-B9A7-FB53F53B2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E381-F65A-4B51-819A-CC8625BF5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23EA-CBC4-4104-AF03-619F080B5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4E3F-33B1-4334-80F9-39C5E131B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B53F-35AC-4F48-BB65-FB6687B60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0AD3-3FC8-41B4-9589-94EF9BB16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A7A4-2152-489F-9EEB-B750EB9DD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A036-3BBF-4E0A-9490-5D2EA7664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10D1-8329-4BDE-92A2-8776EFE0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CFE3-8DDF-4465-BC9A-EA5CCED0F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0985-F08B-4A60-9A64-1C17B3A1D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FD3A-2D86-426B-8429-B0E120562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7A2A-D5DB-43AB-AB33-7A7EDFC2E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8E86-3253-4EFD-AD30-6387FE5E6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A528-6D02-4408-B81A-9046465B8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538D-B5A1-4292-8204-CE41A2932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DDAC-6F50-4F0E-9C9D-26BC2FE8E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76F9-1712-4BC6-A015-10A7D6E0D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9B69-D7F9-4C2C-A397-B792B7C64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9346-0395-4156-B6B4-AF6E8852C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994F-CF75-4583-A036-9FD3D5A8C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3DE0-5A56-4841-B96A-01F059011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D675-12BD-4759-9E33-3916364E8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4043-3C0D-4E19-9045-B2EB8B6EA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9FFB-2D55-4E80-94D0-ABB327ECB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6B9F-B7E6-4267-B597-A77389A19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F5DC-483F-4D2D-8354-EC8955A40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7A6E-BC02-43BB-AECA-974BCD947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04B9-75A1-4EB5-9D6D-310508CB4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AA2C-B7E3-416F-AF66-B4026F8AE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ABC3-6E35-482D-AD6F-1CB995820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F221-F7D2-4C2C-BF6C-338EBA0F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691A-A4D7-4803-8BC9-EE3B9D522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10DD-1EDC-4192-8ABD-C76E1CB5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6240-5159-4C4E-8674-95C9918F4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F5EA-06BE-4972-8878-7F38D836D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634A-CFF5-41B0-874F-A2BA1933E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E6D4-07D6-4BAC-97D4-1330BFA8F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6B10-3D8E-42CB-A258-AEE2EA9E9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417B-7BFA-4849-836D-7A9D2E4B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8ADC-B331-4F48-BA18-AE8E71871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F4D1-89B7-4644-BA5A-DF79802EB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0959-65B3-43F9-9755-32CA4DDC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E6CD-C686-495C-9000-F7DE731D6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C473-B9AB-41EA-958F-07534F749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24FD-1116-4524-8C58-C83517FB4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A2FF-582C-4B80-BAD8-67994BA38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24A8-6778-4C58-9C03-047DEF2F8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6D5-A4C2-4031-A651-F22359210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9074-6FB1-4581-86B6-85D5DA4B1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96F1-08AC-4740-9227-8A041D3A5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1B2D-D8D2-456A-9E2D-C939BA1C5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D9C4-FE6B-49B0-9C76-2157BD00C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1F10-D42D-4B93-A3A1-CC24CB15B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1E2E-446C-4E87-8FB8-1142E58D9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DB11-9A49-4513-8D40-3E28C4810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7439-1044-4CF2-ADAD-B6EF6FA3D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11F6-BF69-4E63-B074-D587C2C9E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C276-07FD-4971-9BAF-DDB5C8AB9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85BF-29D2-4A78-A683-3B213516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F007-1157-476D-B1DD-FC32525D8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6081-3354-473A-937A-C3805E13C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124B-8D92-40C2-9598-2B0684179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E7F9-FFBA-4BD2-B9B0-3766D3BF4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B611-3FC7-46DC-9CFA-80BC9765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07D6-209C-4F57-9D80-E2D04659B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083F-1E8E-4DBE-AFC0-5151D18E4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32BA-AEBB-4D05-A62A-6B718B75C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01C6-3045-4E0E-B580-973C14383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371A-4824-4B3D-8607-F1B61E3F9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CA57-B53C-4A3E-B298-2A40A16A5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989A-875F-49ED-A6F8-569DE58AF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B54B-A1A1-4C92-B750-4C8AD357F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2074-DB1C-4A72-9F10-1C42F2511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88A7-3257-4F27-98B1-C9C86832D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6446-1C73-438E-87E8-A9D07D6EC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9141-115F-44AD-91F1-DFEC3BE3C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72D0-9625-49F1-ACF6-8186BD28D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F419-46F6-472F-BACE-0163638E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B9DE-2195-4747-B6F5-5C43675EC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DD72-9392-4A4F-870D-0A629E856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97A1-87F1-4E93-B819-585E974E5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D9C1-4591-4151-9EF9-50DF8386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4EE3-0174-4495-84FE-3F72A58C7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14EE-2CC8-4842-8C09-559EBD7EA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68E6-198B-4578-A552-917F3A806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CF11-4F43-4F30-919F-F6FF0E7A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6B22-DC4C-4D38-9A69-C0509808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85B9-3BC3-4F96-869E-9A2C4A61C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738A-A546-48EA-BDB1-AF23A039B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86A1-8E83-4E6E-9FE7-8CA796AC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D069-40F9-41AF-A162-5E8E0647E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9ECB-0223-4DE8-B147-3EC2E5882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DC79-BE2C-451F-B937-4675FFB65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E018-B074-48BF-A2F5-A8B8CA66E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9F6A-D3B1-41A0-BFE1-1B7ECB566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5FAA-AA38-43F1-B89A-DBDCC441E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28ED-4904-41D3-A000-077A114C7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401F-29D0-46F2-ABA5-70A2C2C48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0ADA-E2EA-47C3-AFBF-2B3D21A06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8108-352E-4477-8F6F-C3C53AF3D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593B-D98F-4CA0-9536-89388BAEC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91CD-DC88-49F2-BA40-D5E588E93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AC2F-9A7F-4D83-9061-4E3943213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0E76-8850-41EE-88D7-816D5AC52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E0C0-867E-4AC5-B559-916102204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C461-B745-4493-AC9F-886A70C90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DA91-812E-45AC-B44C-49348A03E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0CAA-DDE5-427B-ADBE-147791AC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A5ED-5A54-4915-8BB3-BE67BD740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6643-1CEF-4602-88E7-394FD5768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B895-9C39-4307-873D-75B6731BA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1FD8-8114-489D-ADC9-A2DCD040F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6316-C557-4455-B7BF-01CA401E3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CAF0-F8D8-4DCE-BA7E-D8A5DFAF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AEAA-B111-441A-9167-A063106E5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7CF5-1B5C-442E-AD86-1B7EA384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09FD-EDE9-49FD-9207-D0C246927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8C5A-7B04-4B91-8ACF-6CF868104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3C33-2916-434E-8224-5A58B477A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FC92-070B-4575-BED9-FEA15AC81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1240-CD15-45F3-BA4B-698562930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6FAE-0026-4B78-9B05-589ED34AD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59C8-52AB-49EB-A6F2-94D43B77F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5CB9-1F53-45CD-8330-8303DE386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CB47-8C50-4A2B-AF8E-245805C35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2974-F45C-44EF-A9AD-CA9C72944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F2FC-10AB-4180-B83B-6E6601320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D2AC-2344-4ACB-8B42-D1C3DD77A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6008-2012-48ED-B290-722504D5E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D0BB-AB32-4A03-9E07-9E3A84240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F723-47E9-4F76-9EFE-6718B2B9A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D1FF-618E-45EC-95DE-E3C9EB651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DCB4-66E8-4F0B-BA0A-4765B9D3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9CB4-59C6-46E6-B00A-C18D79398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2183-E520-4383-8F86-ED5A68BBD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BC84-3D2E-4B1F-A6CC-1BA05610C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B435-7EFC-4963-B71A-AB9DEE20C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3076-1610-49CB-A6B0-EC90C431A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2E32-DA0B-4BE1-B2D8-1C7EE984A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31D7-5F69-4261-BCE2-E3DFF73A4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6C28-85A7-40B0-B232-FE32502A3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1F5E-61F7-4D97-9087-9779C27CE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8619-A4E5-4E8B-87AC-AF1E855FC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57AA-47F3-4633-89F8-0ECA36BC6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92AB-025A-428C-A4F7-A775277EB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3186-3BFD-4A5C-B5B6-08BA38742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2A30-88B0-4247-96A4-4860CFE1D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5CA0-548E-4A08-93D0-2C1A9D5BB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1A61-DC7C-4052-90CF-A23239874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8D5A-B75C-4D61-AAA7-F2D098B2C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DC41-6C53-47DE-BE1C-3806BFEB3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BE9F-409D-4DF5-9FA1-D20B378BD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B2CC-A435-4A40-BBEE-8590ED98D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627A-EE25-4D38-AFF2-C75EB850B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4928-C2C3-469A-8D77-3D9A80342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6C0F-1EF1-496D-A697-42E4E5905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A8C-006A-4610-BF5D-92CB4105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9C4-4676-4A78-B351-CC544191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664-BED6-4162-89E9-F864DAB1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8E9-6FEC-4B87-B10C-5811EE13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BCB3-9895-47F5-9A18-26A90742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DED6-5A60-488E-84D6-F5E88A7B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DC25-14B3-472F-82F5-80255503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C0B9-2003-4537-A835-6DB4C706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98E5-7178-441F-BE06-98081843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BF12-F5D8-417F-8E36-2674C529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6C5F-F254-4F66-9BBD-46A2C0F5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B1E-B3A8-47EC-B572-F0165269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36AA-28F5-404C-97B4-ECD80FDA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217E-7F22-4578-A1D5-54B9EF9D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3627-58B7-4531-AB4D-D70696FE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374A-DA2D-4738-90E3-79AE1222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AEEF-6483-4346-8756-CD9DF6D1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476-1641-4D0F-B210-B62B0A97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D2B-32D9-41CD-9643-5778AD74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60A-7E89-40FB-B200-D80BF06B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F8B-0737-4051-B671-22CA0E0C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E7A-4AA0-4560-A4CD-42EB7D23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D33-4FD8-4DD4-B724-C80C32C5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24A-A176-45FB-A39F-DD7F4A86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BB2-60A1-4CEE-8163-F9258F38C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6875-8A5E-482F-96A1-29781316A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hyperlink" Target="http://courses.bfwpub.com/ips6e.php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hyperlink" Target="http://www.cnn.com/video/#/video/us/2009/03/15/garcia.lucky.lady.wins.3.kusa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7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8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0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4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5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6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7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4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 interpretation of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probabilit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of #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Normal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les, i.e. Percen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computation:   NORMIN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diagnostic for norm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ut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Nor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heck with QQ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ither random sample set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mple Me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ritten in 3 w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3886200" y="236232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415" name="Straight Arrow Connector 4"/>
          <p:cNvCxnSpPr/>
          <p:nvPr/>
        </p:nvCxnSpPr>
        <p:spPr>
          <a:xfrm flipH="1" flipV="1">
            <a:off x="4266360" y="3276000"/>
            <a:ext cx="1143720" cy="144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Straight Arrow Connector 5"/>
          <p:cNvCxnSpPr/>
          <p:nvPr/>
        </p:nvCxnSpPr>
        <p:spPr>
          <a:xfrm flipH="1" flipV="1">
            <a:off x="4952520" y="3276000"/>
            <a:ext cx="457920" cy="144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7" name="Straight Arrow Connector 6"/>
          <p:cNvCxnSpPr/>
          <p:nvPr/>
        </p:nvCxnSpPr>
        <p:spPr>
          <a:xfrm flipV="1">
            <a:off x="5410080" y="3733200"/>
            <a:ext cx="61056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ither random sample set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nce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3886200" y="236232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421" name="Straight Arrow Connector 4"/>
          <p:cNvCxnSpPr/>
          <p:nvPr/>
        </p:nvCxnSpPr>
        <p:spPr>
          <a:xfrm flipV="1">
            <a:off x="3276720" y="3276360"/>
            <a:ext cx="838800" cy="2591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Straight Arrow Connector 6"/>
          <p:cNvCxnSpPr/>
          <p:nvPr/>
        </p:nvCxnSpPr>
        <p:spPr>
          <a:xfrm flipV="1">
            <a:off x="3276720" y="3657240"/>
            <a:ext cx="2591280" cy="22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5429160" y="137484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5429160" y="137160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3208320" y="2819520"/>
                <a:ext cx="2735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llow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arity of expected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5429160" y="137160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3208320" y="2819520"/>
                <a:ext cx="2735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llow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arity of expected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                  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3"/>
              <p:cNvSpPr txBox="1"/>
              <p:nvPr/>
            </p:nvSpPr>
            <p:spPr>
              <a:xfrm>
                <a:off x="5429160" y="137160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3"/>
              <p:cNvSpPr txBox="1"/>
              <p:nvPr/>
            </p:nvSpPr>
            <p:spPr>
              <a:xfrm>
                <a:off x="3208320" y="2819520"/>
                <a:ext cx="2735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4"/>
              <p:cNvSpPr txBox="1"/>
              <p:nvPr/>
            </p:nvSpPr>
            <p:spPr>
              <a:xfrm>
                <a:off x="1633680" y="5067360"/>
                <a:ext cx="58338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μ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 big surpri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5429160" y="137160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3208320" y="2819520"/>
                <a:ext cx="2735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3"/>
              <p:cNvSpPr txBox="1"/>
              <p:nvPr/>
            </p:nvSpPr>
            <p:spPr>
              <a:xfrm>
                <a:off x="5429160" y="137160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3"/>
              <p:cNvSpPr txBox="1"/>
              <p:nvPr/>
            </p:nvSpPr>
            <p:spPr>
              <a:xfrm>
                <a:off x="3208320" y="2819520"/>
                <a:ext cx="2735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4"/>
              <p:cNvSpPr txBox="1"/>
              <p:nvPr/>
            </p:nvSpPr>
            <p:spPr>
              <a:xfrm>
                <a:off x="3211560" y="3352680"/>
                <a:ext cx="41036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llow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arity of standard dev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3"/>
              <p:cNvSpPr txBox="1"/>
              <p:nvPr/>
            </p:nvSpPr>
            <p:spPr>
              <a:xfrm>
                <a:off x="5429160" y="137160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3208320" y="2819520"/>
                <a:ext cx="2735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4"/>
              <p:cNvSpPr txBox="1"/>
              <p:nvPr/>
            </p:nvSpPr>
            <p:spPr>
              <a:xfrm>
                <a:off x="3211560" y="3352680"/>
                <a:ext cx="41036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5429160" y="137160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3208320" y="2819520"/>
                <a:ext cx="2735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3211560" y="3352680"/>
                <a:ext cx="41036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58" name="Straight Arrow Connector 7"/>
          <p:cNvCxnSpPr/>
          <p:nvPr/>
        </p:nvCxnSpPr>
        <p:spPr>
          <a:xfrm flipV="1">
            <a:off x="5867280" y="4419360"/>
            <a:ext cx="61056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-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120" name="Straight Arrow Connector 6"/>
          <p:cNvCxnSpPr/>
          <p:nvPr/>
        </p:nvCxnSpPr>
        <p:spPr>
          <a:xfrm>
            <a:off x="2437920" y="2286000"/>
            <a:ext cx="5411160" cy="1372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 expected, but now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if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5429160" y="137160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3208320" y="2819520"/>
                <a:ext cx="2735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4"/>
              <p:cNvSpPr txBox="1"/>
              <p:nvPr/>
            </p:nvSpPr>
            <p:spPr>
              <a:xfrm>
                <a:off x="3211560" y="3352680"/>
                <a:ext cx="41036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64" name="Straight Arrow Connector 7"/>
          <p:cNvCxnSpPr/>
          <p:nvPr/>
        </p:nvCxnSpPr>
        <p:spPr>
          <a:xfrm flipV="1">
            <a:off x="5867280" y="4419360"/>
            <a:ext cx="61056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5429160" y="137160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3208320" y="2819520"/>
                <a:ext cx="2735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4"/>
              <p:cNvSpPr txBox="1"/>
              <p:nvPr/>
            </p:nvSpPr>
            <p:spPr>
              <a:xfrm>
                <a:off x="3211560" y="3352680"/>
                <a:ext cx="41036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70" name="Straight Arrow Connector 7"/>
          <p:cNvCxnSpPr/>
          <p:nvPr/>
        </p:nvCxnSpPr>
        <p:spPr>
          <a:xfrm flipV="1">
            <a:off x="5867280" y="4419360"/>
            <a:ext cx="61056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decrease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quar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5429160" y="137160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3"/>
              <p:cNvSpPr txBox="1"/>
              <p:nvPr/>
            </p:nvSpPr>
            <p:spPr>
              <a:xfrm>
                <a:off x="3208320" y="2819520"/>
                <a:ext cx="2735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4"/>
              <p:cNvSpPr txBox="1"/>
              <p:nvPr/>
            </p:nvSpPr>
            <p:spPr>
              <a:xfrm>
                <a:off x="3211560" y="3352680"/>
                <a:ext cx="41036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76" name="Straight Arrow Connector 7"/>
          <p:cNvCxnSpPr/>
          <p:nvPr/>
        </p:nvCxnSpPr>
        <p:spPr>
          <a:xfrm flipV="1">
            <a:off x="6323400" y="4647600"/>
            <a:ext cx="3819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decrease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quar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3208320" y="1181160"/>
                <a:ext cx="2735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3211560" y="1797120"/>
                <a:ext cx="410364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81" name="Straight Arrow Connector 7"/>
          <p:cNvCxnSpPr/>
          <p:nvPr/>
        </p:nvCxnSpPr>
        <p:spPr>
          <a:xfrm flipV="1">
            <a:off x="6172200" y="3123720"/>
            <a:ext cx="4579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decrease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quar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g of 100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3"/>
              <p:cNvSpPr txBox="1"/>
              <p:nvPr/>
            </p:nvSpPr>
            <p:spPr>
              <a:xfrm>
                <a:off x="3208320" y="1181160"/>
                <a:ext cx="2735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3211560" y="1797120"/>
                <a:ext cx="410364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86" name="Straight Arrow Connector 7"/>
          <p:cNvCxnSpPr/>
          <p:nvPr/>
        </p:nvCxnSpPr>
        <p:spPr>
          <a:xfrm flipV="1">
            <a:off x="6172200" y="3123720"/>
            <a:ext cx="4579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decrease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quar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g of 100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0 ti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3"/>
              <p:cNvSpPr txBox="1"/>
              <p:nvPr/>
            </p:nvSpPr>
            <p:spPr>
              <a:xfrm>
                <a:off x="3208320" y="1181160"/>
                <a:ext cx="2735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4"/>
              <p:cNvSpPr txBox="1"/>
              <p:nvPr/>
            </p:nvSpPr>
            <p:spPr>
              <a:xfrm>
                <a:off x="3211560" y="1797120"/>
                <a:ext cx="410364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91" name="Straight Arrow Connector 7"/>
          <p:cNvCxnSpPr/>
          <p:nvPr/>
        </p:nvCxnSpPr>
        <p:spPr>
          <a:xfrm flipV="1">
            <a:off x="6172200" y="3123720"/>
            <a:ext cx="4579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Averages, Part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Averages, Part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ing increases accura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Averages, Part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ing increases accura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acto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"/>
              <p:cNvSpPr txBox="1"/>
              <p:nvPr/>
            </p:nvSpPr>
            <p:spPr>
              <a:xfrm>
                <a:off x="6435720" y="2666880"/>
                <a:ext cx="650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42  (94.9, 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46  (60, 7.59, 6, 0.75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-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r N(xbar,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Arrow Connector 6"/>
          <p:cNvCxnSpPr/>
          <p:nvPr/>
        </p:nvCxnSpPr>
        <p:spPr>
          <a:xfrm>
            <a:off x="2437920" y="2286000"/>
            <a:ext cx="5411160" cy="1372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Averages, Part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ing increases accura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acto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Illustration:   Stats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urses.bfwpub.com/ips6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“Law of Large Numbers”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 Internet Explo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4"/>
              <p:cNvSpPr txBox="1"/>
              <p:nvPr/>
            </p:nvSpPr>
            <p:spPr>
              <a:xfrm>
                <a:off x="6435720" y="2666880"/>
                <a:ext cx="650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sPort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w of Large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rcRect l="7767" t="40906" r="6214" b="7670"/>
          <a:stretch/>
        </p:blipFill>
        <p:spPr>
          <a:xfrm>
            <a:off x="2562120" y="2076480"/>
            <a:ext cx="6581880" cy="4781520"/>
          </a:xfrm>
          <a:prstGeom prst="rect">
            <a:avLst/>
          </a:prstGeom>
          <a:ln w="0">
            <a:noFill/>
          </a:ln>
        </p:spPr>
      </p:pic>
      <p:cxnSp>
        <p:nvCxnSpPr>
          <p:cNvPr id="507" name="Straight Arrow Connector 6"/>
          <p:cNvCxnSpPr/>
          <p:nvPr/>
        </p:nvCxnSpPr>
        <p:spPr>
          <a:xfrm flipV="1">
            <a:off x="1905120" y="2590200"/>
            <a:ext cx="9151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8" name="Straight Arrow Connector 7"/>
          <p:cNvCxnSpPr/>
          <p:nvPr/>
        </p:nvCxnSpPr>
        <p:spPr>
          <a:xfrm>
            <a:off x="3352320" y="2514240"/>
            <a:ext cx="20577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sPort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w of Large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d 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rcRect l="7767" t="40906" r="6214" b="7670"/>
          <a:stretch/>
        </p:blipFill>
        <p:spPr>
          <a:xfrm>
            <a:off x="2562120" y="2076480"/>
            <a:ext cx="6581880" cy="4781520"/>
          </a:xfrm>
          <a:prstGeom prst="rect">
            <a:avLst/>
          </a:prstGeom>
          <a:ln w="0">
            <a:noFill/>
          </a:ln>
        </p:spPr>
      </p:pic>
      <p:cxnSp>
        <p:nvCxnSpPr>
          <p:cNvPr id="512" name="Straight Arrow Connector 6"/>
          <p:cNvCxnSpPr/>
          <p:nvPr/>
        </p:nvCxnSpPr>
        <p:spPr>
          <a:xfrm flipV="1">
            <a:off x="1905120" y="2590200"/>
            <a:ext cx="9151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Straight Arrow Connector 7"/>
          <p:cNvCxnSpPr/>
          <p:nvPr/>
        </p:nvCxnSpPr>
        <p:spPr>
          <a:xfrm flipV="1">
            <a:off x="2133720" y="2590560"/>
            <a:ext cx="3658320" cy="175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sPort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w of Large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nd 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rcRect l="7767" t="40906" r="6214" b="7670"/>
          <a:stretch/>
        </p:blipFill>
        <p:spPr>
          <a:xfrm>
            <a:off x="2562120" y="2076480"/>
            <a:ext cx="6581880" cy="4781520"/>
          </a:xfrm>
          <a:prstGeom prst="rect">
            <a:avLst/>
          </a:prstGeom>
          <a:ln w="0">
            <a:noFill/>
          </a:ln>
        </p:spPr>
      </p:pic>
      <p:cxnSp>
        <p:nvCxnSpPr>
          <p:cNvPr id="517" name="Straight Arrow Connector 6"/>
          <p:cNvCxnSpPr/>
          <p:nvPr/>
        </p:nvCxnSpPr>
        <p:spPr>
          <a:xfrm flipV="1">
            <a:off x="1905120" y="2590200"/>
            <a:ext cx="9151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8" name="Straight Arrow Connector 7"/>
          <p:cNvCxnSpPr/>
          <p:nvPr/>
        </p:nvCxnSpPr>
        <p:spPr>
          <a:xfrm flipV="1">
            <a:off x="2133720" y="3504960"/>
            <a:ext cx="403920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sPort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w of Large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r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rcRect l="7767" t="40906" r="6214" b="7670"/>
          <a:stretch/>
        </p:blipFill>
        <p:spPr>
          <a:xfrm>
            <a:off x="2562120" y="2076480"/>
            <a:ext cx="6581880" cy="4781520"/>
          </a:xfrm>
          <a:prstGeom prst="rect">
            <a:avLst/>
          </a:prstGeom>
          <a:ln w="0">
            <a:noFill/>
          </a:ln>
        </p:spPr>
      </p:pic>
      <p:cxnSp>
        <p:nvCxnSpPr>
          <p:cNvPr id="522" name="Straight Arrow Connector 7"/>
          <p:cNvCxnSpPr/>
          <p:nvPr/>
        </p:nvCxnSpPr>
        <p:spPr>
          <a:xfrm flipV="1">
            <a:off x="2133720" y="3580560"/>
            <a:ext cx="586800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sPort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w of Large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r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rcRect l="7767" t="40906" r="6214" b="7670"/>
          <a:stretch/>
        </p:blipFill>
        <p:spPr>
          <a:xfrm>
            <a:off x="2562120" y="2076480"/>
            <a:ext cx="6581880" cy="4781520"/>
          </a:xfrm>
          <a:prstGeom prst="rect">
            <a:avLst/>
          </a:prstGeom>
          <a:ln w="0">
            <a:noFill/>
          </a:ln>
        </p:spPr>
      </p:pic>
      <p:cxnSp>
        <p:nvCxnSpPr>
          <p:cNvPr id="526" name="Straight Arrow Connector 7"/>
          <p:cNvCxnSpPr/>
          <p:nvPr/>
        </p:nvCxnSpPr>
        <p:spPr>
          <a:xfrm flipV="1">
            <a:off x="2133360" y="3809520"/>
            <a:ext cx="48013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sPort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w of Large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 r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rcRect l="7767" t="40906" r="6214" b="7670"/>
          <a:stretch/>
        </p:blipFill>
        <p:spPr>
          <a:xfrm>
            <a:off x="2562120" y="2076480"/>
            <a:ext cx="6581880" cy="4781520"/>
          </a:xfrm>
          <a:prstGeom prst="rect">
            <a:avLst/>
          </a:prstGeom>
          <a:ln w="0">
            <a:noFill/>
          </a:ln>
        </p:spPr>
      </p:pic>
      <p:cxnSp>
        <p:nvCxnSpPr>
          <p:cNvPr id="530" name="Straight Arrow Connector 7"/>
          <p:cNvCxnSpPr/>
          <p:nvPr/>
        </p:nvCxnSpPr>
        <p:spPr>
          <a:xfrm flipV="1">
            <a:off x="2133360" y="3885840"/>
            <a:ext cx="66301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sPort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w of Large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8 r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rcRect l="7767" t="40906" r="6214" b="7670"/>
          <a:stretch/>
        </p:blipFill>
        <p:spPr>
          <a:xfrm>
            <a:off x="2562120" y="2076480"/>
            <a:ext cx="6581880" cy="4781520"/>
          </a:xfrm>
          <a:prstGeom prst="rect">
            <a:avLst/>
          </a:prstGeom>
          <a:ln w="0">
            <a:noFill/>
          </a:ln>
        </p:spPr>
      </p:pic>
      <p:cxnSp>
        <p:nvCxnSpPr>
          <p:cNvPr id="534" name="Straight Arrow Connector 7"/>
          <p:cNvCxnSpPr/>
          <p:nvPr/>
        </p:nvCxnSpPr>
        <p:spPr>
          <a:xfrm flipV="1">
            <a:off x="2133360" y="3809520"/>
            <a:ext cx="609660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sPort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w of Large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= 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rcRect l="7767" t="40906" r="6214" b="7670"/>
          <a:stretch/>
        </p:blipFill>
        <p:spPr>
          <a:xfrm>
            <a:off x="2562120" y="2076480"/>
            <a:ext cx="6581880" cy="4781520"/>
          </a:xfrm>
          <a:prstGeom prst="rect">
            <a:avLst/>
          </a:prstGeom>
          <a:ln w="0">
            <a:noFill/>
          </a:ln>
        </p:spPr>
      </p:pic>
      <p:cxnSp>
        <p:nvCxnSpPr>
          <p:cNvPr id="538" name="Straight Arrow Connector 7"/>
          <p:cNvCxnSpPr/>
          <p:nvPr/>
        </p:nvCxnSpPr>
        <p:spPr>
          <a:xfrm>
            <a:off x="2209320" y="3733920"/>
            <a:ext cx="29725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sPort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w of Large 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= 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rcRect l="7767" t="40906" r="6214" b="7670"/>
          <a:stretch/>
        </p:blipFill>
        <p:spPr>
          <a:xfrm>
            <a:off x="2562120" y="2076480"/>
            <a:ext cx="6581880" cy="4781520"/>
          </a:xfrm>
          <a:prstGeom prst="rect">
            <a:avLst/>
          </a:prstGeom>
          <a:ln w="0">
            <a:noFill/>
          </a:ln>
        </p:spPr>
      </p:pic>
      <p:cxnSp>
        <p:nvCxnSpPr>
          <p:cNvPr id="542" name="Straight Arrow Connector 7"/>
          <p:cNvCxnSpPr/>
          <p:nvPr/>
        </p:nvCxnSpPr>
        <p:spPr>
          <a:xfrm flipV="1">
            <a:off x="2209320" y="3961800"/>
            <a:ext cx="403956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-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r N(xbar,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verlay 45</a:t>
            </a:r>
            <a:r>
              <a:rPr b="0" lang="en-US" sz="3200" spc="-1" strike="noStrike" baseline="30000">
                <a:solidFill>
                  <a:srgbClr val="66cc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128" name="Straight Arrow Connector 6"/>
          <p:cNvCxnSpPr/>
          <p:nvPr/>
        </p:nvCxnSpPr>
        <p:spPr>
          <a:xfrm>
            <a:off x="3886200" y="3733560"/>
            <a:ext cx="3201120" cy="11437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more use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quantification com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quantification com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1371600" y="2895480"/>
                <a:ext cx="2711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quantification com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                       is chance of 2-dig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2"/>
              <p:cNvSpPr txBox="1"/>
              <p:nvPr/>
            </p:nvSpPr>
            <p:spPr>
              <a:xfrm>
                <a:off x="1371600" y="2895480"/>
                <a:ext cx="2711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quantification com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                       is chance of 2-dig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e will do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2"/>
              <p:cNvSpPr txBox="1"/>
              <p:nvPr/>
            </p:nvSpPr>
            <p:spPr>
              <a:xfrm>
                <a:off x="1371600" y="2895480"/>
                <a:ext cx="2711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quantification com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                       is chance of 2-dig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e will do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s requir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2"/>
              <p:cNvSpPr txBox="1"/>
              <p:nvPr/>
            </p:nvSpPr>
            <p:spPr>
              <a:xfrm>
                <a:off x="1371600" y="2895480"/>
                <a:ext cx="2711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6692760" y="4648320"/>
                <a:ext cx="4701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quantification com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                       is chance of 2-dig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e will do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s requir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summary of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2"/>
              <p:cNvSpPr txBox="1"/>
              <p:nvPr/>
            </p:nvSpPr>
            <p:spPr>
              <a:xfrm>
                <a:off x="1371600" y="2895480"/>
                <a:ext cx="2711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6692760" y="4648320"/>
                <a:ext cx="4701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564" name="Straight Arrow Connector 6"/>
          <p:cNvCxnSpPr/>
          <p:nvPr/>
        </p:nvCxnSpPr>
        <p:spPr>
          <a:xfrm flipV="1">
            <a:off x="3048120" y="5180760"/>
            <a:ext cx="129600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f finding distribution of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6477120" y="3535200"/>
                <a:ext cx="469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2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dom variable 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2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74" name="Straight Arrow Connector 4"/>
          <p:cNvCxnSpPr/>
          <p:nvPr/>
        </p:nvCxnSpPr>
        <p:spPr>
          <a:xfrm flipV="1">
            <a:off x="1752120" y="1675800"/>
            <a:ext cx="76284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5" name="Straight Arrow Connector 5"/>
          <p:cNvCxnSpPr/>
          <p:nvPr/>
        </p:nvCxnSpPr>
        <p:spPr>
          <a:xfrm flipV="1">
            <a:off x="1752480" y="1675800"/>
            <a:ext cx="190584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-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r N(xbar,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verlay 45</a:t>
            </a:r>
            <a:r>
              <a:rPr b="0" lang="en-US" sz="3200" spc="-1" strike="noStrike" baseline="30000">
                <a:solidFill>
                  <a:srgbClr val="66cc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elps ass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how linear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132" name="Straight Arrow Connector 6"/>
          <p:cNvCxnSpPr/>
          <p:nvPr/>
        </p:nvCxnSpPr>
        <p:spPr>
          <a:xfrm>
            <a:off x="3886200" y="3733560"/>
            <a:ext cx="3201120" cy="11437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dom variable 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(mound shaped) probabilit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2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79" name="Straight Arrow Connector 4"/>
          <p:cNvCxnSpPr/>
          <p:nvPr/>
        </p:nvCxnSpPr>
        <p:spPr>
          <a:xfrm flipV="1">
            <a:off x="2285640" y="1676160"/>
            <a:ext cx="2439000" cy="12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dom variable 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(mound shaped) probabilit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modeled by norm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83" name="Straight Arrow Connector 4"/>
          <p:cNvCxnSpPr/>
          <p:nvPr/>
        </p:nvCxnSpPr>
        <p:spPr>
          <a:xfrm flipV="1">
            <a:off x="4494600" y="1676160"/>
            <a:ext cx="38196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dom variable 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(mound shaped) probabilit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modeled by norm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ed at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2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87" name="Straight Arrow Connector 5"/>
          <p:cNvCxnSpPr/>
          <p:nvPr/>
        </p:nvCxnSpPr>
        <p:spPr>
          <a:xfrm flipV="1">
            <a:off x="2361960" y="1675800"/>
            <a:ext cx="2972520" cy="2362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dom variable 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(mound shaped) probabilit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modeled by norm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ed at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pread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2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91" name="Straight Arrow Connector 5"/>
          <p:cNvCxnSpPr/>
          <p:nvPr/>
        </p:nvCxnSpPr>
        <p:spPr>
          <a:xfrm flipV="1">
            <a:off x="2895480" y="1675800"/>
            <a:ext cx="2896560" cy="289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dom variable 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(mound shaped) probabilit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modeled by norm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ed at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pread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heck by looking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2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dom variable 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(mound shaped) probabilit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modeled by norm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ed at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pread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heck by looking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2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dom variable 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(mound shaped) probabilit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modeled by norm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ed at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pread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heck by looking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-Q Plot   (prefer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2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Averages,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3"/>
              <p:cNvSpPr txBox="1"/>
              <p:nvPr/>
            </p:nvSpPr>
            <p:spPr>
              <a:xfrm>
                <a:off x="3581280" y="1905120"/>
                <a:ext cx="36673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4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part is normal shape of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Object 3"/>
              <p:cNvSpPr txBox="1"/>
              <p:nvPr/>
            </p:nvSpPr>
            <p:spPr>
              <a:xfrm>
                <a:off x="3581280" y="1905120"/>
                <a:ext cx="36673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608" name="Straight Arrow Connector 6"/>
          <p:cNvCxnSpPr/>
          <p:nvPr/>
        </p:nvCxnSpPr>
        <p:spPr>
          <a:xfrm flipV="1">
            <a:off x="3809880" y="2742840"/>
            <a:ext cx="1524960" cy="205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609" name="Object 4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part is normal shape of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&amp; s.d. were computed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3"/>
              <p:cNvSpPr txBox="1"/>
              <p:nvPr/>
            </p:nvSpPr>
            <p:spPr>
              <a:xfrm>
                <a:off x="3581280" y="1905120"/>
                <a:ext cx="36673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613" name="Straight Arrow Connector 6"/>
          <p:cNvCxnSpPr/>
          <p:nvPr/>
        </p:nvCxnSpPr>
        <p:spPr>
          <a:xfrm flipV="1">
            <a:off x="1676160" y="2819160"/>
            <a:ext cx="4191480" cy="2591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614" name="Object 4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615" name="Straight Arrow Connector 9"/>
          <p:cNvCxnSpPr/>
          <p:nvPr/>
        </p:nvCxnSpPr>
        <p:spPr>
          <a:xfrm flipV="1">
            <a:off x="2819160" y="3047400"/>
            <a:ext cx="3429720" cy="2362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s this cur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suggests non-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can compute probabilitie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3581280" y="1905120"/>
                <a:ext cx="36673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4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can compute probabilities, etc.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3"/>
              <p:cNvSpPr txBox="1"/>
              <p:nvPr/>
            </p:nvSpPr>
            <p:spPr>
              <a:xfrm>
                <a:off x="3581280" y="1905120"/>
                <a:ext cx="36673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4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can compute probabilities, etc.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e will do this a l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3"/>
              <p:cNvSpPr txBox="1"/>
              <p:nvPr/>
            </p:nvSpPr>
            <p:spPr>
              <a:xfrm>
                <a:off x="3581280" y="1905120"/>
                <a:ext cx="36673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2209680" y="1104840"/>
                <a:ext cx="4102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rmer claims his pigs have normally distributed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s our calculation do-able using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, will soon see not essent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rmer claims his pigs have normally distributed weights, which are 900 lbs on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at can expect on average,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rmer claims his pigs have normally distributed weights, which are 900 lbs on average, with standard deviation 30 lb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xpresses sampling variation,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rmer claims his pigs have normally distributed weights, which are 900 lbs on average, with standard deviation 30 lbs.  If a sample of 9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t’s investigate cla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rmer claims his pigs have normally distributed weights, which are 900 lbs on average, with standard deviation 30 lbs.  If a sample of 9 pigs shows an average of 885 l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ms smaller??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rmer claims his pigs have normally distributed weights, which are 900 lbs on average, with standard deviation 30 lbs.  If a sample of 9 pigs shows an average of 885 lbs, can we conclude claim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unds 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rmer claims his pigs have normally distributed weights, which are 900 lbs on average, with standard deviation 30 lbs.  If a sample of 9 pigs shows an average of 885 lbs, can we conclude claim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e overall averag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rick of algebra: give unknown a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s this cur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just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f natura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rmer claims his pigs have normally distributed weights, which are 900 lbs on average, with standard deviation 30 lbs.  If a sample of 9 pigs shows an average of 885 lbs, can we conclude claim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e overall averag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rmer claims his pigs have normally distributed weights, which are 900 lbs on average, with standard deviation 30 lbs.  If a sample of 9 pigs shows an average of 885 lbs, can we conclude claim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e overall averag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1-sided vs. 2-sided iss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rmer claims his pigs have normally distributed weights, which are 900 lbs on average, with standard deviation 30 lbs.  If a sample of 9 pigs shows an average of 885 lbs, can we conclude claim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e overall averag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1-sided vs. 2-sided iss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ere s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t small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rmer claims his pigs have normally distributed weights, which are 900 lbs on average, with standard deviation 30 lbs.  If a sample of 9 pigs shows an average of 885 lbs, can we conclude claim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e overall averag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2"/>
              <p:cNvSpPr txBox="1"/>
              <p:nvPr/>
            </p:nvSpPr>
            <p:spPr>
              <a:xfrm>
                <a:off x="4952880" y="595476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lu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60" name="Straight Arrow Connector 5"/>
          <p:cNvCxnSpPr/>
          <p:nvPr/>
        </p:nvCxnSpPr>
        <p:spPr>
          <a:xfrm flipH="1" flipV="1">
            <a:off x="4723920" y="3504960"/>
            <a:ext cx="610560" cy="175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Carefully (common source of mistak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Carefu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s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xp’t) g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Straight Connector 8"/>
          <p:cNvSpPr/>
          <p:nvPr/>
        </p:nvSpPr>
        <p:spPr>
          <a:xfrm flipH="1" flipV="1">
            <a:off x="3581280" y="4266720"/>
            <a:ext cx="381024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9"/>
          <p:cNvSpPr/>
          <p:nvPr/>
        </p:nvSpPr>
        <p:spPr>
          <a:xfrm flipV="1">
            <a:off x="3581280" y="4038120"/>
            <a:ext cx="1371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12"/>
          <p:cNvSpPr/>
          <p:nvPr/>
        </p:nvSpPr>
        <p:spPr>
          <a:xfrm>
            <a:off x="1905120" y="4038480"/>
            <a:ext cx="16761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s this cur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just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f natura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pproach: 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imul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Carefu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s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xp’t) g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s about pop’n (H’s) g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Straight Connector 8"/>
          <p:cNvSpPr/>
          <p:nvPr/>
        </p:nvSpPr>
        <p:spPr>
          <a:xfrm flipH="1" flipV="1">
            <a:off x="6019920" y="4266720"/>
            <a:ext cx="137160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9"/>
          <p:cNvSpPr/>
          <p:nvPr/>
        </p:nvSpPr>
        <p:spPr>
          <a:xfrm flipV="1">
            <a:off x="6019920" y="39625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15"/>
          <p:cNvSpPr/>
          <p:nvPr/>
        </p:nvSpPr>
        <p:spPr>
          <a:xfrm flipH="1" flipV="1">
            <a:off x="5333760" y="4038120"/>
            <a:ext cx="6858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w use number line to find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Straight Connector 6"/>
          <p:cNvSpPr/>
          <p:nvPr/>
        </p:nvSpPr>
        <p:spPr>
          <a:xfrm>
            <a:off x="1295280" y="510552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7"/>
          <p:cNvSpPr/>
          <p:nvPr/>
        </p:nvSpPr>
        <p:spPr>
          <a:xfrm flipV="1">
            <a:off x="4799160" y="4954680"/>
            <a:ext cx="288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10"/>
          <p:cNvSpPr/>
          <p:nvPr/>
        </p:nvSpPr>
        <p:spPr>
          <a:xfrm flipV="1">
            <a:off x="723744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traight Connector 11"/>
          <p:cNvSpPr/>
          <p:nvPr/>
        </p:nvSpPr>
        <p:spPr>
          <a:xfrm flipV="1">
            <a:off x="5637960" y="495252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traight Connector 12"/>
          <p:cNvSpPr/>
          <p:nvPr/>
        </p:nvSpPr>
        <p:spPr>
          <a:xfrm flipV="1">
            <a:off x="6474600" y="495252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13"/>
          <p:cNvSpPr/>
          <p:nvPr/>
        </p:nvSpPr>
        <p:spPr>
          <a:xfrm flipV="1">
            <a:off x="228600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4"/>
          <p:cNvSpPr/>
          <p:nvPr/>
        </p:nvSpPr>
        <p:spPr>
          <a:xfrm flipV="1">
            <a:off x="312264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traight Connector 15"/>
          <p:cNvSpPr/>
          <p:nvPr/>
        </p:nvSpPr>
        <p:spPr>
          <a:xfrm flipV="1">
            <a:off x="396252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85                900               9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es center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Straight Connector 6"/>
          <p:cNvSpPr/>
          <p:nvPr/>
        </p:nvSpPr>
        <p:spPr>
          <a:xfrm>
            <a:off x="1295280" y="510552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7"/>
          <p:cNvSpPr/>
          <p:nvPr/>
        </p:nvSpPr>
        <p:spPr>
          <a:xfrm flipV="1">
            <a:off x="4799160" y="4954680"/>
            <a:ext cx="288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10"/>
          <p:cNvSpPr/>
          <p:nvPr/>
        </p:nvSpPr>
        <p:spPr>
          <a:xfrm flipV="1">
            <a:off x="723744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1"/>
          <p:cNvSpPr/>
          <p:nvPr/>
        </p:nvSpPr>
        <p:spPr>
          <a:xfrm flipV="1">
            <a:off x="5637960" y="495252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12"/>
          <p:cNvSpPr/>
          <p:nvPr/>
        </p:nvSpPr>
        <p:spPr>
          <a:xfrm flipV="1">
            <a:off x="6474600" y="495252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traight Connector 13"/>
          <p:cNvSpPr/>
          <p:nvPr/>
        </p:nvSpPr>
        <p:spPr>
          <a:xfrm flipV="1">
            <a:off x="228600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14"/>
          <p:cNvSpPr/>
          <p:nvPr/>
        </p:nvSpPr>
        <p:spPr>
          <a:xfrm flipV="1">
            <a:off x="312264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15"/>
          <p:cNvSpPr/>
          <p:nvPr/>
        </p:nvSpPr>
        <p:spPr>
          <a:xfrm flipV="1">
            <a:off x="396252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Straight Arrow Connector 17"/>
          <p:cNvCxnSpPr/>
          <p:nvPr/>
        </p:nvCxnSpPr>
        <p:spPr>
          <a:xfrm flipH="1">
            <a:off x="4799880" y="4113720"/>
            <a:ext cx="122004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85                900               9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ata determines region bound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Straight Connector 6"/>
          <p:cNvSpPr/>
          <p:nvPr/>
        </p:nvSpPr>
        <p:spPr>
          <a:xfrm>
            <a:off x="1295280" y="510552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7"/>
          <p:cNvSpPr/>
          <p:nvPr/>
        </p:nvSpPr>
        <p:spPr>
          <a:xfrm flipV="1">
            <a:off x="4799160" y="4954680"/>
            <a:ext cx="288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0"/>
          <p:cNvSpPr/>
          <p:nvPr/>
        </p:nvSpPr>
        <p:spPr>
          <a:xfrm flipV="1">
            <a:off x="723744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traight Connector 11"/>
          <p:cNvSpPr/>
          <p:nvPr/>
        </p:nvSpPr>
        <p:spPr>
          <a:xfrm flipV="1">
            <a:off x="5637960" y="495252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2"/>
          <p:cNvSpPr/>
          <p:nvPr/>
        </p:nvSpPr>
        <p:spPr>
          <a:xfrm flipV="1">
            <a:off x="6474600" y="495252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3"/>
          <p:cNvSpPr/>
          <p:nvPr/>
        </p:nvSpPr>
        <p:spPr>
          <a:xfrm flipV="1">
            <a:off x="228600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4"/>
          <p:cNvSpPr/>
          <p:nvPr/>
        </p:nvSpPr>
        <p:spPr>
          <a:xfrm flipV="1">
            <a:off x="312264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5"/>
          <p:cNvSpPr/>
          <p:nvPr/>
        </p:nvSpPr>
        <p:spPr>
          <a:xfrm flipV="1">
            <a:off x="396252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Straight Arrow Connector 17"/>
          <p:cNvCxnSpPr/>
          <p:nvPr/>
        </p:nvCxnSpPr>
        <p:spPr>
          <a:xfrm flipH="1">
            <a:off x="2285280" y="4114440"/>
            <a:ext cx="68652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85                900               9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2-sided, go 15 spaces each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9" name="Straight Connector 6"/>
          <p:cNvSpPr/>
          <p:nvPr/>
        </p:nvSpPr>
        <p:spPr>
          <a:xfrm>
            <a:off x="1295280" y="510552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7"/>
          <p:cNvSpPr/>
          <p:nvPr/>
        </p:nvSpPr>
        <p:spPr>
          <a:xfrm flipV="1">
            <a:off x="4799160" y="4954680"/>
            <a:ext cx="288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10"/>
          <p:cNvSpPr/>
          <p:nvPr/>
        </p:nvSpPr>
        <p:spPr>
          <a:xfrm flipV="1">
            <a:off x="723744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traight Connector 11"/>
          <p:cNvSpPr/>
          <p:nvPr/>
        </p:nvSpPr>
        <p:spPr>
          <a:xfrm flipV="1">
            <a:off x="5637960" y="495252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traight Connector 12"/>
          <p:cNvSpPr/>
          <p:nvPr/>
        </p:nvSpPr>
        <p:spPr>
          <a:xfrm flipV="1">
            <a:off x="6474600" y="495252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13"/>
          <p:cNvSpPr/>
          <p:nvPr/>
        </p:nvSpPr>
        <p:spPr>
          <a:xfrm flipV="1">
            <a:off x="228600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4"/>
          <p:cNvSpPr/>
          <p:nvPr/>
        </p:nvSpPr>
        <p:spPr>
          <a:xfrm flipV="1">
            <a:off x="312264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traight Connector 15"/>
          <p:cNvSpPr/>
          <p:nvPr/>
        </p:nvSpPr>
        <p:spPr>
          <a:xfrm flipV="1">
            <a:off x="396252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8"/>
          <p:cNvSpPr/>
          <p:nvPr/>
        </p:nvSpPr>
        <p:spPr>
          <a:xfrm flipV="1">
            <a:off x="2286000" y="4419360"/>
            <a:ext cx="12952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9"/>
          <p:cNvSpPr/>
          <p:nvPr/>
        </p:nvSpPr>
        <p:spPr>
          <a:xfrm flipV="1">
            <a:off x="4800600" y="4419360"/>
            <a:ext cx="12952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20"/>
          <p:cNvSpPr/>
          <p:nvPr/>
        </p:nvSpPr>
        <p:spPr>
          <a:xfrm>
            <a:off x="6095880" y="4419720"/>
            <a:ext cx="11430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23"/>
          <p:cNvSpPr/>
          <p:nvPr/>
        </p:nvSpPr>
        <p:spPr>
          <a:xfrm>
            <a:off x="3581280" y="4419720"/>
            <a:ext cx="12193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85                900               9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.c. = farther from cen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5" name="Straight Connector 6"/>
          <p:cNvSpPr/>
          <p:nvPr/>
        </p:nvSpPr>
        <p:spPr>
          <a:xfrm>
            <a:off x="1295280" y="510552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7"/>
          <p:cNvSpPr/>
          <p:nvPr/>
        </p:nvSpPr>
        <p:spPr>
          <a:xfrm flipV="1">
            <a:off x="4799160" y="4954680"/>
            <a:ext cx="288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traight Connector 10"/>
          <p:cNvSpPr/>
          <p:nvPr/>
        </p:nvSpPr>
        <p:spPr>
          <a:xfrm flipV="1">
            <a:off x="723744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traight Connector 11"/>
          <p:cNvSpPr/>
          <p:nvPr/>
        </p:nvSpPr>
        <p:spPr>
          <a:xfrm flipV="1">
            <a:off x="5637960" y="495252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12"/>
          <p:cNvSpPr/>
          <p:nvPr/>
        </p:nvSpPr>
        <p:spPr>
          <a:xfrm flipV="1">
            <a:off x="6474600" y="495252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13"/>
          <p:cNvSpPr/>
          <p:nvPr/>
        </p:nvSpPr>
        <p:spPr>
          <a:xfrm flipV="1">
            <a:off x="228600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14"/>
          <p:cNvSpPr/>
          <p:nvPr/>
        </p:nvSpPr>
        <p:spPr>
          <a:xfrm flipV="1">
            <a:off x="312264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traight Connector 15"/>
          <p:cNvSpPr/>
          <p:nvPr/>
        </p:nvSpPr>
        <p:spPr>
          <a:xfrm flipV="1">
            <a:off x="396252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Straight Arrow Connector 17"/>
          <p:cNvCxnSpPr/>
          <p:nvPr/>
        </p:nvCxnSpPr>
        <p:spPr>
          <a:xfrm flipH="1">
            <a:off x="2285640" y="4267080"/>
            <a:ext cx="175320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4" name="Straight Connector 18"/>
          <p:cNvSpPr/>
          <p:nvPr/>
        </p:nvSpPr>
        <p:spPr>
          <a:xfrm flipH="1" flipV="1">
            <a:off x="1447920" y="5105520"/>
            <a:ext cx="838080" cy="1440"/>
          </a:xfrm>
          <a:prstGeom prst="line">
            <a:avLst/>
          </a:prstGeom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traight Connector 20"/>
          <p:cNvSpPr/>
          <p:nvPr/>
        </p:nvSpPr>
        <p:spPr>
          <a:xfrm flipH="1" flipV="1">
            <a:off x="7238520" y="5105520"/>
            <a:ext cx="838440" cy="1440"/>
          </a:xfrm>
          <a:prstGeom prst="line">
            <a:avLst/>
          </a:prstGeom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Straight Arrow Connector 22"/>
          <p:cNvCxnSpPr/>
          <p:nvPr/>
        </p:nvCxnSpPr>
        <p:spPr>
          <a:xfrm>
            <a:off x="4038480" y="4266720"/>
            <a:ext cx="320112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85                900               9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                or               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1" name="Straight Connector 6"/>
          <p:cNvSpPr/>
          <p:nvPr/>
        </p:nvSpPr>
        <p:spPr>
          <a:xfrm>
            <a:off x="1295280" y="5105520"/>
            <a:ext cx="6477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7"/>
          <p:cNvSpPr/>
          <p:nvPr/>
        </p:nvSpPr>
        <p:spPr>
          <a:xfrm flipV="1">
            <a:off x="4799160" y="4954680"/>
            <a:ext cx="288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10"/>
          <p:cNvSpPr/>
          <p:nvPr/>
        </p:nvSpPr>
        <p:spPr>
          <a:xfrm flipV="1">
            <a:off x="723744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11"/>
          <p:cNvSpPr/>
          <p:nvPr/>
        </p:nvSpPr>
        <p:spPr>
          <a:xfrm flipV="1">
            <a:off x="5637960" y="495252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12"/>
          <p:cNvSpPr/>
          <p:nvPr/>
        </p:nvSpPr>
        <p:spPr>
          <a:xfrm flipV="1">
            <a:off x="6474600" y="495252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13"/>
          <p:cNvSpPr/>
          <p:nvPr/>
        </p:nvSpPr>
        <p:spPr>
          <a:xfrm flipV="1">
            <a:off x="228600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14"/>
          <p:cNvSpPr/>
          <p:nvPr/>
        </p:nvSpPr>
        <p:spPr>
          <a:xfrm flipV="1">
            <a:off x="312264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15"/>
          <p:cNvSpPr/>
          <p:nvPr/>
        </p:nvSpPr>
        <p:spPr>
          <a:xfrm flipV="1">
            <a:off x="3962520" y="495252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9" name="Straight Arrow Connector 17"/>
          <p:cNvCxnSpPr/>
          <p:nvPr/>
        </p:nvCxnSpPr>
        <p:spPr>
          <a:xfrm flipH="1">
            <a:off x="2285640" y="4267080"/>
            <a:ext cx="175320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0" name="Straight Connector 18"/>
          <p:cNvSpPr/>
          <p:nvPr/>
        </p:nvSpPr>
        <p:spPr>
          <a:xfrm flipH="1" flipV="1">
            <a:off x="1447920" y="5105520"/>
            <a:ext cx="838080" cy="1440"/>
          </a:xfrm>
          <a:prstGeom prst="line">
            <a:avLst/>
          </a:prstGeom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20"/>
          <p:cNvSpPr/>
          <p:nvPr/>
        </p:nvSpPr>
        <p:spPr>
          <a:xfrm flipH="1" flipV="1">
            <a:off x="7238520" y="5105520"/>
            <a:ext cx="838440" cy="1440"/>
          </a:xfrm>
          <a:prstGeom prst="line">
            <a:avLst/>
          </a:prstGeom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2" name="Straight Arrow Connector 22"/>
          <p:cNvCxnSpPr/>
          <p:nvPr/>
        </p:nvCxnSpPr>
        <p:spPr>
          <a:xfrm>
            <a:off x="4038480" y="4266720"/>
            <a:ext cx="320112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773" name="Object 4"/>
              <p:cNvSpPr txBox="1"/>
              <p:nvPr/>
            </p:nvSpPr>
            <p:spPr>
              <a:xfrm>
                <a:off x="1752480" y="57769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Object 5"/>
              <p:cNvSpPr txBox="1"/>
              <p:nvPr/>
            </p:nvSpPr>
            <p:spPr>
              <a:xfrm>
                <a:off x="3962520" y="5791320"/>
                <a:ext cx="16761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9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                or               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4"/>
              <p:cNvSpPr txBox="1"/>
              <p:nvPr/>
            </p:nvSpPr>
            <p:spPr>
              <a:xfrm>
                <a:off x="1752480" y="403848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5"/>
              <p:cNvSpPr txBox="1"/>
              <p:nvPr/>
            </p:nvSpPr>
            <p:spPr>
              <a:xfrm>
                <a:off x="3962520" y="4038480"/>
                <a:ext cx="16761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9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                or               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- NORMDIST(915,900,30/sqrt(9),tr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ORMDIST(885,900,30/sqrt(9),tr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4"/>
              <p:cNvSpPr txBox="1"/>
              <p:nvPr/>
            </p:nvSpPr>
            <p:spPr>
              <a:xfrm>
                <a:off x="1752480" y="403848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Object 5"/>
              <p:cNvSpPr txBox="1"/>
              <p:nvPr/>
            </p:nvSpPr>
            <p:spPr>
              <a:xfrm>
                <a:off x="3962520" y="4038480"/>
                <a:ext cx="16761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9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s this cur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just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f natura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pproach: 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imul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145" name="Straight Arrow Connector 6"/>
          <p:cNvCxnSpPr/>
          <p:nvPr/>
        </p:nvCxnSpPr>
        <p:spPr>
          <a:xfrm>
            <a:off x="3200400" y="5638320"/>
            <a:ext cx="2743920" cy="30564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                or               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- NORMDIST(915,900,30/sqrt(9),tr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ORMDIST(885,900,30/sqrt(9),tr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4"/>
              <p:cNvSpPr txBox="1"/>
              <p:nvPr/>
            </p:nvSpPr>
            <p:spPr>
              <a:xfrm>
                <a:off x="1752480" y="403848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5"/>
              <p:cNvSpPr txBox="1"/>
              <p:nvPr/>
            </p:nvSpPr>
            <p:spPr>
              <a:xfrm>
                <a:off x="3962520" y="4038480"/>
                <a:ext cx="16761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91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93" name="Straight Arrow Connector 8"/>
          <p:cNvCxnSpPr/>
          <p:nvPr/>
        </p:nvCxnSpPr>
        <p:spPr>
          <a:xfrm>
            <a:off x="3276360" y="4571640"/>
            <a:ext cx="114372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9"/>
          <p:cNvCxnSpPr/>
          <p:nvPr/>
        </p:nvCxnSpPr>
        <p:spPr>
          <a:xfrm flipH="1">
            <a:off x="4647600" y="4571640"/>
            <a:ext cx="22932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                or               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- NORMDIST(915,900,30/sqrt(9),true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ORMDIST(885,900,30/sqrt(9),tr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Object 4"/>
              <p:cNvSpPr txBox="1"/>
              <p:nvPr/>
            </p:nvSpPr>
            <p:spPr>
              <a:xfrm>
                <a:off x="1752480" y="403848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5"/>
              <p:cNvSpPr txBox="1"/>
              <p:nvPr/>
            </p:nvSpPr>
            <p:spPr>
              <a:xfrm>
                <a:off x="3962520" y="4038480"/>
                <a:ext cx="16761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91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01" name="Straight Arrow Connector 8"/>
          <p:cNvCxnSpPr/>
          <p:nvPr/>
        </p:nvCxnSpPr>
        <p:spPr>
          <a:xfrm flipH="1">
            <a:off x="5409720" y="4495680"/>
            <a:ext cx="99144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2" name="Straight Arrow Connector 9"/>
          <p:cNvCxnSpPr/>
          <p:nvPr/>
        </p:nvCxnSpPr>
        <p:spPr>
          <a:xfrm flipH="1">
            <a:off x="5637960" y="4494600"/>
            <a:ext cx="762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                or               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- NORMDIST(915,900,30/sqrt(9),true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ORMDIST(885,900,30/sqrt(9),tr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claimed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Object 4"/>
              <p:cNvSpPr txBox="1"/>
              <p:nvPr/>
            </p:nvSpPr>
            <p:spPr>
              <a:xfrm>
                <a:off x="1752480" y="403848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Object 5"/>
              <p:cNvSpPr txBox="1"/>
              <p:nvPr/>
            </p:nvSpPr>
            <p:spPr>
              <a:xfrm>
                <a:off x="3962520" y="4038480"/>
                <a:ext cx="16761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91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09" name="Straight Arrow Connector 8"/>
          <p:cNvCxnSpPr/>
          <p:nvPr/>
        </p:nvCxnSpPr>
        <p:spPr>
          <a:xfrm flipV="1">
            <a:off x="4190760" y="5637960"/>
            <a:ext cx="152460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0" name="Straight Arrow Connector 9"/>
          <p:cNvCxnSpPr/>
          <p:nvPr/>
        </p:nvCxnSpPr>
        <p:spPr>
          <a:xfrm flipV="1">
            <a:off x="4191120" y="5105160"/>
            <a:ext cx="167688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                or               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- NORMDIST(915,900,30/sqrt(9),true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ORMDIST(885,900,30/sqrt(9),tr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veraging reduces variation by sqrt(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4"/>
              <p:cNvSpPr txBox="1"/>
              <p:nvPr/>
            </p:nvSpPr>
            <p:spPr>
              <a:xfrm>
                <a:off x="1752480" y="403848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5"/>
              <p:cNvSpPr txBox="1"/>
              <p:nvPr/>
            </p:nvSpPr>
            <p:spPr>
              <a:xfrm>
                <a:off x="3962520" y="4038480"/>
                <a:ext cx="16761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91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17" name="Straight Arrow Connector 8"/>
          <p:cNvCxnSpPr/>
          <p:nvPr/>
        </p:nvCxnSpPr>
        <p:spPr>
          <a:xfrm flipH="1" flipV="1">
            <a:off x="6857280" y="5714640"/>
            <a:ext cx="75240" cy="30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8" name="Straight Arrow Connector 9"/>
          <p:cNvCxnSpPr/>
          <p:nvPr/>
        </p:nvCxnSpPr>
        <p:spPr>
          <a:xfrm flipV="1">
            <a:off x="6933240" y="5105160"/>
            <a:ext cx="7668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What saw, or m. c. | 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’d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              , or m. c.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                or               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- NORMDIST(915,900,30/sqrt(9),true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ORMDIST(885,900,30/sqrt(9),tr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134                        (from Excel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Object 3"/>
              <p:cNvSpPr txBox="1"/>
              <p:nvPr/>
            </p:nvSpPr>
            <p:spPr>
              <a:xfrm>
                <a:off x="1828800" y="342900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Object 4"/>
              <p:cNvSpPr txBox="1"/>
              <p:nvPr/>
            </p:nvSpPr>
            <p:spPr>
              <a:xfrm>
                <a:off x="1752480" y="403848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5"/>
              <p:cNvSpPr txBox="1"/>
              <p:nvPr/>
            </p:nvSpPr>
            <p:spPr>
              <a:xfrm>
                <a:off x="3962520" y="4038480"/>
                <a:ext cx="16761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9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134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134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: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ong evidence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134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: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ei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-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y 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points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  vs.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≠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from experimen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134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: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ei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-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y 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e farmer wrong, would need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9 pigs.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Object 2"/>
              <p:cNvSpPr txBox="1"/>
              <p:nvPr/>
            </p:nvSpPr>
            <p:spPr>
              <a:xfrm>
                <a:off x="4952880" y="1676520"/>
                <a:ext cx="1676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45  (for (a) use Excel &amp; 2 plots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ame axe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44  b, c  (0.952, 0.84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s this cur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just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f natura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pproach: 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imul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149" name="Straight Arrow Connector 6"/>
          <p:cNvCxnSpPr/>
          <p:nvPr/>
        </p:nvCxnSpPr>
        <p:spPr>
          <a:xfrm>
            <a:off x="3200400" y="5638680"/>
            <a:ext cx="3201120" cy="7668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esting vide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nn.com/video/#/video/us/2009/03/15/garcia.lucky.lady.wins.3.k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anks to Michael Simp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s &amp; State Lotteri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uch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s &amp; State Lotteri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uch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 advertising – leads others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might be me next tim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s &amp; State Lotteri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uch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 advertising – leads others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answer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s &amp; State Lotteri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uch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 advertising – leads others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answered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much did she lose before big wi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s &amp; State Lotteri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uch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 advertising – leads others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answered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much did she lose before big wi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ill she do with winn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s &amp; State Lotteri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uch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 advertising – leads others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answered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much did she lose before big wi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ill she do with winn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m right back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s &amp; State Lotteri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uch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 advertising – leads others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answered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much did she lose before big wi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ill she do with winn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m right back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happens very frequ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sinos &amp; State Lotteri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uch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 advertising – leads others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answered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much did she lose before big wi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ill she do with winn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m right back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happens very frequ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players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sp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o feel that big thrill ag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61-62, 66-70, 59-61, 335-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322-326, 337-344, 488-4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s this cur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just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f natura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pproach: 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imul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Arrow Connector 6"/>
          <p:cNvCxnSpPr/>
          <p:nvPr/>
        </p:nvCxnSpPr>
        <p:spPr>
          <a:xfrm flipV="1">
            <a:off x="3200040" y="4800240"/>
            <a:ext cx="3886920" cy="83880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dom variable 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(mound shaped) probabilit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modeled by norm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ed at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pread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heck by looking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-Q Plot   (prefer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"/>
              <p:cNvSpPr txBox="1"/>
              <p:nvPr/>
            </p:nvSpPr>
            <p:spPr>
              <a:xfrm>
                <a:off x="3822840" y="1104840"/>
                <a:ext cx="4101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Averages,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can compute probabilities, etc.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Object 3"/>
              <p:cNvSpPr txBox="1"/>
              <p:nvPr/>
            </p:nvSpPr>
            <p:spPr>
              <a:xfrm>
                <a:off x="3581280" y="1905120"/>
                <a:ext cx="36673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Object 4"/>
              <p:cNvSpPr txBox="1"/>
              <p:nvPr/>
            </p:nvSpPr>
            <p:spPr>
              <a:xfrm>
                <a:off x="3822840" y="1104840"/>
                <a:ext cx="4101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Averages, Part 2,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Normal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verage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Averages, Part 2,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Normal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verage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(even surprising?) 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Averages, Part 2,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Normal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verage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(even surprising?) f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s Normal   usual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ill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2" name="Straight Arrow Connector 4"/>
          <p:cNvCxnSpPr/>
          <p:nvPr/>
        </p:nvCxnSpPr>
        <p:spPr>
          <a:xfrm flipH="1">
            <a:off x="3504600" y="2286000"/>
            <a:ext cx="2439000" cy="175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Averages, Part 2,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Normal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verage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(even surprising?) f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s Normal   usual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ill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when individua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5" name="Straight Arrow Connector 4"/>
          <p:cNvCxnSpPr/>
          <p:nvPr/>
        </p:nvCxnSpPr>
        <p:spPr>
          <a:xfrm flipH="1">
            <a:off x="3504600" y="2286000"/>
            <a:ext cx="2439000" cy="175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Averages, Part 2,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Normal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verage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(even surprising?) f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s Normal   usual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ill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when individua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histo of individua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d shap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Straight Arrow Connector 4"/>
          <p:cNvCxnSpPr/>
          <p:nvPr/>
        </p:nvCxnSpPr>
        <p:spPr>
          <a:xfrm flipH="1">
            <a:off x="3504600" y="2286000"/>
            <a:ext cx="2439000" cy="175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f Law of Averages, Part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3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ssenti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887" name="Straight Arrow Connector 5"/>
          <p:cNvCxnSpPr/>
          <p:nvPr/>
        </p:nvCxnSpPr>
        <p:spPr>
          <a:xfrm flipV="1">
            <a:off x="4343400" y="1676160"/>
            <a:ext cx="381600" cy="3048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s this cur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just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f natura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pproach: 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imul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157" name="Straight Arrow Connector 6"/>
          <p:cNvCxnSpPr/>
          <p:nvPr/>
        </p:nvCxnSpPr>
        <p:spPr>
          <a:xfrm flipV="1">
            <a:off x="3200040" y="4037760"/>
            <a:ext cx="4877640" cy="16009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pecial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891" name="Straight Arrow Connector 5"/>
          <p:cNvCxnSpPr/>
          <p:nvPr/>
        </p:nvCxnSpPr>
        <p:spPr>
          <a:xfrm flipV="1">
            <a:off x="3505320" y="1675800"/>
            <a:ext cx="221040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pecial mea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nowing value of 1 does not change probabilitiess of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895" name="Straight Arrow Connector 5"/>
          <p:cNvCxnSpPr/>
          <p:nvPr/>
        </p:nvCxnSpPr>
        <p:spPr>
          <a:xfrm flipV="1">
            <a:off x="3505320" y="1675800"/>
            <a:ext cx="221040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pecial mea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proba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899" name="Straight Arrow Connector 5"/>
          <p:cNvCxnSpPr/>
          <p:nvPr/>
        </p:nvCxnSpPr>
        <p:spPr>
          <a:xfrm flipV="1">
            <a:off x="3505320" y="1675800"/>
            <a:ext cx="221040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. Histogram roughly 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. Histogram roughly 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. probs using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. Histogram roughly 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. probs using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probs, etc.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5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. Histogram roughly 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. probs using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probs, etc.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D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s this cur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just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f natura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pproach: 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imulat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repeat 100 ti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. Histogram roughly 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. probs using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probs, etc.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D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IN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made precis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948" name="Straight Arrow Connector 7"/>
          <p:cNvCxnSpPr/>
          <p:nvPr/>
        </p:nvCxnSpPr>
        <p:spPr>
          <a:xfrm flipV="1">
            <a:off x="4267080" y="2971080"/>
            <a:ext cx="153360" cy="1220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made preci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limit operations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Object 5"/>
              <p:cNvSpPr txBox="1"/>
              <p:nvPr/>
            </p:nvSpPr>
            <p:spPr>
              <a:xfrm>
                <a:off x="5519880" y="4572000"/>
                <a:ext cx="8046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cxnSp>
        <p:nvCxnSpPr>
          <p:cNvPr id="955" name="Straight Arrow Connector 7"/>
          <p:cNvCxnSpPr/>
          <p:nvPr/>
        </p:nvCxnSpPr>
        <p:spPr>
          <a:xfrm flipH="1" flipV="1">
            <a:off x="4952520" y="2209680"/>
            <a:ext cx="915120" cy="243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made preci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limit ope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yond scope of this cours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8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Object 5"/>
              <p:cNvSpPr txBox="1"/>
              <p:nvPr/>
            </p:nvSpPr>
            <p:spPr>
              <a:xfrm>
                <a:off x="5519880" y="4572000"/>
                <a:ext cx="8046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Averages, Part 2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ally only this course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9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                 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, for n “l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rough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Averages, Part 2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Limit Theor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dely used name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Object 2"/>
              <p:cNvSpPr txBox="1"/>
              <p:nvPr/>
            </p:nvSpPr>
            <p:spPr>
              <a:xfrm>
                <a:off x="22096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Object 3"/>
              <p:cNvSpPr txBox="1"/>
              <p:nvPr/>
            </p:nvSpPr>
            <p:spPr>
              <a:xfrm>
                <a:off x="2286000" y="2292480"/>
                <a:ext cx="56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Object 4"/>
              <p:cNvSpPr txBox="1"/>
              <p:nvPr/>
            </p:nvSpPr>
            <p:spPr>
              <a:xfrm>
                <a:off x="5624640" y="2289240"/>
                <a:ext cx="16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.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.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urvature not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ampling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urvature not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ampling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ut does stick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urvature not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rom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ampling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ut does stick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onclude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Buffalo Snowfal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Chart 5" descr=""/>
          <p:cNvPicPr/>
          <p:nvPr/>
        </p:nvPicPr>
        <p:blipFill>
          <a:blip r:embed="rId1"/>
          <a:stretch/>
        </p:blipFill>
        <p:spPr>
          <a:xfrm>
            <a:off x="1749600" y="2054160"/>
            <a:ext cx="56084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Buffalo Snowfal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Buffalo Snowfal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lways within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182" name="Straight Arrow Connector 6"/>
          <p:cNvCxnSpPr/>
          <p:nvPr/>
        </p:nvCxnSpPr>
        <p:spPr>
          <a:xfrm>
            <a:off x="4419360" y="2971440"/>
            <a:ext cx="2972520" cy="610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ribution is “mound shaped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outliers are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 “good” choice of normal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048120" y="5645160"/>
                <a:ext cx="3124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Buffalo Snowfal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lways within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onclude: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istribution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s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186" name="Straight Arrow Connector 6"/>
          <p:cNvCxnSpPr/>
          <p:nvPr/>
        </p:nvCxnSpPr>
        <p:spPr>
          <a:xfrm>
            <a:off x="4419360" y="2971440"/>
            <a:ext cx="2972520" cy="610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Chart 5" descr=""/>
          <p:cNvPicPr/>
          <p:nvPr/>
        </p:nvPicPr>
        <p:blipFill>
          <a:blip r:embed="rId1"/>
          <a:stretch/>
        </p:blipFill>
        <p:spPr>
          <a:xfrm>
            <a:off x="2279520" y="1974960"/>
            <a:ext cx="49262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ay outside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196" name="Straight Arrow Connector 5"/>
          <p:cNvCxnSpPr/>
          <p:nvPr/>
        </p:nvCxnSpPr>
        <p:spPr>
          <a:xfrm>
            <a:off x="4266720" y="2895480"/>
            <a:ext cx="388692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7" name="Straight Arrow Connector 6"/>
          <p:cNvCxnSpPr/>
          <p:nvPr/>
        </p:nvCxnSpPr>
        <p:spPr>
          <a:xfrm>
            <a:off x="4266720" y="2895120"/>
            <a:ext cx="3048840" cy="2667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8" name="Straight Arrow Connector 9"/>
          <p:cNvCxnSpPr/>
          <p:nvPr/>
        </p:nvCxnSpPr>
        <p:spPr>
          <a:xfrm>
            <a:off x="4266000" y="2895120"/>
            <a:ext cx="1220040" cy="3429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ay outside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ormal does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t this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ay outside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ormal does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t this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so transformation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 good appr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log10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dea:  log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transforms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o norm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Chart 3" descr=""/>
          <p:cNvPicPr/>
          <p:nvPr/>
        </p:nvPicPr>
        <p:blipFill>
          <a:blip r:embed="rId1"/>
          <a:stretch/>
        </p:blipFill>
        <p:spPr>
          <a:xfrm>
            <a:off x="3803760" y="1908000"/>
            <a:ext cx="458460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log10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log10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ow much clo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log10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ow much clo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ut three 0s,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ot quit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217" name="Straight Arrow Connector 7"/>
          <p:cNvCxnSpPr/>
          <p:nvPr/>
        </p:nvCxnSpPr>
        <p:spPr>
          <a:xfrm>
            <a:off x="2895480" y="4495320"/>
            <a:ext cx="2439000" cy="17535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7711" t="26939" r="6426" b="7347"/>
          <a:stretch/>
        </p:blipFill>
        <p:spPr>
          <a:xfrm>
            <a:off x="1752480" y="1951200"/>
            <a:ext cx="61088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call log10 British Suic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ow much clo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ut three 0s,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ot quit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pproach:  Shif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og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221" name="Straight Arrow Connector 7"/>
          <p:cNvCxnSpPr/>
          <p:nvPr/>
        </p:nvCxnSpPr>
        <p:spPr>
          <a:xfrm>
            <a:off x="2895480" y="4495320"/>
            <a:ext cx="2439000" cy="17535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og10 (10 + British Suicide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og10 (10 + British Suicide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hift redu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mpact of 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og10 (10 + British Suicide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hift redu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mpact of 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ow conclu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ata ar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og10 (10 + British Suicide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hift redu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mpact of 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ow conclu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ata ar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hift is goo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know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rcRect l="15386" t="0" r="1880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  <p:cxnSp>
        <p:nvCxnSpPr>
          <p:cNvPr id="234" name="Straight Arrow Connector 5"/>
          <p:cNvCxnSpPr/>
          <p:nvPr/>
        </p:nvCxnSpPr>
        <p:spPr>
          <a:xfrm flipV="1">
            <a:off x="1522800" y="1828440"/>
            <a:ext cx="1677240" cy="3582000"/>
          </a:xfrm>
          <a:prstGeom prst="straightConnector1">
            <a:avLst/>
          </a:prstGeom>
          <a:ln w="19080">
            <a:solidFill>
              <a:srgbClr val="66cc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QQ Envelope Plo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Useful in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</a:rPr>
              <a:t>clo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akes interpretation over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different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sizes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much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Generally more quantit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s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s on 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s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s on 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almost anyt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want to make statements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mea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standard dev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For which data sets, will th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be a good model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want to make statements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mea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standard dev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want to make statements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mea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standard dev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ually good to us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want to make statements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mea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standard dev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ten follows a 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want to make statements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8480" indent="-488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mea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8480" indent="-488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standard dev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ten follows a 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see why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want to make statements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mea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standard dev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ten follows a 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ccurate are esti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want to make statements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8480" indent="-488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mea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8480" indent="-488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standard deviatio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ten follows a 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ccurate are esti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develop methods for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Straight Arrow Connector 4"/>
          <p:cNvCxnSpPr/>
          <p:nvPr/>
        </p:nvCxnSpPr>
        <p:spPr>
          <a:xfrm flipH="1">
            <a:off x="2590560" y="2285640"/>
            <a:ext cx="38160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Straight Arrow Connector 4"/>
          <p:cNvCxnSpPr/>
          <p:nvPr/>
        </p:nvCxnSpPr>
        <p:spPr>
          <a:xfrm flipH="1">
            <a:off x="3657240" y="2743200"/>
            <a:ext cx="14486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7"/>
          <p:cNvCxnSpPr/>
          <p:nvPr/>
        </p:nvCxnSpPr>
        <p:spPr>
          <a:xfrm flipH="1">
            <a:off x="2590560" y="2285640"/>
            <a:ext cx="38160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ome wig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natu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with smal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hart 4" descr=""/>
          <p:cNvPicPr/>
          <p:nvPr/>
        </p:nvPicPr>
        <p:blipFill>
          <a:blip r:embed="rId1"/>
          <a:stretch/>
        </p:blipFill>
        <p:spPr>
          <a:xfrm>
            <a:off x="4565520" y="3328920"/>
            <a:ext cx="45849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4"/>
          <p:cNvCxnSpPr/>
          <p:nvPr/>
        </p:nvCxnSpPr>
        <p:spPr>
          <a:xfrm flipH="1">
            <a:off x="3657240" y="2743200"/>
            <a:ext cx="14486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Straight Arrow Connector 7"/>
          <p:cNvCxnSpPr/>
          <p:nvPr/>
        </p:nvCxnSpPr>
        <p:spPr>
          <a:xfrm flipH="1">
            <a:off x="2590560" y="2285640"/>
            <a:ext cx="38160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2" name="Straight Arrow Connector 5"/>
          <p:cNvCxnSpPr/>
          <p:nvPr/>
        </p:nvCxnSpPr>
        <p:spPr>
          <a:xfrm flipH="1" flipV="1">
            <a:off x="4495320" y="3276000"/>
            <a:ext cx="144864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7"/>
          <p:cNvCxnSpPr/>
          <p:nvPr/>
        </p:nvCxnSpPr>
        <p:spPr>
          <a:xfrm flipV="1">
            <a:off x="2284920" y="3428280"/>
            <a:ext cx="15300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6" name="Straight Arrow Connector 5"/>
          <p:cNvCxnSpPr/>
          <p:nvPr/>
        </p:nvCxnSpPr>
        <p:spPr>
          <a:xfrm flipV="1">
            <a:off x="2286000" y="3351960"/>
            <a:ext cx="190584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random,             often us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Straight Arrow Connector 5"/>
          <p:cNvCxnSpPr/>
          <p:nvPr/>
        </p:nvCxnSpPr>
        <p:spPr>
          <a:xfrm flipH="1" flipV="1">
            <a:off x="4494960" y="3351960"/>
            <a:ext cx="12963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random,             often us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, with mean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5"/>
          <p:cNvCxnSpPr/>
          <p:nvPr/>
        </p:nvCxnSpPr>
        <p:spPr>
          <a:xfrm flipH="1" flipV="1">
            <a:off x="4494960" y="3351960"/>
            <a:ext cx="12963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random,             often us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, with mean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gives N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Straight Arrow Connector 5"/>
          <p:cNvCxnSpPr/>
          <p:nvPr/>
        </p:nvCxnSpPr>
        <p:spPr>
          <a:xfrm flipH="1" flipV="1">
            <a:off x="4494960" y="3351960"/>
            <a:ext cx="12963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Straight Arrow Connector 4"/>
          <p:cNvCxnSpPr/>
          <p:nvPr/>
        </p:nvCxnSpPr>
        <p:spPr>
          <a:xfrm flipH="1" flipV="1">
            <a:off x="2590560" y="3428280"/>
            <a:ext cx="1296000" cy="243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dditional accuracy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dditional accuracy is requi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ral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dditional accuracy is requi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ral measu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nhance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dditional accuracy is requi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ral measu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nhance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    how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wigg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Buff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is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hart 4" descr=""/>
          <p:cNvPicPr/>
          <p:nvPr/>
        </p:nvPicPr>
        <p:blipFill>
          <a:blip r:embed="rId1"/>
          <a:stretch/>
        </p:blipFill>
        <p:spPr>
          <a:xfrm>
            <a:off x="4565520" y="2925720"/>
            <a:ext cx="458496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dditional accuracy is requi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ral measu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nhance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    how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pends on number of observations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lications of Normal Dist’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dditional accuracy is requi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ral measu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nhance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    how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pends on number of observations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study carefully &amp; quantitative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model in both settings 1 &amp;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model in both settings 1 &amp;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model in both settings 1 &amp;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3657600" y="2286000"/>
                <a:ext cx="2050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model in both settings 1 &amp;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ubscripts to keep stra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3657600" y="2286000"/>
                <a:ext cx="2050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11" name="Straight Arrow Connector 5"/>
          <p:cNvCxnSpPr/>
          <p:nvPr/>
        </p:nvCxnSpPr>
        <p:spPr>
          <a:xfrm flipV="1">
            <a:off x="4113360" y="2972880"/>
            <a:ext cx="360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6"/>
          <p:cNvCxnSpPr/>
          <p:nvPr/>
        </p:nvCxnSpPr>
        <p:spPr>
          <a:xfrm flipV="1">
            <a:off x="4114800" y="2894760"/>
            <a:ext cx="129600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model in both settings 1 &amp;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3657600" y="2286000"/>
                <a:ext cx="2050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model in both settings 1 &amp;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knowledge of on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ffect probabilities of o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3657600" y="2286000"/>
                <a:ext cx="2050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model in both settings 1 &amp;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3657600" y="2286000"/>
                <a:ext cx="2050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model in both settings 1 &amp;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probability density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3657600" y="2286000"/>
                <a:ext cx="2050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model in both settings 1 &amp;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:                        are a “random samp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3657600" y="2286000"/>
                <a:ext cx="2050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1987560" y="5219640"/>
                <a:ext cx="2050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1447920" y="2286000"/>
                <a:ext cx="3981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value, since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are the sam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447920" y="2286000"/>
                <a:ext cx="3981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40" name="Straight Arrow Connector 6"/>
          <p:cNvCxnSpPr/>
          <p:nvPr/>
        </p:nvCxnSpPr>
        <p:spPr>
          <a:xfrm flipH="1" flipV="1">
            <a:off x="2590200" y="2818800"/>
            <a:ext cx="19054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1" name="Straight Arrow Connector 7"/>
          <p:cNvCxnSpPr/>
          <p:nvPr/>
        </p:nvCxnSpPr>
        <p:spPr>
          <a:xfrm flipH="1" flipV="1">
            <a:off x="3504600" y="2818800"/>
            <a:ext cx="991080" cy="19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2" name="Straight Arrow Connector 8"/>
          <p:cNvCxnSpPr/>
          <p:nvPr/>
        </p:nvCxnSpPr>
        <p:spPr>
          <a:xfrm flipV="1">
            <a:off x="4494600" y="2820240"/>
            <a:ext cx="306720" cy="1904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1447920" y="2286000"/>
                <a:ext cx="3981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1447920" y="3048120"/>
                <a:ext cx="5025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tting 1, Population Mo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1447920" y="2286000"/>
                <a:ext cx="3981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4"/>
              <p:cNvSpPr txBox="1"/>
              <p:nvPr/>
            </p:nvSpPr>
            <p:spPr>
              <a:xfrm>
                <a:off x="1447920" y="3048120"/>
                <a:ext cx="5025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tting 1, Population Mo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pulation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1447920" y="2286000"/>
                <a:ext cx="3981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447920" y="3048120"/>
                <a:ext cx="5025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tting 1, Population Mo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pulation 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d.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pulation standard dev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1447920" y="2286000"/>
                <a:ext cx="3981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1447920" y="3048120"/>
                <a:ext cx="5025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tting 2, 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1447920" y="1714680"/>
                <a:ext cx="39812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1447920" y="2286000"/>
                <a:ext cx="5025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tting 2, 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1447920" y="1714680"/>
                <a:ext cx="39812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1447920" y="2286000"/>
                <a:ext cx="5025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ut </a:t>
            </a:r>
            <a:r>
              <a:rPr b="0" i="1" lang="en-US" sz="3200" spc="-1" strike="noStrike">
                <a:solidFill>
                  <a:srgbClr val="66ccff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Nor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tting 2, 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assum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bia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’men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1447920" y="1714680"/>
                <a:ext cx="39812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1447920" y="2286000"/>
                <a:ext cx="5025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tting 2, 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assum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bia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’men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verage 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ru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1447920" y="1714680"/>
                <a:ext cx="39812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1447920" y="2286000"/>
                <a:ext cx="5025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tting 2, 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assum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bia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’men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verage 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ru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therwise hard to get true val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1447920" y="1714680"/>
                <a:ext cx="39812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1447920" y="2286000"/>
                <a:ext cx="5025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tting 2, 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d.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lects accuracy of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1447920" y="1714680"/>
                <a:ext cx="39812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1447920" y="2286000"/>
                <a:ext cx="5025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tting 2, 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ue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d.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lects accuracy of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lity of measuring de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"/>
              <p:cNvSpPr txBox="1"/>
              <p:nvPr/>
            </p:nvSpPr>
            <p:spPr>
              <a:xfrm>
                <a:off x="3581280" y="1104840"/>
                <a:ext cx="20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1447920" y="1714680"/>
                <a:ext cx="39812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4"/>
              <p:cNvSpPr txBox="1"/>
              <p:nvPr/>
            </p:nvSpPr>
            <p:spPr>
              <a:xfrm>
                <a:off x="1447920" y="2286000"/>
                <a:ext cx="5025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ither random sample sett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ither random sample set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ither random sample set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pulation me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traight Arrow Connector 4"/>
          <p:cNvCxnSpPr/>
          <p:nvPr/>
        </p:nvCxnSpPr>
        <p:spPr>
          <a:xfrm flipH="1" flipV="1">
            <a:off x="5486040" y="2285280"/>
            <a:ext cx="45792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ither random sample set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3886200" y="236232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w of Aver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ither random sample set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estimate of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mple Me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3886200" y="2362320"/>
                <a:ext cx="3257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411" name="Straight Arrow Connector 4"/>
          <p:cNvCxnSpPr/>
          <p:nvPr/>
        </p:nvCxnSpPr>
        <p:spPr>
          <a:xfrm flipH="1" flipV="1">
            <a:off x="4266360" y="3276000"/>
            <a:ext cx="1143720" cy="144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marron</cp:lastModifiedBy>
  <dcterms:modified xsi:type="dcterms:W3CDTF">2009-03-23T05:15:45Z</dcterms:modified>
  <cp:revision>1359</cp:revision>
  <dc:subject/>
  <dc:title>Slide 1</dc:title>
</cp:coreProperties>
</file>