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1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2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1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3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21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07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2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1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1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42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41.xml.rels" ContentType="application/vnd.openxmlformats-package.relationships+xml"/>
  <Override PartName="/ppt/notesSlides/_rels/notesSlide240.xml.rels" ContentType="application/vnd.openxmlformats-package.relationships+xml"/>
  <Override PartName="/ppt/notesSlides/_rels/notesSlide23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23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08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4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42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41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40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207.xml" ContentType="application/vnd.openxmlformats-officedocument.presentationml.notesSlide+xml"/>
  <Override PartName="/ppt/notesSlides/notesSlide208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210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3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3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7.xml" ContentType="application/vnd.openxmlformats-officedocument.presentationml.notesSlide+xml"/>
  <Override PartName="/ppt/notesSlides/notesSlide238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22.xml" ContentType="application/vnd.openxmlformats-officedocument.presentationml.notesSlide+xml"/>
  <Override PartName="/ppt/notesSlides/notesSlide221.xml" ContentType="application/vnd.openxmlformats-officedocument.presentationml.notesSlide+xml"/>
  <Override PartName="/ppt/notesSlides/notesSlide219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217.xml" ContentType="application/vnd.openxmlformats-officedocument.presentationml.notesSlide+xml"/>
  <Override PartName="/ppt/notesSlides/notesSlide2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4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11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9.png" ContentType="image/png"/>
  <Override PartName="/ppt/media/image44.png" ContentType="image/png"/>
  <Override PartName="/ppt/media/image46.jpeg" ContentType="image/jpeg"/>
  <Override PartName="/ppt/media/image54.png" ContentType="image/png"/>
  <Override PartName="/ppt/media/image43.png" ContentType="image/png"/>
  <Override PartName="/ppt/media/image45.jpeg" ContentType="image/jpeg"/>
  <Override PartName="/ppt/media/image55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8.jpeg" ContentType="image/jpeg"/>
  <Override PartName="/ppt/media/image53.png" ContentType="image/png"/>
  <Override PartName="/ppt/media/image56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37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67.xml.rels" ContentType="application/vnd.openxmlformats-package.relationships+xml"/>
  <Override PartName="/ppt/slides/_rels/slide17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47.xml.rels" ContentType="application/vnd.openxmlformats-package.relationships+xml"/>
  <Override PartName="/ppt/slides/_rels/slide191.xml.rels" ContentType="application/vnd.openxmlformats-package.relationships+xml"/>
  <Override PartName="/ppt/slides/_rels/slide19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149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10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234.xml" ContentType="application/vnd.openxmlformats-officedocument.presentationml.slide+xml"/>
  <Override PartName="/ppt/slides/slide41.xml" ContentType="application/vnd.openxmlformats-officedocument.presentationml.slide+xml"/>
  <Override PartName="/ppt/slides/slide235.xml" ContentType="application/vnd.openxmlformats-officedocument.presentationml.slide+xml"/>
  <Override PartName="/ppt/slides/slide42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202.xml" ContentType="application/vnd.openxmlformats-officedocument.presentationml.slide+xml"/>
  <Override PartName="/ppt/slides/slide239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  <p:sldId id="468" r:id="rId217"/>
    <p:sldId id="469" r:id="rId218"/>
    <p:sldId id="470" r:id="rId219"/>
    <p:sldId id="471" r:id="rId220"/>
    <p:sldId id="472" r:id="rId221"/>
    <p:sldId id="473" r:id="rId222"/>
    <p:sldId id="474" r:id="rId223"/>
    <p:sldId id="475" r:id="rId224"/>
    <p:sldId id="476" r:id="rId225"/>
    <p:sldId id="477" r:id="rId226"/>
    <p:sldId id="478" r:id="rId227"/>
    <p:sldId id="479" r:id="rId228"/>
    <p:sldId id="480" r:id="rId229"/>
    <p:sldId id="481" r:id="rId230"/>
    <p:sldId id="482" r:id="rId231"/>
    <p:sldId id="483" r:id="rId232"/>
    <p:sldId id="484" r:id="rId233"/>
    <p:sldId id="485" r:id="rId234"/>
    <p:sldId id="486" r:id="rId235"/>
    <p:sldId id="487" r:id="rId236"/>
    <p:sldId id="488" r:id="rId237"/>
    <p:sldId id="489" r:id="rId238"/>
    <p:sldId id="490" r:id="rId239"/>
    <p:sldId id="491" r:id="rId240"/>
    <p:sldId id="492" r:id="rId241"/>
    <p:sldId id="493" r:id="rId242"/>
    <p:sldId id="494" r:id="rId243"/>
    <p:sldId id="495" r:id="rId244"/>
    <p:sldId id="496" r:id="rId245"/>
    <p:sldId id="497" r:id="rId2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slide" Target="slides/slide213.xml"/><Relationship Id="rId218" Type="http://schemas.openxmlformats.org/officeDocument/2006/relationships/slide" Target="slides/slide214.xml"/><Relationship Id="rId219" Type="http://schemas.openxmlformats.org/officeDocument/2006/relationships/slide" Target="slides/slide215.xml"/><Relationship Id="rId220" Type="http://schemas.openxmlformats.org/officeDocument/2006/relationships/slide" Target="slides/slide216.xml"/><Relationship Id="rId221" Type="http://schemas.openxmlformats.org/officeDocument/2006/relationships/slide" Target="slides/slide217.xml"/><Relationship Id="rId222" Type="http://schemas.openxmlformats.org/officeDocument/2006/relationships/slide" Target="slides/slide218.xml"/><Relationship Id="rId223" Type="http://schemas.openxmlformats.org/officeDocument/2006/relationships/slide" Target="slides/slide219.xml"/><Relationship Id="rId224" Type="http://schemas.openxmlformats.org/officeDocument/2006/relationships/slide" Target="slides/slide220.xml"/><Relationship Id="rId225" Type="http://schemas.openxmlformats.org/officeDocument/2006/relationships/slide" Target="slides/slide221.xml"/><Relationship Id="rId226" Type="http://schemas.openxmlformats.org/officeDocument/2006/relationships/slide" Target="slides/slide222.xml"/><Relationship Id="rId227" Type="http://schemas.openxmlformats.org/officeDocument/2006/relationships/slide" Target="slides/slide223.xml"/><Relationship Id="rId228" Type="http://schemas.openxmlformats.org/officeDocument/2006/relationships/slide" Target="slides/slide224.xml"/><Relationship Id="rId229" Type="http://schemas.openxmlformats.org/officeDocument/2006/relationships/slide" Target="slides/slide225.xml"/><Relationship Id="rId230" Type="http://schemas.openxmlformats.org/officeDocument/2006/relationships/slide" Target="slides/slide226.xml"/><Relationship Id="rId231" Type="http://schemas.openxmlformats.org/officeDocument/2006/relationships/slide" Target="slides/slide227.xml"/><Relationship Id="rId232" Type="http://schemas.openxmlformats.org/officeDocument/2006/relationships/slide" Target="slides/slide228.xml"/><Relationship Id="rId233" Type="http://schemas.openxmlformats.org/officeDocument/2006/relationships/slide" Target="slides/slide229.xml"/><Relationship Id="rId234" Type="http://schemas.openxmlformats.org/officeDocument/2006/relationships/slide" Target="slides/slide230.xml"/><Relationship Id="rId235" Type="http://schemas.openxmlformats.org/officeDocument/2006/relationships/slide" Target="slides/slide231.xml"/><Relationship Id="rId236" Type="http://schemas.openxmlformats.org/officeDocument/2006/relationships/slide" Target="slides/slide232.xml"/><Relationship Id="rId237" Type="http://schemas.openxmlformats.org/officeDocument/2006/relationships/slide" Target="slides/slide233.xml"/><Relationship Id="rId238" Type="http://schemas.openxmlformats.org/officeDocument/2006/relationships/slide" Target="slides/slide234.xml"/><Relationship Id="rId239" Type="http://schemas.openxmlformats.org/officeDocument/2006/relationships/slide" Target="slides/slide235.xml"/><Relationship Id="rId240" Type="http://schemas.openxmlformats.org/officeDocument/2006/relationships/slide" Target="slides/slide236.xml"/><Relationship Id="rId241" Type="http://schemas.openxmlformats.org/officeDocument/2006/relationships/slide" Target="slides/slide237.xml"/><Relationship Id="rId242" Type="http://schemas.openxmlformats.org/officeDocument/2006/relationships/slide" Target="slides/slide238.xml"/><Relationship Id="rId243" Type="http://schemas.openxmlformats.org/officeDocument/2006/relationships/slide" Target="slides/slide239.xml"/><Relationship Id="rId244" Type="http://schemas.openxmlformats.org/officeDocument/2006/relationships/slide" Target="slides/slide240.xml"/><Relationship Id="rId245" Type="http://schemas.openxmlformats.org/officeDocument/2006/relationships/slide" Target="slides/slide241.xml"/><Relationship Id="rId246" Type="http://schemas.openxmlformats.org/officeDocument/2006/relationships/slide" Target="slides/slide242.xml"/><Relationship Id="rId2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F22D-FCA4-41D4-920C-0EB1003CA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07.xml.rels><?xml version="1.0" encoding="UTF-8"?>
<Relationships xmlns="http://schemas.openxmlformats.org/package/2006/relationships"><Relationship Id="rId1" Type="http://schemas.openxmlformats.org/officeDocument/2006/relationships/slide" Target="../slides/slide207.xml"/><Relationship Id="rId2" Type="http://schemas.openxmlformats.org/officeDocument/2006/relationships/notesMaster" Target="../notesMasters/notesMaster1.xml"/>
</Relationships>
</file>

<file path=ppt/notesSlides/_rels/notesSlide208.xml.rels><?xml version="1.0" encoding="UTF-8"?>
<Relationships xmlns="http://schemas.openxmlformats.org/package/2006/relationships"><Relationship Id="rId1" Type="http://schemas.openxmlformats.org/officeDocument/2006/relationships/slide" Target="../slides/slide208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10.xml.rels><?xml version="1.0" encoding="UTF-8"?>
<Relationships xmlns="http://schemas.openxmlformats.org/package/2006/relationships"><Relationship Id="rId1" Type="http://schemas.openxmlformats.org/officeDocument/2006/relationships/slide" Target="../slides/slide210.xml"/><Relationship Id="rId2" Type="http://schemas.openxmlformats.org/officeDocument/2006/relationships/notesMaster" Target="../notesMasters/notesMaster1.xml"/>
</Relationships>
</file>

<file path=ppt/notesSlides/_rels/notesSlide211.xml.rels><?xml version="1.0" encoding="UTF-8"?>
<Relationships xmlns="http://schemas.openxmlformats.org/package/2006/relationships"><Relationship Id="rId1" Type="http://schemas.openxmlformats.org/officeDocument/2006/relationships/slide" Target="../slides/slide211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4.xml.rels><?xml version="1.0" encoding="UTF-8"?>
<Relationships xmlns="http://schemas.openxmlformats.org/package/2006/relationships"><Relationship Id="rId1" Type="http://schemas.openxmlformats.org/officeDocument/2006/relationships/slide" Target="../slides/slide214.xml"/><Relationship Id="rId2" Type="http://schemas.openxmlformats.org/officeDocument/2006/relationships/notesMaster" Target="../notesMasters/notesMaster1.xml"/>
</Relationships>
</file>

<file path=ppt/notesSlides/_rels/notesSlide215.xml.rels><?xml version="1.0" encoding="UTF-8"?>
<Relationships xmlns="http://schemas.openxmlformats.org/package/2006/relationships"><Relationship Id="rId1" Type="http://schemas.openxmlformats.org/officeDocument/2006/relationships/slide" Target="../slides/slide215.xml"/><Relationship Id="rId2" Type="http://schemas.openxmlformats.org/officeDocument/2006/relationships/notesMaster" Target="../notesMasters/notesMaster1.xml"/>
</Relationships>
</file>

<file path=ppt/notesSlides/_rels/notesSlide216.xml.rels><?xml version="1.0" encoding="UTF-8"?>
<Relationships xmlns="http://schemas.openxmlformats.org/package/2006/relationships"><Relationship Id="rId1" Type="http://schemas.openxmlformats.org/officeDocument/2006/relationships/slide" Target="../slides/slide216.xml"/><Relationship Id="rId2" Type="http://schemas.openxmlformats.org/officeDocument/2006/relationships/notesMaster" Target="../notesMasters/notesMaster1.xml"/>
</Relationships>
</file>

<file path=ppt/notesSlides/_rels/notesSlide217.xml.rels><?xml version="1.0" encoding="UTF-8"?>
<Relationships xmlns="http://schemas.openxmlformats.org/package/2006/relationships"><Relationship Id="rId1" Type="http://schemas.openxmlformats.org/officeDocument/2006/relationships/slide" Target="../slides/slide217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19.xml.rels><?xml version="1.0" encoding="UTF-8"?>
<Relationships xmlns="http://schemas.openxmlformats.org/package/2006/relationships"><Relationship Id="rId1" Type="http://schemas.openxmlformats.org/officeDocument/2006/relationships/slide" Target="../slides/slide2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1.xml.rels><?xml version="1.0" encoding="UTF-8"?>
<Relationships xmlns="http://schemas.openxmlformats.org/package/2006/relationships"><Relationship Id="rId1" Type="http://schemas.openxmlformats.org/officeDocument/2006/relationships/slide" Target="../slides/slide221.xml"/><Relationship Id="rId2" Type="http://schemas.openxmlformats.org/officeDocument/2006/relationships/notesMaster" Target="../notesMasters/notesMaster1.xml"/>
</Relationships>
</file>

<file path=ppt/notesSlides/_rels/notesSlide222.xml.rels><?xml version="1.0" encoding="UTF-8"?>
<Relationships xmlns="http://schemas.openxmlformats.org/package/2006/relationships"><Relationship Id="rId1" Type="http://schemas.openxmlformats.org/officeDocument/2006/relationships/slide" Target="../slides/slide222.xml"/><Relationship Id="rId2" Type="http://schemas.openxmlformats.org/officeDocument/2006/relationships/notesMaster" Target="../notesMasters/notesMaster1.xml"/>
</Relationships>
</file>

<file path=ppt/notesSlides/_rels/notesSlide223.xml.rels><?xml version="1.0" encoding="UTF-8"?>
<Relationships xmlns="http://schemas.openxmlformats.org/package/2006/relationships"><Relationship Id="rId1" Type="http://schemas.openxmlformats.org/officeDocument/2006/relationships/slide" Target="../slides/slide223.xml"/><Relationship Id="rId2" Type="http://schemas.openxmlformats.org/officeDocument/2006/relationships/notesMaster" Target="../notesMasters/notesMaster1.xml"/>
</Relationships>
</file>

<file path=ppt/notesSlides/_rels/notesSlide224.xml.rels><?xml version="1.0" encoding="UTF-8"?>
<Relationships xmlns="http://schemas.openxmlformats.org/package/2006/relationships"><Relationship Id="rId1" Type="http://schemas.openxmlformats.org/officeDocument/2006/relationships/slide" Target="../slides/slide224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32.xml.rels><?xml version="1.0" encoding="UTF-8"?>
<Relationships xmlns="http://schemas.openxmlformats.org/package/2006/relationships"><Relationship Id="rId1" Type="http://schemas.openxmlformats.org/officeDocument/2006/relationships/slide" Target="../slides/slide232.xml"/><Relationship Id="rId2" Type="http://schemas.openxmlformats.org/officeDocument/2006/relationships/notesMaster" Target="../notesMasters/notesMaster1.xml"/>
</Relationships>
</file>

<file path=ppt/notesSlides/_rels/notesSlide233.xml.rels><?xml version="1.0" encoding="UTF-8"?>
<Relationships xmlns="http://schemas.openxmlformats.org/package/2006/relationships"><Relationship Id="rId1" Type="http://schemas.openxmlformats.org/officeDocument/2006/relationships/slide" Target="../slides/slide23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37.xml.rels><?xml version="1.0" encoding="UTF-8"?>
<Relationships xmlns="http://schemas.openxmlformats.org/package/2006/relationships"><Relationship Id="rId1" Type="http://schemas.openxmlformats.org/officeDocument/2006/relationships/slide" Target="../slides/slide237.xml"/><Relationship Id="rId2" Type="http://schemas.openxmlformats.org/officeDocument/2006/relationships/notesMaster" Target="../notesMasters/notesMaster1.xml"/>
</Relationships>
</file>

<file path=ppt/notesSlides/_rels/notesSlide238.xml.rels><?xml version="1.0" encoding="UTF-8"?>
<Relationships xmlns="http://schemas.openxmlformats.org/package/2006/relationships"><Relationship Id="rId1" Type="http://schemas.openxmlformats.org/officeDocument/2006/relationships/slide" Target="../slides/slide238.xml"/><Relationship Id="rId2" Type="http://schemas.openxmlformats.org/officeDocument/2006/relationships/notesMaster" Target="../notesMasters/notesMaster1.xml"/>
</Relationships>
</file>

<file path=ppt/notesSlides/_rels/notesSlide239.xml.rels><?xml version="1.0" encoding="UTF-8"?>
<Relationships xmlns="http://schemas.openxmlformats.org/package/2006/relationships"><Relationship Id="rId1" Type="http://schemas.openxmlformats.org/officeDocument/2006/relationships/slide" Target="../slides/slide23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40.xml.rels><?xml version="1.0" encoding="UTF-8"?>
<Relationships xmlns="http://schemas.openxmlformats.org/package/2006/relationships"><Relationship Id="rId1" Type="http://schemas.openxmlformats.org/officeDocument/2006/relationships/slide" Target="../slides/slide240.xml"/><Relationship Id="rId2" Type="http://schemas.openxmlformats.org/officeDocument/2006/relationships/notesMaster" Target="../notesMasters/notesMaster1.xml"/>
</Relationships>
</file>

<file path=ppt/notesSlides/_rels/notesSlide241.xml.rels><?xml version="1.0" encoding="UTF-8"?>
<Relationships xmlns="http://schemas.openxmlformats.org/package/2006/relationships"><Relationship Id="rId1" Type="http://schemas.openxmlformats.org/officeDocument/2006/relationships/slide" Target="../slides/slide241.xml"/><Relationship Id="rId2" Type="http://schemas.openxmlformats.org/officeDocument/2006/relationships/notesMaster" Target="../notesMasters/notesMaster1.xml"/>
</Relationships>
</file>

<file path=ppt/notesSlides/_rels/notesSlide242.xml.rels><?xml version="1.0" encoding="UTF-8"?>
<Relationships xmlns="http://schemas.openxmlformats.org/package/2006/relationships"><Relationship Id="rId1" Type="http://schemas.openxmlformats.org/officeDocument/2006/relationships/slide" Target="../slides/slide24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A28B-9C6F-495E-871B-2EA8B9BA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EDF6-EF4D-4281-A3C9-D5D8FEF3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12C8-5DDD-47FC-899F-66B31871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6714-AA93-42AA-B98E-B5513590B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0DC3-6D51-42F2-9D95-4D2C8F67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444A-C636-41B2-8C8F-E639019E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8EFC-A0F8-4E8E-BB89-7DF0533F0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CE37-CE51-4F07-8B35-C11151F3B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EBF0-ACAD-4807-B2FE-9AAD4B81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36DF-0ABE-4E3A-B652-355D0B16C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3B0-121F-4AE8-863F-FC533FC7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383B-C545-4BD4-881A-BABCF9E26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6C68-5764-4397-B8A5-33420149D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EBB2-42B7-4B7D-B193-A0E71B76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D4DE-C46F-463E-91FF-D36094AE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8CBA-C749-4995-BB5E-0FB4AA6A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EFD-6A64-4634-B47D-12B13F6B0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1CC-3E51-48E8-B199-99BBAED04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4276-8730-4CA0-9E6C-92F3442E7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D52E-AF55-4173-991B-90FACB38E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6B22-546E-4A0E-A001-8BFCE8A5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A24A-1744-4F0C-B39B-228BD5733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F25B-38A0-478B-99C1-8D879516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5457-DA02-4325-A7D2-5C56F990D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FE94-E52A-4E78-93F4-E3FAD07FD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D6C5-0942-4D49-9E44-C90CE380B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8C51-170B-4DC6-B518-A4C5B1D7E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BBF0-89D6-4F8E-9660-382C2782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8E8B-D20D-45BA-BAF4-59100266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91D3-15FE-4004-B26F-005607B14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ECF9-0122-43E1-B0C2-8921C379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1F39-B78E-4DAB-811A-F44E8E7F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F40A-E21D-491D-9B82-4D4DA86EF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AF05-0867-4882-A7A5-AA2386A8D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F338-84BF-49F6-8DB3-32921130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81EE-99E2-4D01-AD17-592C34B1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7C14-93DC-4F5D-9839-86CE716B5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F544-70A6-4757-A8BE-41467072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BEE8-BD85-44A8-A447-486882627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B36B-ADF0-4111-BD82-69FB2F667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9EA-0B0F-46C1-A855-384F1A123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B0C6-C472-43C9-A067-7D1C077C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607B-FE0F-4D88-827B-824ECF88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FD22-5741-4608-8AC6-4B4052C63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6A90-7751-4190-BEA0-71CC7ABCB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E790-B986-4F2B-96A4-4E27F548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21CB-0B4A-4B6B-BA5F-89D27A88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B7F7-26F4-48FF-AD52-8D63D49C0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8AFE-98CB-460D-8E57-631E9EEF9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41F3-2984-45F5-9369-F15955F03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9464-70F5-4C7E-BF7E-2CE5C4BC8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C00-69F5-4C55-92E7-A5EE9F86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B519-2DD3-4BBE-9EF6-7BD31E20B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1EFF-758F-4E37-B4AA-AF21E3A4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CD11-85FE-4EEA-B3D5-915C735AB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535C-3289-425D-A24A-E187CF16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BE21-FFF7-4619-9414-DA52A8878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3242-0FA9-4742-BE20-F683C391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D78C-ADE5-4D1A-8721-80FAEC14B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6439-509E-477D-8732-8D8E88CB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EC31-8872-40A4-BCFF-2140C48F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336D-D253-4FF5-8A68-00BE7BAC2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BB4E-12CA-4EA5-9E57-4870170C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2C7B-7F51-4198-AE37-E0F7D288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5BFA-D8BE-4429-A0B5-59666E756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989D-6A11-4335-A9FD-43541B7F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8A54-1ACF-4AA5-B360-7604F306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254A-A626-464B-B33B-A19CEED1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B15E-3691-4C74-B6E8-C6DB2C41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69B5-E8AF-49EB-B7BE-3B276BB9C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712-B8B9-4D4B-862F-2C0A57AE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EF0C-C5A8-4B95-AF55-7DC098D15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6EA0-8E48-43F2-BB1F-A5CE5EFCF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4396-83B0-43B9-B27C-3C88ECAC7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A243-D281-4381-8949-48F33AB6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5000-2DE0-4A27-97E6-7A78E94D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09DD-B271-429E-95CC-279A8F86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C280-B359-4404-946D-5582124F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7D8F-3362-4B77-A648-C1D1BE7D1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9B3B-0BD1-4086-ADAB-EE3BCF89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D8EE-E736-473A-9AA6-CE61DD5D7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CD22-0648-49B7-AFC1-4EFFAE373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1FB8-01D1-40D3-9D43-984D5B50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3012-3118-4DBE-80CB-E9A0C5F03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FA61-00D8-4C36-B3FA-434ED437D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5B81-B08A-49E0-8D0F-0BF143AD2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1F2B-2330-46B5-AA8E-A32B6EEA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747C-D29B-41A4-B568-4B99278B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54F3-620E-47A3-B83B-1B85C1501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91BC-E9FA-43EE-B41E-7D75A7FD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0B2A-7676-4303-B606-4FAD2F37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7D5-8D67-4CF6-AD44-B9EEAD47A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2A2-C0E1-4648-A670-BC248FC3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8226-4577-49AB-B441-A544CF86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F516-6532-46E9-8749-26F98EFD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8892-6C4F-47A7-993B-42EB20A19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E2A3-A794-4A93-8A7E-A215F1209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5E90-12A0-4971-8E1E-F766F2F7A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60B9-64A5-4B02-AF35-5C3998D0D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8DFA-76D8-4EFF-915A-8B7D11D9F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9EF5-A239-4E5D-83D8-6F58BB20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A867-E007-4615-B4AC-8E8686711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05BC-CE90-43C1-8F04-CC71D9AA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773C-CC93-4D50-9900-E16469A18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553C-A036-4A51-AC84-AE40D787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510F-835F-4CD9-B961-1388A917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9353-21D4-45B0-9ABE-52BDBE002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5F23-4070-49E4-8FD8-91CB6D4A2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8195-D107-4C2D-86EB-AE6BBF86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3B1E-F49D-4078-97D2-E0182B9A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71D0-F405-4C08-AA0B-479DD9B6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2BE2-8359-4C67-B4A8-71D8F688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495A-1FB3-43B4-90FF-BBD56D77F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73DD-EB88-4688-8123-DED17DE5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CD6F-EA03-489E-8660-A2C767EE0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3ECB-01E3-4EBB-A231-B9412C60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632D-DCCC-4B24-A2BE-1310BED5D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004-67E0-4A97-B233-61584FA7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C7CB-83C2-4A0B-BF23-EE99D9F19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79EE-531A-465F-B8B2-7002D846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1687-C5FC-451A-B1F6-053B53056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0A19-6301-4798-B8DD-B27117FAF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7D83-3C02-4C56-B92A-5D9893C1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E4D0-B461-4AB5-BF9E-48470F20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39F6-BBCA-4939-B6A6-7BE0EA8C3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F77A-3060-4258-B371-C6BFEBE3F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949A-81E1-4B92-9CBA-BCD175FE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8919-376D-42A1-A5C9-24FE556F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6933-562E-4DB5-A067-9B3EB8A3A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67D3-D201-4277-B803-4F30F265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CFE7-70FF-46D1-9DEF-AECD3C36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AEE5-5FE4-444A-B8A9-2326C958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6771-12B9-4121-BAAE-E3A4B6D53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AC94-4A67-417D-850A-4E985022E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E258-E1D1-43F9-9E04-73518F34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BC19-E8D9-432C-B3A3-B04EB6BF8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A66F-2C19-422D-B221-2EAD5B29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F264-DF8E-4997-8A9C-E9145BD9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28E-D637-4578-B85F-514B658A1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79D-7BB1-4EBD-91F0-FB85804F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9C9A-60EE-4165-B05C-E195BCEC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15CB-78C2-470A-819D-6F2189357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91E-B297-4C54-86AB-30F6CF5A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8405-72A1-45AB-81DA-84FC1EF05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A14F-CAF4-4533-816C-42E12417D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5FCF-1962-4090-9803-8E3D8A1D3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F393-98FA-471F-9C17-2227A0EF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1769-2A0C-4A05-A6AF-D9B4BA786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FCE7-9370-4A40-951B-D30F5CEF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275B-12FF-4380-A84F-F4FEA5258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14B6-1227-4431-A5A0-8312988D3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BC9B-54FD-4974-8DDB-E3C38DD1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5180-C003-4BAF-A675-AE4B2E666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7C9C-3DF4-4D6C-A500-5C4D3496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D811-FB56-4C27-8A10-99FCB81B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7F2F-2A40-4491-8D50-05422138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191B-C907-42F4-96E6-B1E5D456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0126-34E2-4CB0-8F3A-266F134E4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2718-E9FA-4221-91F4-210C0C05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FA60-538F-49C0-8E0B-3FFD4E7C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84A6-840D-4980-BF78-DEE29A88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8572-5858-4010-A0E1-8227375F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AB5-1679-4772-8F5B-3F835216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FB4E-4757-45A2-9D9F-5F6EE239A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6F1-AF4B-47B1-938C-E25386BA3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9F90-903C-492D-BDEB-24A15A64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7499-3DCE-4A72-94AA-F4BFABC6A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5462-34D2-4321-991F-B5D02A42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7174-1EEE-48C0-8A9B-7D970BA4F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106B-C3F0-446B-BAA8-3FA911F5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22A-E99C-4C35-8CF0-2DDF9BFF0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4CB-CAC0-4862-8B30-9AB507AE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C3F1-E711-4822-8296-F2C15BF8A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5810-EDAB-4E49-BA7E-31C28FC7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285B-DA1C-4BE2-9446-E681AC81A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FE7E-555D-469E-9592-342536AB9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196E-A467-4B92-889E-A8B74889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0A31-3700-47AC-86E5-56ADC5DD9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6AE2-4D88-4723-B8E1-EA783DC5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2621-32FD-4202-AA66-7966B537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D658-CAF1-4B70-A765-888C82D6B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8D12-8F2D-48DF-9133-CF2B0304C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8288-975D-404E-8954-49D99FA3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1653-D551-4872-914E-E3D23B7EB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2E97-A369-4D65-A646-A97E2A69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6ED-F2B4-4548-BB8F-200D1B6A9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709E-6606-4E0F-B765-CA72DDFA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8056-B431-4311-9484-9A1B6C6FD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8FE3-090B-42BA-88B9-D05AEE419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E0CE-DAD5-4809-8EA8-D402097AB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1FD5-C7C6-45F8-8B74-172E1DEF1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197D-40B9-4736-9611-AADD08105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D408-EDEC-45DA-AF65-9D925C77A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3B48-6BA5-4E83-8206-73680C812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EAA1-AC1C-4556-ADA5-A826F9F68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3418-E126-4AF7-B8D4-B5734B20A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D3DB-6084-4282-9AA2-B7C951EF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E0AA-1EEC-4193-84C9-3536EEC8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FEE1-E2E8-43B7-99B6-F959B6987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280-3102-4DE4-AD14-35167B7B9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E81-7F9B-46BD-A8F0-DB925720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400F-9109-4021-A754-0981EA545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5731-D34A-4694-980B-BEED333F3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6F2-E49E-4579-9046-2AB14E6D3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B264-F021-4101-A64D-5E2877641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20DE-2BF6-45F8-8C38-9F8A92366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EBBB-C3E5-4076-8C04-ACF87DB37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B586-5DF8-4F6A-83D9-4584AD1E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417D-2A44-443C-AC5D-2B962C623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98D9-489D-4AD9-8466-16BA6ADAF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07DF-81BB-4946-84D3-D129337D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19F7-51F6-45E5-82B4-21B4F935C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123-60F5-46F4-9269-8A4BFA069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84F-2BF3-4FB6-881E-1916AF3A0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6400-B2A0-4F65-8B07-B50903653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3E48-67B8-45D2-8ADB-A9F2A205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193D-2590-4EE8-B87C-F17765C22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235E-51B0-45A6-85D6-B7301AEE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9CC4-C637-4310-B376-47E2D6AD0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A96B-7198-4B3A-8C3B-19A5608D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C543-E247-48B6-889F-AB48DF628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E113-1BA7-4870-A989-249CCD363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EE1-2412-49CF-86C9-F114EBF5F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BB5B-41CE-4FF4-9D67-CD524B106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9941-480C-499E-913A-1229DDB82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DC28-E9ED-498B-8C65-F3538CDF3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6D62-44A1-4B8E-85C8-D89AE48BF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F9D4-B997-4895-A0C0-FFB85B72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3146-2D45-452F-B2F2-9151D82BC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E816-EE3C-4996-A1A3-31F69B3F2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226-301A-41AA-95E7-2C88D4C4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B373-27F8-4FB6-BFC0-FDACA84C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E3C0-657A-4DC0-9F96-7F46F5CE5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FF8D-48D7-4106-B477-4C8FCC69B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ECC5-0C17-4C1E-BB11-C0823EBDE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4E05-6C99-4816-8332-92AAA7E9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FC78-FF70-4819-A411-F05D734C5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12C4-6FCB-4D34-BC86-DAF4977C6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7D87-CA73-42A9-ABFC-B181C8540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80CE-5C8C-4150-B4C8-3802D25F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09D-0188-41E9-9F9A-545023C91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4894-E351-47F4-82CD-13BBAFAB7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D01-021C-4E88-A63F-006CDB77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B33-DDDB-4FCD-A7EC-41AB5CAF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809-7926-41A7-9082-CFBA4049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84E-C099-4D8A-90A9-3507EAAA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9F0C-53B1-4883-997F-8EC36BEE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6029-D99B-4AD4-A9C1-C96D3555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D143-B9B2-4B3F-9A16-4DF8454A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8D5C-81FA-4125-B893-D3429276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3831-BF39-4908-87F3-E0C1903A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782C-8189-480D-BE49-F143CC8B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B9AB-DEBB-4613-B501-3C0BCD0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8C5-5297-4115-9186-6621DA22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88BD-AFBA-448C-AC16-EB46AC8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044F-90F6-47B1-9A0E-D230D67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FB64-3730-4D1E-9D24-37D4C299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6488-0DC7-4E8F-9485-A678B012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61E6-7073-47A6-BD6F-7F9E89DA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3DC-B831-44CE-B51B-92FD576D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B44-BF0E-43E2-8451-95E193BD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28B-D3BF-4315-B790-1ED67E25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2DE-7042-45B0-A9F3-BAE38641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343-8EF3-48ED-8045-77118C8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581-C4EE-457D-B2D3-2F95848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CA8-C102-4976-BD6E-D2EEE0D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563-9FED-4C7B-A87A-7F7EC6BD9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D43A-10C1-4FA4-BEAD-0886DA7B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7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8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0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6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7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4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7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8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0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al Exa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April 30, 4:00 – 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  here,    Hanes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Case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ire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reatment 1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4267080" y="2209680"/>
                <a:ext cx="2514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4267080" y="3048120"/>
                <a:ext cx="2514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Line 7"/>
          <p:cNvSpPr/>
          <p:nvPr/>
        </p:nvSpPr>
        <p:spPr>
          <a:xfrm>
            <a:off x="441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6400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: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a line to data in a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bas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: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a line to data in a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bas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: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a line to data in a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bas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new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8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{(x,y} : y = mx +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all ordered pairs such that y = mx + 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 flipV="1">
            <a:off x="609480" y="30477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                               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"/>
          <p:cNvSpPr/>
          <p:nvPr/>
        </p:nvSpPr>
        <p:spPr>
          <a:xfrm flipV="1">
            <a:off x="609480" y="30477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>
            <a:off x="6400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3"/>
          <p:cNvSpPr/>
          <p:nvPr/>
        </p:nvSpPr>
        <p:spPr>
          <a:xfrm flipV="1">
            <a:off x="7162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4"/>
          <p:cNvSpPr/>
          <p:nvPr/>
        </p:nvSpPr>
        <p:spPr>
          <a:xfrm flipH="1" flipV="1">
            <a:off x="7162560" y="34290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                               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y intercept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 flipV="1">
            <a:off x="609480" y="30477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 flipV="1">
            <a:off x="1219320" y="304776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6400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V="1">
            <a:off x="7162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 flipH="1" flipV="1">
            <a:off x="7162560" y="34290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Case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ire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reatment 1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4267080" y="2209680"/>
                <a:ext cx="2514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4267080" y="3048120"/>
                <a:ext cx="2514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Line 7"/>
          <p:cNvSpPr/>
          <p:nvPr/>
        </p:nvSpPr>
        <p:spPr>
          <a:xfrm>
            <a:off x="441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6400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76280" y="5181480"/>
                <a:ext cx="28051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6248520" y="5181480"/>
                <a:ext cx="2482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                               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y intercept                          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4"/>
          <p:cNvSpPr/>
          <p:nvPr/>
        </p:nvSpPr>
        <p:spPr>
          <a:xfrm flipV="1">
            <a:off x="609480" y="30477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"/>
          <p:cNvSpPr/>
          <p:nvPr/>
        </p:nvSpPr>
        <p:spPr>
          <a:xfrm flipV="1">
            <a:off x="1219320" y="304776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>
            <a:off x="5562720" y="41148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 flipV="1">
            <a:off x="5562720" y="4419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 flipH="1" flipV="1">
            <a:off x="5638680" y="44197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6400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 flipV="1">
            <a:off x="7162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 flipH="1" flipV="1">
            <a:off x="7162560" y="34290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                               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y intercept                          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m &amp; b give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mily of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"/>
          <p:cNvSpPr/>
          <p:nvPr/>
        </p:nvSpPr>
        <p:spPr>
          <a:xfrm flipV="1">
            <a:off x="609480" y="30477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"/>
          <p:cNvSpPr/>
          <p:nvPr/>
        </p:nvSpPr>
        <p:spPr>
          <a:xfrm flipV="1">
            <a:off x="1219320" y="304776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"/>
          <p:cNvSpPr/>
          <p:nvPr/>
        </p:nvSpPr>
        <p:spPr>
          <a:xfrm>
            <a:off x="5562720" y="41148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 flipV="1">
            <a:off x="5562720" y="4419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1"/>
          <p:cNvSpPr/>
          <p:nvPr/>
        </p:nvSpPr>
        <p:spPr>
          <a:xfrm flipH="1" flipV="1">
            <a:off x="5638680" y="44197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6400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3"/>
          <p:cNvSpPr/>
          <p:nvPr/>
        </p:nvSpPr>
        <p:spPr>
          <a:xfrm flipV="1">
            <a:off x="7162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4"/>
          <p:cNvSpPr/>
          <p:nvPr/>
        </p:nvSpPr>
        <p:spPr>
          <a:xfrm flipH="1" flipV="1">
            <a:off x="7162560" y="34290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                               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y intercept                          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m &amp; b give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mily of l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 &amp;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"/>
          <p:cNvSpPr/>
          <p:nvPr/>
        </p:nvSpPr>
        <p:spPr>
          <a:xfrm flipV="1">
            <a:off x="609480" y="30477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"/>
          <p:cNvSpPr/>
          <p:nvPr/>
        </p:nvSpPr>
        <p:spPr>
          <a:xfrm flipV="1">
            <a:off x="1219320" y="304776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7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8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5562720" y="41148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 flipV="1">
            <a:off x="5562720" y="4419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 flipV="1">
            <a:off x="5638680" y="44197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6400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 flipV="1">
            <a:off x="7162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4"/>
          <p:cNvSpPr/>
          <p:nvPr/>
        </p:nvSpPr>
        <p:spPr>
          <a:xfrm flipH="1" flipV="1">
            <a:off x="7162560" y="34290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’s 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      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’s 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’s 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 (above) =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Straight Arrow Connector 4"/>
          <p:cNvCxnSpPr/>
          <p:nvPr/>
        </p:nvCxnSpPr>
        <p:spPr>
          <a:xfrm flipV="1">
            <a:off x="2362320" y="2742840"/>
            <a:ext cx="274392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’s 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 (above) =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 (above) = 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Straight Arrow Connector 4"/>
          <p:cNvCxnSpPr/>
          <p:nvPr/>
        </p:nvCxnSpPr>
        <p:spPr>
          <a:xfrm flipV="1">
            <a:off x="2438280" y="2742840"/>
            <a:ext cx="3658320" cy="22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ggested HW (to review line ide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24:  Fred keeps his savings in his mattress.  He begins with $500 from his mother, and adds $100 each year.  His total saving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 after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years are given by the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500 + 100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a)  Draw a graph of this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24:    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 After 20 years, how much will Fred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$25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)  If Fred adds $200 instead of $100 each year to his initial $500, what is the equation that describes his savings after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years?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(y = 500 + 200 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catterplot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371600" y="3048120"/>
                <a:ext cx="3809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Case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ire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reatment 1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267080" y="2209680"/>
                <a:ext cx="2514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4267080" y="3048120"/>
                <a:ext cx="2514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Line 7"/>
          <p:cNvSpPr/>
          <p:nvPr/>
        </p:nvSpPr>
        <p:spPr>
          <a:xfrm>
            <a:off x="441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6400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476280" y="5181480"/>
                <a:ext cx="28051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6248520" y="5181480"/>
                <a:ext cx="2482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Line 12"/>
          <p:cNvSpPr/>
          <p:nvPr/>
        </p:nvSpPr>
        <p:spPr>
          <a:xfrm flipH="1" flipV="1">
            <a:off x="3124080" y="5715000"/>
            <a:ext cx="9907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V="1">
            <a:off x="5638680" y="5715000"/>
            <a:ext cx="2590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catterplot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2"/>
              <p:cNvSpPr txBox="1"/>
              <p:nvPr/>
            </p:nvSpPr>
            <p:spPr>
              <a:xfrm>
                <a:off x="1371600" y="3048120"/>
                <a:ext cx="3809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2" name="Chart 4" descr=""/>
          <p:cNvPicPr/>
          <p:nvPr/>
        </p:nvPicPr>
        <p:blipFill>
          <a:blip r:embed="rId1"/>
          <a:stretch/>
        </p:blipFill>
        <p:spPr>
          <a:xfrm>
            <a:off x="5479920" y="3292560"/>
            <a:ext cx="36766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catterplot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"/>
              <p:cNvSpPr txBox="1"/>
              <p:nvPr/>
            </p:nvSpPr>
            <p:spPr>
              <a:xfrm>
                <a:off x="1371600" y="3048120"/>
                <a:ext cx="3809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6" name="Chart 4" descr=""/>
          <p:cNvPicPr/>
          <p:nvPr/>
        </p:nvPicPr>
        <p:blipFill>
          <a:blip r:embed="rId1"/>
          <a:stretch/>
        </p:blipFill>
        <p:spPr>
          <a:xfrm>
            <a:off x="5479920" y="3292560"/>
            <a:ext cx="36766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catterplot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choose a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1371600" y="3048120"/>
                <a:ext cx="3809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Chart 4" descr=""/>
          <p:cNvPicPr/>
          <p:nvPr/>
        </p:nvPicPr>
        <p:blipFill>
          <a:blip r:embed="rId1"/>
          <a:stretch/>
        </p:blipFill>
        <p:spPr>
          <a:xfrm>
            <a:off x="5479920" y="3292560"/>
            <a:ext cx="36766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catterplot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choose a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st f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2"/>
              <p:cNvSpPr txBox="1"/>
              <p:nvPr/>
            </p:nvSpPr>
            <p:spPr>
              <a:xfrm>
                <a:off x="1371600" y="3048120"/>
                <a:ext cx="3809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Chart 4" descr=""/>
          <p:cNvPicPr/>
          <p:nvPr/>
        </p:nvPicPr>
        <p:blipFill>
          <a:blip r:embed="rId1"/>
          <a:stretch/>
        </p:blipFill>
        <p:spPr>
          <a:xfrm>
            <a:off x="5479920" y="3292560"/>
            <a:ext cx="36766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catterplot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choose a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st f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1371600" y="3048120"/>
                <a:ext cx="3809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8" name="Chart 4" descr=""/>
          <p:cNvPicPr/>
          <p:nvPr/>
        </p:nvPicPr>
        <p:blipFill>
          <a:blip r:embed="rId1"/>
          <a:stretch/>
        </p:blipFill>
        <p:spPr>
          <a:xfrm>
            <a:off x="5479920" y="3292560"/>
            <a:ext cx="3676680" cy="3578040"/>
          </a:xfrm>
          <a:prstGeom prst="rect">
            <a:avLst/>
          </a:prstGeom>
          <a:ln w="0">
            <a:noFill/>
          </a:ln>
        </p:spPr>
      </p:pic>
      <p:sp>
        <p:nvSpPr>
          <p:cNvPr id="479" name="Straight Connector 6"/>
          <p:cNvSpPr/>
          <p:nvPr/>
        </p:nvSpPr>
        <p:spPr>
          <a:xfrm flipH="1">
            <a:off x="7467480" y="3809880"/>
            <a:ext cx="144792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5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6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Line 10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1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3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4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5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7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5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6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10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1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3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4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5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6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7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8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5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6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2" name="Line 10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2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5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2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5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6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Line 10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1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2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3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4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5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8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0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1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2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3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4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 data Y   –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on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5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6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Line 10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2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5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0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1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2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3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4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 data Y   –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on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5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6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Line 10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2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3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4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5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7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8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9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0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1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2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3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4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 data Y   –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on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o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5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6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Line 10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3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4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5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6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7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8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9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0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1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2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3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4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 data Y   –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on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o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to make these “sm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2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5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6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Line 10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1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6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7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8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9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1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2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3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4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iduals  &gt; 0,  by squ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:     adjust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 of Squared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3029040" y="4199040"/>
                <a:ext cx="39988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Demo, by David Lane at Rice 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uf.rice.edu/~lane/stat_sim/reg_by_ey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Demo, by David Lane at Rice 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uf.rice.edu/~lane/stat_sim/reg_by_ey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gives us scatterplot with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ppears to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ly generat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Demo, by David Lane at Rice 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uf.rice.edu/~lane/stat_sim/reg_by_ey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gives us scatterplot with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drawing lines (to min M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eliberately dumb) hand-drawn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36" name="Straight Arrow Connector 6"/>
          <p:cNvCxnSpPr/>
          <p:nvPr/>
        </p:nvCxnSpPr>
        <p:spPr>
          <a:xfrm flipH="1">
            <a:off x="6019560" y="1447560"/>
            <a:ext cx="1219680" cy="2057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eliberately dumb) hand-drawn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 Fit (bad) by Mean Square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40" name="Straight Arrow Connector 6"/>
          <p:cNvCxnSpPr/>
          <p:nvPr/>
        </p:nvCxnSpPr>
        <p:spPr>
          <a:xfrm flipH="1">
            <a:off x="7314480" y="2133360"/>
            <a:ext cx="686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Demo, by David Lane at Rice 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uf.rice.edu/~lane/stat_sim/reg_by_ey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gives us scatterplot with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drawing lines (to min M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 with intercepts,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opefully better) hand-drawn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46" name="Straight Arrow Connector 6"/>
          <p:cNvCxnSpPr/>
          <p:nvPr/>
        </p:nvCxnSpPr>
        <p:spPr>
          <a:xfrm flipH="1">
            <a:off x="5180760" y="1447920"/>
            <a:ext cx="1600920" cy="25912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opefully better) hand-drawn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!    Improved (smaller) M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50" name="Straight Arrow Connector 6"/>
          <p:cNvCxnSpPr/>
          <p:nvPr/>
        </p:nvCxnSpPr>
        <p:spPr>
          <a:xfrm>
            <a:off x="6553080" y="2133720"/>
            <a:ext cx="610560" cy="12960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t choice of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t choice of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to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ertically cen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i.e. 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Avg(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ual attempt at  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Avg(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60" name="Straight Arrow Connector 5"/>
          <p:cNvCxnSpPr/>
          <p:nvPr/>
        </p:nvCxnSpPr>
        <p:spPr>
          <a:xfrm>
            <a:off x="2743200" y="1371240"/>
            <a:ext cx="838800" cy="289620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ual attempt at  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Avg(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expected:   improved M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64" name="Straight Arrow Connector 5"/>
          <p:cNvCxnSpPr/>
          <p:nvPr/>
        </p:nvCxnSpPr>
        <p:spPr>
          <a:xfrm>
            <a:off x="5942520" y="2133360"/>
            <a:ext cx="1220040" cy="160092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Demo, by David Lane at Rice 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uf.rice.edu/~lane/stat_sim/reg_by_ey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gives us scatterplot with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drawing lines (to min M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 with intercepts,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slopes,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ry to allow slope, whil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aintaining inter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ry to allow slope, whil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aintaining intercep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(so go through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en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ypo. Testing, EXCEL work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ope which direction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pparent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ownward trend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an attem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79" name="Straight Arrow Connector 5"/>
          <p:cNvCxnSpPr/>
          <p:nvPr/>
        </p:nvCxnSpPr>
        <p:spPr>
          <a:xfrm flipH="1">
            <a:off x="2666520" y="1447920"/>
            <a:ext cx="457920" cy="2286720"/>
          </a:xfrm>
          <a:prstGeom prst="straightConnector1">
            <a:avLst/>
          </a:prstGeom>
          <a:ln w="19080">
            <a:solidFill>
              <a:srgbClr val="ffcc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an attempt:     Worse MSE!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83" name="Straight Arrow Connector 5"/>
          <p:cNvCxnSpPr/>
          <p:nvPr/>
        </p:nvCxnSpPr>
        <p:spPr>
          <a:xfrm>
            <a:off x="6705720" y="1371240"/>
            <a:ext cx="381600" cy="2515320"/>
          </a:xfrm>
          <a:prstGeom prst="straightConnector1">
            <a:avLst/>
          </a:prstGeom>
          <a:ln w="19080">
            <a:solidFill>
              <a:srgbClr val="ffcc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an attempt:     Worse MSE!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haps too steep?      Try les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87" name="Straight Arrow Connector 5"/>
          <p:cNvCxnSpPr/>
          <p:nvPr/>
        </p:nvCxnSpPr>
        <p:spPr>
          <a:xfrm>
            <a:off x="6705720" y="1371240"/>
            <a:ext cx="381600" cy="2515320"/>
          </a:xfrm>
          <a:prstGeom prst="straightConnector1">
            <a:avLst/>
          </a:prstGeom>
          <a:ln w="19080">
            <a:solidFill>
              <a:srgbClr val="ffcc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attem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91" name="Straight Arrow Connector 5"/>
          <p:cNvCxnSpPr/>
          <p:nvPr/>
        </p:nvCxnSpPr>
        <p:spPr>
          <a:xfrm flipH="1">
            <a:off x="2818800" y="1447920"/>
            <a:ext cx="153000" cy="266724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attempt:    Improved M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95" name="Straight Arrow Connector 5"/>
          <p:cNvCxnSpPr/>
          <p:nvPr/>
        </p:nvCxnSpPr>
        <p:spPr>
          <a:xfrm>
            <a:off x="6552000" y="1447920"/>
            <a:ext cx="686520" cy="274392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ld try to fine tune mo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let’s look a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est possib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699" name="Straight Arrow Connector 5"/>
          <p:cNvCxnSpPr/>
          <p:nvPr/>
        </p:nvCxnSpPr>
        <p:spPr>
          <a:xfrm flipH="1">
            <a:off x="2361960" y="2209680"/>
            <a:ext cx="3582000" cy="3734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ld try to fine tune mo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let’s look a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est possib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703" name="Straight Arrow Connector 5"/>
          <p:cNvCxnSpPr/>
          <p:nvPr/>
        </p:nvCxnSpPr>
        <p:spPr>
          <a:xfrm flipH="1">
            <a:off x="5333400" y="2209680"/>
            <a:ext cx="610200" cy="22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ld try to fine tune mo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let’s look a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est possib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707" name="Straight Arrow Connector 5"/>
          <p:cNvCxnSpPr/>
          <p:nvPr/>
        </p:nvCxnSpPr>
        <p:spPr>
          <a:xfrm>
            <a:off x="5942520" y="2209320"/>
            <a:ext cx="1220040" cy="221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center point (intercept) was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too hig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711" name="Straight Arrow Connector 5"/>
          <p:cNvCxnSpPr/>
          <p:nvPr/>
        </p:nvCxnSpPr>
        <p:spPr>
          <a:xfrm flipH="1">
            <a:off x="4266360" y="1447560"/>
            <a:ext cx="1600920" cy="2819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ypo. Testing, EXCEL work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well labelled in 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our slope looks pretty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715" name="Straight Arrow Connector 5"/>
          <p:cNvCxnSpPr/>
          <p:nvPr/>
        </p:nvCxnSpPr>
        <p:spPr>
          <a:xfrm>
            <a:off x="2437200" y="1447920"/>
            <a:ext cx="305640" cy="259128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Demo, by David Lane at Rice 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uf.rice.edu/~lane/stat_sim/reg_by_ey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gives us scatterplot with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drawing lines (to min M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 with intercepts,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slopes,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ess the correlation,  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ry to guess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721" name="Straight Arrow Connector 5"/>
          <p:cNvCxnSpPr/>
          <p:nvPr/>
        </p:nvCxnSpPr>
        <p:spPr>
          <a:xfrm>
            <a:off x="5867280" y="1447920"/>
            <a:ext cx="1829520" cy="22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ry to guess correl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725" name="Straight Arrow Connector 5"/>
          <p:cNvCxnSpPr/>
          <p:nvPr/>
        </p:nvCxnSpPr>
        <p:spPr>
          <a:xfrm>
            <a:off x="4723920" y="1981080"/>
            <a:ext cx="304884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Another Data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us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729" name="Straight Arrow Connector 6"/>
          <p:cNvCxnSpPr/>
          <p:nvPr/>
        </p:nvCxnSpPr>
        <p:spPr>
          <a:xfrm flipH="1">
            <a:off x="5790960" y="2133360"/>
            <a:ext cx="838800" cy="3734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ly slopes up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arently stronger correl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ly slopes up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arently stronger correl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736" name="Straight Arrow Connector 5"/>
          <p:cNvCxnSpPr/>
          <p:nvPr/>
        </p:nvCxnSpPr>
        <p:spPr>
          <a:xfrm>
            <a:off x="3580200" y="1447920"/>
            <a:ext cx="2134440" cy="2134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Lane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ly slopes up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arently stronger correl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"/>
          <p:cNvPicPr/>
          <p:nvPr/>
        </p:nvPicPr>
        <p:blipFill>
          <a:blip r:embed="rId1"/>
          <a:stretch/>
        </p:blipFill>
        <p:spPr>
          <a:xfrm>
            <a:off x="1392120" y="2498760"/>
            <a:ext cx="7751880" cy="4359240"/>
          </a:xfrm>
          <a:prstGeom prst="rect">
            <a:avLst/>
          </a:prstGeom>
          <a:ln w="0">
            <a:noFill/>
          </a:ln>
        </p:spPr>
      </p:pic>
      <p:cxnSp>
        <p:nvCxnSpPr>
          <p:cNvPr id="740" name="Straight Arrow Connector 5"/>
          <p:cNvCxnSpPr/>
          <p:nvPr/>
        </p:nvCxnSpPr>
        <p:spPr>
          <a:xfrm>
            <a:off x="6324480" y="2209320"/>
            <a:ext cx="1524960" cy="2667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=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 data Y   –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Y on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+ 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o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to make these “sm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2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5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6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10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2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13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14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15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6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7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8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9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0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1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2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3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4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iduals  &gt; 0,  by squ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:     adjust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 of Squared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3"/>
              <p:cNvSpPr txBox="1"/>
              <p:nvPr/>
            </p:nvSpPr>
            <p:spPr>
              <a:xfrm>
                <a:off x="2997360" y="4191120"/>
                <a:ext cx="406368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iduals  &gt; 0,  by squ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:     adjust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 of Squared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w to Comput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3"/>
              <p:cNvSpPr txBox="1"/>
              <p:nvPr/>
            </p:nvSpPr>
            <p:spPr>
              <a:xfrm>
                <a:off x="2997360" y="4191120"/>
                <a:ext cx="406368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          (math beyond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          (math beyond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          (math beyond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 Fit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s through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2"/>
              <p:cNvSpPr txBox="1"/>
              <p:nvPr/>
            </p:nvSpPr>
            <p:spPr>
              <a:xfrm>
                <a:off x="6248520" y="2819520"/>
                <a:ext cx="1371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          (math beyond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 Fit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s through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2"/>
              <p:cNvSpPr txBox="1"/>
              <p:nvPr/>
            </p:nvSpPr>
            <p:spPr>
              <a:xfrm>
                <a:off x="6248520" y="2819520"/>
                <a:ext cx="1371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3"/>
              <p:cNvSpPr txBox="1"/>
              <p:nvPr/>
            </p:nvSpPr>
            <p:spPr>
              <a:xfrm>
                <a:off x="3505320" y="3821040"/>
                <a:ext cx="175248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          (math beyond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 Fit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s through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rrection factor uses correlation, 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2"/>
              <p:cNvSpPr txBox="1"/>
              <p:nvPr/>
            </p:nvSpPr>
            <p:spPr>
              <a:xfrm>
                <a:off x="6248520" y="2819520"/>
                <a:ext cx="1371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3"/>
              <p:cNvSpPr txBox="1"/>
              <p:nvPr/>
            </p:nvSpPr>
            <p:spPr>
              <a:xfrm>
                <a:off x="3505320" y="3821040"/>
                <a:ext cx="175248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2" name="Line 6"/>
          <p:cNvSpPr/>
          <p:nvPr/>
        </p:nvSpPr>
        <p:spPr>
          <a:xfrm flipH="1" flipV="1">
            <a:off x="4343040" y="4724280"/>
            <a:ext cx="2438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          (math beyond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 Fit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s through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rrection factor uses correlation, 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 r = 0,     and r &lt;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Object 2"/>
              <p:cNvSpPr txBox="1"/>
              <p:nvPr/>
            </p:nvSpPr>
            <p:spPr>
              <a:xfrm>
                <a:off x="6248520" y="2819520"/>
                <a:ext cx="1371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3"/>
              <p:cNvSpPr txBox="1"/>
              <p:nvPr/>
            </p:nvSpPr>
            <p:spPr>
              <a:xfrm>
                <a:off x="3505320" y="3821040"/>
                <a:ext cx="175248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Line 6"/>
          <p:cNvSpPr/>
          <p:nvPr/>
        </p:nvSpPr>
        <p:spPr>
          <a:xfrm flipH="1" flipV="1">
            <a:off x="4343040" y="4724280"/>
            <a:ext cx="2438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ompute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ompute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ing formulas for 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&amp; 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ompute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EXCEL provides useful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2154240" y="3200400"/>
                <a:ext cx="28036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019920" y="3124080"/>
                <a:ext cx="2666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ompute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EXCEL provides useful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putes y-intercep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ompute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EXCEL provides useful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putes y-intercep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 (computes slope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  2.59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ompute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EXCEL provides useful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putes y-intercep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 (computes slope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trick: 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raw over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ompute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EXCEL provides useful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putes y-intercep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9120" indent="-58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 (computes slope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trick: 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raw over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existing data pl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ompute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EXCEL provides useful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putes y-intercep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 (computes slope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trick: 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raw over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t l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a dat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ompute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EXCEL provides useful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putes y-intercep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 (computes slope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trick: 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raw over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t l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a dat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: “Add Trendline” from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      2.59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you guess the phr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at these pictures intend to conv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nking Outside the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so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teral Think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3" descr="NSCDEggPlant.jpg"/>
          <p:cNvPicPr/>
          <p:nvPr/>
        </p:nvPicPr>
        <p:blipFill>
          <a:blip r:embed="rId1"/>
          <a:stretch/>
        </p:blipFill>
        <p:spPr>
          <a:xfrm>
            <a:off x="0" y="2209680"/>
            <a:ext cx="6213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Aver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2154240" y="3200400"/>
                <a:ext cx="28036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"/>
              <p:cNvSpPr txBox="1"/>
              <p:nvPr/>
            </p:nvSpPr>
            <p:spPr>
              <a:xfrm>
                <a:off x="6019920" y="3124080"/>
                <a:ext cx="2666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gg Pl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3" descr="NSCDEggPlant.jpg"/>
          <p:cNvPicPr/>
          <p:nvPr/>
        </p:nvPicPr>
        <p:blipFill>
          <a:blip r:embed="rId1"/>
          <a:stretch/>
        </p:blipFill>
        <p:spPr>
          <a:xfrm>
            <a:off x="0" y="2209680"/>
            <a:ext cx="6213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4" descr="NSCDPoolTable.jpg"/>
          <p:cNvPicPr/>
          <p:nvPr/>
        </p:nvPicPr>
        <p:blipFill>
          <a:blip r:embed="rId1"/>
          <a:stretch/>
        </p:blipFill>
        <p:spPr>
          <a:xfrm>
            <a:off x="0" y="1454040"/>
            <a:ext cx="45720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638680" y="36572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ool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4" descr="NSCDPoolTable.jpg"/>
          <p:cNvPicPr/>
          <p:nvPr/>
        </p:nvPicPr>
        <p:blipFill>
          <a:blip r:embed="rId1"/>
          <a:stretch/>
        </p:blipFill>
        <p:spPr>
          <a:xfrm>
            <a:off x="0" y="1454040"/>
            <a:ext cx="45720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3" descr="NSCDHoleMilk.jpg"/>
          <p:cNvPicPr/>
          <p:nvPr/>
        </p:nvPicPr>
        <p:blipFill>
          <a:blip r:embed="rId1"/>
          <a:stretch/>
        </p:blipFill>
        <p:spPr>
          <a:xfrm>
            <a:off x="457200" y="1523880"/>
            <a:ext cx="4343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715000" y="47239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ole Mi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3" descr="NSCDHoleMilk.jpg"/>
          <p:cNvPicPr/>
          <p:nvPr/>
        </p:nvPicPr>
        <p:blipFill>
          <a:blip r:embed="rId1"/>
          <a:stretch/>
        </p:blipFill>
        <p:spPr>
          <a:xfrm>
            <a:off x="457200" y="1523880"/>
            <a:ext cx="4343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4" descr="NSCDTapDncers.jpg"/>
          <p:cNvPicPr/>
          <p:nvPr/>
        </p:nvPicPr>
        <p:blipFill>
          <a:blip r:embed="rId1"/>
          <a:stretch/>
        </p:blipFill>
        <p:spPr>
          <a:xfrm>
            <a:off x="0" y="1486080"/>
            <a:ext cx="6350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477120" y="5105520"/>
            <a:ext cx="2666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ap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anc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" descr="NSCDTapDncers.jpg"/>
          <p:cNvPicPr/>
          <p:nvPr/>
        </p:nvPicPr>
        <p:blipFill>
          <a:blip r:embed="rId1"/>
          <a:stretch/>
        </p:blipFill>
        <p:spPr>
          <a:xfrm>
            <a:off x="0" y="1486080"/>
            <a:ext cx="63500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Univer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Straight Arrow Connector 4"/>
          <p:cNvCxnSpPr/>
          <p:nvPr/>
        </p:nvCxnSpPr>
        <p:spPr>
          <a:xfrm flipV="1">
            <a:off x="3962160" y="2057040"/>
            <a:ext cx="289620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Univer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Stat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9" name="Straight Arrow Connector 4"/>
          <p:cNvCxnSpPr/>
          <p:nvPr/>
        </p:nvCxnSpPr>
        <p:spPr>
          <a:xfrm flipV="1">
            <a:off x="3962160" y="2057040"/>
            <a:ext cx="289620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al Exa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April 30, 4:00 – 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  here,    Hanes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Study Strateg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Aver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154240" y="3200400"/>
                <a:ext cx="28036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6019920" y="3124080"/>
                <a:ext cx="2666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679400" y="4724280"/>
                <a:ext cx="26607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5541840" y="4724280"/>
                <a:ext cx="2403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Univer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Stat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Bernard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Straight Arrow Connector 4"/>
          <p:cNvCxnSpPr/>
          <p:nvPr/>
        </p:nvCxnSpPr>
        <p:spPr>
          <a:xfrm flipV="1">
            <a:off x="3962160" y="2057040"/>
            <a:ext cx="289620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choo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choo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draws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choo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draws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quality of fit, us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dual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 for Linear Re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Normal Quantile plot shows “how well normal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 s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 for Linear Re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Normal Quantile plot shows “how well normal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 s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visual assessmen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ell the regression 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t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 for Linear Re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Normal Quantile plot shows “how well normal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 s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visual assessmen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ell the regression l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s dat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dual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 for Linear Re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Normal Quantile plot shows “how well normal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 s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visual assessmen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ell the regression l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s dat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dual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Plot of Residuals (on Y axi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us X’s (on X ax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point by click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o line yet…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3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860" name="Straight Arrow Connector 5"/>
          <p:cNvCxnSpPr/>
          <p:nvPr/>
        </p:nvCxnSpPr>
        <p:spPr>
          <a:xfrm flipH="1">
            <a:off x="2742480" y="1371600"/>
            <a:ext cx="1067400" cy="3201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point by clicking,       and ano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864" name="Straight Arrow Connector 5"/>
          <p:cNvCxnSpPr/>
          <p:nvPr/>
        </p:nvCxnSpPr>
        <p:spPr>
          <a:xfrm flipH="1">
            <a:off x="4342680" y="1447920"/>
            <a:ext cx="2896200" cy="4039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inferenc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4094280" y="2792520"/>
                <a:ext cx="1288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point by clicking,       and ano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draw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868" name="Straight Arrow Connector 5"/>
          <p:cNvCxnSpPr/>
          <p:nvPr/>
        </p:nvCxnSpPr>
        <p:spPr>
          <a:xfrm flipH="1">
            <a:off x="3276000" y="2133360"/>
            <a:ext cx="153000" cy="2819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point by clicking,       and ano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draw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nd gives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872" name="Straight Arrow Connector 5"/>
          <p:cNvCxnSpPr/>
          <p:nvPr/>
        </p:nvCxnSpPr>
        <p:spPr>
          <a:xfrm flipH="1">
            <a:off x="4800240" y="2133720"/>
            <a:ext cx="2057760" cy="17532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point by clicking,       and ano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draw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nd gives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plots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es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876" name="Straight Arrow Connector 5"/>
          <p:cNvCxnSpPr/>
          <p:nvPr/>
        </p:nvCxnSpPr>
        <p:spPr>
          <a:xfrm>
            <a:off x="4267080" y="2743200"/>
            <a:ext cx="2286720" cy="28202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77" name="Straight Arrow Connector 8"/>
          <p:cNvCxnSpPr/>
          <p:nvPr/>
        </p:nvCxnSpPr>
        <p:spPr>
          <a:xfrm>
            <a:off x="4266720" y="2743200"/>
            <a:ext cx="3506040" cy="28202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add another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goal: very close to l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881" name="Straight Arrow Connector 5"/>
          <p:cNvCxnSpPr/>
          <p:nvPr/>
        </p:nvCxnSpPr>
        <p:spPr>
          <a:xfrm flipH="1">
            <a:off x="3428280" y="1371600"/>
            <a:ext cx="1067400" cy="365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add another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qu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imilar, (but not exa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885" name="Straight Arrow Connector 5"/>
          <p:cNvCxnSpPr/>
          <p:nvPr/>
        </p:nvCxnSpPr>
        <p:spPr>
          <a:xfrm>
            <a:off x="2743200" y="2895120"/>
            <a:ext cx="534240" cy="8391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add another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w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on-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889" name="Straight Arrow Connector 5"/>
          <p:cNvCxnSpPr/>
          <p:nvPr/>
        </p:nvCxnSpPr>
        <p:spPr>
          <a:xfrm>
            <a:off x="3048120" y="2209680"/>
            <a:ext cx="3658320" cy="2743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add another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w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on-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gnif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lative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893" name="Straight Arrow Connector 5"/>
          <p:cNvCxnSpPr/>
          <p:nvPr/>
        </p:nvCxnSpPr>
        <p:spPr>
          <a:xfrm>
            <a:off x="5561640" y="3048120"/>
            <a:ext cx="1524600" cy="22867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94" name="Straight Arrow Connector 8"/>
          <p:cNvCxnSpPr/>
          <p:nvPr/>
        </p:nvCxnSpPr>
        <p:spPr>
          <a:xfrm flipH="1">
            <a:off x="3580920" y="3047040"/>
            <a:ext cx="198216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add more points along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gnif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add more points along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gnif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ote change of sca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1" name="Straight Arrow Connector 5"/>
          <p:cNvCxnSpPr/>
          <p:nvPr/>
        </p:nvCxnSpPr>
        <p:spPr>
          <a:xfrm flipH="1">
            <a:off x="6172200" y="2895480"/>
            <a:ext cx="7668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add more points along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players clearly stan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5" name="Straight Arrow Connector 5"/>
          <p:cNvCxnSpPr/>
          <p:nvPr/>
        </p:nvCxnSpPr>
        <p:spPr>
          <a:xfrm>
            <a:off x="6934320" y="2209680"/>
            <a:ext cx="1372320" cy="282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6" name="Straight Arrow Connector 8"/>
          <p:cNvCxnSpPr/>
          <p:nvPr/>
        </p:nvCxnSpPr>
        <p:spPr>
          <a:xfrm flipH="1">
            <a:off x="6931800" y="2211120"/>
            <a:ext cx="396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inferenc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 (can sho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4094280" y="2792520"/>
                <a:ext cx="1288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ers have a drastic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10" name="Straight Arrow Connector 7"/>
          <p:cNvCxnSpPr/>
          <p:nvPr/>
        </p:nvCxnSpPr>
        <p:spPr>
          <a:xfrm>
            <a:off x="989640" y="1371240"/>
            <a:ext cx="1524600" cy="480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ers have a drastic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or fit to data along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evi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14" name="Straight Arrow Connector 7"/>
          <p:cNvCxnSpPr/>
          <p:nvPr/>
        </p:nvCxnSpPr>
        <p:spPr>
          <a:xfrm flipH="1">
            <a:off x="2895120" y="2133720"/>
            <a:ext cx="3353760" cy="3048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ers have a drastic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or fit to data along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evi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hows up clear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18" name="Straight Arrow Connector 7"/>
          <p:cNvCxnSpPr/>
          <p:nvPr/>
        </p:nvCxnSpPr>
        <p:spPr>
          <a:xfrm flipH="1">
            <a:off x="6781320" y="2819520"/>
            <a:ext cx="991440" cy="22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fit shows up cl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nonlinear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Stanton Demo Ap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fit shows up cl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nonlinear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even when hard to see in scatterplo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2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1743120" y="3254400"/>
            <a:ext cx="74008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choo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draws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quality of fit, us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dual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choo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draws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quality of fit, us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dual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visu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choo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draws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quality of fit, us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dual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visu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ood at highlighting probl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dual Diagnostic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9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ata to follow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s seem to be randomly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pparen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s seem “rand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linear fit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dual Diagnostic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9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ata to follow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systematic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. – Neg. – Pos. suggests data follow a curve (not lin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that line is a poo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inferenc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 (can sho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094280" y="2792520"/>
                <a:ext cx="1288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2090880" y="4800600"/>
                <a:ext cx="541944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dual Diagnostic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from text:  problem 2.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(for runners), how Stride Rate depends on Runnin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run faster, need faster str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&amp; b.  Scatterplot &amp;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&amp; d.  Residual Plot &amp;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dual Diagnostic Plot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&amp; b.  Scatterplot &amp;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fit looks very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ed up by corre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w noise” because data are aver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ver 21 runn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dual Diagnostic Plot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5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&amp; d.  Residual Plot &amp;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structure:   Pos. – Neg. – 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andom, but systematic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line can be impro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s a model for these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 plot provides “zoomed in vie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n’t see this in raw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dual Diagnostic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ggested HW  2.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a Single Data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ggested HW:  2.1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 After finding   a &amp; b  (i.e. fit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, predic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b x 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“predict by point on the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Prediction:    revisit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offers two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ork similarly, input raw x’s and y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reful about order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predi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side range of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lled “extrapo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small error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4"/>
          <p:cNvSpPr/>
          <p:nvPr/>
        </p:nvSpPr>
        <p:spPr>
          <a:xfrm>
            <a:off x="609480" y="59436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5"/>
          <p:cNvSpPr/>
          <p:nvPr/>
        </p:nvSpPr>
        <p:spPr>
          <a:xfrm>
            <a:off x="1447920" y="38098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6"/>
          <p:cNvSpPr/>
          <p:nvPr/>
        </p:nvSpPr>
        <p:spPr>
          <a:xfrm>
            <a:off x="16765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7"/>
          <p:cNvSpPr/>
          <p:nvPr/>
        </p:nvSpPr>
        <p:spPr>
          <a:xfrm>
            <a:off x="1905120" y="563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8"/>
          <p:cNvSpPr/>
          <p:nvPr/>
        </p:nvSpPr>
        <p:spPr>
          <a:xfrm>
            <a:off x="1219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9"/>
          <p:cNvSpPr/>
          <p:nvPr/>
        </p:nvSpPr>
        <p:spPr>
          <a:xfrm>
            <a:off x="152388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0"/>
          <p:cNvSpPr/>
          <p:nvPr/>
        </p:nvSpPr>
        <p:spPr>
          <a:xfrm>
            <a:off x="11430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1"/>
          <p:cNvSpPr/>
          <p:nvPr/>
        </p:nvSpPr>
        <p:spPr>
          <a:xfrm>
            <a:off x="83808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2"/>
          <p:cNvSpPr/>
          <p:nvPr/>
        </p:nvSpPr>
        <p:spPr>
          <a:xfrm>
            <a:off x="7543800" y="350532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3"/>
          <p:cNvSpPr/>
          <p:nvPr/>
        </p:nvSpPr>
        <p:spPr>
          <a:xfrm flipV="1">
            <a:off x="609480" y="3504960"/>
            <a:ext cx="716292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4"/>
          <p:cNvSpPr/>
          <p:nvPr/>
        </p:nvSpPr>
        <p:spPr>
          <a:xfrm flipH="1">
            <a:off x="609120" y="4800600"/>
            <a:ext cx="7162920" cy="99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5"/>
          <p:cNvSpPr/>
          <p:nvPr/>
        </p:nvSpPr>
        <p:spPr>
          <a:xfrm>
            <a:off x="7467480" y="3505320"/>
            <a:ext cx="152640" cy="1522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6"/>
          <p:cNvSpPr/>
          <p:nvPr/>
        </p:nvSpPr>
        <p:spPr>
          <a:xfrm>
            <a:off x="7467480" y="4724280"/>
            <a:ext cx="152640" cy="152640"/>
          </a:xfrm>
          <a:prstGeom prst="flowChartSummingJuncti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ggested H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67a, b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75    (hint, use Least Squares formula above, since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have raw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r squ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correlation       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 of linear relationshi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fraction of variation explained by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good f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“very poor f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“signal to noise rati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Object 2"/>
              <p:cNvSpPr txBox="1"/>
              <p:nvPr/>
            </p:nvSpPr>
            <p:spPr>
              <a:xfrm>
                <a:off x="1447920" y="3962520"/>
                <a:ext cx="6537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Object 3"/>
              <p:cNvSpPr txBox="1"/>
              <p:nvPr/>
            </p:nvSpPr>
            <p:spPr>
              <a:xfrm>
                <a:off x="609480" y="3124080"/>
                <a:ext cx="495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Object 4"/>
              <p:cNvSpPr txBox="1"/>
              <p:nvPr/>
            </p:nvSpPr>
            <p:spPr>
              <a:xfrm>
                <a:off x="1447920" y="4648320"/>
                <a:ext cx="6537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Object 5"/>
              <p:cNvSpPr txBox="1"/>
              <p:nvPr/>
            </p:nvSpPr>
            <p:spPr>
              <a:xfrm>
                <a:off x="4038480" y="1523880"/>
                <a:ext cx="3812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Object 6"/>
              <p:cNvSpPr txBox="1"/>
              <p:nvPr/>
            </p:nvSpPr>
            <p:spPr>
              <a:xfrm>
                <a:off x="609480" y="5715000"/>
                <a:ext cx="495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 (can sho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2624040" y="2590920"/>
                <a:ext cx="54198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r squ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3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c, d)                                 “data near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ignal to noise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ier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ignal to noise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pure noi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no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Object 2"/>
              <p:cNvSpPr txBox="1"/>
              <p:nvPr/>
            </p:nvSpPr>
            <p:spPr>
              <a:xfrm>
                <a:off x="2362320" y="2895480"/>
                <a:ext cx="21333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Object 3"/>
              <p:cNvSpPr txBox="1"/>
              <p:nvPr/>
            </p:nvSpPr>
            <p:spPr>
              <a:xfrm>
                <a:off x="2362320" y="4038480"/>
                <a:ext cx="16430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Object 4"/>
              <p:cNvSpPr txBox="1"/>
              <p:nvPr/>
            </p:nvSpPr>
            <p:spPr>
              <a:xfrm>
                <a:off x="2286000" y="5105520"/>
                <a:ext cx="2057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r squ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ggested 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67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 (can sho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2624040" y="2590920"/>
                <a:ext cx="54198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 (can sho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 &amp; Ys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2624040" y="2590920"/>
                <a:ext cx="54198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case:  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matched)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 (can sho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 &amp; Ys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 based on Law of A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2624040" y="2590920"/>
                <a:ext cx="54198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owards statistical in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Z 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2946240" y="2743200"/>
                <a:ext cx="48517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owards statistical in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Z 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do standardization  (usual 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2946240" y="2743200"/>
                <a:ext cx="48517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al Exa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April 30, 4:00 – 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  here,    Hanes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Study Strateg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lass Review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owards statistical in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Z 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do standardization  (usual 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unknown s.d.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2946240" y="2743200"/>
                <a:ext cx="48517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unknown s.d.s, use usual appr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sample t 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2689200" y="3809880"/>
                <a:ext cx="33829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4775040" y="1676520"/>
                <a:ext cx="3632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4944960" y="1295280"/>
                <a:ext cx="33829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4944960" y="1295280"/>
                <a:ext cx="33829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version of 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4944960" y="1295280"/>
                <a:ext cx="33829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version of 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modelled by EXCEL using 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944960" y="1295280"/>
                <a:ext cx="33829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ample version of 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modelled by EXCEL using 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for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944960" y="1295280"/>
                <a:ext cx="33829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n 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1371600" y="1865160"/>
            <a:ext cx="68580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n TTest:  Argument “Ty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ed (simple cas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n TTest:  Argument “Ty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ed (simple cas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ample,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udied be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al Exa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April 30, 4:00 – 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  here,    Hanes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Study Strateg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lass Review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personal Q-A much better use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n TTest:  Argument “Ty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ed (simple cas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ample,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udied be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ample, un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ersion derived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n TTest:  Argument “Ty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ample,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n TTest:  Argument “Ty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ample,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wh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nd an “improved 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3790800" y="2590920"/>
                <a:ext cx="16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n TTest:  Argument “Ty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ample,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wh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nd an “improved 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“pooling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3790800" y="2590920"/>
                <a:ext cx="16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n TTest:  Argument “Ty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ample,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wh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nd an “improved 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“pooling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use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3790800" y="2590920"/>
                <a:ext cx="16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5162400" y="4572000"/>
                <a:ext cx="2324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n TTest:  Argument “Ty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ample, equ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wh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nd an “improved est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“pooling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use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’t use in thi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3790800" y="2590920"/>
                <a:ext cx="16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162400" y="4572000"/>
                <a:ext cx="2324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eparat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book 7.3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eparate sample Hypo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15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eparat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book 7.3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eparate sample Hypo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15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rcRect l="5363" t="28346" r="17877" b="52920"/>
          <a:stretch/>
        </p:blipFill>
        <p:spPr>
          <a:xfrm>
            <a:off x="3124080" y="3657600"/>
            <a:ext cx="58896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eparat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book 7.3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eparate sample Hypo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15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ype = 3  (don’t know common vari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rcRect l="5363" t="28346" r="17877" b="52920"/>
          <a:stretch/>
        </p:blipFill>
        <p:spPr>
          <a:xfrm>
            <a:off x="3124080" y="3657600"/>
            <a:ext cx="5889600" cy="1360440"/>
          </a:xfrm>
          <a:prstGeom prst="rect">
            <a:avLst/>
          </a:prstGeom>
          <a:ln w="0">
            <a:noFill/>
          </a:ln>
        </p:spPr>
      </p:pic>
      <p:cxnSp>
        <p:nvCxnSpPr>
          <p:cNvPr id="246" name="Straight Arrow Connector 5"/>
          <p:cNvCxnSpPr/>
          <p:nvPr/>
        </p:nvCxnSpPr>
        <p:spPr>
          <a:xfrm flipV="1">
            <a:off x="2895480" y="3961800"/>
            <a:ext cx="563976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eparat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book 7.3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eparate sample Hypo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15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3.9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al Exa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April 30, 4:00 – 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  here,    Hanes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Study Strateg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lass Review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personal Q-A much better use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instead offer extended Offic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eparat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book 7.3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eparate sample Hypo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15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3.9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y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eparat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book 7.3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eparate sample Hypo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15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at-or.unc.edu/webspace/courses/marron/UNCstor155-2009/ClassNotes/Stor155Eg1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3.9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y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eparat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ggested 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.81,      7.8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Hypo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Paired vs. Unmatched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ways use unmatched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ignore match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 to pair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Hypo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Paired vs. Unmatched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 to Pair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revious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book 7.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d Paired P-value = 1.8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matched P-value = 3.9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ched better!?!    (can hap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Hypo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Paired vs. Unmatched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 to Pair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s when “variation of diff’s”,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“full sample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ther this happens depends on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6934320" y="2819520"/>
                <a:ext cx="68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981080" y="4267080"/>
                <a:ext cx="289584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vs. Unmatch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Example 2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drug is being tested that should boost white blood cell count following chemo-therapy.  For a set of 4 patients, it was not administered (as a control) for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 of chemotherapy, and then the new drug was tried after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 of chemotherapy.  White blood cell counts were measured one week after each round of chemo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vs. Unmatch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white blood cell counts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76520" y="2895480"/>
          <a:ext cx="5778360" cy="3156120"/>
        </p:xfrm>
        <a:graphic>
          <a:graphicData uri="http://schemas.openxmlformats.org/drawingml/2006/table">
            <a:tbl>
              <a:tblPr/>
              <a:tblGrid>
                <a:gridCol w="3354120"/>
                <a:gridCol w="1241640"/>
                <a:gridCol w="1182600"/>
              </a:tblGrid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vs. Unmatch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new drug seem to reduce white blood cell counts well enough to be studied fur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 be som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s it statistically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4 patien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vs. Unmatch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:          =  Average Blood c’nts w/ou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lood c’nts with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ant strong evidence of improv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1523880" y="2133720"/>
                <a:ext cx="6033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523880" y="1371600"/>
                <a:ext cx="601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2286000" y="3962520"/>
                <a:ext cx="274320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al Exa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Offic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April 27, 8:00 – 1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April 28, 12:00 – 2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nesday, April 29, 1:00 – 5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April 30, 8:00 – 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vs. Unmatch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29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Pair P-val =  0.008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trong evidence of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ched P-val =  0.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tatistically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vs. Unmatch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29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ed Sampling can give bette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ff’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uces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ppens for careful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Scatter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Strength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ample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10-135, 560-5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,  review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d Sampling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380880" y="831960"/>
            <a:ext cx="853452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xt Section 8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are only slight variation of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mix &amp; Match of 2 sample ideas, and propor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eed it (later), pull out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ed on exams to extent it is in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ample of High Dimensional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ample of High Dimensional Visual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icroarra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ample of High Dimensional Visual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icroarra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a biological tissu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e.g. tumor from a cancer biopsy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ample of High Dimensional Visual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icroarra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a biological tissu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multaneousl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measure “gene expres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                               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activit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ample of High Dimensional Visual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icroarra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a biological tissu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multaneousl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measure “gene expres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ver all human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~38,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ample of High Dimensional Visual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icroarra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a biological tissu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multaneousl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measure “gene expres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ver all human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ata set considered 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reast Cancer,     ~2500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Measurement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Case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ire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reatment 1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4267080" y="2209680"/>
                <a:ext cx="2514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4267080" y="3048120"/>
                <a:ext cx="2514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Line 7"/>
          <p:cNvSpPr/>
          <p:nvPr/>
        </p:nvSpPr>
        <p:spPr>
          <a:xfrm>
            <a:off x="4419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64008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: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a line to data in a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4-20T23:59:23Z</dcterms:modified>
  <cp:revision>1911</cp:revision>
  <dc:subject/>
  <dc:title>Slide 1</dc:title>
</cp:coreProperties>
</file>