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35D1-A567-4058-AF17-6D230069E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FD23-B508-4BCA-9904-AAFC9CA062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FCBE-5786-46C2-A994-13606D6C7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6330-CDFD-4F04-AA92-0833BDF56B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352-8220-415B-B9AA-7E40E34795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tmb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4762-C515-4BDA-A5B1-70F1E5A55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B27F-1627-4DC8-80C6-3C3E38C55A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tmbMdif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734C-AE03-45B8-B565-C365326856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tmbPCA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DBF0-957F-4BF1-AFC4-10F3B36FC4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414-F2A4-4CA1-AD91-15B763BFC2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PCA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6049-CA07-4621-AA6B-ED99AFE81D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Mdif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133C-51E4-4EB3-956C-2617077F62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B8C9-D732-4E68-AB78-C4D76CB6A1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1607-84EF-458C-8FD3-6EE55FAF0E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7CF7-DFAB-498E-906B-71F0C398B6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5127-3931-4D1D-8072-F2C4AB7AD1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D9D5-3B88-4088-A41C-887F0D8A8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5549-9411-48EF-A221-BABFD28DA1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5110-B6CD-4FDB-AC8C-FF7F726A85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FC46-C640-460B-AA25-2C26E2811E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Raw.ps &amp; HDLSSx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C265-59A1-4AF7-A3CD-C416EF82E7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05C5-7A16-4D3D-A385-85D2E3199F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Raw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A392-DA5A-483A-90C1-56A456AFA4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0C3D-0E90-4DB2-A1F5-5185B6345D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552D-51AF-4C20-9D79-EE5F50A238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CB0D-E9A5-4DAD-BAF7-BA259AA2D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2C1D-902E-419C-980A-44CFF2D83E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8E1C-754D-4B06-828D-27DFA57972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SSod1egFLD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E5FD-E3EB-49C3-A42B-69407F8BFD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5B7A-E3E7-4A1F-8CF2-CBAEED7D4E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1B8A-1D55-452A-8312-18F08CC03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E7F8-39D7-4516-B230-1545A33B91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4616-8603-43B2-8D05-943CD653C0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EF3B-CAC1-4C41-875F-7994E5BE01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6FF4-1AF9-46D2-9FBC-62A0040EB7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8FD5-FEED-4A34-A056-F628735FFE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7112-CCD6-46F0-9679-F30AF37401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2CAD-27C7-4EBC-A5DC-CE3037BED2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4FFC-3E65-4F61-B48D-82A254E374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FLD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ED4B-70B2-4F22-BEBD-CF889762F0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d1GLR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3DA-A8AD-4117-94DE-7B02F243FF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onFLD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988E-D7C9-4E0C-95EB-A9E2D6DA7F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onGLR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E5F8-9FD0-4274-B089-A5054740C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xd3FLD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131F-A21B-4B6D-BF09-94C413E72B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xd3GLRe1.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24F-191B-4D9A-9E23-1DBB35CC65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473-C34B-4A3C-B8CA-BFFE5F7342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A6E8-A3AC-463A-99C9-FC2EC7EC5F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BE2C-E784-48C7-BECF-9A8A362369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71E7-6CA1-4900-BB88-38060FC9B6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5C52-443B-4ACD-97F3-F2041955CC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B7E-432C-41E9-A4D0-22573AB1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105-08DB-4862-B1AC-9BE3CE26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AAB-CC21-40A5-9883-81116B38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21B-DE64-47E3-88C0-49D0D09C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C48C-4C17-48F4-98C5-4956BC84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F389-CF2C-4919-AD13-F73F0E4A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1FBC-08DE-4ED5-9788-B9D9B61D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0C0F-14C1-4A5E-91EE-C64BEBEF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AC5B-70BB-42CB-9ACA-CA3ADA53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D246-D476-4670-A8B2-FADE589B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13B4-A96D-4055-8047-377797B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323-5965-44D6-980D-18BB932C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140A-CD91-40ED-B2DA-54AC313A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EB6F-5E7C-4856-ACA8-F15A52C3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30D2-C665-4047-9ED0-A2D22386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A1C8-415C-4312-BA7B-3A822C89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8FCC-8EF6-4926-8EA6-F9D6FAC4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9E1-E2BA-4EA4-9478-9B07D457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63D-A303-4934-9281-00092E9F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1E6-4BDD-4D54-841A-83EEE120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CF8-4BAC-44C8-A2F8-510CBE72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FFE-D566-46A1-BFAF-796F603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613-119F-4588-9E20-13D0193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160-13F8-4769-B5C0-D7CFC74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C6A0-AAE4-4CEF-98E3-908883A99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f"/>
            </a:gs>
            <a:gs pos="50000">
              <a:srgbClr val="ffffff"/>
            </a:gs>
            <a:gs pos="100000">
              <a:srgbClr val="dcf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638F-E516-4FE8-AFB1-D3BA552C9C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bject Orie’d Data Analysis, Last Ti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ODA in Image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ndmarks, Boundary R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, Medial R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ldly Non-Euclidean 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-rep data on manif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odesic 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ncipal Geodesic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mitations    -    Ca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e. discrimina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Overview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da, Hart and Stork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much about neural nets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zer disagr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date of Duda &amp; Hart (197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e. discrimina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a more classical statistical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cLachlan  (2004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kelihood theory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well tuned to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sonal Viewpoint:     Point 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24980" t="2526" r="16058" b="13894"/>
          <a:stretch/>
        </p:blipFill>
        <p:spPr>
          <a:xfrm>
            <a:off x="2112840" y="1752480"/>
            <a:ext cx="49863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and Natural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.k.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roi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ewer through two meatba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Simple Toy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M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amp; sp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y not use P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son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rder Example (slanted cloud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24980" t="2526" r="16058" b="13894"/>
          <a:stretch/>
        </p:blipFill>
        <p:spPr>
          <a:xfrm>
            <a:off x="2112840" y="1752480"/>
            <a:ext cx="49863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A for slanted clou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terr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mi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 di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for slanted clou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litt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ill mi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 di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nt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coun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&amp; Covarian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st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cale (standardize) coordinate 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 e. replace (full) data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 do Mean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Bayes Appro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228600" y="3657600"/>
                <a:ext cx="87631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turn to Big Pi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n statistical goals of OO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tanding population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w d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 Projections, PCA, PG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 e. Discrimin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derstanding 2+ pop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me Series of Data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mical Spectra, Mortality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Bayes 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mingos &amp; Pazzani (199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ost sensible contex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Non-comparabl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.g. different un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lem with 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 Bay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ly adjus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ari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vari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e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sol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24980" t="2526" r="16058" b="13894"/>
          <a:stretch/>
        </p:blipFill>
        <p:spPr>
          <a:xfrm>
            <a:off x="3886200" y="1752480"/>
            <a:ext cx="49863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c8c"/>
            </a:gs>
            <a:gs pos="50000">
              <a:srgbClr val="ffffff"/>
            </a:gs>
            <a:gs pos="100000">
              <a:srgbClr val="ff8c8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tter Solution:  Fisher Linear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ts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ght di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do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 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rcRect l="16058" t="2526" r="8921" b="10104"/>
          <a:stretch/>
        </p:blipFill>
        <p:spPr>
          <a:xfrm>
            <a:off x="2743200" y="1600200"/>
            <a:ext cx="6175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common terminology (for FLD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ar Discriminant Analysis (L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iginal Paper:     Fisher (193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eful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notation (data vectors of length    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+1:                      Class -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nterpoi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7315200" y="1981080"/>
                <a:ext cx="352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7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1676520" y="3657600"/>
                <a:ext cx="2511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2" name="Rectangle 9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6019920" y="3581280"/>
                <a:ext cx="25066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4" name="Rectangle 11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838080" y="5410080"/>
                <a:ext cx="31813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Rectangle 1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2"/>
              <p:cNvSpPr txBox="1"/>
              <p:nvPr/>
            </p:nvSpPr>
            <p:spPr>
              <a:xfrm>
                <a:off x="5410080" y="5424480"/>
                <a:ext cx="3124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variances,                          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uter produ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ed on centered, normalized data matr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rsion of estimated covariance matrices, for simpler n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6705720" y="1295280"/>
                <a:ext cx="1828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3048120" y="1143000"/>
                <a:ext cx="2743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Rectangle 9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8"/>
              <p:cNvSpPr txBox="1"/>
              <p:nvPr/>
            </p:nvSpPr>
            <p:spPr>
              <a:xfrm>
                <a:off x="1219320" y="3505320"/>
                <a:ext cx="67053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jor Assump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covariances a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ke this:                       Not th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724280" cy="3338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472428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od estimate of (common) within class cov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oled (weighted average) within class cov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ed on th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bine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ull data matr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828800" y="2819520"/>
                <a:ext cx="53308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sSup>
                      <m:e>
                        <m:acc>
                          <m:accPr>
                            <m:chr m:val="~"/>
                          </m:acc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Rectangle 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1647720" y="5048280"/>
                <a:ext cx="50101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e:          is similar to          from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covariance matrix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noring class lab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Dif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lass by Class Cen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ll be important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rcRect l="24980" t="0" r="16951" b="10104"/>
          <a:stretch/>
        </p:blipFill>
        <p:spPr>
          <a:xfrm>
            <a:off x="5257800" y="2819520"/>
            <a:ext cx="3551400" cy="38862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828800" y="1365120"/>
                <a:ext cx="533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Rectangle 8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5181480" y="1371600"/>
                <a:ext cx="312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e way to fi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rect cov. adjus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ividually transform subpopulations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her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bout their 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                de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1"/>
          <a:srcRect l="22303" t="3789" r="12490" b="56842"/>
          <a:stretch/>
        </p:blipFill>
        <p:spPr>
          <a:xfrm>
            <a:off x="1371600" y="2895480"/>
            <a:ext cx="6808680" cy="29019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6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5"/>
              <p:cNvSpPr txBox="1"/>
              <p:nvPr/>
            </p:nvSpPr>
            <p:spPr>
              <a:xfrm>
                <a:off x="5410080" y="5791320"/>
                <a:ext cx="2624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0" name="Line 17"/>
          <p:cNvSpPr/>
          <p:nvPr/>
        </p:nvSpPr>
        <p:spPr>
          <a:xfrm>
            <a:off x="3505320" y="3505320"/>
            <a:ext cx="236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3886200" y="396252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9"/>
              <p:cNvSpPr txBox="1"/>
              <p:nvPr/>
            </p:nvSpPr>
            <p:spPr>
              <a:xfrm>
                <a:off x="2209680" y="5867280"/>
                <a:ext cx="16765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ckground:  Two Class (Binary) ver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ining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and   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igning new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a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nonical Example:  Diseas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Patients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alt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termined based on measu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880" y="990360"/>
            <a:ext cx="5943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ransformed Spa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st separating hyper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pendicular bisector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ne between mea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rcRect l="60665" t="2526" r="11598" b="11367"/>
          <a:stretch/>
        </p:blipFill>
        <p:spPr>
          <a:xfrm>
            <a:off x="6170760" y="1073160"/>
            <a:ext cx="2473200" cy="5421240"/>
          </a:xfrm>
          <a:prstGeom prst="rect">
            <a:avLst/>
          </a:prstGeom>
          <a:ln w="0">
            <a:noFill/>
          </a:ln>
        </p:spPr>
      </p:pic>
      <p:sp>
        <p:nvSpPr>
          <p:cNvPr id="198" name="Line 7"/>
          <p:cNvSpPr/>
          <p:nvPr/>
        </p:nvSpPr>
        <p:spPr>
          <a:xfrm flipV="1">
            <a:off x="7010280" y="4724280"/>
            <a:ext cx="1143000" cy="1447920"/>
          </a:xfrm>
          <a:prstGeom prst="line">
            <a:avLst/>
          </a:prstGeom>
          <a:ln w="349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5486400" y="2514600"/>
            <a:ext cx="2362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990360"/>
            <a:ext cx="5943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ransformed Spac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ating Hyperplane h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ff"/>
                </a:solidFill>
                <a:latin typeface="Arial Unicode MS"/>
                <a:ea typeface="Arial Unicode MS"/>
              </a:rPr>
              <a:t>Transformed Normal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ormed Intercep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. Hyperp. has Equ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rcRect l="60665" t="2526" r="11598" b="11367"/>
          <a:stretch/>
        </p:blipFill>
        <p:spPr>
          <a:xfrm>
            <a:off x="6170760" y="1073160"/>
            <a:ext cx="2473200" cy="54212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1041480" y="2590920"/>
                <a:ext cx="4319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6" name="Rectangle 9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8"/>
              <p:cNvSpPr txBox="1"/>
              <p:nvPr/>
            </p:nvSpPr>
            <p:spPr>
              <a:xfrm>
                <a:off x="1727280" y="3200400"/>
                <a:ext cx="2884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Line 10"/>
          <p:cNvSpPr/>
          <p:nvPr/>
        </p:nvSpPr>
        <p:spPr>
          <a:xfrm>
            <a:off x="5638680" y="2438280"/>
            <a:ext cx="21337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"/>
              <p:cNvSpPr txBox="1"/>
              <p:nvPr/>
            </p:nvSpPr>
            <p:spPr>
              <a:xfrm>
                <a:off x="1295280" y="4114800"/>
                <a:ext cx="3810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1" name="Rectangle 14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3"/>
              <p:cNvSpPr txBox="1"/>
              <p:nvPr/>
            </p:nvSpPr>
            <p:spPr>
              <a:xfrm>
                <a:off x="1905120" y="4724280"/>
                <a:ext cx="2438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Line 15"/>
          <p:cNvSpPr/>
          <p:nvPr/>
        </p:nvSpPr>
        <p:spPr>
          <a:xfrm>
            <a:off x="4495680" y="5029200"/>
            <a:ext cx="297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6"/>
              <p:cNvSpPr txBox="1"/>
              <p:nvPr/>
            </p:nvSpPr>
            <p:spPr>
              <a:xfrm>
                <a:off x="1371600" y="5867280"/>
                <a:ext cx="4038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: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FLD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FLD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FLD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discrimination rul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n a new data vector      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Class +1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(transforming back to original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5257800" y="1523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1" name="Rectangle 8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1905120" y="2666880"/>
                <a:ext cx="5949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w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≥</m:t>
                    </m:r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Rectangle 10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1447920" y="4038480"/>
                <a:ext cx="6073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w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≥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w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w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FLD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Rectangle 12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1"/>
              <p:cNvSpPr txBox="1"/>
              <p:nvPr/>
            </p:nvSpPr>
            <p:spPr>
              <a:xfrm>
                <a:off x="2438280" y="4648320"/>
                <a:ext cx="3124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D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≥</m:t>
                    </m:r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D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D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Rectangle 14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2063880" y="5492880"/>
                <a:ext cx="51688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Rectangle 1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5"/>
              <p:cNvSpPr txBox="1"/>
              <p:nvPr/>
            </p:nvSpPr>
            <p:spPr>
              <a:xfrm>
                <a:off x="2070000" y="5956200"/>
                <a:ext cx="4965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FLD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56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 (in or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 space) have sep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ng hyperplane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rmal vector:                    Intercep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rcRect l="21411" t="45470" r="11598" b="11367"/>
          <a:stretch/>
        </p:blipFill>
        <p:spPr>
          <a:xfrm>
            <a:off x="1219320" y="2895480"/>
            <a:ext cx="6686280" cy="30416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3124080" y="1447920"/>
                <a:ext cx="8384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7" name="Rectangle 10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7086600" y="1523880"/>
                <a:ext cx="8380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D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9" name="Line 11"/>
          <p:cNvSpPr/>
          <p:nvPr/>
        </p:nvSpPr>
        <p:spPr>
          <a:xfrm flipH="1">
            <a:off x="2895480" y="2057400"/>
            <a:ext cx="457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 flipH="1">
            <a:off x="3733920" y="1447920"/>
            <a:ext cx="31240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 flipH="1">
            <a:off x="2743200" y="2133720"/>
            <a:ext cx="45720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fffff"/>
            </a:gs>
            <a:gs pos="100000">
              <a:srgbClr val="96969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sher Linear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lationship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halanobis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For                         , a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al distance measur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   i.e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dard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sentially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 ou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varianc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uclidean dist. applied to             &amp;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 as key transformation for F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F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an difference in Mahalanobis spac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2438280" y="1905120"/>
                <a:ext cx="21495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Rectangle 8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"/>
              <p:cNvSpPr txBox="1"/>
              <p:nvPr/>
            </p:nvSpPr>
            <p:spPr>
              <a:xfrm>
                <a:off x="3429000" y="2286000"/>
                <a:ext cx="4994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Rectangle 10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5334120" y="4191120"/>
                <a:ext cx="93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Rectangle 12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7010280" y="4191120"/>
                <a:ext cx="968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052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ve derivation of FLD w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t in any textbooks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parametric (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need Gaussian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 Used no probability distrib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hine Learn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an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sume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distributions are multivariate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ong distributional assump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co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905120" y="3276720"/>
                <a:ext cx="18698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Rectangle 8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5181480" y="3352680"/>
                <a:ext cx="1752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t a location      ,  the likelihood ratio,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ing between Class +1 and Class -1,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re         is the Gaussian den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covari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5"/>
              <p:cNvSpPr txBox="1"/>
              <p:nvPr/>
            </p:nvSpPr>
            <p:spPr>
              <a:xfrm>
                <a:off x="2971800" y="1828800"/>
                <a:ext cx="471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8" name="Rectangle 8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7"/>
              <p:cNvSpPr txBox="1"/>
              <p:nvPr/>
            </p:nvSpPr>
            <p:spPr>
              <a:xfrm>
                <a:off x="318960" y="3505320"/>
                <a:ext cx="84297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1905120" y="46483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plifying, using the Gaussian dens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s (critically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on covarian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5"/>
              <p:cNvSpPr txBox="1"/>
              <p:nvPr/>
            </p:nvSpPr>
            <p:spPr>
              <a:xfrm>
                <a:off x="2133720" y="2362320"/>
                <a:ext cx="44956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acc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s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sup>
                                </m:sSup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7" name="Rectangle 8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166680" y="4121280"/>
                <a:ext cx="88120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0</m:t>
                                                </m:r>
                                              </m:sup>
                                            </m:sSup>
                                          </m:e>
                                        </m:acc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(</m:t>
                                                </m:r>
                                                <m:r>
                                                  <m:t xml:space="preserve">+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sup>
                                            </m:sSup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s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p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e>
                                    </m:acc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0</m:t>
                                                </m:r>
                                              </m:sup>
                                            </m:sSup>
                                          </m:e>
                                        </m:acc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(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sup>
                                            </m:sSup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s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p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e>
                                    </m:acc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Rectangle 10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125280" y="5210280"/>
                <a:ext cx="4703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Rectangle 12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11"/>
              <p:cNvSpPr txBox="1"/>
              <p:nvPr/>
            </p:nvSpPr>
            <p:spPr>
              <a:xfrm>
                <a:off x="739800" y="5792760"/>
                <a:ext cx="8047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us                                 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838080" y="2209680"/>
                <a:ext cx="81057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8" name="Rectangle 8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1371600" y="2971800"/>
                <a:ext cx="3724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Rectangle 10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9"/>
              <p:cNvSpPr txBox="1"/>
              <p:nvPr/>
            </p:nvSpPr>
            <p:spPr>
              <a:xfrm>
                <a:off x="1981080" y="3429000"/>
                <a:ext cx="6997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Rectangle 12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1"/>
              <p:cNvSpPr txBox="1"/>
              <p:nvPr/>
            </p:nvSpPr>
            <p:spPr>
              <a:xfrm>
                <a:off x="1600200" y="4146480"/>
                <a:ext cx="33526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Rectangle 14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3"/>
              <p:cNvSpPr txBox="1"/>
              <p:nvPr/>
            </p:nvSpPr>
            <p:spPr>
              <a:xfrm>
                <a:off x="3429000" y="4786200"/>
                <a:ext cx="4572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LR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6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5"/>
              <p:cNvSpPr txBox="1"/>
              <p:nvPr/>
            </p:nvSpPr>
            <p:spPr>
              <a:xfrm>
                <a:off x="1066680" y="5791320"/>
                <a:ext cx="7240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r>
                          <m:t xml:space="preserve">Σ</m:t>
                        </m:r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Distinc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vs.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label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know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: understand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oal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lass labels (to b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th are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mps of similar dat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much differen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Likelihood View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ing          ,         and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maximum likelihood estim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          an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ves the likelihood ratio discrimination ru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oose Class +1,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s above, so:     FLD can be view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kelihood Ratio R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685960" y="1704960"/>
                <a:ext cx="743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3733920" y="1676520"/>
                <a:ext cx="742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4" name="Rectangle 10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5791320" y="1752480"/>
                <a:ext cx="5331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6" name="Rectangle 12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1"/>
              <p:cNvSpPr txBox="1"/>
              <p:nvPr/>
            </p:nvSpPr>
            <p:spPr>
              <a:xfrm>
                <a:off x="5943600" y="2889360"/>
                <a:ext cx="5335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8" name="Rectangle 14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3886200" y="2895480"/>
                <a:ext cx="817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0" name="Rectangle 16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15"/>
              <p:cNvSpPr txBox="1"/>
              <p:nvPr/>
            </p:nvSpPr>
            <p:spPr>
              <a:xfrm>
                <a:off x="2666880" y="2895480"/>
                <a:ext cx="817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2" name="Rectangle 18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7"/>
              <p:cNvSpPr txBox="1"/>
              <p:nvPr/>
            </p:nvSpPr>
            <p:spPr>
              <a:xfrm>
                <a:off x="1219320" y="4589640"/>
                <a:ext cx="76197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eneralization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Likelihood Ratio 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. k. 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nlinear discriminant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a:      Assu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 distributions are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varianc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kelihood Ratio rule is straigh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 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 cal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hus can easily implement, and do discr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5504040" y="3679920"/>
                <a:ext cx="2172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aussian Likelihood Ratio Discr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longer have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pa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 hyperplan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stea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regions determined by quadratic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airly complicated case-wise calc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raphical display:  for each point, color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f assigned to 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lass 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Cy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f assigned to 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Class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nsit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ngth of assignm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for Tilted Point Clou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ork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or Tilted Point Clou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ork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for Don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or, no plane can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or Don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orks well (good quadrat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for 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or, no plane can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for 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etter, but not g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rcRect l="24980" t="6315" r="16058" b="11367"/>
          <a:stretch/>
        </p:blipFill>
        <p:spPr>
          <a:xfrm>
            <a:off x="2208240" y="1612800"/>
            <a:ext cx="5211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8"/>
            </a:gs>
            <a:gs pos="50000">
              <a:srgbClr val="ffffff"/>
            </a:gs>
            <a:gs pos="100000">
              <a:srgbClr val="ffff7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ary of FLD vs. GL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ilted Point Cloud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nut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D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52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R OK, not g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cal Conclusion:     GLR generally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will see a different answer for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  <a:ea typeface="Arial Unicode MS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ortant Distinc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vs.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ful terminolo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ervis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ustering:  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supervis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- Discri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rminolo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statisticians, these are syn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biologists,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ing taxono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sorting organisms into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aybe this is why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s used, until politically incor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e. discrimina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are a number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hilosoph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chools of Th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o often cast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cs vs. EE - 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e. discrimina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S vari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tificial Intel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ura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M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hin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8ff"/>
            </a:gs>
            <a:gs pos="50000">
              <a:srgbClr val="ffffff"/>
            </a:gs>
            <a:gs pos="100000">
              <a:srgbClr val="ff98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assification (i.e. discrimina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ffering Viewpoi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el Classe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bability Distribu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e to study class di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 &amp; fi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E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ta are just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ts of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ules distinguish between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thought: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ombine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1:38:43Z</dcterms:created>
  <dc:creator>Preferred Customer</dc:creator>
  <dc:description/>
  <dc:language>en-US</dc:language>
  <cp:lastModifiedBy>Administrator</cp:lastModifiedBy>
  <dcterms:modified xsi:type="dcterms:W3CDTF">2007-10-04T19:21:48Z</dcterms:modified>
  <cp:revision>860</cp:revision>
  <dc:subject/>
  <dc:title>Title</dc:title>
</cp:coreProperties>
</file>