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1967-8E21-4D59-AB9D-35918B4FC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ADF3-9C20-4AD4-8C39-BA23F75835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1639-03BB-434E-842C-C4516A0633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C49F-B15F-472B-8650-F9A60A09A2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EEB3-EBE6-45B3-B244-6783EBC03B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4476-8E24-4517-A71E-3C02132FE0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D3B9-4EF0-43EC-A85D-00D8AAD23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FE25-641A-4984-B574-455F8FB8B0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9B65-C5C6-45C0-91FC-EAEEDA514D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B803-FED3-4F6F-A87B-0AB0B88001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369-7F46-48DE-B0C1-AF2F05CEF3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818D-CFDF-4EE4-A037-F5D4D6731F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1BAD-6206-4CEE-9DBC-D524FF95CA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5BE0-B634-46B1-9278-E79A21A093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D418-3CB5-467B-8782-5B08C75250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1019-4573-4731-B47D-161A1DA5EA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7762-4853-46C9-8E88-DF3CDADBE7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741E-49C2-4F72-8169-FE9BB801B7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86FF-F226-48A7-9C3D-13CA243F84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3491-0874-4426-B025-D63DA94FB8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E1C-17CF-4D3A-97FB-1ACE5CC33B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9D81-34C3-4F3E-AF30-DA7D5580CB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0746-BEEF-4D8A-8A30-ECF631CFED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eg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8BE4-6BAC-425C-A819-5B0AB38F62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D118-89AE-4C24-AE92-3EF11F7B09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67A5-1059-417F-9411-AEA4076263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B804-41B5-4F38-A2C2-66BF9161DD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5A6E-F602-4305-A6FE-694FD72753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CB2B-6579-47A0-BE77-552C3058D9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FLD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3A8-9B44-44F7-B965-DA5BD78C5D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GLR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B595-26EC-47E9-9022-8301CF3CD3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onFLD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30FF-1DE5-4C85-BCCE-8AAB21FF08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onGLR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265C-A5A5-4DC6-B586-FB3CB9F7F3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xd3FLD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8D63-D785-4D0E-9783-8EE7A42499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xd3GLR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6F8-E5A0-454A-B75A-257AD041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6AA-8EEB-4BB3-9A98-B4CBCBDE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016-0C67-4210-B641-DF6992F9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426-8EB5-4524-AF43-1EA99A6B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EC8B-9152-4157-9A1E-C5AA72B7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9BA9-FA91-4F69-9816-6D5F872A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0C71-8D5B-448B-86C1-A1A0ABA4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41BA-097C-4A20-BF3E-8A6AD1A2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922B-135A-42ED-89A9-10B6D99B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2335-F1D0-4D6D-8DF1-38D19C7C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47F9-1E3D-4689-9D80-3688B045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F83-825B-464D-B746-A5BD2E3C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AD68-6E55-4D9B-9503-0463253B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EBFE-EADE-4023-A227-324778D3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F3E0-7541-485E-8AD3-00EE93C6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B90D-9B03-49DB-9128-E738467E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4F44-DF93-4FAE-B15E-F4DB3C29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E531-6486-4253-AD47-4A9B3516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BFAFF-E71D-4299-94C2-EBDEEBB9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DCE7-4CCB-475E-BEB4-092FB236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CE70-17C9-4644-8B74-E060CFD5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8703-0D17-493A-8705-47B149FB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73F-3B02-4734-B4B4-C02277FC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D7FB6-ACEA-4856-9B15-1B07B737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CB41-7FAE-4A64-A35A-41C919CE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5CA17-B61F-4928-9D6F-589AF787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5A63-9D17-4A4D-8813-D7E9F2C2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2765-B793-4B2F-A33E-330F4230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A5CF-285B-43F5-9311-51867E95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BBFB-DE86-4DD4-B940-3202E161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0E1-51F7-4679-9F5E-F6247436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563-2036-4FEC-8E91-0347C352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91F-9084-4250-B9CE-582FC003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39D-1044-4515-A864-DCA7DD0F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560-9AAA-412A-978C-8AD9C99D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949-63D3-4332-B937-C856BD79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A566-C19A-481B-8174-E060C7B6D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B251-6C37-4C09-8565-B2CEC47CD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89ED-8269-4409-B590-84D759E488B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/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y to Separate Classes  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&amp;    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s     &amp;     EECS   view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oduced Simple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ïve Ba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  (nonparametric vie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Likelihood rat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ed Comp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FLD vs. GL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lted Point Cloud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OK, not g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Conclusion:     GLR generally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ll see a different answer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eneralization II     (Gen. I was GL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 prior prob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 different weights to 2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priori equally lik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velopment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aightforw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ified likeli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ange intercept in 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explore further 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eneraliza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FLD-like approach to  &gt; two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umption:    Class covariance matrices are 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(simila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ut not Gaussian, same situation as for F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idea: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ntif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cation of 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their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3276720" y="5791320"/>
                <a:ext cx="3174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way to fi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esting 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mong the me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on set of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   Eigen-analysi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ween class covariance 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ide:  can show:  overa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6"/>
              <p:cNvSpPr txBox="1"/>
              <p:nvPr/>
            </p:nvSpPr>
            <p:spPr>
              <a:xfrm>
                <a:off x="4800600" y="3962520"/>
                <a:ext cx="17524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7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2133720" y="4572000"/>
                <a:ext cx="51051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p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</m:acc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p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Rectangle 9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5504040" y="5638680"/>
                <a:ext cx="34700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</m:e>
                    </m:rad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PCA only works like Mean Differen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pect can improve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king covariance into accou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lind application of above ideas suggests eigen-analysi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5029200" y="5486400"/>
                <a:ext cx="1371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Discriminant Analysi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rter ways to compu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lized eigen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represent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is solves optimization pro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al case: 2 classes,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duces to standard F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reference for more:    Section 3.8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da, Hart &amp; Stork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Classical Id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o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Meth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D and FLD sometimes sim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FLD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FLD i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fer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ong Complicated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is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always use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tory chang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</a:t>
            </a:r>
            <a:r>
              <a:rPr b="0" lang="en-US" sz="28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main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s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ple Size,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&lt;    Dimension,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ngular covarianc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use matrix in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iz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quires root inverse covari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do classical multivariat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approach to non-invertible covaria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 by generalized inve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imes called pseudo inve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there are sev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re use Moore Penrose in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used by Matlab    (pinv.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ten provides useful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ut not al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Re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85800" y="990720"/>
            <a:ext cx="8305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genvalue De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a (symmetric) square matri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a diagonal matrix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an orthonormal matrix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i.e.                         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 that:                    ,    i.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2"/>
              <p:cNvSpPr txBox="1"/>
              <p:nvPr/>
            </p:nvSpPr>
            <p:spPr>
              <a:xfrm>
                <a:off x="6858000" y="1905120"/>
                <a:ext cx="838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Rectangle 13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4"/>
              <p:cNvSpPr txBox="1"/>
              <p:nvPr/>
            </p:nvSpPr>
            <p:spPr>
              <a:xfrm>
                <a:off x="5257800" y="2666880"/>
                <a:ext cx="320040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Rectangle 1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6"/>
              <p:cNvSpPr txBox="1"/>
              <p:nvPr/>
            </p:nvSpPr>
            <p:spPr>
              <a:xfrm>
                <a:off x="5867280" y="4648320"/>
                <a:ext cx="76212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8"/>
              <p:cNvSpPr txBox="1"/>
              <p:nvPr/>
            </p:nvSpPr>
            <p:spPr>
              <a:xfrm>
                <a:off x="2514600" y="5334120"/>
                <a:ext cx="32004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Rectangle 1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0"/>
              <p:cNvSpPr txBox="1"/>
              <p:nvPr/>
            </p:nvSpPr>
            <p:spPr>
              <a:xfrm>
                <a:off x="2362320" y="6019920"/>
                <a:ext cx="21333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Rectangle 21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2"/>
              <p:cNvSpPr txBox="1"/>
              <p:nvPr/>
            </p:nvSpPr>
            <p:spPr>
              <a:xfrm>
                <a:off x="5638680" y="5943600"/>
                <a:ext cx="221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Distinc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vs.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terminolog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ervise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ing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supervise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28600" y="990720"/>
            <a:ext cx="87631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genvalue Decomp. solves matrix probl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vers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quare Ro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positive (nonn’ve, i.e. semi) definite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2"/>
              <p:cNvSpPr txBox="1"/>
              <p:nvPr/>
            </p:nvSpPr>
            <p:spPr>
              <a:xfrm>
                <a:off x="3429000" y="1828800"/>
                <a:ext cx="38862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9" name="Rectangle 13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14"/>
              <p:cNvSpPr txBox="1"/>
              <p:nvPr/>
            </p:nvSpPr>
            <p:spPr>
              <a:xfrm>
                <a:off x="3429000" y="3657600"/>
                <a:ext cx="3962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1" name="Rectangle 1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6"/>
              <p:cNvSpPr txBox="1"/>
              <p:nvPr/>
            </p:nvSpPr>
            <p:spPr>
              <a:xfrm>
                <a:off x="838080" y="5191200"/>
                <a:ext cx="457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1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8"/>
              <p:cNvSpPr txBox="1"/>
              <p:nvPr/>
            </p:nvSpPr>
            <p:spPr>
              <a:xfrm>
                <a:off x="5029200" y="6019920"/>
                <a:ext cx="533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0"/>
              <p:cNvSpPr txBox="1"/>
              <p:nvPr/>
            </p:nvSpPr>
            <p:spPr>
              <a:xfrm>
                <a:off x="8229600" y="5257800"/>
                <a:ext cx="504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2"/>
              <p:cNvSpPr txBox="1"/>
              <p:nvPr/>
            </p:nvSpPr>
            <p:spPr>
              <a:xfrm>
                <a:off x="6553080" y="5943600"/>
                <a:ext cx="1524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(</m:t>
                    </m:r>
                    <m:r>
                      <m:t xml:space="preserve">≥</m:t>
                    </m:r>
                    <m:r>
                      <m:t xml:space="preserve">)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28600" y="990720"/>
            <a:ext cx="87631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ore-Penrose Generalized Inver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2"/>
              <p:cNvSpPr txBox="1"/>
              <p:nvPr/>
            </p:nvSpPr>
            <p:spPr>
              <a:xfrm>
                <a:off x="1828800" y="2819520"/>
                <a:ext cx="6248520" cy="34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Rectangle 13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8"/>
              <p:cNvSpPr txBox="1"/>
              <p:nvPr/>
            </p:nvSpPr>
            <p:spPr>
              <a:xfrm>
                <a:off x="1295280" y="2057400"/>
                <a:ext cx="458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228600" y="990720"/>
            <a:ext cx="87631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sy to see this satisfies the definition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ized (Pseudo) In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mme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mme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2"/>
              <p:cNvSpPr txBox="1"/>
              <p:nvPr/>
            </p:nvSpPr>
            <p:spPr>
              <a:xfrm>
                <a:off x="1295280" y="3048120"/>
                <a:ext cx="2286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Rectangle 13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4"/>
              <p:cNvSpPr txBox="1"/>
              <p:nvPr/>
            </p:nvSpPr>
            <p:spPr>
              <a:xfrm>
                <a:off x="1219320" y="3962520"/>
                <a:ext cx="2438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1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6"/>
              <p:cNvSpPr txBox="1"/>
              <p:nvPr/>
            </p:nvSpPr>
            <p:spPr>
              <a:xfrm>
                <a:off x="1219320" y="4800600"/>
                <a:ext cx="914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1" name="Rectangle 1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9"/>
              <p:cNvSpPr txBox="1"/>
              <p:nvPr/>
            </p:nvSpPr>
            <p:spPr>
              <a:xfrm>
                <a:off x="1219320" y="5638680"/>
                <a:ext cx="973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2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call Linear Algebra 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28600" y="990720"/>
            <a:ext cx="876312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ore-Penrose Generalized Inver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a:  matrix inverse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-null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 linear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s to ordinary inverse,  in full rank ca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.e.  for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 = 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o could j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ways use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icky asp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0  vs. = 0”   &amp;   floating point arithm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lication of Generalized Inverse to F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ion (Normal) 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cep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ve replaced              by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3019320" y="3048120"/>
                <a:ext cx="4633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5" name="Rectangle 7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3048120" y="4471920"/>
                <a:ext cx="3962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7" name="Rectangle 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0"/>
              <p:cNvSpPr txBox="1"/>
              <p:nvPr/>
            </p:nvSpPr>
            <p:spPr>
              <a:xfrm>
                <a:off x="3429000" y="5715000"/>
                <a:ext cx="1143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" name="Rectangle 11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2"/>
              <p:cNvSpPr txBox="1"/>
              <p:nvPr/>
            </p:nvSpPr>
            <p:spPr>
              <a:xfrm>
                <a:off x="5638680" y="5715000"/>
                <a:ext cx="1035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Line 13"/>
          <p:cNvSpPr/>
          <p:nvPr/>
        </p:nvSpPr>
        <p:spPr>
          <a:xfrm flipH="1" flipV="1">
            <a:off x="4952880" y="3809880"/>
            <a:ext cx="9907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y Example:    Increasing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vect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try 1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Ent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l Entries 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k through dimension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6"/>
              <p:cNvSpPr txBox="1"/>
              <p:nvPr/>
            </p:nvSpPr>
            <p:spPr>
              <a:xfrm>
                <a:off x="3124080" y="3200400"/>
                <a:ext cx="16002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7" name="Rectangle 7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8"/>
              <p:cNvSpPr txBox="1"/>
              <p:nvPr/>
            </p:nvSpPr>
            <p:spPr>
              <a:xfrm>
                <a:off x="685800" y="1905120"/>
                <a:ext cx="2057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Rectangle 9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0"/>
              <p:cNvSpPr txBox="1"/>
              <p:nvPr/>
            </p:nvSpPr>
            <p:spPr>
              <a:xfrm>
                <a:off x="6858000" y="3124080"/>
                <a:ext cx="16765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Rectangle 11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2"/>
              <p:cNvSpPr txBox="1"/>
              <p:nvPr/>
            </p:nvSpPr>
            <p:spPr>
              <a:xfrm>
                <a:off x="3733920" y="3809880"/>
                <a:ext cx="110484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3" name="Rectangle 13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4"/>
              <p:cNvSpPr txBox="1"/>
              <p:nvPr/>
            </p:nvSpPr>
            <p:spPr>
              <a:xfrm>
                <a:off x="5257800" y="5702400"/>
                <a:ext cx="3048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creasing Dimension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.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.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.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rcRect l="3206" t="14959" r="3206" b="8055"/>
          <a:stretch/>
        </p:blipFill>
        <p:spPr>
          <a:xfrm>
            <a:off x="3200400" y="1947960"/>
            <a:ext cx="5638680" cy="4308480"/>
          </a:xfrm>
          <a:prstGeom prst="rect">
            <a:avLst/>
          </a:prstGeom>
          <a:ln w="0">
            <a:noFill/>
          </a:ln>
        </p:spPr>
      </p:pic>
      <p:sp>
        <p:nvSpPr>
          <p:cNvPr id="329" name="Line 6"/>
          <p:cNvSpPr/>
          <p:nvPr/>
        </p:nvSpPr>
        <p:spPr>
          <a:xfrm>
            <a:off x="2666880" y="2819520"/>
            <a:ext cx="15242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7"/>
          <p:cNvSpPr/>
          <p:nvPr/>
        </p:nvSpPr>
        <p:spPr>
          <a:xfrm flipV="1">
            <a:off x="2819520" y="3428640"/>
            <a:ext cx="22096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2514600" y="4191120"/>
            <a:ext cx="4267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 a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mension (noi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j.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xes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w See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rcRect l="3206" t="14960" r="3206" b="8054"/>
          <a:stretch/>
        </p:blipFill>
        <p:spPr>
          <a:xfrm>
            <a:off x="3200400" y="1947960"/>
            <a:ext cx="5638680" cy="4308480"/>
          </a:xfrm>
          <a:prstGeom prst="rect">
            <a:avLst/>
          </a:prstGeom>
          <a:ln w="0">
            <a:noFill/>
          </a:ln>
        </p:spPr>
      </p:pic>
      <p:sp>
        <p:nvSpPr>
          <p:cNvPr id="336" name="Line 6"/>
          <p:cNvSpPr/>
          <p:nvPr/>
        </p:nvSpPr>
        <p:spPr>
          <a:xfrm>
            <a:off x="1371600" y="3505320"/>
            <a:ext cx="28195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>
            <a:off x="1371600" y="3505320"/>
            <a:ext cx="5562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 flipV="1">
            <a:off x="2362320" y="327672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 flipV="1">
            <a:off x="2362320" y="3124080"/>
            <a:ext cx="5486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 a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mension (noi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-d sub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n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opti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&amp;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3206" t="14960" r="3206" b="8054"/>
          <a:stretch/>
        </p:blipFill>
        <p:spPr>
          <a:xfrm>
            <a:off x="3200400" y="1947960"/>
            <a:ext cx="5638680" cy="4308480"/>
          </a:xfrm>
          <a:prstGeom prst="rect">
            <a:avLst/>
          </a:prstGeom>
          <a:ln w="0">
            <a:noFill/>
          </a:ln>
        </p:spPr>
      </p:pic>
      <p:sp>
        <p:nvSpPr>
          <p:cNvPr id="344" name="Line 6"/>
          <p:cNvSpPr/>
          <p:nvPr/>
        </p:nvSpPr>
        <p:spPr>
          <a:xfrm>
            <a:off x="2438280" y="21337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 Through Increasing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EGIncDimClass1FLD.avi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Introduction (non-Gaussian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19627" t="3789" r="11598" b="12631"/>
          <a:stretch/>
        </p:blipFill>
        <p:spPr>
          <a:xfrm>
            <a:off x="2011320" y="1824120"/>
            <a:ext cx="5713560" cy="4900680"/>
          </a:xfrm>
          <a:prstGeom prst="rect">
            <a:avLst/>
          </a:prstGeom>
          <a:ln w="0">
            <a:noFill/>
          </a:ln>
        </p:spPr>
      </p:pic>
      <p:sp>
        <p:nvSpPr>
          <p:cNvPr id="137" name="Line 5"/>
          <p:cNvSpPr/>
          <p:nvPr/>
        </p:nvSpPr>
        <p:spPr>
          <a:xfrm>
            <a:off x="434340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434304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 dimensi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2-9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ly good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all angle between FLD and Opti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generaliz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um Dimensi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= 10-26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sual separation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good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!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rger angle between FLD and Opti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se generaliz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el effect of sampl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igh Dimensions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=27-37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h worse 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ry poor generaliz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very small within class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or separation between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rge separation / variation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dary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=38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8 = degre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need to estimate 2 class mea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in class variation = 0 ?!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le up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on just two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fec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separation / variation rati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only feels microscopic noise asp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likely not generaliz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 to optimal very l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st beyond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dary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=39-70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es with higher dimension?!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le gets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roving generalizabil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noise helps classification?!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ff"/>
            </a:gs>
            <a:gs pos="50000">
              <a:srgbClr val="ffffff"/>
            </a:gs>
            <a:gs pos="100000">
              <a:srgbClr val="6e6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in Increasing Dimen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r beyond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y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=70-1000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lity de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ions look terr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opulations overla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Generalizability falls apart, a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worked out by Bickel &amp; Levina (200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 is estimation of d x d covariance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for Tilted Point Clou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ork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for Tilted Point Clou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ork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for Don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or, no plane can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for Don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orks well (good quadrat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for 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or, no plane can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for 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etter, but not g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Administrator</cp:lastModifiedBy>
  <dcterms:modified xsi:type="dcterms:W3CDTF">2007-10-09T21:34:20Z</dcterms:modified>
  <cp:revision>878</cp:revision>
  <dc:subject/>
  <dc:title>Title</dc:title>
</cp:coreProperties>
</file>