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2D49-4113-440F-B8BF-38E96529C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8083-A23E-41E1-AC20-32A7CDEE09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\Documents and Settings\J S Marron\My Documents\Research\ComplexPopn\MaxDataPiling\dppic2_2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E4C4-4B7E-4710-9804-0697EE9AFD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4EF5-2303-4BCE-BD47-2E7872E877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0780-0517-4C38-9AF5-AEB5881BB1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F1F5-A6D6-4B8A-A926-4843C44C39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08D6-C518-4B1B-A644-DC1222A232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0306-1E2A-4B32-928C-0F23D1C284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13D6-9C50-41C5-83DE-F2B863C157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0756-E03C-46BF-96F3-546738A65E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E61B-3DC3-4656-BA30-8C9847AF67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1505-CBC5-4E5F-B106-4A00877533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ADB7-ACB2-4B34-970E-142B498195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4DAD-BD08-4E88-B151-2A355FA8EC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C295-8ED1-4A91-973E-E1E15AFC55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2022-922F-48C0-9D0C-F3AD6F700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64E5-BA8D-478F-A658-EA60270F27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C060-49C8-44CB-A798-D4074FD2C2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6451-252D-40E6-BD36-8C6F135828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4A53-871B-402F-9B5E-046B085EAB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FD05-C86A-49EA-ADCB-8B4EFBB62B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D4AE-C614-43D1-A208-610F93A951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91E0-253F-48AB-839F-028C302260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442D-6CC0-4E82-AEAA-75B5866F71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BA84-DAC8-49DA-8CE0-308A1A95E1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92D7-2C0C-4BBA-B8AF-CC5FE18726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C65C-9A6A-40D2-8FE7-AC8F4A8DF7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20EE-4B16-4780-B36A-DA3573A835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C966-FBF0-4B47-BAAE-5DB4BA5AB5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1F92-12AC-435B-A863-17897BB85D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846A-525D-404C-B1FF-29750F1680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1443-EB8D-4E0B-8584-6D8956F176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08BB-72BC-4579-9115-3A497FED9A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B43B-AB15-4142-BC82-D075ECFB12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8245-E0A0-4801-8257-BC9EB21666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D3D5-0B56-4063-9F81-6B5DF46CA5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F7AD-1571-4995-AD71-8C1FBC204E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9E41-071F-482F-BFF1-5DB68C518A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C682-FFC3-4116-B867-5AA6A10333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1C5F-D005-4636-A3CF-0F44F65209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E95C-BB76-413D-BB69-BD13B24086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D4D6-C75D-42B9-9834-702EE1493F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4E14-78FE-4A04-86F4-75548DAB22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43B3-A556-414F-8277-A66F800B6B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2F28-62EB-4866-AC71-4D7B833518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3F5-14E3-4627-AE47-C0CC4CB73F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8C34-5D7A-49DB-9243-9ED9CF2FB2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88C8-C4DB-42C6-A4DD-7C6656485C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9237-C63D-4FE3-985E-61FD0FF7C8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C6BB-307A-4ADD-B70E-7B54CCF918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CC71-3416-41BE-B66B-EB17DA35E8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A3E1-ADC9-404B-A6E9-1085640916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9FEB-2E25-46EB-A968-C95921DE23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ED8-C532-4E29-A25F-D204CC3DA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B7AB-5596-4220-AF60-DAA693A5BD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B742-525D-476C-99EA-F4FDA0ADD9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DCE9-2EB5-4600-BDC1-38574AEB8C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1DFB-FAC3-4A83-94CA-6F34B3131B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9915-B9CF-4FC3-BEAD-17E1CF0339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B863-4ECC-4BC2-8369-3C4EF237F5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3FB7-183D-4B50-ABAC-632D97EA38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D699-F5C7-441C-B6D5-2D73704863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FCA1-58BD-4BC6-A5D0-AF9AFF7B85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F429-6E90-420D-99CE-C00E762B0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CDC-54E0-4A29-ABE1-D8EB1E36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278-ADCC-40A9-B754-838270FB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CEE-79BB-4B99-B13B-8389BD22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9E3-B102-4C29-ACE6-FF5B62F2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2426-CA9E-4151-A178-5ACB1BF2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3A41-9ED2-49FB-9317-03E72D80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BEAA-A861-4B53-AAC0-35E290BE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8A65-2E04-4456-9B43-E2F9D7BE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FA78-0C69-41AC-AF50-4E2FF032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0244-5AF4-4012-9955-D094EF56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57F0-2953-4859-AEDE-7262456D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41A-AFEB-42E7-9FD3-894B58C3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CCE6-6676-4C5A-9CE3-635568B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EAE0-2566-4955-974F-913A2834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896A-C241-402E-A25F-FBC9AE41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587C-8C9C-4BB7-AC3C-C91179D1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D4FF-DDAF-4D31-A81F-2830564A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7C437-6CF0-4508-84D6-7EC90F8F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43F3-BBDC-4656-95B2-855A864B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ECDA3-798E-4AE2-8EC1-91860E26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E5BA2-0E2E-417B-91C9-1150B8F8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9C2C-C58C-481B-88F2-AB8AD1E4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4DC-7EE9-4146-9194-6920D40A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2D647-1BA8-4DDB-A3C2-5647C268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6136-BA80-4CF6-A6DE-555D7B1C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DD48-8D4F-400C-8E93-66BC7617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25D6-F6A7-4A55-A622-1F60EB43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0853-CF69-4D1D-84CC-4EB41469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4358-CADD-4587-82D8-EE436F9D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66E4-004C-45A0-B891-6DABA996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AA8DD-2858-40F7-8D09-347865A8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3EFC-833D-4186-B8C5-A3E01DBF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845E4-1C53-4CBB-9E06-0894D45C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D8F-4612-49C3-802D-3C0F601A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B3572-3ADB-4536-A837-9E6F2810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6401-47F9-427A-896F-20D3E53B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6C4A3-7D56-4BD3-B467-1BC7CFAD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2A7C-1E94-4384-A29D-E1FDE672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0035A-FD55-4091-AD45-DD25284C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AC90-34D7-45DB-95EE-B3F1D281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5DB8E-1B80-453E-B0B3-C8E6DECE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4CDE-1101-45C6-B4FE-B7CE6877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B962F-BD86-440A-AECD-94F3D15F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3E6-5F42-49E7-AB06-249B0EC9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ABD-E1EE-4D97-89A2-67388915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F65-4D3F-45F2-BD9E-E56FCD51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47A-2B9D-435F-9E70-7EE46F18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72A-7B33-4C5D-BE82-60903BE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D9B5-7265-4C86-A125-CE82BC50B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13A4-0D6C-4556-9E91-369B4B295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27B7-5245-4AB7-8D35-1A2C44F7D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7DC6-98E4-4FB2-8FC7-1B3FC9814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Graphics/PEod1PC1combine.pdf" TargetMode="External"/><Relationship Id="rId2" Type="http://schemas.openxmlformats.org/officeDocument/2006/relationships/hyperlink" Target="PDFs/PEod1FLDcombine.pdf" TargetMode="External"/><Relationship Id="rId3" Type="http://schemas.openxmlformats.org/officeDocument/2006/relationships/hyperlink" Target="Graphics/PEod1FLDcombine.pdf" TargetMode="External"/><Relationship Id="rId4" Type="http://schemas.openxmlformats.org/officeDocument/2006/relationships/hyperlink" Target="PDFs/PEod1FLDcombine.pdf" TargetMode="External"/><Relationship Id="rId5" Type="http://schemas.openxmlformats.org/officeDocument/2006/relationships/hyperlink" Target="Graphics/PEod1GLRcombine.pdf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Graphics/PExd3FLDcombine.pdf" TargetMode="External"/><Relationship Id="rId2" Type="http://schemas.openxmlformats.org/officeDocument/2006/relationships/hyperlink" Target="Graphics/PExd3GLRcombine.pdf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Graphics/PEdonFLDcombine.pdf" TargetMode="External"/><Relationship Id="rId2" Type="http://schemas.openxmlformats.org/officeDocument/2006/relationships/hyperlink" Target="Graphics/PEdonGLRcombine.pdf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Graphics/PEchbFLDcombine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/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Statistical View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“goo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“bette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clude always do GL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longer true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f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ave strang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6"/>
              <p:cNvSpPr txBox="1"/>
              <p:nvPr/>
            </p:nvSpPr>
            <p:spPr>
              <a:xfrm>
                <a:off x="3809880" y="990720"/>
                <a:ext cx="1911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"/>
              <p:cNvSpPr txBox="1"/>
              <p:nvPr/>
            </p:nvSpPr>
            <p:spPr>
              <a:xfrm>
                <a:off x="6705720" y="914400"/>
                <a:ext cx="533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1"/>
          <a:srcRect l="7855" t="23964" r="4713" b="8559"/>
          <a:stretch/>
        </p:blipFill>
        <p:spPr>
          <a:xfrm>
            <a:off x="1143000" y="1600200"/>
            <a:ext cx="70866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ruction 1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space generated by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wo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hown as </a:t>
            </a:r>
            <a:r>
              <a:rPr b="0" lang="en-US" sz="32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cyan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6"/>
              <p:cNvSpPr txBox="1"/>
              <p:nvPr/>
            </p:nvSpPr>
            <p:spPr>
              <a:xfrm>
                <a:off x="3733920" y="990720"/>
                <a:ext cx="191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8"/>
              <p:cNvSpPr txBox="1"/>
              <p:nvPr/>
            </p:nvSpPr>
            <p:spPr>
              <a:xfrm>
                <a:off x="6705720" y="914400"/>
                <a:ext cx="533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0"/>
              <p:cNvSpPr txBox="1"/>
              <p:nvPr/>
            </p:nvSpPr>
            <p:spPr>
              <a:xfrm>
                <a:off x="1523880" y="2362320"/>
                <a:ext cx="16322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2"/>
              <p:cNvSpPr txBox="1"/>
              <p:nvPr/>
            </p:nvSpPr>
            <p:spPr>
              <a:xfrm>
                <a:off x="5715000" y="3048120"/>
                <a:ext cx="1709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ruction 1 (cont.)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orthogonal to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e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ke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 project to one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 project to one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6"/>
              <p:cNvSpPr txBox="1"/>
              <p:nvPr/>
            </p:nvSpPr>
            <p:spPr>
              <a:xfrm>
                <a:off x="3809880" y="990720"/>
                <a:ext cx="1911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8"/>
              <p:cNvSpPr txBox="1"/>
              <p:nvPr/>
            </p:nvSpPr>
            <p:spPr>
              <a:xfrm>
                <a:off x="6781680" y="914400"/>
                <a:ext cx="533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0"/>
              <p:cNvSpPr txBox="1"/>
              <p:nvPr/>
            </p:nvSpPr>
            <p:spPr>
              <a:xfrm>
                <a:off x="1371600" y="2286000"/>
                <a:ext cx="1093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2"/>
              <p:cNvSpPr txBox="1"/>
              <p:nvPr/>
            </p:nvSpPr>
            <p:spPr>
              <a:xfrm>
                <a:off x="5715000" y="3048120"/>
                <a:ext cx="1631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ruction 2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spaces orthogonal to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spective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collapses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collapses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 are 2-d (pla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6"/>
              <p:cNvSpPr txBox="1"/>
              <p:nvPr/>
            </p:nvSpPr>
            <p:spPr>
              <a:xfrm>
                <a:off x="3809880" y="990720"/>
                <a:ext cx="1911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6705720" y="914400"/>
                <a:ext cx="533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0"/>
              <p:cNvSpPr txBox="1"/>
              <p:nvPr/>
            </p:nvSpPr>
            <p:spPr>
              <a:xfrm>
                <a:off x="1371600" y="2209680"/>
                <a:ext cx="1905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  <m:sup/>
                    </m:sSubSup>
                    <m:r>
                      <m:t xml:space="preserve">∧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7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5867280" y="3048120"/>
                <a:ext cx="1711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4"/>
              <p:cNvSpPr txBox="1"/>
              <p:nvPr/>
            </p:nvSpPr>
            <p:spPr>
              <a:xfrm>
                <a:off x="1143000" y="4343400"/>
                <a:ext cx="609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78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6"/>
              <p:cNvSpPr txBox="1"/>
              <p:nvPr/>
            </p:nvSpPr>
            <p:spPr>
              <a:xfrm>
                <a:off x="1143000" y="5029200"/>
                <a:ext cx="5904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ruction 2 (cont.)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intersection of    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Maximal Data Piling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lapses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section of 2-d (planes) is 1-d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6"/>
              <p:cNvSpPr txBox="1"/>
              <p:nvPr/>
            </p:nvSpPr>
            <p:spPr>
              <a:xfrm>
                <a:off x="3809880" y="990720"/>
                <a:ext cx="1911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6629400" y="914400"/>
                <a:ext cx="533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4114800" y="2286000"/>
                <a:ext cx="1752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  <m:sup/>
                    </m:sSubSup>
                    <m:r>
                      <m:t xml:space="preserve">∧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6858000" y="2286000"/>
                <a:ext cx="9237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Case:             in       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yperplanes generated by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Dimensions                            (resp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sub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shifts to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Dimensions                          (resp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3429000" y="990720"/>
                <a:ext cx="100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8"/>
              <p:cNvSpPr txBox="1"/>
              <p:nvPr/>
            </p:nvSpPr>
            <p:spPr>
              <a:xfrm>
                <a:off x="5105520" y="990720"/>
                <a:ext cx="5904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1295280" y="1676520"/>
                <a:ext cx="16448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2"/>
              <p:cNvSpPr txBox="1"/>
              <p:nvPr/>
            </p:nvSpPr>
            <p:spPr>
              <a:xfrm>
                <a:off x="4114800" y="3048120"/>
                <a:ext cx="26733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6"/>
              <p:cNvSpPr txBox="1"/>
              <p:nvPr/>
            </p:nvSpPr>
            <p:spPr>
              <a:xfrm>
                <a:off x="6934320" y="990720"/>
                <a:ext cx="17571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1371600" y="3657600"/>
                <a:ext cx="1660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20"/>
              <p:cNvSpPr txBox="1"/>
              <p:nvPr/>
            </p:nvSpPr>
            <p:spPr>
              <a:xfrm>
                <a:off x="4114800" y="5791320"/>
                <a:ext cx="26161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Case:             in       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thogonal Hyperpla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                                      (resp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in        D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 Collapse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in        D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 Collapse 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ect                           inter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6"/>
              <p:cNvSpPr txBox="1"/>
              <p:nvPr/>
            </p:nvSpPr>
            <p:spPr>
              <a:xfrm>
                <a:off x="3352680" y="914400"/>
                <a:ext cx="1150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8"/>
              <p:cNvSpPr txBox="1"/>
              <p:nvPr/>
            </p:nvSpPr>
            <p:spPr>
              <a:xfrm>
                <a:off x="5029200" y="914400"/>
                <a:ext cx="590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0"/>
              <p:cNvSpPr txBox="1"/>
              <p:nvPr/>
            </p:nvSpPr>
            <p:spPr>
              <a:xfrm>
                <a:off x="1219320" y="1600200"/>
                <a:ext cx="17017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  <m:sup/>
                    </m:sSubSup>
                    <m:r>
                      <m:t xml:space="preserve">∧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2"/>
              <p:cNvSpPr txBox="1"/>
              <p:nvPr/>
            </p:nvSpPr>
            <p:spPr>
              <a:xfrm>
                <a:off x="3124080" y="3048120"/>
                <a:ext cx="39625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6"/>
              <p:cNvSpPr txBox="1"/>
              <p:nvPr/>
            </p:nvSpPr>
            <p:spPr>
              <a:xfrm>
                <a:off x="6858000" y="990720"/>
                <a:ext cx="1981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7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8"/>
              <p:cNvSpPr txBox="1"/>
              <p:nvPr/>
            </p:nvSpPr>
            <p:spPr>
              <a:xfrm>
                <a:off x="3124080" y="4343400"/>
                <a:ext cx="5335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9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0"/>
              <p:cNvSpPr txBox="1"/>
              <p:nvPr/>
            </p:nvSpPr>
            <p:spPr>
              <a:xfrm>
                <a:off x="2590920" y="5562720"/>
                <a:ext cx="26938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2"/>
              <p:cNvSpPr txBox="1"/>
              <p:nvPr/>
            </p:nvSpPr>
            <p:spPr>
              <a:xfrm>
                <a:off x="3124080" y="4952880"/>
                <a:ext cx="514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Case:             in       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how  (Ahn &amp; Marron 2005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 in intersection collapse all to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there is a directi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Classes collapse to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subspace generated by 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3276720" y="914400"/>
                <a:ext cx="1150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5105520" y="914400"/>
                <a:ext cx="590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4"/>
              <p:cNvSpPr txBox="1"/>
              <p:nvPr/>
            </p:nvSpPr>
            <p:spPr>
              <a:xfrm>
                <a:off x="7010280" y="990720"/>
                <a:ext cx="1828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6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6"/>
              <p:cNvSpPr txBox="1"/>
              <p:nvPr/>
            </p:nvSpPr>
            <p:spPr>
              <a:xfrm>
                <a:off x="5638680" y="2971800"/>
                <a:ext cx="1041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8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Through Increasing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EGIncDimClass1MDP.avi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P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b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mensi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1-37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s similar to FLD?!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 for th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dary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38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ain similar to F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Through Increasing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EGIncDimClass1FLD.avi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mensi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39-1000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have data pi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p between grows for larger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 though noise increas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 (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lity) fir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mprov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39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worsen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200-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tually noise domin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de-off is where gap near optimal di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compute         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how  (Ahn &amp; Marron 2005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FLD formul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fference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ob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s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in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variance Estimat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13"/>
              <p:cNvSpPr txBox="1"/>
              <p:nvPr/>
            </p:nvSpPr>
            <p:spPr>
              <a:xfrm>
                <a:off x="3657600" y="914400"/>
                <a:ext cx="9144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17"/>
              <p:cNvSpPr txBox="1"/>
              <p:nvPr/>
            </p:nvSpPr>
            <p:spPr>
              <a:xfrm>
                <a:off x="3276720" y="3886200"/>
                <a:ext cx="43304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Rectangle 18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19"/>
              <p:cNvSpPr txBox="1"/>
              <p:nvPr/>
            </p:nvSpPr>
            <p:spPr>
              <a:xfrm>
                <a:off x="3276720" y="2286000"/>
                <a:ext cx="41385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storical 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overy of M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me from a programming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getting to us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in cla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F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 similarity of             &amp;           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show  (Ahn &amp; Marron 2005),   for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&lt; 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s are the sa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can this b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 lengths are 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from transformation view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13"/>
              <p:cNvSpPr txBox="1"/>
              <p:nvPr/>
            </p:nvSpPr>
            <p:spPr>
              <a:xfrm>
                <a:off x="4191120" y="914400"/>
                <a:ext cx="9144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D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7"/>
              <p:cNvSpPr txBox="1"/>
              <p:nvPr/>
            </p:nvSpPr>
            <p:spPr>
              <a:xfrm>
                <a:off x="6095880" y="914400"/>
                <a:ext cx="7956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9" name="Rectangle 18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9"/>
              <p:cNvSpPr txBox="1"/>
              <p:nvPr/>
            </p:nvSpPr>
            <p:spPr>
              <a:xfrm>
                <a:off x="2209680" y="2438280"/>
                <a:ext cx="54262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DP</m:t>
                                </m:r>
                              </m:sub>
                            </m:sSub>
                          </m:e>
                        </m:acc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DP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LD</m:t>
                                </m:r>
                              </m:sub>
                            </m:sSub>
                          </m:e>
                        </m:acc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LD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ns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ew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FLDegMovingMeans.avi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55627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clu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s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ns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 g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FLDnMDPegMovingMeans.avi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6267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tai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g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rmal 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in Clas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oba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17" descr=""/>
          <p:cNvPicPr/>
          <p:nvPr/>
        </p:nvPicPr>
        <p:blipFill>
          <a:blip r:embed="rId1"/>
          <a:srcRect l="3862" t="17142" r="2575" b="9142"/>
          <a:stretch/>
        </p:blipFill>
        <p:spPr>
          <a:xfrm>
            <a:off x="3530520" y="1389240"/>
            <a:ext cx="5251680" cy="4660560"/>
          </a:xfrm>
          <a:prstGeom prst="rect">
            <a:avLst/>
          </a:prstGeom>
          <a:ln w="0">
            <a:noFill/>
          </a:ln>
        </p:spPr>
      </p:pic>
      <p:sp>
        <p:nvSpPr>
          <p:cNvPr id="489" name="Line 18"/>
          <p:cNvSpPr/>
          <p:nvPr/>
        </p:nvSpPr>
        <p:spPr>
          <a:xfrm>
            <a:off x="3276720" y="22860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19"/>
          <p:cNvSpPr/>
          <p:nvPr/>
        </p:nvSpPr>
        <p:spPr>
          <a:xfrm flipV="1">
            <a:off x="3276720" y="205704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20"/>
          <p:cNvSpPr/>
          <p:nvPr/>
        </p:nvSpPr>
        <p:spPr>
          <a:xfrm>
            <a:off x="3276720" y="2286000"/>
            <a:ext cx="43434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21"/>
          <p:cNvSpPr/>
          <p:nvPr/>
        </p:nvSpPr>
        <p:spPr>
          <a:xfrm>
            <a:off x="3352680" y="2819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22"/>
          <p:cNvSpPr/>
          <p:nvPr/>
        </p:nvSpPr>
        <p:spPr>
          <a:xfrm>
            <a:off x="3352680" y="2819520"/>
            <a:ext cx="2667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23"/>
          <p:cNvSpPr/>
          <p:nvPr/>
        </p:nvSpPr>
        <p:spPr>
          <a:xfrm>
            <a:off x="3352680" y="2819520"/>
            <a:ext cx="4191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24"/>
          <p:cNvSpPr/>
          <p:nvPr/>
        </p:nvSpPr>
        <p:spPr>
          <a:xfrm flipV="1">
            <a:off x="1600200" y="2514600"/>
            <a:ext cx="4876920" cy="1295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25"/>
          <p:cNvSpPr/>
          <p:nvPr/>
        </p:nvSpPr>
        <p:spPr>
          <a:xfrm flipV="1">
            <a:off x="1600200" y="3429000"/>
            <a:ext cx="647712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26"/>
          <p:cNvSpPr/>
          <p:nvPr/>
        </p:nvSpPr>
        <p:spPr>
          <a:xfrm flipV="1">
            <a:off x="1676520" y="2971800"/>
            <a:ext cx="4724280" cy="1371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27"/>
          <p:cNvSpPr/>
          <p:nvPr/>
        </p:nvSpPr>
        <p:spPr>
          <a:xfrm flipV="1">
            <a:off x="1676520" y="3580920"/>
            <a:ext cx="6324480" cy="762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28"/>
          <p:cNvSpPr/>
          <p:nvPr/>
        </p:nvSpPr>
        <p:spPr>
          <a:xfrm flipV="1">
            <a:off x="1523880" y="4800240"/>
            <a:ext cx="426744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29"/>
          <p:cNvSpPr/>
          <p:nvPr/>
        </p:nvSpPr>
        <p:spPr>
          <a:xfrm flipV="1">
            <a:off x="1600200" y="3733920"/>
            <a:ext cx="4724280" cy="22860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knowledge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view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insight into why FLD = M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or low 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ed by Daniel 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 e.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t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om P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D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CAtoMDPeg1Data002V1.avi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64008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P for other class labell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ex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on bigger for natural clu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uld be used for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 all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one that makes largest g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hard optimization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n-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ssible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(Centroid)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classical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ually no better than F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w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avoids estimation of co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s are very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feel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point of terminology (Ahn &amp; Marron 2005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P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2 sen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of data pi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ze of g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thin sub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by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17" descr=""/>
          <p:cNvPicPr/>
          <p:nvPr/>
        </p:nvPicPr>
        <p:blipFill>
          <a:blip r:embed="rId1"/>
          <a:srcRect l="8955" t="26606" r="8955" b="13796"/>
          <a:stretch/>
        </p:blipFill>
        <p:spPr>
          <a:xfrm>
            <a:off x="4687920" y="2941560"/>
            <a:ext cx="3854520" cy="3181320"/>
          </a:xfrm>
          <a:prstGeom prst="rect">
            <a:avLst/>
          </a:prstGeom>
          <a:ln w="0">
            <a:noFill/>
          </a:ln>
        </p:spPr>
      </p:pic>
      <p:sp>
        <p:nvSpPr>
          <p:cNvPr id="563" name="Line 18"/>
          <p:cNvSpPr/>
          <p:nvPr/>
        </p:nvSpPr>
        <p:spPr>
          <a:xfrm>
            <a:off x="7391520" y="5638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19"/>
          <p:cNvSpPr/>
          <p:nvPr/>
        </p:nvSpPr>
        <p:spPr>
          <a:xfrm>
            <a:off x="3276720" y="3200400"/>
            <a:ext cx="441936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urring, over-arching, iss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pace is a weird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izerman, Braverman and Rozoner (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tivating id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tend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linear discriminati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adding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componen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mbedding in a higher 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 use of n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discrimin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1d,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separa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splits the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o only 2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18"/>
              <p:cNvSpPr txBox="1"/>
              <p:nvPr/>
            </p:nvSpPr>
            <p:spPr>
              <a:xfrm>
                <a:off x="1143000" y="2133720"/>
                <a:ext cx="182880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12" name="Poly1Embed1d.mpg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385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9144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in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drat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 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sepa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3 par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19"/>
              <p:cNvSpPr txBox="1"/>
              <p:nvPr/>
            </p:nvSpPr>
            <p:spPr>
              <a:xfrm>
                <a:off x="457200" y="2362320"/>
                <a:ext cx="37339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  <m:r>
                      <m:t xml:space="preserve">⊂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31" name="Poly2Embed1d.mpg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3938400" cy="5689440"/>
          </a:xfrm>
          <a:prstGeom prst="rect">
            <a:avLst/>
          </a:prstGeom>
          <a:ln w="0">
            <a:noFill/>
          </a:ln>
        </p:spPr>
      </p:pic>
      <p:sp>
        <p:nvSpPr>
          <p:cNvPr id="632" name="Line 21"/>
          <p:cNvSpPr/>
          <p:nvPr/>
        </p:nvSpPr>
        <p:spPr>
          <a:xfrm>
            <a:off x="3200400" y="2971800"/>
            <a:ext cx="3200400" cy="1828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dratic embedded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separation can give 3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data space lies in 1d mani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sparse region of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vature of manifold giv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2 break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 points       l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19"/>
              <p:cNvSpPr txBox="1"/>
              <p:nvPr/>
            </p:nvSpPr>
            <p:spPr>
              <a:xfrm>
                <a:off x="2438280" y="1523880"/>
                <a:ext cx="38862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  <m:r>
                      <m:t xml:space="preserve">⊂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1" name="Rectangle 2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1"/>
              <p:cNvSpPr txBox="1"/>
              <p:nvPr/>
            </p:nvSpPr>
            <p:spPr>
              <a:xfrm>
                <a:off x="5181480" y="3276720"/>
                <a:ext cx="533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3" name="Rectangle 2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23"/>
              <p:cNvSpPr txBox="1"/>
              <p:nvPr/>
            </p:nvSpPr>
            <p:spPr>
              <a:xfrm>
                <a:off x="4876920" y="5715000"/>
                <a:ext cx="5331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er effects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or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 for cubic,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sepa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give 4 par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r few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1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20"/>
              <p:cNvSpPr txBox="1"/>
              <p:nvPr/>
            </p:nvSpPr>
            <p:spPr>
              <a:xfrm>
                <a:off x="228600" y="3886200"/>
                <a:ext cx="4191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  <m:r>
                      <m:t xml:space="preserve">⊂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73" name="Poly3Embed1d.mpg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er effects - high. ord. poly.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space lies in 1-d manifold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 sparser i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curvature g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d linear s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3 break poi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3 points        plan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relatively f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separating pla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19"/>
              <p:cNvSpPr txBox="1"/>
              <p:nvPr/>
            </p:nvSpPr>
            <p:spPr>
              <a:xfrm>
                <a:off x="6248520" y="2057400"/>
                <a:ext cx="5331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2" name="Rectangle 2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21"/>
              <p:cNvSpPr txBox="1"/>
              <p:nvPr/>
            </p:nvSpPr>
            <p:spPr>
              <a:xfrm>
                <a:off x="4648320" y="4557600"/>
                <a:ext cx="4572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 View:       for original data matr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 row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8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19"/>
              <p:cNvSpPr txBox="1"/>
              <p:nvPr/>
            </p:nvSpPr>
            <p:spPr>
              <a:xfrm>
                <a:off x="6553080" y="1495440"/>
                <a:ext cx="2057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2" name="Rectangle 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21"/>
              <p:cNvSpPr txBox="1"/>
              <p:nvPr/>
            </p:nvSpPr>
            <p:spPr>
              <a:xfrm>
                <a:off x="3657600" y="2819520"/>
                <a:ext cx="282420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/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684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 Fisher Linear Discrimin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e Class 1, for any            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age of class boundaries in original space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ows mo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licat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lass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 also do Gaussian Lik. Rat. (or other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ute image by classifying points from original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19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"/>
              <p:cNvSpPr txBox="1"/>
              <p:nvPr/>
            </p:nvSpPr>
            <p:spPr>
              <a:xfrm>
                <a:off x="5562720" y="1447920"/>
                <a:ext cx="1371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acc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2" name="Rectangle 21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3"/>
              <p:cNvSpPr txBox="1"/>
              <p:nvPr/>
            </p:nvSpPr>
            <p:spPr>
              <a:xfrm>
                <a:off x="1447920" y="2057400"/>
                <a:ext cx="651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(Centroid)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EGIncDimClass1MD.avi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ization for Toy 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Linear Disc. In Embedded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udy Effect in Original Data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a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ed Nonlinear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st Se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 Original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ense equally spaced gr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 discrimination R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sing the Res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lou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6" name="Picture 18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Clou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C 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ed greatest va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nl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F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3"/>
              </a:rPr>
              <a:t>L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4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y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5"/>
              </a:rPr>
              <a:t>GL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discrimination at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0560" indent="-511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      overfitting proble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1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Object 2"/>
              <p:cNvSpPr txBox="1"/>
              <p:nvPr/>
            </p:nvSpPr>
            <p:spPr>
              <a:xfrm>
                <a:off x="2438280" y="5943600"/>
                <a:ext cx="30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lit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1" name="Picture 18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lit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FL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pidly improves with higher deg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GL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way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never ellipse around b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5" name="Picture 18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 Embedding, Toy Example 3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FL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or fit for low deg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over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GL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 with No Embe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quare shap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overfitting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awbacks to polynomial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many extra terms create spurious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fit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blems typically get wo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t Topic Variation: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Mach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replace polynomial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1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moid functio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 neural n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2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al basis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ker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lated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call:  smoothed histogram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ndrite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 points by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d b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are data “more dens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Picture 2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418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(Centroid)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r more stable over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cause is likelihood ratio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or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nown variance - Gaussian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feel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tually become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goo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!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dening gap between clusters?!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eful:   angle to optimal gr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lose generalizability (since noise inc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 present some odd 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ndrite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probability mass 1/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t each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ooth piece of “densit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0" name="Picture 2" descr=""/>
          <p:cNvPicPr/>
          <p:nvPr/>
        </p:nvPicPr>
        <p:blipFill>
          <a:blip r:embed="rId1"/>
          <a:stretch/>
        </p:blipFill>
        <p:spPr>
          <a:xfrm>
            <a:off x="1298520" y="2514600"/>
            <a:ext cx="6418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7"/>
            </a:gs>
            <a:gs pos="50000">
              <a:srgbClr val="ffffff"/>
            </a:gs>
            <a:gs pos="100000">
              <a:srgbClr val="00e7e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Density Est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ndrite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estimate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gests 3 modes (rock sour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9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1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1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Rectangle 12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ectangle 13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18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2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2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22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23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Rectangle 25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Rectangle 26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Rectangle 27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Rectangle 28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29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3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31"/>
          <p:cNvSpPr/>
          <p:nvPr/>
        </p:nvSpPr>
        <p:spPr>
          <a:xfrm>
            <a:off x="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32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1298520" y="2514600"/>
            <a:ext cx="6418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al Basis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there are several ways to emb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Embedding  (equally spaced gr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 Embedding  (evaluate at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 Emdedding  (inner prod. bas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everybody currently does the lat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Embedding, Radial basis funct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s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id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ndwid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i.e. standard de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)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ider  (     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)  function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data matrix with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20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Object 2"/>
              <p:cNvSpPr txBox="1"/>
              <p:nvPr/>
            </p:nvSpPr>
            <p:spPr>
              <a:xfrm>
                <a:off x="4572000" y="1600200"/>
                <a:ext cx="14479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19" name="Rectangle 22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Object 3"/>
              <p:cNvSpPr txBox="1"/>
              <p:nvPr/>
            </p:nvSpPr>
            <p:spPr>
              <a:xfrm>
                <a:off x="8001000" y="2438280"/>
                <a:ext cx="3808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1" name="Rectangle 2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Object 4"/>
              <p:cNvSpPr txBox="1"/>
              <p:nvPr/>
            </p:nvSpPr>
            <p:spPr>
              <a:xfrm>
                <a:off x="2590920" y="2895480"/>
                <a:ext cx="414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3" name="Rectangle 26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4" name="Object 5"/>
              <p:cNvSpPr txBox="1"/>
              <p:nvPr/>
            </p:nvSpPr>
            <p:spPr>
              <a:xfrm>
                <a:off x="2514600" y="3505320"/>
                <a:ext cx="3733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5" name="Rectangle 28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Object 6"/>
              <p:cNvSpPr txBox="1"/>
              <p:nvPr/>
            </p:nvSpPr>
            <p:spPr>
              <a:xfrm>
                <a:off x="1828800" y="4749840"/>
                <a:ext cx="571500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Embedding, Radial basis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discrimination: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k in radial basis spa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new data vector      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resented b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Rectangle 20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Object 2"/>
              <p:cNvSpPr txBox="1"/>
              <p:nvPr/>
            </p:nvSpPr>
            <p:spPr>
              <a:xfrm>
                <a:off x="3726000" y="4359240"/>
                <a:ext cx="2454120" cy="18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e>
                                  </m:acc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6" name="Rectangle 22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Object 3"/>
              <p:cNvSpPr txBox="1"/>
              <p:nvPr/>
            </p:nvSpPr>
            <p:spPr>
              <a:xfrm>
                <a:off x="4648320" y="3505320"/>
                <a:ext cx="533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Embe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, Toy E.g. 1:  Parallel Clou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5" name="Picture 19" descr=""/>
          <p:cNvPicPr/>
          <p:nvPr/>
        </p:nvPicPr>
        <p:blipFill>
          <a:blip r:embed="rId1"/>
          <a:srcRect l="20519" t="0" r="13382" b="0"/>
          <a:stretch/>
        </p:blipFill>
        <p:spPr>
          <a:xfrm>
            <a:off x="3471840" y="1523880"/>
            <a:ext cx="52862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Embe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, Toy E.g. 2:  Split  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K 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3" name="Picture 19" descr=""/>
          <p:cNvPicPr/>
          <p:nvPr/>
        </p:nvPicPr>
        <p:blipFill>
          <a:blip r:embed="rId1"/>
          <a:srcRect l="20519" t="0" r="13382" b="0"/>
          <a:stretch/>
        </p:blipFill>
        <p:spPr>
          <a:xfrm>
            <a:off x="3471840" y="1523880"/>
            <a:ext cx="52862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Embe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, Toy E.g. 3:  Don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st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1" name="Picture 19" descr=""/>
          <p:cNvPicPr/>
          <p:nvPr/>
        </p:nvPicPr>
        <p:blipFill>
          <a:blip r:embed="rId1"/>
          <a:srcRect l="20519" t="0" r="13382" b="0"/>
          <a:stretch/>
        </p:blipFill>
        <p:spPr>
          <a:xfrm>
            <a:off x="3471840" y="1523880"/>
            <a:ext cx="52862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Embedding, Radial basis fun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,  Main lesson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ly good in regions with da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predictable where data are spa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19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21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llenging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ho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7" name="Picture 18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ange FLD effect a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da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Pil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ach clas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d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rcRect l="3207" t="14960" r="3207" b="8054"/>
          <a:stretch/>
        </p:blipFill>
        <p:spPr>
          <a:xfrm>
            <a:off x="3200400" y="1947960"/>
            <a:ext cx="5638680" cy="4308480"/>
          </a:xfrm>
          <a:prstGeom prst="rect">
            <a:avLst/>
          </a:prstGeom>
          <a:ln w="0">
            <a:noFill/>
          </a:ln>
        </p:spPr>
      </p:pic>
      <p:sp>
        <p:nvSpPr>
          <p:cNvPr id="207" name="Line 6"/>
          <p:cNvSpPr/>
          <p:nvPr/>
        </p:nvSpPr>
        <p:spPr>
          <a:xfrm>
            <a:off x="2666880" y="2209680"/>
            <a:ext cx="441972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Polynomial Embedd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poor for 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ightly better for higher deg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verall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p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ynomials 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have needed 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 4:     Checker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bed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lle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0" name="Picture 18" descr=""/>
          <p:cNvPicPr/>
          <p:nvPr/>
        </p:nvPicPr>
        <p:blipFill>
          <a:blip r:embed="rId1"/>
          <a:srcRect l="22303" t="0" r="13382" b="0"/>
          <a:stretch/>
        </p:blipFill>
        <p:spPr>
          <a:xfrm>
            <a:off x="3627360" y="1523880"/>
            <a:ext cx="5067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awbacks to 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qually spaced gri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o big in hig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computationally tractable 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aluate only at data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on full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where data l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types of embed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lic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be studied soon, af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oduction to Support Vector Mach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Embed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izations of this idea to other types of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 some clever computational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ernel based, nonlinear Principal Components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f:   S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kopf, Smola and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ler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Rectangle 1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Rectangle 1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Rectangle 18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Rectangle 20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3" name="Object 2"/>
              <p:cNvSpPr txBox="1"/>
              <p:nvPr/>
            </p:nvSpPr>
            <p:spPr>
              <a:xfrm>
                <a:off x="533520" y="1143000"/>
                <a:ext cx="363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144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is happe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 to imag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ce our intuition is 3-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me from our ances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y to understand data piling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 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 (Ahn &amp; Marron 2005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be the hyperplan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ted by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ch has dimension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line containing the 2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ly, let            be the hyper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ted by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1981080" y="1676520"/>
                <a:ext cx="21988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5105520" y="1603440"/>
                <a:ext cx="6094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447920" y="236232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2"/>
              <p:cNvSpPr txBox="1"/>
              <p:nvPr/>
            </p:nvSpPr>
            <p:spPr>
              <a:xfrm>
                <a:off x="3200400" y="5029200"/>
                <a:ext cx="609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imal Data Pi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example:                     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                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llel shifts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that they pass through the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have dimensi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now are sub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3657600" y="1028880"/>
                <a:ext cx="205740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6629400" y="990720"/>
                <a:ext cx="5335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1371600" y="1676520"/>
                <a:ext cx="1415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2"/>
              <p:cNvSpPr txBox="1"/>
              <p:nvPr/>
            </p:nvSpPr>
            <p:spPr>
              <a:xfrm>
                <a:off x="4343400" y="2286000"/>
                <a:ext cx="1414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Administrator</cp:lastModifiedBy>
  <dcterms:modified xsi:type="dcterms:W3CDTF">2007-10-11T21:51:44Z</dcterms:modified>
  <cp:revision>893</cp:revision>
  <dc:subject/>
  <dc:title>Title</dc:title>
</cp:coreProperties>
</file>