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A1ED-837E-46D1-891F-26B86738B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4A5B-9027-431E-9ABE-EEFCB1F68A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B4E-FFD4-4671-85EC-219A2B3B45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C259-02CF-4AE2-9C45-275096BBB5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3EBD-B40F-40CF-B430-BF957B9B2C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6E30-B25F-4E5A-9A71-45C2970223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AB56-9B64-47BA-84C6-38C271B758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0021-9198-46B4-8B82-E7E59140C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9325-82C7-4C9F-B81B-E5CBA7E3BC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5CCE-7D21-4E8B-A735-0FAB40C09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349A-DB95-4480-AF6F-D4778CF79B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BE8C-9BE5-4357-9609-9EE143572C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5AD4-F083-4A68-92F2-1C2A32EA46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F160-A9C3-44D7-8BED-B8E084FD95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7238-FF7C-4F37-94C1-4C38082035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8732-ED74-4805-9DA6-3F26C7D5F8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E112-8E7D-4B69-ADE4-5C10514B1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46A1-817A-4CB0-B166-6CF3AB63AC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5DD7-400C-4676-B8F8-0B86B52EA6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C35-A8F5-4135-BD3D-B63074FED3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9763-7182-4C7E-9726-AE67BC360F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046-E301-4C89-8E8A-389B0EE9DA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BFEA-DA29-4042-B979-380C2F6160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A1B6-D63A-49FC-AF8C-795DAB2253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07A5-9C6B-446C-A94F-9DEB18D4E3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1F22-6631-41E2-82DA-E589D58647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8478-7502-4D89-AB6B-ED870B6E69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C23F-B573-431C-AFF3-9A1944A27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C6CB-91A2-452C-8EA1-3D83A84701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9932-84E1-4A9C-A1D1-F7B6050390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11FB-C412-4994-81AE-EA50D79B76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E1FC-ECCD-418E-BFC6-D251B04C9E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0C40-E279-4AFF-96FC-FA7E67A3E6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7740-3602-4FC3-B535-9507FFF652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E42-5946-468C-9BCB-0567453709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C943-8FE8-4D3A-A0EE-66A6C3996C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5ADA-B0C2-4ADE-BE78-A1DFC77457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BC01-60ED-46FC-AFC5-1F84858132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27C2-8C97-45B2-95D6-C055772F80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EAF3-E245-4866-B00A-FC6DE6A0A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464D-4A1F-448B-A2B4-C328798865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CD67-5D06-453F-A390-78B9CF6B29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8A26-38DD-444C-864D-25476FEC74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67D9-2D6E-4917-A95B-7216F4E0DA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05C1-C595-4C34-B38B-D6F6F1C761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6CB9-27E6-4286-A7A8-D7BAFC1762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19CA-B58E-44AB-AD4B-D463E75DD6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416-B362-4227-80EB-8C2A38974D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B15C-E622-40D8-A343-F35D70E2C3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22AE-5E61-4904-A758-8EC548A791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9D72-7B81-4A4F-BC53-6BE9659F4C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685-7D70-4FD0-852E-3ACCAF5028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36F-C187-45A2-99E3-1D77D24C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74D-2621-4E48-AA70-F10CF04A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011-A51A-492A-A534-BAC5DF9C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7C4-22E2-47A5-BE09-6F4A09FD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2FCC-328F-4779-BD9B-17D2CF66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DCAC-D9B3-47A0-9BEA-74C270B2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C4C6-9CC4-4067-B85A-8E382217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CCA0-45BE-4933-92BA-0AD6D806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C29F-EC02-4A4E-A9FA-0DBB3EA9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1336-9636-4B63-99E1-B0F48B93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3607-3F93-46DC-B195-69BD0DA1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65C-F54B-4D22-BEF1-0D8ABD4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78E0-AAB2-465C-AC59-5EF50886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B7D3-E453-4514-B954-2992CA9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96DF-5D83-40DB-9DAF-AFDB8207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1199-C454-4CD7-92A0-836D55F0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18AC-1894-450D-A7D1-2FE72093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CC9-CAD4-4AD8-BA6F-9549E705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BDD-177C-4019-A411-33A3098E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59A-D88F-47A3-8D91-9AA186A4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B66-403F-4F16-B826-93B81E36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D4C-BFAB-444B-9552-9558B117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71B-AC21-45F0-ADA6-FFA2F344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13B-7E39-4129-8362-0E945516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209-B59C-434E-959B-048F93CE9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F39B-9B3F-46D8-93E1-F89336374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Movies/ToddSVMtwoOutliers.avi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Movies/ToddSVMtwoOutliers.avi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Movies/TwoDprojSVMBayes.avi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stat.uga.edu/~jyahn/DWD/" TargetMode="External"/><Relationship Id="rId2" Type="http://schemas.openxmlformats.org/officeDocument/2006/relationships/hyperlink" Target="https://cabig.nci.nih.gov/tools/DWD" TargetMode="External"/><Relationship Id="rId3" Type="http://schemas.openxmlformats.org/officeDocument/2006/relationships/hyperlink" Target="http://www.math.nus.edu.sg/%7Emattohkc/sdpt3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much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pace is a strange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 data in higher dimensional manif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s greater flexibility to linear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manifold?   -   Radial basis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 about over fitt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 for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ghtly better for higher de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s 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have needed 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lle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8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types of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be studied soon, af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tion to Support Vector Mach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izations of this idea to other types of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some clever computational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based, nonlinear Principal Components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:   S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kopf, Smola and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ler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9"/>
              <p:cNvSpPr txBox="1"/>
              <p:nvPr/>
            </p:nvSpPr>
            <p:spPr>
              <a:xfrm>
                <a:off x="533520" y="1143000"/>
                <a:ext cx="363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a linear method t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s w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mbedd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   Embedded data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n-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value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lly new approac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pnik (198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ser, Guyon &amp; Vapnik (199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pnik (199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llent Web Resour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kernel-machines.org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tuto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rges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ommended Monograph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stianini &amp; Shawe-Taylor (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kopf &amp; Alex Smola (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ng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ximiz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s from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est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points closest are cal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p between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gi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9"/>
          <p:cNvSpPr/>
          <p:nvPr/>
        </p:nvSpPr>
        <p:spPr>
          <a:xfrm>
            <a:off x="3200400" y="4495680"/>
            <a:ext cx="2971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izerman, Braverman and Rozoner (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ng id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e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inear discriminat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addi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componen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mbedding in a higher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use of n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discrimin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ng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ximiz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s from </a:t>
            </a:r>
            <a:r>
              <a:rPr b="0" i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</a:t>
            </a:r>
            <a:r>
              <a:rPr b="0" i="1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est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points closest are cal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p between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gi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3200400" y="4495680"/>
            <a:ext cx="2971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Optimization Viewpoi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mulate Optimization problem,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(feature) vec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Normal Vect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(determines intercept)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right side)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Residual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wrong side)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lve (convex problem) by quadratic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2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19"/>
              <p:cNvSpPr txBox="1"/>
              <p:nvPr/>
            </p:nvSpPr>
            <p:spPr>
              <a:xfrm>
                <a:off x="5486400" y="1523880"/>
                <a:ext cx="1447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21"/>
              <p:cNvSpPr txBox="1"/>
              <p:nvPr/>
            </p:nvSpPr>
            <p:spPr>
              <a:xfrm>
                <a:off x="3733920" y="2101680"/>
                <a:ext cx="1295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Rectangle 24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3"/>
              <p:cNvSpPr txBox="1"/>
              <p:nvPr/>
            </p:nvSpPr>
            <p:spPr>
              <a:xfrm>
                <a:off x="4114800" y="2819520"/>
                <a:ext cx="380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5"/>
              <p:cNvSpPr txBox="1"/>
              <p:nvPr/>
            </p:nvSpPr>
            <p:spPr>
              <a:xfrm>
                <a:off x="7162920" y="3352680"/>
                <a:ext cx="29196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Rectangle 28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27"/>
              <p:cNvSpPr txBox="1"/>
              <p:nvPr/>
            </p:nvSpPr>
            <p:spPr>
              <a:xfrm>
                <a:off x="5334120" y="3809880"/>
                <a:ext cx="2438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5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9"/>
              <p:cNvSpPr txBox="1"/>
              <p:nvPr/>
            </p:nvSpPr>
            <p:spPr>
              <a:xfrm>
                <a:off x="5791320" y="4572000"/>
                <a:ext cx="1143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Optimization Viewpoi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grange Multiplier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m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mulation  (separable case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mize: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          are Lagrange multip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agrangian ver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20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19"/>
              <p:cNvSpPr txBox="1"/>
              <p:nvPr/>
            </p:nvSpPr>
            <p:spPr>
              <a:xfrm>
                <a:off x="2971800" y="1828800"/>
                <a:ext cx="5943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6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21"/>
              <p:cNvSpPr txBox="1"/>
              <p:nvPr/>
            </p:nvSpPr>
            <p:spPr>
              <a:xfrm>
                <a:off x="1981080" y="266688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Rectangle 2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3"/>
              <p:cNvSpPr txBox="1"/>
              <p:nvPr/>
            </p:nvSpPr>
            <p:spPr>
              <a:xfrm>
                <a:off x="3276720" y="4343400"/>
                <a:ext cx="48765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0" name="Rectangle 2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5"/>
              <p:cNvSpPr txBox="1"/>
              <p:nvPr/>
            </p:nvSpPr>
            <p:spPr>
              <a:xfrm>
                <a:off x="5486400" y="5410080"/>
                <a:ext cx="2971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Computational Po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er only depends on data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nner produc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enough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store 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s big savings in 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ecially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lso creates vari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(interpretation?!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is almost always done in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&amp;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Explic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ightforward application of embedd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ner product advant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20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19"/>
              <p:cNvSpPr txBox="1"/>
              <p:nvPr/>
            </p:nvSpPr>
            <p:spPr>
              <a:xfrm>
                <a:off x="5410080" y="1066680"/>
                <a:ext cx="83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Rectangle 22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1"/>
              <p:cNvSpPr txBox="1"/>
              <p:nvPr/>
            </p:nvSpPr>
            <p:spPr>
              <a:xfrm>
                <a:off x="6858000" y="1447920"/>
                <a:ext cx="19051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0" name="Rectangle 2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23"/>
              <p:cNvSpPr txBox="1"/>
              <p:nvPr/>
            </p:nvSpPr>
            <p:spPr>
              <a:xfrm>
                <a:off x="1752480" y="3429000"/>
                <a:ext cx="5562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2" name="Rectangle 2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5"/>
              <p:cNvSpPr txBox="1"/>
              <p:nvPr/>
            </p:nvSpPr>
            <p:spPr>
              <a:xfrm>
                <a:off x="2895480" y="4572000"/>
                <a:ext cx="4267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&amp;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Implici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 classification fun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defined only vi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n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ains optimization ad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us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comm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ison to explicit embedd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23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28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7"/>
              <p:cNvSpPr txBox="1"/>
              <p:nvPr/>
            </p:nvSpPr>
            <p:spPr>
              <a:xfrm>
                <a:off x="2819520" y="1600200"/>
                <a:ext cx="48765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7" name="Rectangle 30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29"/>
              <p:cNvSpPr txBox="1"/>
              <p:nvPr/>
            </p:nvSpPr>
            <p:spPr>
              <a:xfrm>
                <a:off x="2666880" y="2819520"/>
                <a:ext cx="3657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 &amp; Robust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l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t severely affec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utlier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 possible weaknes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ti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, only 2 points drive S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 &amp; Robust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ti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SVMeg2p4v1.mpg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53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er effects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or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for cubic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4 pa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r few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228600" y="3886200"/>
                <a:ext cx="4191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4" name="Poly3Embed1d.mpg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 &amp; Robust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l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t severely affec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utlier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 possible weaknes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ver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ti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, only 2 points drive S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ge range of chosen hyperpl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ll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tty good discrimina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happens whe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ole range is O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or b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 &amp; Robust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ffect of violators 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oy examp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ToddSVMtwoOutliers.avi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 &amp; Robust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ffect of violators 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oy examp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ends on distance to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ak for violators near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as they move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major impact on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so depends on tuning parameter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   available algorithms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reated eq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u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Matlab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Matlab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    Gu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Matlab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GunnSVMtwoOutliers.avi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    T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Matlab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0" name="ToddSVMtwoOutliers.avi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Comput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     available algorithms a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reated eq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u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Matlab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Matlab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rious errors in Gu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version, does not find real optim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Regularization Parameter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rols penalty for vio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lying on wrong side of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ears in slack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ects performance of S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erica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Toy Examp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’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TwoDprojSVMBayes.avi" descr=""/>
          <p:cNvPicPr/>
          <p:nvPr/>
        </p:nvPicPr>
        <p:blipFill>
          <a:blip r:embed="rId2"/>
          <a:stretch/>
        </p:blipFill>
        <p:spPr>
          <a:xfrm>
            <a:off x="1219320" y="1809720"/>
            <a:ext cx="67309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8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erica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=Axis:   Opt.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    Other:  SVM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is the marg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 angle to optimal (generaliz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data pi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r angle (less generaliz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gger gap (but maybe not better???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ween:      Very small 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1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View:       for original data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 row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                            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                                       s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mensional                                with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ace                                         hyper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8"/>
              <p:cNvSpPr txBox="1"/>
              <p:nvPr/>
            </p:nvSpPr>
            <p:spPr>
              <a:xfrm>
                <a:off x="6553080" y="1495440"/>
                <a:ext cx="2057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Rectangle 21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0"/>
              <p:cNvSpPr txBox="1"/>
              <p:nvPr/>
            </p:nvSpPr>
            <p:spPr>
              <a:xfrm>
                <a:off x="3124080" y="2666880"/>
                <a:ext cx="2824200" cy="396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/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’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t MD on horizontal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TwoDprojSVM.avi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Ms, Tuning Paramet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50,  Spherical Gaussia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 look at small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t MD on horizontal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s SVM and M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C 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s behind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es for large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data piling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Exten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-Class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su &amp; Lin (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e, Lin, &amp; Wahba (200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ed for “implicit”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Based” variation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ment of SVM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imilar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rlier movie)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23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Object 25"/>
              <p:cNvSpPr txBox="1"/>
              <p:nvPr/>
            </p:nvSpPr>
            <p:spPr>
              <a:xfrm>
                <a:off x="838080" y="2286000"/>
                <a:ext cx="1143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0" name="Rectangle 2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27"/>
              <p:cNvSpPr txBox="1"/>
              <p:nvPr/>
            </p:nvSpPr>
            <p:spPr>
              <a:xfrm>
                <a:off x="762120" y="2895480"/>
                <a:ext cx="1295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2" name="Rectangle 30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Object 29"/>
              <p:cNvSpPr txBox="1"/>
              <p:nvPr/>
            </p:nvSpPr>
            <p:spPr>
              <a:xfrm>
                <a:off x="533520" y="3581280"/>
                <a:ext cx="1828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4" name="Rectangle 32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5" name="Object 31"/>
              <p:cNvSpPr txBox="1"/>
              <p:nvPr/>
            </p:nvSpPr>
            <p:spPr>
              <a:xfrm>
                <a:off x="380880" y="4343400"/>
                <a:ext cx="2286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:  Maximal Data Pil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Perfec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G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f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Larg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7" name="Picture 23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948" name="Rectangle 2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2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28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30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Line 32"/>
          <p:cNvSpPr/>
          <p:nvPr/>
        </p:nvSpPr>
        <p:spPr>
          <a:xfrm flipH="1" flipV="1">
            <a:off x="4800600" y="1904760"/>
            <a:ext cx="274320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:  Support Vector Machine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Bigger G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Small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Feels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ctors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ly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Ugly subpo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Improv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Picture 23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975" name="Rectangle 2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Rectangle 2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Rectangle 26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27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.g.:  Distance Weighted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Addres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Small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Nice subp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Re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 dist.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g. d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Picture 23" descr=""/>
          <p:cNvPicPr/>
          <p:nvPr/>
        </p:nvPicPr>
        <p:blipFill>
          <a:blip r:embed="rId1"/>
          <a:srcRect l="10706" t="0" r="14274" b="0"/>
          <a:stretch/>
        </p:blipFill>
        <p:spPr>
          <a:xfrm>
            <a:off x="3502080" y="1600200"/>
            <a:ext cx="5316480" cy="5005440"/>
          </a:xfrm>
          <a:prstGeom prst="rect">
            <a:avLst/>
          </a:prstGeom>
          <a:ln w="0">
            <a:noFill/>
          </a:ln>
        </p:spPr>
      </p:pic>
      <p:sp>
        <p:nvSpPr>
          <p:cNvPr id="1001" name="Rectangle 2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2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26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27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ed on Optimization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precisely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in appropriate penalty for vio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imization Meth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cond Order Cone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conv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of qu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ows fast greedy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use available fast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DP3,  Michael Todd, et 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2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Object 23"/>
              <p:cNvSpPr txBox="1"/>
              <p:nvPr/>
            </p:nvSpPr>
            <p:spPr>
              <a:xfrm>
                <a:off x="6561000" y="1241280"/>
                <a:ext cx="12780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erences for more on DW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pap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ron, Todd and Ahn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ks to more pap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Ahn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AVA Implementation of DW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caBIG (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DPT3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3"/>
              </a:rPr>
              <a:t>Toh (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2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Visual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shes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way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19"/>
          <p:cNvSpPr/>
          <p:nvPr/>
        </p:nvSpPr>
        <p:spPr>
          <a:xfrm>
            <a:off x="1522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2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Rectangle 22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26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Object 25"/>
              <p:cNvSpPr txBox="1"/>
              <p:nvPr/>
            </p:nvSpPr>
            <p:spPr>
              <a:xfrm>
                <a:off x="1295280" y="1523880"/>
                <a:ext cx="1378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74" name="Picture 27" descr=""/>
          <p:cNvPicPr/>
          <p:nvPr/>
        </p:nvPicPr>
        <p:blipFill>
          <a:blip r:embed="rId1"/>
          <a:srcRect l="10014" t="23385" r="7153" b="14615"/>
          <a:stretch/>
        </p:blipFill>
        <p:spPr>
          <a:xfrm>
            <a:off x="3041640" y="2008080"/>
            <a:ext cx="56167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8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2" name="Picture 2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Vector 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tance Weighted Discri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View, using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8" name="Picture 2" descr=""/>
          <p:cNvPicPr/>
          <p:nvPr/>
        </p:nvPicPr>
        <p:blipFill>
          <a:blip r:embed="rId1"/>
          <a:stretch/>
        </p:blipFill>
        <p:spPr>
          <a:xfrm>
            <a:off x="838080" y="1581120"/>
            <a:ext cx="7467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0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74674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9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74674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9" descr=""/>
          <p:cNvPicPr/>
          <p:nvPr/>
        </p:nvPicPr>
        <p:blipFill>
          <a:blip r:embed="rId1"/>
          <a:stretch/>
        </p:blipFill>
        <p:spPr>
          <a:xfrm>
            <a:off x="1371600" y="2055960"/>
            <a:ext cx="74674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llengi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8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10-16T19:21:18Z</dcterms:modified>
  <cp:revision>1125</cp:revision>
  <dc:subject/>
  <dc:title>Title</dc:title>
</cp:coreProperties>
</file>