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7262-EDB5-450B-9D28-B0B735E3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A62-84F5-4B6E-AE5A-9EF85E041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5AB-FA27-4DC9-A3BD-D93CC878A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6D0-A319-4F48-861A-11FCDEEAB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7BE-280C-4A6C-A54A-C99FAACC6F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sciznormRaw.a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A12-C108-4B56-ADF2-8E4035760B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DA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0B18-7FC4-42E0-8099-BED29E28F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6A8-1562-4B18-8A67-A1B7387BEE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F0D-5390-459D-AE1A-5693C45C03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78DF-E322-4B6F-8B30-D65D5845B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B53-2E52-4880-A2AF-67042BE12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0B0-E59A-4C78-945E-4E87D78302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1B30-BBC6-495E-A3B7-0E5013893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AB37-93CD-48CE-B3FD-E712C03B8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F90-7AE7-4CD3-AB3D-E6FC926F60E8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072-53E6-43B1-AFEA-2ACC4AC1A77B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C01-6EF3-4B24-B3FF-D651D7EFA77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B04-D64B-406F-B1DE-FC91C9C13694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D26-7991-47FA-A412-1F45222690E1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E8F-9939-4056-AE15-E8CD010F0FEE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A92-46AD-42F0-8D04-17316DFF8BE9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0B6-F9A4-43F8-AFCE-86E34AA215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AEB7-33E1-4286-B900-FC3ECF7DF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1BF0-A570-4421-B9A9-3A40EFE68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328-3F1D-4A9D-86D2-EA32F535E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38BF-7F74-4242-AFC2-D5C48B505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E6B-B97E-499A-AA1C-1EC8D141A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1C58-7169-4392-8F00-DA699DB941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7DDB-015A-4881-9FDB-8DF2399EF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68A-00E9-402C-B942-1AE2CAD74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1FE6-4082-4039-A3BD-1ED96A436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02C2-8B7B-4B99-A5C2-A550164C6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173-1ED4-4A07-8174-E17EE6E83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tcher_thesi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496-35D0-477F-B4AB-9D038F9BE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3DDE-3503-464C-B823-82F8851DA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708-76B5-4A28-9C2B-263AE38D5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463F-FB96-4B37-829E-8BE244FAC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519-06CA-40CD-A15E-77B1F97C6D2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953C-A31F-498F-94F3-7A5A228967FA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738-FB05-4FF9-A24C-BAA56136BCC7}" type="slidenum">
              <a:rPr b="0" lang="ko-KR" sz="12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EA1-0AB2-457C-BC58-564380F9A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645-A58E-4C17-93C5-2DEA7E8019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C91-0A1D-416B-A2D5-B6BE33C67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96A-AABC-4758-9B67-C58E35353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9A39-3034-432F-9B97-F627AFFF63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1CE-C074-45EC-A4EF-995CAF4C5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D4E-2F0A-42BC-BB14-D89929812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81C-35B8-4BCB-8845-B0FDCFB8ED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7D2F-A64A-4C0A-839B-3E626DC1B2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349-B1B1-429A-A8C7-BDE695867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F2C-0C06-4058-A774-E20169FFB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725-3F0C-49D4-9594-E38F9C30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841-DD9D-4FD3-830C-D46DE2C6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0F1-CA75-47BC-BE18-21AC1007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21C-1DA6-4D6A-ADD9-28F4D6E2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221-38E5-4DEF-9ACD-BC9D679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93F-8D1C-437C-A11E-0FF5EFB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930-9CC1-4375-B2CB-0A467FD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568-7B63-46E7-B396-90EF1B1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AA7-4E51-43D5-AFD4-6EB32EE3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A1C-7F53-4D4A-8CE5-66AD71C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FE9-2BBA-4F7D-B58A-FF261DF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17-391C-4E56-91FD-A16775E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845-18FF-47B0-9B29-5D2F43AA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ometry.caltech.edu/pub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ooming version,       --   Dependen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ss flux data,          --   Cell cycl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tion         --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ject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Objects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etized skelet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atom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u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center to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y a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accessible early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shkevich, et al 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CMsciznormRaw.avi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05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M-Rep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pus Callo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Yushkevi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o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7230" t="26646" r="10845" b="11669"/>
          <a:stretch/>
        </p:blipFill>
        <p:spPr>
          <a:xfrm>
            <a:off x="3135240" y="2671920"/>
            <a:ext cx="5307120" cy="371448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1676520" y="3809880"/>
            <a:ext cx="25905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752480" y="4343400"/>
            <a:ext cx="2438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 flipV="1">
            <a:off x="4114800" y="41148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4191120" y="4419360"/>
            <a:ext cx="2286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86000" y="5333760"/>
            <a:ext cx="106668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9140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 Example:    From Ja-Yeon Je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ad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state - Rectu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oms   -   Spokes   -   Implied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59236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610000" cy="291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592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d M-reps:   there are several var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cho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6443" t="22138" r="6443" b="12650"/>
          <a:stretch/>
        </p:blipFill>
        <p:spPr>
          <a:xfrm>
            <a:off x="2971800" y="2133720"/>
            <a:ext cx="57326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parameters 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ffed into a long v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many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th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809880" y="243828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analy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as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what is the averag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   (average of the numb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 cours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 View of angular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s points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1600200" y="3429000"/>
                <a:ext cx="71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752480" y="3962520"/>
                <a:ext cx="297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368960" y="2819520"/>
                <a:ext cx="273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8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(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 Unicode MS"/>
                <a:ea typeface="Arial Unicode MS"/>
              </a:rPr>
              <a:t>o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?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86600" y="2209680"/>
                <a:ext cx="12859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Oval 8"/>
          <p:cNvSpPr/>
          <p:nvPr/>
        </p:nvSpPr>
        <p:spPr>
          <a:xfrm>
            <a:off x="914400" y="1981080"/>
            <a:ext cx="4270320" cy="42674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3047400" y="1752480"/>
            <a:ext cx="75960" cy="472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traight Connector 15"/>
          <p:cNvSpPr/>
          <p:nvPr/>
        </p:nvSpPr>
        <p:spPr>
          <a:xfrm>
            <a:off x="533520" y="4114800"/>
            <a:ext cx="48765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Straight Arrow Connector 19"/>
          <p:cNvCxnSpPr/>
          <p:nvPr/>
        </p:nvCxnSpPr>
        <p:spPr>
          <a:xfrm flipH="1">
            <a:off x="5257440" y="2590920"/>
            <a:ext cx="1829520" cy="12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Straight Arrow Connector 20"/>
          <p:cNvCxnSpPr/>
          <p:nvPr/>
        </p:nvCxnSpPr>
        <p:spPr>
          <a:xfrm flipH="1">
            <a:off x="5181120" y="3351600"/>
            <a:ext cx="190584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21"/>
          <p:cNvCxnSpPr/>
          <p:nvPr/>
        </p:nvCxnSpPr>
        <p:spPr>
          <a:xfrm flipH="1">
            <a:off x="5257440" y="4113720"/>
            <a:ext cx="1753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22"/>
          <p:cNvCxnSpPr/>
          <p:nvPr/>
        </p:nvCxnSpPr>
        <p:spPr>
          <a:xfrm flipH="1" flipV="1">
            <a:off x="5257440" y="4190760"/>
            <a:ext cx="175320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31"/>
          <p:cNvCxnSpPr/>
          <p:nvPr/>
        </p:nvCxnSpPr>
        <p:spPr>
          <a:xfrm flipH="1">
            <a:off x="990000" y="1599120"/>
            <a:ext cx="3353400" cy="259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32"/>
          <p:cNvCxnSpPr/>
          <p:nvPr/>
        </p:nvCxnSpPr>
        <p:spPr>
          <a:xfrm flipH="1">
            <a:off x="5257080" y="1523520"/>
            <a:ext cx="153000" cy="25153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 (not compar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priat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Lie 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in higher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Euc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3809880" y="2362320"/>
                <a:ext cx="177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048120" y="3048120"/>
                <a:ext cx="576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ylinder1_data.avi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o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gmentation    (find object bound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stration     (align obj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ll about single im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Curved Manifold View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imple Toy Example (last mov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on a Cylinder  =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st non-Euclide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data, embedded on manifold i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flatten the cylinder, to a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periodic 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51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by:    Suman 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idea for more complex direct pr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5105520" y="2209680"/>
                <a:ext cx="1218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7238880" y="3657600"/>
                <a:ext cx="463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Challeng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 Pel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they move over time (days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tical to Radiation Treatment (canc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3-d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hallenging to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boundary of each obj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 each Obj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266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CT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n 3d im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il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BladderProstateRectumRawCT.JPG"/>
          <p:cNvPicPr/>
          <p:nvPr/>
        </p:nvPicPr>
        <p:blipFill>
          <a:blip r:embed="rId1"/>
          <a:srcRect l="1566" t="17092" r="1566" b="17092"/>
          <a:stretch/>
        </p:blipFill>
        <p:spPr>
          <a:xfrm>
            <a:off x="3200400" y="1981080"/>
            <a:ext cx="5656320" cy="422604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5"/>
          <p:cNvCxnSpPr/>
          <p:nvPr/>
        </p:nvCxnSpPr>
        <p:spPr>
          <a:xfrm flipV="1">
            <a:off x="2057400" y="3199680"/>
            <a:ext cx="6020640" cy="12200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179" name="Straight Arrow Connector 9"/>
          <p:cNvCxnSpPr/>
          <p:nvPr/>
        </p:nvCxnSpPr>
        <p:spPr>
          <a:xfrm flipV="1">
            <a:off x="1828440" y="3352320"/>
            <a:ext cx="4267800" cy="19058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  <p:cxnSp>
        <p:nvCxnSpPr>
          <p:cNvPr id="180" name="Straight Arrow Connector 10"/>
          <p:cNvCxnSpPr/>
          <p:nvPr/>
        </p:nvCxnSpPr>
        <p:spPr>
          <a:xfrm flipV="1">
            <a:off x="1904760" y="4190400"/>
            <a:ext cx="3886920" cy="19054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2666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anual seg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ice by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BladderProstateRectumCTHandSegment.JPG"/>
          <p:cNvPicPr/>
          <p:nvPr/>
        </p:nvPicPr>
        <p:blipFill>
          <a:blip r:embed="rId1"/>
          <a:srcRect l="1574" t="24579" r="1574" b="5783"/>
          <a:stretch/>
        </p:blipFill>
        <p:spPr>
          <a:xfrm>
            <a:off x="3216240" y="1782720"/>
            <a:ext cx="5626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le Pelvis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79240"/>
            <a:ext cx="46483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t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ssembled in 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 to repres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nks:  Ja-Yeon Je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BladderProstateRectumHandSegment.JPG"/>
          <p:cNvPicPr/>
          <p:nvPr/>
        </p:nvPicPr>
        <p:blipFill>
          <a:blip r:embed="rId1"/>
          <a:srcRect l="34453" t="18516" r="1566" b="7122"/>
          <a:stretch/>
        </p:blipFill>
        <p:spPr>
          <a:xfrm>
            <a:off x="4983120" y="1627200"/>
            <a:ext cx="3735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bject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dmarks (hard to fi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undary Rep’ns (no correspond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al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“skelet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retize as “atoms” called M-r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-d m-re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783160" cy="3110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6080" cy="3070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746440" cy="3070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1371600"/>
            <a:ext cx="8610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dder – Prostate – Rectum    (multiple objects, J. Y. Je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toms provide “skelet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Boundary from “spokes”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surfa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-d m-re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28600" y="1295280"/>
            <a:ext cx="8610480" cy="54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rep model fi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when 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expensive (30 – 40 minutes technician’s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matic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, because of poor contrast, noise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orrow information across training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ayes approach:   prior &amp; likelihoo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Conjugate Gaussians, but there are 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HLD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old aspect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al Analysis of M-r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: Man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points on smooth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in non-Euclidea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source for statistical analysi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 (2004), Fletcher, et al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with geodesic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distanc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ong surfa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Generation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pulations of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Population Var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imination (a.k.a. Classifi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ex Data Structures (&amp; Spa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the mean of data on a manifo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 choic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in embedded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will probably leave manif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unit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impro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 stud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racterizations of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m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uitful:   Fr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of nu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in Euclidean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 on a manifo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Euclidean        by  Geodes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43200" y="1752480"/>
                <a:ext cx="37339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876920" y="5334120"/>
                <a:ext cx="34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208240" y="5797440"/>
                <a:ext cx="176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1143000" y="3581280"/>
                <a:ext cx="6999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4"/>
              <p:cNvSpPr txBox="1"/>
              <p:nvPr/>
            </p:nvSpPr>
            <p:spPr>
              <a:xfrm>
                <a:off x="8077320" y="533412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requires a metric (distance)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distance giv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ll known in robust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Euclidean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Robust distance,  e.g.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out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another no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bust med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6019920" y="4648320"/>
                <a:ext cx="422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7620120" y="4648320"/>
                <a:ext cx="388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EGGeodMean2d.avi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easily interpre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nk about  “distances along arc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bout  “points in       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quared distance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strongly feels the large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u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unique “with probability on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-unique requires strong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ossible to have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4267080" y="2666880"/>
                <a:ext cx="457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alway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ensib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ion of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prefer “top &amp; bottom”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end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 fro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ntinuous Func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mp from 1 –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mp from 2 – 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false for Euclidean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l happen generally for manifol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Mean for data on a cir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of interest is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Vari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lik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var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values in movie, reflec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theoretical ver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for Laws of Large Numb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2816280" y="2209680"/>
                <a:ext cx="39830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2895480" y="4800600"/>
                <a:ext cx="38214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lim>
                    </m:limLow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d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Viewpoint for data on manif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e touching at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which poi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(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) M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ce terminolo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ic next p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cs from:    Fletcher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10621" t="22138" r="8851" b="9488"/>
          <a:stretch/>
        </p:blipFill>
        <p:spPr>
          <a:xfrm>
            <a:off x="2133720" y="1905120"/>
            <a:ext cx="4932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”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Complex Exponenti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n Tangent Space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Manif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3"/>
          <p:cNvSpPr/>
          <p:nvPr/>
        </p:nvSpPr>
        <p:spPr>
          <a:xfrm>
            <a:off x="228600" y="2819520"/>
            <a:ext cx="3144960" cy="3144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traight Connector 5"/>
          <p:cNvSpPr/>
          <p:nvPr/>
        </p:nvSpPr>
        <p:spPr>
          <a:xfrm>
            <a:off x="1828800" y="2514600"/>
            <a:ext cx="7632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8"/>
          <p:cNvSpPr/>
          <p:nvPr/>
        </p:nvSpPr>
        <p:spPr>
          <a:xfrm flipV="1">
            <a:off x="0" y="4267080"/>
            <a:ext cx="3657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12"/>
          <p:cNvSpPr/>
          <p:nvPr/>
        </p:nvSpPr>
        <p:spPr>
          <a:xfrm flipV="1">
            <a:off x="1905120" y="2895480"/>
            <a:ext cx="1218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18"/>
          <p:cNvSpPr/>
          <p:nvPr/>
        </p:nvSpPr>
        <p:spPr>
          <a:xfrm>
            <a:off x="3352680" y="2209680"/>
            <a:ext cx="76320" cy="449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Straight Connector 27"/>
          <p:cNvSpPr/>
          <p:nvPr/>
        </p:nvSpPr>
        <p:spPr>
          <a:xfrm flipH="1">
            <a:off x="3352320" y="2973240"/>
            <a:ext cx="1800" cy="129384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362320" y="3809880"/>
                <a:ext cx="3045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3581280" y="3352680"/>
                <a:ext cx="304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4876920" y="3657600"/>
                <a:ext cx="2743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6172200" y="4572000"/>
                <a:ext cx="2793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58" name="Straight Arrow Connector 40"/>
          <p:cNvCxnSpPr/>
          <p:nvPr/>
        </p:nvCxnSpPr>
        <p:spPr>
          <a:xfrm flipH="1" flipV="1">
            <a:off x="5180760" y="4343040"/>
            <a:ext cx="305640" cy="12960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arrow" w="lg"/>
          </a:ln>
        </p:spPr>
      </p:cxnSp>
      <p:cxnSp>
        <p:nvCxnSpPr>
          <p:cNvPr id="259" name="Straight Arrow Connector 41"/>
          <p:cNvCxnSpPr/>
          <p:nvPr/>
        </p:nvCxnSpPr>
        <p:spPr>
          <a:xfrm flipH="1" flipV="1">
            <a:off x="3428640" y="2971800"/>
            <a:ext cx="2057760" cy="26672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arrow" w="lg"/>
          </a:ln>
        </p:spPr>
      </p:cxnSp>
      <p:cxnSp>
        <p:nvCxnSpPr>
          <p:cNvPr id="260" name="Straight Arrow Connector 44"/>
          <p:cNvCxnSpPr/>
          <p:nvPr/>
        </p:nvCxnSpPr>
        <p:spPr>
          <a:xfrm flipH="1" flipV="1">
            <a:off x="7771680" y="5181120"/>
            <a:ext cx="229320" cy="5342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  <p:cxnSp>
        <p:nvCxnSpPr>
          <p:cNvPr id="261" name="Straight Arrow Connector 47"/>
          <p:cNvCxnSpPr/>
          <p:nvPr/>
        </p:nvCxnSpPr>
        <p:spPr>
          <a:xfrm flipH="1" flipV="1">
            <a:off x="2818800" y="3199680"/>
            <a:ext cx="5182200" cy="25153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bject Re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pproaches for Im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l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 Termi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ory Tric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onential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ngent Plan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urve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g Map (Inve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ed Manifold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Tangent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og of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geodesics (PG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line that best fit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geode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t best fits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geodesic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t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emented as PCA in tangen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apped back to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etcher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4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GA for m-reps, Bladder-Prostate-Rect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dder – Prostate – Rectum,  1 person, 17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 1                   PG 2                  PG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ysis by Ja Yeon Je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Analogs of PCA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pass through geodesic m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ible for Euclidea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bvious for non-Euclid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“geodesic that explains data as well as possible” (no mean constraint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 this add any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same for Euclidean c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nce least squares fit contains m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4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512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5"/>
          <p:cNvCxnSpPr/>
          <p:nvPr/>
        </p:nvCxnSpPr>
        <p:spPr>
          <a:xfrm flipH="1">
            <a:off x="4571280" y="2286000"/>
            <a:ext cx="198180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>
            <a:off x="4343040" y="3047040"/>
            <a:ext cx="2210400" cy="20577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4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93" name="Straight Arrow Connector 4"/>
          <p:cNvCxnSpPr/>
          <p:nvPr/>
        </p:nvCxnSpPr>
        <p:spPr>
          <a:xfrm flipH="1" flipV="1">
            <a:off x="3656880" y="2894760"/>
            <a:ext cx="297252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4" name="Straight Arrow Connector 7"/>
          <p:cNvCxnSpPr/>
          <p:nvPr/>
        </p:nvCxnSpPr>
        <p:spPr>
          <a:xfrm flipH="1">
            <a:off x="3352320" y="3732840"/>
            <a:ext cx="3277440" cy="1905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3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298" name="Straight Arrow Connector 6"/>
          <p:cNvCxnSpPr/>
          <p:nvPr/>
        </p:nvCxnSpPr>
        <p:spPr>
          <a:xfrm flipH="1" flipV="1">
            <a:off x="2971440" y="3962160"/>
            <a:ext cx="365832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eodesic 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                                        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Best Fit Geode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3" descr="C:\Users\marron\Documents\Teaching\UNCstor891OODA-2007\Graphics\PCAonSphere1.jpg"/>
          <p:cNvPicPr/>
          <p:nvPr/>
        </p:nvPicPr>
        <p:blipFill>
          <a:blip r:embed="rId1"/>
          <a:srcRect l="0" t="42784" r="35294" b="12835"/>
          <a:stretch/>
        </p:blipFill>
        <p:spPr>
          <a:xfrm>
            <a:off x="914400" y="1901880"/>
            <a:ext cx="5029200" cy="4743360"/>
          </a:xfrm>
          <a:prstGeom prst="rect">
            <a:avLst/>
          </a:prstGeom>
          <a:ln w="0">
            <a:noFill/>
          </a:ln>
        </p:spPr>
      </p:pic>
      <p:cxnSp>
        <p:nvCxnSpPr>
          <p:cNvPr id="302" name="Straight Arrow Connector 4"/>
          <p:cNvCxnSpPr/>
          <p:nvPr/>
        </p:nvCxnSpPr>
        <p:spPr>
          <a:xfrm flipH="1" flipV="1">
            <a:off x="4723920" y="4876560"/>
            <a:ext cx="1829520" cy="3052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 for fly wing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8767" t="32564" r="6575" b="20841"/>
          <a:stretch/>
        </p:blipFill>
        <p:spPr>
          <a:xfrm>
            <a:off x="1143000" y="2743200"/>
            <a:ext cx="7064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PGA on the unit sp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“best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haps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best f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PG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go through geo me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bout PG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uld cross PG1 &amp; PG2 at same poi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constrained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Distribution on Manifold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jor Drawba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andmar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always find each land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same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andmarks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medical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How many corresponding landmarks on a set of kidneys, livers or brain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sets of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angular Mes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vey:  Owen (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tive Shape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otes, et al (199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urier Boundary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leman, et al (1997 &amp;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of triangular mesh rep’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rom: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geometry.caltech.edu/pub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A high-genus buddha simplified down to 2K triangles, with and without topology filtering"/>
          <p:cNvPicPr/>
          <p:nvPr/>
        </p:nvPicPr>
        <p:blipFill>
          <a:blip r:embed="rId2"/>
          <a:stretch/>
        </p:blipFill>
        <p:spPr>
          <a:xfrm>
            <a:off x="1447920" y="1752480"/>
            <a:ext cx="64767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undary Repres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Drawbac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po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ODA (on vectors of parameter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ed to “match up poi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sy to find triangular me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ts of research on this driven by ga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e to match mesh acros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some interesting idea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marron</cp:lastModifiedBy>
  <dcterms:modified xsi:type="dcterms:W3CDTF">2007-12-23T14:24:18Z</dcterms:modified>
  <cp:revision>766</cp:revision>
  <dc:subject/>
  <dc:title>Title</dc:title>
</cp:coreProperties>
</file>