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  <p:sldId id="330" r:id="rId83"/>
    <p:sldId id="331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slide" Target="slides/slide75.xml"/><Relationship Id="rId84" Type="http://schemas.openxmlformats.org/officeDocument/2006/relationships/slide" Target="slides/slide76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0FB5-B5C6-4961-9D64-E428BAEEA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51E5-79BE-4C10-9A26-C1DF62678A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98FA-B2CE-4141-A664-05DB8855D0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844D-BBA5-4D0F-8CCE-65D35096C6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1843-99A5-4115-86C8-5A4A07F897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3CD6-63EE-4C1D-95EE-DDEB85321F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FAB0-9804-4816-AFD7-4CFBD532F1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6F67-2AE8-447F-A1C7-FE4F95F04F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A8EE-8D03-42A2-8241-02FB6248E5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2E28-85F9-4CF3-B7FD-A7F45B08E2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C547-EC21-43AF-93BA-2F769E7D0F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671F-0C95-47BC-8333-A71DFC836B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14CB-D63C-4DC1-B12A-29C453F49E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29F6-C570-43BD-8BDB-6E2469EE5C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E52D-0964-48E3-B5E1-86C20BF937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787F-9400-43FF-96D9-2B8C9F9702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FDCA-BA75-4B1B-B2F6-5760078892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9532-909E-4774-9F2E-FC84FEB99D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918E-7A84-4B4F-ADFD-3D8A6F27E7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6A73-0FC4-468B-AD76-E08E7645E0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6EC2-1D62-4636-8661-CDA2398985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6358-9E8E-4B82-9FDA-5E23AEDF93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C8B2-3F08-403D-9772-2F83DB3CC6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6721-1FBF-4ED7-BBB6-7B0E2F9735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4295-D4F9-49C0-A827-29594A551E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7307-2A83-4BC0-9B0C-1632DE59C1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9786-6628-4BDA-8FB6-DEABBEDE92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971D-4D14-4B20-B09A-C37A2E21F6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Guli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D005-DDDE-474C-A078-544829EE97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1425-9B55-48F5-88A4-1382543469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C930-3F34-4CA8-902A-3565F26DED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EBB0-0510-4562-9D1F-555E9BA5B5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6C2A-5400-482C-A3A0-7FA0E40DD3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E33A-00BD-4E6C-80D2-D16E480FD7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E4AA-2267-41BA-B0BE-EEFCCD447E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DED8-91E1-4F8B-9B9D-8F7B3C79E8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28AB-96EE-4974-BA83-EFA1584657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4100-01BC-4F97-861C-8DC18F3BB5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A7AE-E276-4071-9181-4642EA0894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E482-5CDE-4E77-A5F3-8CFCA88934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D198-A508-4974-BB72-AC146E43E6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7F4E-04D6-4C24-9C58-C229EF65E2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C440-D71B-4509-A59C-569B67FFC0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5325-68D4-46FC-AE11-C839A24C71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662B-FC14-44CD-B24D-D1FEA48B7A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2784-9F8D-4344-A60C-4C821EEFB4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2102-F27C-4563-BE8E-373BDBC22A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DBB2-B1F8-4EB6-9E42-A6F708550E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0D16-171E-4FBA-8294-416BF79095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4387-41AF-4A62-A600-D9B457BD35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8796-F33E-40F2-A4A0-724C08768A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B152-89F7-4BB0-943E-40EEC030C3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A6DE-FB4C-48A3-8739-73B6D25234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56F6-2931-4AD6-8090-1E16BA9275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7DE5-2C0C-4D99-819D-2A0CBE7760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B8C0-1EFC-479D-825C-91491B4E81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342E-2C15-49F6-A1EA-A8EF00A1FF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0C6D-CEDC-4BA1-916E-3EEC93C3D1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2BB1-E20E-4D41-B6C5-F14D8743C0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BD64-D815-4A2F-8BEE-A29DD88152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chEffect1fig4Big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21C1-2C57-403D-A7F7-1B61ACAA2A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4662-DE8D-4304-812E-5696AE4BCF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WD1figEBig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6250-657D-4A03-A721-16C27A8398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WD1figFBig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962C-513A-4177-8ABD-1CC8838E17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E975-E7C6-4EBD-84F1-55E6949ADE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WD1figGBig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A697-D520-47D9-B782-87B0F90511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WD1figHBig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0A59-79E1-41FE-B27F-2B1E241A70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41E9-7E1A-4E47-8FB7-E7149D379E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32B2-9408-4D14-9D8A-CEF40F411E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7FE3-11FD-4274-AC00-F7472F095C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F5A3-2FF3-4BE9-888A-CB8C685B16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C99B-B47E-4D5B-BE33-F26E7E4847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CDF7-1290-438F-B3DD-852208D9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DFB-49B8-4268-891E-90494AF5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CEA-5A12-4DC7-BE61-03A41F56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509-AFF5-4A03-B614-3103B0C7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A572-3BB5-4FC9-BAA1-5C7AC52E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E6D5-0063-4E5D-855E-610B1909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3137-8797-41DE-B0E3-922BAF9A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BDAA-C72A-4EB9-86B0-4D2EC5E3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0675-2515-4DEE-879A-89D467D9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6451-0C52-451E-B23B-345EBEAE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0E01-51F9-40DF-8117-0908F7BF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EB0A-D313-4AE9-B153-57342169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95F2-C069-4D00-9081-C725C838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6E61-6540-4077-B854-E678DCD8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E1D9-7D39-4A31-922E-76888D01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E1A8-6D78-4355-8590-F88D7A58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832B-7100-4EC6-AA65-7E131C82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2BC9-EE98-4AEB-BDA2-86CAA346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11DDE-D939-481B-967E-3D33E7A4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06E45-0FEF-4001-B58D-B01CD06B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D253F-956E-448A-B79B-DC89CBDA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6BDD-1CF2-4840-AFD4-345C76F6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07705-E419-481F-95C3-F514ABF4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54823-B3CA-495C-AF5F-85492908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2CBCA-B4C5-4954-A468-36FBDD02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40C03-7093-429A-83BB-BD17B439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B2899-F9FB-4C43-B403-4C03D3D0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B0594-EC4F-4EAA-8374-6FABFB92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26523-CAC9-498E-9154-F3FDDEAF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DF67F-8061-4565-B1C6-CF334DF7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DCECA-999A-4B52-B483-B811A533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399DC-0D92-4D72-BAFA-61C5B8CF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C36A-711E-4D2D-B491-CCF5840C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52638-AE8D-45C4-AB0E-3B75BE12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C225E-02E7-43C8-BAE3-5C5D8468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2995B-1102-40C2-86D8-3A2AB17F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777AC-C82B-4E3B-B4FF-C0C7BD45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5A463-308A-4F75-9F4E-E62A6BAC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9D9EA-95FC-4DCF-AA60-CDA5865A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63EE1-711F-450C-9998-C4E2251D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80EA9-71B9-4D9A-B457-B3DD9946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286D3-0237-4FED-A3C7-A1EC3DF5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3B128-5E3F-4ADC-9A8B-54FB1152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B72D-7A26-4E03-9F20-2679D7A2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998C5-2E07-44A8-A711-452D9030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6FBB7-8457-4265-9146-4455C8DD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99E91-F24D-4C0B-8984-47677B61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7C015-DAA0-47C5-8140-FE581CC8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5ED76-2457-4B5A-86D9-85FA0FEF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658BB-D483-4A5F-86FB-7F1F2EE5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91D96-1DA8-4774-B611-61FC6D58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9A6EF-32CD-4EF2-90A4-5E007209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082C8-B4D5-4AD1-8D47-0B5676D4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A6D7D-5F62-4627-9E9F-4F65600F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E25-5DD5-4E5E-9EA0-783E7924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6FAA5-8702-4E4F-B0D5-46F8FA76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62EAE-2930-4736-A640-7FA52AF1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5E495-AAA5-4106-A89E-BEA1B42F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E85-8E8D-47A5-9A62-43176069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2857-BFD0-4CFA-B006-7E4C5D5D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3CD2-A57B-43F6-9FDE-958A5B394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fffff"/>
            </a:gs>
            <a:gs pos="100000">
              <a:srgbClr val="c9ddf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-455400" algn="ctr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0160" indent="-228600" algn="ctr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12880" indent="-228600" algn="ctr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Line 4"/>
          <p:cNvSpPr/>
          <p:nvPr/>
        </p:nvSpPr>
        <p:spPr>
          <a:xfrm>
            <a:off x="1198440" y="1230480"/>
            <a:ext cx="7820280" cy="0"/>
          </a:xfrm>
          <a:prstGeom prst="line">
            <a:avLst/>
          </a:prstGeom>
          <a:ln w="28440">
            <a:solidFill>
              <a:srgbClr val="0fc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539560" y="6629400"/>
            <a:ext cx="7552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7578-CA1F-4C33-AB58-08E8CE5B8DE1}" type="slidenum">
              <a:rPr b="0" lang="ko-KR" sz="1000" spc="-1" strike="noStrike">
                <a:solidFill>
                  <a:srgbClr val="2a3d7a"/>
                </a:solidFill>
                <a:latin typeface="Arial"/>
                <a:ea typeface="Gulim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Object 6"/>
          <p:cNvGraphicFramePr/>
          <p:nvPr/>
        </p:nvGraphicFramePr>
        <p:xfrm>
          <a:off x="228600" y="228600"/>
          <a:ext cx="7621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76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Text Box 7"/>
          <p:cNvSpPr/>
          <p:nvPr/>
        </p:nvSpPr>
        <p:spPr>
          <a:xfrm>
            <a:off x="-16560" y="114300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C, Stat &amp; 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9BD8-7FDA-4A97-A861-4350CA63D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58B7-E9A3-4F7D-8514-9F9AA00B7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BFEF-F95A-46C0-B029-99E838117F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3B3F-9751-4B4D-96C0-08E012E206F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 data in higher dimensional manif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s greater flexibility to linear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imed at very non-Gaussian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from Kernel Embed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mprovement of SV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licit Embedding, window  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18" descr="AhnBullsEyeExpGaussEmbh.1.png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licit Embedding, window  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10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18" descr="AhnBullsEyeExpGaussEmbh.1.png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licit Embedding, window  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100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Picture 18" descr="AhnBullsEyeExpGaussEmbh.1.png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s on Explicit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o small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Poor generaliz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o big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miss important reg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lessons from kernel smoo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rprisingly large “reasonable regio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paramete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ss critical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ometimes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so explore projections (in kernel sp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space projection, window  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0.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18" descr="AhnBullsEyeExpGaussEmbh.1.png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space projection, window  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18" descr="AhnBullsEyeExpGaussEmbh.1.png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space projection, window  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10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18" descr="AhnBullsEyeExpGaussEmbh.1.png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space projection, window  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100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18" descr="AhnBullsEyeExpGaussEmbh.1.png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space projection, window  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100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Picture 18" descr="AhnBullsEyeExpGaussEmbh.1.png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-4935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s on Kernel space proje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o small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17920" indent="-4939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eat s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7920" indent="-4939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recall,  poor generaliz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o big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no longer separ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 abo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17920" indent="-4939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lessons from kernel smoo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7920" indent="-4939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rprisingly large “reasonable regio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7920" indent="-4939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parameter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ss critical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ometimes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so explore projections (in kernel sp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aphical View, using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arating </a:t>
            </a:r>
            <a:r>
              <a:rPr b="0" i="1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maximiz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s from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ata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 </a:t>
            </a:r>
            <a:r>
              <a:rPr b="0" i="1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particula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allest d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points closest are call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p between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rgi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3200400" y="4495680"/>
            <a:ext cx="2971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cit Embedding, window  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0.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18" descr="AhnBullsEyeExpGaussEmbh.1.png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cit Embedding, window  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0.5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6" name="Picture 18" descr="AhnBullsEyeExpGaussEmbh.1.png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cit Embedding, window  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Picture 18" descr="AhnBullsEyeExpGaussEmbh.1.png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cit Embedding, window  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10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Picture 18" descr="AhnBullsEyeExpGaussEmbh.1.png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s on Implicit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ilar    Large  vs.  Small    les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nge of “reasonable result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ems to 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mal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note different range of window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ch different “edge” behav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esting topic for future work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-d Visualiz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shes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way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ve S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l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19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23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Rectangle 26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Object 25"/>
              <p:cNvSpPr txBox="1"/>
              <p:nvPr/>
            </p:nvSpPr>
            <p:spPr>
              <a:xfrm>
                <a:off x="1295280" y="1523880"/>
                <a:ext cx="13780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04" name="Picture 27" descr=""/>
          <p:cNvPicPr/>
          <p:nvPr/>
        </p:nvPicPr>
        <p:blipFill>
          <a:blip r:embed="rId1"/>
          <a:srcRect l="10014" t="23385" r="7153" b="14615"/>
          <a:stretch/>
        </p:blipFill>
        <p:spPr>
          <a:xfrm>
            <a:off x="3041640" y="2008080"/>
            <a:ext cx="56167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erences for more on DW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rent pap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rron, Todd and Ahn (200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ks to more pap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hn (200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AVA Implementation of DW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BIG (200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DPT3 Softw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h (200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Rectangle 19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Rectangle 24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3818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tch and Source Adjus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from Class Notes 8/28/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Stanford Breast Cancer Data (C. Per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alysis in Benito, et al (2004)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oinformatic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20, 105-114.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8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ttps://genome.unc.edu/pubsup/dw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just for Source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5680" indent="-43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 sources of mR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just for Batch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5680" indent="-43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rays fabricated at different ti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5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rce Batch Adj:  Biological Class Col. &amp; Symb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30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rce Batch Adj:  Source Col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32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aphical View, using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838080" y="1581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rce Batch Adj:  PC 1-3 &amp; DWD dir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34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rce Batch Adj:  DWD Source Adjus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36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rce Batch Adj:  Source Adj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, PCA 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38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rce Batch Adj:  S. &amp; B Adj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, Adj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P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40" name="Picture 3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64"/>
            </a:gs>
            <a:gs pos="100000">
              <a:srgbClr val="fcdaa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Why not adjust using SVM?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631440" y="1479240"/>
            <a:ext cx="81313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 Problem:   Proj’d Distrib’al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iangular Dist’ns (opposite skew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not allow sensib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igid shif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3" name="Picture 4" descr=""/>
          <p:cNvPicPr/>
          <p:nvPr/>
        </p:nvPicPr>
        <p:blipFill>
          <a:blip r:embed="rId1"/>
          <a:srcRect l="8921" t="7578" r="8921" b="0"/>
          <a:stretch/>
        </p:blipFill>
        <p:spPr>
          <a:xfrm>
            <a:off x="404640" y="3708360"/>
            <a:ext cx="86392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64"/>
            </a:gs>
            <a:gs pos="100000">
              <a:srgbClr val="fcdaa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Why not adjust using SVM?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631440" y="1479240"/>
            <a:ext cx="81313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cely Fixed by DW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ed Dist’ns near Gaussi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sible to shif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6" name="Picture 4" descr=""/>
          <p:cNvPicPr/>
          <p:nvPr/>
        </p:nvPicPr>
        <p:blipFill>
          <a:blip r:embed="rId1"/>
          <a:srcRect l="8921" t="7578" r="8921" b="0"/>
          <a:stretch/>
        </p:blipFill>
        <p:spPr>
          <a:xfrm>
            <a:off x="404640" y="3708360"/>
            <a:ext cx="86392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64"/>
            </a:gs>
            <a:gs pos="100000">
              <a:srgbClr val="fcdaa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Why not adjust by means?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631440" y="1479240"/>
            <a:ext cx="8094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WD is complicated:   value ad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uxin Liu exampl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is sizes of biological sub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ing ratio trips up me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DWD more rob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though still not per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64"/>
            </a:gs>
            <a:gs pos="100000">
              <a:srgbClr val="fcdaa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Why not adjust by means?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631440" y="1479240"/>
            <a:ext cx="8094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 ti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in before and after, slides like 138-141 from DWDnormPreso.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Research/Bioinf/caB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64"/>
            </a:gs>
            <a:gs pos="100000">
              <a:srgbClr val="fcdaa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Twiddle ratios of subtype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752" name="ToyMovie_PAMDWD.avi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908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64"/>
            </a:gs>
            <a:gs pos="100000">
              <a:srgbClr val="fcdaa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Why not adjust by means?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631440" y="1479240"/>
            <a:ext cx="8094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WD robust against non-proportional subtype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Statistical Ques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there mathematics behind th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ll answer next time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gotten last tim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Extens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-Class SV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su &amp; Lin (200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e, Lin, &amp; Wahba (200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fined 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c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r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 Ba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ariation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31440" y="1479240"/>
            <a:ext cx="485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e Images 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with M. Benito &amp; D. Peñ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e – Female Differ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rimination Rul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ed as long vector of pixel gray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gist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7" name="SampleMovie.avi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581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7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, (cont.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631440" y="1479240"/>
            <a:ext cx="485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fts and sca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ly cho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align eyes and mou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large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les vs. females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0" name="SampleRMovie.avi" descr=""/>
          <p:cNvPicPr/>
          <p:nvPr/>
        </p:nvPicPr>
        <p:blipFill>
          <a:blip r:embed="rId1"/>
          <a:stretch/>
        </p:blipFill>
        <p:spPr>
          <a:xfrm>
            <a:off x="5318280" y="1676520"/>
            <a:ext cx="35877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7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 , (cont.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04920" y="1523520"/>
            <a:ext cx="41148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D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sepa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es “make sens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rbage at end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trapolation effect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3" name="DWD_RprojMovie.avi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6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76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7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 , (cont.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04920" y="1523520"/>
            <a:ext cx="41148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gistered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blu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features don’t properly line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linear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DWD still 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-F differ’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6" name="DWDprojMovie.avi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7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 , (cont.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304920" y="1523520"/>
            <a:ext cx="41148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-4204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esting summar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mp between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0480" indent="-4204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 DWD dir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separation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0480" indent="-4204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eness vs. Femal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9" name="DWD_GapProjMovie.avi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41022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7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 , (cont.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304560" y="1523520"/>
            <a:ext cx="43434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 Compari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mp between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 SVM dir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distinguis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eness vs. Femal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not as well as DW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2" name="SVM_GapProjMovie.avi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409572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7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 , (cont.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304920" y="47242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9480" indent="-4294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sis of difference: Project onto norm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VM has “small gap”    (feels noise artifact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D “more informative” (feels real structure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5" name="Picture 4" descr=""/>
          <p:cNvPicPr/>
          <p:nvPr/>
        </p:nvPicPr>
        <p:blipFill>
          <a:blip r:embed="rId1"/>
          <a:srcRect l="0" t="22303" r="0" b="22303"/>
          <a:stretch/>
        </p:blipFill>
        <p:spPr>
          <a:xfrm>
            <a:off x="1143000" y="1371600"/>
            <a:ext cx="71676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, (cont.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304920" y="1523520"/>
            <a:ext cx="41148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Wor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on “drivers”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regions of inter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 to Discr’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 is “best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ons for human percep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8" name="DWD_GapFeatProjMovie.avi" descr=""/>
          <p:cNvPicPr/>
          <p:nvPr/>
        </p:nvPicPr>
        <p:blipFill>
          <a:blip r:embed="rId1"/>
          <a:stretch/>
        </p:blipFill>
        <p:spPr>
          <a:xfrm>
            <a:off x="4073400" y="2057400"/>
            <a:ext cx="50752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7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comes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st Cancer Study (C. M. Perou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 of interest = death or survi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with gene expres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 death vs. survival during study as “class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“direction that best separates the class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comes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“direction that best separates the class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3" name="Picture 20" descr=""/>
          <p:cNvPicPr/>
          <p:nvPr/>
        </p:nvPicPr>
        <p:blipFill>
          <a:blip r:embed="rId1"/>
          <a:stretch/>
        </p:blipFill>
        <p:spPr>
          <a:xfrm>
            <a:off x="838080" y="1581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so forgotten last tim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s illustr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licit   vs.   Implic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 well as effect of window width,  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 Gaussian kernel embed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comes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“direction that best separates the class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1" name="Picture 20" descr=""/>
          <p:cNvPicPr/>
          <p:nvPr/>
        </p:nvPicPr>
        <p:blipFill>
          <a:blip r:embed="rId1"/>
          <a:stretch/>
        </p:blipFill>
        <p:spPr>
          <a:xfrm>
            <a:off x="838080" y="1581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comes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“direction that best separates class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WD Pro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M Pro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M is “better separated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“data piling” problems…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WD gives “more spread between sub-populations”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erhaps “more s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comes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“better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“genes of interes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ximize loadings of direction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flec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inting in gene dir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nsity pl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f gene express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op 20 genes in each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comes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“better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 intensity p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cases by DWD score (proj’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genes by DWD loading (vec. ent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to top &amp; bottom 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 map shows gene ex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genes that drive class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names also avai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comes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“better”?         DWD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0" name="Picture 19" descr=""/>
          <p:cNvPicPr/>
          <p:nvPr/>
        </p:nvPicPr>
        <p:blipFill>
          <a:blip r:embed="rId1"/>
          <a:stretch/>
        </p:blipFill>
        <p:spPr>
          <a:xfrm>
            <a:off x="838080" y="1581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comes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“better”?         SVM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8" name="Picture 21" descr=""/>
          <p:cNvPicPr/>
          <p:nvPr/>
        </p:nvPicPr>
        <p:blipFill>
          <a:blip r:embed="rId1"/>
          <a:stretch/>
        </p:blipFill>
        <p:spPr>
          <a:xfrm>
            <a:off x="838080" y="1581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comes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“better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WD  finds genes showing better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M genes are less inform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comes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Centroid (Mean Diff’nce) Metho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3" name="Picture 19" descr=""/>
          <p:cNvPicPr/>
          <p:nvPr/>
        </p:nvPicPr>
        <p:blipFill>
          <a:blip r:embed="rId1"/>
          <a:stretch/>
        </p:blipFill>
        <p:spPr>
          <a:xfrm>
            <a:off x="838080" y="1581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comes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Centroid (Mean Diff’nce) Metho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1" name="Picture 20" descr=""/>
          <p:cNvPicPr/>
          <p:nvPr/>
        </p:nvPicPr>
        <p:blipFill>
          <a:blip r:embed="rId1"/>
          <a:stretch/>
        </p:blipFill>
        <p:spPr>
          <a:xfrm>
            <a:off x="838080" y="1581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comes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         DWD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Picture 19" descr=""/>
          <p:cNvPicPr/>
          <p:nvPr/>
        </p:nvPicPr>
        <p:blipFill>
          <a:blip r:embed="rId1"/>
          <a:stretch/>
        </p:blipFill>
        <p:spPr>
          <a:xfrm>
            <a:off x="838080" y="1581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Compu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&amp;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ing M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Explici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ize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t classification fun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aightforward application of embedd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s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ner product advanta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20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9"/>
              <p:cNvSpPr txBox="1"/>
              <p:nvPr/>
            </p:nvSpPr>
            <p:spPr>
              <a:xfrm>
                <a:off x="5410080" y="1066680"/>
                <a:ext cx="838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6" name="Rectangle 22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1"/>
              <p:cNvSpPr txBox="1"/>
              <p:nvPr/>
            </p:nvSpPr>
            <p:spPr>
              <a:xfrm>
                <a:off x="6858000" y="1447920"/>
                <a:ext cx="19051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8" name="Rectangle 24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23"/>
              <p:cNvSpPr txBox="1"/>
              <p:nvPr/>
            </p:nvSpPr>
            <p:spPr>
              <a:xfrm>
                <a:off x="1752480" y="3429000"/>
                <a:ext cx="55627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0" name="Rectangle 26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25"/>
              <p:cNvSpPr txBox="1"/>
              <p:nvPr/>
            </p:nvSpPr>
            <p:spPr>
              <a:xfrm>
                <a:off x="2895480" y="4572000"/>
                <a:ext cx="42674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comes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Centroid (Mean Diff’nce) Metho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yet, in terms of red – green plo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ions unacceptably mix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tw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al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for trade-off?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space approach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philosophical poi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imple things often “bes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comes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ness of above a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with “genes prone to disease” ha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died y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haps can see in DWD expression plo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a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ophisticated survival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progress w/ Brent Johnson, Danyu Li, Helen Zha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=d Visualiz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shes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way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ve S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l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19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Rectangle 23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Rectangle 24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7" name="Object 25"/>
              <p:cNvSpPr txBox="1"/>
              <p:nvPr/>
            </p:nvSpPr>
            <p:spPr>
              <a:xfrm>
                <a:off x="1295280" y="1523880"/>
                <a:ext cx="13780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048" name="Picture 26" descr=""/>
          <p:cNvPicPr/>
          <p:nvPr/>
        </p:nvPicPr>
        <p:blipFill>
          <a:blip r:embed="rId1"/>
          <a:srcRect l="10014" t="23385" r="7153" b="14615"/>
          <a:stretch/>
        </p:blipFill>
        <p:spPr>
          <a:xfrm>
            <a:off x="3041640" y="2008080"/>
            <a:ext cx="56167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0" name="Rectangle 3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Rectangle 14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Rectangle 16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Rectangle 17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Rectangle 18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Rectangle 19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Rectangle 20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Rectangle 21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Rectangle 23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1" name="Picture 24" descr="BatchEffect1fig4Big"/>
          <p:cNvPicPr/>
          <p:nvPr/>
        </p:nvPicPr>
        <p:blipFill>
          <a:blip r:embed="rId1"/>
          <a:stretch/>
        </p:blipFill>
        <p:spPr>
          <a:xfrm rot="5400000">
            <a:off x="1514520" y="488520"/>
            <a:ext cx="5657760" cy="6858000"/>
          </a:xfrm>
          <a:prstGeom prst="rect">
            <a:avLst/>
          </a:prstGeom>
          <a:ln w="0">
            <a:noFill/>
          </a:ln>
        </p:spPr>
      </p:pic>
      <p:sp>
        <p:nvSpPr>
          <p:cNvPr id="1072" name="Text Box 25"/>
          <p:cNvSpPr/>
          <p:nvPr/>
        </p:nvSpPr>
        <p:spPr>
          <a:xfrm>
            <a:off x="6553080" y="990720"/>
            <a:ext cx="1828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Maximal Data Pil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Line 26"/>
          <p:cNvSpPr/>
          <p:nvPr/>
        </p:nvSpPr>
        <p:spPr>
          <a:xfrm>
            <a:off x="6019920" y="1143000"/>
            <a:ext cx="60948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idea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arison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  (Support Vector Mach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 (Distance Weighted Discrimin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 (Mean Difference, a.k.a. Centroi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 versions,  across dim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all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udy different known phenom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Gauss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on Sample Si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wide range of dim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19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Object 20"/>
              <p:cNvSpPr txBox="1"/>
              <p:nvPr/>
            </p:nvSpPr>
            <p:spPr>
              <a:xfrm>
                <a:off x="3505320" y="4495680"/>
                <a:ext cx="24318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0" name="Rectangle 21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22"/>
              <p:cNvSpPr txBox="1"/>
              <p:nvPr/>
            </p:nvSpPr>
            <p:spPr>
              <a:xfrm>
                <a:off x="2428920" y="5867280"/>
                <a:ext cx="4748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6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Gaussia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9" name="Picture 19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629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 Gaussia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setup as 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s shifted in dim 1 onl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methods pretty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rder problem for higher 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 noticeably wo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 best (Likelihood metho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very close to M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thods converge for higher dimension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Rectangle 19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Object 20"/>
              <p:cNvSpPr txBox="1"/>
              <p:nvPr/>
            </p:nvSpPr>
            <p:spPr>
              <a:xfrm>
                <a:off x="6553080" y="2133720"/>
                <a:ext cx="17528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 Mix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6" name="Picture 19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629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lier Mix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% dim. 1                ,  other dims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% dim. 1  ±100,  dim. 2  ±500,  others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 is a disaster, driven by outl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 &amp; DWD are both very rob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 is b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very close to SVM (insi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differe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thods converge for higher dimension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nore RLR (a mista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Rectangle 19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Object 20"/>
              <p:cNvSpPr txBox="1"/>
              <p:nvPr/>
            </p:nvSpPr>
            <p:spPr>
              <a:xfrm>
                <a:off x="2819520" y="1523880"/>
                <a:ext cx="1752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Compu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&amp;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Implici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ize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t classification fun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ill defined only via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ner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tains optimization advan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use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comm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arison to explicit embedd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?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19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21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23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2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28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27"/>
              <p:cNvSpPr txBox="1"/>
              <p:nvPr/>
            </p:nvSpPr>
            <p:spPr>
              <a:xfrm>
                <a:off x="2819520" y="1600200"/>
                <a:ext cx="48765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5" name="Rectangle 30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29"/>
              <p:cNvSpPr txBox="1"/>
              <p:nvPr/>
            </p:nvSpPr>
            <p:spPr>
              <a:xfrm>
                <a:off x="2666880" y="2819520"/>
                <a:ext cx="36576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bble Mix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3" name="Picture 19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629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bble Mix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% dim. 1                  ,  other dims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% dim. 1  ±0.1,  rand dim  ±100,  others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 still very bad, driven by outl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 &amp; DWD are both very rob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 loses (affected b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rgin push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slightly better (b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d influen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thods converge for higher dimension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nore RLR (a mista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Rectangle 19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2" name="Object 20"/>
              <p:cNvSpPr txBox="1"/>
              <p:nvPr/>
            </p:nvSpPr>
            <p:spPr>
              <a:xfrm>
                <a:off x="2819520" y="1523880"/>
                <a:ext cx="1752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sted Sphe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0" name="Picture 19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629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sted Sphe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/2 d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, Gaussian with var 1 or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/2 d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, the squares o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s for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egree polynomial embedding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ch method best some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 best in highest d (data non-Gaussi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thods not comparable (realist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thods converge for higher dimension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pace is a strange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nore RLR (a mista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Rectangle 19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clusions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erything (sensible) is bes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ti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WD ofte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near b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 weak beyond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ution about simulations (and examples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easy to cherry pick best 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practi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Machine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nore method proposed, but 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per for useful comparison of oth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ution:  There are additional play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Regularized Logistic Regress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oks also very compet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esting Phenomen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method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e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very high dimension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Simu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we say more abou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method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e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very high dimension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hematical Statistical Ques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hematics behind thi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will answer next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arget Toy Data se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838080" y="1581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licit Embedding, window  </a:t>
            </a:r>
            <a:r>
              <a:rPr b="0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0.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18" descr="AhnBullsEyeExpGaussEmbh.1.png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UNC</cp:lastModifiedBy>
  <dcterms:modified xsi:type="dcterms:W3CDTF">2007-10-25T12:54:17Z</dcterms:modified>
  <cp:revision>1153</cp:revision>
  <dc:subject/>
  <dc:title>Title</dc:title>
</cp:coreProperties>
</file>