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853-547D-4C92-B952-E74E76F3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AC11-33BB-474A-8D66-401A6102F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65E-BA6D-436F-AFC1-376C346EB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E91-3059-4C2D-A7A9-66340F1A7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8582-D668-4BB3-99EE-45674F893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D923-F4F7-448B-AF2A-2E61FEE81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F719-8560-49B4-A7B5-110C44234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6D6-CC06-4E5F-8419-246CC9712A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1B69-E556-48C6-BDC2-641DA16358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3FD-D7EE-42D6-92ED-777BEFF79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1AE-E206-4AF8-B42E-A32861B45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DC4-2289-4638-B8AD-DEAA19B12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8F1-0FDF-4630-91C8-AB7FBECAE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2C4E-B8D8-4A2B-A8F3-7E52FBD6AA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A96-7F9F-4597-AEA1-67ABDFED63A3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AEBE-27A7-4AE6-B124-DA04FBA0626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992-6DC9-41E8-A02A-52226BD8570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42B-BE55-40D9-ACDF-4C503655EBAF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CA4-88D5-465F-B701-888786E16E9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71E5-AEFA-4914-903E-3A14C0C5D31C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07C-99B9-44C4-A0AB-0EF599B64A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069E-6CB5-4FAF-8FA0-2C3D4E9F5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B2B-C55C-4605-BD2A-8938CF6B3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B05-836C-43F9-A82C-5FDD4FBCAD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3A3-511D-4F3F-BD77-B640AD2C4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93B8-55BC-4D0E-BF97-63655644F4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6010-B694-45EE-9075-04CEEEFDC7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F16F-9EC3-486B-8993-C53D742C3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74E-7300-4353-BF44-7BC7E1AC943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477-A4DA-443D-8BDA-DF410011AE0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E8F-B25D-4590-BF35-79283103C96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1E6-D04F-4F08-848B-147EF747404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5B69-B738-40E0-8A6E-CFEA1F75A5A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AA4-A44C-4B00-B54C-877CE4F1694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Effect1fig4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DB4-30F9-43F2-8DB3-5CF0E0D8039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C83-0D26-4076-A82D-05929022B8A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FBBD-A923-46B2-AB29-E7B8CB47A1ED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D58-C9D2-4B97-9AA0-94ECCB88892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7C9-7E1F-4832-8714-1A675A4AA692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A232-69D1-4F5F-B12B-70FF2C25C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CA5-87AD-469E-9203-B7C6C59326B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7139-0EA4-4CD9-891D-D15C9C3033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E48-1825-4956-831C-F0DA8C357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75BF-4E5C-4D91-931E-5E0D4AC7A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2479-F83A-4763-9EA2-F599E877BF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6BA-9DDD-4885-930A-78498EC95D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FB7-427C-4E85-B058-E5CC0559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4B6-1B5C-4BAC-B974-5DB415F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0E5-35CC-488F-B266-2B97A064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360-0ADF-48C0-A24E-1FFB8F7C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3AC-260F-4623-A47B-74CBA075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44D-45C8-4BD1-83A0-0B5A99B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03A6-40B3-4DE4-9A3A-F7B7A970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786-A961-4CDC-9390-A2A065FB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B5C2-B506-4A77-8F36-CDA48AC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E76A-C432-47AB-8067-A64881A4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03CB-68C1-4820-A7D1-9F4570EB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21D-4629-471F-98F3-A188DC4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B8FB-3DD7-468B-B8C3-0A7537E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6DDF-56F6-4174-B5A2-9749F79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631-207A-4ABA-B12B-8144C8CE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94C9-E0F3-4B8C-A191-902CBDD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2DE2-9F33-45AB-89FD-3165F87D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60FD-6F6A-4565-B9A2-9BEF7DF9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3F20-E11A-4E2A-A618-D23B6CB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E73D-555D-45A0-9BF6-8A54998F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2174-745F-45C1-BAD6-D6B1248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664D-90AD-4FAE-8840-2154726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EBA-AC43-4375-AC92-7DC427AB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D784-709C-43BE-972A-A16C2E12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AD8F-8D93-419F-AC1E-A2B5A6D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8919-93E3-4505-995E-CCE6D93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74D3-2B75-43F2-9BA5-7B58C22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E707-11BB-4536-BF76-CC9F8DA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1D04-08A4-4E23-BB6B-E9B4F0F7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82AF-CB1A-4AA3-AE1D-AE7F5167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D31-E862-487D-A747-227B54F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698-2415-4B50-BA6A-32E5D68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0DD-EB96-4B17-9E93-45A8B133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326-C442-4AD3-B659-CFBFDA5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4A3-CFEF-4B9C-B8C7-AC5853BA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A62-ED65-4D27-909F-7125767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DD6-D6E9-4742-837F-C2E189F30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992-3D84-477F-81C2-26E0EE70C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CE8-F5CF-43B1-B659-5B94667A6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fffff"/>
            </a:gs>
            <a:gs pos="100000">
              <a:srgbClr val="c9dd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286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12880" indent="-2286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9B3-D1AD-473E-B692-A74D98727B3C}" type="slidenum">
              <a:rPr b="0" lang="ko-KR" sz="1000" spc="-1" strike="noStrike">
                <a:solidFill>
                  <a:srgbClr val="2a3d7a"/>
                </a:solidFill>
                <a:latin typeface="Arial"/>
                <a:ea typeface="Guli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7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Distance Weighted Discrim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visit microarray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Fac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utcome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Simulation Compari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: Simple Parad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dim’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clidean Distance to Origin (as         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523880" y="1219320"/>
                <a:ext cx="378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6553080" y="3962520"/>
                <a:ext cx="1284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3124080" y="2057400"/>
                <a:ext cx="32004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2819520" y="4876920"/>
                <a:ext cx="3276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: Simple Parad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e roughly on surface of sphe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adi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et origin is poi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es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radox resolv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nsity w. r. t. Lebesgue 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5"/>
              <p:cNvSpPr txBox="1"/>
              <p:nvPr/>
            </p:nvSpPr>
            <p:spPr>
              <a:xfrm>
                <a:off x="1371600" y="1219320"/>
                <a:ext cx="14479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2819520" y="1981080"/>
                <a:ext cx="3200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5715000" y="3624120"/>
                <a:ext cx="6858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: Simple Parad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dim’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’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.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clidean Dist. Between        and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          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end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a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1371600" y="1447920"/>
                <a:ext cx="352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1447920" y="3581280"/>
                <a:ext cx="1371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5562720" y="2057400"/>
                <a:ext cx="2666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2895480" y="5334120"/>
                <a:ext cx="44197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2971800" y="2057400"/>
                <a:ext cx="54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9"/>
              <p:cNvSpPr txBox="1"/>
              <p:nvPr/>
            </p:nvSpPr>
            <p:spPr>
              <a:xfrm>
                <a:off x="5257800" y="2895480"/>
                <a:ext cx="4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"/>
              <p:cNvSpPr txBox="1"/>
              <p:nvPr/>
            </p:nvSpPr>
            <p:spPr>
              <a:xfrm>
                <a:off x="6934320" y="283212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: Simple Parad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end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a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       , si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xten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all go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 can only perceive 3 dim’n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209680" y="1981080"/>
                <a:ext cx="47246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3429000" y="4495680"/>
                <a:ext cx="15508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2971800" y="3371760"/>
                <a:ext cx="5715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3"/>
              <p:cNvSpPr txBox="1"/>
              <p:nvPr/>
            </p:nvSpPr>
            <p:spPr>
              <a:xfrm>
                <a:off x="2209680" y="2895480"/>
                <a:ext cx="62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: Simple Parad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55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dim’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.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im’al Angles   (as           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thing is orthog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re do they all go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our perceptual limit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gain 1st order structur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rand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1371600" y="1066680"/>
                <a:ext cx="352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5105520" y="2743200"/>
                <a:ext cx="140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486400" y="1676520"/>
                <a:ext cx="2743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2362320" y="3422520"/>
                <a:ext cx="549576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3200400" y="1676520"/>
                <a:ext cx="5428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’s: Geometrical Represent’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Subspace Generated by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plane through 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re “nearly equidistant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”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di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e, c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 towards           Unit Simplex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Gaussian data 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Unit Simplex Vertices”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ness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e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in r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i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819520" y="2666880"/>
                <a:ext cx="287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449568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1600200" y="1371600"/>
                <a:ext cx="2286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2438280" y="4191120"/>
                <a:ext cx="685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"/>
              <p:cNvSpPr txBox="1"/>
              <p:nvPr/>
            </p:nvSpPr>
            <p:spPr>
              <a:xfrm>
                <a:off x="2057400" y="3352680"/>
                <a:ext cx="372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39" name="Picture 9" descr="HallHighDEg0n2"/>
          <p:cNvPicPr/>
          <p:nvPr/>
        </p:nvPicPr>
        <p:blipFill>
          <a:blip r:embed="rId1"/>
          <a:stretch/>
        </p:blipFill>
        <p:spPr>
          <a:xfrm rot="5400000">
            <a:off x="5181480" y="1904760"/>
            <a:ext cx="3244680" cy="37022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0"/>
          <p:cNvSpPr/>
          <p:nvPr/>
        </p:nvSpPr>
        <p:spPr>
          <a:xfrm>
            <a:off x="5029200" y="5867280"/>
            <a:ext cx="388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l, Marron &amp; Neeman 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t’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                             ,    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y Hyperplane Generated by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mensional 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s are pairwise equidistant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s lie at vertice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         hedro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ain “randomness in data”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in ro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prisingly rigid structure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838080" y="2590920"/>
                <a:ext cx="5940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3276720" y="3657600"/>
                <a:ext cx="752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8"/>
              <p:cNvSpPr txBox="1"/>
              <p:nvPr/>
            </p:nvSpPr>
            <p:spPr>
              <a:xfrm>
                <a:off x="2133720" y="3276720"/>
                <a:ext cx="5760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0"/>
              <p:cNvSpPr txBox="1"/>
              <p:nvPr/>
            </p:nvSpPr>
            <p:spPr>
              <a:xfrm>
                <a:off x="1676520" y="4114800"/>
                <a:ext cx="4665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9" name="HallHighDEg0n3.avi" descr=""/>
          <p:cNvPicPr/>
          <p:nvPr/>
        </p:nvPicPr>
        <p:blipFill>
          <a:blip r:embed="rId1"/>
          <a:srcRect l="15428" t="0" r="12000" b="0"/>
          <a:stretch/>
        </p:blipFill>
        <p:spPr>
          <a:xfrm>
            <a:off x="4876920" y="2057400"/>
            <a:ext cx="3870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’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588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ulation View:  study “rigidity after rot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e 3 point data 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dimensions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2, 20, 200, 2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te hyperplane of dimension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tate that to plane of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tate within plane, to make “comparab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eat 10 times, use different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’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5880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ulation View:  shows “rigidity after rotation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HallHighDEg1n3pd2N01"/>
          <p:cNvPicPr/>
          <p:nvPr/>
        </p:nvPicPr>
        <p:blipFill>
          <a:blip r:embed="rId1"/>
          <a:stretch/>
        </p:blipFill>
        <p:spPr>
          <a:xfrm rot="5400000">
            <a:off x="2293560" y="1820520"/>
            <a:ext cx="447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’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nation of Observed (Simulation) Behav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rything similar for very high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popn’s are 2 simplices  (i.e. reg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hedr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are same distance from the other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everything is a support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all sensible directions show “data pil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 “sensible methods are all nearly the same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ing  1 - 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widdle ratios of subtyp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214" name="ToyMovie_PAMDWD.avi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’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aightforward Generaliza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Gaussian data:    only need mo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independent:    use “mixing condition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ld Eigenvalue condition on Theoretical C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hn, Marron, Muller &amp; Chi, 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based on simple “Laws of Large Number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054160" y="4518000"/>
                <a:ext cx="193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hn, Marron, Muller &amp; Chi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eigenvalu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sen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                    assume                     i.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in pos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uch weaker than previous mixing conditions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1219320" y="3429000"/>
                <a:ext cx="16761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d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724280" y="4038480"/>
                <a:ext cx="154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7467480" y="4038480"/>
                <a:ext cx="1219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82" name="Straight Arrow Connector 24"/>
          <p:cNvCxnSpPr/>
          <p:nvPr/>
        </p:nvCxnSpPr>
        <p:spPr>
          <a:xfrm flipV="1">
            <a:off x="6705360" y="4419360"/>
            <a:ext cx="14482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groun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classical multivariate analysis, the stat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called the “epsilon statisti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is used to test “sphericity” of dist’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“are all cov’nce eigenvalues the sam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6248520" y="2743200"/>
                <a:ext cx="16761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d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show: epsilon statis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tisf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spherical Norm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extreme eigenvalue g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assumption               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m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ch weaker than mixing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6248520" y="1295280"/>
                <a:ext cx="16761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d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438280" y="2666880"/>
                <a:ext cx="16765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3657600" y="4724280"/>
                <a:ext cx="142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4876920" y="3352680"/>
                <a:ext cx="9302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"/>
              <p:cNvSpPr txBox="1"/>
              <p:nvPr/>
            </p:nvSpPr>
            <p:spPr>
              <a:xfrm>
                <a:off x="6934320" y="3809880"/>
                <a:ext cx="1109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hn, Marron, Muller &amp; Chi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eigenvalu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             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so strong as befo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6629400" y="2514600"/>
                <a:ext cx="142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1531800" y="3657600"/>
                <a:ext cx="3907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3429000" y="5638680"/>
                <a:ext cx="4191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we improve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 Kent example:    Normal scale mix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n’t g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1454040" y="3890880"/>
                <a:ext cx="6031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2895480" y="1828800"/>
                <a:ext cx="3907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5"/>
              <p:cNvSpPr txBox="1"/>
              <p:nvPr/>
            </p:nvSpPr>
            <p:spPr>
              <a:xfrm>
                <a:off x="2265480" y="5334120"/>
                <a:ext cx="4557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5297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Paper on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s on Kent’s Normal Scale Mi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Vectors are indep’dent of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f each have strong depend’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ever, can show entries have cov = 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l statistical folklo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variance = 0               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1371600" y="1905120"/>
                <a:ext cx="6031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5"/>
              <p:cNvSpPr txBox="1"/>
              <p:nvPr/>
            </p:nvSpPr>
            <p:spPr>
              <a:xfrm>
                <a:off x="4343400" y="541008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Straight Connector 25"/>
          <p:cNvSpPr/>
          <p:nvPr/>
        </p:nvSpPr>
        <p:spPr>
          <a:xfrm>
            <a:off x="4343400" y="541008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Straight Connector 26"/>
          <p:cNvSpPr/>
          <p:nvPr/>
        </p:nvSpPr>
        <p:spPr>
          <a:xfrm flipV="1">
            <a:off x="4343400" y="5410080"/>
            <a:ext cx="5335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Variables       and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 both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n           ,    defin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5791320" y="1905120"/>
                <a:ext cx="441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5"/>
              <p:cNvSpPr txBox="1"/>
              <p:nvPr/>
            </p:nvSpPr>
            <p:spPr>
              <a:xfrm>
                <a:off x="4343400" y="1905120"/>
                <a:ext cx="561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6"/>
              <p:cNvSpPr txBox="1"/>
              <p:nvPr/>
            </p:nvSpPr>
            <p:spPr>
              <a:xfrm>
                <a:off x="4876920" y="2590920"/>
                <a:ext cx="27302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676520" y="5486400"/>
                <a:ext cx="10825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4800600" y="4952880"/>
                <a:ext cx="364968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9" descr="EG0covNotIndep.png"/>
          <p:cNvPicPr/>
          <p:nvPr/>
        </p:nvPicPr>
        <p:blipFill>
          <a:blip r:embed="rId1"/>
          <a:stretch/>
        </p:blipFill>
        <p:spPr>
          <a:xfrm>
            <a:off x="106668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Picture 9" descr="EG0covNotIndep.png"/>
          <p:cNvPicPr/>
          <p:nvPr/>
        </p:nvPicPr>
        <p:blipFill>
          <a:blip r:embed="rId1"/>
          <a:stretch/>
        </p:blipFill>
        <p:spPr>
          <a:xfrm>
            <a:off x="106668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robust against non-proportional subtyp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Statistical Ques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mathematics behind th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ll answer next time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Examp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v(X,Y)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Picture 9" descr="EG0covNotIndep.png"/>
          <p:cNvPicPr/>
          <p:nvPr/>
        </p:nvPicPr>
        <p:blipFill>
          <a:blip r:embed="rId1"/>
          <a:stretch/>
        </p:blipFill>
        <p:spPr>
          <a:xfrm>
            <a:off x="1066680" y="1633680"/>
            <a:ext cx="6858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ion is degene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ed on diagon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bs. cont. w.r.t. 2-d Lebesgue m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small     ,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large      ,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continuity,               wit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4343400" y="3962520"/>
                <a:ext cx="272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5"/>
              <p:cNvSpPr txBox="1"/>
              <p:nvPr/>
            </p:nvSpPr>
            <p:spPr>
              <a:xfrm>
                <a:off x="2743200" y="4114800"/>
                <a:ext cx="36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7"/>
              <p:cNvSpPr txBox="1"/>
              <p:nvPr/>
            </p:nvSpPr>
            <p:spPr>
              <a:xfrm>
                <a:off x="2666880" y="4876920"/>
                <a:ext cx="360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8"/>
              <p:cNvSpPr txBox="1"/>
              <p:nvPr/>
            </p:nvSpPr>
            <p:spPr>
              <a:xfrm>
                <a:off x="3505320" y="5486400"/>
                <a:ext cx="10411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9"/>
              <p:cNvSpPr txBox="1"/>
              <p:nvPr/>
            </p:nvSpPr>
            <p:spPr>
              <a:xfrm>
                <a:off x="4495680" y="4724280"/>
                <a:ext cx="272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10"/>
              <p:cNvSpPr txBox="1"/>
              <p:nvPr/>
            </p:nvSpPr>
            <p:spPr>
              <a:xfrm>
                <a:off x="5867280" y="5410080"/>
                <a:ext cx="272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0 Covariance is not indepen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int distribution of       and 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 Gaussian margi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et stro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       and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u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variate 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variate Gauss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eans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ussian Marg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5791320" y="1905120"/>
                <a:ext cx="441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4343400" y="1905120"/>
                <a:ext cx="561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2209680" y="3200400"/>
                <a:ext cx="2133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5562720" y="3886200"/>
                <a:ext cx="480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8"/>
              <p:cNvSpPr txBox="1"/>
              <p:nvPr/>
            </p:nvSpPr>
            <p:spPr>
              <a:xfrm>
                <a:off x="6934320" y="3886200"/>
                <a:ext cx="377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y’s: Geometrical Represen’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rther Consequences of Geometric Represen’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 Inefficiency of DWD for uneven sampl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otiv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ted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Xingye Qia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DWD mo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n SV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eper limiting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flects intuitive id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eling sampling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omething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n vs. 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 1-NN rule inefficiency is quantifi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Math. Stat. of PCA, 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ency &amp; Strong Inconsistenc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ke Covariance Model, Paul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Eigenvalues: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Eigen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good are empirical versio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estim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3886200" y="2819520"/>
                <a:ext cx="4689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3809880" y="3470400"/>
                <a:ext cx="5716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5638680" y="5715000"/>
                <a:ext cx="3170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th. Stat. of PCA, I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stency (big enough spik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        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 Inconsistency (spike not big enough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        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"/>
              <p:cNvSpPr txBox="1"/>
              <p:nvPr/>
            </p:nvSpPr>
            <p:spPr>
              <a:xfrm>
                <a:off x="1219320" y="2286000"/>
                <a:ext cx="817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2666880" y="2971800"/>
                <a:ext cx="3276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5"/>
              <p:cNvSpPr txBox="1"/>
              <p:nvPr/>
            </p:nvSpPr>
            <p:spPr>
              <a:xfrm>
                <a:off x="1295280" y="5105520"/>
                <a:ext cx="78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6"/>
              <p:cNvSpPr txBox="1"/>
              <p:nvPr/>
            </p:nvSpPr>
            <p:spPr>
              <a:xfrm>
                <a:off x="2666880" y="5867280"/>
                <a:ext cx="3657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th. Stat. of PCA, II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ency of eigenvalu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genvalues In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known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less                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3"/>
              <p:cNvSpPr txBox="1"/>
              <p:nvPr/>
            </p:nvSpPr>
            <p:spPr>
              <a:xfrm>
                <a:off x="3276720" y="2438280"/>
                <a:ext cx="32385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2514600" y="5562720"/>
                <a:ext cx="1506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ork in  Progress, 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tch Adjustment:   Xuxin Li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l Intuition from abo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is sizes of biological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ing ratio trips up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DWD more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thematics behind th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u:  Twiddle ratios of subtyp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5" name="ToyMovie_PAMDWD.avi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3128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uxin Liu Dissertation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e Unbalanced Cluster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wing at rate        a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s depend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sualization of setting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2"/>
              <p:cNvSpPr txBox="1"/>
              <p:nvPr/>
            </p:nvSpPr>
            <p:spPr>
              <a:xfrm>
                <a:off x="3962520" y="3048120"/>
                <a:ext cx="7110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5410080" y="3124080"/>
                <a:ext cx="1495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4724280" y="4038480"/>
                <a:ext cx="4701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4" descr="BatchEffect1fig4Big"/>
          <p:cNvPicPr/>
          <p:nvPr/>
        </p:nvPicPr>
        <p:blipFill>
          <a:blip r:embed="rId1"/>
          <a:stretch/>
        </p:blipFill>
        <p:spPr>
          <a:xfrm rot="5400000">
            <a:off x="1514520" y="488520"/>
            <a:ext cx="56577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5"/>
          <p:cNvSpPr/>
          <p:nvPr/>
        </p:nvSpPr>
        <p:spPr>
          <a:xfrm>
            <a:off x="6553080" y="99072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Maximal Data Pi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6019920" y="114300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24" descr="UN2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24" descr="UN2.jpg"/>
          <p:cNvPicPr/>
          <p:nvPr/>
        </p:nvPicPr>
        <p:blipFill>
          <a:blip r:embed="rId1"/>
          <a:stretch/>
        </p:blipFill>
        <p:spPr>
          <a:xfrm>
            <a:off x="762120" y="1538280"/>
            <a:ext cx="76197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ymptotic Results (as          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       ,   DW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le(DWD,Truth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        ,   DW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ly In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le(DWD,Truth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"/>
              <p:cNvSpPr txBox="1"/>
              <p:nvPr/>
            </p:nvSpPr>
            <p:spPr>
              <a:xfrm>
                <a:off x="4648320" y="1752480"/>
                <a:ext cx="1495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3"/>
              <p:cNvSpPr txBox="1"/>
              <p:nvPr/>
            </p:nvSpPr>
            <p:spPr>
              <a:xfrm>
                <a:off x="1752480" y="4495680"/>
                <a:ext cx="9572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76520" y="2514600"/>
                <a:ext cx="9572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5"/>
              <p:cNvSpPr txBox="1"/>
              <p:nvPr/>
            </p:nvSpPr>
            <p:spPr>
              <a:xfrm>
                <a:off x="6019920" y="3733920"/>
                <a:ext cx="11682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6"/>
              <p:cNvSpPr txBox="1"/>
              <p:nvPr/>
            </p:nvSpPr>
            <p:spPr>
              <a:xfrm>
                <a:off x="5943600" y="5638680"/>
                <a:ext cx="1533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ymptotic Results (as          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       ,   PA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le(PAM,Truth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        ,   PA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ly In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le(PAM,Truth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2"/>
              <p:cNvSpPr txBox="1"/>
              <p:nvPr/>
            </p:nvSpPr>
            <p:spPr>
              <a:xfrm>
                <a:off x="4648320" y="1752480"/>
                <a:ext cx="1495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1752480" y="4495680"/>
                <a:ext cx="9572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"/>
              <p:cNvSpPr txBox="1"/>
              <p:nvPr/>
            </p:nvSpPr>
            <p:spPr>
              <a:xfrm>
                <a:off x="1676520" y="2514600"/>
                <a:ext cx="9572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6"/>
              <p:cNvSpPr txBox="1"/>
              <p:nvPr/>
            </p:nvSpPr>
            <p:spPr>
              <a:xfrm>
                <a:off x="5562720" y="3716280"/>
                <a:ext cx="2081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7"/>
              <p:cNvSpPr txBox="1"/>
              <p:nvPr/>
            </p:nvSpPr>
            <p:spPr>
              <a:xfrm>
                <a:off x="5943600" y="5638680"/>
                <a:ext cx="1533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696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Combo Mathema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ue of       , for sample size ratio 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  only when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wise for        ,  PA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r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tuitive idea in strong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-763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20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2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"/>
              <p:cNvSpPr txBox="1"/>
              <p:nvPr/>
            </p:nvSpPr>
            <p:spPr>
              <a:xfrm>
                <a:off x="2057400" y="1676520"/>
                <a:ext cx="606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6"/>
              <p:cNvSpPr txBox="1"/>
              <p:nvPr/>
            </p:nvSpPr>
            <p:spPr>
              <a:xfrm>
                <a:off x="2608200" y="2362320"/>
                <a:ext cx="39798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4"/>
              <p:cNvSpPr txBox="1"/>
              <p:nvPr/>
            </p:nvSpPr>
            <p:spPr>
              <a:xfrm>
                <a:off x="855720" y="3657600"/>
                <a:ext cx="1193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5"/>
              <p:cNvSpPr txBox="1"/>
              <p:nvPr/>
            </p:nvSpPr>
            <p:spPr>
              <a:xfrm>
                <a:off x="6629400" y="1752480"/>
                <a:ext cx="453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6"/>
              <p:cNvSpPr txBox="1"/>
              <p:nvPr/>
            </p:nvSpPr>
            <p:spPr>
              <a:xfrm>
                <a:off x="4800600" y="3733920"/>
                <a:ext cx="903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3429000" y="4648320"/>
                <a:ext cx="903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201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Future of Geometrical Repres’tion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ion of “optimality” resul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guity” approach?    Param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es of Converg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s of DW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.g. other functions of distance than inver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still early day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te of </a:t>
            </a:r>
            <a:r>
              <a:rPr b="0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HDL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Research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hema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thanks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ant.corban.edu/gtipton/net-fun/iceberg.htm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Picture 3" descr="iceberg.jpg"/>
          <p:cNvPicPr/>
          <p:nvPr/>
        </p:nvPicPr>
        <p:blipFill>
          <a:blip r:embed="rId1"/>
          <a:stretch/>
        </p:blipFill>
        <p:spPr>
          <a:xfrm>
            <a:off x="4800600" y="1450800"/>
            <a:ext cx="3956040" cy="5407200"/>
          </a:xfrm>
          <a:prstGeom prst="rect">
            <a:avLst/>
          </a:prstGeom>
          <a:ln w="0">
            <a:noFill/>
          </a:ln>
        </p:spPr>
      </p:pic>
      <p:cxnSp>
        <p:nvCxnSpPr>
          <p:cNvPr id="782" name="Straight Arrow Connector 5"/>
          <p:cNvCxnSpPr/>
          <p:nvPr/>
        </p:nvCxnSpPr>
        <p:spPr>
          <a:xfrm>
            <a:off x="3200400" y="1905120"/>
            <a:ext cx="358200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3" name="Straight Arrow Connector 6"/>
          <p:cNvCxnSpPr/>
          <p:nvPr/>
        </p:nvCxnSpPr>
        <p:spPr>
          <a:xfrm flipV="1">
            <a:off x="3123720" y="2513880"/>
            <a:ext cx="312516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 (Support Vector Mach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 (Distance Weighted 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(Mean Difference, a.k.a. Centr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versions,  across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si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rything (sensible) is be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near b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weak beyond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 about simulations (and exampl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easy to cherry pick best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practi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method proposed, but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per for useful comparison of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say more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very high dimensio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Statistic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answer n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Mathematical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ympt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Uses limiting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asi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con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behavio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 s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only makes sense for “large” s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phenomenon of “increasing dat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other flavors are useless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3962520" y="2819520"/>
                <a:ext cx="696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HDLS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55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Mathematical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ympt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Reas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ion provides ins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ind simple underlying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lex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various flavors are fi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desirable!  (find additional insigh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2514600" y="5105520"/>
                <a:ext cx="4254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0-25T18:34:40Z</dcterms:modified>
  <cp:revision>1186</cp:revision>
  <dc:subject/>
  <dc:title>Title</dc:title>
</cp:coreProperties>
</file>