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5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DE53-652C-4CE1-AF4F-5596AFB51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50A7-855B-40BE-9B1B-D261E7731C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17F0-4275-4850-89C7-58736639F1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A4B2-851C-4A4B-88DC-65C6E29F64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58BB-E501-45A5-9291-D3A6BB4478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10EB-2D07-47D3-8787-05A33F25BF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65E1-BC54-4479-912E-445852D4E1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100A-06D6-424A-A60C-80330B727E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ECFA-0781-4627-98CB-C232CDFC80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98677-F9C2-4D52-8F73-DA79C1EF2B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5850-8687-405F-8645-138972EE4F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3645-1FD8-4F6A-B14B-EABA856933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C3F2-DD89-48A7-8F5F-B14AC3AA9C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09DF-005A-40C5-96A7-B91044DE9F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820B-97F6-4422-87FF-F08D3194F6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5E48-D923-4C61-AA38-0EF9837528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CB01-8410-4F2C-AC4D-58AC1E3069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58D7-0CE8-4473-A3D1-7FB651E817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CCD3-78E9-4A99-9026-13EEDE586D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1A88-0744-4372-BFB9-8FA1A18222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7D6F-B121-401D-8295-E64132A55A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3233-3F74-448E-A3A1-A5C2E6DEF5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896A-05A0-48BD-A1A6-7025039BE3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F0E4-E83A-4060-9C90-B13933F905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D1AF-BC91-4E81-9A8F-C5686F55FD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1145-85F3-4966-B008-FAC279B365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C8F8-5F16-431E-8156-D45B81ACF4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C3F6-A6D1-4E11-8F3D-CA63FFD3DF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9574-E8FC-4A92-A527-7774A6D1C0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5D06-04D9-428A-B6BA-CEA63C0F12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C19C-4B13-4111-8F04-4A16825DA4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F79F-0EB6-4A45-9384-01D4F14C7A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A545-1093-4724-851E-60FA72D319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AF9F-9BBA-4CB5-83BF-1B66DEBBEE32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F139-F5EC-4A2E-B458-2B8D582C1288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1D4B-6D98-41A4-87B3-1C2573AB1FEA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F8DD-78A4-48BA-A7F6-07AF340A64C7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7B1C-75EF-41F6-BA09-2159B92998BD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A74D-4670-4951-83CC-42A13501EA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BAFD-AC0D-4ED5-AC5A-E4155EE32F0F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4D23-2CB5-46B0-BC2B-53D180317218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0E5B-C227-4BDA-B5F8-41BBF8195CAB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6103-863F-4DF0-9870-FAEED321CD6C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E157-F30A-4ADF-95AF-14E2D0D124B8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00B9-1C44-471A-85C4-9F4B809D4C87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268A-D2A9-425D-BB46-D96424F0E76D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2EDA-EB9E-4BB6-A136-21131BC53FCF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86DF-40A9-4C81-A824-B1AF2FC48F96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9294-E478-4B52-9DE0-85C71774DFA8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3BD3-49DC-4644-B12F-D9A4D2606E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37D7-D6E6-4A24-8DED-0189410379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228C-B4ED-4A0E-BF99-283C34FE1B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DB5D-066B-455B-9592-F03E9AE30B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546C-12A7-4ECB-9A8B-6FE58470B1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C4CF-4F09-4D6E-966E-312008085A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4E4E-DD62-41BC-9F00-0A6FC465A5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FA11-8184-4BC5-AA12-AB3A1CAA86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6DE2-B032-49DF-B984-5384BE09F4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518E-C6BB-41FA-BDDE-B98F5F2680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FC48-0B5F-4A06-9C42-33916356D0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AF31-ACBE-4EBA-BF5A-C1CDDAEF1F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E0E8-7C89-462E-83A5-CC94ABF763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A3E0-5691-4EDC-82EA-F25B9BD5EB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DE0F-694E-491F-A216-DE3D7F6E54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7FEB-E610-4F53-8440-DF879B32F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77B0-4C65-4470-9881-1F4801D0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67CB-C4FE-4E38-9493-8CE92C559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087A-0341-41F3-BC87-AFD224723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7085-DA4E-4B0F-B3B4-C7F1B1694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57EE8-0103-4BD1-AEB8-4D9107C5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05C3-E34E-410F-B41C-6CC8479C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B991-07CB-4F15-8A40-B15DD5DA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B405-2C28-4001-B747-F2569971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ECAF-26DC-43CB-9733-B8C6FD8B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7FED-F5C3-4E07-B569-30E7C6FE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E922-A05D-4F07-8020-B4C99658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166C-99F0-4619-A826-2FD007C0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D503-A41A-4646-8E59-F761BBCD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4A9EE-8A30-4B97-9328-4C785211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06AF-7629-48DB-A6BB-65553755D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DA1A-703B-402B-8414-AF29B909E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B126-17DE-4D6E-BA78-3A338FBA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0A6F-5FC2-44AB-84C3-2B45BC64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6E51-9E42-44CA-A3FA-DDF055AE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56CB-B45E-4564-92B6-270BA25A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F5B4-5EDA-442F-BFCC-524AF4C3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18D0-AF2C-4113-A21E-C81BF6A5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6B68-8073-4500-A35A-39158479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700F-D1A8-49A1-BAEE-1E5D84EBB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29FB-4BCE-43B0-81F3-F6AF2F6CA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tat-or.unc.edu/webspace/courses/marron/UNCstor891OODA-2007/8-28-07.ppt" TargetMode="External"/><Relationship Id="rId2" Type="http://schemas.openxmlformats.org/officeDocument/2006/relationships/hyperlink" Target="http://www.stat-or.unc.edu/webspace/courses/marron/UNCstor891OODA-2007/8-28-07.ppt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discover.nci.nih.gov/datasetsNature2000.jsp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at-or.unc.edu/webspace/courses/marron/UNCstor891OODA-2007/10-25-07.ppt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stat-or.unc.edu/webspace/courses/marron/UNCstor891OODA-2007/8-30-07.ppt" TargetMode="Externa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Object Orie’d Data Analysis, Last Tim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sympto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 spirit of classical math’sl stati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limit as            ,  not us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w variation goes into random ro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dulo rotation, have fixed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vergence to vertices of unit simp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ave statistical insigh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e.g. methods all come together for high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5"/>
              <p:cNvSpPr txBox="1"/>
              <p:nvPr/>
            </p:nvSpPr>
            <p:spPr>
              <a:xfrm>
                <a:off x="2971800" y="2438280"/>
                <a:ext cx="124128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6"/>
              <p:cNvSpPr txBox="1"/>
              <p:nvPr/>
            </p:nvSpPr>
            <p:spPr>
              <a:xfrm>
                <a:off x="6434280" y="2489040"/>
                <a:ext cx="117468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HDLS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ymptotics – Dual View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5" name="Picture 3" descr="EgHDLSSviaDual-d1.png"/>
          <p:cNvPicPr/>
          <p:nvPr/>
        </p:nvPicPr>
        <p:blipFill>
          <a:blip r:embed="rId1"/>
          <a:stretch/>
        </p:blipFill>
        <p:spPr>
          <a:xfrm>
            <a:off x="1143000" y="1219320"/>
            <a:ext cx="685800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HDLS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ymptotics – Dual View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830556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per left:  Dual view of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per right:  Dual view of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qua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:  renormalized to see data addi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right:   study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distance to orig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left:   stud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airwise d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9"/>
              <p:cNvSpPr txBox="1"/>
              <p:nvPr/>
            </p:nvSpPr>
            <p:spPr>
              <a:xfrm>
                <a:off x="7238880" y="2666880"/>
                <a:ext cx="177012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11"/>
              <p:cNvSpPr txBox="1"/>
              <p:nvPr/>
            </p:nvSpPr>
            <p:spPr>
              <a:xfrm>
                <a:off x="6477120" y="1752480"/>
                <a:ext cx="177012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12"/>
              <p:cNvSpPr txBox="1"/>
              <p:nvPr/>
            </p:nvSpPr>
            <p:spPr>
              <a:xfrm>
                <a:off x="5334120" y="4114800"/>
                <a:ext cx="28749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/</m:t>
                        </m:r>
                        <m:r>
                          <m:t xml:space="preserve">d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/</m:t>
                        </m:r>
                        <m:r>
                          <m:t xml:space="preserve">d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HDLS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ymptotics – Dual View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830556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of insigh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ance to Orig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99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vi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99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to converge to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99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per &amp; Lower Right shows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qua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99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Average shown in gree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99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see convergence to 1 (stable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green li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7"/>
              <p:cNvSpPr txBox="1"/>
              <p:nvPr/>
            </p:nvSpPr>
            <p:spPr>
              <a:xfrm>
                <a:off x="4800600" y="1523880"/>
                <a:ext cx="388620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acc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d</m:t>
                                </m:r>
                              </m:sup>
                              <m:e>
                                <m:sSub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8"/>
              <p:cNvSpPr txBox="1"/>
              <p:nvPr/>
            </p:nvSpPr>
            <p:spPr>
              <a:xfrm>
                <a:off x="3276720" y="2514600"/>
                <a:ext cx="28908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d</m:t>
                        </m:r>
                      </m:sup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9"/>
              <p:cNvSpPr txBox="1"/>
              <p:nvPr/>
            </p:nvSpPr>
            <p:spPr>
              <a:xfrm>
                <a:off x="7238880" y="3962520"/>
                <a:ext cx="177012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0"/>
              <p:cNvSpPr txBox="1"/>
              <p:nvPr/>
            </p:nvSpPr>
            <p:spPr>
              <a:xfrm>
                <a:off x="5562720" y="4648320"/>
                <a:ext cx="129528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d</m:t>
                        </m:r>
                      </m:sup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HDLS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ymptotics – Dual View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830556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of insigh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rwise  Distan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99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vi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99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to converge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99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Left show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qrt(Averag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99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see convergence (stabl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d 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10"/>
              <p:cNvSpPr txBox="1"/>
              <p:nvPr/>
            </p:nvSpPr>
            <p:spPr>
              <a:xfrm>
                <a:off x="5334120" y="4191120"/>
                <a:ext cx="457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6"/>
              <p:cNvSpPr txBox="1"/>
              <p:nvPr/>
            </p:nvSpPr>
            <p:spPr>
              <a:xfrm>
                <a:off x="2057400" y="2209680"/>
                <a:ext cx="574344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acc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d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7"/>
              <p:cNvSpPr txBox="1"/>
              <p:nvPr/>
            </p:nvSpPr>
            <p:spPr>
              <a:xfrm>
                <a:off x="3048120" y="3200400"/>
                <a:ext cx="495144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d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d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HDLS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ymptotics – Dual View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830556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of insigh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gle from orig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99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vi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99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to converge to 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99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per left text shows Converg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5"/>
              <p:cNvSpPr txBox="1"/>
              <p:nvPr/>
            </p:nvSpPr>
            <p:spPr>
              <a:xfrm>
                <a:off x="1905120" y="2514600"/>
                <a:ext cx="633708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gle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acc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d>
                                  <m:dPr>
                                    <m:begChr m:val="‖"/>
                                    <m:endChr m:val="‖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e>
                                    </m:acc>
                                  </m:e>
                                </m:d>
                                <m:d>
                                  <m:dPr>
                                    <m:begChr m:val="‖"/>
                                    <m:endChr m:val="‖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e>
                                    </m:acc>
                                  </m:e>
                                </m:d>
                              </m:den>
                            </m:f>
                          </m:e>
                        </m:nary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°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6"/>
              <p:cNvSpPr txBox="1"/>
              <p:nvPr/>
            </p:nvSpPr>
            <p:spPr>
              <a:xfrm>
                <a:off x="3276720" y="4038480"/>
                <a:ext cx="31431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d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HDLS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ymptotics – Dual View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be interesting to t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(i.e. explore conditions for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99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99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Inconsist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CA direction vectors, from this viewp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haps other things as well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NCI 60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l from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1"/>
              </a:rPr>
              <a:t>Aug. 2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2"/>
              </a:rPr>
              <a:t>Aug. 3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CI 60 Cancer Cell Lines Microarray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plored Data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DNA &amp; Affymetrix Measur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ight answer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kn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esting Benchmark Data Se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6108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CI 60 Cell L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7080" indent="-4554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esting benchmark, sinc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m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e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7080" indent="-4554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Web availab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7080" indent="-4554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http://discover.nci.nih.gov/datasetsNature2000.js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7080" indent="-4554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th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DNA and Affymetrix Platfo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fferent from Breast Cancer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7080" indent="-4554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ich had no common s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76276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CI 60:  Raw Data, Platform Color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CI 60:  Raw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HDLS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ymptotic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80550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ing Idea from Travis Gayd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 from viewpoint of dual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from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Aug. 2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for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ance to orig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rwise  Distan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gle from orig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3"/>
              <p:cNvSpPr txBox="1"/>
              <p:nvPr/>
            </p:nvSpPr>
            <p:spPr>
              <a:xfrm>
                <a:off x="5562720" y="2209680"/>
                <a:ext cx="25174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~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0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4"/>
              <p:cNvSpPr txBox="1"/>
              <p:nvPr/>
            </p:nvSpPr>
            <p:spPr>
              <a:xfrm>
                <a:off x="4876920" y="2819520"/>
                <a:ext cx="388620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acc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d</m:t>
                                </m:r>
                              </m:sup>
                              <m:e>
                                <m:sSub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5"/>
              <p:cNvSpPr txBox="1"/>
              <p:nvPr/>
            </p:nvSpPr>
            <p:spPr>
              <a:xfrm>
                <a:off x="3400560" y="4267080"/>
                <a:ext cx="574344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acc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d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6"/>
              <p:cNvSpPr txBox="1"/>
              <p:nvPr/>
            </p:nvSpPr>
            <p:spPr>
              <a:xfrm>
                <a:off x="2666880" y="5821200"/>
                <a:ext cx="633744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gle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acc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d>
                                  <m:dPr>
                                    <m:begChr m:val="‖"/>
                                    <m:endChr m:val="‖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e>
                                    </m:acc>
                                  </m:e>
                                </m:d>
                                <m:d>
                                  <m:dPr>
                                    <m:begChr m:val="‖"/>
                                    <m:endChr m:val="‖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e>
                                    </m:acc>
                                  </m:e>
                                </m:d>
                              </m:den>
                            </m:f>
                          </m:e>
                        </m:nary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°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CI 60:  Raw Data,</a:t>
            </a:r>
            <a:r>
              <a:rPr b="0" lang="en-US" sz="4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 </a:t>
            </a: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Before</a:t>
            </a:r>
            <a:r>
              <a:rPr b="0" lang="en-US" sz="4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WD Adjust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27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00100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CI 60:</a:t>
            </a:r>
            <a:r>
              <a:rPr b="0" lang="en-US" sz="4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  </a:t>
            </a:r>
            <a:r>
              <a:rPr b="0" lang="en-US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Before</a:t>
            </a:r>
            <a:r>
              <a:rPr b="0" lang="en-US" sz="4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amp;</a:t>
            </a:r>
            <a:r>
              <a:rPr b="0" lang="en-US" sz="4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After</a:t>
            </a:r>
            <a:r>
              <a:rPr b="0" lang="en-US" sz="4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WD adjust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CI 60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eave out many slides studied 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8/28/0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CI 60:  Fully Adjusted Data, Platform Color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CI 60:  Fully Adjusted Data,</a:t>
            </a:r>
            <a:r>
              <a:rPr b="0" lang="en-US" sz="4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Melanoma Clus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4"/>
          <p:cNvSpPr/>
          <p:nvPr/>
        </p:nvSpPr>
        <p:spPr>
          <a:xfrm>
            <a:off x="666720" y="4067280"/>
            <a:ext cx="243828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BREAST.MDAMB43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BREAST.MDN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MELAN.MALME3M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MELAN.SKMEL2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MELAN.SKMEL5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MELAN.SKMEL28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MELAN.M14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MELAN.UACC62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MELAN.UACC257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CI 60:  Fully Adjusted Data,</a:t>
            </a:r>
            <a:r>
              <a:rPr b="0" lang="en-US" sz="4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Leukemia Clus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4"/>
          <p:cNvSpPr/>
          <p:nvPr/>
        </p:nvSpPr>
        <p:spPr>
          <a:xfrm>
            <a:off x="661680" y="4067280"/>
            <a:ext cx="18918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LEUK.CCRFCE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LEUK.K562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LEUK.MOLT4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LEUK.HL60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LEUK.RPMI82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LEUK.S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8001000" cy="6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other DWD Appl’n: Visualiza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6108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PCA limi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WD uses class inf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ence can “better separate known classe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 this for pairs of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DWD just on those, ignore othe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refully choose pairs in NCI 60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hows Effectiveness of Adjus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CI 60:  Views using DWD Dir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s (focus on biology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WD Visualization of NCI 60 Dat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st cancer types clearly distin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Arial Unicode MS"/>
                <a:ea typeface="Arial Unicode MS"/>
              </a:rPr>
              <a:t>Renal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CN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32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Ova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3200" spc="-1" strike="noStrike">
                <a:solidFill>
                  <a:srgbClr val="00e7e7"/>
                </a:solidFill>
                <a:latin typeface="Arial Unicode MS"/>
                <a:ea typeface="Arial Unicode MS"/>
              </a:rPr>
              <a:t>Leuk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32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Colo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Mela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ing thes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refully chose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re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thers less clear c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16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SCLC   (at least 3 subtyp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16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Breast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(4 published subtyp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WD adjustment wa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ry eff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very few black connectors visibl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WD Views of NCI 60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533520" y="1219320"/>
            <a:ext cx="8001000" cy="53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ing Ques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clusters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ally t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WD great at find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’ns of sepa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ill do so even if no real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happening he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:  which clusters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“important” mea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HDLS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ymptotics – Dual View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830556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se for simple Examp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ra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in dual spa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mension                (easy to visualiz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ies of                appear as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o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henomena to these p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3"/>
              <p:cNvSpPr txBox="1"/>
              <p:nvPr/>
            </p:nvSpPr>
            <p:spPr>
              <a:xfrm>
                <a:off x="3200400" y="1371600"/>
                <a:ext cx="25192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~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0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4"/>
              <p:cNvSpPr txBox="1"/>
              <p:nvPr/>
            </p:nvSpPr>
            <p:spPr>
              <a:xfrm>
                <a:off x="2819520" y="2438280"/>
                <a:ext cx="56242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5"/>
              <p:cNvSpPr txBox="1"/>
              <p:nvPr/>
            </p:nvSpPr>
            <p:spPr>
              <a:xfrm>
                <a:off x="3048120" y="3809880"/>
                <a:ext cx="13716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6"/>
              <p:cNvSpPr txBox="1"/>
              <p:nvPr/>
            </p:nvSpPr>
            <p:spPr>
              <a:xfrm>
                <a:off x="2895480" y="4343400"/>
                <a:ext cx="14749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 </m:t>
                    </m:r>
                    <m:r>
                      <m:t xml:space="preserve">∧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6"/>
              <p:cNvSpPr txBox="1"/>
              <p:nvPr/>
            </p:nvSpPr>
            <p:spPr>
              <a:xfrm>
                <a:off x="2379600" y="5029200"/>
                <a:ext cx="3905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al Clusters in NCI 60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304920" y="1219320"/>
            <a:ext cx="8458200" cy="53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Visual Approac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ly relabel data (Cancer Typ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pute DWD dir’ns &amp; visu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euristic impres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th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eper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Hypothesis Te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one lat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ndom Relabelling #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ndom Relabelling #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53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ndom Relabelling #3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ndom Relabelling #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sit Real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59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sit Real Data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457200" y="1066680"/>
            <a:ext cx="83818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uristic Resul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 Clust’s     Weak Clust’s     Not Clust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Melano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 N 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NSCL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Leukem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vari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re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Re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Col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r:  will find way to quantify these id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develop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atistical signific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46748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eded final verification of Cross-platform Normal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920" y="2057040"/>
            <a:ext cx="8610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 statistical power actually improv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5800" indent="-41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 there benefit to data combo by DW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5800" indent="-41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re data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more pow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5800" indent="-41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ll study later n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34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Straight Connector 4"/>
          <p:cNvSpPr/>
          <p:nvPr/>
        </p:nvSpPr>
        <p:spPr>
          <a:xfrm>
            <a:off x="2590920" y="5867280"/>
            <a:ext cx="91440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Real Clusters in NCI 60 Data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rom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1"/>
              </a:rPr>
              <a:t>Aug. 3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  Simple Visual Approac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ndomly relabel data (Cancer Typ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mpute DWD dir’ns &amp; visual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euristic impres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from th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me types appeared signif’ly differ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thers did n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eper Approac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rmal Hypothesis Tes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50000">
              <a:srgbClr val="ffffff"/>
            </a:gs>
            <a:gs pos="100000">
              <a:srgbClr val="92d05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  <a:ea typeface="Gulim"/>
              </a:rPr>
              <a:t>HDLSS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Gulim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Hypothesis Test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pproach: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ProPerm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on – PROjection – PERMu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de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d an appropriat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r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ve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data into that 1-d sub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struct a 1-d test statis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alyze significance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ermu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HDLS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ymptotics – Dual View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3" name="Picture 3" descr="EgHDLSSviaDual-d1.png"/>
          <p:cNvPicPr/>
          <p:nvPr/>
        </p:nvPicPr>
        <p:blipFill>
          <a:blip r:embed="rId1"/>
          <a:stretch/>
        </p:blipFill>
        <p:spPr>
          <a:xfrm>
            <a:off x="1143000" y="1219320"/>
            <a:ext cx="685800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50000">
              <a:srgbClr val="ffffff"/>
            </a:gs>
            <a:gs pos="100000">
              <a:srgbClr val="92d05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  <a:ea typeface="Gulim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Hypothesis Testing – DiProPerm tes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ProPerm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ex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iven 2 sub-populations,     </a:t>
            </a:r>
            <a:r>
              <a:rPr b="1" lang="en-US" sz="3200" spc="-1" strike="noStrike">
                <a:solidFill>
                  <a:srgbClr val="000000"/>
                </a:solidFill>
                <a:latin typeface="Script MT Bold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&amp;   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e they from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ame distrib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gnificant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differ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  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cript MT Bold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cript MT Bold"/>
              </a:rPr>
              <a:t>Y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s.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  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cript MT Bold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cript MT Bold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50000">
              <a:srgbClr val="ffffff"/>
            </a:gs>
            <a:gs pos="100000">
              <a:srgbClr val="92d05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  <a:ea typeface="Gulim"/>
              </a:rPr>
              <a:t>HDLSS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Gulim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Hypothesis Testing – DiProPerm tes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asonabl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r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vector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an Dif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V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ximal Data Pi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WD (used in the follow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y good discrimination direction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50000">
              <a:srgbClr val="ffffff"/>
            </a:gs>
            <a:gs pos="100000">
              <a:srgbClr val="92d05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  <a:ea typeface="Gulim"/>
              </a:rPr>
              <a:t>HDLSS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Gulim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Hypothesis Testing – DiProPerm tes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asonabl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jec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1-d statistic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wo sample t-test (used her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hi-square test for different vari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olmogorov - Smirno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y good distributional test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50000">
              <a:srgbClr val="ffffff"/>
            </a:gs>
            <a:gs pos="100000">
              <a:srgbClr val="92d05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  <a:ea typeface="Gulim"/>
              </a:rPr>
              <a:t>HDLSS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Gulim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Hypothesis Testing – DiProPerm tes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858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ProPer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Test Step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r original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522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r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ve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522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j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ata, Compute True Test Statis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r (many) random relabellings of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522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r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ve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522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j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ata, Comput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erm’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est St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pa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522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ue Stat amo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pu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f Perm’d Stat’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522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antile gives p-valu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50000">
              <a:srgbClr val="ffffff"/>
            </a:gs>
            <a:gs pos="100000">
              <a:srgbClr val="92d05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  <a:ea typeface="Gulim"/>
              </a:rPr>
              <a:t>HDLSS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Gulim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Hypothesis Testing – DiProPerm tes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80880" y="15238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mark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nerally can’t use standard null dist’n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.g. Student’s t-table, for t-statis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cau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r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j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nstandard contex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.e. violate traditional assump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.g. DWD finds separating dire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iv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pletely inval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s motivat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ermu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50000">
              <a:srgbClr val="ffffff"/>
            </a:gs>
            <a:gs pos="100000">
              <a:srgbClr val="92d05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6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  <a:ea typeface="Gulim"/>
              </a:rPr>
              <a:t>DiProPerm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Gulim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Simple Example 1, Totally Sepa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80520" y="4419360"/>
            <a:ext cx="84582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Clearly Distinct Populations in This Exam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gnore this “Extreme Labelling” for n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Will become important later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Picture 4" descr=""/>
          <p:cNvPicPr/>
          <p:nvPr/>
        </p:nvPicPr>
        <p:blipFill>
          <a:blip r:embed="rId1"/>
          <a:srcRect l="9813" t="5052" r="11598" b="49259"/>
          <a:stretch/>
        </p:blipFill>
        <p:spPr>
          <a:xfrm>
            <a:off x="1295280" y="1295280"/>
            <a:ext cx="6782040" cy="2784600"/>
          </a:xfrm>
          <a:prstGeom prst="rect">
            <a:avLst/>
          </a:prstGeom>
          <a:ln w="0">
            <a:noFill/>
          </a:ln>
        </p:spPr>
      </p:pic>
      <p:sp>
        <p:nvSpPr>
          <p:cNvPr id="282" name="Line 6"/>
          <p:cNvSpPr/>
          <p:nvPr/>
        </p:nvSpPr>
        <p:spPr>
          <a:xfrm flipV="1">
            <a:off x="5105520" y="2971800"/>
            <a:ext cx="12952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50000">
              <a:srgbClr val="ffffff"/>
            </a:gs>
            <a:gs pos="100000">
              <a:srgbClr val="92d05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6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  <a:ea typeface="Gulim"/>
              </a:rPr>
              <a:t>DiProPerm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Gulim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Simple Example 1, Totally Sepa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rcRect l="9813" t="5052" r="11598" b="3789"/>
          <a:stretch/>
        </p:blipFill>
        <p:spPr>
          <a:xfrm>
            <a:off x="1295280" y="1295280"/>
            <a:ext cx="67820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50000">
              <a:srgbClr val="ffffff"/>
            </a:gs>
            <a:gs pos="100000">
              <a:srgbClr val="92d05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  <a:ea typeface="Gulim"/>
              </a:rPr>
              <a:t>DiProPerm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Gulim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Simple Example 1, Totally Sepa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86" name="Picture 3" descr=""/>
          <p:cNvPicPr/>
          <p:nvPr/>
        </p:nvPicPr>
        <p:blipFill>
          <a:blip r:embed="rId1"/>
          <a:srcRect l="9813" t="5052" r="11598" b="3789"/>
          <a:stretch/>
        </p:blipFill>
        <p:spPr>
          <a:xfrm>
            <a:off x="1295280" y="1295280"/>
            <a:ext cx="67820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50000">
              <a:srgbClr val="ffffff"/>
            </a:gs>
            <a:gs pos="100000">
              <a:srgbClr val="92d05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6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  <a:ea typeface="Gulim"/>
              </a:rPr>
              <a:t>DiProPer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Simple Example 1, Totally Sepa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rcRect l="9813" t="5052" r="11598" b="3789"/>
          <a:stretch/>
        </p:blipFill>
        <p:spPr>
          <a:xfrm>
            <a:off x="1295280" y="1295280"/>
            <a:ext cx="67820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50000">
              <a:srgbClr val="ffffff"/>
            </a:gs>
            <a:gs pos="100000">
              <a:srgbClr val="92d05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  <a:ea typeface="Gulim"/>
              </a:rPr>
              <a:t>DiProPerm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Gulim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Simple Example 1, Totally Sepa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90" name="Picture 3" descr=""/>
          <p:cNvPicPr/>
          <p:nvPr/>
        </p:nvPicPr>
        <p:blipFill>
          <a:blip r:embed="rId1"/>
          <a:srcRect l="9813" t="5052" r="11598" b="3789"/>
          <a:stretch/>
        </p:blipFill>
        <p:spPr>
          <a:xfrm>
            <a:off x="1295280" y="1295280"/>
            <a:ext cx="67820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HDLS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ymptotics – Dual View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5" name="Picture 3" descr="EgHDLSSviaDual-d1.png"/>
          <p:cNvPicPr/>
          <p:nvPr/>
        </p:nvPicPr>
        <p:blipFill>
          <a:blip r:embed="rId1"/>
          <a:stretch/>
        </p:blipFill>
        <p:spPr>
          <a:xfrm>
            <a:off x="1143000" y="1219320"/>
            <a:ext cx="685800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50000">
              <a:srgbClr val="ffffff"/>
            </a:gs>
            <a:gs pos="100000">
              <a:srgbClr val="92d05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  <a:ea typeface="Gulim"/>
              </a:rPr>
              <a:t>DiProPer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Simple Example 1, Totally Sepa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2590920" y="1828800"/>
            <a:ext cx="4572000" cy="28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 this 1,000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50000">
              <a:srgbClr val="ffffff"/>
            </a:gs>
            <a:gs pos="100000">
              <a:srgbClr val="92d05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  <a:ea typeface="Gulim"/>
              </a:rPr>
              <a:t>DiProPerm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Gulim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Simple Example 1, Totally Sepa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94" name="Picture 3" descr=""/>
          <p:cNvPicPr/>
          <p:nvPr/>
        </p:nvPicPr>
        <p:blipFill>
          <a:blip r:embed="rId1"/>
          <a:srcRect l="9813" t="5052" r="11598" b="3789"/>
          <a:stretch/>
        </p:blipFill>
        <p:spPr>
          <a:xfrm>
            <a:off x="1295280" y="1295280"/>
            <a:ext cx="67820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50000">
              <a:srgbClr val="ffffff"/>
            </a:gs>
            <a:gs pos="100000">
              <a:srgbClr val="92d05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6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  <a:ea typeface="Gulim"/>
              </a:rPr>
              <a:t>DiProPer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Simple Example 1, Totally Sepa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Resul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Random relabelling giv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mu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smaller 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Quantiles (over 1000 sim’s) give p-val of  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.e. Strongly conclus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Conclud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ub-populations are differ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50000">
              <a:srgbClr val="ffffff"/>
            </a:gs>
            <a:gs pos="100000">
              <a:srgbClr val="92d05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6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  <a:ea typeface="Gulim"/>
              </a:rPr>
              <a:t>DiProPerm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Gulim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Simple Example 2, No Differe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80520" y="3962520"/>
            <a:ext cx="84582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Indistinct subpopulations in this Exam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Again ignore “Extreme Labelling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(will study la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Explore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  <a:ea typeface="Gulim"/>
              </a:rPr>
              <a:t>DiProPer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Gulim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Picture 4" descr=""/>
          <p:cNvPicPr/>
          <p:nvPr/>
        </p:nvPicPr>
        <p:blipFill>
          <a:blip r:embed="rId1"/>
          <a:srcRect l="9813" t="5052" r="11598" b="49259"/>
          <a:stretch/>
        </p:blipFill>
        <p:spPr>
          <a:xfrm>
            <a:off x="1295280" y="1295280"/>
            <a:ext cx="6782040" cy="2784600"/>
          </a:xfrm>
          <a:prstGeom prst="rect">
            <a:avLst/>
          </a:prstGeom>
          <a:ln w="0">
            <a:noFill/>
          </a:ln>
        </p:spPr>
      </p:pic>
      <p:sp>
        <p:nvSpPr>
          <p:cNvPr id="300" name="Line 5"/>
          <p:cNvSpPr/>
          <p:nvPr/>
        </p:nvSpPr>
        <p:spPr>
          <a:xfrm flipV="1">
            <a:off x="5334120" y="2971440"/>
            <a:ext cx="106668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50000">
              <a:srgbClr val="ffffff"/>
            </a:gs>
            <a:gs pos="100000">
              <a:srgbClr val="92d05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  <a:ea typeface="Gulim"/>
              </a:rPr>
              <a:t>DiProPer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 Simple Example 2, No Differe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02" name="Picture 3" descr=""/>
          <p:cNvPicPr/>
          <p:nvPr/>
        </p:nvPicPr>
        <p:blipFill>
          <a:blip r:embed="rId1"/>
          <a:srcRect l="9813" t="5052" r="11598" b="3789"/>
          <a:stretch/>
        </p:blipFill>
        <p:spPr>
          <a:xfrm>
            <a:off x="1295280" y="1295280"/>
            <a:ext cx="67820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50000">
              <a:srgbClr val="ffffff"/>
            </a:gs>
            <a:gs pos="100000">
              <a:srgbClr val="92d05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  <a:ea typeface="Gulim"/>
              </a:rPr>
              <a:t>DiProPerm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Gulim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Simple Example 2, No Differe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04" name="Picture 3" descr=""/>
          <p:cNvPicPr/>
          <p:nvPr/>
        </p:nvPicPr>
        <p:blipFill>
          <a:blip r:embed="rId1"/>
          <a:srcRect l="9813" t="5052" r="11598" b="3789"/>
          <a:stretch/>
        </p:blipFill>
        <p:spPr>
          <a:xfrm>
            <a:off x="1295280" y="1295280"/>
            <a:ext cx="67820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50000">
              <a:srgbClr val="ffffff"/>
            </a:gs>
            <a:gs pos="100000">
              <a:srgbClr val="92d05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  <a:ea typeface="Gulim"/>
              </a:rPr>
              <a:t>DiProPerm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Gulim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Simple Example 2, No Differe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06" name="Picture 3" descr=""/>
          <p:cNvPicPr/>
          <p:nvPr/>
        </p:nvPicPr>
        <p:blipFill>
          <a:blip r:embed="rId1"/>
          <a:srcRect l="9813" t="5052" r="11598" b="3789"/>
          <a:stretch/>
        </p:blipFill>
        <p:spPr>
          <a:xfrm>
            <a:off x="1295280" y="1295280"/>
            <a:ext cx="67820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50000">
              <a:srgbClr val="ffffff"/>
            </a:gs>
            <a:gs pos="100000">
              <a:srgbClr val="92d05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  <a:ea typeface="Gulim"/>
              </a:rPr>
              <a:t>DiProPerm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Gulim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Simple Example 2, No Differe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08" name="Picture 3" descr=""/>
          <p:cNvPicPr/>
          <p:nvPr/>
        </p:nvPicPr>
        <p:blipFill>
          <a:blip r:embed="rId1"/>
          <a:srcRect l="9813" t="5052" r="11598" b="3789"/>
          <a:stretch/>
        </p:blipFill>
        <p:spPr>
          <a:xfrm>
            <a:off x="1295280" y="1295280"/>
            <a:ext cx="67820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50000">
              <a:srgbClr val="ffffff"/>
            </a:gs>
            <a:gs pos="100000">
              <a:srgbClr val="92d05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  <a:ea typeface="Gulim"/>
              </a:rPr>
              <a:t>DiProPerm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Gulim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Simple Example 2, No Differe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rcRect l="9813" t="5052" r="11598" b="3789"/>
          <a:stretch/>
        </p:blipFill>
        <p:spPr>
          <a:xfrm>
            <a:off x="1295280" y="1295280"/>
            <a:ext cx="67820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50000">
              <a:srgbClr val="ffffff"/>
            </a:gs>
            <a:gs pos="100000">
              <a:srgbClr val="92d05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  <a:ea typeface="Gulim"/>
              </a:rPr>
              <a:t>DiProPerm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Gulim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Simple Example 2, No Differe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Resul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Random relabelling gives similar T-sta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o ordinar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Gulim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Gulim"/>
              </a:rPr>
              <a:t>T-st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ot signific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strong evidence that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ub-populations are differ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HDLS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ymptotics – Dual View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7" name="Picture 3" descr="EgHDLSSviaDual-d1.png"/>
          <p:cNvPicPr/>
          <p:nvPr/>
        </p:nvPicPr>
        <p:blipFill>
          <a:blip r:embed="rId1"/>
          <a:stretch/>
        </p:blipFill>
        <p:spPr>
          <a:xfrm>
            <a:off x="1143000" y="1219320"/>
            <a:ext cx="685800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46748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eded final verification of Cross-platform Normal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2057040"/>
            <a:ext cx="8610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 statistical power actually improv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5800" indent="-41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 there benefit to data combo by DW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5800" indent="-41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re data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more pow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5800" indent="-41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ll study later n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34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Straight Connector 4"/>
          <p:cNvSpPr/>
          <p:nvPr/>
        </p:nvSpPr>
        <p:spPr>
          <a:xfrm>
            <a:off x="2590920" y="5867280"/>
            <a:ext cx="91440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46748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eded final verification of Cross-platform Normal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each cancer type, study each of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bined Data (data top left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DNA Only Data (data top center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ffy Only Data (data bottom center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est result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bined Data (DiProPerm top right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ffy only (DiProPerm bottom right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 cDNA (since clearly worse T-stat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6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Improved Statistical Power  -  NCI 60 Melanoma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19" name="Picture 3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8594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Improved Statistical Power  -  NCI 60 Leukemia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tretch/>
        </p:blipFill>
        <p:spPr>
          <a:xfrm>
            <a:off x="1219320" y="1444680"/>
            <a:ext cx="684036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Improved Statistical Power  -  NCI 60 NSCL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23" name="Picture 3" descr=""/>
          <p:cNvPicPr/>
          <p:nvPr/>
        </p:nvPicPr>
        <p:blipFill>
          <a:blip r:embed="rId1"/>
          <a:stretch/>
        </p:blipFill>
        <p:spPr>
          <a:xfrm>
            <a:off x="1216080" y="1444680"/>
            <a:ext cx="684036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Improved Statistical Power  -  NCI 60 Ren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25" name="Picture 3" descr=""/>
          <p:cNvPicPr/>
          <p:nvPr/>
        </p:nvPicPr>
        <p:blipFill>
          <a:blip r:embed="rId1"/>
          <a:stretch/>
        </p:blipFill>
        <p:spPr>
          <a:xfrm>
            <a:off x="1216080" y="1444680"/>
            <a:ext cx="684036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Improved Statistical Power  -  NCI 60 C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27" name="Picture 3" descr=""/>
          <p:cNvPicPr/>
          <p:nvPr/>
        </p:nvPicPr>
        <p:blipFill>
          <a:blip r:embed="rId1"/>
          <a:stretch/>
        </p:blipFill>
        <p:spPr>
          <a:xfrm>
            <a:off x="1216080" y="1444680"/>
            <a:ext cx="684036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Improved Statistical Power  -  NCI 60 Ovaria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29" name="Picture 3" descr=""/>
          <p:cNvPicPr/>
          <p:nvPr/>
        </p:nvPicPr>
        <p:blipFill>
          <a:blip r:embed="rId1"/>
          <a:stretch/>
        </p:blipFill>
        <p:spPr>
          <a:xfrm>
            <a:off x="1216080" y="1444680"/>
            <a:ext cx="684036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Improved Statistical Power  -  NCI 60 Col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31" name="Picture 3" descr=""/>
          <p:cNvPicPr/>
          <p:nvPr/>
        </p:nvPicPr>
        <p:blipFill>
          <a:blip r:embed="rId1"/>
          <a:stretch/>
        </p:blipFill>
        <p:spPr>
          <a:xfrm>
            <a:off x="1216080" y="1444680"/>
            <a:ext cx="684036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Improved Statistical Power  -  NCI 60 Breas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33" name="Picture 3" descr=""/>
          <p:cNvPicPr/>
          <p:nvPr/>
        </p:nvPicPr>
        <p:blipFill>
          <a:blip r:embed="rId1"/>
          <a:stretch/>
        </p:blipFill>
        <p:spPr>
          <a:xfrm>
            <a:off x="1216080" y="1444680"/>
            <a:ext cx="684036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HDLS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ymptotics – Dual View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9" name="Picture 3" descr="EgHDLSSviaDual-d1.png"/>
          <p:cNvPicPr/>
          <p:nvPr/>
        </p:nvPicPr>
        <p:blipFill>
          <a:blip r:embed="rId1"/>
          <a:stretch/>
        </p:blipFill>
        <p:spPr>
          <a:xfrm>
            <a:off x="1143000" y="1219320"/>
            <a:ext cx="685800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Gulim"/>
              </a:rPr>
              <a:t>Improved Statistical Power  -  Summa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380880" y="1752480"/>
          <a:ext cx="8229600" cy="4927680"/>
        </p:xfrm>
        <a:graphic>
          <a:graphicData uri="http://schemas.openxmlformats.org/drawingml/2006/table">
            <a:tbl>
              <a:tblPr/>
              <a:tblGrid>
                <a:gridCol w="1879560"/>
                <a:gridCol w="1268640"/>
                <a:gridCol w="996840"/>
                <a:gridCol w="1143000"/>
                <a:gridCol w="1393920"/>
                <a:gridCol w="1547640"/>
              </a:tblGrid>
              <a:tr h="519120">
                <a:tc>
                  <a:txBody>
                    <a:bodyPr lIns="90360" rIns="903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y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cDNA -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Affy -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omb -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Affy-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omb-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720">
                <a:tc>
                  <a:txBody>
                    <a:bodyPr lIns="90360" rIns="903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lano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36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39.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51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e-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360" rIns="903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ukem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18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3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27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0.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0.00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360" rIns="903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SCL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17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00ff"/>
                          </a:solidFill>
                          <a:uFillTx/>
                          <a:latin typeface="Tahoma"/>
                        </a:rPr>
                        <a:t>25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3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0.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0.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360" rIns="903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n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15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22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0.5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0.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360" rIns="903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13.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18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8.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0.6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0.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360" rIns="903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vari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11.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00ff"/>
                          </a:solidFill>
                          <a:uFillTx/>
                          <a:latin typeface="Tahoma"/>
                        </a:rPr>
                        <a:t>20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7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ff"/>
                          </a:solidFill>
                          <a:uFillTx/>
                          <a:latin typeface="Tahoma"/>
                        </a:rPr>
                        <a:t>0.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.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360" rIns="903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l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10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00ff"/>
                          </a:solidFill>
                          <a:uFillTx/>
                          <a:latin typeface="Tahoma"/>
                        </a:rPr>
                        <a:t>17.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6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0.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0.5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360" rIns="903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rea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13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19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9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0.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0.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46748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eded final verification of Cross-platform Normal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mmary of Resul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-stati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16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DNA T-stats always substantially smal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16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 never so powerful as Aff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16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clude Affy gives stronger resul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16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Combined is not compar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16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ecause based on different sample siz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16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ed p-value to put on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me sc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46748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eded final verification of Cross-platform Normal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mmary of Resul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-val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3988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bined Results Better for 7 out of 8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3988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bined signficant, Affy not, in 3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39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Lukemia, NSCLC, Ren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3988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hows combining platforms often worthw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39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because more data gives more pow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parison with previous heuristic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visit Real Data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457200" y="1066680"/>
            <a:ext cx="838188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 Heuristic Results (from rand re-ord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 Clust’s     Weak Clust’s     Not Clust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Melano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 N 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NSCL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Leukem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vari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re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Re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Col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ally Sign’t (as expect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Sign’t (as expect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prising result   (not consistent with vis’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2" name="Straight Arrow Connector 4"/>
          <p:cNvCxnSpPr/>
          <p:nvPr/>
        </p:nvCxnSpPr>
        <p:spPr>
          <a:xfrm flipH="1" flipV="1">
            <a:off x="1142280" y="2971440"/>
            <a:ext cx="305640" cy="1905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3" name="Straight Arrow Connector 5"/>
          <p:cNvCxnSpPr/>
          <p:nvPr/>
        </p:nvCxnSpPr>
        <p:spPr>
          <a:xfrm flipV="1">
            <a:off x="1445040" y="3734640"/>
            <a:ext cx="3960" cy="1143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4" name="Straight Arrow Connector 6"/>
          <p:cNvCxnSpPr/>
          <p:nvPr/>
        </p:nvCxnSpPr>
        <p:spPr>
          <a:xfrm flipV="1">
            <a:off x="1446120" y="4419360"/>
            <a:ext cx="78480" cy="383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5" name="Straight Arrow Connector 7"/>
          <p:cNvCxnSpPr/>
          <p:nvPr/>
        </p:nvCxnSpPr>
        <p:spPr>
          <a:xfrm flipV="1">
            <a:off x="1981080" y="3047400"/>
            <a:ext cx="2286720" cy="251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6" name="Straight Arrow Connector 14"/>
          <p:cNvCxnSpPr/>
          <p:nvPr/>
        </p:nvCxnSpPr>
        <p:spPr>
          <a:xfrm flipV="1">
            <a:off x="1980720" y="3657240"/>
            <a:ext cx="2210760" cy="1905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7" name="Straight Arrow Connector 15"/>
          <p:cNvCxnSpPr/>
          <p:nvPr/>
        </p:nvCxnSpPr>
        <p:spPr>
          <a:xfrm flipV="1">
            <a:off x="1981080" y="4342680"/>
            <a:ext cx="2286720" cy="1220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8" name="Straight Arrow Connector 21"/>
          <p:cNvCxnSpPr/>
          <p:nvPr/>
        </p:nvCxnSpPr>
        <p:spPr>
          <a:xfrm flipV="1">
            <a:off x="1981080" y="3657240"/>
            <a:ext cx="5029920" cy="1905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9" name="Straight Arrow Connector 24"/>
          <p:cNvCxnSpPr/>
          <p:nvPr/>
        </p:nvCxnSpPr>
        <p:spPr>
          <a:xfrm flipV="1">
            <a:off x="3581280" y="3047400"/>
            <a:ext cx="3277440" cy="3429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46748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eded final verification of Cross-platform Normal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xt tim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ut sample sizes after each in previous slide (and maybe in table of results) to show how that impacts resul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16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e this gives good explanation, as shown in next class meeting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plore with more views, why NSCLC is significant, but Breast is not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HDLS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ymptotics – Dual View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1" name="Picture 3" descr="EgHDLSSviaDual-d1.png"/>
          <p:cNvPicPr/>
          <p:nvPr/>
        </p:nvPicPr>
        <p:blipFill>
          <a:blip r:embed="rId1"/>
          <a:stretch/>
        </p:blipFill>
        <p:spPr>
          <a:xfrm>
            <a:off x="1143000" y="1219320"/>
            <a:ext cx="685800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HDLS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ymptotics – Dual View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3" name="Picture 3" descr="EgHDLSSviaDual-d1.png"/>
          <p:cNvPicPr/>
          <p:nvPr/>
        </p:nvPicPr>
        <p:blipFill>
          <a:blip r:embed="rId1"/>
          <a:stretch/>
        </p:blipFill>
        <p:spPr>
          <a:xfrm>
            <a:off x="1143000" y="1219320"/>
            <a:ext cx="685800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1:38:43Z</dcterms:created>
  <dc:creator>Preferred Customer</dc:creator>
  <dc:description/>
  <dc:language>en-US</dc:language>
  <cp:lastModifiedBy>marron</cp:lastModifiedBy>
  <dcterms:modified xsi:type="dcterms:W3CDTF">2007-11-06T01:21:44Z</dcterms:modified>
  <cp:revision>1217</cp:revision>
  <dc:subject/>
  <dc:title>Title</dc:title>
</cp:coreProperties>
</file>