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F49-5A82-499B-B49B-A0F03438A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B3C-FE25-41F1-A61A-95C4C962E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BD04-DD30-4635-9379-10EC9D98D4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582-4B13-4825-BE8F-6B56CFACA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C0B5-981A-4232-B90E-8F125CCF9B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B1B-5806-4EA0-A08E-BDEFB44D7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1FCC-D83C-42A9-9080-E2BE67603C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284-5A93-46A3-8608-A7695C592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EE2B-25F6-4168-B16A-269DB6357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0CDC-792A-40C8-95A0-1D21B4E693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A14C-292F-48FC-B6BA-E23D2F9ED8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E63-3EBD-49C9-A69E-87A6E031C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F3A-EEED-4B3C-B85D-6700915C53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B8F-1C8B-4570-AAF8-AB82E0EBFC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E74-44CA-48EF-9983-12AAA9D12E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674-6A32-4E5C-92E8-1424DCAAD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406-B5F9-443F-80E3-14E2122D2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9B5-54B4-458C-92CB-C1BCE7D576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1B74-4FD9-47DF-8B19-3E7C1FE5A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C61-EC9F-49B6-8D42-C3B1771F5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ECAA-EF5F-4726-B1A0-478544D73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D20-78A1-4358-BD7B-A655C9637A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321-18EB-478A-8CCC-5176EC8F81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AE7F-CE82-4F70-AE33-0FCC5378F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2EA-CE32-4E88-9354-95DA3ECFEF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7DBC-08B9-4611-967C-5EBAE93EA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632-EFCF-4EAE-B1A2-E7F00942A7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1F1-522D-4FE8-8B16-7E7510771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92E-D3F2-476C-BC4D-7F97C2F69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54BC-D422-4863-BE19-762E1D4E69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E04-DAD1-4D3E-BC49-8E0DFD4D6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C02-48A0-466C-BCBF-3688F481ED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CB4-6BE7-4382-A7D2-154CA53C18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6D5C-2956-47AF-A665-F5222DEBB8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FC35-258B-4DBB-BBDB-F41C79C934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A65F-E0CA-4620-BDB5-FC1C2B1DCD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7DC-0751-4F9E-BB17-9A088DCCD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A7CC-6BD2-467E-89E9-91738DA8D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577D-9F19-461F-A4B9-511B3FE35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A55-570C-4449-9ECA-4C19D8D22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CCAF-0F04-4809-A086-18FCCF576B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5C8-3CCD-42BB-ABD9-26B34ADF8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2F6-C7F2-40D9-9C3F-211ABF582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E4E-5796-4DDD-ACA8-3E5F26A3BC8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CFF2-8DDA-4BC8-BA7C-21E9CEC210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CE4-DAEE-4076-8A10-C1670D5BC2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C46-4091-4E55-A864-4A007FBE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599-7DFC-4E3A-A5FF-89D2695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F32-2152-48B5-A51B-DDBA2663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24A-BA8B-44E5-B317-9AFCEDD6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17D-E06B-4DD9-80D2-F7211868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98C6-C353-4853-B4D1-A7E700B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282-FA1F-4957-9DDB-DABABC2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3D03-52C0-4FF6-9269-08E72BD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171-9A8C-4CD5-A5C9-D0BC01D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AE71-53BC-4241-BB00-D37FF0D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01C-155B-4D07-9D18-78F7D862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22D-78D2-465C-AC77-726B0980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29B-A79C-4CF1-A731-6A64AE3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C74-A9CC-4135-9B39-D2ED97A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FB90-42C0-430D-9798-CEF43DAC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8EB-1C03-4CB2-8198-3F71E9E6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97C-C6BA-4AE0-8143-6EEA71E1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9546-0862-4CD0-B4BE-12733F4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223C-BF50-4E59-8E73-AD9E76FF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CFA2-4BA9-48EE-AF8E-60DBB8A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A9C0-DEE8-4BDB-8DD4-1729FBC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3BF2-B283-4234-A08A-34D7EF8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D58-9BC6-4A78-8AFB-9CD8860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1743-BF92-4EB8-B9BE-486EAD8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149A-C876-4F5D-B9F3-66A7A28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36FD-E0F4-40A1-8813-01DE50E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A89C-47C3-4D04-A435-FB63772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F18B-4512-4F8D-8C62-B5BCFFE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A8FC-512C-4254-BDFC-0DE1E31D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5311-40FF-4442-986B-2E7507C8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639-C5BD-4C95-99E7-E4F1EFF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F6A-4B92-4857-A682-2DB2466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25A-2926-4216-96E5-955186D2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3D8-9111-4968-BAEC-7E2F139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DE2-C005-49FD-BF32-96462E6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77D-CAF4-4F39-93DA-309F054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24D2-264C-4982-9AAC-93BDC2F2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42A-4F26-43DC-AC82-1F46C4B86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8F4-FD8C-4830-8F09-3B0189906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10-25-07.pp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8-28-07.ppt" TargetMode="External"/><Relationship Id="rId2" Type="http://schemas.openxmlformats.org/officeDocument/2006/relationships/hyperlink" Target="http://www.stat-or.unc.edu/webspace/courses/marron/UNCstor891OODA-2007/8-28-07.ppt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8-30-07.ppt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sympt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ied from Dual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– found (DWD) directions that showed clusters of cancer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vestigated with 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ypothesis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-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Results Better for 7 out of 8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signficant, Affy not, in 3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ukemia, NSCLC, Re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combining platforms often worth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ecause more data gives more pow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with previous heuristic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57200" y="1066680"/>
            <a:ext cx="8381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Heuristic Results (from rand re-or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ly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result   (not consistent with vis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Straight Arrow Connector 4"/>
          <p:cNvCxnSpPr/>
          <p:nvPr/>
        </p:nvCxnSpPr>
        <p:spPr>
          <a:xfrm flipH="1" flipV="1">
            <a:off x="1142280" y="2971440"/>
            <a:ext cx="30564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Straight Arrow Connector 5"/>
          <p:cNvCxnSpPr/>
          <p:nvPr/>
        </p:nvCxnSpPr>
        <p:spPr>
          <a:xfrm flipV="1">
            <a:off x="1445040" y="3734640"/>
            <a:ext cx="396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Straight Arrow Connector 6"/>
          <p:cNvCxnSpPr/>
          <p:nvPr/>
        </p:nvCxnSpPr>
        <p:spPr>
          <a:xfrm flipV="1">
            <a:off x="1446120" y="4419360"/>
            <a:ext cx="78480" cy="38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4" name="Straight Arrow Connector 7"/>
          <p:cNvCxnSpPr/>
          <p:nvPr/>
        </p:nvCxnSpPr>
        <p:spPr>
          <a:xfrm flipV="1">
            <a:off x="1981080" y="3047400"/>
            <a:ext cx="2286720" cy="251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Straight Arrow Connector 14"/>
          <p:cNvCxnSpPr/>
          <p:nvPr/>
        </p:nvCxnSpPr>
        <p:spPr>
          <a:xfrm flipV="1">
            <a:off x="1980720" y="3657240"/>
            <a:ext cx="22107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Straight Arrow Connector 15"/>
          <p:cNvCxnSpPr/>
          <p:nvPr/>
        </p:nvCxnSpPr>
        <p:spPr>
          <a:xfrm flipV="1">
            <a:off x="1981080" y="4342680"/>
            <a:ext cx="228672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Straight Arrow Connector 21"/>
          <p:cNvCxnSpPr/>
          <p:nvPr/>
        </p:nvCxnSpPr>
        <p:spPr>
          <a:xfrm flipV="1">
            <a:off x="1981080" y="365724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24"/>
          <p:cNvCxnSpPr/>
          <p:nvPr/>
        </p:nvCxnSpPr>
        <p:spPr>
          <a:xfrm flipV="1">
            <a:off x="3581280" y="3047400"/>
            <a:ext cx="3277440" cy="34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57200" y="106668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gkyu Jung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ose results driven by sampl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mple size to above tabl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57200" y="1066680"/>
            <a:ext cx="8381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Heuristic Results (from rand re-or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 - 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 –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NSCLC -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 -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 -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 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 -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 -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ly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result   (not consistent with vis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Straight Arrow Connector 4"/>
          <p:cNvCxnSpPr/>
          <p:nvPr/>
        </p:nvCxnSpPr>
        <p:spPr>
          <a:xfrm flipH="1" flipV="1">
            <a:off x="1142280" y="2971440"/>
            <a:ext cx="30564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Straight Arrow Connector 5"/>
          <p:cNvCxnSpPr/>
          <p:nvPr/>
        </p:nvCxnSpPr>
        <p:spPr>
          <a:xfrm flipV="1">
            <a:off x="1445040" y="3734640"/>
            <a:ext cx="396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Straight Arrow Connector 6"/>
          <p:cNvCxnSpPr/>
          <p:nvPr/>
        </p:nvCxnSpPr>
        <p:spPr>
          <a:xfrm flipV="1">
            <a:off x="1446120" y="4419360"/>
            <a:ext cx="78480" cy="38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Straight Arrow Connector 7"/>
          <p:cNvCxnSpPr/>
          <p:nvPr/>
        </p:nvCxnSpPr>
        <p:spPr>
          <a:xfrm flipV="1">
            <a:off x="1981080" y="3047400"/>
            <a:ext cx="2286720" cy="251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/>
          <p:nvPr/>
        </p:nvCxnSpPr>
        <p:spPr>
          <a:xfrm flipV="1">
            <a:off x="1980720" y="3657240"/>
            <a:ext cx="22107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Straight Arrow Connector 15"/>
          <p:cNvCxnSpPr/>
          <p:nvPr/>
        </p:nvCxnSpPr>
        <p:spPr>
          <a:xfrm flipV="1">
            <a:off x="1981080" y="4342680"/>
            <a:ext cx="228672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1"/>
          <p:cNvCxnSpPr/>
          <p:nvPr/>
        </p:nvCxnSpPr>
        <p:spPr>
          <a:xfrm flipV="1">
            <a:off x="1981080" y="365724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24"/>
          <p:cNvCxnSpPr/>
          <p:nvPr/>
        </p:nvCxnSpPr>
        <p:spPr>
          <a:xfrm flipV="1">
            <a:off x="3581280" y="3047400"/>
            <a:ext cx="3277440" cy="34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57200" y="1066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gkyu Jung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ose results driven by sampl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mple size to above tabl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:  Surprising result perhaps indeed due to larger 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iculate Matt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ulting Class Project,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ndsay Whicher, Penn Watkinson, 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is by:       Chihoon 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sure Heart Rate of R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time (several d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 with Particulate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e differences between treat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ly signific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8" name="Picture 2" descr="1633_Figure 1"/>
          <p:cNvPicPr/>
          <p:nvPr/>
        </p:nvPicPr>
        <p:blipFill>
          <a:blip r:embed="rId1"/>
          <a:stretch/>
        </p:blipFill>
        <p:spPr>
          <a:xfrm>
            <a:off x="609480" y="1143000"/>
            <a:ext cx="809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s on curve view of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ear day – night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arent changes after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er effect for higher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ect diminish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ly significant differen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es “signal” compare to “nois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ternate view of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curve is a “data poi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distribution of these “poi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 replicates as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indicate “signal” vs. “noise”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Idea from Travis Gay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from viewpoint of du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Aug. 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f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o orig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wise  Dista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 from orig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5562720" y="2209680"/>
                <a:ext cx="2517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76920" y="2819520"/>
                <a:ext cx="3886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5"/>
              <p:cNvSpPr txBox="1"/>
              <p:nvPr/>
            </p:nvSpPr>
            <p:spPr>
              <a:xfrm>
                <a:off x="3400560" y="4267080"/>
                <a:ext cx="5743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2666880" y="5821200"/>
                <a:ext cx="63374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den>
                            </m:f>
                          </m:e>
                        </m:nary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4" name="Picture 2" descr="1633_Figure 3"/>
          <p:cNvPicPr/>
          <p:nvPr/>
        </p:nvPicPr>
        <p:blipFill>
          <a:blip r:embed="rId1"/>
          <a:stretch/>
        </p:blipFill>
        <p:spPr>
          <a:xfrm>
            <a:off x="609480" y="1371600"/>
            <a:ext cx="788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s on PCA &amp; DWD dir’n scatterplo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se effect looks strong (PC2 dir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stematic Pattern of col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dered by d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ggests important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stically significant differen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es “signal” compare to “nois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by DiProPerm t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ok for differences over 48 hou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un DiProP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Control vs. High Do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difference over long time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0" name="Picture 2" descr="1633_Figure 5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-value = 0.0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quit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ise” just overtakes “sign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haps Interval of 48 hours is too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try smaller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y 0,    9 AM – 3 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Results:  Day 0,    9 AM – 3 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90720" y="2133720"/>
          <a:ext cx="7238880" cy="51210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2171880"/>
                          <a:tab algn="l" pos="2629080"/>
                          <a:tab algn="l" pos="3086280"/>
                          <a:tab algn="l" pos="3543480"/>
                          <a:tab algn="l" pos="4000680"/>
                          <a:tab algn="l" pos="4457880"/>
                          <a:tab algn="l" pos="4915080"/>
                          <a:tab algn="l" pos="5372280"/>
                          <a:tab algn="l" pos="5829480"/>
                          <a:tab algn="l" pos="6286680"/>
                          <a:tab algn="l" pos="6743880"/>
                          <a:tab algn="l" pos="7201080"/>
                          <a:tab algn="l" pos="7658280"/>
                          <a:tab algn="l" pos="8115480"/>
                          <a:tab algn="l" pos="8572680"/>
                          <a:tab algn="l" pos="9029880"/>
                          <a:tab algn="l" pos="9487080"/>
                          <a:tab algn="l" pos="9944280"/>
                          <a:tab algn="l" pos="10401480"/>
                          <a:tab algn="l" pos="10858680"/>
                          <a:tab algn="l" pos="11315880"/>
                          <a:tab algn="l" pos="117730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Group Compari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2171880"/>
                          <a:tab algn="l" pos="2629080"/>
                          <a:tab algn="l" pos="3086280"/>
                          <a:tab algn="l" pos="3543480"/>
                          <a:tab algn="l" pos="4000680"/>
                          <a:tab algn="l" pos="4457880"/>
                          <a:tab algn="l" pos="4915080"/>
                          <a:tab algn="l" pos="5372280"/>
                          <a:tab algn="l" pos="5829480"/>
                          <a:tab algn="l" pos="6286680"/>
                          <a:tab algn="l" pos="6743880"/>
                          <a:tab algn="l" pos="7201080"/>
                          <a:tab algn="l" pos="7658280"/>
                          <a:tab algn="l" pos="8115480"/>
                          <a:tab algn="l" pos="8572680"/>
                          <a:tab algn="l" pos="9029880"/>
                          <a:tab algn="l" pos="9487080"/>
                          <a:tab algn="l" pos="9944280"/>
                          <a:tab algn="l" pos="10401480"/>
                          <a:tab algn="l" pos="10858680"/>
                          <a:tab algn="l" pos="11315880"/>
                          <a:tab algn="l" pos="1177308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va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ontrol vs. Hig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ontrol vs. Mi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ontrol vs. Lo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vs. 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vs. M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31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id vs. Hig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Results:   Day 0,    9 AM – 3 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ults consistent with data cur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vs. H strongly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vs. M  &amp;  L vs. H significantly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s not quite signific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more, related, results, 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chers, Lee, et al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40"/>
            </a:gs>
            <a:gs pos="50000">
              <a:srgbClr val="ffffff"/>
            </a:gs>
            <a:gs pos="100000">
              <a:srgbClr val="ff88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DiProPerm – Particulate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9" name="Picture 2" descr="1633_Figure 1"/>
          <p:cNvPicPr/>
          <p:nvPr/>
        </p:nvPicPr>
        <p:blipFill>
          <a:blip r:embed="rId1"/>
          <a:stretch/>
        </p:blipFill>
        <p:spPr>
          <a:xfrm>
            <a:off x="609480" y="1143000"/>
            <a:ext cx="809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uck Perou’s 500 Breast Canc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d on data Merging (using DW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o,   # = 1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p,   # =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                                               # = 5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,   # = 2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7,     # = 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Straight Connector 4"/>
          <p:cNvSpPr/>
          <p:nvPr/>
        </p:nvSpPr>
        <p:spPr>
          <a:xfrm>
            <a:off x="3886200" y="3733920"/>
            <a:ext cx="9907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traight Connector 5"/>
          <p:cNvSpPr/>
          <p:nvPr/>
        </p:nvSpPr>
        <p:spPr>
          <a:xfrm flipV="1">
            <a:off x="3809880" y="3962160"/>
            <a:ext cx="10670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6"/>
          <p:cNvSpPr/>
          <p:nvPr/>
        </p:nvSpPr>
        <p:spPr>
          <a:xfrm>
            <a:off x="4876920" y="3962520"/>
            <a:ext cx="21333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7"/>
          <p:cNvSpPr/>
          <p:nvPr/>
        </p:nvSpPr>
        <p:spPr>
          <a:xfrm flipV="1">
            <a:off x="3886200" y="556236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8"/>
          <p:cNvSpPr/>
          <p:nvPr/>
        </p:nvSpPr>
        <p:spPr>
          <a:xfrm>
            <a:off x="3886200" y="533412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traight Connector 17"/>
          <p:cNvSpPr/>
          <p:nvPr/>
        </p:nvSpPr>
        <p:spPr>
          <a:xfrm flipV="1">
            <a:off x="5029200" y="4723920"/>
            <a:ext cx="198108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PCA view combin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d to s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4" descr="Perou500p1ip1PCASP.png"/>
          <p:cNvPicPr/>
          <p:nvPr/>
        </p:nvPicPr>
        <p:blipFill>
          <a:blip r:embed="rId1"/>
          <a:stretch/>
        </p:blipFill>
        <p:spPr>
          <a:xfrm>
            <a:off x="3200400" y="2075040"/>
            <a:ext cx="581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interesting to 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(i.e. explore conditions for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CA direction vectors, from this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other things as wel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A view – colored by cancer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s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vs. oth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ood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b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W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4" descr="Perou500p1ip1PCASP.png"/>
          <p:cNvPicPr/>
          <p:nvPr/>
        </p:nvPicPr>
        <p:blipFill>
          <a:blip r:embed="rId1"/>
          <a:stretch/>
        </p:blipFill>
        <p:spPr>
          <a:xfrm>
            <a:off x="3200400" y="2075040"/>
            <a:ext cx="581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A view – add symbols for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ood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b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W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Perou500p1ip1PCASP.png"/>
          <p:cNvPicPr/>
          <p:nvPr/>
        </p:nvPicPr>
        <p:blipFill>
          <a:blip r:embed="rId1"/>
          <a:stretch/>
        </p:blipFill>
        <p:spPr>
          <a:xfrm>
            <a:off x="3200400" y="2075040"/>
            <a:ext cx="581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tate axes for better type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efu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o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WD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a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te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4" descr="Perou500p1ip1PCASP.png"/>
          <p:cNvPicPr/>
          <p:nvPr/>
        </p:nvPicPr>
        <p:blipFill>
          <a:blip r:embed="rId1"/>
          <a:stretch/>
        </p:blipFill>
        <p:spPr>
          <a:xfrm>
            <a:off x="3200400" y="2075040"/>
            <a:ext cx="581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istinct are clas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e “signal” vs. “no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sure statistical signific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ing 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:  Normal vs. 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v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.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74674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:  Normal vs. 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val  = 0.22,     Not strong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K, since “normal”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opsy missed t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mostly from cancer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tead compare with “true normal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rmal vs. 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val  = 2.30E-06 ,     Very strong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s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:  Canc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minals vs {Her2 &amp; Basals},  p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r2 vs Basals,    p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m A vs Lum b,   pval = 0.006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ly concl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s statistical significance to early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ing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s the DWD combination essent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re individual groups sign’t anyw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was value of DWD comb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Luminals vs {Her2 &amp; Basals}: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Combined,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Combo,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 Combo,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GEO,   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UnP,        p-val = 3e-1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Pub,          p-val = 1e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97,            p-val = 0.000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l fro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ug.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Aug.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Cancer Cell Lines Micro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ored Data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NA &amp; Affymetrix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answer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Luminal A vs Luminal B: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Combined,   p-val = 0.006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Combo,    p-val = 0.2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 Combo,    p-val = 0.0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GEO,       p-val = 0.2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UnP,        p-val = 0.3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Pub,          p-val = 0.0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97,            p-val = 0.24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hows clear value to comb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Her2 vs Basals: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Combined,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Combo,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 Combo,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GEO,       p-val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C UnP,        p-val = 0.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Pub,          p-val = 0.00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KI 97,            p-val = 0.24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5"/>
            </a:gs>
            <a:gs pos="50000">
              <a:srgbClr val="ffffff"/>
            </a:gs>
            <a:gs pos="100000">
              <a:srgbClr val="0000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Perou 50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aw back to DiProPerm 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und by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from e.g. NCI 60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maybe not surprising the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from ra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find significant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is really me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ster is 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 deeper though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Open Question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“Best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ch 1-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 statist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u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s. alternati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bootstrap?)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these inter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asymptotic properti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a:    Given da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sign each object to a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assign labels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supervised Learn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ast to Classification (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eterm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vised Learn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191120" y="1219320"/>
                <a:ext cx="1604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ortant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cQueen (196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tigan (197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aufman and Rousseeuw (2005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Idea:   for dat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ition indice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o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x s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rt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 clusters by “class me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(within class means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0" y="1219320"/>
                <a:ext cx="1604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3657600" y="1828800"/>
                <a:ext cx="164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4648320" y="2438280"/>
                <a:ext cx="1428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5"/>
              <p:cNvSpPr txBox="1"/>
              <p:nvPr/>
            </p:nvSpPr>
            <p:spPr>
              <a:xfrm>
                <a:off x="4343400" y="3276720"/>
                <a:ext cx="1428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7"/>
              <p:cNvSpPr txBox="1"/>
              <p:nvPr/>
            </p:nvSpPr>
            <p:spPr>
              <a:xfrm>
                <a:off x="5715000" y="5504040"/>
                <a:ext cx="25146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3657600" y="3962520"/>
                <a:ext cx="1332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x s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su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ell clust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u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in Class Sum of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ak point:  not very interpre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3886200" y="1219320"/>
                <a:ext cx="1428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3200400" y="3352680"/>
                <a:ext cx="24606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/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Vari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t on scal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(i.e. in  [0,1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ividing “within class S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“overall S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s Cluster Inde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6"/>
              <p:cNvSpPr txBox="1"/>
              <p:nvPr/>
            </p:nvSpPr>
            <p:spPr>
              <a:xfrm>
                <a:off x="2590920" y="4343400"/>
                <a:ext cx="470196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s on Cluster Inde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= 0    when all data at cluste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            gives tight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ithin SS contains little vari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            gives poor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ithin SS contains most of vari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 = 1    when all cluster means ar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6"/>
              <p:cNvSpPr txBox="1"/>
              <p:nvPr/>
            </p:nvSpPr>
            <p:spPr>
              <a:xfrm>
                <a:off x="4114800" y="1066680"/>
                <a:ext cx="47023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3581280" y="3581280"/>
                <a:ext cx="1295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3276720" y="4800600"/>
                <a:ext cx="12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Clusters in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04920" y="1219320"/>
            <a:ext cx="84582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stering Go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dat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oos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mimin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191120" y="3048120"/>
                <a:ext cx="1428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"/>
              <p:cNvSpPr txBox="1"/>
              <p:nvPr/>
            </p:nvSpPr>
            <p:spPr>
              <a:xfrm>
                <a:off x="3276720" y="2133720"/>
                <a:ext cx="1604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3581280" y="4114800"/>
                <a:ext cx="47023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Real Clusters in NCI 60 Dat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ug. 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  Simple Visua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ypes appeared signif’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s did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eper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CI, using simple 1-d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ying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: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– PROjection – PER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an appropri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ata into that 1-d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uct a 1-d test stat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significance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-means Clus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andom relabelling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maller 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uantiles (over 1000 sim’s) give p-val of 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Strongly concl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b-populations are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tatistical power actually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re benefit to data combo by DW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more pow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later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34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traight Connector 4"/>
          <p:cNvSpPr/>
          <p:nvPr/>
        </p:nvSpPr>
        <p:spPr>
          <a:xfrm>
            <a:off x="2590920" y="5867280"/>
            <a:ext cx="914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1-06T20:25:23Z</dcterms:modified>
  <cp:revision>1259</cp:revision>
  <dc:subject/>
  <dc:title>Title</dc:title>
</cp:coreProperties>
</file>