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wmf" ContentType="image/x-wmf"/>
  <Override PartName="/ppt/media/image46.jpeg" ContentType="image/jpeg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48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  <p:sldId id="305" r:id="rId56"/>
    <p:sldId id="306" r:id="rId57"/>
    <p:sldId id="307" r:id="rId58"/>
    <p:sldId id="308" r:id="rId59"/>
    <p:sldId id="309" r:id="rId60"/>
    <p:sldId id="310" r:id="rId61"/>
    <p:sldId id="311" r:id="rId62"/>
    <p:sldId id="312" r:id="rId63"/>
    <p:sldId id="313" r:id="rId64"/>
    <p:sldId id="314" r:id="rId65"/>
    <p:sldId id="315" r:id="rId66"/>
    <p:sldId id="316" r:id="rId67"/>
    <p:sldId id="317" r:id="rId68"/>
    <p:sldId id="318" r:id="rId69"/>
    <p:sldId id="319" r:id="rId70"/>
    <p:sldId id="320" r:id="rId71"/>
    <p:sldId id="321" r:id="rId72"/>
    <p:sldId id="322" r:id="rId73"/>
    <p:sldId id="323" r:id="rId74"/>
    <p:sldId id="324" r:id="rId75"/>
    <p:sldId id="325" r:id="rId76"/>
    <p:sldId id="326" r:id="rId77"/>
    <p:sldId id="327" r:id="rId78"/>
    <p:sldId id="328" r:id="rId79"/>
    <p:sldId id="329" r:id="rId80"/>
    <p:sldId id="330" r:id="rId81"/>
    <p:sldId id="331" r:id="rId82"/>
    <p:sldId id="332" r:id="rId83"/>
    <p:sldId id="333" r:id="rId84"/>
    <p:sldId id="334" r:id="rId8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slide" Target="slides/slide50.xml"/><Relationship Id="rId57" Type="http://schemas.openxmlformats.org/officeDocument/2006/relationships/slide" Target="slides/slide51.xml"/><Relationship Id="rId58" Type="http://schemas.openxmlformats.org/officeDocument/2006/relationships/slide" Target="slides/slide52.xml"/><Relationship Id="rId59" Type="http://schemas.openxmlformats.org/officeDocument/2006/relationships/slide" Target="slides/slide53.xml"/><Relationship Id="rId60" Type="http://schemas.openxmlformats.org/officeDocument/2006/relationships/slide" Target="slides/slide54.xml"/><Relationship Id="rId61" Type="http://schemas.openxmlformats.org/officeDocument/2006/relationships/slide" Target="slides/slide55.xml"/><Relationship Id="rId62" Type="http://schemas.openxmlformats.org/officeDocument/2006/relationships/slide" Target="slides/slide56.xml"/><Relationship Id="rId63" Type="http://schemas.openxmlformats.org/officeDocument/2006/relationships/slide" Target="slides/slide57.xml"/><Relationship Id="rId64" Type="http://schemas.openxmlformats.org/officeDocument/2006/relationships/slide" Target="slides/slide58.xml"/><Relationship Id="rId65" Type="http://schemas.openxmlformats.org/officeDocument/2006/relationships/slide" Target="slides/slide59.xml"/><Relationship Id="rId66" Type="http://schemas.openxmlformats.org/officeDocument/2006/relationships/slide" Target="slides/slide60.xml"/><Relationship Id="rId67" Type="http://schemas.openxmlformats.org/officeDocument/2006/relationships/slide" Target="slides/slide61.xml"/><Relationship Id="rId68" Type="http://schemas.openxmlformats.org/officeDocument/2006/relationships/slide" Target="slides/slide62.xml"/><Relationship Id="rId69" Type="http://schemas.openxmlformats.org/officeDocument/2006/relationships/slide" Target="slides/slide63.xml"/><Relationship Id="rId70" Type="http://schemas.openxmlformats.org/officeDocument/2006/relationships/slide" Target="slides/slide64.xml"/><Relationship Id="rId71" Type="http://schemas.openxmlformats.org/officeDocument/2006/relationships/slide" Target="slides/slide65.xml"/><Relationship Id="rId72" Type="http://schemas.openxmlformats.org/officeDocument/2006/relationships/slide" Target="slides/slide66.xml"/><Relationship Id="rId73" Type="http://schemas.openxmlformats.org/officeDocument/2006/relationships/slide" Target="slides/slide67.xml"/><Relationship Id="rId74" Type="http://schemas.openxmlformats.org/officeDocument/2006/relationships/slide" Target="slides/slide68.xml"/><Relationship Id="rId75" Type="http://schemas.openxmlformats.org/officeDocument/2006/relationships/slide" Target="slides/slide69.xml"/><Relationship Id="rId76" Type="http://schemas.openxmlformats.org/officeDocument/2006/relationships/slide" Target="slides/slide70.xml"/><Relationship Id="rId77" Type="http://schemas.openxmlformats.org/officeDocument/2006/relationships/slide" Target="slides/slide71.xml"/><Relationship Id="rId78" Type="http://schemas.openxmlformats.org/officeDocument/2006/relationships/slide" Target="slides/slide72.xml"/><Relationship Id="rId79" Type="http://schemas.openxmlformats.org/officeDocument/2006/relationships/slide" Target="slides/slide73.xml"/><Relationship Id="rId80" Type="http://schemas.openxmlformats.org/officeDocument/2006/relationships/slide" Target="slides/slide74.xml"/><Relationship Id="rId81" Type="http://schemas.openxmlformats.org/officeDocument/2006/relationships/slide" Target="slides/slide75.xml"/><Relationship Id="rId82" Type="http://schemas.openxmlformats.org/officeDocument/2006/relationships/slide" Target="slides/slide76.xml"/><Relationship Id="rId83" Type="http://schemas.openxmlformats.org/officeDocument/2006/relationships/slide" Target="slides/slide77.xml"/><Relationship Id="rId84" Type="http://schemas.openxmlformats.org/officeDocument/2006/relationships/slide" Target="slides/slide78.xml"/><Relationship Id="rId85" Type="http://schemas.openxmlformats.org/officeDocument/2006/relationships/slide" Target="slides/slide79.xml"/><Relationship Id="rId8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F43E7-9A0A-4600-94C5-0886CDE5B5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F26C5-D6ED-4384-A3AB-416F26F0D09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39189-2FCC-4289-A59E-717D8D80632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9759C-7874-4DA5-AA4D-DC8A73DF0BD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B283D-F3F6-4E0C-A14F-68C4150CFB7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190FF-D4D2-4D56-B353-D8781E05775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C7A2B-A1F5-4F97-8951-EFDD09A02F5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AE044-7D4F-41F6-8A10-70DAF4A2A88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6FFE4-8096-403F-B799-5F42D6C2AF8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AC3FE-8051-450F-8D5A-F68DB9BA0FB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0DE42-B427-4B2B-A367-35C91F60363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2EE7D-E1FC-4733-B788-9BCCE4FBBFE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46EE5-E531-4322-8158-129FF150973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FD722-1010-4017-9942-9CCB5BEF0B9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BC879-99AF-4380-9204-66C199DDAE5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A3E3C-6673-4603-9F75-D365E1B5F89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A5B38-5F1B-4F7D-ABAA-E00EF6AA07B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49107-A4F7-432E-841B-090223B2C42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EEDA5-0B3D-4807-A03A-D89E9E1E130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9CF0A-69FE-42EF-A8F3-9DE8B05D283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6E684-8F1A-4BE2-A9BB-F28272EEA81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831FB-D521-4E30-A2D9-031FA3B3444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8C66B-2AA4-4B8F-81F7-855CE2807B8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EC94B-6B40-4FDA-99CC-5C3583DFCA0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9A511-31D0-48C1-9A58-97E06F43741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D6F1D-BA0E-498A-A1A3-0169A55D511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3E438-925D-4026-A518-72448CA8E1F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EEC48-55E9-4C9D-BEDE-52DF9176537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19696-BD01-432A-B065-7890513950C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28C42-EC53-4860-BE28-5F77F2B49D9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18404-31EB-4360-A482-B5B877BB6F8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384F6-2B84-4DEC-9692-855FE1EBCEF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5AF1D-C2E6-4B1A-B536-2DD9AE0E1B8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7FC08-9CB3-4E18-91DC-70B146B6311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2BE47-4C01-4FC2-A14A-5B2E4640D13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3821B-148C-4B4A-B82E-8D4966F186D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D1315-2819-41A9-8678-33E2251517B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9E375-5878-4533-B9A9-C75F79FCF92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CCA05-6356-44EC-B663-AC5E09F3327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2AB73-0C08-40D9-8932-51F70FB30B64}" type="slidenum">
              <a:rPr b="0" lang="ko-KR" sz="1200" spc="-1" strike="noStrike">
                <a:solidFill>
                  <a:srgbClr val="ffffff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맑은 고딕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FEB08-362D-48EE-BC86-5989FF87980E}" type="slidenum">
              <a:rPr b="0" lang="ko-KR" sz="1200" spc="-1" strike="noStrike">
                <a:solidFill>
                  <a:srgbClr val="ffffff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맑은 고딕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F1FD9-8B16-4371-B015-AA6E591B53E4}" type="slidenum">
              <a:rPr b="0" lang="ko-KR" sz="1200" spc="-1" strike="noStrike">
                <a:solidFill>
                  <a:srgbClr val="ffffff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맑은 고딕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0C335-D1E5-44F6-A15A-EF9D8147B5AD}" type="slidenum">
              <a:rPr b="0" lang="ko-KR" sz="1200" spc="-1" strike="noStrike">
                <a:solidFill>
                  <a:srgbClr val="ffffff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맑은 고딕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FC783-8CFD-432F-8105-D53E4328EC04}" type="slidenum">
              <a:rPr b="0" lang="ko-KR" sz="1200" spc="-1" strike="noStrike">
                <a:solidFill>
                  <a:srgbClr val="ffffff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맑은 고딕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BA40C-978A-4574-9395-D39FDC3F0B93}" type="slidenum">
              <a:rPr b="0" lang="ko-KR" sz="1200" spc="-1" strike="noStrike">
                <a:solidFill>
                  <a:srgbClr val="ffffff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맑은 고딕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C25A7-EA42-49F0-8810-B39E12AE77A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F39EB-A4D0-4381-9C82-9BD13B450667}" type="slidenum">
              <a:rPr b="0" lang="ko-KR" sz="1200" spc="-1" strike="noStrike">
                <a:solidFill>
                  <a:srgbClr val="ffffff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맑은 고딕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FDDA2-4E66-4BD7-93C5-591F17F69F33}" type="slidenum">
              <a:rPr b="0" lang="ko-KR" sz="1200" spc="-1" strike="noStrike">
                <a:solidFill>
                  <a:srgbClr val="ffffff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맑은 고딕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47094-E1EB-4FF8-AAF5-E9F11178B59E}" type="slidenum">
              <a:rPr b="0" lang="ko-KR" sz="1200" spc="-1" strike="noStrike">
                <a:solidFill>
                  <a:srgbClr val="ffffff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맑은 고딕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1756D-5616-4F45-BD5A-957CAA02BE51}" type="slidenum">
              <a:rPr b="0" lang="ko-KR" sz="1200" spc="-1" strike="noStrike">
                <a:solidFill>
                  <a:srgbClr val="ffffff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맑은 고딕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6A9FD-43FF-4B72-BAFD-B0DB30A61A6D}" type="slidenum">
              <a:rPr b="0" lang="ko-KR" sz="1200" spc="-1" strike="noStrike">
                <a:solidFill>
                  <a:srgbClr val="ffffff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맑은 고딕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EC45D-7B2B-4A86-BB95-191491C72F1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D2A4B-D9E7-4062-A14B-4A61D683362F}" type="slidenum">
              <a:rPr b="0" lang="ko-KR" sz="1200" spc="-1" strike="noStrike">
                <a:solidFill>
                  <a:srgbClr val="ffffff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맑은 고딕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12C9E-C7B7-4984-8D1B-00B5056F2A9C}" type="slidenum">
              <a:rPr b="0" lang="ko-KR" sz="1200" spc="-1" strike="noStrike">
                <a:solidFill>
                  <a:srgbClr val="ffffff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맑은 고딕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EC6F2-6EB1-48B5-820D-1C9E8013DA83}" type="slidenum">
              <a:rPr b="0" lang="ko-KR" sz="1200" spc="-1" strike="noStrike">
                <a:solidFill>
                  <a:srgbClr val="ffffff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맑은 고딕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EA9F5-CCC1-4CD4-818D-1CA5A927F243}" type="slidenum">
              <a:rPr b="0" lang="ko-KR" sz="1200" spc="-1" strike="noStrike">
                <a:solidFill>
                  <a:srgbClr val="ffffff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맑은 고딕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9C54B-57C1-4960-8319-B339EE7C386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BB23D-060F-43F6-A55C-176CBC9795E1}" type="slidenum">
              <a:rPr b="0" lang="ko-KR" sz="1200" spc="-1" strike="noStrike">
                <a:solidFill>
                  <a:srgbClr val="ffffff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맑은 고딕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D5EC8-D265-4811-AE3B-29D967C4DA73}" type="slidenum">
              <a:rPr b="0" lang="ko-KR" sz="1200" spc="-1" strike="noStrike">
                <a:solidFill>
                  <a:srgbClr val="ffffff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맑은 고딕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FB324-C278-4ED2-A584-E75B03CF066E}" type="slidenum">
              <a:rPr b="0" lang="ko-KR" sz="1200" spc="-1" strike="noStrike">
                <a:solidFill>
                  <a:srgbClr val="ffffff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맑은 고딕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6805D-8F78-4BCD-8EEB-AFA6D337D9DA}" type="slidenum">
              <a:rPr b="0" lang="ko-KR" sz="1200" spc="-1" strike="noStrike">
                <a:solidFill>
                  <a:srgbClr val="ffffff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맑은 고딕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FDF95-F7F4-43C1-B8AB-043935929062}" type="slidenum">
              <a:rPr b="0" lang="ko-KR" sz="1200" spc="-1" strike="noStrike">
                <a:solidFill>
                  <a:srgbClr val="ffffff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맑은 고딕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9C62E-11E6-4818-9CFF-937B0E370E3E}" type="slidenum">
              <a:rPr b="0" lang="ko-KR" sz="1200" spc="-1" strike="noStrike">
                <a:solidFill>
                  <a:srgbClr val="ffffff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맑은 고딕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10B07-8A8B-440C-9BE8-1FECC6351F17}" type="slidenum">
              <a:rPr b="0" lang="ko-KR" sz="1200" spc="-1" strike="noStrike">
                <a:solidFill>
                  <a:srgbClr val="ffffff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맑은 고딕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61AF8-BC1B-4611-AE89-706E93CF7579}" type="slidenum">
              <a:rPr b="0" lang="ko-KR" sz="1200" spc="-1" strike="noStrike">
                <a:solidFill>
                  <a:srgbClr val="ffffff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맑은 고딕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B39E6-433C-42C8-B1A1-D3D1810BFC6D}" type="slidenum">
              <a:rPr b="0" lang="ko-KR" sz="1200" spc="-1" strike="noStrike">
                <a:solidFill>
                  <a:srgbClr val="ffffff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맑은 고딕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50BB4-1341-4C62-9F91-53494915D297}" type="slidenum">
              <a:rPr b="0" lang="ko-KR" sz="1200" spc="-1" strike="noStrike">
                <a:solidFill>
                  <a:srgbClr val="ffffff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맑은 고딕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C9B18-5C61-47E4-9DA0-BD89D4D4736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87E47-8397-4002-A3E6-045D0BE61882}" type="slidenum">
              <a:rPr b="0" lang="ko-KR" sz="1200" spc="-1" strike="noStrike">
                <a:solidFill>
                  <a:srgbClr val="ffffff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맑은 고딕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88BB0-E345-4B1C-9E22-4312A25A9065}" type="slidenum">
              <a:rPr b="0" lang="ko-KR" sz="1200" spc="-1" strike="noStrike">
                <a:solidFill>
                  <a:srgbClr val="ffffff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맑은 고딕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78820-0212-4B73-B1E1-5916D8F461F4}" type="slidenum">
              <a:rPr b="0" lang="ko-KR" sz="1200" spc="-1" strike="noStrike">
                <a:solidFill>
                  <a:srgbClr val="ffffff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맑은 고딕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5861A-9B14-4606-85B9-C3DA93C6D277}" type="slidenum">
              <a:rPr b="0" lang="ko-KR" sz="1200" spc="-1" strike="noStrike">
                <a:solidFill>
                  <a:srgbClr val="ffffff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맑은 고딕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A5235-9EB3-4D10-AF63-B7F34B993CC9}" type="slidenum">
              <a:rPr b="0" lang="ko-KR" sz="1200" spc="-1" strike="noStrike">
                <a:solidFill>
                  <a:srgbClr val="ffffff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맑은 고딕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15DEC-6A75-4DB7-9022-344299F48926}" type="slidenum">
              <a:rPr b="0" lang="ko-KR" sz="1200" spc="-1" strike="noStrike">
                <a:solidFill>
                  <a:srgbClr val="ffffff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맑은 고딕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26BA4-AD91-450E-B3C2-E836D450392A}" type="slidenum">
              <a:rPr b="0" lang="ko-KR" sz="1200" spc="-1" strike="noStrike">
                <a:solidFill>
                  <a:srgbClr val="ffffff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맑은 고딕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3B944-E589-46C4-921C-4A272D68B283}" type="slidenum">
              <a:rPr b="0" lang="ko-KR" sz="1200" spc="-1" strike="noStrike">
                <a:solidFill>
                  <a:srgbClr val="ffffff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맑은 고딕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DE8D0-DA7F-468D-BDB9-6386DA17AEFD}" type="slidenum">
              <a:rPr b="0" lang="ko-KR" sz="1200" spc="-1" strike="noStrike">
                <a:solidFill>
                  <a:srgbClr val="ffffff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맑은 고딕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2D4AF-0CEE-4915-A349-D813DD5256B5}" type="slidenum">
              <a:rPr b="0" lang="ko-KR" sz="1200" spc="-1" strike="noStrike">
                <a:solidFill>
                  <a:srgbClr val="ffffff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맑은 고딕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018FF-C19B-4D62-8311-A5C899A5253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84DB6-7AAB-44FC-9925-7E255EF5DBA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E0C1F-11C2-4323-8C1B-ECED661E0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F0479-7C0A-4751-AF68-31B57AC08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7426A-8B6B-4B81-80A3-5A64FBB73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ED8C3-3C3B-4B84-B7E3-E0DCF58E5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8E9A1-EE50-4D71-8D1E-9F0668EF4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6E1AE-68A5-46CA-91D9-C2123E441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712F1-8F5D-41CA-9BB6-FF1F3B776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AF936-FBE4-41D9-8FAC-9A9488762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C1AED-05D8-48BB-A2BA-C2C4A4D3E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B3E0A-6C3B-4BEC-AAC4-0B2A90134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8B7FF-5C18-4D89-9A77-AFBA9E8FD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6081A-9E4F-4548-B231-D272CD0A3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F3037-05DD-490E-BDE1-8FF7F46A5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2C62E-6AB4-4A52-B7F9-04CFAABE2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9B1F1-5956-4ED8-8F69-7A60AD405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53D8E-5BCB-4807-B4AC-1E58A7490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F4F02-75C1-4041-8817-808F6B26C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8FBD4-92FD-4AC5-80D1-CEC114BD9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D3986-795B-4BFA-A135-DBA284A70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D2142-1732-40B4-8C23-FE2E36495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CCE5F-5DF8-4412-B9AD-6BBAEC3B5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B4562-8B35-45FF-9FC6-56BD98EC7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550C5-7519-4991-AB97-B4F943B8C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245D6-5A99-4674-A369-A95FF3D7C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f5ff"/>
            </a:gs>
            <a:gs pos="50000">
              <a:srgbClr val="ffffff"/>
            </a:gs>
            <a:gs pos="100000">
              <a:srgbClr val="dcf5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AE8F1-5353-4D6A-9FA7-496E9641B8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f5ff"/>
            </a:gs>
            <a:gs pos="50000">
              <a:srgbClr val="ffffff"/>
            </a:gs>
            <a:gs pos="100000">
              <a:srgbClr val="dcf5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D69FC-4875-4BC9-870B-CE00B0D07D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f5ff"/>
            </a:gs>
            <a:gs pos="50000">
              <a:srgbClr val="ffffff"/>
            </a:gs>
            <a:gs pos="100000">
              <a:srgbClr val="dcf5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f5ff"/>
            </a:gs>
            <a:gs pos="50000">
              <a:srgbClr val="ffffff"/>
            </a:gs>
            <a:gs pos="100000">
              <a:srgbClr val="dcf5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5.wmf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</a:rPr>
              <a:t>Object Orie’d Data Analysis, Last Time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iProPerm Te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irection – Projection – Permut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00ff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Arial Unicode MS"/>
                <a:ea typeface="Arial Unicode MS"/>
              </a:rPr>
              <a:t>HDLSS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hypothesis test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CI 60 Da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articulate Matter Da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erou 500 Breast Cancer Da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K for subpop’ns found by clustering??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tarted Investigation of Cluster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imple 1-d examp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ff"/>
            </a:gs>
            <a:gs pos="50000">
              <a:srgbClr val="ffffff"/>
            </a:gs>
            <a:gs pos="100000">
              <a:srgbClr val="ff00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2-means Cluster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90" name="Picture 2" descr=""/>
          <p:cNvPicPr/>
          <p:nvPr/>
        </p:nvPicPr>
        <p:blipFill>
          <a:blip r:embed="rId1"/>
          <a:stretch/>
        </p:blipFill>
        <p:spPr>
          <a:xfrm>
            <a:off x="838080" y="1447920"/>
            <a:ext cx="746784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ff"/>
            </a:gs>
            <a:gs pos="50000">
              <a:srgbClr val="ffffff"/>
            </a:gs>
            <a:gs pos="100000">
              <a:srgbClr val="ff00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2-means Cluster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tudy CI, using simple 1-d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Varying Standard Devi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Varying Me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Varying Propor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ff"/>
            </a:gs>
            <a:gs pos="50000">
              <a:srgbClr val="ffffff"/>
            </a:gs>
            <a:gs pos="100000">
              <a:srgbClr val="ff00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2-means Cluster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94" name="Picture 2" descr=""/>
          <p:cNvPicPr/>
          <p:nvPr/>
        </p:nvPicPr>
        <p:blipFill>
          <a:blip r:embed="rId1"/>
          <a:stretch/>
        </p:blipFill>
        <p:spPr>
          <a:xfrm>
            <a:off x="838080" y="1447920"/>
            <a:ext cx="746784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ff"/>
            </a:gs>
            <a:gs pos="50000">
              <a:srgbClr val="ffffff"/>
            </a:gs>
            <a:gs pos="100000">
              <a:srgbClr val="ff00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2-means Cluster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96" name="Picture 2" descr=""/>
          <p:cNvPicPr/>
          <p:nvPr/>
        </p:nvPicPr>
        <p:blipFill>
          <a:blip r:embed="rId1"/>
          <a:stretch/>
        </p:blipFill>
        <p:spPr>
          <a:xfrm>
            <a:off x="838080" y="1447920"/>
            <a:ext cx="746784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ff"/>
            </a:gs>
            <a:gs pos="50000">
              <a:srgbClr val="ffffff"/>
            </a:gs>
            <a:gs pos="100000">
              <a:srgbClr val="ff00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2-means Cluster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98" name="Picture 2" descr=""/>
          <p:cNvPicPr/>
          <p:nvPr/>
        </p:nvPicPr>
        <p:blipFill>
          <a:blip r:embed="rId1"/>
          <a:stretch/>
        </p:blipFill>
        <p:spPr>
          <a:xfrm>
            <a:off x="838080" y="1447920"/>
            <a:ext cx="746784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ff"/>
            </a:gs>
            <a:gs pos="50000">
              <a:srgbClr val="ffffff"/>
            </a:gs>
            <a:gs pos="100000">
              <a:srgbClr val="ff00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2-means Cluster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00" name="Picture 2" descr=""/>
          <p:cNvPicPr/>
          <p:nvPr/>
        </p:nvPicPr>
        <p:blipFill>
          <a:blip r:embed="rId1"/>
          <a:stretch/>
        </p:blipFill>
        <p:spPr>
          <a:xfrm>
            <a:off x="838080" y="1447920"/>
            <a:ext cx="746784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ff"/>
            </a:gs>
            <a:gs pos="50000">
              <a:srgbClr val="ffffff"/>
            </a:gs>
            <a:gs pos="100000">
              <a:srgbClr val="ff00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2-means Cluster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02" name="Picture 2" descr=""/>
          <p:cNvPicPr/>
          <p:nvPr/>
        </p:nvPicPr>
        <p:blipFill>
          <a:blip r:embed="rId1"/>
          <a:stretch/>
        </p:blipFill>
        <p:spPr>
          <a:xfrm>
            <a:off x="838080" y="1447920"/>
            <a:ext cx="746784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ff"/>
            </a:gs>
            <a:gs pos="50000">
              <a:srgbClr val="ffffff"/>
            </a:gs>
            <a:gs pos="100000">
              <a:srgbClr val="ff00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2-means Cluster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04" name="Picture 2" descr=""/>
          <p:cNvPicPr/>
          <p:nvPr/>
        </p:nvPicPr>
        <p:blipFill>
          <a:blip r:embed="rId1"/>
          <a:stretch/>
        </p:blipFill>
        <p:spPr>
          <a:xfrm>
            <a:off x="838080" y="1447920"/>
            <a:ext cx="746784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ff"/>
            </a:gs>
            <a:gs pos="50000">
              <a:srgbClr val="ffffff"/>
            </a:gs>
            <a:gs pos="100000">
              <a:srgbClr val="ff00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2-means Cluster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06" name="Picture 2" descr=""/>
          <p:cNvPicPr/>
          <p:nvPr/>
        </p:nvPicPr>
        <p:blipFill>
          <a:blip r:embed="rId1"/>
          <a:stretch/>
        </p:blipFill>
        <p:spPr>
          <a:xfrm>
            <a:off x="838080" y="1447920"/>
            <a:ext cx="746784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ff"/>
            </a:gs>
            <a:gs pos="50000">
              <a:srgbClr val="ffffff"/>
            </a:gs>
            <a:gs pos="100000">
              <a:srgbClr val="ff00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2-means Cluster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08" name="Picture 2" descr=""/>
          <p:cNvPicPr/>
          <p:nvPr/>
        </p:nvPicPr>
        <p:blipFill>
          <a:blip r:embed="rId1"/>
          <a:stretch/>
        </p:blipFill>
        <p:spPr>
          <a:xfrm>
            <a:off x="838080" y="1447920"/>
            <a:ext cx="746784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ff"/>
            </a:gs>
            <a:gs pos="50000">
              <a:srgbClr val="ffffff"/>
            </a:gs>
            <a:gs pos="100000">
              <a:srgbClr val="ff00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Cluster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mportant Referenc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cQueen (1967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Hartigan (1975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Gersho and Gray (1992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aufman and Rousseeuw (2005)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ff"/>
            </a:gs>
            <a:gs pos="50000">
              <a:srgbClr val="ffffff"/>
            </a:gs>
            <a:gs pos="100000">
              <a:srgbClr val="ff00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2-means Cluster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10" name="Picture 2" descr=""/>
          <p:cNvPicPr/>
          <p:nvPr/>
        </p:nvPicPr>
        <p:blipFill>
          <a:blip r:embed="rId1"/>
          <a:stretch/>
        </p:blipFill>
        <p:spPr>
          <a:xfrm>
            <a:off x="838080" y="1447920"/>
            <a:ext cx="746784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ff"/>
            </a:gs>
            <a:gs pos="50000">
              <a:srgbClr val="ffffff"/>
            </a:gs>
            <a:gs pos="100000">
              <a:srgbClr val="ff00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2-means Cluster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12" name="Picture 2" descr=""/>
          <p:cNvPicPr/>
          <p:nvPr/>
        </p:nvPicPr>
        <p:blipFill>
          <a:blip r:embed="rId1"/>
          <a:stretch/>
        </p:blipFill>
        <p:spPr>
          <a:xfrm>
            <a:off x="838080" y="1447920"/>
            <a:ext cx="746784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ff"/>
            </a:gs>
            <a:gs pos="50000">
              <a:srgbClr val="ffffff"/>
            </a:gs>
            <a:gs pos="100000">
              <a:srgbClr val="ff00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2-means Cluster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14" name="Picture 2" descr=""/>
          <p:cNvPicPr/>
          <p:nvPr/>
        </p:nvPicPr>
        <p:blipFill>
          <a:blip r:embed="rId1"/>
          <a:stretch/>
        </p:blipFill>
        <p:spPr>
          <a:xfrm>
            <a:off x="838080" y="1447920"/>
            <a:ext cx="746784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ff"/>
            </a:gs>
            <a:gs pos="50000">
              <a:srgbClr val="ffffff"/>
            </a:gs>
            <a:gs pos="100000">
              <a:srgbClr val="ff00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2-means Cluster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16" name="Picture 2" descr=""/>
          <p:cNvPicPr/>
          <p:nvPr/>
        </p:nvPicPr>
        <p:blipFill>
          <a:blip r:embed="rId1"/>
          <a:stretch/>
        </p:blipFill>
        <p:spPr>
          <a:xfrm>
            <a:off x="838080" y="1447920"/>
            <a:ext cx="746784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ff"/>
            </a:gs>
            <a:gs pos="50000">
              <a:srgbClr val="ffffff"/>
            </a:gs>
            <a:gs pos="100000">
              <a:srgbClr val="ff00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2-means Cluster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18" name="Picture 2" descr=""/>
          <p:cNvPicPr/>
          <p:nvPr/>
        </p:nvPicPr>
        <p:blipFill>
          <a:blip r:embed="rId1"/>
          <a:stretch/>
        </p:blipFill>
        <p:spPr>
          <a:xfrm>
            <a:off x="838080" y="1447920"/>
            <a:ext cx="746784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ff"/>
            </a:gs>
            <a:gs pos="50000">
              <a:srgbClr val="ffffff"/>
            </a:gs>
            <a:gs pos="100000">
              <a:srgbClr val="ff00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2-means Cluster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20" name="Picture 2" descr=""/>
          <p:cNvPicPr/>
          <p:nvPr/>
        </p:nvPicPr>
        <p:blipFill>
          <a:blip r:embed="rId1"/>
          <a:stretch/>
        </p:blipFill>
        <p:spPr>
          <a:xfrm>
            <a:off x="838080" y="1447920"/>
            <a:ext cx="746784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ff"/>
            </a:gs>
            <a:gs pos="50000">
              <a:srgbClr val="ffffff"/>
            </a:gs>
            <a:gs pos="100000">
              <a:srgbClr val="ff00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2-means Cluster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22" name="Picture 2" descr=""/>
          <p:cNvPicPr/>
          <p:nvPr/>
        </p:nvPicPr>
        <p:blipFill>
          <a:blip r:embed="rId1"/>
          <a:stretch/>
        </p:blipFill>
        <p:spPr>
          <a:xfrm>
            <a:off x="838080" y="1447920"/>
            <a:ext cx="746784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ff"/>
            </a:gs>
            <a:gs pos="50000">
              <a:srgbClr val="ffffff"/>
            </a:gs>
            <a:gs pos="100000">
              <a:srgbClr val="ff00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2-means Cluster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tudy CI, using simple 1-d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Over changing Classes (moving b’dry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ff"/>
            </a:gs>
            <a:gs pos="50000">
              <a:srgbClr val="ffffff"/>
            </a:gs>
            <a:gs pos="100000">
              <a:srgbClr val="ff00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2-means Cluster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26" name="Picture 2" descr=""/>
          <p:cNvPicPr/>
          <p:nvPr/>
        </p:nvPicPr>
        <p:blipFill>
          <a:blip r:embed="rId1"/>
          <a:stretch/>
        </p:blipFill>
        <p:spPr>
          <a:xfrm>
            <a:off x="838080" y="1447920"/>
            <a:ext cx="746784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ff"/>
            </a:gs>
            <a:gs pos="50000">
              <a:srgbClr val="ffffff"/>
            </a:gs>
            <a:gs pos="100000">
              <a:srgbClr val="ff00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2-means Cluster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28" name="Picture 2" descr=""/>
          <p:cNvPicPr/>
          <p:nvPr/>
        </p:nvPicPr>
        <p:blipFill>
          <a:blip r:embed="rId1"/>
          <a:stretch/>
        </p:blipFill>
        <p:spPr>
          <a:xfrm>
            <a:off x="838080" y="1447920"/>
            <a:ext cx="746784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ff"/>
            </a:gs>
            <a:gs pos="50000">
              <a:srgbClr val="ffffff"/>
            </a:gs>
            <a:gs pos="100000">
              <a:srgbClr val="ff00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K-means Cluster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Notes on Cluster Index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I = 0    when all data at cluster mea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I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mal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when             gives tight cluster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(within SS contains little variation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I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i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when             gives poor cluster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(within SS contains most of variation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I = 1    when all cluster means are sa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1" name="Object 6"/>
              <p:cNvSpPr txBox="1"/>
              <p:nvPr/>
            </p:nvSpPr>
            <p:spPr>
              <a:xfrm>
                <a:off x="4114800" y="1066680"/>
                <a:ext cx="4702320" cy="190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I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⋯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K</m:t>
                            </m:r>
                          </m:sup>
                          <m:e/>
                        </m:nary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sub>
                          <m:sup/>
                          <m:e>
                            <m:sSup>
                              <m:e>
                                <m:d>
                                  <m:dPr>
                                    <m:begChr m:val="‖"/>
                                    <m:endChr m:val="‖"/>
                                  </m:dPr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</m:e>
                                    </m:acc>
                                    <m:r>
                                      <m:t xml:space="preserve">−</m:t>
                                    </m:r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sSub>
                                          <m:e>
                                            <m:acc>
                                              <m:accPr>
                                                <m:chr m:val="¯"/>
                                              </m:accPr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</m:acc>
                                          </m:e>
                                          <m:sub>
                                            <m:r>
                                              <m:t xml:space="preserve">j</m:t>
                                            </m:r>
                                          </m:sub>
                                        </m:sSub>
                                      </m:e>
                                    </m:acc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num>
                      <m:den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‖"/>
                                    <m:endChr m:val="‖"/>
                                  </m:dPr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</m:e>
                                    </m:acc>
                                    <m:r>
                                      <m:t xml:space="preserve">−</m:t>
                                    </m:r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acc>
                                          <m:accPr>
                                            <m:chr m:val="¯"/>
                                          </m:accPr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</m:acc>
                                      </m:e>
                                    </m:acc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" name="Object 4"/>
              <p:cNvSpPr txBox="1"/>
              <p:nvPr/>
            </p:nvSpPr>
            <p:spPr>
              <a:xfrm>
                <a:off x="3581280" y="3581280"/>
                <a:ext cx="129564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Object 4"/>
              <p:cNvSpPr txBox="1"/>
              <p:nvPr/>
            </p:nvSpPr>
            <p:spPr>
              <a:xfrm>
                <a:off x="3276720" y="4800600"/>
                <a:ext cx="1295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ff"/>
            </a:gs>
            <a:gs pos="50000">
              <a:srgbClr val="ffffff"/>
            </a:gs>
            <a:gs pos="100000">
              <a:srgbClr val="ff00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2-means Cluster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30" name="Picture 2" descr=""/>
          <p:cNvPicPr/>
          <p:nvPr/>
        </p:nvPicPr>
        <p:blipFill>
          <a:blip r:embed="rId1"/>
          <a:stretch/>
        </p:blipFill>
        <p:spPr>
          <a:xfrm>
            <a:off x="838080" y="1447920"/>
            <a:ext cx="746784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ff"/>
            </a:gs>
            <a:gs pos="50000">
              <a:srgbClr val="ffffff"/>
            </a:gs>
            <a:gs pos="100000">
              <a:srgbClr val="ff00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2-means Cluster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32" name="Picture 2" descr=""/>
          <p:cNvPicPr/>
          <p:nvPr/>
        </p:nvPicPr>
        <p:blipFill>
          <a:blip r:embed="rId1"/>
          <a:stretch/>
        </p:blipFill>
        <p:spPr>
          <a:xfrm>
            <a:off x="838080" y="1447920"/>
            <a:ext cx="746784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ff"/>
            </a:gs>
            <a:gs pos="50000">
              <a:srgbClr val="ffffff"/>
            </a:gs>
            <a:gs pos="100000">
              <a:srgbClr val="ff00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2-means Cluster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34" name="Picture 2" descr=""/>
          <p:cNvPicPr/>
          <p:nvPr/>
        </p:nvPicPr>
        <p:blipFill>
          <a:blip r:embed="rId1"/>
          <a:stretch/>
        </p:blipFill>
        <p:spPr>
          <a:xfrm>
            <a:off x="838080" y="1447920"/>
            <a:ext cx="746784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ff"/>
            </a:gs>
            <a:gs pos="50000">
              <a:srgbClr val="ffffff"/>
            </a:gs>
            <a:gs pos="100000">
              <a:srgbClr val="ff00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2-means Cluster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36" name="Picture 2" descr=""/>
          <p:cNvPicPr/>
          <p:nvPr/>
        </p:nvPicPr>
        <p:blipFill>
          <a:blip r:embed="rId1"/>
          <a:stretch/>
        </p:blipFill>
        <p:spPr>
          <a:xfrm>
            <a:off x="838080" y="1447920"/>
            <a:ext cx="746784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ff"/>
            </a:gs>
            <a:gs pos="50000">
              <a:srgbClr val="ffffff"/>
            </a:gs>
            <a:gs pos="100000">
              <a:srgbClr val="ff00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2-means Cluster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38" name="Picture 2" descr=""/>
          <p:cNvPicPr/>
          <p:nvPr/>
        </p:nvPicPr>
        <p:blipFill>
          <a:blip r:embed="rId1"/>
          <a:stretch/>
        </p:blipFill>
        <p:spPr>
          <a:xfrm>
            <a:off x="838080" y="1447920"/>
            <a:ext cx="746784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ff"/>
            </a:gs>
            <a:gs pos="50000">
              <a:srgbClr val="ffffff"/>
            </a:gs>
            <a:gs pos="100000">
              <a:srgbClr val="ff00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2-means Cluster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40" name="Picture 2" descr=""/>
          <p:cNvPicPr/>
          <p:nvPr/>
        </p:nvPicPr>
        <p:blipFill>
          <a:blip r:embed="rId1"/>
          <a:stretch/>
        </p:blipFill>
        <p:spPr>
          <a:xfrm>
            <a:off x="838080" y="1447920"/>
            <a:ext cx="746784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ff"/>
            </a:gs>
            <a:gs pos="50000">
              <a:srgbClr val="ffffff"/>
            </a:gs>
            <a:gs pos="100000">
              <a:srgbClr val="ff00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2-means Cluster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42" name="Picture 2" descr=""/>
          <p:cNvPicPr/>
          <p:nvPr/>
        </p:nvPicPr>
        <p:blipFill>
          <a:blip r:embed="rId1"/>
          <a:stretch/>
        </p:blipFill>
        <p:spPr>
          <a:xfrm>
            <a:off x="838080" y="1447920"/>
            <a:ext cx="746784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ff"/>
            </a:gs>
            <a:gs pos="50000">
              <a:srgbClr val="ffffff"/>
            </a:gs>
            <a:gs pos="100000">
              <a:srgbClr val="ff00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2-means Cluster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44" name="Picture 2" descr=""/>
          <p:cNvPicPr/>
          <p:nvPr/>
        </p:nvPicPr>
        <p:blipFill>
          <a:blip r:embed="rId1"/>
          <a:stretch/>
        </p:blipFill>
        <p:spPr>
          <a:xfrm>
            <a:off x="838080" y="1447920"/>
            <a:ext cx="746784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ff"/>
            </a:gs>
            <a:gs pos="50000">
              <a:srgbClr val="ffffff"/>
            </a:gs>
            <a:gs pos="100000">
              <a:srgbClr val="ff00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2-means Cluster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tudy CI, using simple 1-d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Over changing Classes (moving b’dry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ulti-modal data  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 interesting effec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ultiple local minima (large number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ybe disconnec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ptimization  (over                ) can be tricky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(even in 1 dimension, with K = 2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Object 2"/>
              <p:cNvSpPr txBox="1"/>
              <p:nvPr/>
            </p:nvSpPr>
            <p:spPr>
              <a:xfrm>
                <a:off x="4495680" y="5334120"/>
                <a:ext cx="129564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ff"/>
            </a:gs>
            <a:gs pos="50000">
              <a:srgbClr val="ffffff"/>
            </a:gs>
            <a:gs pos="100000">
              <a:srgbClr val="ff00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2-means Cluster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49" name="Picture 2" descr=""/>
          <p:cNvPicPr/>
          <p:nvPr/>
        </p:nvPicPr>
        <p:blipFill>
          <a:blip r:embed="rId1"/>
          <a:stretch/>
        </p:blipFill>
        <p:spPr>
          <a:xfrm>
            <a:off x="838080" y="1447920"/>
            <a:ext cx="746784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ff"/>
            </a:gs>
            <a:gs pos="50000">
              <a:srgbClr val="ffffff"/>
            </a:gs>
            <a:gs pos="100000">
              <a:srgbClr val="ff00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K-means Cluster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lustering Goal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Given data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hoose clas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 miminiz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6" name="Object 5"/>
              <p:cNvSpPr txBox="1"/>
              <p:nvPr/>
            </p:nvSpPr>
            <p:spPr>
              <a:xfrm>
                <a:off x="4191120" y="3048120"/>
                <a:ext cx="142848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" name="Object 2"/>
              <p:cNvSpPr txBox="1"/>
              <p:nvPr/>
            </p:nvSpPr>
            <p:spPr>
              <a:xfrm>
                <a:off x="3276720" y="2133720"/>
                <a:ext cx="1604880" cy="62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acc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" name="Object 6"/>
              <p:cNvSpPr txBox="1"/>
              <p:nvPr/>
            </p:nvSpPr>
            <p:spPr>
              <a:xfrm>
                <a:off x="3581280" y="4114800"/>
                <a:ext cx="4702320" cy="190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I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⋯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K</m:t>
                            </m:r>
                          </m:sup>
                          <m:e/>
                        </m:nary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sub>
                          <m:sup/>
                          <m:e>
                            <m:sSup>
                              <m:e>
                                <m:d>
                                  <m:dPr>
                                    <m:begChr m:val="‖"/>
                                    <m:endChr m:val="‖"/>
                                  </m:dPr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</m:e>
                                    </m:acc>
                                    <m:r>
                                      <m:t xml:space="preserve">−</m:t>
                                    </m:r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sSub>
                                          <m:e>
                                            <m:acc>
                                              <m:accPr>
                                                <m:chr m:val="¯"/>
                                              </m:accPr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</m:acc>
                                          </m:e>
                                          <m:sub>
                                            <m:r>
                                              <m:t xml:space="preserve">j</m:t>
                                            </m:r>
                                          </m:sub>
                                        </m:sSub>
                                      </m:e>
                                    </m:acc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num>
                      <m:den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‖"/>
                                    <m:endChr m:val="‖"/>
                                  </m:dPr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</m:e>
                                    </m:acc>
                                    <m:r>
                                      <m:t xml:space="preserve">−</m:t>
                                    </m:r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acc>
                                          <m:accPr>
                                            <m:chr m:val="¯"/>
                                          </m:accPr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</m:acc>
                                      </m:e>
                                    </m:acc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ff"/>
            </a:gs>
            <a:gs pos="50000">
              <a:srgbClr val="ffffff"/>
            </a:gs>
            <a:gs pos="100000">
              <a:srgbClr val="ff00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2-means Cluster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tudy CI, using simple 1-d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Over changing Classes (moving b’dry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ulti-modal data  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 interesting effec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an have 4 (or more) local mi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(even in 1 dimension, with K = 2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ff"/>
            </a:gs>
            <a:gs pos="50000">
              <a:srgbClr val="ffffff"/>
            </a:gs>
            <a:gs pos="100000">
              <a:srgbClr val="ff00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2-means Cluster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53" name="Picture 2" descr=""/>
          <p:cNvPicPr/>
          <p:nvPr/>
        </p:nvPicPr>
        <p:blipFill>
          <a:blip r:embed="rId1"/>
          <a:stretch/>
        </p:blipFill>
        <p:spPr>
          <a:xfrm>
            <a:off x="838080" y="1447920"/>
            <a:ext cx="746784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ff"/>
            </a:gs>
            <a:gs pos="50000">
              <a:srgbClr val="ffffff"/>
            </a:gs>
            <a:gs pos="100000">
              <a:srgbClr val="ff00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2-means Cluster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tudy CI, using simple 1-d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Over changing Classes (moving b’dry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ulti-modal data  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 interesting effec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Local mins can b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ard to fin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.e. iterative procedures can “get stuck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(even in 1 dimension, with K = 2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ff"/>
            </a:gs>
            <a:gs pos="50000">
              <a:srgbClr val="ffffff"/>
            </a:gs>
            <a:gs pos="100000">
              <a:srgbClr val="ff00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2-means Cluster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tudy CI, using simple 1-d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ffect of a singl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outli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ff"/>
            </a:gs>
            <a:gs pos="50000">
              <a:srgbClr val="ffffff"/>
            </a:gs>
            <a:gs pos="100000">
              <a:srgbClr val="ff00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68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2-means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Gulim"/>
              </a:rPr>
              <a:t>Cluster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59" name="Picture 2" descr=""/>
          <p:cNvPicPr/>
          <p:nvPr/>
        </p:nvPicPr>
        <p:blipFill>
          <a:blip r:embed="rId1"/>
          <a:stretch/>
        </p:blipFill>
        <p:spPr>
          <a:xfrm>
            <a:off x="838080" y="1447920"/>
            <a:ext cx="746784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ff"/>
            </a:gs>
            <a:gs pos="50000">
              <a:srgbClr val="ffffff"/>
            </a:gs>
            <a:gs pos="100000">
              <a:srgbClr val="ff00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68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2-means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Gulim"/>
              </a:rPr>
              <a:t>Cluster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61" name="Picture 2" descr=""/>
          <p:cNvPicPr/>
          <p:nvPr/>
        </p:nvPicPr>
        <p:blipFill>
          <a:blip r:embed="rId1"/>
          <a:stretch/>
        </p:blipFill>
        <p:spPr>
          <a:xfrm>
            <a:off x="838080" y="1447920"/>
            <a:ext cx="746784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ff"/>
            </a:gs>
            <a:gs pos="50000">
              <a:srgbClr val="ffffff"/>
            </a:gs>
            <a:gs pos="100000">
              <a:srgbClr val="ff00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68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2-means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Gulim"/>
              </a:rPr>
              <a:t>Cluster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838080" y="1447920"/>
            <a:ext cx="746784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ff"/>
            </a:gs>
            <a:gs pos="50000">
              <a:srgbClr val="ffffff"/>
            </a:gs>
            <a:gs pos="100000">
              <a:srgbClr val="ff00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68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2-means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Gulim"/>
              </a:rPr>
              <a:t>Cluster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65" name="Picture 2" descr=""/>
          <p:cNvPicPr/>
          <p:nvPr/>
        </p:nvPicPr>
        <p:blipFill>
          <a:blip r:embed="rId1"/>
          <a:stretch/>
        </p:blipFill>
        <p:spPr>
          <a:xfrm>
            <a:off x="838080" y="1447920"/>
            <a:ext cx="746784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ff"/>
            </a:gs>
            <a:gs pos="50000">
              <a:srgbClr val="ffffff"/>
            </a:gs>
            <a:gs pos="100000">
              <a:srgbClr val="ff00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68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2-means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Gulim"/>
              </a:rPr>
              <a:t>Cluster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67" name="Picture 2" descr=""/>
          <p:cNvPicPr/>
          <p:nvPr/>
        </p:nvPicPr>
        <p:blipFill>
          <a:blip r:embed="rId1"/>
          <a:stretch/>
        </p:blipFill>
        <p:spPr>
          <a:xfrm>
            <a:off x="838080" y="1447920"/>
            <a:ext cx="746784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ff"/>
            </a:gs>
            <a:gs pos="50000">
              <a:srgbClr val="ffffff"/>
            </a:gs>
            <a:gs pos="100000">
              <a:srgbClr val="ff00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68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2-means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Gulim"/>
              </a:rPr>
              <a:t>Cluster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69" name="Picture 2" descr=""/>
          <p:cNvPicPr/>
          <p:nvPr/>
        </p:nvPicPr>
        <p:blipFill>
          <a:blip r:embed="rId1"/>
          <a:stretch/>
        </p:blipFill>
        <p:spPr>
          <a:xfrm>
            <a:off x="838080" y="1447920"/>
            <a:ext cx="746784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ff"/>
            </a:gs>
            <a:gs pos="50000">
              <a:srgbClr val="ffffff"/>
            </a:gs>
            <a:gs pos="100000">
              <a:srgbClr val="ff00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2-means Cluster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tudy CI, using simple 1-d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Varying Standard Devi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ff"/>
            </a:gs>
            <a:gs pos="50000">
              <a:srgbClr val="ffffff"/>
            </a:gs>
            <a:gs pos="100000">
              <a:srgbClr val="ff00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68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2-means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Gulim"/>
              </a:rPr>
              <a:t>Cluster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71" name="Picture 2" descr=""/>
          <p:cNvPicPr/>
          <p:nvPr/>
        </p:nvPicPr>
        <p:blipFill>
          <a:blip r:embed="rId1"/>
          <a:stretch/>
        </p:blipFill>
        <p:spPr>
          <a:xfrm>
            <a:off x="838080" y="1447920"/>
            <a:ext cx="746784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ff"/>
            </a:gs>
            <a:gs pos="50000">
              <a:srgbClr val="ffffff"/>
            </a:gs>
            <a:gs pos="100000">
              <a:srgbClr val="ff00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68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2-means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Gulim"/>
              </a:rPr>
              <a:t>Cluster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73" name="Picture 2" descr=""/>
          <p:cNvPicPr/>
          <p:nvPr/>
        </p:nvPicPr>
        <p:blipFill>
          <a:blip r:embed="rId1"/>
          <a:stretch/>
        </p:blipFill>
        <p:spPr>
          <a:xfrm>
            <a:off x="838080" y="1447920"/>
            <a:ext cx="746784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ff"/>
            </a:gs>
            <a:gs pos="50000">
              <a:srgbClr val="ffffff"/>
            </a:gs>
            <a:gs pos="100000">
              <a:srgbClr val="ff00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68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2-means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Gulim"/>
              </a:rPr>
              <a:t>Cluster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75" name="Picture 2" descr=""/>
          <p:cNvPicPr/>
          <p:nvPr/>
        </p:nvPicPr>
        <p:blipFill>
          <a:blip r:embed="rId1"/>
          <a:stretch/>
        </p:blipFill>
        <p:spPr>
          <a:xfrm>
            <a:off x="838080" y="1447920"/>
            <a:ext cx="746784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ff"/>
            </a:gs>
            <a:gs pos="50000">
              <a:srgbClr val="ffffff"/>
            </a:gs>
            <a:gs pos="100000">
              <a:srgbClr val="ff00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68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2-means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Gulim"/>
              </a:rPr>
              <a:t>Cluster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77" name="Picture 2" descr=""/>
          <p:cNvPicPr/>
          <p:nvPr/>
        </p:nvPicPr>
        <p:blipFill>
          <a:blip r:embed="rId1"/>
          <a:stretch/>
        </p:blipFill>
        <p:spPr>
          <a:xfrm>
            <a:off x="838080" y="1447920"/>
            <a:ext cx="746784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ff"/>
            </a:gs>
            <a:gs pos="50000">
              <a:srgbClr val="ffffff"/>
            </a:gs>
            <a:gs pos="100000">
              <a:srgbClr val="ff00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68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2-means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Gulim"/>
              </a:rPr>
              <a:t>Cluster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79" name="Picture 2" descr=""/>
          <p:cNvPicPr/>
          <p:nvPr/>
        </p:nvPicPr>
        <p:blipFill>
          <a:blip r:embed="rId1"/>
          <a:stretch/>
        </p:blipFill>
        <p:spPr>
          <a:xfrm>
            <a:off x="838080" y="1447920"/>
            <a:ext cx="746784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ff"/>
            </a:gs>
            <a:gs pos="50000">
              <a:srgbClr val="ffffff"/>
            </a:gs>
            <a:gs pos="100000">
              <a:srgbClr val="ff00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2-means Cluster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tudy CI, using simple 1-d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ffect of a singl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outli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an cre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loc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minim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an also yield 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lob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minim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is gives a one point cla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an make CI arbitrarily smal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 algn="ctr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really a “good clustering”???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50000">
              <a:srgbClr val="ffffff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Gulim"/>
              </a:rPr>
              <a:t>SigClus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6108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Gulim"/>
              </a:rPr>
              <a:t>Statistical </a:t>
            </a:r>
            <a:r>
              <a:rPr b="0" lang="en-US" sz="3600" spc="-1" strike="noStrike">
                <a:solidFill>
                  <a:srgbClr val="3333ff"/>
                </a:solidFill>
                <a:latin typeface="Arial"/>
                <a:ea typeface="Gulim"/>
              </a:rPr>
              <a:t>Sig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Gulim"/>
              </a:rPr>
              <a:t>nificance of </a:t>
            </a:r>
            <a:r>
              <a:rPr b="0" lang="en-US" sz="3600" spc="-1" strike="noStrike">
                <a:solidFill>
                  <a:srgbClr val="3333ff"/>
                </a:solidFill>
                <a:latin typeface="Arial"/>
                <a:ea typeface="Gulim"/>
              </a:rPr>
              <a:t>Clust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Gulim"/>
              </a:rPr>
              <a:t>er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Gulim"/>
              </a:rPr>
              <a:t>in </a:t>
            </a:r>
            <a:r>
              <a:rPr b="0" lang="en-US" sz="3600" spc="-1" strike="noStrike">
                <a:solidFill>
                  <a:srgbClr val="00ff00"/>
                </a:solidFill>
                <a:latin typeface="Arial"/>
                <a:ea typeface="Gulim"/>
              </a:rPr>
              <a:t>HDLS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Gulim"/>
              </a:rPr>
              <a:t> Dat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Gulim"/>
              </a:rPr>
              <a:t>When is a cluster “really there”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50000">
              <a:srgbClr val="ffffff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Gulim"/>
              </a:rPr>
              <a:t>SigClus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86108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Co-author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Andrew Nobel – UNC Statistics &amp; 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C. M. Perou – UNC Geneti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D. N. Hayes – UNC Oncolog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Yufeng Liu – UNC Statistics &amp; 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50000">
              <a:srgbClr val="ffffff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3059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Gulim"/>
              </a:rPr>
              <a:t>Common Microarray Analytic Approach:  Cluster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87" name="Picture 3" descr=""/>
          <p:cNvPicPr/>
          <p:nvPr/>
        </p:nvPicPr>
        <p:blipFill>
          <a:blip r:embed="rId1"/>
          <a:srcRect l="10516" t="20596" r="4507" b="4577"/>
          <a:stretch/>
        </p:blipFill>
        <p:spPr>
          <a:xfrm>
            <a:off x="3809880" y="1371600"/>
            <a:ext cx="5172120" cy="5979960"/>
          </a:xfrm>
          <a:prstGeom prst="rect">
            <a:avLst/>
          </a:prstGeom>
          <a:ln w="0">
            <a:noFill/>
          </a:ln>
        </p:spPr>
      </p:pic>
      <p:sp>
        <p:nvSpPr>
          <p:cNvPr id="288" name="TextBox 5"/>
          <p:cNvSpPr/>
          <p:nvPr/>
        </p:nvSpPr>
        <p:spPr>
          <a:xfrm>
            <a:off x="410760" y="1676520"/>
            <a:ext cx="30106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: Perou, Brown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tstein (2000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olecular Medic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oda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 = 116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ge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oomed to “relevant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 subse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89" name="Straight Arrow Connector 7"/>
          <p:cNvCxnSpPr/>
          <p:nvPr/>
        </p:nvCxnSpPr>
        <p:spPr>
          <a:xfrm flipV="1">
            <a:off x="2743200" y="2285640"/>
            <a:ext cx="1448640" cy="1829520"/>
          </a:xfrm>
          <a:prstGeom prst="straightConnector1">
            <a:avLst/>
          </a:prstGeom>
          <a:ln w="9360">
            <a:solidFill>
              <a:srgbClr val="ff00ff"/>
            </a:solidFill>
            <a:miter/>
            <a:tailEnd len="med" type="arrow" w="med"/>
          </a:ln>
        </p:spPr>
      </p:cxnSp>
      <p:cxnSp>
        <p:nvCxnSpPr>
          <p:cNvPr id="290" name="Straight Arrow Connector 8"/>
          <p:cNvCxnSpPr/>
          <p:nvPr/>
        </p:nvCxnSpPr>
        <p:spPr>
          <a:xfrm>
            <a:off x="2742120" y="4114440"/>
            <a:ext cx="1220040" cy="2591640"/>
          </a:xfrm>
          <a:prstGeom prst="straightConnector1">
            <a:avLst/>
          </a:prstGeom>
          <a:ln w="9360">
            <a:solidFill>
              <a:srgbClr val="ff00ff"/>
            </a:solidFill>
            <a:miter/>
            <a:tailEnd len="med" type="arrow" w="med"/>
          </a:ln>
        </p:spPr>
      </p:cxnSp>
      <p:sp>
        <p:nvSpPr>
          <p:cNvPr id="291" name="Straight Connector 12"/>
          <p:cNvSpPr/>
          <p:nvPr/>
        </p:nvSpPr>
        <p:spPr>
          <a:xfrm flipV="1">
            <a:off x="2362320" y="2590560"/>
            <a:ext cx="1828800" cy="297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Straight Connector 13"/>
          <p:cNvSpPr/>
          <p:nvPr/>
        </p:nvSpPr>
        <p:spPr>
          <a:xfrm flipH="1" flipV="1">
            <a:off x="4191120" y="2590920"/>
            <a:ext cx="2666880" cy="2666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Straight Connector 14"/>
          <p:cNvSpPr/>
          <p:nvPr/>
        </p:nvSpPr>
        <p:spPr>
          <a:xfrm flipV="1">
            <a:off x="4191120" y="2438280"/>
            <a:ext cx="266688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Straight Connector 15"/>
          <p:cNvSpPr/>
          <p:nvPr/>
        </p:nvSpPr>
        <p:spPr>
          <a:xfrm>
            <a:off x="4191120" y="5029200"/>
            <a:ext cx="266688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Straight Connector 16"/>
          <p:cNvSpPr/>
          <p:nvPr/>
        </p:nvSpPr>
        <p:spPr>
          <a:xfrm>
            <a:off x="4191120" y="5029200"/>
            <a:ext cx="26668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Straight Connector 17"/>
          <p:cNvSpPr/>
          <p:nvPr/>
        </p:nvSpPr>
        <p:spPr>
          <a:xfrm flipV="1">
            <a:off x="2362320" y="5029200"/>
            <a:ext cx="182880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50000">
              <a:srgbClr val="ffffff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75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Gulim"/>
              </a:rPr>
              <a:t>Interesting Statistical Proble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6108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Gulim"/>
              </a:rPr>
              <a:t>For </a:t>
            </a:r>
            <a:r>
              <a:rPr b="0" lang="en-US" sz="3600" spc="-1" strike="noStrike">
                <a:solidFill>
                  <a:srgbClr val="00ff00"/>
                </a:solidFill>
                <a:latin typeface="Arial"/>
                <a:ea typeface="Gulim"/>
              </a:rPr>
              <a:t>HDLS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Gulim"/>
              </a:rPr>
              <a:t> data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When cluster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see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 to appea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Gulim"/>
              </a:rPr>
              <a:t>E.g. found by clustering metho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How do we know they ar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really the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Gulim"/>
              </a:rPr>
              <a:t>Question asked by Neil Ha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Gulim"/>
              </a:rPr>
              <a:t>Define appropriate statistical significanc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Gulim"/>
              </a:rPr>
              <a:t>Can we calculate it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ff"/>
            </a:gs>
            <a:gs pos="50000">
              <a:srgbClr val="ffffff"/>
            </a:gs>
            <a:gs pos="100000">
              <a:srgbClr val="ff00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2-means Cluster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82" name="Picture 2" descr=""/>
          <p:cNvPicPr/>
          <p:nvPr/>
        </p:nvPicPr>
        <p:blipFill>
          <a:blip r:embed="rId1"/>
          <a:stretch/>
        </p:blipFill>
        <p:spPr>
          <a:xfrm>
            <a:off x="838080" y="1447920"/>
            <a:ext cx="746784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50000">
              <a:srgbClr val="ffffff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75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Gulim"/>
              </a:rPr>
              <a:t>First Approaches:   Hypo Test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86108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Gulim"/>
              </a:rPr>
              <a:t>e.g.  </a:t>
            </a:r>
            <a:r>
              <a:rPr b="0" lang="en-US" sz="3600" spc="-1" strike="noStrike">
                <a:solidFill>
                  <a:srgbClr val="3333ff"/>
                </a:solidFill>
                <a:latin typeface="Arial"/>
                <a:ea typeface="Gulim"/>
              </a:rPr>
              <a:t>Di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Gulim"/>
              </a:rPr>
              <a:t>rection, </a:t>
            </a:r>
            <a:r>
              <a:rPr b="0" lang="en-US" sz="3600" spc="-1" strike="noStrike">
                <a:solidFill>
                  <a:srgbClr val="3333ff"/>
                </a:solidFill>
                <a:latin typeface="Arial"/>
                <a:ea typeface="Gulim"/>
              </a:rPr>
              <a:t>Pro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Gulim"/>
              </a:rPr>
              <a:t>jection, </a:t>
            </a:r>
            <a:r>
              <a:rPr b="0" lang="en-US" sz="3600" spc="-1" strike="noStrike">
                <a:solidFill>
                  <a:srgbClr val="3333ff"/>
                </a:solidFill>
                <a:latin typeface="Arial"/>
                <a:ea typeface="Gulim"/>
              </a:rPr>
              <a:t>Perm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Gulim"/>
              </a:rPr>
              <a:t>utation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Hypothesis test of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Significant differenc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between sub-popul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Effective and Accura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I.e. Sensitive and Specifi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There exist several such tes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But critical point i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What result implies about clust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50000">
              <a:srgbClr val="ffffff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076960" cy="68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Gulim"/>
              </a:rPr>
              <a:t>Clarifying Simple Exampl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86108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Gulim"/>
              </a:rPr>
              <a:t>Why 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Gulim"/>
              </a:rPr>
              <a:t>Population Difference Test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Gulim"/>
              </a:rPr>
              <a:t> cannot indicate clusterin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Gulim"/>
              </a:rPr>
              <a:t>Andrew Nobel Observ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Gulim"/>
              </a:rPr>
              <a:t>For 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Gulim"/>
              </a:rPr>
              <a:t>Gaussian Data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Gulim"/>
              </a:rPr>
              <a:t>(Clearly 1 Cluster!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Gulim"/>
              </a:rPr>
              <a:t>Assign Extreme Labels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Gulim"/>
              </a:rPr>
              <a:t>(e.g. by clustering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Gulim"/>
              </a:rPr>
              <a:t>Subpopulations are 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Gulim"/>
              </a:rPr>
              <a:t>signif’ly differen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50000">
              <a:srgbClr val="ffffff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752976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Gulim"/>
              </a:rPr>
              <a:t>Simple Gaussian Exampl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380520" y="3962520"/>
            <a:ext cx="8458200" cy="25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Clearly only 1 Cluster in this Examp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But Extreme Relabelling looks differ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Extreme T-stat strongly significa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Indicates 2 clusters in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5" name="Picture 4" descr=""/>
          <p:cNvPicPr/>
          <p:nvPr/>
        </p:nvPicPr>
        <p:blipFill>
          <a:blip r:embed="rId1"/>
          <a:srcRect l="9813" t="5052" r="11598" b="49259"/>
          <a:stretch/>
        </p:blipFill>
        <p:spPr>
          <a:xfrm>
            <a:off x="1295280" y="1295280"/>
            <a:ext cx="6782040" cy="2784600"/>
          </a:xfrm>
          <a:prstGeom prst="rect">
            <a:avLst/>
          </a:prstGeom>
          <a:ln w="0">
            <a:noFill/>
          </a:ln>
        </p:spPr>
      </p:pic>
      <p:sp>
        <p:nvSpPr>
          <p:cNvPr id="306" name="Line 5"/>
          <p:cNvSpPr/>
          <p:nvPr/>
        </p:nvSpPr>
        <p:spPr>
          <a:xfrm flipV="1">
            <a:off x="5105520" y="2133720"/>
            <a:ext cx="1828800" cy="3124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50000">
              <a:srgbClr val="ffffff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761760" y="228600"/>
            <a:ext cx="76057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Gulim"/>
              </a:rPr>
              <a:t>Simple Gaussian Exampl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Result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Random relabelling 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  <a:ea typeface="Gulim"/>
              </a:rPr>
              <a:t>T-sta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 i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not significa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But extreme </a:t>
            </a:r>
            <a:r>
              <a:rPr b="0" lang="en-US" sz="3200" spc="-1" strike="noStrike">
                <a:solidFill>
                  <a:srgbClr val="ff00ff"/>
                </a:solidFill>
                <a:latin typeface="Arial"/>
                <a:ea typeface="Gulim"/>
              </a:rPr>
              <a:t>T-sta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 i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strongly significa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This comes from clustering oper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Conclud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sub-populations are differ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Now see that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Gulim"/>
              </a:rPr>
              <a:t>Not the sam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 a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clusters really the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Need a new approach to study clust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50000">
              <a:srgbClr val="ffffff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36784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Gulim"/>
              </a:rPr>
              <a:t>Statistical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  <a:ea typeface="Gulim"/>
              </a:rPr>
              <a:t> </a:t>
            </a:r>
            <a:r>
              <a:rPr b="0" lang="en-US" sz="4400" spc="-1" strike="noStrike">
                <a:solidFill>
                  <a:srgbClr val="0000ff"/>
                </a:solidFill>
                <a:latin typeface="Arial"/>
                <a:ea typeface="Gulim"/>
              </a:rPr>
              <a:t>Sig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Gulim"/>
              </a:rPr>
              <a:t>nificance of </a:t>
            </a:r>
            <a:r>
              <a:rPr b="0" lang="en-US" sz="4400" spc="-1" strike="noStrike">
                <a:solidFill>
                  <a:srgbClr val="0000ff"/>
                </a:solidFill>
                <a:latin typeface="Arial"/>
                <a:ea typeface="Gulim"/>
              </a:rPr>
              <a:t>Clus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Gulim"/>
              </a:rPr>
              <a:t>er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Basis of SigClust Approach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What defines: 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A Clust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Gulim"/>
              </a:rPr>
              <a:t>A Gaussian distribution  (Sarle &amp; Kou 1993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So define SigClust test based o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Gulim"/>
              </a:rPr>
              <a:t>2-means cluster index (measure) a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Gulim"/>
              </a:rPr>
              <a:t>statisti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Gulim"/>
              </a:rPr>
              <a:t>Gaussia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Gulim"/>
              </a:rPr>
              <a:t> null distribu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Gulim"/>
              </a:rPr>
              <a:t>Currently compute by simul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Gulim"/>
              </a:rPr>
              <a:t>Possible to do this analytically??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50000">
              <a:srgbClr val="ffffff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83432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  <a:ea typeface="Gulim"/>
              </a:rPr>
              <a:t>SigClust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  <a:ea typeface="Gulim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Gulim"/>
              </a:rPr>
              <a:t>Statistic – 2-Means Cluster Index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Measure of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non-Gaussianit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2-means Cluster Inde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Familiar Criterion from k-means Cluster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Within Class Sum of Squared Distances to Class Mea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Prefer to divide (normalize) by Overall Sum of Squared Distances to Me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Puts on scale of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propor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50000">
              <a:srgbClr val="ffffff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29152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  <a:ea typeface="Gulim"/>
              </a:rPr>
              <a:t>SigClus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Gulim"/>
              </a:rPr>
              <a:t> Statistic – 2-Means Cluster Index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Measure of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non-Gaussianit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2-means Cluster Index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2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Class Index Sets                 Class Mea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2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Within Class Var’n”  / “Total Var’n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5" name="Object 2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16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45720" bIns="-457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17" name="Object 3"/>
          <p:cNvGraphicFramePr/>
          <p:nvPr/>
        </p:nvGraphicFramePr>
        <p:xfrm>
          <a:off x="2438280" y="2514600"/>
          <a:ext cx="4267440" cy="243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2514600"/>
                    <a:ext cx="4267440" cy="24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cxnSp>
        <p:nvCxnSpPr>
          <p:cNvPr id="319" name="Straight Arrow Connector 7"/>
          <p:cNvCxnSpPr/>
          <p:nvPr/>
        </p:nvCxnSpPr>
        <p:spPr>
          <a:xfrm flipV="1">
            <a:off x="3505320" y="3656880"/>
            <a:ext cx="762480" cy="1524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20" name="Straight Arrow Connector 8"/>
          <p:cNvCxnSpPr/>
          <p:nvPr/>
        </p:nvCxnSpPr>
        <p:spPr>
          <a:xfrm flipH="1" flipV="1">
            <a:off x="5942880" y="3123720"/>
            <a:ext cx="1981800" cy="2057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50000">
              <a:srgbClr val="ffffff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76312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  <a:ea typeface="Gulim"/>
              </a:rPr>
              <a:t>SigClust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  <a:ea typeface="Gulim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Gulim"/>
              </a:rPr>
              <a:t>Gaussian null distribut’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Which Gaussian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Standard (sphered) normal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Gulim"/>
              </a:rPr>
              <a:t>No, not realisti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Gulim"/>
              </a:rPr>
              <a:t>Rejec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Gulim"/>
              </a:rPr>
              <a:t>no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Gulim"/>
              </a:rPr>
              <a:t>  strong evidence for cluster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Gulim"/>
              </a:rPr>
              <a:t>Could also get that from a-spherical Gaussia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Need Gaussia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more like dat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Gulim"/>
              </a:rPr>
              <a:t>Challenge:  Parameter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Gulim"/>
              </a:rPr>
              <a:t>Recall </a:t>
            </a:r>
            <a:r>
              <a:rPr b="0" lang="en-US" sz="2800" spc="-1" strike="noStrike">
                <a:solidFill>
                  <a:srgbClr val="00ff00"/>
                </a:solidFill>
                <a:latin typeface="Arial"/>
                <a:ea typeface="Gulim"/>
              </a:rPr>
              <a:t>HDLS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Gulim"/>
              </a:rPr>
              <a:t> Contex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50000">
              <a:srgbClr val="ffffff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6868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  <a:ea typeface="Gulim"/>
              </a:rPr>
              <a:t>SigClus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Gulim"/>
              </a:rPr>
              <a:t> Gaussian null distribut’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4582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Estimated Mean (of Gaussian dist’n)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  <a:ea typeface="Gulim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 Key Idea:   Can ignore th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By appealing to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shift invarian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 of C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Gulim"/>
              </a:rPr>
              <a:t>When Data are (rigidly) shif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Gulim"/>
              </a:rPr>
              <a:t>CI remains the sa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So enough to simulate with mean 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Other uses of invariance idea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50000">
              <a:srgbClr val="ffffff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  <a:ea typeface="Gulim"/>
              </a:rPr>
              <a:t>SigClus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Gulim"/>
              </a:rPr>
              <a:t> Gaussian null distribut’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Challenge:  how to estimate cov. Matrix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Number of parameter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E.g. Perou 500 data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Dimen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s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But Sample Size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Impossible in 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  <a:ea typeface="Gulim"/>
              </a:rPr>
              <a:t>HDLS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 settings???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Way around this problem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7" name="Object 4"/>
              <p:cNvSpPr txBox="1"/>
              <p:nvPr/>
            </p:nvSpPr>
            <p:spPr>
              <a:xfrm>
                <a:off x="5410080" y="2209680"/>
                <a:ext cx="126684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t xml:space="preserve">d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8" name="Object 6"/>
              <p:cNvSpPr txBox="1"/>
              <p:nvPr/>
            </p:nvSpPr>
            <p:spPr>
              <a:xfrm>
                <a:off x="4648320" y="4724280"/>
                <a:ext cx="121896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3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9" name="Object 9"/>
              <p:cNvSpPr txBox="1"/>
              <p:nvPr/>
            </p:nvSpPr>
            <p:spPr>
              <a:xfrm>
                <a:off x="5486400" y="3733920"/>
                <a:ext cx="3457440" cy="88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t xml:space="preserve">d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6,797,97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0" name="Object 10"/>
              <p:cNvSpPr txBox="1"/>
              <p:nvPr/>
            </p:nvSpPr>
            <p:spPr>
              <a:xfrm>
                <a:off x="3505320" y="3581280"/>
                <a:ext cx="15271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9674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ff"/>
            </a:gs>
            <a:gs pos="50000">
              <a:srgbClr val="ffffff"/>
            </a:gs>
            <a:gs pos="100000">
              <a:srgbClr val="ff00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2-means Cluster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84" name="Picture 2" descr=""/>
          <p:cNvPicPr/>
          <p:nvPr/>
        </p:nvPicPr>
        <p:blipFill>
          <a:blip r:embed="rId1"/>
          <a:stretch/>
        </p:blipFill>
        <p:spPr>
          <a:xfrm>
            <a:off x="838080" y="1447920"/>
            <a:ext cx="746784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50000">
              <a:srgbClr val="ffffff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  <a:ea typeface="Gulim"/>
              </a:rPr>
              <a:t>SigClus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Gulim"/>
              </a:rPr>
              <a:t> Gaussian null distribut’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  <a:ea typeface="Gulim"/>
              </a:rPr>
              <a:t>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 Key Idea:    Mod Out Rot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Replace full Cov. by diagonal matri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As done in PCA eigen-analys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But then “not like data”??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OK, since k-means clustering (i.e. CI) 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rotation invaria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(assuming e.g. Euclidean Distanc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3" name="Object 7"/>
              <p:cNvSpPr txBox="1"/>
              <p:nvPr/>
            </p:nvSpPr>
            <p:spPr>
              <a:xfrm>
                <a:off x="3200400" y="3048120"/>
                <a:ext cx="228600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MDM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50000">
              <a:srgbClr val="ffffff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52012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  <a:ea typeface="Gulim"/>
              </a:rPr>
              <a:t>SigClus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Gulim"/>
              </a:rPr>
              <a:t> Gaussian null distribut’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  <a:ea typeface="Gulim"/>
              </a:rPr>
              <a:t>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 Key Idea:    Mod Out Rot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Only need to estimate diagonal matri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But still have 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  <a:ea typeface="Gulim"/>
              </a:rPr>
              <a:t>HDLS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 problem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E.g. Perou 500 data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Dimen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Sample Siz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Still need to estimate                  param’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6" name="Object 4"/>
              <p:cNvSpPr txBox="1"/>
              <p:nvPr/>
            </p:nvSpPr>
            <p:spPr>
              <a:xfrm>
                <a:off x="5029200" y="5638680"/>
                <a:ext cx="175248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967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7" name="Object 5"/>
              <p:cNvSpPr txBox="1"/>
              <p:nvPr/>
            </p:nvSpPr>
            <p:spPr>
              <a:xfrm>
                <a:off x="4191120" y="4906800"/>
                <a:ext cx="144756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3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8" name="Object 7"/>
              <p:cNvSpPr txBox="1"/>
              <p:nvPr/>
            </p:nvSpPr>
            <p:spPr>
              <a:xfrm>
                <a:off x="3962520" y="4230720"/>
                <a:ext cx="16761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9674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50000">
              <a:srgbClr val="ffffff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52012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  <a:ea typeface="Gulim"/>
              </a:rPr>
              <a:t>SigClus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Gulim"/>
              </a:rPr>
              <a:t> Gaussian null distribut’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  <a:ea typeface="Gulim"/>
              </a:rPr>
              <a:t>r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 Key Idea:   Factor Analysis Mod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Model Covariance as:    Biology + Noi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Wher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is “fairly low dimensional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is estimated from background noi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1" name="Object 4"/>
              <p:cNvSpPr txBox="1"/>
              <p:nvPr/>
            </p:nvSpPr>
            <p:spPr>
              <a:xfrm>
                <a:off x="1143000" y="5486400"/>
                <a:ext cx="620640" cy="66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2" name="Object 5"/>
              <p:cNvSpPr txBox="1"/>
              <p:nvPr/>
            </p:nvSpPr>
            <p:spPr>
              <a:xfrm>
                <a:off x="1143000" y="4876920"/>
                <a:ext cx="565200" cy="58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3" name="Object 6"/>
              <p:cNvSpPr txBox="1"/>
              <p:nvPr/>
            </p:nvSpPr>
            <p:spPr>
              <a:xfrm>
                <a:off x="3228840" y="3095640"/>
                <a:ext cx="284004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×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50000">
              <a:srgbClr val="ffffff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44416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  <a:ea typeface="Gulim"/>
              </a:rPr>
              <a:t>SigClus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Gulim"/>
              </a:rPr>
              <a:t> Gaussian null distribut’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Estimation of Background Noise       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Reasonable model (for each gene)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Expression = Signal + Noi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noise” is roughly Gaussi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noise” terms essentially independ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(across gene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6" name="Object 4"/>
              <p:cNvSpPr txBox="1"/>
              <p:nvPr/>
            </p:nvSpPr>
            <p:spPr>
              <a:xfrm>
                <a:off x="6477120" y="1371600"/>
                <a:ext cx="620640" cy="66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50000">
              <a:srgbClr val="ffffff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52012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  <a:ea typeface="Gulim"/>
              </a:rPr>
              <a:t>SigClus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Gulim"/>
              </a:rPr>
              <a:t> Gaussian null distribut’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Estimation of Background Noise       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Model OK, sinc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data come from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light intensiti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at colored spo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9" name="Object 4"/>
              <p:cNvSpPr txBox="1"/>
              <p:nvPr/>
            </p:nvSpPr>
            <p:spPr>
              <a:xfrm>
                <a:off x="6477120" y="1371600"/>
                <a:ext cx="620640" cy="66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pic>
        <p:nvPicPr>
          <p:cNvPr id="350" name="Picture 3" descr="C:\Users\marron\Documents\Talks\GeneArray\Talk2001\MicroArray.jpg"/>
          <p:cNvPicPr/>
          <p:nvPr/>
        </p:nvPicPr>
        <p:blipFill>
          <a:blip r:embed="rId1"/>
          <a:stretch/>
        </p:blipFill>
        <p:spPr>
          <a:xfrm>
            <a:off x="4800600" y="2286000"/>
            <a:ext cx="4181400" cy="40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50000">
              <a:srgbClr val="ffffff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52012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  <a:ea typeface="Gulim"/>
              </a:rPr>
              <a:t>SigClus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Gulim"/>
              </a:rPr>
              <a:t> Gaussian null distribut’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Estimation of Background Noise       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For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al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 expression values (as number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Us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robust estimate of sca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Median Absolute Deviation (MAD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(from the median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Rescale to put on same scale as  s. d.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3" name="Object 4"/>
              <p:cNvSpPr txBox="1"/>
              <p:nvPr/>
            </p:nvSpPr>
            <p:spPr>
              <a:xfrm>
                <a:off x="6477120" y="1371600"/>
                <a:ext cx="620640" cy="66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4" name="Object 5"/>
              <p:cNvSpPr txBox="1"/>
              <p:nvPr/>
            </p:nvSpPr>
            <p:spPr>
              <a:xfrm>
                <a:off x="3352680" y="5410080"/>
                <a:ext cx="2819520" cy="130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σ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ata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D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(</m:t>
                            </m:r>
                            <m:r>
                              <m:t xml:space="preserve">0,1</m:t>
                            </m:r>
                            <m:r>
                              <m:t xml:space="preserve">)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50000">
              <a:srgbClr val="ffffff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  <a:ea typeface="Gulim"/>
              </a:rPr>
              <a:t>SigClus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Gulim"/>
              </a:rPr>
              <a:t> Estimation of Background Nois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356" name="Picture 9" descr=""/>
          <p:cNvPicPr/>
          <p:nvPr/>
        </p:nvPicPr>
        <p:blipFill>
          <a:blip r:embed="rId1"/>
          <a:srcRect l="7137" t="5052" r="7137" b="5052"/>
          <a:stretch/>
        </p:blipFill>
        <p:spPr>
          <a:xfrm>
            <a:off x="1077840" y="1300320"/>
            <a:ext cx="7446960" cy="55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50000">
              <a:srgbClr val="ffffff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44416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  <a:ea typeface="Gulim"/>
              </a:rPr>
              <a:t>SigClus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Gulim"/>
              </a:rPr>
              <a:t> Gaussian null distribut’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???  Next tim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Insert QQ plot stuff from 11-13-07 about he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50000">
              <a:srgbClr val="ffffff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  <a:ea typeface="Gulim"/>
              </a:rPr>
              <a:t>SigClus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Gulim"/>
              </a:rPr>
              <a:t> Estimation of Background Nois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360" name="Picture 3" descr=""/>
          <p:cNvPicPr/>
          <p:nvPr/>
        </p:nvPicPr>
        <p:blipFill>
          <a:blip r:embed="rId1"/>
          <a:srcRect l="7137" t="5052" r="7137" b="5052"/>
          <a:stretch/>
        </p:blipFill>
        <p:spPr>
          <a:xfrm>
            <a:off x="1077840" y="1300320"/>
            <a:ext cx="7446960" cy="55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50000">
              <a:srgbClr val="ffffff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  <a:ea typeface="Gulim"/>
              </a:rPr>
              <a:t>SigClus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Gulim"/>
              </a:rPr>
              <a:t> Estimation of Background Nois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362" name="Picture 3" descr=""/>
          <p:cNvPicPr/>
          <p:nvPr/>
        </p:nvPicPr>
        <p:blipFill>
          <a:blip r:embed="rId1"/>
          <a:srcRect l="7137" t="5052" r="7137" b="5052"/>
          <a:stretch/>
        </p:blipFill>
        <p:spPr>
          <a:xfrm>
            <a:off x="1077840" y="1300320"/>
            <a:ext cx="7446960" cy="55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ff"/>
            </a:gs>
            <a:gs pos="50000">
              <a:srgbClr val="ffffff"/>
            </a:gs>
            <a:gs pos="100000">
              <a:srgbClr val="ff00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2-means Cluster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tudy CI, using simple 1-d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Varying Standard Devi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Varying Me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ff"/>
            </a:gs>
            <a:gs pos="50000">
              <a:srgbClr val="ffffff"/>
            </a:gs>
            <a:gs pos="100000">
              <a:srgbClr val="ff00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2-means Cluster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88" name="Picture 2" descr=""/>
          <p:cNvPicPr/>
          <p:nvPr/>
        </p:nvPicPr>
        <p:blipFill>
          <a:blip r:embed="rId1"/>
          <a:stretch/>
        </p:blipFill>
        <p:spPr>
          <a:xfrm>
            <a:off x="838080" y="1447920"/>
            <a:ext cx="746784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08T01:38:43Z</dcterms:created>
  <dc:creator>Preferred Customer</dc:creator>
  <dc:description/>
  <dc:language>en-US</dc:language>
  <cp:lastModifiedBy>UNC</cp:lastModifiedBy>
  <dcterms:modified xsi:type="dcterms:W3CDTF">2007-11-13T14:12:26Z</dcterms:modified>
  <cp:revision>1258</cp:revision>
  <dc:subject/>
  <dc:title>Title</dc:title>
</cp:coreProperties>
</file>