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CBEC-8BE3-4BEB-BAB4-AEF844BC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5F1A-3653-4D29-9C91-1F13E3A96E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5FD-9D3D-44F2-A9E0-297DD3B3EA4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79E-7BEE-4449-8A8C-8AEAA9092D0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178D-E10B-409B-9808-D2601888BA8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7107-E766-4F2F-AA25-4E78A5265B6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042C-CE3F-4AA3-9955-B03FDC6222B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84D-FFD1-4E42-A773-32ED053A5FC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B0AB-7BE3-4D73-9681-753DE1EA986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4C5-2E48-439E-AC26-797E07EC81A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B81-E5F9-48BD-905E-9FD1BA154B1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2ACF-36E0-49BC-9630-811C3D4C66B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1B0-37BE-4610-8913-CE3F9E225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2944-78F3-4A97-9687-0AA0C6A1A99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3309-B79B-466B-B48A-22EC5244AF8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8D2E-A946-445C-9616-57D67FE2C35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D9F-D761-4BAC-9502-7D701833760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BA3-7869-46AF-B039-530E5E0019D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6E72-A621-483D-BC8A-11D82FDB49D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7EBC-8552-4D27-A8C3-ECF38D9ADCE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8A0E-8CF3-4EAF-85D6-41879B7CF47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358-E646-4CD9-8145-A267E0DB28E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8BE-3381-4668-94B1-E923AD0D40E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4BB2-5CA6-4BEE-B124-CA772BBF9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1C3-C619-46D0-AF52-DCEC6CC4E74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B0A-3F66-4471-B76E-CB5DAE98B60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6634-FC64-470D-803A-C4722275FAE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89DE-3841-4898-8965-9ED8B76F9D1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EF0-A7B9-494A-A58A-E38575CDEB7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FC3B-A371-4767-9B80-090A6673357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BA1-F607-49C4-BBB3-19635E0593C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95B2-16A0-41E7-9924-6EC8DB30807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213-4CD0-4FFD-98C3-74B5398D717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F339-A602-4A32-B51F-45D34DD4D80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874B-921B-4402-B740-4983000DB24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0FB7-FCA4-4351-AD40-713B9557A1C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789F-6F44-4A7B-9B0D-0386F65CAE9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4FD-DA6A-4919-B60B-29419F73EC9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E980-8997-4262-9608-F24B6DB42E3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59A-8079-4FB2-8BD8-506098757CA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4071-1350-4F92-9635-3ADE0DECED1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D78F-6822-443B-A7B0-832070BE339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765-AE49-4447-8AAA-B591ACD390E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058-1DF7-40CB-8835-10519A54055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E85-55FD-4B43-AFDE-11CE3EB62B7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E94-88C5-415C-8065-BFD080E771F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053D-22D6-4605-812D-A2C1FA9DD61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A82-5CE0-4226-9B14-B195D2E6BCC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EC39-0E3A-4F85-9B6D-F4D0E652B7D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4794-9386-46ED-87ED-1208D391AA9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0624-5FF1-4A69-B9FC-B0B2E80AA22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8E4E-121F-4DF3-AA0B-564AA20E5AD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0C7F-4CE1-4DBD-B433-E8B79548445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445D-0EF3-4966-8442-64F78B094C2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A4C9-5496-472F-BEC5-C019E67DE27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0DF-2BAC-405E-8EA0-71EBC77C734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9E5-CC7A-4F1D-B6CD-3BE68F3D3A3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C1A-2BAD-4B97-8D3B-9093EBFED90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CC0-5803-4C53-941B-19EF9478327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8917-1E73-475E-9DB0-5357DCA36C7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7AD6-5C17-441C-A80E-B60AE55B2AE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906-0AAC-443D-BE0A-0EEC4A07E43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726-5E43-4CBA-AF00-A347F1651D9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407-CF4F-4102-96B3-29A1293AC8E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70A7-01C6-445C-9B15-577040A0992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E24-EAE5-46FD-B3E8-5B95AA75AD4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96EA-281E-4820-A2A5-DA3333F428F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537-6616-451B-A7E9-9D6F9A1350E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595-8071-494B-90B8-13AE019A1B8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877-7797-46DB-9299-5E30920DDE0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4269-5E02-4734-89A8-60DEDAD4EF4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383D-7285-4338-B046-DDDAD796FD2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7A1F-ADC6-4CF3-B522-C0DDE2113AF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A41E-4D0B-4E7F-B3CB-3E13942E5A1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80A-4CAA-4C54-BC97-56FF47AE6DD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1584-7036-4AD8-AC71-974BA2313E4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FFFB-3CCD-498C-BAFA-2D219ABEB2E0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341-B479-4E91-9786-91590F31080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D3C-623C-4428-ABF1-47F749F1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2D3-DA85-4CEB-AC2F-8F71617B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F00-25CD-436D-8E2A-6FF5CB22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08D-D7B5-484C-9A2F-D7F9DB8F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F6E6-F945-43F1-AE8D-03A9AD11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6C3E-3DCD-4F02-8E88-7C8CAA4F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FBA7-9F7C-4013-AF65-E3C72D7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28A8-087D-4EFF-801C-CC35C2B8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5CD-1A03-455C-8E0D-C205ECE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44D-5D03-4A03-8912-039875C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2168-FF3B-4D33-8FA2-441F2CB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C4C-42A7-4B65-99DA-6D7818C8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3FE2-BEFE-4ACB-9CE8-0D62D87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ECE6-E3CA-41E2-9F8B-07ACF9D2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8A9-421A-431C-BA2D-77E553FE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6167-1863-4929-A0DA-61C5A399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3573-5F3B-4DEC-A19B-B05C4D7B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1C6-5514-4FAD-9316-F6211C14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87F-F104-4BB9-A24C-34B1979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2AF-BAD1-42DF-BD6F-6079911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0BB-9A7D-4E0C-9FD0-4A01E6F1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A83-7259-4341-912E-7B293B5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900-E12B-4B12-9A8D-D2995D4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E59-9761-4005-91F7-0234A5E8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79C-BD10-4586-940B-3E163A4B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932-8F1C-471F-A43F-DB35898E2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ify with Cluster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1-d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l mini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of out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Cl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are cluster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the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aussia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ul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Gaussian for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tt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91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tatistic – 2-Means Cluster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asur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-means Cluster Inde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ass Index Sets                 Class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in Class Var’n”  / “Total Var’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2438280" y="2514600"/>
          <a:ext cx="4267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14600"/>
                    <a:ext cx="4267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91" name="Straight Arrow Connector 7"/>
          <p:cNvCxnSpPr/>
          <p:nvPr/>
        </p:nvCxnSpPr>
        <p:spPr>
          <a:xfrm flipV="1">
            <a:off x="3505320" y="3656880"/>
            <a:ext cx="7624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Straight Arrow Connector 8"/>
          <p:cNvCxnSpPr/>
          <p:nvPr/>
        </p:nvCxnSpPr>
        <p:spPr>
          <a:xfrm flipH="1" flipV="1">
            <a:off x="5942880" y="3123720"/>
            <a:ext cx="198180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ed Mean (of Gaussian dist’n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Can ignore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y appeal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hift invari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of 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When data are (rigidly) shif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I remains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enough to simulate with mea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ther uses of invariance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hallenge:  how to estimate cov. Matri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umber of parame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Perou 50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Sample Siz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mpossible i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ettings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ay around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410080" y="2209680"/>
                <a:ext cx="1266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6"/>
              <p:cNvSpPr txBox="1"/>
              <p:nvPr/>
            </p:nvSpPr>
            <p:spPr>
              <a:xfrm>
                <a:off x="4648320" y="4724280"/>
                <a:ext cx="12189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5486400" y="3733920"/>
                <a:ext cx="34574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,797,9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0"/>
              <p:cNvSpPr txBox="1"/>
              <p:nvPr/>
            </p:nvSpPr>
            <p:spPr>
              <a:xfrm>
                <a:off x="3505320" y="3581280"/>
                <a:ext cx="1527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7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 Mod Out 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place full Cov. by diagonal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s done in PCA eigen-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then “not like data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K, since k-means clustering (i.e. CI)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ssuming e.g. Euclidean Dis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3200400" y="30481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 Mod Out 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nly need to estimate diagonal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still hav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roble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Perou 50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ill need to estimate                  param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4800600" y="5638680"/>
                <a:ext cx="1676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4191120" y="4906800"/>
                <a:ext cx="1447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962520" y="4230720"/>
                <a:ext cx="1676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7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Factor Analysi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Covariance as:    Biology +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“fairly low dimension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estimated from background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143000" y="54864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143000" y="4876920"/>
                <a:ext cx="5652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3228840" y="3095640"/>
                <a:ext cx="2840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444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sonable model (for each gen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ression = Signal +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” is roughly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” terms essentially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cross ge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OK, si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come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ight intens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t colored sp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220" name="Picture 3" descr="C:\Users\marron\Documents\Talks\GeneArray\Talk2001\MicroArray.jpg"/>
          <p:cNvPicPr/>
          <p:nvPr/>
        </p:nvPicPr>
        <p:blipFill>
          <a:blip r:embed="rId1"/>
          <a:stretch/>
        </p:blipFill>
        <p:spPr>
          <a:xfrm>
            <a:off x="4800600" y="2286000"/>
            <a:ext cx="4181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expression values (as numb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bust estimate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dian Absolute Deviation (M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from the med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cale to put on same scale as  s. d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3352680" y="5410080"/>
                <a:ext cx="28195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0,1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6" name="Picture 9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 asi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tting probability distributions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oes Gaussian distribution “fit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f not, why no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t in some part of the distrib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e.g. in the middle only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pproach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tting probability distributions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rawbacks:   often not best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for determining goodness of f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mple Toy Example,   non-Gaussia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mple Toy Example,   non-Gaussian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mple Toy Example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mple Toy Example,   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imodal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see non-Gaussian with hi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ther cases:    hard to 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istogram poor at assessing Gauss’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 any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,   non-Gaussia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(undersmoothed)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(oversmoothed)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,   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istogram poor at assessing Gauss’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ernel density estimate any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nfortunately doesn’t seem to 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lly need a better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teresting to compare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t by Maximum Likelihood (avg. &amp; s.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vs. Max. Lik. Gaussian Fit,   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vs. Max. Lik. Gaussian Fit,   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ooks O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any might think so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range featu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eak higher than Gaussian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Usually lower, due to smoothing b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uggests non-Gaussia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re to conclude non-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vs. Max. Lik. Gaussian Fit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vs. Max. Lik. Gaussian Fit,  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bstantially mor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Because of smaller sampl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eak is lower than Gaussian 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onsistent with Gaussia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eak view for assessing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vs. Max. Lik. Gauss.,   non-Gaussian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vs. Max. Lik. Gau’n Fit, non-Gaussian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ill have large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peak clearly way too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ms can conclude non-Gaussia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KDE poor for assessing Gaussian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about a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바탕"/>
              </a:rPr>
              <a:t>Si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바탕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pproac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바탕"/>
              </a:rPr>
              <a:t>Si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바탕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nalysis,   non-Gaussian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바탕"/>
              </a:rPr>
              <a:t>Si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바탕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nalysis,   non-Gaussian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an only find one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sistent with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no guaran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lti-modal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non-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converse is not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바탕"/>
              </a:rPr>
              <a:t>Si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바탕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s good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finding multi-mod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바탕"/>
              </a:rPr>
              <a:t>Si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바탕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s poor 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hecking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ndard approach to checking Gaussia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Q – pl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ckground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raphical Goodness of 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isher (198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ckground:  Graphical Goodness of 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sis:  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umulative Distribution Function  (CDF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bability quantile not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"probability”          and "quantile"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2971800" y="3200400"/>
                <a:ext cx="3187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3"/>
              <p:cNvSpPr txBox="1"/>
              <p:nvPr/>
            </p:nvSpPr>
            <p:spPr>
              <a:xfrm>
                <a:off x="3657600" y="4952880"/>
                <a:ext cx="463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7391520" y="4876920"/>
                <a:ext cx="385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2286000" y="5715000"/>
                <a:ext cx="1773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5105520" y="5638680"/>
                <a:ext cx="212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ability quantile nota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"probability”          and "quantil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us          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ntile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676520" y="4038480"/>
                <a:ext cx="777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3733920" y="1828800"/>
                <a:ext cx="463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7391520" y="1828800"/>
                <a:ext cx="385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057400" y="2514600"/>
                <a:ext cx="1773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4952880" y="2438280"/>
                <a:ext cx="21211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types of CDF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ore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irical, based on dat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6019920" y="3581280"/>
                <a:ext cx="1982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3429000" y="2438280"/>
                <a:ext cx="3932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7"/>
              <p:cNvSpPr txBox="1"/>
              <p:nvPr/>
            </p:nvSpPr>
            <p:spPr>
              <a:xfrm>
                <a:off x="2219400" y="4683240"/>
                <a:ext cx="4817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q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 Visualiza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irical CDF pl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ot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s.    grid of         (sorted data) 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ntile plot  (invers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5"/>
              <p:cNvSpPr txBox="1"/>
              <p:nvPr/>
            </p:nvSpPr>
            <p:spPr>
              <a:xfrm>
                <a:off x="3962520" y="3222720"/>
                <a:ext cx="360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7"/>
              <p:cNvSpPr txBox="1"/>
              <p:nvPr/>
            </p:nvSpPr>
            <p:spPr>
              <a:xfrm>
                <a:off x="2666880" y="2362320"/>
                <a:ext cx="27432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819520" y="4572000"/>
                <a:ext cx="360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2782800" y="5257800"/>
                <a:ext cx="433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Visualiza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mpare a theoretical with an empiric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-P pl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ot        vs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a grid of       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-Q pl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ot          v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a grid of       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5"/>
              <p:cNvSpPr txBox="1"/>
              <p:nvPr/>
            </p:nvSpPr>
            <p:spPr>
              <a:xfrm>
                <a:off x="3809880" y="4114800"/>
                <a:ext cx="360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2438280" y="5410080"/>
                <a:ext cx="360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362320" y="3352680"/>
                <a:ext cx="433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3733920" y="3505320"/>
                <a:ext cx="433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809880" y="6248520"/>
                <a:ext cx="433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114800" y="5486400"/>
                <a:ext cx="360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rcRect l="0" t="8544" r="0" b="46990"/>
          <a:stretch/>
        </p:blipFill>
        <p:spPr>
          <a:xfrm>
            <a:off x="762120" y="1905120"/>
            <a:ext cx="75628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mpirical Quant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rted data poi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rcRect l="0" t="8544" r="0" b="46990"/>
          <a:stretch/>
        </p:blipFill>
        <p:spPr>
          <a:xfrm>
            <a:off x="762120" y="1905120"/>
            <a:ext cx="7562880" cy="475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8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33" name="Straight Arrow Connector 18"/>
          <p:cNvCxnSpPr/>
          <p:nvPr/>
        </p:nvCxnSpPr>
        <p:spPr>
          <a:xfrm>
            <a:off x="2438280" y="3047760"/>
            <a:ext cx="2820240" cy="2819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4" name="Straight Arrow Connector 21"/>
          <p:cNvCxnSpPr/>
          <p:nvPr/>
        </p:nvCxnSpPr>
        <p:spPr>
          <a:xfrm>
            <a:off x="2438280" y="5638320"/>
            <a:ext cx="10677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5" name="Straight Arrow Connector 22"/>
          <p:cNvCxnSpPr/>
          <p:nvPr/>
        </p:nvCxnSpPr>
        <p:spPr>
          <a:xfrm>
            <a:off x="2437920" y="5029200"/>
            <a:ext cx="16009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6" name="Straight Arrow Connector 23"/>
          <p:cNvCxnSpPr/>
          <p:nvPr/>
        </p:nvCxnSpPr>
        <p:spPr>
          <a:xfrm>
            <a:off x="2437920" y="4266720"/>
            <a:ext cx="1753560" cy="160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7" name="Straight Arrow Connector 24"/>
          <p:cNvCxnSpPr/>
          <p:nvPr/>
        </p:nvCxnSpPr>
        <p:spPr>
          <a:xfrm>
            <a:off x="2437200" y="3733920"/>
            <a:ext cx="2134440" cy="213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8" name="Straight Arrow Connector 26"/>
          <p:cNvCxnSpPr/>
          <p:nvPr/>
        </p:nvCxnSpPr>
        <p:spPr>
          <a:xfrm flipH="1">
            <a:off x="2284200" y="1525320"/>
            <a:ext cx="3600" cy="11437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ing (      matched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heoretical Quant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rcRect l="0" t="8544" r="0" b="46990"/>
          <a:stretch/>
        </p:blipFill>
        <p:spPr>
          <a:xfrm>
            <a:off x="762120" y="1905120"/>
            <a:ext cx="7562880" cy="475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52" name="Straight Arrow Connector 18"/>
          <p:cNvCxnSpPr/>
          <p:nvPr/>
        </p:nvCxnSpPr>
        <p:spPr>
          <a:xfrm>
            <a:off x="2438280" y="3047760"/>
            <a:ext cx="2820240" cy="2819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Straight Arrow Connector 21"/>
          <p:cNvCxnSpPr/>
          <p:nvPr/>
        </p:nvCxnSpPr>
        <p:spPr>
          <a:xfrm>
            <a:off x="2438280" y="5638320"/>
            <a:ext cx="10677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Straight Arrow Connector 22"/>
          <p:cNvCxnSpPr/>
          <p:nvPr/>
        </p:nvCxnSpPr>
        <p:spPr>
          <a:xfrm>
            <a:off x="2437920" y="5029200"/>
            <a:ext cx="16009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Straight Arrow Connector 23"/>
          <p:cNvCxnSpPr/>
          <p:nvPr/>
        </p:nvCxnSpPr>
        <p:spPr>
          <a:xfrm>
            <a:off x="2437920" y="4266720"/>
            <a:ext cx="1753560" cy="160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Straight Arrow Connector 24"/>
          <p:cNvCxnSpPr/>
          <p:nvPr/>
        </p:nvCxnSpPr>
        <p:spPr>
          <a:xfrm>
            <a:off x="2437200" y="3733920"/>
            <a:ext cx="2134440" cy="213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Straight Arrow Connector 33"/>
          <p:cNvCxnSpPr/>
          <p:nvPr/>
        </p:nvCxnSpPr>
        <p:spPr>
          <a:xfrm flipH="1">
            <a:off x="6019560" y="5562720"/>
            <a:ext cx="1676880" cy="3052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58" name="Straight Arrow Connector 36"/>
          <p:cNvCxnSpPr/>
          <p:nvPr/>
        </p:nvCxnSpPr>
        <p:spPr>
          <a:xfrm flipH="1">
            <a:off x="5333400" y="4875840"/>
            <a:ext cx="2362680" cy="99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59" name="Straight Arrow Connector 37"/>
          <p:cNvCxnSpPr/>
          <p:nvPr/>
        </p:nvCxnSpPr>
        <p:spPr>
          <a:xfrm flipH="1">
            <a:off x="4799880" y="4266000"/>
            <a:ext cx="2896200" cy="160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60" name="Straight Arrow Connector 38"/>
          <p:cNvCxnSpPr/>
          <p:nvPr/>
        </p:nvCxnSpPr>
        <p:spPr>
          <a:xfrm flipH="1">
            <a:off x="4266360" y="3581280"/>
            <a:ext cx="3429720" cy="2286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61" name="Straight Arrow Connector 39"/>
          <p:cNvCxnSpPr/>
          <p:nvPr/>
        </p:nvCxnSpPr>
        <p:spPr>
          <a:xfrm flipH="1">
            <a:off x="3580920" y="2894400"/>
            <a:ext cx="4115520" cy="297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62" name="Straight Arrow Connector 26"/>
          <p:cNvCxnSpPr/>
          <p:nvPr/>
        </p:nvCxnSpPr>
        <p:spPr>
          <a:xfrm flipH="1">
            <a:off x="7846200" y="1372680"/>
            <a:ext cx="3960" cy="122004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63" name="Object 26"/>
              <p:cNvSpPr txBox="1"/>
              <p:nvPr/>
            </p:nvSpPr>
            <p:spPr>
              <a:xfrm>
                <a:off x="3124080" y="990720"/>
                <a:ext cx="433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goal of Q-Q Plo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y how well quantiles com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5"/>
              <p:cNvSpPr txBox="1"/>
              <p:nvPr/>
            </p:nvSpPr>
            <p:spPr>
              <a:xfrm>
                <a:off x="3429000" y="4267080"/>
                <a:ext cx="533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5181480" y="4267080"/>
                <a:ext cx="533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6553080" y="4419720"/>
                <a:ext cx="1905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8544" r="0" b="46990"/>
          <a:stretch/>
        </p:blipFill>
        <p:spPr>
          <a:xfrm>
            <a:off x="762120" y="1905120"/>
            <a:ext cx="7562880" cy="475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82" name="Straight Arrow Connector 18"/>
          <p:cNvCxnSpPr/>
          <p:nvPr/>
        </p:nvCxnSpPr>
        <p:spPr>
          <a:xfrm>
            <a:off x="2438280" y="3047760"/>
            <a:ext cx="2820240" cy="2819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Straight Arrow Connector 21"/>
          <p:cNvCxnSpPr/>
          <p:nvPr/>
        </p:nvCxnSpPr>
        <p:spPr>
          <a:xfrm>
            <a:off x="2438280" y="5638320"/>
            <a:ext cx="10677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22"/>
          <p:cNvCxnSpPr/>
          <p:nvPr/>
        </p:nvCxnSpPr>
        <p:spPr>
          <a:xfrm>
            <a:off x="2437920" y="5029200"/>
            <a:ext cx="16009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23"/>
          <p:cNvCxnSpPr/>
          <p:nvPr/>
        </p:nvCxnSpPr>
        <p:spPr>
          <a:xfrm>
            <a:off x="2437920" y="4266720"/>
            <a:ext cx="1753560" cy="160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6" name="Straight Arrow Connector 24"/>
          <p:cNvCxnSpPr/>
          <p:nvPr/>
        </p:nvCxnSpPr>
        <p:spPr>
          <a:xfrm>
            <a:off x="2437200" y="3733920"/>
            <a:ext cx="2134440" cy="213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7" name="Straight Arrow Connector 33"/>
          <p:cNvCxnSpPr/>
          <p:nvPr/>
        </p:nvCxnSpPr>
        <p:spPr>
          <a:xfrm flipH="1">
            <a:off x="6019560" y="5562720"/>
            <a:ext cx="1676880" cy="3052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88" name="Straight Arrow Connector 36"/>
          <p:cNvCxnSpPr/>
          <p:nvPr/>
        </p:nvCxnSpPr>
        <p:spPr>
          <a:xfrm flipH="1">
            <a:off x="5333400" y="4875840"/>
            <a:ext cx="2362680" cy="99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89" name="Straight Arrow Connector 37"/>
          <p:cNvCxnSpPr/>
          <p:nvPr/>
        </p:nvCxnSpPr>
        <p:spPr>
          <a:xfrm flipH="1">
            <a:off x="4799880" y="4266000"/>
            <a:ext cx="2896200" cy="160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90" name="Straight Arrow Connector 38"/>
          <p:cNvCxnSpPr/>
          <p:nvPr/>
        </p:nvCxnSpPr>
        <p:spPr>
          <a:xfrm flipH="1">
            <a:off x="4266360" y="3581280"/>
            <a:ext cx="3429720" cy="2286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91" name="Straight Arrow Connector 39"/>
          <p:cNvCxnSpPr/>
          <p:nvPr/>
        </p:nvCxnSpPr>
        <p:spPr>
          <a:xfrm flipH="1">
            <a:off x="3580920" y="2894400"/>
            <a:ext cx="4115520" cy="297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04" name="Straight Arrow Connector 18"/>
          <p:cNvCxnSpPr/>
          <p:nvPr/>
        </p:nvCxnSpPr>
        <p:spPr>
          <a:xfrm>
            <a:off x="2438280" y="3047760"/>
            <a:ext cx="2820240" cy="2819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5" name="Straight Arrow Connector 21"/>
          <p:cNvCxnSpPr/>
          <p:nvPr/>
        </p:nvCxnSpPr>
        <p:spPr>
          <a:xfrm>
            <a:off x="2438280" y="5638320"/>
            <a:ext cx="10677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6" name="Straight Arrow Connector 22"/>
          <p:cNvCxnSpPr/>
          <p:nvPr/>
        </p:nvCxnSpPr>
        <p:spPr>
          <a:xfrm>
            <a:off x="2437920" y="5029200"/>
            <a:ext cx="16009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7" name="Straight Arrow Connector 23"/>
          <p:cNvCxnSpPr/>
          <p:nvPr/>
        </p:nvCxnSpPr>
        <p:spPr>
          <a:xfrm>
            <a:off x="2437920" y="4266720"/>
            <a:ext cx="1753560" cy="160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24"/>
          <p:cNvCxnSpPr/>
          <p:nvPr/>
        </p:nvCxnSpPr>
        <p:spPr>
          <a:xfrm>
            <a:off x="2437200" y="3733920"/>
            <a:ext cx="2134440" cy="213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Straight Arrow Connector 33"/>
          <p:cNvCxnSpPr/>
          <p:nvPr/>
        </p:nvCxnSpPr>
        <p:spPr>
          <a:xfrm flipH="1">
            <a:off x="6019560" y="5562720"/>
            <a:ext cx="1676880" cy="3052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10" name="Straight Arrow Connector 36"/>
          <p:cNvCxnSpPr/>
          <p:nvPr/>
        </p:nvCxnSpPr>
        <p:spPr>
          <a:xfrm flipH="1">
            <a:off x="5333400" y="4875840"/>
            <a:ext cx="2362680" cy="99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11" name="Straight Arrow Connector 37"/>
          <p:cNvCxnSpPr/>
          <p:nvPr/>
        </p:nvCxnSpPr>
        <p:spPr>
          <a:xfrm flipH="1">
            <a:off x="4799880" y="4266000"/>
            <a:ext cx="2896200" cy="160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12" name="Straight Arrow Connector 38"/>
          <p:cNvCxnSpPr/>
          <p:nvPr/>
        </p:nvCxnSpPr>
        <p:spPr>
          <a:xfrm flipH="1">
            <a:off x="4266360" y="3581280"/>
            <a:ext cx="3429720" cy="2286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13" name="Straight Arrow Connector 39"/>
          <p:cNvCxnSpPr/>
          <p:nvPr/>
        </p:nvCxnSpPr>
        <p:spPr>
          <a:xfrm flipH="1">
            <a:off x="3580920" y="2894400"/>
            <a:ext cx="4115520" cy="29725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38" name="Straight Arrow Connector 18"/>
          <p:cNvCxnSpPr/>
          <p:nvPr/>
        </p:nvCxnSpPr>
        <p:spPr>
          <a:xfrm>
            <a:off x="2438280" y="3047760"/>
            <a:ext cx="99144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Straight Arrow Connector 21"/>
          <p:cNvCxnSpPr/>
          <p:nvPr/>
        </p:nvCxnSpPr>
        <p:spPr>
          <a:xfrm>
            <a:off x="2438280" y="5638320"/>
            <a:ext cx="991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Straight Arrow Connector 22"/>
          <p:cNvCxnSpPr/>
          <p:nvPr/>
        </p:nvCxnSpPr>
        <p:spPr>
          <a:xfrm>
            <a:off x="2438280" y="5028840"/>
            <a:ext cx="99144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Straight Arrow Connector 23"/>
          <p:cNvCxnSpPr/>
          <p:nvPr/>
        </p:nvCxnSpPr>
        <p:spPr>
          <a:xfrm>
            <a:off x="2438280" y="4267080"/>
            <a:ext cx="99144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2" name="Straight Arrow Connector 24"/>
          <p:cNvCxnSpPr/>
          <p:nvPr/>
        </p:nvCxnSpPr>
        <p:spPr>
          <a:xfrm>
            <a:off x="2438280" y="3733920"/>
            <a:ext cx="99144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3" name="Straight Arrow Connector 33"/>
          <p:cNvCxnSpPr/>
          <p:nvPr/>
        </p:nvCxnSpPr>
        <p:spPr>
          <a:xfrm flipH="1">
            <a:off x="6705000" y="5562720"/>
            <a:ext cx="991080" cy="457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44" name="Straight Arrow Connector 36"/>
          <p:cNvCxnSpPr/>
          <p:nvPr/>
        </p:nvCxnSpPr>
        <p:spPr>
          <a:xfrm flipH="1">
            <a:off x="5790600" y="4875840"/>
            <a:ext cx="1905480" cy="1143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45" name="Straight Arrow Connector 37"/>
          <p:cNvCxnSpPr/>
          <p:nvPr/>
        </p:nvCxnSpPr>
        <p:spPr>
          <a:xfrm flipH="1">
            <a:off x="5180760" y="4342320"/>
            <a:ext cx="2515320" cy="16772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46" name="Straight Arrow Connector 38"/>
          <p:cNvCxnSpPr/>
          <p:nvPr/>
        </p:nvCxnSpPr>
        <p:spPr>
          <a:xfrm flipH="1">
            <a:off x="4495320" y="3581280"/>
            <a:ext cx="3201120" cy="24390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47" name="Straight Arrow Connector 39"/>
          <p:cNvCxnSpPr/>
          <p:nvPr/>
        </p:nvCxnSpPr>
        <p:spPr>
          <a:xfrm flipH="1">
            <a:off x="3657240" y="2894400"/>
            <a:ext cx="4039200" cy="31251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rcRect l="0" t="51261" r="0" b="0"/>
          <a:stretch/>
        </p:blipFill>
        <p:spPr>
          <a:xfrm>
            <a:off x="1143000" y="2133720"/>
            <a:ext cx="7562880" cy="5216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1" name="Object 6"/>
              <p:cNvSpPr txBox="1"/>
              <p:nvPr/>
            </p:nvSpPr>
            <p:spPr>
              <a:xfrm>
                <a:off x="2057400" y="518148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2057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2041560" y="3946680"/>
                <a:ext cx="412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9"/>
              <p:cNvSpPr txBox="1"/>
              <p:nvPr/>
            </p:nvSpPr>
            <p:spPr>
              <a:xfrm>
                <a:off x="2057400" y="327672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0"/>
              <p:cNvSpPr txBox="1"/>
              <p:nvPr/>
            </p:nvSpPr>
            <p:spPr>
              <a:xfrm>
                <a:off x="2057400" y="2666880"/>
                <a:ext cx="41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1"/>
              <p:cNvSpPr txBox="1"/>
              <p:nvPr/>
            </p:nvSpPr>
            <p:spPr>
              <a:xfrm>
                <a:off x="7696080" y="259092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2"/>
              <p:cNvSpPr txBox="1"/>
              <p:nvPr/>
            </p:nvSpPr>
            <p:spPr>
              <a:xfrm>
                <a:off x="7683480" y="3267000"/>
                <a:ext cx="444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3"/>
              <p:cNvSpPr txBox="1"/>
              <p:nvPr/>
            </p:nvSpPr>
            <p:spPr>
              <a:xfrm>
                <a:off x="7680240" y="394668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4"/>
              <p:cNvSpPr txBox="1"/>
              <p:nvPr/>
            </p:nvSpPr>
            <p:spPr>
              <a:xfrm>
                <a:off x="7664400" y="4572000"/>
                <a:ext cx="444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5"/>
              <p:cNvSpPr txBox="1"/>
              <p:nvPr/>
            </p:nvSpPr>
            <p:spPr>
              <a:xfrm>
                <a:off x="7680240" y="5241960"/>
                <a:ext cx="41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61" name="Straight Arrow Connector 18"/>
          <p:cNvCxnSpPr/>
          <p:nvPr/>
        </p:nvCxnSpPr>
        <p:spPr>
          <a:xfrm>
            <a:off x="2438280" y="3047760"/>
            <a:ext cx="99144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2" name="Straight Arrow Connector 21"/>
          <p:cNvCxnSpPr/>
          <p:nvPr/>
        </p:nvCxnSpPr>
        <p:spPr>
          <a:xfrm>
            <a:off x="2438280" y="5638320"/>
            <a:ext cx="991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3" name="Straight Arrow Connector 22"/>
          <p:cNvCxnSpPr/>
          <p:nvPr/>
        </p:nvCxnSpPr>
        <p:spPr>
          <a:xfrm>
            <a:off x="2438280" y="5028840"/>
            <a:ext cx="99144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4" name="Straight Arrow Connector 23"/>
          <p:cNvCxnSpPr/>
          <p:nvPr/>
        </p:nvCxnSpPr>
        <p:spPr>
          <a:xfrm>
            <a:off x="2438280" y="4267080"/>
            <a:ext cx="99144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5" name="Straight Arrow Connector 24"/>
          <p:cNvCxnSpPr/>
          <p:nvPr/>
        </p:nvCxnSpPr>
        <p:spPr>
          <a:xfrm>
            <a:off x="2438280" y="3733920"/>
            <a:ext cx="99144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6" name="Straight Arrow Connector 33"/>
          <p:cNvCxnSpPr/>
          <p:nvPr/>
        </p:nvCxnSpPr>
        <p:spPr>
          <a:xfrm flipH="1">
            <a:off x="6705000" y="5562720"/>
            <a:ext cx="991080" cy="457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67" name="Straight Arrow Connector 36"/>
          <p:cNvCxnSpPr/>
          <p:nvPr/>
        </p:nvCxnSpPr>
        <p:spPr>
          <a:xfrm flipH="1">
            <a:off x="5790600" y="4875840"/>
            <a:ext cx="1905480" cy="11437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68" name="Straight Arrow Connector 37"/>
          <p:cNvCxnSpPr/>
          <p:nvPr/>
        </p:nvCxnSpPr>
        <p:spPr>
          <a:xfrm flipH="1">
            <a:off x="5180760" y="4342320"/>
            <a:ext cx="2515320" cy="16772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69" name="Straight Arrow Connector 38"/>
          <p:cNvCxnSpPr/>
          <p:nvPr/>
        </p:nvCxnSpPr>
        <p:spPr>
          <a:xfrm flipH="1">
            <a:off x="4495320" y="3581280"/>
            <a:ext cx="3201120" cy="24390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70" name="Straight Arrow Connector 39"/>
          <p:cNvCxnSpPr/>
          <p:nvPr/>
        </p:nvCxnSpPr>
        <p:spPr>
          <a:xfrm flipH="1">
            <a:off x="3657240" y="2894400"/>
            <a:ext cx="4039200" cy="31251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rcRect l="0" t="51261" r="0" b="0"/>
          <a:stretch/>
        </p:blipFill>
        <p:spPr>
          <a:xfrm>
            <a:off x="1143000" y="2133720"/>
            <a:ext cx="75628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lustrative graphic (toy data set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mpirical Q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a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oretical Q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Q-Q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is near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45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eneral use of Q-Q plo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gClu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Statistical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Si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nificance of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Clu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i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When is a cluster “really there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From Liu, et al. (2007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  <p:cxnSp>
        <p:nvCxnSpPr>
          <p:cNvPr id="479" name="Straight Arrow Connector 5"/>
          <p:cNvCxnSpPr/>
          <p:nvPr/>
        </p:nvCxnSpPr>
        <p:spPr>
          <a:xfrm flipH="1">
            <a:off x="2513880" y="1447560"/>
            <a:ext cx="2591640" cy="4191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0" name="Straight Arrow Connector 6"/>
          <p:cNvCxnSpPr/>
          <p:nvPr/>
        </p:nvCxnSpPr>
        <p:spPr>
          <a:xfrm flipH="1">
            <a:off x="4342680" y="1447920"/>
            <a:ext cx="762840" cy="3124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Straight Arrow Connector 7"/>
          <p:cNvCxnSpPr/>
          <p:nvPr/>
        </p:nvCxnSpPr>
        <p:spPr>
          <a:xfrm>
            <a:off x="5104440" y="1447560"/>
            <a:ext cx="766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2" name="Straight Arrow Connector 8"/>
          <p:cNvCxnSpPr/>
          <p:nvPr/>
        </p:nvCxnSpPr>
        <p:spPr>
          <a:xfrm>
            <a:off x="5105160" y="1447920"/>
            <a:ext cx="19054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ms different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 modes turn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g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ess strong fe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een proposed to study mod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nsity vi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바탕"/>
              </a:rPr>
              <a:t>Si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바탕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better for finding mod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 (?)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7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  <p:cxnSp>
        <p:nvCxnSpPr>
          <p:cNvPr id="488" name="Straight Arrow Connector 5"/>
          <p:cNvCxnSpPr/>
          <p:nvPr/>
        </p:nvCxnSpPr>
        <p:spPr>
          <a:xfrm flipH="1">
            <a:off x="3276360" y="1447920"/>
            <a:ext cx="1829520" cy="442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9" name="Straight Arrow Connector 6"/>
          <p:cNvCxnSpPr/>
          <p:nvPr/>
        </p:nvCxnSpPr>
        <p:spPr>
          <a:xfrm flipH="1">
            <a:off x="4342680" y="1447560"/>
            <a:ext cx="762840" cy="29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0" name="Straight Arrow Connector 7"/>
          <p:cNvCxnSpPr/>
          <p:nvPr/>
        </p:nvCxnSpPr>
        <p:spPr>
          <a:xfrm flipH="1">
            <a:off x="5103000" y="1449000"/>
            <a:ext cx="396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1" name="Straight Arrow Connector 8"/>
          <p:cNvCxnSpPr/>
          <p:nvPr/>
        </p:nvCxnSpPr>
        <p:spPr>
          <a:xfrm>
            <a:off x="5105160" y="1447920"/>
            <a:ext cx="99108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 (?)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ms different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rder to say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&amp; 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ed to under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  <p:cxnSp>
        <p:nvCxnSpPr>
          <p:cNvPr id="497" name="Straight Arrow Connector 5"/>
          <p:cNvCxnSpPr/>
          <p:nvPr/>
        </p:nvCxnSpPr>
        <p:spPr>
          <a:xfrm flipH="1">
            <a:off x="3351960" y="1447920"/>
            <a:ext cx="1753560" cy="4115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8" name="Straight Arrow Connector 8"/>
          <p:cNvCxnSpPr/>
          <p:nvPr/>
        </p:nvCxnSpPr>
        <p:spPr>
          <a:xfrm>
            <a:off x="5105520" y="1447920"/>
            <a:ext cx="91512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ooks much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ggles all random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= 1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data point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to ass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&amp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ed to under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ed to under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pproach: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Q-Q envelope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imulate from Theoretical Dist’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amples of sam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bout 100 samples g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ood visual impress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Overlay result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Gulim"/>
              </a:rPr>
              <a:t>100 QQ-cur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o visually conv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atural sampling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738440"/>
            <a:ext cx="6719760" cy="5119560"/>
          </a:xfrm>
          <a:prstGeom prst="rect">
            <a:avLst/>
          </a:prstGeom>
          <a:ln w="0">
            <a:noFill/>
          </a:ln>
        </p:spPr>
      </p:pic>
      <p:cxnSp>
        <p:nvCxnSpPr>
          <p:cNvPr id="506" name="Straight Arrow Connector 5"/>
          <p:cNvCxnSpPr/>
          <p:nvPr/>
        </p:nvCxnSpPr>
        <p:spPr>
          <a:xfrm flipH="1">
            <a:off x="2513880" y="1447560"/>
            <a:ext cx="2591640" cy="4191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7" name="Straight Arrow Connector 6"/>
          <p:cNvCxnSpPr/>
          <p:nvPr/>
        </p:nvCxnSpPr>
        <p:spPr>
          <a:xfrm flipH="1">
            <a:off x="4342680" y="1447920"/>
            <a:ext cx="762840" cy="3124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8" name="Straight Arrow Connector 7"/>
          <p:cNvCxnSpPr/>
          <p:nvPr/>
        </p:nvCxnSpPr>
        <p:spPr>
          <a:xfrm>
            <a:off x="5104440" y="1447560"/>
            <a:ext cx="766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9" name="Straight Arrow Connector 8"/>
          <p:cNvCxnSpPr/>
          <p:nvPr/>
        </p:nvCxnSpPr>
        <p:spPr>
          <a:xfrm>
            <a:off x="5105160" y="1447920"/>
            <a:ext cx="19054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Envelope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h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partures are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ear these data are not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-Q plot gives clear in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738440"/>
            <a:ext cx="6719760" cy="51195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 (?)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5" name="Straight Arrow Connector 5"/>
          <p:cNvCxnSpPr/>
          <p:nvPr/>
        </p:nvCxnSpPr>
        <p:spPr>
          <a:xfrm flipH="1">
            <a:off x="3276360" y="1447920"/>
            <a:ext cx="1829520" cy="442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6" name="Straight Arrow Connector 6"/>
          <p:cNvCxnSpPr/>
          <p:nvPr/>
        </p:nvCxnSpPr>
        <p:spPr>
          <a:xfrm flipH="1">
            <a:off x="4266360" y="1447560"/>
            <a:ext cx="839160" cy="289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7" name="Straight Arrow Connector 7"/>
          <p:cNvCxnSpPr/>
          <p:nvPr/>
        </p:nvCxnSpPr>
        <p:spPr>
          <a:xfrm flipH="1">
            <a:off x="5103000" y="1449000"/>
            <a:ext cx="3960" cy="2439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8" name="Straight Arrow Connector 8"/>
          <p:cNvCxnSpPr/>
          <p:nvPr/>
        </p:nvCxnSpPr>
        <p:spPr>
          <a:xfrm>
            <a:off x="5105520" y="1447920"/>
            <a:ext cx="838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nteresting Statistical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For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 dat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n clus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o app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.g. found by clustering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do we know they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lly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Question asked by Neil Ha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efine appropriate statistical signific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an we calculate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 (?)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Envelope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h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epartures are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ear these data are not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call not so clear from e.g. 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-Q plot gives clear in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Envelope pl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fl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EgQQ1dat3NmixBimv2Histo.png"/>
          <p:cNvPicPr/>
          <p:nvPr/>
        </p:nvPicPr>
        <p:blipFill>
          <a:blip r:embed="rId1"/>
          <a:stretch/>
        </p:blipFill>
        <p:spPr>
          <a:xfrm>
            <a:off x="1143000" y="1738440"/>
            <a:ext cx="6719760" cy="51195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4" name="Straight Arrow Connector 5"/>
          <p:cNvCxnSpPr/>
          <p:nvPr/>
        </p:nvCxnSpPr>
        <p:spPr>
          <a:xfrm flipH="1">
            <a:off x="3351960" y="1447920"/>
            <a:ext cx="1753560" cy="4115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5" name="Straight Arrow Connector 8"/>
          <p:cNvCxnSpPr/>
          <p:nvPr/>
        </p:nvCxnSpPr>
        <p:spPr>
          <a:xfrm>
            <a:off x="5105520" y="1447560"/>
            <a:ext cx="83880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 departures from l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arder to 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clearly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non-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lly need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 = 1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data point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why bigger sample size was us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Gulim"/>
              </a:rPr>
              <a:t>Envelope pl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fl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ampling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were these distribu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0.5 N(-1.5,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 + 0.5 N(1.5,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 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0.4 N(0,1) + 0.3 N(0,0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 + 0.3 N(0,0.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0.7 N(0,1) + 0.3 N(0,0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on-Gaussian! .5 N(-1.5,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 + 0.5 N(1.5,0.7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3" descr="EgQQ1dat4NmixKurv8NormFit-Turth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Non-Gaussian (?)   0.4 N(0,1) + 0.3 N(0,0.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) + 0.3 N(0,0.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Picture 3" descr="EgQQ1dat4NmixKurv8NormFit-Turth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Picture 3" descr="EgQQ1dat2Nmixv8NormFit-Turth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Q-Q p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Gaussian?   0.7 N(0,1) + 0.3 N(0,0.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Picture 3" descr="EgQQ1dat2Nmixv8NormFit-Turth.png"/>
          <p:cNvPicPr/>
          <p:nvPr/>
        </p:nvPicPr>
        <p:blipFill>
          <a:blip r:embed="rId1"/>
          <a:stretch/>
        </p:blipFill>
        <p:spPr>
          <a:xfrm>
            <a:off x="114300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529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Gaussian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early only 1 Cluster in this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Extreme Relabelling looks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treme T-stat strongly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icates 2 clusters i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rcRect l="9813" t="5052" r="11598" b="49259"/>
          <a:stretch/>
        </p:blipFill>
        <p:spPr>
          <a:xfrm>
            <a:off x="1295280" y="1295280"/>
            <a:ext cx="6782040" cy="278460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 flipV="1">
            <a:off x="5105520" y="2133720"/>
            <a:ext cx="18288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tatistical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nificance of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sis of SigClust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defines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 Clu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 Gaussian distribution  (Sarle &amp; Kou 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define SigClust test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2-means cluster index (measure)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tat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aus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nul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urrently compute by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ossible to do this analytically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UNC</cp:lastModifiedBy>
  <dcterms:modified xsi:type="dcterms:W3CDTF">2007-11-13T20:10:33Z</dcterms:modified>
  <cp:revision>1353</cp:revision>
  <dc:subject/>
  <dc:title>Title</dc:title>
</cp:coreProperties>
</file>