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1373-A3AA-4C0B-91C0-B9C49497D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A794-1172-4B57-88CF-039547067F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3857-F090-4D8C-945E-AD4797AD1008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8D34-67DA-4698-8683-5551964B1E7C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3B5C-BAD3-4AFC-8269-C5BBEE9753D1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072D-0462-42D4-AFC4-B0E2453685E7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4B25-31C2-4916-9663-15052B7FA0FC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EDB5-5A78-4302-853C-53D8594080D7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0F85-6D55-465A-A0F8-7A51DBDEA00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C14F-7A57-40E6-8089-4610E1A83F4C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EF7C-2458-4137-846F-883FF44BD866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789C-CF13-4FC4-9B94-155CB6D36DDF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7AAF-4483-4657-AB46-83AA29B299B8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02F4-1027-4A49-A62D-6CC73D1570F9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7632-2DCF-45EA-AF2F-3BF5A2164B3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5FDF-F348-49B2-85EF-B4EDEC7CAF0B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716C-82CB-435A-B6C4-CE72D25A5B69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E392-B4D3-497B-A5D2-6E1A852A3E8B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8D0E-8674-46C9-B5FA-8890069A538B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8092-FAE5-44C1-A588-0C0E31C91247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9946-65E8-46CC-8C40-DD2B2CD342F6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8F8B-7001-433E-A465-F9CF4C4D52D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1DB0-663B-447E-BE0C-2C749024919D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A844-723B-48F4-82F4-B6FC6310E47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D21A-E97A-4FE1-A9A7-D0C1E0C883BC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0578-4496-4465-ABFD-A69546766AD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893F-E014-4DA1-9DA5-C55652EC54A8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6D31-520C-471C-BFB5-A3735543CF33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890B-2E32-4048-AC11-D90353C1B101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7687-BB2F-4205-B164-DF2490DD28CA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D3A4-BB33-4D59-A424-F4AFBAA2BCF0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34F4-072B-45F1-A122-56BE8ABEDDC6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5293-9693-4508-923B-83911CDF46F5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44D0-BFB5-4BD0-9649-368EFD13E52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025F-65A2-43D7-B778-8C9B15743C65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ABAF-FAFD-4772-9F80-29CAEEDD0FAC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FDF9-06D3-4E7F-A2FF-A02726AD933C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6A3F-F59D-4AC6-88E7-9005CD5EDE1A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A091-8DBE-4435-BF83-8EF61EA5F42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A0B0-2C3D-44AC-AF55-5341DBC66346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BCB2-0C4B-4A58-903E-A2C04494E537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0F81-56AD-466B-9F6C-F0F3EF3F50B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ADC0-A0A0-477F-AAC9-FB641AECF342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712A-CE50-4BF1-BFDE-63BC9D84333C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AC71-78A7-48DC-ACB9-367C5653B11B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33E8-2A92-42A0-91C1-A7B755672985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5100-FEA3-41C4-A4AD-14877607AE62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957F-3AC8-4FFC-A1CE-57342602C7F1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494E-9425-470B-ACAC-D5A6127286C9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8B00-FE24-4A77-AD69-C20909AAB6AC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67D4-D4B6-4595-A618-3B8BD81DB463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9C03-DE04-4B7C-ADE9-E6FA75E44FB3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C849-845F-462E-A2F7-59678E3EFC63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9189-A1B5-4A0E-8742-5E1AE516CC32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39D9-9605-4AFF-A00B-20D0EDF00122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C976-5BEE-4BA1-99BE-C60AD60DE03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CB31-4671-49D7-BDDD-EA3E0D66D667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2C18-5BF0-4671-95BC-DF0FB66BE5E1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9AFE-FD56-4B7E-82F9-1BF4FDDBE77B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7EE3-B51C-4E91-8AE0-3A7798A428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7396-4791-4990-9410-59F10355FD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5AEB-FC19-4996-835D-2EB5C09FB06C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21AF-54FB-4A0A-BB1E-83AA0EC7EEEF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C332-EDAD-468A-93FD-581BF3C34688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50A6-D369-4F91-B0AE-C295B2CB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E36F-11DA-43B3-9CEB-CC390E97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41D-0AE9-47A4-BD52-384070AA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25E9-253E-4A59-A4DF-8F595DFA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62B9-D1E2-4614-8C1E-706CB94D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B6FB-C4D8-4D87-8B3D-87E5D559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97E5-4BF4-44A0-80B7-C66730A7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7698-A3D6-43AB-9628-4F3E4443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9C68-0556-4F66-B472-11F915D2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99AA-3876-4B46-B9FB-107168CB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8EE2-C5D9-4ABE-9F60-87020AF2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B6AE-945E-4CB6-8C01-70FC1B41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C787-5A77-42A0-BE1B-21E17CA0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2E3A-7718-4005-8106-D1AB5E9B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DCF8-A98D-4CB8-A3BD-AE905FB7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17F1-A3A1-4BC6-ACC4-FCC52624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2C16-7068-4019-9F88-52933F53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7DE-F9EB-41D1-99F0-20EDD3EF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88CD-E4E7-411A-991A-A20A69D8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8B3E-660D-4E45-841F-8F66B752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C231-B848-40E6-9E49-E3C272E3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FAE-A42E-4C15-9172-007BA5A5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38C0-B007-40D5-95B4-2D0476C6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C372-09FF-4781-9219-AB18FC30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B3EC-81BA-4D02-8109-492C47872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80CB-6639-4CE2-933A-BF813EEF8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ewed Clus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means Cluster Ind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gCl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n are clusters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lly ther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-Q Pl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assessing Goodness of F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useful for Gaussian F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are to 4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sess variability with </a:t>
            </a:r>
            <a:r>
              <a:rPr b="0" lang="en-US" sz="28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Q-Q Envelope Pl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Gaussian?    departures from l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Harder to s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ut clearly t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onclude non-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ally need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= 10,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data point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why bigger sample size was us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Gulim"/>
              </a:rPr>
              <a:t>Envelope pl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flec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sampling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Variations on Q-Q Plo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or                theoretical distrib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olving for         g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here          is the Standard Normal Quant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2"/>
              <p:cNvSpPr txBox="1"/>
              <p:nvPr/>
            </p:nvSpPr>
            <p:spPr>
              <a:xfrm>
                <a:off x="1295280" y="1600200"/>
                <a:ext cx="1524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3"/>
              <p:cNvSpPr txBox="1"/>
              <p:nvPr/>
            </p:nvSpPr>
            <p:spPr>
              <a:xfrm>
                <a:off x="3505320" y="2286000"/>
                <a:ext cx="422280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q</m:t>
                        </m:r>
                      </m:e>
                    </m:d>
                    <m:r>
                      <m:t xml:space="preserve">=</m:t>
                    </m:r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4"/>
              <p:cNvSpPr txBox="1"/>
              <p:nvPr/>
            </p:nvSpPr>
            <p:spPr>
              <a:xfrm>
                <a:off x="2819520" y="3809880"/>
                <a:ext cx="3934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5"/>
              <p:cNvSpPr txBox="1"/>
              <p:nvPr/>
            </p:nvSpPr>
            <p:spPr>
              <a:xfrm>
                <a:off x="2057400" y="5840280"/>
                <a:ext cx="4064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6"/>
              <p:cNvSpPr txBox="1"/>
              <p:nvPr/>
            </p:nvSpPr>
            <p:spPr>
              <a:xfrm>
                <a:off x="2179800" y="4495680"/>
                <a:ext cx="53942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σΦ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r>
                      <m:t xml:space="preserve">σ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Variations on Q-Q Plo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olving for         g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o Q-Q plot against Standard Norm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lin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ith  slope                 and  interce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4"/>
              <p:cNvSpPr txBox="1"/>
              <p:nvPr/>
            </p:nvSpPr>
            <p:spPr>
              <a:xfrm>
                <a:off x="2743200" y="1981080"/>
                <a:ext cx="3938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5"/>
              <p:cNvSpPr txBox="1"/>
              <p:nvPr/>
            </p:nvSpPr>
            <p:spPr>
              <a:xfrm>
                <a:off x="2819520" y="5334120"/>
                <a:ext cx="4870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6"/>
              <p:cNvSpPr txBox="1"/>
              <p:nvPr/>
            </p:nvSpPr>
            <p:spPr>
              <a:xfrm>
                <a:off x="2984400" y="2666880"/>
                <a:ext cx="53085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σΦ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r>
                      <m:t xml:space="preserve">σ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5"/>
              <p:cNvSpPr txBox="1"/>
              <p:nvPr/>
            </p:nvSpPr>
            <p:spPr>
              <a:xfrm>
                <a:off x="7238880" y="5257800"/>
                <a:ext cx="4874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Variations on Q-Q Plo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an replace Gaussian with other dist’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an compare 2 theoretical distn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an compare 2 empirical distn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i.e. 2 sample version of Q-Q Plo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SigClu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610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Statistical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  <a:ea typeface="Gulim"/>
              </a:rPr>
              <a:t>Si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nificance of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  <a:ea typeface="Gulim"/>
              </a:rPr>
              <a:t>Clu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in </a:t>
            </a: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Gulim"/>
              </a:rPr>
              <a:t>HDLS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When is a cluster “really there”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From Liu, et al. (2007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678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Statistical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nificance of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asis of SigClust 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hat defines: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 Clus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A Gaussian distribution  (Sarle &amp; Kou 199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o define SigClust test based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2-means cluster index (measure)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statis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Gaussi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null distrib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Currently compute by sim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Possible to do this analytically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Gaussian null distribut’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stimated Mean (of Gaussian dist’n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Key Idea:   Can ignore th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y appealing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hift invari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of 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When data are (rigidly) shif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CI remains the s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o enough to simulate with mean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Other uses of invariance ide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Gaussian null distribut’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Key Idea:    Mod Out Ro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place full Cov. by diagonal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s done in PCA eigen-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ut then “not like data”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OK, since k-means clustering (i.e. CI)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otation invar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assuming e.g. Euclidean Distan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7"/>
              <p:cNvSpPr txBox="1"/>
              <p:nvPr/>
            </p:nvSpPr>
            <p:spPr>
              <a:xfrm>
                <a:off x="3200400" y="3048120"/>
                <a:ext cx="2286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DM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520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Gaussian null distribut’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Key Idea:   Factor Analysi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odel Covariance as:    Biology + No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he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s “fairly low dimensiona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s estimated from background no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1143000" y="5486400"/>
                <a:ext cx="620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5"/>
              <p:cNvSpPr txBox="1"/>
              <p:nvPr/>
            </p:nvSpPr>
            <p:spPr>
              <a:xfrm>
                <a:off x="1143000" y="4876920"/>
                <a:ext cx="56520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6"/>
              <p:cNvSpPr txBox="1"/>
              <p:nvPr/>
            </p:nvSpPr>
            <p:spPr>
              <a:xfrm>
                <a:off x="3228840" y="3095640"/>
                <a:ext cx="28400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×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444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Gaussian null distribut’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stimation of Background Noise      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asonable model (for each gene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xpression = Signal + No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ise” is roughly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ise” terms essentially indepen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across ge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4"/>
              <p:cNvSpPr txBox="1"/>
              <p:nvPr/>
            </p:nvSpPr>
            <p:spPr>
              <a:xfrm>
                <a:off x="6477120" y="1371600"/>
                <a:ext cx="620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tandard approach to checking Gaussia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QQ – pl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ackground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Graphical Goodness of F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isher (198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Gaussian null distribut’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stimation of Background Noise      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odel OK, si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ata come fr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light intens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t colored sp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4"/>
              <p:cNvSpPr txBox="1"/>
              <p:nvPr/>
            </p:nvSpPr>
            <p:spPr>
              <a:xfrm>
                <a:off x="6477120" y="1371600"/>
                <a:ext cx="620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346" name="Picture 3" descr="C:\Users\marron\Documents\Talks\GeneArray\Talk2001\MicroArray.jpg"/>
          <p:cNvPicPr/>
          <p:nvPr/>
        </p:nvPicPr>
        <p:blipFill>
          <a:blip r:embed="rId1"/>
          <a:stretch/>
        </p:blipFill>
        <p:spPr>
          <a:xfrm>
            <a:off x="4800600" y="2286000"/>
            <a:ext cx="41814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Gaussian null distribut’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stimation of Background Noise      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expression values (as numbe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obust estimate of sc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edian Absolute Deviation (MA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from the medi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scale to put on same scale as  s. d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4"/>
              <p:cNvSpPr txBox="1"/>
              <p:nvPr/>
            </p:nvSpPr>
            <p:spPr>
              <a:xfrm>
                <a:off x="6477120" y="1371600"/>
                <a:ext cx="620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5"/>
              <p:cNvSpPr txBox="1"/>
              <p:nvPr/>
            </p:nvSpPr>
            <p:spPr>
              <a:xfrm>
                <a:off x="3352680" y="5410080"/>
                <a:ext cx="281952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D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0,1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Estimation of Background No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52" name="Picture 9" descr=""/>
          <p:cNvPicPr/>
          <p:nvPr/>
        </p:nvPicPr>
        <p:blipFill>
          <a:blip r:embed="rId1"/>
          <a:srcRect l="7137" t="5052" r="7137" b="5052"/>
          <a:stretch/>
        </p:blipFill>
        <p:spPr>
          <a:xfrm>
            <a:off x="1077840" y="1300320"/>
            <a:ext cx="744696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Estimation of Background No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all distribution has strong kurt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hown by height of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k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elative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MAD based Gaussian f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an and Median both  ~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D ~ 1, driven by few large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D ~ 0.7, driven by bulk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Estimation of Background No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entral part of distribu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ems to look Gaussia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t recall density does not prov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ful diagnosis of Gaussia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tter to look at Q-Q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Estimation of Background No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58" name="Picture 3" descr=""/>
          <p:cNvPicPr/>
          <p:nvPr/>
        </p:nvPicPr>
        <p:blipFill>
          <a:blip r:embed="rId1"/>
          <a:srcRect l="7137" t="5052" r="7137" b="5052"/>
          <a:stretch/>
        </p:blipFill>
        <p:spPr>
          <a:xfrm>
            <a:off x="1077840" y="1300320"/>
            <a:ext cx="744696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Estimation of Background No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tribution clear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cept near the mid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Q-Q cur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 very linear t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closely follows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Arial"/>
              </a:rPr>
              <a:t>45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  <a:ea typeface="Arial"/>
              </a:rPr>
              <a:t>o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Arial"/>
              </a:rPr>
              <a:t> 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ggests Gaussian approx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ood t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that MAD scale estimate is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Always a good idea to do such diagnost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Estimation of Background No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rcRect l="7137" t="5052" r="7137" b="5052"/>
          <a:stretch/>
        </p:blipFill>
        <p:spPr>
          <a:xfrm>
            <a:off x="1077840" y="1300320"/>
            <a:ext cx="744696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Estimation of Background No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ecks that estimation of          mat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how sample s.d. is indeed too l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ariation assessed by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Q-Q envelope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hows variation neglig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 surprising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 ~ 5 mill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2"/>
              <p:cNvSpPr txBox="1"/>
              <p:nvPr/>
            </p:nvSpPr>
            <p:spPr>
              <a:xfrm>
                <a:off x="5867280" y="1447920"/>
                <a:ext cx="540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444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Gaussian null distribut’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stimation of Biological Covariance      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Keep only “large” eigen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efined a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o for null distribution, use eigenvalu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4"/>
              <p:cNvSpPr txBox="1"/>
              <p:nvPr/>
            </p:nvSpPr>
            <p:spPr>
              <a:xfrm>
                <a:off x="7086600" y="1600200"/>
                <a:ext cx="6206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5"/>
              <p:cNvSpPr txBox="1"/>
              <p:nvPr/>
            </p:nvSpPr>
            <p:spPr>
              <a:xfrm>
                <a:off x="6629400" y="2514600"/>
                <a:ext cx="20574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6"/>
              <p:cNvSpPr txBox="1"/>
              <p:nvPr/>
            </p:nvSpPr>
            <p:spPr>
              <a:xfrm>
                <a:off x="3581280" y="3352680"/>
                <a:ext cx="1543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&gt;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8"/>
              <p:cNvSpPr txBox="1"/>
              <p:nvPr/>
            </p:nvSpPr>
            <p:spPr>
              <a:xfrm>
                <a:off x="1828800" y="5181480"/>
                <a:ext cx="57913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,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,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llustrative graphic (toy data set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rcRect l="0" t="8544" r="0" b="46990"/>
          <a:stretch/>
        </p:blipFill>
        <p:spPr>
          <a:xfrm>
            <a:off x="762120" y="1905120"/>
            <a:ext cx="7562880" cy="4759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8" name="Object 6"/>
              <p:cNvSpPr txBox="1"/>
              <p:nvPr/>
            </p:nvSpPr>
            <p:spPr>
              <a:xfrm>
                <a:off x="2057400" y="5181480"/>
                <a:ext cx="3808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7"/>
              <p:cNvSpPr txBox="1"/>
              <p:nvPr/>
            </p:nvSpPr>
            <p:spPr>
              <a:xfrm>
                <a:off x="2057400" y="4572000"/>
                <a:ext cx="444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8"/>
              <p:cNvSpPr txBox="1"/>
              <p:nvPr/>
            </p:nvSpPr>
            <p:spPr>
              <a:xfrm>
                <a:off x="2041560" y="3946680"/>
                <a:ext cx="4125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9"/>
              <p:cNvSpPr txBox="1"/>
              <p:nvPr/>
            </p:nvSpPr>
            <p:spPr>
              <a:xfrm>
                <a:off x="2057400" y="3276720"/>
                <a:ext cx="444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10"/>
              <p:cNvSpPr txBox="1"/>
              <p:nvPr/>
            </p:nvSpPr>
            <p:spPr>
              <a:xfrm>
                <a:off x="2057400" y="2666880"/>
                <a:ext cx="412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1"/>
              <p:cNvSpPr txBox="1"/>
              <p:nvPr/>
            </p:nvSpPr>
            <p:spPr>
              <a:xfrm>
                <a:off x="7696080" y="2590920"/>
                <a:ext cx="3812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2"/>
              <p:cNvSpPr txBox="1"/>
              <p:nvPr/>
            </p:nvSpPr>
            <p:spPr>
              <a:xfrm>
                <a:off x="7683480" y="3267000"/>
                <a:ext cx="4446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13"/>
              <p:cNvSpPr txBox="1"/>
              <p:nvPr/>
            </p:nvSpPr>
            <p:spPr>
              <a:xfrm>
                <a:off x="7680240" y="3946680"/>
                <a:ext cx="412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4"/>
              <p:cNvSpPr txBox="1"/>
              <p:nvPr/>
            </p:nvSpPr>
            <p:spPr>
              <a:xfrm>
                <a:off x="7664400" y="4572000"/>
                <a:ext cx="444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5"/>
              <p:cNvSpPr txBox="1"/>
              <p:nvPr/>
            </p:nvSpPr>
            <p:spPr>
              <a:xfrm>
                <a:off x="7680240" y="5241960"/>
                <a:ext cx="412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258" name="Straight Arrow Connector 18"/>
          <p:cNvCxnSpPr/>
          <p:nvPr/>
        </p:nvCxnSpPr>
        <p:spPr>
          <a:xfrm>
            <a:off x="2438280" y="3047760"/>
            <a:ext cx="2820240" cy="28198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9" name="Straight Arrow Connector 21"/>
          <p:cNvCxnSpPr/>
          <p:nvPr/>
        </p:nvCxnSpPr>
        <p:spPr>
          <a:xfrm>
            <a:off x="2438280" y="5638320"/>
            <a:ext cx="10677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0" name="Straight Arrow Connector 22"/>
          <p:cNvCxnSpPr/>
          <p:nvPr/>
        </p:nvCxnSpPr>
        <p:spPr>
          <a:xfrm>
            <a:off x="2437920" y="5029200"/>
            <a:ext cx="1600920" cy="838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1" name="Straight Arrow Connector 23"/>
          <p:cNvCxnSpPr/>
          <p:nvPr/>
        </p:nvCxnSpPr>
        <p:spPr>
          <a:xfrm>
            <a:off x="2437920" y="4266720"/>
            <a:ext cx="1753560" cy="1600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2" name="Straight Arrow Connector 24"/>
          <p:cNvCxnSpPr/>
          <p:nvPr/>
        </p:nvCxnSpPr>
        <p:spPr>
          <a:xfrm>
            <a:off x="2437200" y="3733920"/>
            <a:ext cx="2134440" cy="2134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3" name="Straight Arrow Connector 33"/>
          <p:cNvCxnSpPr/>
          <p:nvPr/>
        </p:nvCxnSpPr>
        <p:spPr>
          <a:xfrm flipH="1">
            <a:off x="6019560" y="5562720"/>
            <a:ext cx="1676880" cy="30528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64" name="Straight Arrow Connector 36"/>
          <p:cNvCxnSpPr/>
          <p:nvPr/>
        </p:nvCxnSpPr>
        <p:spPr>
          <a:xfrm flipH="1">
            <a:off x="5333400" y="4875840"/>
            <a:ext cx="2362680" cy="99108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65" name="Straight Arrow Connector 37"/>
          <p:cNvCxnSpPr/>
          <p:nvPr/>
        </p:nvCxnSpPr>
        <p:spPr>
          <a:xfrm flipH="1">
            <a:off x="4799880" y="4266000"/>
            <a:ext cx="2896200" cy="16009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66" name="Straight Arrow Connector 38"/>
          <p:cNvCxnSpPr/>
          <p:nvPr/>
        </p:nvCxnSpPr>
        <p:spPr>
          <a:xfrm flipH="1">
            <a:off x="4266360" y="3581280"/>
            <a:ext cx="3429720" cy="22867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67" name="Straight Arrow Connector 39"/>
          <p:cNvCxnSpPr/>
          <p:nvPr/>
        </p:nvCxnSpPr>
        <p:spPr>
          <a:xfrm flipH="1">
            <a:off x="3580920" y="2894400"/>
            <a:ext cx="4115520" cy="29725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Estimation of Eigenval’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rcRect l="7137" t="5052" r="7137" b="5052"/>
          <a:stretch/>
        </p:blipFill>
        <p:spPr>
          <a:xfrm>
            <a:off x="1077840" y="1300320"/>
            <a:ext cx="744696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678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Estimation of Eigenval’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eigenvalues   &gt;       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uggests biology is very strong he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.e. very strong signal to noise rat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Have more structure than can analy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with only 533 data poi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ata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far from pure no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o don’t actually use Factor Anal.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nstead end up with estim’d eigen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4"/>
              <p:cNvSpPr txBox="1"/>
              <p:nvPr/>
            </p:nvSpPr>
            <p:spPr>
              <a:xfrm>
                <a:off x="4495680" y="1371600"/>
                <a:ext cx="6210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Estimation of Eigenval’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o we need the factor mode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xplore this with another data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with fewer ge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This ti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n = 31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d = 30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 g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Estimation of Eigenval’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rcRect l="8548" t="4842" r="8548" b="4842"/>
          <a:stretch/>
        </p:blipFill>
        <p:spPr>
          <a:xfrm>
            <a:off x="1143000" y="1400040"/>
            <a:ext cx="709596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Estimation of Eigenval’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Try another data set, with fewer g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This ti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First ~110 eigenvalues  &gt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Rest are neglig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So threshold smaller ones a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4"/>
              <p:cNvSpPr txBox="1"/>
              <p:nvPr/>
            </p:nvSpPr>
            <p:spPr>
              <a:xfrm>
                <a:off x="5486400" y="2514600"/>
                <a:ext cx="620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3"/>
              <p:cNvSpPr txBox="1"/>
              <p:nvPr/>
            </p:nvSpPr>
            <p:spPr>
              <a:xfrm>
                <a:off x="6019920" y="3581280"/>
                <a:ext cx="6858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915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Gaussian null distribution - Simu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w simulate from null distribution us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(indep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g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otation invaria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akes thi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and location invarian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4"/>
              <p:cNvSpPr txBox="1"/>
              <p:nvPr/>
            </p:nvSpPr>
            <p:spPr>
              <a:xfrm>
                <a:off x="3809880" y="3276720"/>
                <a:ext cx="28958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6"/>
              <p:cNvSpPr txBox="1"/>
              <p:nvPr/>
            </p:nvSpPr>
            <p:spPr>
              <a:xfrm>
                <a:off x="609480" y="2590920"/>
                <a:ext cx="1336680" cy="22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444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Gaussian null distribution - Simu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Then compare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  <a:ea typeface="Gulim"/>
              </a:rPr>
              <a:t>data 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ith simulated null population C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pirit similar to DiProP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ut now significance happens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mall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values of 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38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An example (details to follow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rcRect l="4274" t="6052" r="4274" b="6052"/>
          <a:stretch/>
        </p:blipFill>
        <p:spPr>
          <a:xfrm>
            <a:off x="685800" y="1447920"/>
            <a:ext cx="7826400" cy="5311800"/>
          </a:xfrm>
          <a:prstGeom prst="rect">
            <a:avLst/>
          </a:prstGeom>
          <a:ln w="0">
            <a:noFill/>
          </a:ln>
        </p:spPr>
      </p:pic>
      <p:sp>
        <p:nvSpPr>
          <p:cNvPr id="393" name="TextBox 5"/>
          <p:cNvSpPr/>
          <p:nvPr/>
        </p:nvSpPr>
        <p:spPr>
          <a:xfrm>
            <a:off x="405720" y="1905120"/>
            <a:ext cx="28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-val = 0.00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148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Modalit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31440" y="1371240"/>
            <a:ext cx="8055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Two major applic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  <a:ea typeface="Gulim"/>
              </a:rPr>
              <a:t>Test significance of </a:t>
            </a:r>
            <a:r>
              <a:rPr b="0" i="1" lang="en-US" sz="3200" spc="-1" strike="noStrike">
                <a:solidFill>
                  <a:srgbClr val="ff00ff"/>
                </a:solidFill>
                <a:latin typeface="Arial"/>
                <a:ea typeface="Gulim"/>
              </a:rPr>
              <a:t>given cluste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e.g. for those found in heat ma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class labe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Gulim"/>
              </a:rPr>
              <a:t>Test if known cluster can be 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  <a:ea typeface="Gulim"/>
              </a:rPr>
              <a:t>further spl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2-mea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class labe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Real Data Resul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550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Analyze Perou 500 breast cancer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(large cross study combined data s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Current folklore:   5 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Gulim"/>
              </a:rPr>
              <a:t>Luminal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  <a:ea typeface="Gulim"/>
              </a:rPr>
              <a:t>Luminal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Gulim"/>
              </a:rPr>
              <a:t>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  <a:ea typeface="Gulim"/>
              </a:rPr>
              <a:t>Her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Gulim"/>
              </a:rPr>
              <a:t>Ba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llustrative graphic (toy data set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rcRect l="0" t="51261" r="0" b="0"/>
          <a:stretch/>
        </p:blipFill>
        <p:spPr>
          <a:xfrm>
            <a:off x="1143000" y="2133720"/>
            <a:ext cx="7562880" cy="5216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1" name="Object 6"/>
              <p:cNvSpPr txBox="1"/>
              <p:nvPr/>
            </p:nvSpPr>
            <p:spPr>
              <a:xfrm>
                <a:off x="2057400" y="5181480"/>
                <a:ext cx="3808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7"/>
              <p:cNvSpPr txBox="1"/>
              <p:nvPr/>
            </p:nvSpPr>
            <p:spPr>
              <a:xfrm>
                <a:off x="2057400" y="4572000"/>
                <a:ext cx="444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8"/>
              <p:cNvSpPr txBox="1"/>
              <p:nvPr/>
            </p:nvSpPr>
            <p:spPr>
              <a:xfrm>
                <a:off x="2041560" y="3946680"/>
                <a:ext cx="4125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9"/>
              <p:cNvSpPr txBox="1"/>
              <p:nvPr/>
            </p:nvSpPr>
            <p:spPr>
              <a:xfrm>
                <a:off x="2057400" y="3276720"/>
                <a:ext cx="444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10"/>
              <p:cNvSpPr txBox="1"/>
              <p:nvPr/>
            </p:nvSpPr>
            <p:spPr>
              <a:xfrm>
                <a:off x="2057400" y="2666880"/>
                <a:ext cx="412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11"/>
              <p:cNvSpPr txBox="1"/>
              <p:nvPr/>
            </p:nvSpPr>
            <p:spPr>
              <a:xfrm>
                <a:off x="7696080" y="2590920"/>
                <a:ext cx="3812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12"/>
              <p:cNvSpPr txBox="1"/>
              <p:nvPr/>
            </p:nvSpPr>
            <p:spPr>
              <a:xfrm>
                <a:off x="7683480" y="3267000"/>
                <a:ext cx="4446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3"/>
              <p:cNvSpPr txBox="1"/>
              <p:nvPr/>
            </p:nvSpPr>
            <p:spPr>
              <a:xfrm>
                <a:off x="7680240" y="3946680"/>
                <a:ext cx="412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14"/>
              <p:cNvSpPr txBox="1"/>
              <p:nvPr/>
            </p:nvSpPr>
            <p:spPr>
              <a:xfrm>
                <a:off x="7664400" y="4572000"/>
                <a:ext cx="444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5"/>
              <p:cNvSpPr txBox="1"/>
              <p:nvPr/>
            </p:nvSpPr>
            <p:spPr>
              <a:xfrm>
                <a:off x="7680240" y="5241960"/>
                <a:ext cx="412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281" name="Straight Arrow Connector 18"/>
          <p:cNvCxnSpPr/>
          <p:nvPr/>
        </p:nvCxnSpPr>
        <p:spPr>
          <a:xfrm>
            <a:off x="2438280" y="3047760"/>
            <a:ext cx="991440" cy="686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2" name="Straight Arrow Connector 21"/>
          <p:cNvCxnSpPr/>
          <p:nvPr/>
        </p:nvCxnSpPr>
        <p:spPr>
          <a:xfrm>
            <a:off x="2438280" y="5638320"/>
            <a:ext cx="991440" cy="381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3" name="Straight Arrow Connector 22"/>
          <p:cNvCxnSpPr/>
          <p:nvPr/>
        </p:nvCxnSpPr>
        <p:spPr>
          <a:xfrm>
            <a:off x="2438280" y="5028840"/>
            <a:ext cx="99144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4" name="Straight Arrow Connector 23"/>
          <p:cNvCxnSpPr/>
          <p:nvPr/>
        </p:nvCxnSpPr>
        <p:spPr>
          <a:xfrm>
            <a:off x="2438280" y="4267080"/>
            <a:ext cx="991440" cy="9151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5" name="Straight Arrow Connector 24"/>
          <p:cNvCxnSpPr/>
          <p:nvPr/>
        </p:nvCxnSpPr>
        <p:spPr>
          <a:xfrm>
            <a:off x="2438280" y="3733920"/>
            <a:ext cx="991440" cy="838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6" name="Straight Arrow Connector 33"/>
          <p:cNvCxnSpPr/>
          <p:nvPr/>
        </p:nvCxnSpPr>
        <p:spPr>
          <a:xfrm flipH="1">
            <a:off x="6705000" y="5562720"/>
            <a:ext cx="991080" cy="4579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87" name="Straight Arrow Connector 36"/>
          <p:cNvCxnSpPr/>
          <p:nvPr/>
        </p:nvCxnSpPr>
        <p:spPr>
          <a:xfrm flipH="1">
            <a:off x="5790600" y="4875840"/>
            <a:ext cx="1905480" cy="11437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88" name="Straight Arrow Connector 37"/>
          <p:cNvCxnSpPr/>
          <p:nvPr/>
        </p:nvCxnSpPr>
        <p:spPr>
          <a:xfrm flipH="1">
            <a:off x="5180760" y="4342320"/>
            <a:ext cx="2515320" cy="167724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89" name="Straight Arrow Connector 38"/>
          <p:cNvCxnSpPr/>
          <p:nvPr/>
        </p:nvCxnSpPr>
        <p:spPr>
          <a:xfrm flipH="1">
            <a:off x="4495320" y="3581280"/>
            <a:ext cx="3201120" cy="243900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90" name="Straight Arrow Connector 39"/>
          <p:cNvCxnSpPr/>
          <p:nvPr/>
        </p:nvCxnSpPr>
        <p:spPr>
          <a:xfrm flipH="1">
            <a:off x="3657240" y="2894400"/>
            <a:ext cx="4039200" cy="312516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520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Perou 500 PCA View – real clusters??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rcRect l="4274" t="6052" r="4274" b="6052"/>
          <a:stretch/>
        </p:blipFill>
        <p:spPr>
          <a:xfrm>
            <a:off x="746280" y="1432080"/>
            <a:ext cx="782784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Perou 500 DWD Dir’ns View – real clusters??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rcRect l="4274" t="6052" r="4274" b="6052"/>
          <a:stretch/>
        </p:blipFill>
        <p:spPr>
          <a:xfrm>
            <a:off x="762120" y="1434960"/>
            <a:ext cx="7826400" cy="53118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4"/>
          <p:cNvSpPr/>
          <p:nvPr/>
        </p:nvSpPr>
        <p:spPr>
          <a:xfrm>
            <a:off x="4572000" y="2895480"/>
            <a:ext cx="1600200" cy="2590920"/>
          </a:xfrm>
          <a:prstGeom prst="rect">
            <a:avLst/>
          </a:pr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4441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Perou 500 – Fundamental 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rcRect l="46584" t="30261" r="35045" b="25419"/>
          <a:stretch/>
        </p:blipFill>
        <p:spPr>
          <a:xfrm>
            <a:off x="5257800" y="1676520"/>
            <a:ext cx="3191040" cy="5433840"/>
          </a:xfrm>
          <a:prstGeom prst="rect">
            <a:avLst/>
          </a:prstGeom>
          <a:ln w="0">
            <a:noFill/>
          </a:ln>
        </p:spPr>
      </p:pic>
      <p:sp>
        <p:nvSpPr>
          <p:cNvPr id="405" name="TextBox 3"/>
          <p:cNvSpPr/>
          <p:nvPr/>
        </p:nvSpPr>
        <p:spPr>
          <a:xfrm>
            <a:off x="693000" y="1828800"/>
            <a:ext cx="3227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uminal 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Luminal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l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ct clust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ous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 Differ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rviv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6" name="Straight Arrow Connector 5"/>
          <p:cNvCxnSpPr/>
          <p:nvPr/>
        </p:nvCxnSpPr>
        <p:spPr>
          <a:xfrm>
            <a:off x="3276360" y="2133360"/>
            <a:ext cx="4191480" cy="153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07" name="Straight Arrow Connector 6"/>
          <p:cNvCxnSpPr/>
          <p:nvPr/>
        </p:nvCxnSpPr>
        <p:spPr>
          <a:xfrm>
            <a:off x="3276720" y="2133360"/>
            <a:ext cx="3962880" cy="3429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08" name="Straight Arrow Connector 9"/>
          <p:cNvCxnSpPr/>
          <p:nvPr/>
        </p:nvCxnSpPr>
        <p:spPr>
          <a:xfrm flipV="1">
            <a:off x="2590560" y="2437560"/>
            <a:ext cx="3810600" cy="229320"/>
          </a:xfrm>
          <a:prstGeom prst="straightConnector1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409" name="Straight Arrow Connector 12"/>
          <p:cNvCxnSpPr/>
          <p:nvPr/>
        </p:nvCxnSpPr>
        <p:spPr>
          <a:xfrm>
            <a:off x="2590920" y="2666520"/>
            <a:ext cx="3962880" cy="3125160"/>
          </a:xfrm>
          <a:prstGeom prst="straightConnector1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Results for Luminal A vs. Luminal 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1"/>
          <a:srcRect l="4274" t="6052" r="4274" b="6052"/>
          <a:stretch/>
        </p:blipFill>
        <p:spPr>
          <a:xfrm>
            <a:off x="685800" y="1447920"/>
            <a:ext cx="7826400" cy="5311800"/>
          </a:xfrm>
          <a:prstGeom prst="rect">
            <a:avLst/>
          </a:prstGeom>
          <a:ln w="0">
            <a:noFill/>
          </a:ln>
        </p:spPr>
      </p:pic>
      <p:sp>
        <p:nvSpPr>
          <p:cNvPr id="412" name="TextBox 5"/>
          <p:cNvSpPr/>
          <p:nvPr/>
        </p:nvSpPr>
        <p:spPr>
          <a:xfrm>
            <a:off x="405720" y="1905120"/>
            <a:ext cx="28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-val = 0.00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444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Results for Luminal A vs. Luminal 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Get p-values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mpirical Quant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From simulated sample C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it Gaussian Quant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Don’t “believe thes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But useful for compari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Especially when Empirical Quantile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444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Results for Luminal A vs. Luminal 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  <a:ea typeface="Gulim"/>
              </a:rPr>
              <a:t>Test significance of </a:t>
            </a:r>
            <a:r>
              <a:rPr b="0" i="1" lang="en-US" sz="3200" spc="-1" strike="noStrike">
                <a:solidFill>
                  <a:srgbClr val="ff00ff"/>
                </a:solidFill>
                <a:latin typeface="Arial"/>
                <a:ea typeface="Gulim"/>
              </a:rPr>
              <a:t>given cluste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mpirical p-val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Definitely 2 clu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Gaussian fit p-val = 0.004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same strong evi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onclude these really are two clus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444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Results for Luminal A vs. Luminal 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Gulim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Gulim"/>
              </a:rPr>
              <a:t>Test if known cluster can be 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  <a:ea typeface="Gulim"/>
              </a:rPr>
              <a:t>further spl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mpirical p-val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definitely 2 clu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Gaussian fit p-val =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-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Stronger evidence than ab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Such comparison is value of Gaussian f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Makes sense (since CI is min possi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onclude these really are two clus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Real Data Resul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550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Summary of Perou 500 SigClust Resul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Lum &amp; Norm  vs.  Her2 &amp; Basal,   p-val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-1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Luminal A  vs.  B,   p-val = 0.004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Her 2  vs.  Basal,   p-val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-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Split Luminal A,    p-val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-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Split Luminal B,   p-val = 0.05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Split Her 2,   p-val = 0.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Split Basal,   p-val = 0.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Real Data Resul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550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ummary of Perou 500 SigClust Resul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ll previous splits were re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ost not able to split fur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xception is Basal, already kn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huck Perou has good intui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insight about signal vs. noi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How good are others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Real Data Resul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550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xperience with Other Data Sets: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Simi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maller data sets:   less po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Gene filtering:    more po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Lung Cancer:    more distinct clus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llustrative graphic (toy data set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mpirical Q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ar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heoretical Q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Q-Q cur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is near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Arial"/>
              </a:rPr>
              <a:t>45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Arial"/>
              </a:rPr>
              <a:t> 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general use of Q-Q plo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467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Real Data Resul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560" y="1479240"/>
            <a:ext cx="83818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ome Personal Observ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xperienced Analys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mpressively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gClust can save them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gClust can help them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kep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gClu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ssent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non-expe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Mathematical Stat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31440" y="1371240"/>
            <a:ext cx="805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Have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Gulim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first asymptotic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Too complicated to state 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ain idea:  “consistency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ut not as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nstead as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∞, 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fix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emerging new area, both her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nd in other contex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31440" y="1371240"/>
            <a:ext cx="805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sults show reasonabl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approx’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ut improvements are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.g. in variance esti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interesting open proble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Usual problem is loss of pow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o current results OK, just conserv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19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Open Proble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31440" y="1371240"/>
            <a:ext cx="805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mproved Variance Esti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ore attention to Local Minima in 2-means Clus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Theoretical Null Distrib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nference for k &gt; 2 means Clus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ultiple Comparison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019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5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More on 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31440" y="1371240"/>
            <a:ext cx="805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lgorith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onverg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Local Minima  use SigClust\SC2MPit4Combo.pd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Visu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tarting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162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Other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31440" y="1371240"/>
            <a:ext cx="805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K-means Clustering &amp; Starting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ry 100 random Sta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For full data se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Study Final C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Shows just two solu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Study changes in data, with image 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Shows little difference between the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Overall:  Typical for clusters can spl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When Split is Clear, easily find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Random Restarts, Full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0" name="Picture 5" descr=""/>
          <p:cNvPicPr/>
          <p:nvPr/>
        </p:nvPicPr>
        <p:blipFill>
          <a:blip r:embed="rId1"/>
          <a:stretch/>
        </p:blipFill>
        <p:spPr>
          <a:xfrm>
            <a:off x="990720" y="1260360"/>
            <a:ext cx="769608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Random Restarts, Full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990720" y="1260360"/>
            <a:ext cx="769608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148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Other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31440" y="1371240"/>
            <a:ext cx="805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For full Chuck Class (e.g. Luminal B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Study Final C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Shows several solu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Study changes in data, with image 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Shows multiple, divergent mini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Overall:  Typical for “terminal” clu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When no clear split, many local optima app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Could base test on number of local optima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eed to underst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sampling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pproach: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Gulim"/>
              </a:rPr>
              <a:t>Q-Q envelope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Simulate from Theoretical Dist’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Samples of same 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About 100 samples g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good visual impress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Overlay resulting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Gulim"/>
              </a:rPr>
              <a:t>100 QQ-cur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o visually conve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natural sampling var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Random Restarts, Luminal 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6" name="Picture 3" descr=""/>
          <p:cNvPicPr/>
          <p:nvPr/>
        </p:nvPicPr>
        <p:blipFill>
          <a:blip r:embed="rId1"/>
          <a:stretch/>
        </p:blipFill>
        <p:spPr>
          <a:xfrm>
            <a:off x="990720" y="1260360"/>
            <a:ext cx="769608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Random Restarts, Luminal 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1"/>
          <a:stretch/>
        </p:blipFill>
        <p:spPr>
          <a:xfrm>
            <a:off x="990720" y="1260360"/>
            <a:ext cx="769608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xt Topi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WD simulations, from SAMSI be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up from FDA04-22-02.d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eral Con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so SVMoverviewSAMSI09-06-03.d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n-Gaussian!    departures from l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3" descr="EgQQ1dat3NmixBimv2Histo.png"/>
          <p:cNvPicPr/>
          <p:nvPr/>
        </p:nvPicPr>
        <p:blipFill>
          <a:blip r:embed="rId1"/>
          <a:stretch/>
        </p:blipFill>
        <p:spPr>
          <a:xfrm>
            <a:off x="1143000" y="1738440"/>
            <a:ext cx="6719760" cy="5119560"/>
          </a:xfrm>
          <a:prstGeom prst="rect">
            <a:avLst/>
          </a:prstGeom>
          <a:ln w="0">
            <a:noFill/>
          </a:ln>
        </p:spPr>
      </p:pic>
      <p:cxnSp>
        <p:nvCxnSpPr>
          <p:cNvPr id="298" name="Straight Arrow Connector 5"/>
          <p:cNvCxnSpPr/>
          <p:nvPr/>
        </p:nvCxnSpPr>
        <p:spPr>
          <a:xfrm flipH="1">
            <a:off x="2513880" y="1447560"/>
            <a:ext cx="2591640" cy="4191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Straight Arrow Connector 6"/>
          <p:cNvCxnSpPr/>
          <p:nvPr/>
        </p:nvCxnSpPr>
        <p:spPr>
          <a:xfrm flipH="1">
            <a:off x="4342680" y="1447920"/>
            <a:ext cx="762840" cy="3124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Straight Arrow Connector 7"/>
          <p:cNvCxnSpPr/>
          <p:nvPr/>
        </p:nvCxnSpPr>
        <p:spPr>
          <a:xfrm>
            <a:off x="5104440" y="1447560"/>
            <a:ext cx="766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Straight Arrow Connector 8"/>
          <p:cNvCxnSpPr/>
          <p:nvPr/>
        </p:nvCxnSpPr>
        <p:spPr>
          <a:xfrm>
            <a:off x="5105160" y="1447920"/>
            <a:ext cx="190548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n-Gaussian!    departures from l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Gulim"/>
              </a:rPr>
              <a:t>Envelope Pl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show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epartures are signific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lear these data are not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Q-Q plot gives clear ind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EgQQ1dat3NmixBimv2Histo.png"/>
          <p:cNvPicPr/>
          <p:nvPr/>
        </p:nvPicPr>
        <p:blipFill>
          <a:blip r:embed="rId1"/>
          <a:stretch/>
        </p:blipFill>
        <p:spPr>
          <a:xfrm>
            <a:off x="1143000" y="1738440"/>
            <a:ext cx="6719760" cy="51195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Gaussian?    departures from l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7" name="Straight Arrow Connector 5"/>
          <p:cNvCxnSpPr/>
          <p:nvPr/>
        </p:nvCxnSpPr>
        <p:spPr>
          <a:xfrm flipH="1">
            <a:off x="3351960" y="1447920"/>
            <a:ext cx="1753560" cy="4115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8" name="Straight Arrow Connector 8"/>
          <p:cNvCxnSpPr/>
          <p:nvPr/>
        </p:nvCxnSpPr>
        <p:spPr>
          <a:xfrm>
            <a:off x="5105520" y="1447560"/>
            <a:ext cx="83880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marron</cp:lastModifiedBy>
  <dcterms:modified xsi:type="dcterms:W3CDTF">2007-11-15T02:42:59Z</dcterms:modified>
  <cp:revision>1387</cp:revision>
  <dc:subject/>
  <dc:title>Title</dc:title>
</cp:coreProperties>
</file>