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3BC4-E1D8-45A3-AADE-BF71A1A1E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F03A-0FD3-4878-B4BE-C5758DF8D5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DB20-4859-4944-A4F0-0855C12375F5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87CD-A396-4D5D-AA92-74B598E18BBA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2AA9-517B-4C59-8340-7D862521D5BF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F8F6-FBBA-45C9-B33E-AB1A6AF8CCE7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BC3E-8613-4472-9985-CF53B785F0CA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A5C8-0F80-4350-BB6D-95932968A849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1DCC-F387-418C-B11D-61CC9E998258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2BBA-DA32-493C-8776-3BAC215D6104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44F4-C15A-4AF4-9D58-5AB41901693F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FAF4-EA79-490D-A287-9FE5ED01B56F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3EA5-54C9-47F5-87FE-035F7409142A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A39B-3FAD-4089-A479-EBC152B3E48B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87FF-9D15-41A1-A638-2E8F90A16164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8094-9B30-4BCD-82C5-63E2A1814992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AD1B-268D-4150-B313-7EC7B9C63B98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927D-0E24-4937-A907-C15F192AEEEB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20E2-4C58-4928-A83C-454B6CB6E578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04CA-D869-43E0-BB4F-AF4AD3DC936E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5C03-BBEC-4C07-9597-09C5FC70D12F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1C87-278A-466D-A359-9732CCF1E67B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1F5C-1624-430C-BDC6-C2CEB837315A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B86D-1C08-4B96-894A-7AADE40DC803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C0F6-9E56-4523-957B-A11806CE508A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FB58-69C9-4044-8448-C5024C2B1275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C906-20AD-4D25-A3C0-77AFEC7B82F1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ACDB-14D7-4820-AD9F-A87823655410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C1FF-0999-4F4C-A38A-984AA41FE3BE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3C98-C7F8-4018-B2FE-B2209FA51C8A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012A-C208-4BAC-BDF9-DF205B7BF8D4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79AA-780B-4419-A35A-04A0E8EC8F08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1128-1E0F-4263-BA17-57203BC7B555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5EE9-C774-4C57-A053-D90A8774B7F8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407A-AE5A-440A-8C31-CAE8196C6724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C3ED-EE52-412A-A272-A37D6C2C0619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72B5-330E-46BF-8D4B-6E1525B7177A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F336-FE7A-430B-AB1C-FA11F86689B9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4EF9-5D52-402F-841D-A03F5CB350D9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38BE-9C6E-4180-9581-132B04C64734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FA31-C8B8-4280-BE14-9680F1801373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A9EC-1111-4B29-A02A-4CBEF520BA60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92DC-8C25-4359-8C41-A5B7E430C9C2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E2CD-A21F-4E04-8390-393ACC02849F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38EF-656A-40EA-A9E0-4E7A0BBBE125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FA1B-A2E9-4559-A04E-684F02F5D37D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F537-CA54-48D4-B5B8-17F1F8332E1A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85BC-FA9E-4DA5-9E56-9BB01E905D4E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0BDE-CD3D-44C3-821B-99CB68FBEA10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6508-419A-4EAC-8EA1-379BC80B29CA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4ED4-AF14-4947-AF8D-18EA210DCF5B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69AD-6FE4-499F-89A7-3FE26CD8B881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0434-B3D3-4614-9BAD-4D7378D9D482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A3F8-F55C-4C3D-ADD4-81BE45A4A0A8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84A4-0F46-4151-A4EE-302774D87225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133B-1B37-4C7A-9776-2ECC29DF673F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1F5F-6511-4A4A-84D2-A68BB97DB5D1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1E70-F9A3-400D-8522-C2F5FEB4E944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D00D-8CC4-45DE-BD85-3B5E91522510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2C87-E11A-4999-B3E2-C91C53E776E1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C6A1-D64F-4C39-A31B-C69D06D982EB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4AAB-CCD1-4E72-A928-F60A861B2983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74FA-C429-4ED1-A0E1-E69D3061E3D7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938B-77F1-4BD8-868C-2CD17683A649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430D-6D6B-4DE1-A007-7A5C3B10DBB1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3F67-E9F8-41A3-943E-86A555BB68EE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2543-F3A6-463F-A60B-514ECAB71FD3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B0C1-9BA8-42D2-98B6-E29636A88B04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452B-447B-47D7-8F75-44959C7DE152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8E76-400C-4454-AF90-E0878EAA3E86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6E17-7AE6-40EA-97FD-E7DB43AE4AB6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C5C7-F118-4BEF-8B3F-56CC913CE274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617B-0B76-46F2-B379-CB986D47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44B2-D08C-4CD2-B437-0B74A902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CBF6-0340-43A0-AF93-7F827201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8C43-DAC3-4C0E-A2A4-F59D2BE8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3AF8-8D05-4090-84EE-B7F0DF0E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E616-0560-4DAC-AAB6-038EFA69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C812-A877-4DB2-B41C-EDB5F52B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512E-1CC2-42E7-8C7B-831610C7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A315-A346-4AC8-B3AA-017B358E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99CB-3C32-4ED4-B149-5C5A44C4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D2AE-E476-41E2-98DE-B6FF4EB4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9DE3-572D-40D6-935D-717621F8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8EA4-4D54-4B45-BE11-FAA0BBC6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D6BD-2334-442C-9B17-F408C98F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622C-7AD5-440B-B1E2-62A743ED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B165-CDA3-44D1-8328-1A3A8B5F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AA30-DD51-4A2F-AFC7-59D876F0E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EF13-B02C-4303-BE00-BE214538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AC0A-EDC0-41E8-A934-B2DF2068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F3C2-015E-467F-BABD-79DF0FE5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47D0-D06D-41B7-B816-153E0B23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B0B7-E9FB-4F6F-98F2-6015174E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D23E-EC5F-4A31-B915-05D82159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D225-6763-4A2A-B771-54FB2930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A218-33CA-438E-81F4-D01B8FB8D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FCFB-8172-4DFB-8D59-611DEA595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ished Q-Q Pl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sess variability with </a:t>
            </a:r>
            <a:r>
              <a:rPr b="0" lang="en-US" sz="28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Q-Q Envelope Pl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gCl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n is a cluster “really there”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:  2-means Cluster Ind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ussian null distrib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t to data (for </a:t>
            </a:r>
            <a:r>
              <a:rPr b="0" lang="en-US" sz="28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, using invarian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-values by sim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reast Cancer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829480" cy="82771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3"/>
          <p:cNvSpPr/>
          <p:nvPr/>
        </p:nvSpPr>
        <p:spPr>
          <a:xfrm>
            <a:off x="228600" y="1876320"/>
            <a:ext cx="2670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pu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as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829480" cy="827712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"/>
          <p:cNvSpPr/>
          <p:nvPr/>
        </p:nvSpPr>
        <p:spPr>
          <a:xfrm>
            <a:off x="228600" y="1371600"/>
            <a:ext cx="2670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pu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as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very g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829480" cy="82771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3"/>
          <p:cNvSpPr/>
          <p:nvPr/>
        </p:nvSpPr>
        <p:spPr>
          <a:xfrm>
            <a:off x="152280" y="1876320"/>
            <a:ext cx="2746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2-me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us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Minim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829480" cy="82771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3"/>
          <p:cNvSpPr/>
          <p:nvPr/>
        </p:nvSpPr>
        <p:spPr>
          <a:xfrm>
            <a:off x="380880" y="1876320"/>
            <a:ext cx="2517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pu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as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poor clust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829480" cy="8277120"/>
          </a:xfrm>
          <a:prstGeom prst="rect">
            <a:avLst/>
          </a:prstGeom>
          <a:ln w="0">
            <a:noFill/>
          </a:ln>
        </p:spPr>
      </p:pic>
      <p:sp>
        <p:nvSpPr>
          <p:cNvPr id="169" name="TextBox 3"/>
          <p:cNvSpPr/>
          <p:nvPr/>
        </p:nvSpPr>
        <p:spPr>
          <a:xfrm>
            <a:off x="380880" y="1905120"/>
            <a:ext cx="2517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pu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Assig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ck 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M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829480" cy="8277120"/>
          </a:xfrm>
          <a:prstGeom prst="rect">
            <a:avLst/>
          </a:prstGeom>
          <a:ln w="0">
            <a:noFill/>
          </a:ln>
        </p:spPr>
      </p:pic>
      <p:sp>
        <p:nvSpPr>
          <p:cNvPr id="172" name="TextBox 3"/>
          <p:cNvSpPr/>
          <p:nvPr/>
        </p:nvSpPr>
        <p:spPr>
          <a:xfrm>
            <a:off x="152280" y="1876320"/>
            <a:ext cx="2819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slightl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ing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829480" cy="82771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3"/>
          <p:cNvSpPr/>
          <p:nvPr/>
        </p:nvSpPr>
        <p:spPr>
          <a:xfrm>
            <a:off x="380880" y="1876320"/>
            <a:ext cx="2517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pu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as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poor clust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829480" cy="82771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380880" y="1905120"/>
            <a:ext cx="2517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pu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Assig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g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M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31440" y="1371240"/>
            <a:ext cx="8055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???Next ti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do above, using my own Matlab calcu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That way can show each st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nd get right answ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31440" y="1371240"/>
            <a:ext cx="8055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w explore starting valu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pproach randomly choose 2 data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Give stable solu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xplore for different point configu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nd try 100 random cho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o 2-d examples for easy visu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55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lassical Algorithm  (from MacQueen,196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tart with initial m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luster: each data pt. to closest m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compute Class m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top when no 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emo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http://home.dei.polimi.it/matteucc/Clustering/tutorial_html/AppletKM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1" name="Straight Arrow Connector 4"/>
          <p:cNvCxnSpPr/>
          <p:nvPr/>
        </p:nvCxnSpPr>
        <p:spPr>
          <a:xfrm flipV="1">
            <a:off x="1216440" y="3201120"/>
            <a:ext cx="396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2" name="Straight Connector 18"/>
          <p:cNvSpPr/>
          <p:nvPr/>
        </p:nvSpPr>
        <p:spPr>
          <a:xfrm>
            <a:off x="1219320" y="3429000"/>
            <a:ext cx="4267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traight Connector 19"/>
          <p:cNvSpPr/>
          <p:nvPr/>
        </p:nvSpPr>
        <p:spPr>
          <a:xfrm flipV="1">
            <a:off x="5484960" y="3430080"/>
            <a:ext cx="2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5276880"/>
          </a:xfrm>
          <a:prstGeom prst="rect">
            <a:avLst/>
          </a:prstGeom>
          <a:ln w="0">
            <a:noFill/>
          </a:ln>
        </p:spPr>
      </p:pic>
      <p:sp>
        <p:nvSpPr>
          <p:cNvPr id="185" name="TextBox 3"/>
          <p:cNvSpPr/>
          <p:nvPr/>
        </p:nvSpPr>
        <p:spPr>
          <a:xfrm>
            <a:off x="304920" y="1295280"/>
            <a:ext cx="74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lusters:   Raw Data         (Normal mixtu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304920" y="12952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lusters:   Cluster Index, based on 100 Random St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304920" y="1295280"/>
            <a:ext cx="74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lusters:   Chosen Clust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31440" y="1371240"/>
            <a:ext cx="8055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2 Clusters 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ll starts end up with good ans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nswer is very good  (CI  =  0.0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 obvious local min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04920" y="1295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d Gaussian:   Raw Data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304920" y="12952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d Gaussian :   C. I., based on 100 Random St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304920" y="1295280"/>
            <a:ext cx="74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d Gaussian :   Chosen Clust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31440" y="1371240"/>
            <a:ext cx="8055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tched Gaussian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ll starts end up with same ans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nswer is less good  (CI  =  0.3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 obvious local min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304920" y="1295280"/>
            <a:ext cx="74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Gaussian:   Raw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304920" y="12952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Gaussian :   C. I., based on 100 Random St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829480" cy="82771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533520" y="1905120"/>
            <a:ext cx="236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tar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304920" y="1295280"/>
            <a:ext cx="74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Gaussian:   Chosen Clust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31440" y="1371240"/>
            <a:ext cx="8055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ndard Gaussi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ll starts end up with same ans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nswer even less good  (CI  =  0.6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 obvious local min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o still stable, despite poor 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304920" y="1295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alanced Clusters:   Raw Data         (Normal mixtu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304920" y="12952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alanced Clusters:   CI, based on 100 Random St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31440" y="1371240"/>
            <a:ext cx="8055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4 Balanced Clusters 100 Random St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any different solutions app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.e. there are many local min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orting on CI (bottom) shows how m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2 seem smaller than ot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hat are other local minim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Understand with deeper visu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304920" y="1295280"/>
            <a:ext cx="74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alanced Clusters:   Class Assignment Image P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304920" y="1295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alanced Clusters:   Vertically Regroup    (better view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304920" y="1295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alanced Clusters:   Choose cases to “flip” – color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304920" y="1295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alanced Clusters:   Choose cases to “flip” – color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304920" y="1295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alanced Clusters:   “flip”,  shows local min clus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829480" cy="82771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380880" y="1905120"/>
            <a:ext cx="2517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Each Data Poi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Nea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pu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as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TextBox 3"/>
          <p:cNvSpPr/>
          <p:nvPr/>
        </p:nvSpPr>
        <p:spPr>
          <a:xfrm>
            <a:off x="304920" y="1295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alanced Clusters:   sort columns, for better visu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304920" y="12952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alanced Clusters:   CI, based on 100 Random St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304920" y="12952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alanced Clusters:   Color according to local min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304920" y="12952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alanced Clusters:   Chosen Clustering, smallest 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TextBox 3"/>
          <p:cNvSpPr/>
          <p:nvPr/>
        </p:nvSpPr>
        <p:spPr>
          <a:xfrm>
            <a:off x="304920" y="12952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alanced Clusters:   Chosen Clustering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ll 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304920" y="12952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alanced Clusters:   Chosen Clustering, larger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TextBox 3"/>
          <p:cNvSpPr/>
          <p:nvPr/>
        </p:nvSpPr>
        <p:spPr>
          <a:xfrm>
            <a:off x="304920" y="12952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alanced Clusters:   Chosen Clustering, larger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TextBox 3"/>
          <p:cNvSpPr/>
          <p:nvPr/>
        </p:nvSpPr>
        <p:spPr>
          <a:xfrm>
            <a:off x="304920" y="12952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alanced Clusters:   Chosen Clustering, larger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304920" y="12952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alanced Clusters:   Chosen Clustering, larger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31440" y="1371240"/>
            <a:ext cx="8055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4 Balanced Clusters 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any Local Min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Two good ones appear often (2-2 spli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4 worse ones (1-3 splits less comm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1 with sing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trange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Overall very uns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aises concern over starting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829480" cy="82771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3"/>
          <p:cNvSpPr/>
          <p:nvPr/>
        </p:nvSpPr>
        <p:spPr>
          <a:xfrm>
            <a:off x="380880" y="1905120"/>
            <a:ext cx="2517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pu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As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Poi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Nea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304920" y="1295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Unbalanced Clusters:   Raw Data         (try for stabi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304920" y="12952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Unbalanced Clusters:   CI, based on 100 Random St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304920" y="12952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Unbalanced Clusters:   Recolor by 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TextBox 3"/>
          <p:cNvSpPr/>
          <p:nvPr/>
        </p:nvSpPr>
        <p:spPr>
          <a:xfrm>
            <a:off x="304920" y="12952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Unbalanced Clusters:   Chosen Clustering, smallest 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TextBox 3"/>
          <p:cNvSpPr/>
          <p:nvPr/>
        </p:nvSpPr>
        <p:spPr>
          <a:xfrm>
            <a:off x="304920" y="12952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Unbalanced Clusters:   Chosen Clustering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ll 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304920" y="12952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Unbalanced Clusters:   Chosen Clustering, larger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31440" y="1371240"/>
            <a:ext cx="8055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4 Unbalanced Clusters 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ewer Local Minima (more sta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Two good ones appear often (2-2 spli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ingle  1-3 split less comm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Previous instability caused by bala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aybe stability OK after al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304920" y="1295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on Circle:   Raw Data         (maximal instability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304920" y="12952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on Circle:   CI, based on 100 Random St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TextBox 3"/>
          <p:cNvSpPr/>
          <p:nvPr/>
        </p:nvSpPr>
        <p:spPr>
          <a:xfrm>
            <a:off x="304920" y="12952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on Circle:   Recolor by 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829480" cy="82771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4"/>
          <p:cNvSpPr/>
          <p:nvPr/>
        </p:nvSpPr>
        <p:spPr>
          <a:xfrm>
            <a:off x="380880" y="1905120"/>
            <a:ext cx="2517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pu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As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Poi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Nea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TextBox 3"/>
          <p:cNvSpPr/>
          <p:nvPr/>
        </p:nvSpPr>
        <p:spPr>
          <a:xfrm>
            <a:off x="304920" y="12952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on Circle:   Chosen Clustering, smallest 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TextBox 3"/>
          <p:cNvSpPr/>
          <p:nvPr/>
        </p:nvSpPr>
        <p:spPr>
          <a:xfrm>
            <a:off x="304920" y="12952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on Circle :   Chosen Clustering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ll 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TextBox 3"/>
          <p:cNvSpPr/>
          <p:nvPr/>
        </p:nvSpPr>
        <p:spPr>
          <a:xfrm>
            <a:off x="304920" y="12952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on Circle :   Chosen Clustering,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ll 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31440" y="1371240"/>
            <a:ext cx="8055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ata on Circle 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eems many local min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everal are the sa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ould be programming erro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ut clear this is an unstable 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K-Means Clustering Ca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31440" y="1371240"/>
            <a:ext cx="8055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This is all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personal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Others would present different asp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.g. replace Euclidean dist. by ot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.g. other types of clus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.g. heat-map dendogram vi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Breast Cancer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31440" y="1371240"/>
            <a:ext cx="8055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K-means Clustering &amp; Starting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Try 100 random Sta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For full data se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Study Final C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Shows just two solu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Study changes in data, with image 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Shows little difference between the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Overall:  Typical for clusters can spl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When Split is Clear, easily find 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Random Restarts, Full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13" name="Picture 5" descr=""/>
          <p:cNvPicPr/>
          <p:nvPr/>
        </p:nvPicPr>
        <p:blipFill>
          <a:blip r:embed="rId1"/>
          <a:stretch/>
        </p:blipFill>
        <p:spPr>
          <a:xfrm>
            <a:off x="990720" y="1260360"/>
            <a:ext cx="769608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Random Restarts, Full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990720" y="1260360"/>
            <a:ext cx="769608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Breast Cancer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31440" y="1371240"/>
            <a:ext cx="8055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For full Chuck Class (e.g. Luminal B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Study Final C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Shows several solu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Study changes in data, with image 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Shows multiple, divergent mini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Overall:  Typical for “terminal” clu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When no clear split, many local optima app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Could base test on number of local optima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Random Restarts, Luminal 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990720" y="1260360"/>
            <a:ext cx="769608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829480" cy="82771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3"/>
          <p:cNvSpPr/>
          <p:nvPr/>
        </p:nvSpPr>
        <p:spPr>
          <a:xfrm>
            <a:off x="380880" y="1905120"/>
            <a:ext cx="2517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pu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Assig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Random Restarts, Luminal 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990720" y="1260360"/>
            <a:ext cx="769608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Breast Cancer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31440" y="1371240"/>
            <a:ext cx="8055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??? Next time:   show many more of th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To better build this case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829480" cy="82771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3"/>
          <p:cNvSpPr/>
          <p:nvPr/>
        </p:nvSpPr>
        <p:spPr>
          <a:xfrm>
            <a:off x="228600" y="1905120"/>
            <a:ext cx="2819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bera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nge Starting Ce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829480" cy="82771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3"/>
          <p:cNvSpPr/>
          <p:nvPr/>
        </p:nvSpPr>
        <p:spPr>
          <a:xfrm>
            <a:off x="380880" y="1876320"/>
            <a:ext cx="2517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Clu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i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poor clust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UNC</cp:lastModifiedBy>
  <dcterms:modified xsi:type="dcterms:W3CDTF">2007-11-20T20:18:11Z</dcterms:modified>
  <cp:revision>1473</cp:revision>
  <dc:subject/>
  <dc:title>Title</dc:title>
</cp:coreProperties>
</file>