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660-779A-46E2-AE04-DE076834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6286-C309-4382-8AF1-8C6698F06B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591-C597-4B08-AA78-E6F1E53B20E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A10-4E60-402F-BC4B-D09CC921C63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000A-EEB7-4709-BE0B-F33D38609EC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48B-8E77-4FD5-82E3-C53E7F00DDF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3DE-B243-4944-B164-96A310D117D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7BB-0930-4328-8FE4-DFD404DCCF1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C6B-99CE-4965-98B4-F3C7D894E0E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BA4A-AF77-41C4-9843-582E5287ED4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C36-91C1-48BA-99DC-8072E669FAD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194-F366-4DF6-9466-5447A1C6077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C878-CE53-4937-BE7A-DD205C2498F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56AB-4722-4AA7-9EEA-124AE173FBC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ED8C-6C35-471A-9990-91B76253672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C6B-1D81-424F-A2A4-DC260D66F0F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C84C-DA57-49F4-B618-3DE737B6A1C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295-D17D-470D-890B-6A007C4FAEE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AF20-C6F4-421B-A916-0A9CB867ABA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FED-E5FA-4926-B23E-50600D1C802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A63C-1151-4884-A583-56C66F6913E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4E9-A834-408C-A68A-CF42BF40C4F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55D-2484-4C22-AB5E-2B4F54B6E4C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2E2-EBAE-42E7-B877-8AC5F255AF5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A45-D11F-412E-8819-534DB15F729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3772-87B6-467D-B932-6DA3343A8BD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A2F-AEF0-4212-BF0E-CFBC5729819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4E8D-5DE3-4833-98B6-F64BB4254B7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4830-0105-496C-A792-47EEBDED40E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FCB-A0F3-42E2-8F3B-6E936D7E55A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854-B325-4458-87E2-B29C3CEA81F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9DEA-A094-4FC9-884F-B26931E993D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6EB0-8D65-43D9-9908-6CB65DFD87B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F0F-9242-4980-A98B-5569B2EA7A6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4B50-7908-408C-994E-4BFDA768F60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6191-0D34-4E83-9EE0-FDCFC0255BC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E010-A985-4495-A080-19B6F748B86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F3E-70E2-4A00-A976-036FEF8FFD2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F592-D997-4906-B832-7BFC1860158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6CC-2AD2-4C24-872A-D7FA567881F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1114-6B4D-4E7C-A50E-F5D997A51F7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CF5-7095-4260-AAA4-0BC2947076C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B195-A89E-4345-8156-52CE15986BB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307-D69C-4187-B9E4-6610A1E7DF7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9747-B478-443A-871B-F9DA0D59EBE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5E3-361E-4263-A7BE-214991DD19C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595-B964-427F-BBE2-8CCB2EED674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B692-7F68-4BDE-BDE1-EAF65E214B4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6D5-E37C-49D8-BE5F-795C960117C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FA8-F924-401C-8A04-138FBCAADA6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6ECB-4625-4FD0-83EC-144BE0F30E9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C8E5-98D7-4326-B0FD-CE9267D478C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29B-6C57-4F6C-9907-4CF171159B3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0A56-2641-4B8D-9A7E-0C044E0BD82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90F-BB3C-4536-B266-CF86AF37B63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3CC2-0B1F-4A10-969A-1F93FFA42D8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BEB9-D2B0-4557-BCB4-3AD9CD1A8A5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4C4-5F93-4DAE-9B09-31BBB5B4354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584-6836-4601-80D0-7A044E6BF48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896-D86E-43EC-A142-3380E73D524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D8F-CA24-4000-BD5E-3951C733D20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954-B879-474E-91DE-2B6F2B09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3B0-4265-4451-A115-90867A4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DAC-C0DF-4267-B24D-B644CD1E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86E-FFD9-4F50-9C87-A6780368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D8EA-846B-4ABE-AC10-1A5060F2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19D6-BB9C-4B5C-A186-26EA674A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8BC-5E83-401D-95C2-EABB4CA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956-4398-4537-A860-F6666F7C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A63D-FA21-4FC8-9CD9-13F0645B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00C2-EC4B-4437-BF43-329F1A3C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1BC-D6B1-4A98-9D70-1E6E237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15D-B8F1-442D-AE13-42B68BC2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72E2-0EC9-492B-9990-AFE8B1F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947C-8BCE-4B07-892C-885C2A1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72C-A517-4BD5-A88A-F4DC6DC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99EA-88E6-47B4-8BF9-89B57193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B8B-5DD5-4ACE-B246-8AC1ED5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A81-F6EF-44A9-82C1-8BA73B94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092-23EE-4FA4-9768-041EEA8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B45-B37B-4A75-9F61-11FE05F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F2B-8AF3-487E-9F58-079B9709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6D-7474-4F09-A851-9AFBD00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912-B878-4387-BE53-570267B1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658-4F1D-4C59-83C7-5D9B20D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594A-B34C-4E70-84F4-7E6EF3022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523-C8B3-4E56-8FA8-1F76123D5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on K-Means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ored simple 2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cus on local mimina, and random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results were 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very un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st Cance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ificant split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Few local min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ignificant split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Many local min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oal is to find separating we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that                      for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blem:                   would be fin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      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2666880"/>
                <a:ext cx="1575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W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6934320" y="137160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2438280" y="4038480"/>
                <a:ext cx="1700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6705720" y="2819520"/>
                <a:ext cx="304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200400" y="4800600"/>
                <a:ext cx="523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lutions for Cocktail Party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CA (on population of 2-d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CA (on population of 2-d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lutions for Cocktail Party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CA (on population of 2-d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rection of maximal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oesn’t solve this problem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(will describe method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(will describe method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lutions for Cocktail Party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CA (on population of 2-d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rection of maximal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oesn’t solve this problem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(will describe method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[Independent Compon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olve it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[modul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 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den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call original time se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lation to FDA:             rec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 Processing: 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r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    time series, for   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unctional Data Analysis:  focus on colum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     data vec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te:  2 viewpoints like “duals” for P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981080" y="1523880"/>
                <a:ext cx="5029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⋯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2133720" y="3886200"/>
                <a:ext cx="380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562720" y="3886200"/>
                <a:ext cx="16970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446640" y="5384880"/>
                <a:ext cx="345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catterplot View (signal processing): 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2819520" y="2362320"/>
                <a:ext cx="4876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udy 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505320" y="1066680"/>
                <a:ext cx="48765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ndependent Component Analys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?? Next time:  review material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11-Intro2ICA.p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catterplot View (signal processing): 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rresponding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819520" y="2362320"/>
                <a:ext cx="4876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s   -   Corresponding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rcRect l="0" t="0" r="42718" b="0"/>
          <a:stretch/>
        </p:blipFill>
        <p:spPr>
          <a:xfrm>
            <a:off x="838080" y="2362320"/>
            <a:ext cx="4278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catterplot View (signal processing): 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rresponding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819520" y="2362320"/>
                <a:ext cx="4876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289548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udy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3505320" y="1066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catterplot View (signal processing): 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rresponding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rresponding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19520" y="2362320"/>
                <a:ext cx="48765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89548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  -   Corresponding Scatter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44427" b="0"/>
          <a:stretch/>
        </p:blipFill>
        <p:spPr>
          <a:xfrm>
            <a:off x="838080" y="2286000"/>
            <a:ext cx="4149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catterplot View (signal processing): 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s &amp; Scat’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&amp; Scat’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catterplots give hint how ICA i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ffine transformati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tret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ndep’t signals into dep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version” is key to 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even w/       unknow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4724280" y="1828800"/>
                <a:ext cx="4038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4495680" y="2590920"/>
                <a:ext cx="41911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267080" y="6165720"/>
                <a:ext cx="53352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5029200" y="3941640"/>
                <a:ext cx="14479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y not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nds direction of greatest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CA - Finds direction of greatest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y not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nds direction of greatest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ich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ndependent Component Analys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ersonal View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hat maximize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e.g. PCA, DW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tivating Context:  Signal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lind Source Separa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CA  -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y not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nds direction of greatest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ich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Step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phere the dat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shown on right in scatterplot vie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Step 1:     sphere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Step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phere the dat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shown on right in scatterplot vie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find linear transf’n to mak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an =        ,  cov =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wor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quires       of full r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t least          ,  i.e. no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arch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, beyo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inear and quadrat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19720" y="3276720"/>
                <a:ext cx="380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6629400" y="327348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3733920" y="3886200"/>
                <a:ext cx="2590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3352680" y="5105520"/>
                <a:ext cx="1105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2666880" y="4514760"/>
                <a:ext cx="533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Step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nd dir’ns that make (sphered)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ependen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call “independence” mea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joint distribution is product of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 cocktail part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Step 2:      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Step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nd dir’ns that make (sphered)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ependent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call “independence” mea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joint distribution is product of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 cocktail part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Happens only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upport parallel to 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therwise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lank 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ut marginals are non-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arallel Idea (and key to algorithm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nd directions that maximiz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sed on assumption:  starting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te:   “most” projections a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since projection is “linear combo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thematics behind thi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aconis and Freedman (19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orst case for IC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en sphered data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have independenc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(ortho) dir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u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an’t fi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useful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 distribution is characteriz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ependent   &amp;  spherically sym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ndependent Component Analys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rdoso (1989)    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ap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ee (1989)    (early book, not recco’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Gulim"/>
              </a:rPr>
              <a:t>Hyvärinen &amp; Oja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Gulim"/>
              </a:rPr>
              <a:t>(excellent short tutoria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Gulim"/>
              </a:rPr>
              <a:t>Hyvärinen, Karhunen &amp; Oja (2001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detailed monograp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riteria for non-Gaussianity / independ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urtosi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4th order cumul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gative Entr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tu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parametric Maximum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fomax” in Neur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teresting connections between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143000" y="5334120"/>
                <a:ext cx="409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2895480" y="1676520"/>
                <a:ext cx="23623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tlab Algorithm (optimizing any of abov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st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umerical gradient search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 find dir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ter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multaneous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note:  PCA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, but not 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ppears fast, with good defa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reful about local opt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Recco:  several random restar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stICA Notational 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rst spher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pply ICA:    Find         to mak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ws of                    “indep’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 transform bac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riginal data sca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5029200" y="2133720"/>
                <a:ext cx="28274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0"/>
              <p:cNvSpPr txBox="1"/>
              <p:nvPr/>
            </p:nvSpPr>
            <p:spPr>
              <a:xfrm>
                <a:off x="4572000" y="3124080"/>
                <a:ext cx="587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3505320" y="3809880"/>
                <a:ext cx="1726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2"/>
              <p:cNvSpPr txBox="1"/>
              <p:nvPr/>
            </p:nvSpPr>
            <p:spPr>
              <a:xfrm>
                <a:off x="6562800" y="5181480"/>
                <a:ext cx="17938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reful look at identif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n already in above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uld rotate “square of data” in several way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reful look at identif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dentifiability:       Swap        Fl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527688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/>
          <p:nvPr/>
        </p:nvCxnSpPr>
        <p:spPr>
          <a:xfrm flipV="1">
            <a:off x="1218240" y="3504600"/>
            <a:ext cx="610200" cy="1143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4" name="Straight Arrow Connector 8"/>
          <p:cNvCxnSpPr/>
          <p:nvPr/>
        </p:nvCxnSpPr>
        <p:spPr>
          <a:xfrm flipH="1" flipV="1">
            <a:off x="7543440" y="2666160"/>
            <a:ext cx="381600" cy="83916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75" name="Straight Arrow Connector 9"/>
          <p:cNvCxnSpPr/>
          <p:nvPr/>
        </p:nvCxnSpPr>
        <p:spPr>
          <a:xfrm>
            <a:off x="1218240" y="4647960"/>
            <a:ext cx="686520" cy="99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Straight Arrow Connector 14"/>
          <p:cNvCxnSpPr/>
          <p:nvPr/>
        </p:nvCxnSpPr>
        <p:spPr>
          <a:xfrm flipH="1">
            <a:off x="7619760" y="3504960"/>
            <a:ext cx="30528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77" name="Straight Arrow Connector 15"/>
          <p:cNvCxnSpPr/>
          <p:nvPr/>
        </p:nvCxnSpPr>
        <p:spPr>
          <a:xfrm flipH="1">
            <a:off x="7543440" y="5790960"/>
            <a:ext cx="381600" cy="5338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78" name="Straight Arrow Connector 16"/>
          <p:cNvCxnSpPr/>
          <p:nvPr/>
        </p:nvCxnSpPr>
        <p:spPr>
          <a:xfrm flipH="1" flipV="1">
            <a:off x="7543440" y="5104800"/>
            <a:ext cx="38160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279" name="Straight Connector 24"/>
          <p:cNvSpPr/>
          <p:nvPr/>
        </p:nvSpPr>
        <p:spPr>
          <a:xfrm flipH="1">
            <a:off x="1219320" y="1523880"/>
            <a:ext cx="3124080" cy="3124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25"/>
          <p:cNvSpPr/>
          <p:nvPr/>
        </p:nvSpPr>
        <p:spPr>
          <a:xfrm>
            <a:off x="6095880" y="1523880"/>
            <a:ext cx="1828800" cy="198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traight Connector 30"/>
          <p:cNvSpPr/>
          <p:nvPr/>
        </p:nvSpPr>
        <p:spPr>
          <a:xfrm>
            <a:off x="6095880" y="1523880"/>
            <a:ext cx="1828800" cy="4267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dentifiability problem 1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enerally can’t order rows of       (&amp;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seen a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sw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bo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nce for a “permutation matrix”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pre-multiplication by      “swaps row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post-multiplication by      “swaps column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each column,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477120" y="1600200"/>
                <a:ext cx="533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7620120" y="1600200"/>
                <a:ext cx="390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6477120" y="30481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5029200" y="365760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876920" y="41911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4038480" y="4876920"/>
                <a:ext cx="3737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2286000" y="5715000"/>
                <a:ext cx="39146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dentifiability problem 1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enerally can’t order rows of       (&amp;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nce for a “permutation matrix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each column,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         and          are also ICA solut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i.e.               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stICA:    appears to order in terms of “how non-Gaussi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6477120" y="1600200"/>
                <a:ext cx="533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20120" y="1600200"/>
                <a:ext cx="390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6477120" y="2209680"/>
                <a:ext cx="4269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4038480" y="2666880"/>
                <a:ext cx="3915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1905120" y="3505320"/>
                <a:ext cx="782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3657600" y="350532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3809880" y="4343400"/>
                <a:ext cx="2349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dentifiability problem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’t find scale of elements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seen as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f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bove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nce for a (full rank) diagonal matrix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pre-multipl’n by      is scalar mult’n of r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post-multipl’n by      is scalar mult’n of col’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each col’n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         and          are also ICA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9"/>
              <p:cNvSpPr txBox="1"/>
              <p:nvPr/>
            </p:nvSpPr>
            <p:spPr>
              <a:xfrm>
                <a:off x="7467480" y="2819520"/>
                <a:ext cx="462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7162920" y="1523880"/>
                <a:ext cx="3808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124080" y="5638680"/>
                <a:ext cx="962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4114800" y="3962520"/>
                <a:ext cx="461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3886200" y="3352680"/>
                <a:ext cx="461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7"/>
              <p:cNvSpPr txBox="1"/>
              <p:nvPr/>
            </p:nvSpPr>
            <p:spPr>
              <a:xfrm>
                <a:off x="1347840" y="5638680"/>
                <a:ext cx="855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2"/>
              <p:cNvSpPr txBox="1"/>
              <p:nvPr/>
            </p:nvSpPr>
            <p:spPr>
              <a:xfrm>
                <a:off x="3809880" y="4495680"/>
                <a:ext cx="3730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3124080" y="5029200"/>
                <a:ext cx="3978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Algorith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 Processing Scale identific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Hyvärinen and Oja, 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hoose scale so each signal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s “unit average energy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preserves energy along rows of data matri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ains “same scales”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cktail Party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172200" y="2133720"/>
                <a:ext cx="81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6553080" y="2895480"/>
                <a:ext cx="1490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cktail party problem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ear several simulatneous conver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ould lik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parat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for “conversations”:  time s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3276720" y="5486400"/>
                <a:ext cx="788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5300640" y="5486400"/>
                <a:ext cx="8287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ore main ICA princi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indep., non-Gaussia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ndardized, r.v.’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j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rther from coordinate a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"/>
              <p:cNvSpPr txBox="1"/>
              <p:nvPr/>
            </p:nvSpPr>
            <p:spPr>
              <a:xfrm>
                <a:off x="6019920" y="2057400"/>
                <a:ext cx="182700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ore main ICA princi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j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rther from coordinate a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Gauss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the dir’n vector                        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thus            )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ve                       ,  for large    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"/>
              <p:cNvSpPr txBox="1"/>
              <p:nvPr/>
            </p:nvSpPr>
            <p:spPr>
              <a:xfrm>
                <a:off x="5029200" y="1981080"/>
                <a:ext cx="17589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1523880" y="3581280"/>
                <a:ext cx="4003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2438280" y="5257800"/>
                <a:ext cx="2413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≈</m:t>
                    </m:r>
                    <m:limUpp>
                      <m:e/>
                      <m:lim>
                        <m:r>
                          <m:t xml:space="preserve">d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5"/>
              <p:cNvSpPr txBox="1"/>
              <p:nvPr/>
            </p:nvSpPr>
            <p:spPr>
              <a:xfrm>
                <a:off x="6781680" y="5486400"/>
                <a:ext cx="398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8001000" y="5486400"/>
                <a:ext cx="43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1752480" y="4800600"/>
                <a:ext cx="11034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ve examples  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 = 100,  n = 5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niform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onential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imodal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udy over range of values of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ve example  -  Uniform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HDLSSProjUnif.mpg" descr=""/>
          <p:cNvPicPr/>
          <p:nvPr/>
        </p:nvPicPr>
        <p:blipFill>
          <a:blip r:embed="rId1"/>
          <a:stretch/>
        </p:blipFill>
        <p:spPr>
          <a:xfrm>
            <a:off x="1084320" y="1447920"/>
            <a:ext cx="70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ve examples  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 = 100,  n = 5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niform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 =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  very poor f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Uniform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far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Gauss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  much closer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Triangular closer to Gauss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 =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 very clos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still have stat’ly sig’t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 &gt;=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 all diff’s could be sampling var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ve example - Exponential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HDLSSProjExp.mpg" descr=""/>
          <p:cNvPicPr/>
          <p:nvPr/>
        </p:nvPicPr>
        <p:blipFill>
          <a:blip r:embed="rId1"/>
          <a:stretch/>
        </p:blipFill>
        <p:spPr>
          <a:xfrm>
            <a:off x="1084320" y="1447920"/>
            <a:ext cx="6975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ve examples  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 = 100,  n = 5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onential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ill have convergence to Gaussia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sl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“skewness” has strong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mpact than “kurtosi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w need   k &gt;= 25   to see no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llustrative example - Bimodal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HDLSSProjBim.mpg" descr=""/>
          <p:cNvPicPr/>
          <p:nvPr/>
        </p:nvPicPr>
        <p:blipFill>
          <a:blip r:embed="rId1"/>
          <a:stretch/>
        </p:blipFill>
        <p:spPr>
          <a:xfrm>
            <a:off x="1204920" y="1447920"/>
            <a:ext cx="68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mm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indep., non-Gaussia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ndardized, r.v.’s:                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j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rther from coordinate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638680" y="1752480"/>
                <a:ext cx="182736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 &amp; Non-Gaussia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je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rther from coordinate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e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st proj’ns are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’n proj’ns (ICA target)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pe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a given sample really “random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could test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igh dim’al space is a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st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l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for “conversations”:  time s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More 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sh I had time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toy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ore local min’rs &amp; random st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ep look at kurtosis (as “non-linearity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nection to Projection Purs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CA to 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ixed version of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 also a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286000" y="2133720"/>
                <a:ext cx="4876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224080" y="4267080"/>
                <a:ext cx="4772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ixed version of sign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5000"/>
            </a:gs>
            <a:gs pos="50000">
              <a:srgbClr val="ffffff"/>
            </a:gs>
            <a:gs pos="100000">
              <a:srgbClr val="d55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ICA, Motivating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oal:  Rec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rom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unknown mixtur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                         for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971800" y="2514600"/>
                <a:ext cx="2117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4876920" y="1066680"/>
                <a:ext cx="20541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9920" y="3809880"/>
                <a:ext cx="2706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2514600" y="5486400"/>
                <a:ext cx="1417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6248520" y="5562720"/>
                <a:ext cx="304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2-02T21:44:14Z</dcterms:modified>
  <cp:revision>1677</cp:revision>
  <dc:subject/>
  <dc:title>Title</dc:title>
</cp:coreProperties>
</file>