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3.jpeg" ContentType="image/jpeg"/>
  <Override PartName="/ppt/media/image2.png" ContentType="image/png"/>
  <Override PartName="/ppt/media/image27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10.jpeg" ContentType="image/jpeg"/>
  <Override PartName="/ppt/media/image37.wmf" ContentType="image/x-wmf"/>
  <Override PartName="/ppt/media/image38.wmf" ContentType="image/x-wmf"/>
  <Override PartName="/ppt/media/image40.png" ContentType="image/png"/>
  <Override PartName="/ppt/media/image11.jpeg" ContentType="image/jpeg"/>
  <Override PartName="/ppt/media/image23.wmf" ContentType="image/x-wmf"/>
  <Override PartName="/ppt/media/image41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28.png" ContentType="image/png"/>
  <Override PartName="/ppt/media/image31.wmf" ContentType="image/x-wmf"/>
  <Override PartName="/ppt/media/image39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12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040C8-E930-4137-B365-223A04FCD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AD13B-1B18-4E38-87A8-BD1038278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60E7C-7FD5-4387-B4EB-5A534BB08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44E-20AF-4131-A49B-5E853557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771-A5BC-4EBD-9FC2-4CE3DEA4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717-1CF5-4955-84AF-E5B94EE0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A7B-38BA-4FD5-BE13-9F5AF0BB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1B8-0E6B-4B80-8B7F-776F6C0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DEA-2497-4F24-B8B8-0ADF3F5C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EA0-C741-4390-9D01-47296958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A27-3A9A-4DA0-B790-067D931C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2E3-E578-48A6-B9C3-26D7004B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F13-F6FF-434F-B59C-FAE6A930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BE3-5281-4D62-B429-2E59587F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157-73E9-40A4-B761-97B54ED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4FAA-A357-4D7A-BBB0-FD517C83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ernel-machines.org/publications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Classification on Manif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n K. 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joint work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. J. S. Marron &amp; Dr. Mark Fos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Mr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39076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28600" y="1295280"/>
          <a:ext cx="5029200" cy="490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295280"/>
                    <a:ext cx="502920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019920" y="1752480"/>
            <a:ext cx="2743200" cy="4038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03F-27BF-4708-AEB5-11A2A55E30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desic: Curve locally minimizing distance betwee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Map Ex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: Maps point X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on to the Manifold M along geode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50160" y="5029200"/>
            <a:ext cx="2193840" cy="168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5880" y="4552920"/>
            <a:ext cx="304812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1FC-273D-4D39-8E90-8530CF462B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pMaps and Log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 with X as its initial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 = Ex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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||(t) = ||X|| , therefore preserves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og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of Exp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x,y)= ||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|| = ||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403884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801-B6C9-4371-8B21-6ED5BE03A0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iterature Review on M-r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ocus, proposed by Blum (196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studied in 2D by Blum and Nagel (1978) and in 3D by Nackman and Pizer (198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99) describes discrete M-r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shkev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03) describes continuous M-r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berry and Gerig (2006) treats continuous M-reps with bran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D13-801F-42E4-91A4-56B6D8B3C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ttributes describing individuals (i=1…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: #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lass 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1,2,…,K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: # of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: We work with only two groups; and for some mathematical convenience 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1,-1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Goal of Class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 set of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find a ru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at assigns a new individual to a group on the basis of its attributes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EC4-A877-45CA-99BE-B411E494A5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assification: Popula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Difference (MD): assigns new observation to the class whose mean is closest 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her (1936): improvement over MD; optimal rule when the two classes are from Normal distribution &amp; have same covariance matrix. Now called Fisher Linear Discrimination (F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pnik (1982, 1995): Support Vector Machine (SVM). Also see Burges (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2004): Distance Weighted Discrimination (DWD); unlike SVM it does not suffer from “data piling” and improves generalizabilit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 Dimension Low Sample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DLSS)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Embedding: Linear Classification done after embedding data in higher dimensional space. See S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kopf and Smola (200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ernel-machines.org/publications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list of publications on kerne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885-74D9-452A-BC2B-8E14AFFE66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thods give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parating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ormal 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parating dir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  Projections of data on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parating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1657440"/>
            <a:ext cx="4038480" cy="44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4FF-C9FF-433E-BFF0-83B576D538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ifferent approach in Manifold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describe separating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ne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calculat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4114800" cy="404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324480" y="2057400"/>
            <a:ext cx="21862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256-154B-471A-922C-8305E27C18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pproaches generally t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320" y="1093680"/>
          <a:ext cx="8991360" cy="545472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pproa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rawba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tten; e.g., in case of a cylinder (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S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desic distance is not us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ing Euclidean statistics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gent plane at the over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(Fletcher et al., 2003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hoice of base points where tangent plane is created is importa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 points as if data are embedded in higher dimensional Euclidean s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ting surface is not contained in the manifold. Moreover, the projected data on the separating directions are not interpretabl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C7F-4BFA-4CD6-927A-37B887AFF6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mportance of Geodesic D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jjjjj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35840" cy="51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875-1EF7-49BF-BE0E-F3B91C73E7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4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M-r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4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methods of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M-reps need special treat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4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4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4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1B3-62D6-4B7A-B055-6A0114DD63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oice of Base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and blue points represent different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shows that choice of base point has a significant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5029200" cy="40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64B-72E6-4C9E-A660-0E629A71E6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eaningful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371600" y="1189080"/>
            <a:ext cx="5791320" cy="538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1143000"/>
            <a:ext cx="647712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255-D267-46FC-B00C-6BF30D76C1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Important To Work On Manif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226040" cy="5791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D8F-61D2-4DDC-94F7-4A6BB09587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posed Approach in Manifo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 –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control 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presentative of a cla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istance from control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817640"/>
            <a:ext cx="4038480" cy="409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3F7-23C3-4166-9F46-1149E06362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posed Approach in Manifo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 –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control 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presentative of a cla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istance from control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1817640"/>
            <a:ext cx="4038480" cy="4091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3D1-C410-41E5-B5B4-98D9FFD3A2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posed Approach in Manifo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228600" y="16002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A4A-55A6-4DA9-B431-AC9AF33AD5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posed Approach in Manifo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ncept –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ntrol 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presentative of a cla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stance from control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ind “good” control points. For e.g., in the sphere, control points corr.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undary separates the data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4114800" cy="4044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49C-0EAE-4869-8A8F-EDD72FF223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cision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x) – 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(x) &gt; 0, then x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   else 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f(x) &gt; 0,  correct decision ( y is the class label (+/-1)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0,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H={x: f(x)=0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the separating boundary. Level set for f(x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19320" y="4419720"/>
            <a:ext cx="11430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5240" y="36576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3480" y="3849840"/>
            <a:ext cx="5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71960" y="415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0880" y="56786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300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267080"/>
            <a:ext cx="1828800" cy="1600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0560" y="5446800"/>
            <a:ext cx="3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403848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3526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66520" y="5105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9C5-2FD2-449E-828E-DA70F7984C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posed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Geodesic Mean Difference (GM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ous to Mean Difference Method, we take the two control points as the geodesic mean of the two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terative Tangent Plane SVM (ITanSV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SVM done on tangent plane, with the base point carefully chosen through iterative 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anifold SVM (MSVM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ralization of the SVM criterion to Manif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834-A0C8-47E2-B223-0147D591A0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TanSVM: Th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lculate mean of the 2 classes, and then compute their mea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. Construct the tangent plane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54720" y="1600200"/>
            <a:ext cx="2576520" cy="4811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5181480" y="4952520"/>
            <a:ext cx="281952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06F-7C42-4387-83D5-90C7D7034C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 groups: Patients (56) and Controls (26). Can we say anything about the shape variation between the 2 groups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685800" y="12193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2160" y="5638680"/>
            <a:ext cx="77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n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004)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-rep model of hippo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657240" y="4343400"/>
            <a:ext cx="2057400" cy="1371600"/>
          </a:xfrm>
          <a:prstGeom prst="line">
            <a:avLst/>
          </a:prstGeom>
          <a:ln w="158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91320" y="4190760"/>
            <a:ext cx="1447560" cy="1523880"/>
          </a:xfrm>
          <a:prstGeom prst="line">
            <a:avLst/>
          </a:prstGeom>
          <a:ln w="158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913-A775-4157-BCD6-49BDB89468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TanSVM: Th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)  Compute the SVM decision line on the tangent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313000" cy="4648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5105520" y="4876920"/>
            <a:ext cx="2819160" cy="76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A25-D73B-4082-B369-E753A01AD7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TanSVM: Th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)  Find the pair of points 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SVM line is the perpendicular bisector of the line joining the point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) The distance between the new points to the  old points are min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1840" y="1600200"/>
            <a:ext cx="22510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912-78A6-44A3-83B4-05F9FCEA4E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TanSVM: Th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)  Map these 2 new points back to the manif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41840" y="1600200"/>
            <a:ext cx="22510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8F7-009A-4C0F-A7AA-040DD733E8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anifold SVM (MSVM): the se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f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Distance of poin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separating plane given by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find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the min distance of the training points to H (one of the ways to look at SVM that generalizes to manifolds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4572000" cy="554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2286000" cy="549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828800" y="3886200"/>
            <a:ext cx="5299200" cy="57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C46-5D0F-4F09-85DE-F2447B3C9D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ng rule (w,b) between 2 group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.x + b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662360" cy="2934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>
            <a:off x="3505320" y="3657600"/>
            <a:ext cx="2743200" cy="114300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733920" y="2362320"/>
            <a:ext cx="5105160" cy="99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E31-2666-4332-9323-6FD45BCA91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ults: Hippocampi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600200" cy="1596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703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80C-17E6-498E-981E-7219C86414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sults: Hippocampi Dat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paration shown by differ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114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nSV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327560" cy="579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6E3-DE17-4D01-AD07-7E0895DF54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ults: Generated Ellips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randomly distorted (bending, twisting, tapering) ellips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with negative twist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with positive twist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533412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EB2-A32B-409F-A95F-D95477E40F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ults: Generated Ellips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19040" y="1600200"/>
            <a:ext cx="6505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BC6-5F9D-4190-B21E-42056C1B04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ults: Generated Ellips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96760" y="1600200"/>
            <a:ext cx="73504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45E-C2ED-4C2A-8845-55E28701B6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248160" cy="207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2432160" cy="218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181480" y="3429000"/>
            <a:ext cx="208620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14E-6E42-48DC-8D73-E5E0E5BB64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xtend DWD for Manifol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04): Distance Weighted Discrimination (DWD): unlike SVM it does not suffer from “data piling” and improves generalizability in HDLSS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495680" cy="3813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45A-2C7D-4082-BA28-8CC085362E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to Diffusion Tensor Imaging data (at each voxel data observed is a      3X3 positive definite matri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MSVM for multi-category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0A3-7ABB-4D5B-AE21-233CA6A03D1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398-01FC-49D8-9022-EA7046F72B4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sults: Hippocampi Data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d(c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,c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Arial"/>
              </a:rPr>
              <a:t>-1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) vs </a:t>
            </a:r>
            <a:r>
              <a:rPr b="0" lang="el-GR" sz="4000" spc="-1" strike="noStrike">
                <a:solidFill>
                  <a:srgbClr val="3333cc"/>
                </a:solidFill>
                <a:latin typeface="Arial"/>
                <a:ea typeface="Arial"/>
              </a:rPr>
              <a:t>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00080" y="1978200"/>
            <a:ext cx="5343840" cy="37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718-9187-4708-B94A-51B3DABCEE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Visualization: Change of shape along separating 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: rightly 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enta: mis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’s   &amp;   0’s  are the tw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axis : scores along separating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panel: projected mod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00680" y="186228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336-B30C-49C9-9C16-AC94B65A84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D in Face Recognition,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935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s and sc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ly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ign eyes and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larg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les vs. female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31020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758-AE3A-4E70-BBB3-8314D88BF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D in Face Recognition ,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WD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“make sen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at 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trapolation effect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E69-36DD-4307-AF10-D49478F3B9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Visualization: Change of shape along separating 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hange – flattening at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000680" y="186228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9D5-E6CA-49B7-A740-F56034917B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M-r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197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543040" cy="4457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3733920"/>
            <a:ext cx="2971800" cy="296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895840" cy="2889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3048120"/>
            <a:ext cx="380880" cy="1371600"/>
          </a:xfrm>
          <a:prstGeom prst="upDownArrow">
            <a:avLst>
              <a:gd name="adj1" fmla="val 50000"/>
              <a:gd name="adj2" fmla="val 71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828800"/>
            <a:ext cx="3581640" cy="426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495680"/>
            <a:ext cx="304920" cy="457200"/>
          </a:xfrm>
          <a:prstGeom prst="ellipse">
            <a:avLst/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4190760"/>
            <a:ext cx="2361960" cy="53316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7C0-6795-4BD7-9BBE-C95E075D62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4:34:48Z</dcterms:created>
  <dc:creator>Suman K Sen</dc:creator>
  <dc:description/>
  <dc:language>en-US</dc:language>
  <cp:lastModifiedBy>Suman K Sen</cp:lastModifiedBy>
  <dcterms:modified xsi:type="dcterms:W3CDTF">2007-11-29T07:48:43Z</dcterms:modified>
  <cp:revision>110</cp:revision>
  <dc:subject/>
  <dc:title>Slide 1</dc:title>
</cp:coreProperties>
</file>