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059-3230-4CAE-BB01-953BB92A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Ori.ps &amp; ICAeg1p1d1Ori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 &amp; ICAeg1p1d1MixS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Ori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Mix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PCAdecom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eg1p1d1ICAdecomp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0B2-E795-4FAA-B8FC-E27451BA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8C8-2F2E-43F6-B4E3-66C2741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482-0488-4EB6-82DB-5604032E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4ED-5FCB-4870-80CF-83E8D00A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1E0-F182-44D0-A70C-449719B1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87BA-5D6F-44D2-8168-1A87B795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B2C9-E7C7-4A4F-89CB-9677ED85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4473-D195-4641-84BA-2D908AE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8EE-4985-4E2B-807C-1B70411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2F8-9139-4D47-8007-6188092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21F-0707-4AB3-B172-0E66007C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75B-E5B9-4001-B184-3A66AB6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E030-6852-4766-86D6-E46ED3AC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2A6-AC72-45B4-83CA-71AC12C4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EE22-3DEF-47DA-B8E1-C79F92D1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316F-2CC6-40C9-A05A-F0B76403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3A1-DC76-4CED-87EB-1ED658CE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40E-21EC-44D4-95FA-37485FD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4D8-306B-480C-A3A5-0B88CCE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14E-7303-4657-9ACB-1751674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711-D81E-475A-8EA0-55E41F0B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A96-27AC-43C2-929A-9028FFC9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9F6-2360-4FF8-BC7C-C542BE5D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7CB-BFE0-4F3A-B41B-B1D6204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19AA-14A4-4C31-85D1-E23D2173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2C9B-1F3E-4495-A9A9-6396FA083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s.hut.fi/projects/ica/fastica/" TargetMode="External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tat.unc.edu/postscript/papers/marron/Teaching/CornellFDA/Lecture03-11-02/FDA03-11-02.pdf" TargetMode="External"/><Relationship Id="rId2" Type="http://schemas.openxmlformats.org/officeDocument/2006/relationships/hyperlink" Target="http://www.stat.unc.edu/postscript/papers/marron/Teaching/CornellFDA/Lecture03-25-02/FDA03-25-02.pdf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Inference for Histograms &amp; S.P.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east Cell Cycle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, Boundary Rep’ns, Medial Rep’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data on mani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s” for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1:   PC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n “population of 2-d vector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of Greatest Variabil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olve this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2:   IC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describe method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olve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odulo “sign changes” and “identification”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on to FDA:  recall “data matrix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Processing: 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(     time series, for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al Data Analysis: 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    data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same 2 different viewpoints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 proble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14600" y="1676520"/>
                <a:ext cx="47782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90720" y="3657600"/>
                <a:ext cx="352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72000" y="3657600"/>
                <a:ext cx="1600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90720" y="4876920"/>
                <a:ext cx="330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  - 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12408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105520" y="1890720"/>
                <a:ext cx="3581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  -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1828800"/>
            <a:ext cx="4419720" cy="4191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20040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1752480"/>
                <a:ext cx="365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DA Style Scatterplot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atterplots give hint how blind recovery i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ine Trans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tches indep’t signals into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ers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key to 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ven when       is unknow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105520" y="3124080"/>
                <a:ext cx="12189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267080" y="5181480"/>
                <a:ext cx="384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f greatest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rong direc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3382" t="0" r="8921" b="6315"/>
          <a:stretch/>
        </p:blipFill>
        <p:spPr>
          <a:xfrm>
            <a:off x="228600" y="2743200"/>
            <a:ext cx="4132440" cy="3917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13382" t="18946" r="7137" b="25261"/>
          <a:stretch/>
        </p:blipFill>
        <p:spPr>
          <a:xfrm>
            <a:off x="4876920" y="358128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 the data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.e. find linear transf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ke  mean =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 =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work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quires       of full ran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t least          ,  i.e. no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arch 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beyond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and quadratic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3382" t="18946" r="7137" b="25261"/>
          <a:stretch/>
        </p:blipFill>
        <p:spPr>
          <a:xfrm>
            <a:off x="4800600" y="9907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14800" y="2666880"/>
                <a:ext cx="27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981080" y="3276720"/>
                <a:ext cx="300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05320" y="3733920"/>
                <a:ext cx="27432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514600" y="43434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29000" y="4876920"/>
                <a:ext cx="914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38480" y="1828800"/>
            <a:ext cx="3353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ections that make (sphered) data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t case: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d data are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“converse application” of C.L.T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     and       independ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&amp; non-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“more Gaussian” f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maximal independence com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st Gaussian dire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00200" y="3886200"/>
                <a:ext cx="3999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24080" y="3886200"/>
                <a:ext cx="432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4876920"/>
                <a:ext cx="2743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772400" y="4648320"/>
                <a:ext cx="903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’ns that make (sphered) data 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“independence” mea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t distribution is product of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ppens only when rotated 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parallel to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wise have blank are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marginals are non-z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55312" t="18946" r="8921" b="25261"/>
          <a:stretch/>
        </p:blipFill>
        <p:spPr>
          <a:xfrm>
            <a:off x="6477120" y="3733920"/>
            <a:ext cx="2514600" cy="277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867280" y="457200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Idea (and key to algorithm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directions that max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ing from independent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jections a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projection is “linear combo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aconis and Freedman (19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’ns that maximize indepen’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Context:  Signal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ind Source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doso (198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doso &amp; Souloumiac (199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värinen and Oja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värinen, Karhunen and Oja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t case for IC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sphered data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ll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can’t find useful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distribution is characteriz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   &amp;  spherically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teria for non-Gaussianity / independ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rtosis  (                 ,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der cumul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ative entr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u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maximum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max” in neur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connections between the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14400" y="5334120"/>
                <a:ext cx="30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590920" y="1828800"/>
                <a:ext cx="2133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lab Algorithm (optimizing any of abov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www.cis.hut.fi/projects/ica/fastica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al gradient search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ind dir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er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ultaneous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fast, with good defa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we worry about local optima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ational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sphere data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y ICA:      find rotation         to make rows of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transform back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data sca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724280" y="2133720"/>
                <a:ext cx="2971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248520" y="297180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886200" y="3733920"/>
                <a:ext cx="1641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-76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514600" y="5286240"/>
                <a:ext cx="16765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1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can’t order rows of      (&amp;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for 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mutation matrix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-multiplication by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aps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st-multiplication by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aps colum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ol’n,                        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and       are also solutions (i.e.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629400" y="1600200"/>
                <a:ext cx="4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848720" y="1676520"/>
                <a:ext cx="29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400800" y="274320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10080" y="3276720"/>
                <a:ext cx="38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81480" y="3809880"/>
                <a:ext cx="3841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00400" y="4343400"/>
                <a:ext cx="3124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162920" y="4343400"/>
                <a:ext cx="1981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90720" y="541008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438280" y="5410080"/>
                <a:ext cx="762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7315200" y="5486400"/>
                <a:ext cx="1600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1:  Row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w this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stICA:  orders by non-Gaussian-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13382" t="0" r="7137" b="6315"/>
          <a:stretch/>
        </p:blipFill>
        <p:spPr>
          <a:xfrm>
            <a:off x="228600" y="1981080"/>
            <a:ext cx="4421160" cy="3681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13382" t="0" r="7137" b="6315"/>
          <a:stretch/>
        </p:blipFill>
        <p:spPr>
          <a:xfrm>
            <a:off x="4572000" y="1981080"/>
            <a:ext cx="4440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2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’t find scale of elements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for a (full rank) diagonal matrix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-mult’n by     is scalar mult’n of r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st-mult’n by     is scalar mult’n of col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ol’n,                         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         and           are also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467480" y="1600200"/>
                <a:ext cx="276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391520" y="28828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429000" y="3429000"/>
                <a:ext cx="457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581280" y="4038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124080" y="4692600"/>
                <a:ext cx="28958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934320" y="4724280"/>
                <a:ext cx="19810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219320" y="5742000"/>
                <a:ext cx="838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048120" y="5715000"/>
                <a:ext cx="990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ability problem 2:  Signal Sc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so clear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13382" t="0" r="7137" b="6315"/>
          <a:stretch/>
        </p:blipFill>
        <p:spPr>
          <a:xfrm>
            <a:off x="228600" y="1981080"/>
            <a:ext cx="4421160" cy="3681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rcRect l="13382" t="0" r="7137" b="6315"/>
          <a:stretch/>
        </p:blipFill>
        <p:spPr>
          <a:xfrm>
            <a:off x="4572000" y="1981080"/>
            <a:ext cx="4440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al Processing Scale identification:  (Hyvärinen and O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scale so each signal           h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average energ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erves energy along rows of 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ain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scal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791320" y="205740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962520" y="2638440"/>
                <a:ext cx="1371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uld like to 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toy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lustrating how non-Gaussianity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 to see so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ck out old course 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www.stat.unc.edu/postscript/papers/marron/Teaching/CornellFDA/Lecture03-11-02/FDA03-11-02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http://www.stat.unc.edu/postscript/papers/marron/Teaching/CornellFDA/Lecture03-25-02/FDA03-25-02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, motivating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r several simultaneous conver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uld like to “separate the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l for “conversations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124080" y="5410080"/>
                <a:ext cx="6858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105520" y="5334120"/>
                <a:ext cx="774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e more “Would like to do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 testing of multivariate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 approaches:   1-d tests on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Idea:   use ICA to find “least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”, and base test on th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och, Marron and Chen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fortunately Not Cove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&amp; Micro-array Outcome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up from FDA04-22-02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A, motivating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cktail party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the ears he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 1:   Mixed version of sign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 2:  A second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8120" y="3962520"/>
                <a:ext cx="3962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48120" y="5657760"/>
                <a:ext cx="4038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the ears hear:   Mixed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Recover “signal”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“data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mixture matrix”  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,  for al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 is to find “separating weights”,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that             , for al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:              would be fin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876920" y="758880"/>
                <a:ext cx="16761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8120" y="1523880"/>
                <a:ext cx="1698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67280" y="2198520"/>
                <a:ext cx="2057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33720" y="3048120"/>
                <a:ext cx="1371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029200" y="3200400"/>
                <a:ext cx="210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162920" y="3809880"/>
                <a:ext cx="533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4572000"/>
                <a:ext cx="14479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W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486400" y="4648320"/>
                <a:ext cx="210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528156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52480" y="6095880"/>
                <a:ext cx="384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1:  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ndependent Component Analy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ution 2:   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10-16T18:50:02Z</dcterms:modified>
  <cp:revision>849</cp:revision>
  <dc:subject/>
  <dc:title>Title</dc:title>
</cp:coreProperties>
</file>