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559D-D9FB-4095-8DB0-D5AFA6CBB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7F23-1243-455A-954B-E4D1042D7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D1D4-726E-4E02-A9BF-0A65F6468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F1C0-26FE-4180-BCAC-DBED4D442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68F8-EA43-4FA2-8109-145E812AA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A190-90CF-4A43-A1AA-68A530411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D049-691D-4EB4-89FC-246F03CCA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4CD1-543C-4FE6-A6D1-FB42E74D5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E48B-6D96-4FEC-813F-A82D0CF9E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6B83-D1D0-4BE4-813D-F7C79326C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82D9-F95E-4FF0-AF21-ABBD0ACE3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1RawData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FE2F-2DD0-4738-9BC4-D60BBAFA6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2RawDataHiLite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A521-F2DD-4526-AD52-DC9328236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CA4E-149F-4244-8B69-45A229CBA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3RawDataHL1CoordX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0188-54D3-4B62-880C-BEFB731D1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3RawDataHL1CoordY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8701-663F-4E04-AD3D-8E89AB8E6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3RawDataHL1CoordZ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B1B1-9E43-465A-8E0D-60C6D21F0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21proj3DX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5802-3DEA-4105-AA21-773F96015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31Proj1dX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3686-1F81-4A0A-8D30-85B3E2FD7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22proj3DY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1930-BCC4-4823-A51F-AE4FA8681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32Proj1dY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73FF-DAC5-4BC5-BD4B-B02E20570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23proj3DZ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51C1-24B2-4586-9F1B-BB3BBCD4A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33Proj1dZ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0C5E-EABE-42BC-8873-D944316DD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24proj3DXY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465A-DA51-476C-8039-126D54E46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A8EE-BB54-400F-AF12-369E9C5D3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34proj2DXY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DC5F-E123-42B6-BEC5-3D69A3CBB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25proj3DXZ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1C1F-616B-43AA-BC61-6FC5F458A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35proj2DXZ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F9DF-F785-4561-A405-084A24224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26proj3DYZ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E0C9-C74A-432E-8C5F-A2D82921B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36proj2DYZ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3137-4927-47A4-877A-680997E9D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27proj3Dall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6BB5-7271-4B32-96E4-9F382860E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37proj1Ddiag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5CAA-F84C-4023-962D-78F077805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38proj1n2Dcolor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48DD-552C-4327-9CDC-63C3A2CA6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39ScatPlot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02EA-D2C5-49EF-80FB-3A981E808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7D58-F682-4452-BF66-69B187526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9C5E-B3B9-4683-A880-1576A6CD1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ED1B-1426-4507-A096-D3B8FBA72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EC27-F32F-4278-B9EB-8576516A9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B30C-56D9-4F65-ABE9-E58059086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1RawData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E647-42FC-4DE4-B3EE-3D88FD1E6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27proj3Dall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84A9-C362-46DF-914C-E4D82B3F4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51proj3dPC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8833-5342-45D5-99F2-5AD1DAF1F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61Proj1dPC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09D5-DF2C-4FA3-9E98-94BEDBF07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52proj3dPC2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2DC9-06B7-46FE-935F-DE2BE0EA3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62Proj1dPC2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4548-A426-45AA-AFDF-E9B0BC1C2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53proj3dPC3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3AC7-4007-4522-B726-2EAD766A4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E8C6-9EA0-4644-9B60-8FA59BE76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63Proj1dPC3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EB0E-7292-4FAF-8ED3-048E4DFEE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54proj3dPC12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658E-2329-438B-BFB8-EB3A10556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64proj2dPC12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E898-60C6-4DF9-AF50-988D4FD20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55proj3dPC13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9075-6AA5-461C-B495-79036126C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65proj2dPC13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3F15-1845-4779-B979-33FD09892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56proj3dPC23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8EA4-DC44-497C-824B-72019C3F5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66proj2dPC23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0281-0500-456A-B133-706F652A9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57proj3dPCall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A088-D93D-4643-9A9A-2618A011C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67proj1dPCAdiag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5FF4-2BBF-4EC7-A75D-92E4F2DA3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68proj1n2dPCAcolor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6602-4BF9-430E-8D0F-21B5CEFAB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C03E-7BA2-4F0B-93B3-36A7DB0D3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69PCAScatPlot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B0D6-1342-4CA1-A32A-01D7CE10F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A40C-8099-45BE-A8C4-F6520DDA8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71GeneViewClustColor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1DA8-192D-45FA-9440-3380BD9BF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1p72PCAViewClustColor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3F61-372F-4941-85CD-67F6C8AA3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310B-C992-4C2D-B555-3A7736775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2p1dat1GeneVie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8608-0BC3-491F-99E2-2774C2434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EgView2p2dat1PCAVie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A014-8414-41DE-963E-BBC1E57FF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F892-00F5-485D-8CDB-A0083CA98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59C9-935A-41EF-8F78-4ECCF0AE4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15CF-A0A0-4FA5-8FBE-63A421559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D5BE-B6A2-4F90-B3A6-A7C801309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4CFF-F7BD-472D-B544-436EA5E11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y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118A-123A-499D-9C29-E8727D6D6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yrawcol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AB43-0692-42BA-93F5-6CD01080C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yrawcolmean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30F1-3DED-4A38-ADBE-F2A09F24B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oyrawcolmean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FEA5-0C10-4999-97E0-1C76FF190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oypc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60E1-E981-4106-ACFE-03471107A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oypc1proj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2D15-F15B-486F-8DC4-486BCB034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oypc2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717E-F0EF-4CE7-8EA9-0366C885B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oypc2proj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6774-09D9-46CC-A63E-12612405C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up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83CD-0B15-4E58-A4BB-1765D887B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BB71-E680-48AC-AEFC-260401D08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upcol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DC33-6700-4991-8443-8B7B033E7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DA02-E9D4-4678-A74E-3EDCE742B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2309-A55D-4223-898B-764D99510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CD1Parabs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6B6A-02D5-41A9-A877-65C6E7896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CD1Parabs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78AE-219F-4D4C-A52A-A5855F9F2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F3C7-B194-4CEF-8EFA-0C0948930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BCED-2FAC-4A3B-ACB9-9B90F3DEE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CD1Clust2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7319-508E-412F-9E6D-71B95EFB1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4E50-DF2D-4891-BE93-AD6C5F58C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CD1Clust4a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7C19-D8F3-4A06-BEFE-543DBE913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F3C5-5150-4996-B98D-F1DC256D2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CD1Clust4aDP2d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92FF-525E-4AC3-B8EE-CD2066AFE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9AF5-7FE2-4E2A-8742-50C6756C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4F49-E679-4AF2-BD33-EF40DBAD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A70-0352-4F36-9713-BBAF0C83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F5CC-6E21-49C7-9D6F-0094EF41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90A-3947-468E-A5D4-A0EAF07D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DFF0-A852-4776-A35C-493283F0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93B-A852-4E5C-8D2A-B0816150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E57-7AB3-47D9-B441-DC762B70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D0F1-0372-4F60-A18A-353790A6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82D-D720-4137-976C-618F5A1B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40F-5167-4D5C-A5DC-6B92DBF8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3F8-1FB1-4C89-93FE-AA19F043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ff"/>
            </a:gs>
            <a:gs pos="50000">
              <a:srgbClr val="ffffff"/>
            </a:gs>
            <a:gs pos="100000">
              <a:srgbClr val="c8c8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8396-BBBE-43D5-80D2-8561C4205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at.ufl.edu/symposium/2003/fundat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891OODA-2007/Stor891-07Hom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go.psych.mcgill.ca/misc/fda/&#160;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novatia.com/software/papers/com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sych.mcgill.ca/faculty/ramsay/ramsay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s – O. R. 89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Oriented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 S. Mar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t. of Statistics and Operations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North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ffd1"/>
            </a:gs>
            <a:gs pos="50000">
              <a:srgbClr val="ffffff"/>
            </a:gs>
            <a:gs pos="100000">
              <a:srgbClr val="d1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Oriented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ologies for these cross – cultural dist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“OODA” has a nice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will us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ntil somebody suggests a better nam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ffd1"/>
            </a:gs>
            <a:gs pos="50000">
              <a:srgbClr val="ffffff"/>
            </a:gs>
            <a:gs pos="100000">
              <a:srgbClr val="d1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Oriented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from Randy Euban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ermin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Object Oriented Data Analysis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ppeared in Florida FDA Mee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.ufl.edu/symposium/2003/funda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ffd1"/>
            </a:gs>
            <a:gs pos="50000">
              <a:srgbClr val="ffffff"/>
            </a:gs>
            <a:gs pos="100000">
              <a:srgbClr val="d1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Oriented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ctually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statistical ta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population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(i. e. Discrimin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eries of Data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c8ff"/>
            </a:gs>
            <a:gs pos="50000">
              <a:srgbClr val="ffffff"/>
            </a:gs>
            <a:gs pos="100000">
              <a:srgbClr val="f0c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look a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in Euclidean Sp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later study other sp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2590920" y="2955960"/>
                <a:ext cx="5790960" cy="23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c8ff"/>
            </a:gs>
            <a:gs pos="50000">
              <a:srgbClr val="ffffff"/>
            </a:gs>
            <a:gs pos="100000">
              <a:srgbClr val="f0c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many statisticians prefer “p”, not “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erhaps for “parame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“predictor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use “d” for “dimens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idea that it is m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ly understand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c8ff"/>
            </a:gs>
            <a:gs pos="50000">
              <a:srgbClr val="ffffff"/>
            </a:gs>
            <a:gs pos="100000">
              <a:srgbClr val="f0c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look at Euclidean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d:  histogram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d:  scatter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d:  spinning point clo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HierArchEG1d0p2.mpg" descr=""/>
          <p:cNvPicPr/>
          <p:nvPr/>
        </p:nvPicPr>
        <p:blipFill>
          <a:blip r:embed="rId1"/>
          <a:stretch/>
        </p:blipFill>
        <p:spPr>
          <a:xfrm>
            <a:off x="4214880" y="2971800"/>
            <a:ext cx="48211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c8ff"/>
            </a:gs>
            <a:gs pos="50000">
              <a:srgbClr val="ffffff"/>
            </a:gs>
            <a:gs pos="100000">
              <a:srgbClr val="f0c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look at Euclidean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Dimen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horse Idea:    Pro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c8ff"/>
            </a:gs>
            <a:gs pos="50000">
              <a:srgbClr val="ffffff"/>
            </a:gs>
            <a:gs pos="100000">
              <a:srgbClr val="f0c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“directions of interest” on which projection is 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set of dir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ration of Multivariate View: Raw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09480" y="1368360"/>
            <a:ext cx="7772400" cy="54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ration of Multivariate View: Highligh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istrativ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on Course Web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-or.unc.edu/webspace/courses/marron/UNCstor891OODA-2007/Stor891-07Hom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hrough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ration of Multivariate View: Gene 1 Expr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ration of Multivariate View: Gene 2 Expr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ration of Multivariate View: Gene 3 Expr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Multivar. View: 1-d Projection, X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Multivar. View: X-Projection, 1-d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Multivar. View: 1-d Projection, Y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Multivar. View: Y-Projection, 1-d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Multivar. View: 1-d Projection, Z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Multivar. View: Z-Projection, 1-d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Multivar. View: 2-d Pro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, XY-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Levels of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ar Graduate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ior Resear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Back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Science – Im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Multivar. View: XY-Pro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, 2-d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Multivar. View: 2-d Pro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, XZ-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Multivar. View: XZ-Pro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, 2-d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Multivar. View: 2-d Pro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, YZ-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Multivar. View: YZ-Pro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, 2-d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Multivar. View: all 3 pl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Multivar. View: Diagonal 1-d pro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Multivar. View: Add off-diag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Multivar. View: Typical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c8ff"/>
            </a:gs>
            <a:gs pos="50000">
              <a:srgbClr val="ffffff"/>
            </a:gs>
            <a:gs pos="100000">
              <a:srgbClr val="f0c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“directions of interest” on which projection is 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set of dir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Meet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don’t understand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thers probably jo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plea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re awa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usually enlightening for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eded, I’ll tell you to shu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ssentially never happe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c8ff"/>
            </a:gs>
            <a:gs pos="50000">
              <a:srgbClr val="ffffff"/>
            </a:gs>
            <a:gs pos="100000">
              <a:srgbClr val="f0c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al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Direction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al (projected) Vari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Sequenti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orthogonal subsp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ake careful look at mathematics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c8ff"/>
            </a:gs>
            <a:gs pos="50000">
              <a:srgbClr val="ffffff"/>
            </a:gs>
            <a:gs pos="100000">
              <a:srgbClr val="f0c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al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imp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d toy d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r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HierArchEG1d0p2.mpg" descr=""/>
          <p:cNvPicPr/>
          <p:nvPr/>
        </p:nvPicPr>
        <p:blipFill>
          <a:blip r:embed="rId1"/>
          <a:stretch/>
        </p:blipFill>
        <p:spPr>
          <a:xfrm>
            <a:off x="2836800" y="2057400"/>
            <a:ext cx="61549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c8ff"/>
            </a:gs>
            <a:gs pos="50000">
              <a:srgbClr val="ffffff"/>
            </a:gs>
            <a:gs pos="100000">
              <a:srgbClr val="f0c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al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A ju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rot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HierArchEG1d0p4.mpg" descr=""/>
          <p:cNvPicPr/>
          <p:nvPr/>
        </p:nvPicPr>
        <p:blipFill>
          <a:blip r:embed="rId1"/>
          <a:stretch/>
        </p:blipFill>
        <p:spPr>
          <a:xfrm>
            <a:off x="3048120" y="2297160"/>
            <a:ext cx="5933880" cy="440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PCA View:    Recall Raw Dat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PCA View:    Recall Gene by Gene View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PCA View:    PC1 Projection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PCA View:    PC1 Projections, 1-d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PCA View:    PC2 Projection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PCA View:    PC2 Projections, 1-d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PCA View:    PC3 Projection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ffd1"/>
            </a:gs>
            <a:gs pos="50000">
              <a:srgbClr val="ffffff"/>
            </a:gs>
            <a:gs pos="100000">
              <a:srgbClr val="d1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Oriented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al vie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“atom of the statistical analysi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urse:   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variate Analysis Course :    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nctional Data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generally: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ata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PCA View:    PC3 Projections, 1-d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PCA View:    Projections on PC1,2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PCA View:    PC1 &amp; 2 Pro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Scatter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PCA View:    Projections on PC1,3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PCA View:    PC1 &amp; 3 Pro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Scatter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PCA View:    Projections on PC2,3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PCA View:    PC2 &amp; 3 Pro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Scatter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PCA View:    All 3 PC Pro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PCA View: Matrix with 1-d pro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s on di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PCA: Add off-diagonals to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ffd1"/>
            </a:gs>
            <a:gs pos="50000">
              <a:srgbClr val="ffffff"/>
            </a:gs>
            <a:gs pos="100000">
              <a:srgbClr val="d1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new field in statistics, s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say, J. O. &amp; Silverman, B. W. (2005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, Springer, N.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say, J. O. &amp; Silverman, B. W. (2002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plied Functional Data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pringer, N.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say, J. O. (2005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ctional Data Analysis Web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go.psych.mcgill.ca/misc/fda/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PCA View: Typical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c8ff"/>
            </a:gs>
            <a:gs pos="50000">
              <a:srgbClr val="ffffff"/>
            </a:gs>
            <a:gs pos="100000">
              <a:srgbClr val="f0c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Comparison of 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Highlight 3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Gene by Gene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lusters appear in all 3 scatter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But never very sepa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PCA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shows three distinct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Better separated than in gene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lustering concentrated in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scatter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Effect is small, since only 3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PCA View: Gene by Gene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Gulim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of PCA View: PCA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c8ff"/>
            </a:gs>
            <a:gs pos="50000">
              <a:srgbClr val="ffffff"/>
            </a:gs>
            <a:gs pos="100000">
              <a:srgbClr val="f0c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Another Comparison of Vi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Much higher dimension,  # genes = 4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Gene by Gene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lusters very near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Very slight difference in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PCA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Gulim"/>
              </a:rPr>
              <a:t>Hu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difference in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PC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Magnification of 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Lesson:  Alternate views can show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Gulim"/>
              </a:rPr>
              <a:t>much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(especially in high dimensions, i.e. for many ge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Shows PC view is very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nother Comparison: Gene by Gene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Another Comparison: PCA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c4"/>
            </a:gs>
            <a:gs pos="50000">
              <a:srgbClr val="ffffff"/>
            </a:gs>
            <a:gs pos="100000">
              <a:srgbClr val="ffddc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Object Concept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33520" y="1371600"/>
            <a:ext cx="83055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ject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eatur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s                                   Manif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s                                 Tre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7010280" y="2133720"/>
                <a:ext cx="5940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c4"/>
            </a:gs>
            <a:gs pos="50000">
              <a:srgbClr val="ffffff"/>
            </a:gs>
            <a:gs pos="100000">
              <a:srgbClr val="ffddc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533520" y="1371600"/>
            <a:ext cx="830556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Vector” dates back at least to field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Pattern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ous reference (there are many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jver, P. A. and Kittler, J. (1982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ttern Recognition: A Statistical Approa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rentice Hall, Lond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re are entries of v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“aspects of popul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c4"/>
            </a:gs>
            <a:gs pos="50000">
              <a:srgbClr val="ffffff"/>
            </a:gs>
            <a:gs pos="100000">
              <a:srgbClr val="ffddc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Curves As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33520" y="1182600"/>
            <a:ext cx="784836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Space:    Set of 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Space(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s digitized to vectors (look at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 Represent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ier (sin &amp; c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-sp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ffd1"/>
            </a:gs>
            <a:gs pos="50000">
              <a:srgbClr val="ffffff"/>
            </a:gs>
            <a:gs pos="100000">
              <a:srgbClr val="d1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Oriented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menclature Clas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cience View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 Oriented Programm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that supports encapsulation, inheritance, and polymorph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rom Googl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fine object oriented programm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favorite: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nnovatia.com/software/papers/com.h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c4"/>
            </a:gs>
            <a:gs pos="50000">
              <a:srgbClr val="ffffff"/>
            </a:gs>
            <a:gs pos="100000">
              <a:srgbClr val="ffddc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Curves As Data,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33520" y="1182600"/>
            <a:ext cx="815328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imple example     (Travis Gay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dimensional” family of (digitized) 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space:  piece-wise linear f’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space 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A:  reveals “population struct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4211640" y="3352680"/>
                <a:ext cx="6253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Toy EG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Toy EG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Toy EG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Toy EG 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Toy EG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Toy EG 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Toy EG V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Toy EG V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Toy EG 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ffd1"/>
            </a:gs>
            <a:gs pos="50000">
              <a:srgbClr val="ffffff"/>
            </a:gs>
            <a:gs pos="100000">
              <a:srgbClr val="d1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Oriented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atistical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Chambers Idea (1960s -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Oriented approach to statistic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as software package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s of S-plus (commerical prod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of R  (free-ware, current favorite of Cha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for more on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ables, W. N. and Ripley, B. D. (2002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dern Applied Statistics with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urth Edition, Springer, N. Y., ISBN 0-387-95457-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Toy EG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c4"/>
            </a:gs>
            <a:gs pos="50000">
              <a:srgbClr val="ffffff"/>
            </a:gs>
            <a:gs pos="100000">
              <a:srgbClr val="ffddc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Curves As Data,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33520" y="1182600"/>
            <a:ext cx="815328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imple example     (Travis Gay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dimensional” family of (digitized) 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space:  piece-wise linear f’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space 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A:  reveals “population struct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mposition in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des of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4211640" y="3352680"/>
                <a:ext cx="6253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c4"/>
            </a:gs>
            <a:gs pos="50000">
              <a:srgbClr val="ffffff"/>
            </a:gs>
            <a:gs pos="100000">
              <a:srgbClr val="ffddc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Curves As Data,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533520" y="1182600"/>
            <a:ext cx="815328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er example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d family of (digitized) 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space:  bundles of 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space 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arder to visualize as point clou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keep point cloud in mi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A:  reveals “population struct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5"/>
              <p:cNvSpPr txBox="1"/>
              <p:nvPr/>
            </p:nvSpPr>
            <p:spPr>
              <a:xfrm>
                <a:off x="4267080" y="3200400"/>
                <a:ext cx="6685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10-d Toy EG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rcRect l="0" t="12936" r="0" b="0"/>
          <a:stretch/>
        </p:blipFill>
        <p:spPr>
          <a:xfrm>
            <a:off x="304920" y="1460520"/>
            <a:ext cx="8675640" cy="1069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10-d Toy EG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rcRect l="0" t="43715" r="0" b="0"/>
          <a:stretch/>
        </p:blipFill>
        <p:spPr>
          <a:xfrm>
            <a:off x="304920" y="1295280"/>
            <a:ext cx="8675640" cy="691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c4"/>
            </a:gs>
            <a:gs pos="50000">
              <a:srgbClr val="ffffff"/>
            </a:gs>
            <a:gs pos="100000">
              <a:srgbClr val="ffddc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Curves As Data,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33520" y="118260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A:  reveals “population struct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Parabol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1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Vertical Sh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2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T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PCs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Gaussian (spheri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mposition in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des of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c4"/>
            </a:gs>
            <a:gs pos="50000">
              <a:srgbClr val="ffffff"/>
            </a:gs>
            <a:gs pos="100000">
              <a:srgbClr val="ffddc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Curves As Data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533520" y="1182600"/>
            <a:ext cx="830556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luster Example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d curves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big cl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aled by 1-d projection plot (right si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uster Dif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orthog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tical Sh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A:  reveals “population struct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10-d Toy EG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rcRect l="0" t="12993" r="0" b="0"/>
          <a:stretch/>
        </p:blipFill>
        <p:spPr>
          <a:xfrm>
            <a:off x="838080" y="762120"/>
            <a:ext cx="7337520" cy="90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c4"/>
            </a:gs>
            <a:gs pos="50000">
              <a:srgbClr val="ffffff"/>
            </a:gs>
            <a:gs pos="100000">
              <a:srgbClr val="ffddc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Curves As Data,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533520" y="118260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plicated Example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d curves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’n structure hard to see in 1-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d projections make structure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A:  reveals “population struct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10-d Toy EG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rcRect l="0" t="12936" r="0" b="0"/>
          <a:stretch/>
        </p:blipFill>
        <p:spPr>
          <a:xfrm>
            <a:off x="228600" y="1371600"/>
            <a:ext cx="8675640" cy="1069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ffd1"/>
            </a:gs>
            <a:gs pos="50000">
              <a:srgbClr val="ffffff"/>
            </a:gs>
            <a:gs pos="100000">
              <a:srgbClr val="d1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Oriented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ther take:   J. O. Ram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sych.mcgill.ca/faculty/ramsay/ramsay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Objec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loser to C. S. mea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Obje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” in mathematic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that operates on func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Data Analysis, 10-d Toy EG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rcRect l="9813" t="6315" r="0" b="0"/>
          <a:stretch/>
        </p:blipFill>
        <p:spPr>
          <a:xfrm>
            <a:off x="304920" y="1447920"/>
            <a:ext cx="11080800" cy="81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c4"/>
            </a:gs>
            <a:gs pos="50000">
              <a:srgbClr val="ffffff"/>
            </a:gs>
            <a:gs pos="100000">
              <a:srgbClr val="ffddc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Curves As Data,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3520" y="1182600"/>
            <a:ext cx="83055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 Next t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arbitrariness of PC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by flipp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largest projection is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marron</cp:lastModifiedBy>
  <dcterms:modified xsi:type="dcterms:W3CDTF">2007-11-27T02:42:59Z</dcterms:modified>
  <cp:revision>65</cp:revision>
  <dc:subject/>
  <dc:title>Title</dc:title>
</cp:coreProperties>
</file>