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84C6-F33B-4E89-A407-93DB2FB48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D2E2-B40E-42FA-B7BB-CCD951FC65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077B-A37F-405D-9794-7E476AA794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DC98-62D1-4E64-B655-D1D841F22D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2870-DC8F-4953-97C2-47798D929C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5BD5-0F19-460F-B82B-AF009D0069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0FE5-00F4-4E96-8DF5-A24A6BC8DC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1BA9-18DF-44C4-AAD0-A6542B3D80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72A3-B416-4851-9314-5ECB93B06E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465F-B6B2-45B0-8135-29EAFBBA0C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D4A1-DF57-40CB-A0EB-34967B782F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F515-7C9B-43E6-8127-D64CDF1C54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0971-C578-4E54-B740-CE0882B35B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A928-221E-4DB1-AB3B-080D47FC2A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22DD-37BB-478B-9D85-B2A1CA40D7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7886-24A8-44B1-A0C5-536FCD2A0E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B78F-038E-4E7B-B094-EFB0F0B85E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546D-47D1-4588-8F29-E329C74101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3E07-6146-4EE9-A3E3-061198919F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196F-D131-438A-9C86-61DCD12301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13D0-B335-42FB-B555-FC967C3DD4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626E-E2FB-48FD-BD03-E8425973C8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B291-9A78-4EDE-88BD-BC8D84789E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8879-7012-4229-A8B5-FD695285FD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9EC5-8715-4455-A001-4F24B07BD8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1D9B-075C-49D8-94EB-4F50E8F205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03E8-DA91-48E0-92C5-1F991DB02B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ECCB-4173-48E5-B7ED-2ED712803B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5B58-0538-49D4-A588-4C67001DE4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7ABE-9CF6-4244-881A-D37A49CD14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D20C-F38F-44B3-9B42-CAAB434CAC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EFA8-72AF-40DD-AE51-4F07F09F1D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DBC6-3BE6-425B-AEDD-A42E5B35B9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0E0D-021B-43A6-9327-81E6656F9F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8E06-159F-4BB6-A1E9-5A5136072A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842F-547B-47A0-98CA-9A9D392406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0D61-FEF9-42F4-AC4F-FED3A5F6EE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3291-00BC-41C0-BC20-CB12CF5B15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9AD5-D871-4D3F-B497-16B819C92E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98D1-FF94-4049-A218-C7A9262995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A531-26DE-4709-A695-23BEA58D2D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169A-9CB4-44E7-A089-A08CF436F6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A497-7113-4447-8541-92B6299DD6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B001-9E48-4940-8A4A-60FA26AF1D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8CA0-36A1-4332-986E-9CD7AB6CC9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27EC-4286-4AA7-8CF2-10F2ADCA0C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865D-E36E-4A9C-BCD3-1EEEE854A8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9BC5-D9D8-4240-84B6-EEFCDC8AB9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F245-B81C-4816-8B76-E99EEFFA54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5FB9-9906-4DEF-AEE4-65EF765FC5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8FC5-31AB-461D-AB5A-3305E0C6B4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2EC5-44BB-4CC4-906B-248DE5CF22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327C-7618-4D0E-8DA2-47C173310E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1962-E967-41E9-9DA9-B6899E1FB6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04A4-9FA4-4854-AD6C-F90E66162C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2088-5811-4131-A2C9-E7ABC3A3AB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FDF9-B8BE-465E-8A41-5A25BC56DA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818C-973A-411B-AF0A-E10E2602EC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3B9F-CFAB-4FEB-97F9-38566B32A5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1D83-6675-40D7-99A9-DCC88B5873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3BB0-EB35-492F-B097-17948980F7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AB88-947D-496F-AA34-FF7CC48945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F19-9D51-4468-88A0-9E21CA00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B1F-8BF8-4035-80BA-F4D57A3D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E29-B941-4C9C-8D9A-4683CEA6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C8F-BD12-46FB-8D3C-4F821A31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2A5-3728-43CF-9584-A047B68A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6D1-FFAC-4547-BDA2-E5098BB9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248-A13F-416B-8581-F52D25CF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559-8C1E-46BA-B287-8CC76805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A52-34A0-424B-81AC-E9364E3E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3E3-55C8-4D7B-80B5-14236E50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401-9201-4F6D-81F0-7E3F19C1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5CA-AA77-48EE-8FEB-A9563198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0D1C-3EAF-4249-BBA6-A710CA08B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rganizational Mat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http://www.stat-or.unc.edu/webspace/courses/marron/UNCstor891OODA-2007/Stor891-07Home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hat is OOD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Visualization by Pro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bject Space &amp; Featur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urves a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ata Representation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CA visual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. S. Toy E.g., PCA Scatterplo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7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. S. Toy E.g., PCA Scatterplo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62120" y="990720"/>
            <a:ext cx="80010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Point Clou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s along a 1-d curve 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actually ha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-d mode of va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-lin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e of va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ly captured by PCA (linear meth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tudy more l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5867280" y="1981080"/>
                <a:ext cx="6098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62120" y="990720"/>
            <a:ext cx="80010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Spectrometry Measu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n Aging Substance, called “Esta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over Logarithmic Time Grid, n =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s a Spect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ime Ev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 PCA &amp; Time Col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62120" y="990720"/>
            <a:ext cx="800100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Work w/ E. Kober &amp; J. Wendelber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Alamos National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Experimental Condi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59 days in Dry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27 days in Humid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59 days in Humid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380880" y="885960"/>
            <a:ext cx="84582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93640" y="903240"/>
            <a:ext cx="786456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w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60 spectra essentially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” of mean is much bigger th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about m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see structure of all 1600 freq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tered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an see different spec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mean subtracted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much smaller vertical 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80880" y="885960"/>
            <a:ext cx="84582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93640" y="903240"/>
            <a:ext cx="786456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zoomed to “important” freq’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w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 slight dif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er “natural looking” spec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tered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in spectra more cl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now have “real structu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ale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80880" y="885960"/>
            <a:ext cx="84582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HA 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93640" y="903240"/>
            <a:ext cx="786456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Time Order Color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w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ee a little ordering, not m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tered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time or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ing peaks?    (compare to Ra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C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everyt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C1 Residu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nearly linear (same scale import’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Object Conceptual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33520" y="1523880"/>
            <a:ext cx="83055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atur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                                   Manifo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s                                 Tre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7010280" y="2362320"/>
                <a:ext cx="56052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80880" y="885960"/>
            <a:ext cx="84582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93640" y="903240"/>
            <a:ext cx="78645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systematic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rdering very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iniscent of Toy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ear 1-d curve in Featur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Explan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Data Explan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 flipV="1" rot="10779000">
            <a:off x="609480" y="4723920"/>
            <a:ext cx="786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Chemical Reaction Mod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. 1 transforms into Subst.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ear p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Featur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ToySpect1p1d1.avi" descr=""/>
          <p:cNvPicPr/>
          <p:nvPr/>
        </p:nvPicPr>
        <p:blipFill>
          <a:blip r:embed="rId1"/>
          <a:stretch/>
        </p:blipFill>
        <p:spPr>
          <a:xfrm>
            <a:off x="1143000" y="1055520"/>
            <a:ext cx="693432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Data Explan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 flipV="1" rot="10779000">
            <a:off x="604440" y="4720680"/>
            <a:ext cx="80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er Chemical Reaction Mod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.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t.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t.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ved 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eat. Sp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eactions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urve lies in 2-dim’al subs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ToySpect1p1d11.avi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96888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Data Explan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 flipV="1" rot="10779000">
            <a:off x="604440" y="4720680"/>
            <a:ext cx="80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hemical Reaction Mod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.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t. 2   &amp;  Subst. 5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t.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ved 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eat. Sp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eactions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urve lies in 2-dim’al subs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ToySpect1p2d5.avi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9692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Data Explan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 flipV="1" rot="10779000">
            <a:off x="604440" y="4720680"/>
            <a:ext cx="80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Chemical Reaction Mod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2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3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ved 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eat. Sp. (lives in 3-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Reactions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urve lies in 3-dim’al subs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ToySpect1p2d21.avi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Data Explan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 flipV="1" rot="10779000">
            <a:off x="604440" y="4720680"/>
            <a:ext cx="80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More Complex Chemical Reaction Mod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2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3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4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ved 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eat. Sp. (lives in 4-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Reactions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urve lies in 4-dim’al subs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oySpect1p2d31.avi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9692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80880" y="885960"/>
            <a:ext cx="84582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93640" y="903240"/>
            <a:ext cx="786456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 from To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3 reactions under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a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distinguish from noi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statistical open proble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ime Seri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04920" y="903240"/>
            <a:ext cx="815328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he other experiments?  Recal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59 days in Dry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27 days in Humid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d 59 days in Humid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results were “cherry picked”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st makes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cases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al Data Analysis, Toy EG 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Matrix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E.g., maybe ~4d curve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~4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Matrix, D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2 is “bleeding of CO2”, discussed be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Matrix, Ha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“3-d + noise”?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Only 3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 Matrix, H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er to judge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 Space View, Contro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ble discretization effect, despite ~4d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 Space View, D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, except strange at beginning (CO2 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 Space View, Ha2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structure in PC1 Resid (d &lt;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 Space View, H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at beginning, OK since “oldes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 with D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04920" y="903240"/>
            <a:ext cx="81532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strange behavior for DA59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2 showed “really different behavior at star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s comm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this, should have started measuring la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1"/>
          <a:srcRect l="28548" t="6315" r="49960" b="70736"/>
          <a:stretch/>
        </p:blipFill>
        <p:spPr>
          <a:xfrm>
            <a:off x="2362320" y="2604960"/>
            <a:ext cx="3200400" cy="24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 with Da59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533520" y="5867280"/>
            <a:ext cx="81532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04920" y="5867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fun to look at broader spec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rcRect l="8921" t="6315" r="8921" b="6315"/>
          <a:stretch/>
        </p:blipFill>
        <p:spPr>
          <a:xfrm>
            <a:off x="1052640" y="831960"/>
            <a:ext cx="6886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sy way to do these analy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3520" y="1523880"/>
            <a:ext cx="830556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software (user friendly?) avail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at.unc.edu/postscript/papers/marron/Matlab7Softwar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&amp; put in Matlab Pa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irst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datSM.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plotSM.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80880" y="990720"/>
            <a:ext cx="830592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w them all together as big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Point Cloud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65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80880" y="990720"/>
            <a:ext cx="830592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w them all together as big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Point Cloud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4d space of interest, driven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clusters (3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1 of chemical reaction  (1-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se don’t appear as the 4 P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. PC1 “spread over PC2,3,4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a “rotation of interesting dir’n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“unrotate”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80880" y="990720"/>
            <a:ext cx="8305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Vari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cluster m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lear comparison of within cur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 (- mean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7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cd"/>
            </a:gs>
            <a:gs pos="50000">
              <a:srgbClr val="ffffff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o-metric T. S. Joint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80880" y="990720"/>
            <a:ext cx="830592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Vari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cluster m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lear comparison of within cur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1 versus others are quite reve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 different “rotation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 don’t show so m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31440" y="1066680"/>
            <a:ext cx="8094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int Work with:    Andres Alon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v. Carlos III, Mad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tality, as a function of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nce of d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for Males, in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each 1-year ag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are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08 -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CA of the family of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1440" y="1143000"/>
            <a:ext cx="8094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CA of the family of curves for 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bies &amp; elder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mor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(Ra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getting better over time (Raw &amp; PC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cept 1918  -  Influenza Pand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e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Color Sca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ddle age most mortal   (PC2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rly 1930s  -  Spanish Civil W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8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994 (then better) auto wre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ade Rounding (several pla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Females in Spa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aspects simi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e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Color Sca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War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eady improvement until 70s  (PC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auto accidents kick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CA for Males in Switzerl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aspects simi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decade rounding (better recor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18  Fl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fferent Color   (PC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e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Color Sca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War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eady improvement until 70s  (PC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auto accidents kick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sy way to do these analy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33520" y="1523880"/>
            <a:ext cx="83055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software (user friendly?) avail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at.unc.edu/postscript/papers/marron/Matlab7Softwar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????????????????????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 Next ti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 some time going through th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many students seem to want to us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Rows and Columns trade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rminology:   from optim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sights come from studying “primal” &amp; “dual”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/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880" y="1219320"/>
            <a:ext cx="3276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Matrix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4191120" y="1752480"/>
                <a:ext cx="4495680" cy="339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/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0880" y="1219320"/>
            <a:ext cx="3276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Matrix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umns are data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4191120" y="1752480"/>
                <a:ext cx="4495680" cy="339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Oval 5"/>
          <p:cNvSpPr/>
          <p:nvPr/>
        </p:nvSpPr>
        <p:spPr>
          <a:xfrm>
            <a:off x="6019920" y="1371600"/>
            <a:ext cx="761760" cy="426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343400" y="1371600"/>
            <a:ext cx="762120" cy="426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7696080" y="1371600"/>
            <a:ext cx="762120" cy="426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3124080" y="4114800"/>
            <a:ext cx="1219320" cy="533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V="1">
            <a:off x="3124080" y="4038480"/>
            <a:ext cx="4572000" cy="609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 flipV="1">
            <a:off x="3124080" y="4038480"/>
            <a:ext cx="2895840" cy="609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/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0880" y="1219320"/>
            <a:ext cx="3276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Matrix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ws are data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4191120" y="1752480"/>
                <a:ext cx="4495680" cy="339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Oval 6"/>
          <p:cNvSpPr/>
          <p:nvPr/>
        </p:nvSpPr>
        <p:spPr>
          <a:xfrm>
            <a:off x="3809880" y="1752480"/>
            <a:ext cx="5334120" cy="68580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 flipV="1">
            <a:off x="2286000" y="2209680"/>
            <a:ext cx="1600200" cy="2438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3809880" y="3124080"/>
            <a:ext cx="5334120" cy="68580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3809880" y="4495680"/>
            <a:ext cx="5334120" cy="68580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 flipV="1">
            <a:off x="2286000" y="3581280"/>
            <a:ext cx="1600200" cy="10670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4"/>
          <p:cNvSpPr/>
          <p:nvPr/>
        </p:nvSpPr>
        <p:spPr>
          <a:xfrm>
            <a:off x="2286000" y="4648320"/>
            <a:ext cx="1676520" cy="3045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Rows and Columns trade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ic Primal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are Years, Coo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are 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ic Dual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 are Ages, Coo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are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ual PCA View, Spanish 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mography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ual PCA View, Spanish 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ld people have const. mortality (ra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improvement for rest (ra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d for 1918 (flu) &amp; Spanish Civil War, but generally improving (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es for ages 1-6, then worse (PC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 Improvement for young (PC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ge Color Ke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 / Dual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0880" y="12193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briel, K. R. (1971) The biplot display of matrices with application to principal component analysis,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ometrik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58, 46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study more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ering” is a critical 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 Ex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icro-array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(aft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j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eprocessing):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res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ousands of genes    (d ~ 1,000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nly dozens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(n ~ 10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statistical iss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igh Dimension Low Sample Siz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(HDL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llman, P. T., Sherlock, G., Zhang, M.Q., Iyer, V.R., Anders, K., Eisen, M.B., Brown, P.O., Botstein, D. and Futcher, B. (1998)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rehensive Identification of Cell Cycle-regulated Genes of the Yeas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ccharomyces cerevisiae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Microarray Hybrid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lecular Biology of the Cel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9, 3273-329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alysis here i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hao, X., Marron, J.S. and Wells, M.T. (2004) The Functional Data View of Longitudinal Data,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 Sinic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14, 789-808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Time Series of Curv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gain a “Set of Curv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ut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Time Ord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is Importan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n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to code f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art                                                             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18946" t="26764" r="18946" b="57989"/>
          <a:stretch/>
        </p:blipFill>
        <p:spPr>
          <a:xfrm>
            <a:off x="1981080" y="4419720"/>
            <a:ext cx="544536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31440" y="1219320"/>
            <a:ext cx="8094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b experi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ic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nchronize cell cyc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of yeast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 cDNA micro-arrays ove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d 18 time points, ov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ut 2 cell cyc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died 4,489 genes  (whole geno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me series view of data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,489 time series of length 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al Data View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,48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ff96"/>
            </a:gs>
            <a:gs pos="50000">
              <a:srgbClr val="ffffff"/>
            </a:gs>
            <a:gs pos="100000">
              <a:srgbClr val="96ff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, FDA View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480" y="5562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al ques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genes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iod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ver 2 cell cyc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rcRect l="13382" t="15157" r="16058" b="12631"/>
          <a:stretch/>
        </p:blipFill>
        <p:spPr>
          <a:xfrm>
            <a:off x="1568520" y="1117440"/>
            <a:ext cx="58611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me Series Toy E.g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3520" y="1523880"/>
            <a:ext cx="8305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Ques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Horizontal Motion Linear Variation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 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me shif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ussian dens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:    Code time with colors as ab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. S. Toy E.g.,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rcRect l="0" t="11598" r="0" b="0"/>
          <a:stretch/>
        </p:blipFill>
        <p:spPr>
          <a:xfrm>
            <a:off x="762120" y="1101600"/>
            <a:ext cx="7638840" cy="956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. S. Toy E.g., PCA 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rcRect l="10104" t="12490" r="6315" b="0"/>
          <a:stretch/>
        </p:blipFill>
        <p:spPr>
          <a:xfrm>
            <a:off x="4419720" y="914400"/>
            <a:ext cx="4541760" cy="6735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304920" y="1143000"/>
            <a:ext cx="144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28600" y="990720"/>
            <a:ext cx="41148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A gives “Mode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re are Man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vely Useful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“harmonics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n’t there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 mo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f var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comes in 2-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pl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marron</cp:lastModifiedBy>
  <dcterms:modified xsi:type="dcterms:W3CDTF">2007-12-23T14:14:21Z</dcterms:modified>
  <cp:revision>100</cp:revision>
  <dc:subject/>
  <dc:title>Title</dc:title>
</cp:coreProperties>
</file>