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BE70-0FEE-411C-A2B9-C859230D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A11F-D584-4A3C-B64C-3902AFE7E2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9CF-1C6F-44D5-A3EC-7A3E80D18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FAF6-8B45-48B1-96E9-43BD132020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9E2-FBA3-47A4-8DDF-37ABE47C7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3EE5-B2BD-4272-AF5E-D693BB7EE0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6859-1C90-4499-AB2E-1B721EA44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F4C-F971-4936-8AD8-62AA78B474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E58E-EC4C-46E1-8D14-7246E50D6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F66F-2295-4A36-85F4-76B98331E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5D5F-9468-4A15-A878-210AA811BA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AFB8-D612-4C2F-B02A-89F305F82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9955-CE64-466F-80CD-E4C203737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A9BF-72ED-4108-BB3A-013E493DC9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C9AF-64BB-45E8-8C33-8FA4115B58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0941-C725-4B1F-9874-ADB8D890F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CDB-7466-4454-8EC1-9EEA749E6A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8C2F-FBED-479F-A236-89CD6DE36A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998E-B44B-4DDF-902F-3D7E7A3FA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5D0-A38D-4ADB-9BB5-73C8A882AB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B3AA-CB2F-4AA6-AB9E-C2D16C7BE6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D1C9-E871-452A-B045-B1BE69DF6B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36FB-64D0-4C92-B018-B9716D8DD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6CB5-1E10-4C55-BA39-8D9E4B26D0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DB73-1CDF-4459-9918-3C906A9BC7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2E2-3F93-4F65-BE5F-3DBCD7CB7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4EBC-8A36-459E-AE67-5A567FC0CF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A02-B668-4A08-B11D-CB8B73DE4A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90D9-11A3-45A2-BB0E-3F1BA316F2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88F-2B33-456E-AF45-D3B71305A7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4758-DFE7-460C-940E-8DFB5C0CA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C6D4-B1AD-4AE3-B554-F53AF2BB8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FDEF-7A4B-42BC-AE04-CCC64BA5A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83AB-0ECC-4E48-BD02-833F3978D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7210-0BD3-4C53-BCD0-A294394D68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B123-9753-4418-9257-66DE275ED0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9B25-DBF1-4E2B-8766-6EFC491B6F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EE6-DDF7-4AF6-AD31-0364E172B6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CC14-C052-49A8-9A4B-907E8C9099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28F0-B638-4E86-8B68-93213701AE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49F-FF9F-4035-9A17-7ED61C1AC0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606C-2D62-4222-9A8D-49B8BF7E4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6D91-05AA-4B3C-B09E-9EF58D298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795C-748A-4AFB-92BB-FA1BA4C3A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B23-FA60-416D-9B88-9CD8B52F9D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029-EBCA-4562-96F2-9FCA162D6B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CA4-83D2-48E5-88A5-ACD368BFFC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600-09A2-4DAD-825D-D39AD5287E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B82C-9A2D-42D4-B903-77FC3F898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2AB-7153-45BA-8470-2676E97C7A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C3C3-5CFA-4D92-A0E4-86D8FD364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C0D8-3A7B-49CF-BB81-B427C19350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DB9-BB88-4C2A-BAA4-D2EEB06E52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1A56-13B4-4875-97FA-AFB37A90A1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68CB-FE40-4D44-B676-BE9591DB3F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6359-245B-4A56-B79C-AE74F5A979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213-BF77-4632-81BF-14EB23A86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B094-6614-4D11-826F-EC27273A9D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FCD1-B242-404D-B664-6AC9D6918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A083-54D1-46E3-9CAD-E59051268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8243-706B-461A-9D6B-4C2A794B3F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31D5-37EA-4FE3-8313-1FF7F6117B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6151-0E12-4A82-94A9-43F56B4A9D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C931-CB4B-4DA6-B2D0-6062A0B4DB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301-EF99-4C5A-8735-384AE627A1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53AD-F9AD-4064-9FB3-04E7B80173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5A84-1791-4D99-B0CA-4A401FF012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F045-7050-4427-BD4A-F7ED25757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69D-4ECF-4891-812C-7945DCB9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FBC-FC05-486F-928D-774859C3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12A-AF2E-4345-A35B-3268FAD1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190-17C1-44F1-B95F-AB24768F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9C9-767E-4068-879D-2C097669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E6D-046E-4E06-A2BF-18192E59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8F5-F09F-4BB0-96B1-296B8835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3C4-5D07-443D-990C-33BC5FB4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E2E-D101-4CD5-A93C-1EA5D6DA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713-4A0A-463B-BCAB-0EF51A0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680-385C-4D97-8E11-D873BF52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D0F-CA2F-46D2-8A82-5350F7C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8D9D-C8A5-4E79-8BA1-A4BA1FAD0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 Cell Cycl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arrays and HDLSS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bias adju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day:  More NCI 60 Data &amp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ailed (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) look at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57200" y="1066680"/>
            <a:ext cx="8381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lust’s     Weak Clust’s     Not Clust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lan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uk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ar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:  will find way to quantify these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develo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signific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Controver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NCI 60 Data be normal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ative Indic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ou, et al (2002)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oinformatic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18, 405-41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Gene by Gene Cor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ene by Gene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ultivariate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 of Paradox:  Toy Data, Gene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  Correlations suggest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chance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  Toy Data, PC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  PCA &amp; DWD direc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  DWD Adjus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  DWD Adjusted, PC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  DWD Adjusted, Gene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olution:  Correlations &amp; PC1 Projection Corre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t Time:  Checked Data Combo, using DWD Di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statistical power actually impro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study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:  Why does it wor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 Tibshirani Que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need that complicated stuf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WD is comple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’t we just use mea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pirical Fact (Joel Parker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WD better than simple method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:  Why does it wor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uxin Liu Observa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y is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balanced sub-sample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iz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.g biological subtyp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methods strongly affec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much more rob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:  Why does it wor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ToyMovie_PAMDWD.avi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uxin Liu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s: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ing colors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ep symbols distinct (interesting biolo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varying sub-sample propor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tio = 1:   Both methods g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tio = 0.61:   Mean degrades, DWD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tio = 0.35:   Mean poor, DWD still 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tio = 0.11:    DWD degraded, still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er: will find underlying the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:  Rediscover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na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990720"/>
            <a:ext cx="830556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Component Analysis  (P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cial S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Analysis (PCA is a subs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ability / Electrical E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hunen – Loeve expa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ed Mathema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Orthogonal Decomposition (P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o-S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Orthogonal Functions (EO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Interesting Historical No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3520" y="1523880"/>
            <a:ext cx="83055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?) application of PCA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o, C. R. (1958) Some statistical methods for comparison of growth curv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metr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4, 1-1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per with “Curves as Data” view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ad"/>
            </a:gs>
            <a:gs pos="50000">
              <a:srgbClr val="ffffff"/>
            </a:gs>
            <a:gs pos="100000">
              <a:srgbClr val="ffada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ailed Look at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1523880"/>
            <a:ext cx="830556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(and interesting) viewpoi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Review linear alg. and multivar. pro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Space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“vectors”,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“scalars” (coefficients)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” under “linear combination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in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 Euclid’n spa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4343400" y="1676520"/>
                <a:ext cx="533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" name="Rectangle 1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6477120" y="26668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2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5638680" y="3886200"/>
                <a:ext cx="1371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Rectangle 14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1447920" y="4419720"/>
                <a:ext cx="38862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5"/>
              <p:cNvSpPr txBox="1"/>
              <p:nvPr/>
            </p:nvSpPr>
            <p:spPr>
              <a:xfrm>
                <a:off x="2971800" y="6019920"/>
                <a:ext cx="352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5800" y="990720"/>
            <a:ext cx="83059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pa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t that is again a vector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closed under linear comb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lines through the ori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lanes through the ori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ubsp. “generated by” a set of 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l linear combos of them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ntaining hyperpla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orig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iews of 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3520" y="1219320"/>
            <a:ext cx="8001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luste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D great at fi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’ns of s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 do so even if no re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happening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  which cluste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“important”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85800" y="990720"/>
            <a:ext cx="830592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of subspace:  set of vectors th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everything is a lin. com. of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ly indep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i.e. lin. Com.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      “unit vector basi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2133720" y="3276720"/>
                <a:ext cx="609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Rectangle 14"/>
          <p:cNvSpPr/>
          <p:nvPr/>
        </p:nvSpPr>
        <p:spPr>
          <a:xfrm>
            <a:off x="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3"/>
              <p:cNvSpPr txBox="1"/>
              <p:nvPr/>
            </p:nvSpPr>
            <p:spPr>
              <a:xfrm>
                <a:off x="5943600" y="2895480"/>
                <a:ext cx="251460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16"/>
          <p:cNvSpPr/>
          <p:nvPr/>
        </p:nvSpPr>
        <p:spPr>
          <a:xfrm>
            <a:off x="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5"/>
              <p:cNvSpPr txBox="1"/>
              <p:nvPr/>
            </p:nvSpPr>
            <p:spPr>
              <a:xfrm>
                <a:off x="1905120" y="5083200"/>
                <a:ext cx="43210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990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Matrix, of subspace of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basis,            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rix of colum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6019920" y="1066680"/>
                <a:ext cx="761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3505320" y="1752480"/>
                <a:ext cx="1828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143000" y="3430440"/>
                <a:ext cx="708660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Rectangle 17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5800" y="99072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“linear combo” is a matrix multiplicat’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izes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8"/>
              <p:cNvSpPr txBox="1"/>
              <p:nvPr/>
            </p:nvSpPr>
            <p:spPr>
              <a:xfrm>
                <a:off x="1066680" y="2057400"/>
                <a:ext cx="2514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0"/>
              <p:cNvSpPr txBox="1"/>
              <p:nvPr/>
            </p:nvSpPr>
            <p:spPr>
              <a:xfrm>
                <a:off x="6248520" y="1905120"/>
                <a:ext cx="1403280" cy="16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2"/>
              <p:cNvSpPr txBox="1"/>
              <p:nvPr/>
            </p:nvSpPr>
            <p:spPr>
              <a:xfrm>
                <a:off x="3657600" y="4952880"/>
                <a:ext cx="3809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5800" y="990720"/>
            <a:ext cx="83059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on matrix multiplication: (linear transformat’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t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“matrix product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inner products” of columns with row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sition of linear transform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ful to check siz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286000" y="1905120"/>
                <a:ext cx="2575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Rectangle 14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3"/>
              <p:cNvSpPr txBox="1"/>
              <p:nvPr/>
            </p:nvSpPr>
            <p:spPr>
              <a:xfrm>
                <a:off x="5410080" y="1905120"/>
                <a:ext cx="2568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Rectangle 16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4419720" y="3429000"/>
                <a:ext cx="41148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Rectangle 1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5334120" y="6248520"/>
                <a:ext cx="33526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↔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85800" y="990720"/>
            <a:ext cx="83059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trac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quare matrix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commutes with matrix multiplication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5105520" y="2133720"/>
                <a:ext cx="3124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Rectangle 14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3"/>
              <p:cNvSpPr txBox="1"/>
              <p:nvPr/>
            </p:nvSpPr>
            <p:spPr>
              <a:xfrm>
                <a:off x="2666880" y="3581280"/>
                <a:ext cx="21337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Rectangle 16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3733920" y="5648400"/>
                <a:ext cx="2666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85800" y="990720"/>
            <a:ext cx="83059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 of subspace  (a notion of “size”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lements in a basis (uniqu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basis abo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m of a line is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m of a plane is 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 is “degrees of freedo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397760" y="28864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1"/>
              <p:cNvSpPr txBox="1"/>
              <p:nvPr/>
            </p:nvSpPr>
            <p:spPr>
              <a:xfrm>
                <a:off x="1447920" y="2819520"/>
                <a:ext cx="1904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99072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 of a vec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      ,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“length” of the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  strange properties for high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“length of diagonal of unit cube”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1752480" y="2308320"/>
                <a:ext cx="762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14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3"/>
              <p:cNvSpPr txBox="1"/>
              <p:nvPr/>
            </p:nvSpPr>
            <p:spPr>
              <a:xfrm>
                <a:off x="3124080" y="1981080"/>
                <a:ext cx="441972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4" name="Rectangle 16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5"/>
              <p:cNvSpPr txBox="1"/>
              <p:nvPr/>
            </p:nvSpPr>
            <p:spPr>
              <a:xfrm>
                <a:off x="2438280" y="4343400"/>
                <a:ext cx="32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7"/>
              <p:cNvSpPr txBox="1"/>
              <p:nvPr/>
            </p:nvSpPr>
            <p:spPr>
              <a:xfrm>
                <a:off x="7848720" y="4343400"/>
                <a:ext cx="36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9"/>
              <p:cNvSpPr txBox="1"/>
              <p:nvPr/>
            </p:nvSpPr>
            <p:spPr>
              <a:xfrm>
                <a:off x="8381880" y="5334120"/>
                <a:ext cx="609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0" name="Rectangle 22"/>
          <p:cNvSpPr/>
          <p:nvPr/>
        </p:nvSpPr>
        <p:spPr>
          <a:xfrm>
            <a:off x="15228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24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85800" y="990720"/>
            <a:ext cx="830592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 of a vector (cont.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normalized vector”: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s length one, thus on surf. of unit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“distance” a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2"/>
              <p:cNvSpPr txBox="1"/>
              <p:nvPr/>
            </p:nvSpPr>
            <p:spPr>
              <a:xfrm>
                <a:off x="6553080" y="1752480"/>
                <a:ext cx="56052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Rectangle 23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4"/>
              <p:cNvSpPr txBox="1"/>
              <p:nvPr/>
            </p:nvSpPr>
            <p:spPr>
              <a:xfrm>
                <a:off x="1905120" y="5715000"/>
                <a:ext cx="6553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85800" y="990720"/>
            <a:ext cx="830592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(dot, scalar) produ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vectors      and    ,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norm, vi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5"/>
              <p:cNvSpPr txBox="1"/>
              <p:nvPr/>
            </p:nvSpPr>
            <p:spPr>
              <a:xfrm>
                <a:off x="2819520" y="2133720"/>
                <a:ext cx="457200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3" name="Rectangle 1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7"/>
              <p:cNvSpPr txBox="1"/>
              <p:nvPr/>
            </p:nvSpPr>
            <p:spPr>
              <a:xfrm>
                <a:off x="3886200" y="5562720"/>
                <a:ext cx="31240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5" name="Rectangle 20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1"/>
              <p:cNvSpPr txBox="1"/>
              <p:nvPr/>
            </p:nvSpPr>
            <p:spPr>
              <a:xfrm>
                <a:off x="3276720" y="3657600"/>
                <a:ext cx="4474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8" name="Rectangle 24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3"/>
              <p:cNvSpPr txBox="1"/>
              <p:nvPr/>
            </p:nvSpPr>
            <p:spPr>
              <a:xfrm>
                <a:off x="4572000" y="3733920"/>
                <a:ext cx="347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Rectangle 26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85800" y="990720"/>
            <a:ext cx="83059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(dot, scalar) product (cont.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“angle between     and    ”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“orthogonality”, i.e. “perpendicul’ty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d only i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0"/>
              <p:cNvSpPr txBox="1"/>
              <p:nvPr/>
            </p:nvSpPr>
            <p:spPr>
              <a:xfrm>
                <a:off x="762120" y="2666880"/>
                <a:ext cx="784836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acc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acc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Rectangle 2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2"/>
              <p:cNvSpPr txBox="1"/>
              <p:nvPr/>
            </p:nvSpPr>
            <p:spPr>
              <a:xfrm>
                <a:off x="6019920" y="1905120"/>
                <a:ext cx="377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9" name="Rectangle 23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4"/>
              <p:cNvSpPr txBox="1"/>
              <p:nvPr/>
            </p:nvSpPr>
            <p:spPr>
              <a:xfrm>
                <a:off x="7238880" y="1905120"/>
                <a:ext cx="346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Rectangle 25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6"/>
              <p:cNvSpPr txBox="1"/>
              <p:nvPr/>
            </p:nvSpPr>
            <p:spPr>
              <a:xfrm>
                <a:off x="2057400" y="5029200"/>
                <a:ext cx="13716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3" name="Rectangle 2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8"/>
              <p:cNvSpPr txBox="1"/>
              <p:nvPr/>
            </p:nvSpPr>
            <p:spPr>
              <a:xfrm>
                <a:off x="6400800" y="5013360"/>
                <a:ext cx="20574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Clusters in 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04920" y="1219320"/>
            <a:ext cx="84582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label data (Cancer Typ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DWD dir’ns &amp;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uristic i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Hypothesis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85800" y="990720"/>
            <a:ext cx="830592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normal basis              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tho to each other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              ,    for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have length 1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              ,    for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4038480" y="121932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6" name="Rectangle 14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3"/>
              <p:cNvSpPr txBox="1"/>
              <p:nvPr/>
            </p:nvSpPr>
            <p:spPr>
              <a:xfrm>
                <a:off x="4038480" y="4114800"/>
                <a:ext cx="1295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16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5"/>
              <p:cNvSpPr txBox="1"/>
              <p:nvPr/>
            </p:nvSpPr>
            <p:spPr>
              <a:xfrm>
                <a:off x="4038480" y="2743200"/>
                <a:ext cx="128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7"/>
              <p:cNvSpPr txBox="1"/>
              <p:nvPr/>
            </p:nvSpPr>
            <p:spPr>
              <a:xfrm>
                <a:off x="6629400" y="2819520"/>
                <a:ext cx="5716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Rectangle 2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9"/>
              <p:cNvSpPr txBox="1"/>
              <p:nvPr/>
            </p:nvSpPr>
            <p:spPr>
              <a:xfrm>
                <a:off x="6477120" y="4267080"/>
                <a:ext cx="11048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30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685800" y="99072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normal basis                  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Representation”: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: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notation:             where              i.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lled “transform (e.g. Fourier, wavelet) of     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2"/>
              <p:cNvSpPr txBox="1"/>
              <p:nvPr/>
            </p:nvSpPr>
            <p:spPr>
              <a:xfrm>
                <a:off x="4038480" y="12952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3" name="Rectangle 13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2"/>
              <p:cNvSpPr txBox="1"/>
              <p:nvPr/>
            </p:nvSpPr>
            <p:spPr>
              <a:xfrm>
                <a:off x="6324480" y="1752480"/>
                <a:ext cx="175284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8" name="Rectangle 23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4"/>
              <p:cNvSpPr txBox="1"/>
              <p:nvPr/>
            </p:nvSpPr>
            <p:spPr>
              <a:xfrm>
                <a:off x="4267080" y="2895480"/>
                <a:ext cx="12956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6"/>
              <p:cNvSpPr txBox="1"/>
              <p:nvPr/>
            </p:nvSpPr>
            <p:spPr>
              <a:xfrm>
                <a:off x="2438280" y="3505320"/>
                <a:ext cx="5791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nary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1" name="Rectangle 2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8"/>
              <p:cNvSpPr txBox="1"/>
              <p:nvPr/>
            </p:nvSpPr>
            <p:spPr>
              <a:xfrm>
                <a:off x="3733920" y="4800600"/>
                <a:ext cx="1143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3" name="Rectangle 29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30"/>
              <p:cNvSpPr txBox="1"/>
              <p:nvPr/>
            </p:nvSpPr>
            <p:spPr>
              <a:xfrm>
                <a:off x="5943600" y="4724280"/>
                <a:ext cx="1295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3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32"/>
              <p:cNvSpPr txBox="1"/>
              <p:nvPr/>
            </p:nvSpPr>
            <p:spPr>
              <a:xfrm>
                <a:off x="7848720" y="4800600"/>
                <a:ext cx="990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7" name="Rectangle 33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4"/>
              <p:cNvSpPr txBox="1"/>
              <p:nvPr/>
            </p:nvSpPr>
            <p:spPr>
              <a:xfrm>
                <a:off x="7848720" y="5486400"/>
                <a:ext cx="322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9" name="Rectangle 35"/>
          <p:cNvSpPr/>
          <p:nvPr/>
        </p:nvSpPr>
        <p:spPr>
          <a:xfrm>
            <a:off x="2286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36"/>
              <p:cNvSpPr txBox="1"/>
              <p:nvPr/>
            </p:nvSpPr>
            <p:spPr>
              <a:xfrm>
                <a:off x="304920" y="5486400"/>
                <a:ext cx="457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val identity,  for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bsp. gen’d by o. n. basis           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of Energ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- sums of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,     , has same length as    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rotation in      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1"/>
              <p:cNvSpPr txBox="1"/>
              <p:nvPr/>
            </p:nvSpPr>
            <p:spPr>
              <a:xfrm>
                <a:off x="4724280" y="1143000"/>
                <a:ext cx="271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2" name="Rectangle 14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3"/>
              <p:cNvSpPr txBox="1"/>
              <p:nvPr/>
            </p:nvSpPr>
            <p:spPr>
              <a:xfrm>
                <a:off x="6705720" y="1828800"/>
                <a:ext cx="12189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4" name="Rectangle 16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5"/>
              <p:cNvSpPr txBox="1"/>
              <p:nvPr/>
            </p:nvSpPr>
            <p:spPr>
              <a:xfrm>
                <a:off x="2057400" y="2286000"/>
                <a:ext cx="40384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6" name="Rectangle 18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7"/>
              <p:cNvSpPr txBox="1"/>
              <p:nvPr/>
            </p:nvSpPr>
            <p:spPr>
              <a:xfrm>
                <a:off x="3352680" y="5257800"/>
                <a:ext cx="293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Rectangle 2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9"/>
              <p:cNvSpPr txBox="1"/>
              <p:nvPr/>
            </p:nvSpPr>
            <p:spPr>
              <a:xfrm>
                <a:off x="7620120" y="5257800"/>
                <a:ext cx="269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0" name="Rectangle 2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21"/>
              <p:cNvSpPr txBox="1"/>
              <p:nvPr/>
            </p:nvSpPr>
            <p:spPr>
              <a:xfrm>
                <a:off x="5867280" y="5943600"/>
                <a:ext cx="533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380880" y="1219320"/>
            <a:ext cx="8305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Schmidt Ortho-norm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Given a basis             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 orthonormal ver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ubtracting non-ortho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3"/>
              <p:cNvSpPr txBox="1"/>
              <p:nvPr/>
            </p:nvSpPr>
            <p:spPr>
              <a:xfrm>
                <a:off x="4419720" y="1905120"/>
                <a:ext cx="18288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5"/>
              <p:cNvSpPr txBox="1"/>
              <p:nvPr/>
            </p:nvSpPr>
            <p:spPr>
              <a:xfrm>
                <a:off x="914400" y="4038480"/>
                <a:ext cx="1724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7"/>
              <p:cNvSpPr txBox="1"/>
              <p:nvPr/>
            </p:nvSpPr>
            <p:spPr>
              <a:xfrm>
                <a:off x="914400" y="4724280"/>
                <a:ext cx="51116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8"/>
              <p:cNvSpPr txBox="1"/>
              <p:nvPr/>
            </p:nvSpPr>
            <p:spPr>
              <a:xfrm>
                <a:off x="952560" y="5562720"/>
                <a:ext cx="81914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685800" y="990720"/>
            <a:ext cx="83059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of a vector       onto a subspace  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member of        that is closest to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 “approx’n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                that solves: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least squares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ner product (Hilbert) space: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and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343400" y="1219320"/>
                <a:ext cx="270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1" name="Rectangle 14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7315200" y="1981080"/>
                <a:ext cx="270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3" name="Rectangle 1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5"/>
              <p:cNvSpPr txBox="1"/>
              <p:nvPr/>
            </p:nvSpPr>
            <p:spPr>
              <a:xfrm>
                <a:off x="4191120" y="2057400"/>
                <a:ext cx="309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Rectangle 1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7"/>
              <p:cNvSpPr txBox="1"/>
              <p:nvPr/>
            </p:nvSpPr>
            <p:spPr>
              <a:xfrm>
                <a:off x="7543800" y="1371600"/>
                <a:ext cx="311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9"/>
              <p:cNvSpPr txBox="1"/>
              <p:nvPr/>
            </p:nvSpPr>
            <p:spPr>
              <a:xfrm>
                <a:off x="2209680" y="3429000"/>
                <a:ext cx="1143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∈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Rectangle 2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1"/>
              <p:cNvSpPr txBox="1"/>
              <p:nvPr/>
            </p:nvSpPr>
            <p:spPr>
              <a:xfrm>
                <a:off x="5715000" y="3352680"/>
                <a:ext cx="1752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1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33"/>
              <p:cNvSpPr txBox="1"/>
              <p:nvPr/>
            </p:nvSpPr>
            <p:spPr>
              <a:xfrm>
                <a:off x="2362320" y="5562720"/>
                <a:ext cx="715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533520" y="1219320"/>
            <a:ext cx="83055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of a vector onto a subspace 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solution in      :  for basis matrix       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“proj’n operator” is “matrix mult’n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us projection is another linear ope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e same operation underl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ast squa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4"/>
              <p:cNvSpPr txBox="1"/>
              <p:nvPr/>
            </p:nvSpPr>
            <p:spPr>
              <a:xfrm>
                <a:off x="4191120" y="2057400"/>
                <a:ext cx="5331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3" name="Rectangle 2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6"/>
              <p:cNvSpPr txBox="1"/>
              <p:nvPr/>
            </p:nvSpPr>
            <p:spPr>
              <a:xfrm>
                <a:off x="7620120" y="213372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Rectangle 27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8"/>
              <p:cNvSpPr txBox="1"/>
              <p:nvPr/>
            </p:nvSpPr>
            <p:spPr>
              <a:xfrm>
                <a:off x="2438280" y="2743200"/>
                <a:ext cx="38862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7" name="Rectangle 29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0"/>
              <p:cNvSpPr txBox="1"/>
              <p:nvPr/>
            </p:nvSpPr>
            <p:spPr>
              <a:xfrm>
                <a:off x="3048120" y="4038480"/>
                <a:ext cx="3124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380880" y="990720"/>
            <a:ext cx="861084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using orthonormal basis          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matrix is “orthonormal”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              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Recon(Coeffs of     “in     dir’n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13"/>
              <p:cNvSpPr txBox="1"/>
              <p:nvPr/>
            </p:nvSpPr>
            <p:spPr>
              <a:xfrm>
                <a:off x="6553080" y="1752480"/>
                <a:ext cx="1752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1" name="Rectangle 16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15"/>
              <p:cNvSpPr txBox="1"/>
              <p:nvPr/>
            </p:nvSpPr>
            <p:spPr>
              <a:xfrm>
                <a:off x="1600200" y="2590920"/>
                <a:ext cx="614988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acc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3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17"/>
              <p:cNvSpPr txBox="1"/>
              <p:nvPr/>
            </p:nvSpPr>
            <p:spPr>
              <a:xfrm>
                <a:off x="1523880" y="4952880"/>
                <a:ext cx="18669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5" name="Rectangle 2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19"/>
              <p:cNvSpPr txBox="1"/>
              <p:nvPr/>
            </p:nvSpPr>
            <p:spPr>
              <a:xfrm>
                <a:off x="5486400" y="5562720"/>
                <a:ext cx="230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7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1"/>
              <p:cNvSpPr txBox="1"/>
              <p:nvPr/>
            </p:nvSpPr>
            <p:spPr>
              <a:xfrm>
                <a:off x="6477120" y="5562720"/>
                <a:ext cx="38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2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28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0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1"/>
              <p:cNvSpPr txBox="1"/>
              <p:nvPr/>
            </p:nvSpPr>
            <p:spPr>
              <a:xfrm>
                <a:off x="6934320" y="114300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380880" y="990720"/>
            <a:ext cx="86108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using orthonormal basis   (cont.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orthogonal complement”,  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val inequalit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16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3"/>
              <p:cNvSpPr txBox="1"/>
              <p:nvPr/>
            </p:nvSpPr>
            <p:spPr>
              <a:xfrm>
                <a:off x="6553080" y="1752480"/>
                <a:ext cx="457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91" name="Rectangle 2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25"/>
              <p:cNvSpPr txBox="1"/>
              <p:nvPr/>
            </p:nvSpPr>
            <p:spPr>
              <a:xfrm>
                <a:off x="1295280" y="3048120"/>
                <a:ext cx="2210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3" name="Rectangle 28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7"/>
              <p:cNvSpPr txBox="1"/>
              <p:nvPr/>
            </p:nvSpPr>
            <p:spPr>
              <a:xfrm>
                <a:off x="5715000" y="3048120"/>
                <a:ext cx="2720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P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5" name="Rectangle 30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29"/>
              <p:cNvSpPr txBox="1"/>
              <p:nvPr/>
            </p:nvSpPr>
            <p:spPr>
              <a:xfrm>
                <a:off x="2819520" y="4876920"/>
                <a:ext cx="4419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380880" y="990720"/>
            <a:ext cx="830592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al) Unitary Matrices:           wit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normal basis matri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all of above appl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a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have full rank, so       exists 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. trans. (mult. by    ) is like “rotation” of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lso includes “mirror imag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11"/>
              <p:cNvSpPr txBox="1"/>
              <p:nvPr/>
            </p:nvSpPr>
            <p:spPr>
              <a:xfrm>
                <a:off x="5029200" y="1143000"/>
                <a:ext cx="7621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Rectangle 1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13"/>
              <p:cNvSpPr txBox="1"/>
              <p:nvPr/>
            </p:nvSpPr>
            <p:spPr>
              <a:xfrm>
                <a:off x="7238880" y="1222200"/>
                <a:ext cx="1295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15"/>
              <p:cNvSpPr txBox="1"/>
              <p:nvPr/>
            </p:nvSpPr>
            <p:spPr>
              <a:xfrm>
                <a:off x="3733920" y="3200400"/>
                <a:ext cx="1447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17"/>
              <p:cNvSpPr txBox="1"/>
              <p:nvPr/>
            </p:nvSpPr>
            <p:spPr>
              <a:xfrm>
                <a:off x="5638680" y="3886200"/>
                <a:ext cx="53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4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4495680" y="4648320"/>
                <a:ext cx="3492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21"/>
              <p:cNvSpPr txBox="1"/>
              <p:nvPr/>
            </p:nvSpPr>
            <p:spPr>
              <a:xfrm>
                <a:off x="8381880" y="4572000"/>
                <a:ext cx="533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Value Decomposition  (SV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matrix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 entries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ular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unitary (rotation) matrices        ,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       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11"/>
              <p:cNvSpPr txBox="1"/>
              <p:nvPr/>
            </p:nvSpPr>
            <p:spPr>
              <a:xfrm>
                <a:off x="3276720" y="1886040"/>
                <a:ext cx="761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9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13"/>
              <p:cNvSpPr txBox="1"/>
              <p:nvPr/>
            </p:nvSpPr>
            <p:spPr>
              <a:xfrm>
                <a:off x="4876920" y="2590920"/>
                <a:ext cx="6094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15"/>
              <p:cNvSpPr txBox="1"/>
              <p:nvPr/>
            </p:nvSpPr>
            <p:spPr>
              <a:xfrm>
                <a:off x="4038480" y="3200400"/>
                <a:ext cx="2210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3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7"/>
              <p:cNvSpPr txBox="1"/>
              <p:nvPr/>
            </p:nvSpPr>
            <p:spPr>
              <a:xfrm>
                <a:off x="6400800" y="4648320"/>
                <a:ext cx="685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5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9"/>
              <p:cNvSpPr txBox="1"/>
              <p:nvPr/>
            </p:nvSpPr>
            <p:spPr>
              <a:xfrm>
                <a:off x="7391520" y="4648320"/>
                <a:ext cx="609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7" name="Rectangle 2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1"/>
              <p:cNvSpPr txBox="1"/>
              <p:nvPr/>
            </p:nvSpPr>
            <p:spPr>
              <a:xfrm>
                <a:off x="4343400" y="533412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3"/>
              <p:cNvSpPr txBox="1"/>
              <p:nvPr/>
            </p:nvSpPr>
            <p:spPr>
              <a:xfrm>
                <a:off x="3505320" y="5943600"/>
                <a:ext cx="1523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US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 behind Singular Value De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a “linear transf’n”  (via matrix multi’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cale coordinate axes (by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ate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ized the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11"/>
              <p:cNvSpPr txBox="1"/>
              <p:nvPr/>
            </p:nvSpPr>
            <p:spPr>
              <a:xfrm>
                <a:off x="1447920" y="20574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Rectangle 14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13"/>
              <p:cNvSpPr txBox="1"/>
              <p:nvPr/>
            </p:nvSpPr>
            <p:spPr>
              <a:xfrm>
                <a:off x="1828800" y="2743200"/>
                <a:ext cx="5638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4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5"/>
              <p:cNvSpPr txBox="1"/>
              <p:nvPr/>
            </p:nvSpPr>
            <p:spPr>
              <a:xfrm>
                <a:off x="7391520" y="4343400"/>
                <a:ext cx="365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3"/>
              <p:cNvSpPr txBox="1"/>
              <p:nvPr/>
            </p:nvSpPr>
            <p:spPr>
              <a:xfrm>
                <a:off x="1600200" y="4419720"/>
                <a:ext cx="264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Text Box 4"/>
          <p:cNvSpPr/>
          <p:nvPr/>
        </p:nvSpPr>
        <p:spPr>
          <a:xfrm>
            <a:off x="533520" y="1143000"/>
            <a:ext cx="8305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D Compact Represen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Lab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Value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asing 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ular values  = 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an be omit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=  # of positive singular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    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n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8"/>
              <p:cNvSpPr txBox="1"/>
              <p:nvPr/>
            </p:nvSpPr>
            <p:spPr>
              <a:xfrm>
                <a:off x="2286000" y="4952880"/>
                <a:ext cx="29718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30"/>
              <p:cNvSpPr txBox="1"/>
              <p:nvPr/>
            </p:nvSpPr>
            <p:spPr>
              <a:xfrm>
                <a:off x="6248520" y="5791320"/>
                <a:ext cx="1600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Line 31"/>
          <p:cNvSpPr/>
          <p:nvPr/>
        </p:nvSpPr>
        <p:spPr>
          <a:xfrm flipV="1">
            <a:off x="2286000" y="54100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32"/>
          <p:cNvSpPr/>
          <p:nvPr/>
        </p:nvSpPr>
        <p:spPr>
          <a:xfrm flipV="1">
            <a:off x="2286000" y="53337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33"/>
          <p:cNvSpPr/>
          <p:nvPr/>
        </p:nvSpPr>
        <p:spPr>
          <a:xfrm flipV="1">
            <a:off x="2286000" y="525744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4"/>
              <p:cNvSpPr txBox="1"/>
              <p:nvPr/>
            </p:nvSpPr>
            <p:spPr>
              <a:xfrm>
                <a:off x="3962520" y="2057400"/>
                <a:ext cx="264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⋯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(symmetric) square matri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diagonal matrix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n orthonormal matrix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                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:                    ,    i.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1"/>
              <p:cNvSpPr txBox="1"/>
              <p:nvPr/>
            </p:nvSpPr>
            <p:spPr>
              <a:xfrm>
                <a:off x="6858000" y="1905120"/>
                <a:ext cx="838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4" name="Rectangle 1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13"/>
              <p:cNvSpPr txBox="1"/>
              <p:nvPr/>
            </p:nvSpPr>
            <p:spPr>
              <a:xfrm>
                <a:off x="5257800" y="2666880"/>
                <a:ext cx="3200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6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15"/>
              <p:cNvSpPr txBox="1"/>
              <p:nvPr/>
            </p:nvSpPr>
            <p:spPr>
              <a:xfrm>
                <a:off x="5867280" y="4648320"/>
                <a:ext cx="7621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7"/>
              <p:cNvSpPr txBox="1"/>
              <p:nvPr/>
            </p:nvSpPr>
            <p:spPr>
              <a:xfrm>
                <a:off x="2514600" y="5334120"/>
                <a:ext cx="320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0" name="Rectangle 2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19"/>
              <p:cNvSpPr txBox="1"/>
              <p:nvPr/>
            </p:nvSpPr>
            <p:spPr>
              <a:xfrm>
                <a:off x="2362320" y="6019920"/>
                <a:ext cx="2133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Rectangle 22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21"/>
              <p:cNvSpPr txBox="1"/>
              <p:nvPr/>
            </p:nvSpPr>
            <p:spPr>
              <a:xfrm>
                <a:off x="5638680" y="5943600"/>
                <a:ext cx="221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 of Linear Algebra 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685800" y="99072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 (cont.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to Singular Value 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oks similar?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 decomposition “hard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eed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is eigenvalue decomp’n is gener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       square and sym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eigenvalue decomp. is real val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is the sing’r value decomp.  wit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1"/>
              <p:cNvSpPr txBox="1"/>
              <p:nvPr/>
            </p:nvSpPr>
            <p:spPr>
              <a:xfrm>
                <a:off x="4114800" y="304812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13"/>
              <p:cNvSpPr txBox="1"/>
              <p:nvPr/>
            </p:nvSpPr>
            <p:spPr>
              <a:xfrm>
                <a:off x="3276720" y="449568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Rectangle 16"/>
          <p:cNvSpPr/>
          <p:nvPr/>
        </p:nvSpPr>
        <p:spPr>
          <a:xfrm>
            <a:off x="763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5"/>
              <p:cNvSpPr txBox="1"/>
              <p:nvPr/>
            </p:nvSpPr>
            <p:spPr>
              <a:xfrm>
                <a:off x="6400800" y="5943600"/>
                <a:ext cx="2057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08-30T19:11:29Z</dcterms:modified>
  <cp:revision>254</cp:revision>
  <dc:subject/>
  <dc:title>Title</dc:title>
</cp:coreProperties>
</file>