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07D5-CAAF-4120-8CBE-EC30CC6F1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089E-6DF2-4E2A-91B9-0B99E76A0C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352D-C867-4A4D-BBA4-4436CD644A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1AB6-FF3C-46CC-ADC3-80B621C997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68E4-22EB-4814-AE5C-A493DDF978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1A4D-AB4D-4C5D-84FD-92FB3F9D99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15A4-ED86-4304-B759-A62D64064D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1963-40E7-4651-AA00-A6F3ED957B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1A19-A849-40D8-A141-1F31EC5C00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7F89-725C-4043-8EA8-03EDD15979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8103-EA03-41BE-9B4C-0CF81E493C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AAFF-66BE-4CF9-85E7-A9F5DB9F6A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9B3F-D2BE-481B-AF62-9B3F405649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A46D-F99C-41DB-A278-E18B68292F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2EF9-8D54-406F-BFE4-FA5FB32CC7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02AA-4A10-4139-9412-DB164C4134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CCCF-8192-4990-9474-6E54A08E42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3C74-DD94-4BF5-9C51-B4932A245B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17D1-6717-4067-A7B5-F062AB20DE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56ED-BA85-4400-A930-8291FC0C42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8626-15ED-4220-98BB-DC761C76A9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5FCC-61FC-4DA9-960F-39DF9831EA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A35F-B714-4338-8917-C072404C5C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8DE4-6FF2-487C-A531-84072AD034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BF06-EECC-4F84-8517-6F6ADA6F7D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4ECA-0552-4DA6-AFBC-75830889F2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9AE4-47AE-4D24-A189-15F77AFE52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9451-3978-4AA1-8589-AECA6D2315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D737-3B88-4483-9594-8A85C02696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2B44-1D06-4BF9-8478-0886698E2F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0472-102A-4B10-8D83-643DF66AC4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2DA5-3109-46CC-9E72-FC91794FDA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AD90-5010-4171-AD3C-2BC43FF094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DBDB-3119-40DF-B631-C26E163A99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C432-3B28-44DD-94C1-58D90E8B4B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C036-92C1-4B3E-AC27-A8288B6F4F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7689-9293-4B60-ABBA-3934BFA8DB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71EF-29A7-4CE1-9828-5554DFAF24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47E8-4433-4AD1-A417-ECA8648C32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0AA1-0CDE-4D7D-AE80-7B78270550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BEA3-5C07-4330-AB1F-464D366686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2B9D-B274-462B-8FEB-53BF1C2125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B61E-4633-4FA8-8F7B-D26686EA68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E66C-B53B-4840-A63B-498E2B90D3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8686-D173-46AB-8A10-A1C9B5CC02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ABEC-EAE7-43A0-AF6A-B404F82B41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2A84-7CB7-4B20-96F0-45F8BBAD5C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E632-5A8A-4DBF-ADCC-CF15220966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AA62-D730-4186-B2EB-A4AB806AFE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0C86-DAD7-4147-88C9-1A108FC8A2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049C-734B-4FBC-BB05-704B913CCC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8F90-A15B-4E0B-8AB7-52A792D857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4816-2EB7-49A6-94D2-FB0E9B8BCB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A8EC-E163-4470-866E-CAE258240C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3989-A91B-41DC-88C2-E41E4E61C4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54CB-DB5B-43BA-AA74-FF28659FA9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0D84-AD55-4CF9-B597-1BF51DFF86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C4E9-9715-4B45-8456-BD5C7E40D1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872F-0F90-4A71-AE8F-683EC907A3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2532-9CAF-421C-A34D-03DEB8B988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BFB2-BFA6-44BD-8A27-714AE40F94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9786-2A43-445C-B73F-3E76BBD18E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676B-FEDA-4440-9B69-7CC092DC9A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3BBF-409D-4686-8E68-D3CCB131C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1C6A-2B17-453F-9C0F-88ED885B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2C28-2688-49C1-BE49-0F8D97577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B372-6F87-48FE-A1EB-6F95F6945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4FFF-7DBB-4624-87EF-03789C190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5B7A-3731-4B0A-A259-1D99DF77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0500-A8DC-4933-B5D3-7CACA33B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6B27-D35F-41DB-946F-6451FF63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2526-2258-4D6B-A2E5-B9DD9B7F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4C47-1AF2-444C-AFBD-81E80E83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2649-F9D8-4D23-BEC2-AD6025B1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130E-ECA5-4F08-B491-E16EC00E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A094-3528-4ECA-B814-ADD82B08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F2B1-27D3-47DC-BD4E-D12CB117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90BB-DB98-48AA-A4DE-44900DA5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08F3-0B46-4765-A908-A483FDB2C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1EE8-5086-4AB7-8F1D-C398349A8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31C7-AF90-4BA3-97CA-0CBD7238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7190-3867-4E21-90FE-05316C8D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09F8-FE3E-4E10-8881-D7A5F35F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6144-BA7B-475C-9F37-880AF277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4EDF-A8B2-4A83-B7D8-44F8802E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2733-A53A-4A01-A8E2-C7E6FA9D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65E4-FB2C-4112-9420-7E73C3F1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BA98-B18B-456E-BDD0-D4F233CC0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BFC6-789C-41F1-BC95-5EB5DD987C2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file:///Graphics/LingsongZhangFunctionalSVD.pdf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file:///Graphics/LingsongZhangSVDcurvemovie4int30m.avi" TargetMode="External"/><Relationship Id="rId2" Type="http://schemas.openxmlformats.org/officeDocument/2006/relationships/hyperlink" Target="file:///Graphics/LingsongZhangSVDMOVIEbyCOMPofSV1.avi" TargetMode="External"/><Relationship Id="rId3" Type="http://schemas.openxmlformats.org/officeDocument/2006/relationships/hyperlink" Target="file:///Graphics/LingsongZhangSVDMOVIEbyCOMPofSV2.avi" TargetMode="External"/><Relationship Id="rId4" Type="http://schemas.openxmlformats.org/officeDocument/2006/relationships/hyperlink" Target="file:///Graphics/LingsongZhangSVDMOVIEbyCOMPofSV3.avi" TargetMode="Externa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Object Orie’d Data Analysis, Last Tim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Redistribution of Energy - ANO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Data Repres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Sim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ternate PCA Compu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ual PCA    vs.    SV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centering by means is ke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1:    Dual PCA - Scatter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ooth Curve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not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ual cur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ince 1-d curves not quite po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d only in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3 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only 3 non-noise compon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nce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stant curve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ent in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ean (du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mainder is pure no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ggests wrong rotation of axes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ype of Analys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ll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D decompos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point:   subtrac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neither me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ewed as a serious compet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dvantage:  give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est Mean Square Approximation of Data Matr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s. Primal PCA:  best about col. Me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s. Dual PCA:  best about row Me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fference in means is critica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1:      SV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urves 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9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467480" cy="52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1:    SVD Curves View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l. Curves view similar to Primal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w Curves quite different (from dual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mer mean, now SV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mer PC1, now SV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very similar shapes with shifted ind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ga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ean centering is cruc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difference between PCAs and SV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1:     SV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sh-Image 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467480" cy="52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1:    SVD Mesh-Image View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ink about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composition into modes of var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stant  x  Gaussi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near x Gaussi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bic by Gaussi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adra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hows up best in image vie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y is order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ro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1:    All Prim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y is SVD mode order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ro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ell, not expec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y is need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thogo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esent in space of column cur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onl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roximat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n row Gaussi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licit orthogonalizatio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 SVD (both rows and columns) gave mixture of the po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2:    All Primal, GS Noi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rted with same column spa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erated i.i.d. Gaussians for row c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n did Graham-Schmidt Ortho-normalization (in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w spac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sual impression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mazingly similar to original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used same seeds of random # generato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2:       Raw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7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701028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are with Earlier Toy Example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7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701028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ndom Curves, all in Primal Spa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* Constant Shi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* Linea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* Quadra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b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chosen to be orthonorm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lus (small) i.i.d. Gaussian no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 = 40,  n = 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4"/>
              <p:cNvSpPr txBox="1"/>
              <p:nvPr/>
            </p:nvSpPr>
            <p:spPr>
              <a:xfrm>
                <a:off x="1295280" y="2362320"/>
                <a:ext cx="7621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6"/>
              <p:cNvSpPr txBox="1"/>
              <p:nvPr/>
            </p:nvSpPr>
            <p:spPr>
              <a:xfrm>
                <a:off x="1600200" y="2971800"/>
                <a:ext cx="2746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Rectangle 9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8"/>
              <p:cNvSpPr txBox="1"/>
              <p:nvPr/>
            </p:nvSpPr>
            <p:spPr>
              <a:xfrm>
                <a:off x="1371600" y="3505320"/>
                <a:ext cx="5652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lumn Cur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hows Expla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of wro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one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s corr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7" descr=""/>
          <p:cNvPicPr/>
          <p:nvPr/>
        </p:nvPicPr>
        <p:blipFill>
          <a:blip r:embed="rId1"/>
          <a:srcRect l="12631" t="13382" r="6315" b="9813"/>
          <a:stretch/>
        </p:blipFill>
        <p:spPr>
          <a:xfrm>
            <a:off x="4330800" y="1009800"/>
            <a:ext cx="43164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ual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w Cur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ill have big me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Scores l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ch be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7" descr=""/>
          <p:cNvPicPr/>
          <p:nvPr/>
        </p:nvPicPr>
        <p:blipFill>
          <a:blip r:embed="rId1"/>
          <a:srcRect l="12631" t="13382" r="6315" b="9813"/>
          <a:stretch/>
        </p:blipFill>
        <p:spPr>
          <a:xfrm>
            <a:off x="4330800" y="1009800"/>
            <a:ext cx="43164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2:    Dual PC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catter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7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701028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2:    Dual PCA - Scatterplo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w po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 look beautifully symmetr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ch like chemo spectrum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still only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e reason, dual mean ~ primal const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st one is pure no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2:    SV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atrix-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7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701028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2:    SVD  -  Matrix-Imag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ilar Good Eff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gain have all 4 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o not subtract mean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3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ndom Curves, all in Dual Spa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* Constant Shi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  * Linea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* Quadra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  *  Cub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chosen to be orthonorm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lus (small) i.i.d. Gaussian no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 = 40,  n = 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3:       Raw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7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701028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3:    Raw Dat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ilar Structure to e.g.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Rows and Columns trade pl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d now cubic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sually domin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as expect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3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lumn Cur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aussian No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nly 3 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ly Sc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as expect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rcRect l="12631" t="13382" r="6315" b="9813"/>
          <a:stretch/>
        </p:blipFill>
        <p:spPr>
          <a:xfrm>
            <a:off x="4330800" y="1009800"/>
            <a:ext cx="43164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1:    Raw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701028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ample 3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ual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w Cur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onents 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p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 Gram-Schmid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ince stron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gn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7" descr=""/>
          <p:cNvPicPr/>
          <p:nvPr/>
        </p:nvPicPr>
        <p:blipFill>
          <a:blip r:embed="rId1"/>
          <a:srcRect l="12631" t="13382" r="6315" b="9813"/>
          <a:stretch/>
        </p:blipFill>
        <p:spPr>
          <a:xfrm>
            <a:off x="4330800" y="1009800"/>
            <a:ext cx="43164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3:    SV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atrix-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7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701028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4:       Mystery #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7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701028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4:    SV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urves 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7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701028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4:    SV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atrix-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7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701028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4:    Mystery #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ucture:        Primal      -       D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stant           Gauss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aussian             Lin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abola            Gauss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aussian               Cub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icely revealed by Full Matrix decomposition and vie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5:       Mystery #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7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701028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5:    SV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urves 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7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701028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5:    SV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atrix-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7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701028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5:    Mystery #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ucture:        Primal      -       D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stant            Lin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abola             Cub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aussian            Gauss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aussian            Gauss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sible via either curves, or matri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1:    Raw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(Col.) curves similar to bef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m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 asymmetric (but same curv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ual (Row) curves much rougher (showing Gaussian randomnes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data were gener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lor map useful?  (same as mesh view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e richer structure than bef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 it usefu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 SVD (i.e. no mean center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way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do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an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 definition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vides most useful insights into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thers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where SVD is less informativ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e Two dimens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y is subtraction of mean is b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Mean d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rom PC d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d Mean Les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form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where SVD is less informativ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w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Picture 7" descr=""/>
          <p:cNvPicPr/>
          <p:nvPr/>
        </p:nvPicPr>
        <p:blipFill>
          <a:blip r:embed="rId1"/>
          <a:srcRect l="8921" t="21472" r="11598" b="20209"/>
          <a:stretch/>
        </p:blipFill>
        <p:spPr>
          <a:xfrm>
            <a:off x="838080" y="2590920"/>
            <a:ext cx="726768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1 mode of variation (centered at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mea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ields useful major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de of var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7" descr=""/>
          <p:cNvPicPr/>
          <p:nvPr/>
        </p:nvPicPr>
        <p:blipFill>
          <a:blip r:embed="rId1"/>
          <a:srcRect l="8921" t="21472" r="11598" b="20209"/>
          <a:stretch/>
        </p:blipFill>
        <p:spPr>
          <a:xfrm>
            <a:off x="838080" y="2286000"/>
            <a:ext cx="726768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 mode of variation (centered at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mea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formative second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de of var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Picture 7" descr=""/>
          <p:cNvPicPr/>
          <p:nvPr/>
        </p:nvPicPr>
        <p:blipFill>
          <a:blip r:embed="rId1"/>
          <a:srcRect l="8921" t="21472" r="11598" b="20209"/>
          <a:stretch/>
        </p:blipFill>
        <p:spPr>
          <a:xfrm>
            <a:off x="838080" y="2286000"/>
            <a:ext cx="726768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1 mode of variation (centered at 0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intuitive major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de of var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7" descr=""/>
          <p:cNvPicPr/>
          <p:nvPr/>
        </p:nvPicPr>
        <p:blipFill>
          <a:blip r:embed="rId1"/>
          <a:srcRect l="8921" t="21472" r="11598" b="20209"/>
          <a:stretch/>
        </p:blipFill>
        <p:spPr>
          <a:xfrm>
            <a:off x="838080" y="2286000"/>
            <a:ext cx="726768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2 mode of variation (centered at 0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intuitive second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de of var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7" descr=""/>
          <p:cNvPicPr/>
          <p:nvPr/>
        </p:nvPicPr>
        <p:blipFill>
          <a:blip r:embed="rId1"/>
          <a:srcRect l="8921" t="21472" r="11598" b="20209"/>
          <a:stretch/>
        </p:blipFill>
        <p:spPr>
          <a:xfrm>
            <a:off x="838080" y="2286000"/>
            <a:ext cx="726768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mmary of SV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es give a decom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sum of two pieces i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not good insights about data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nce center point of analysis is far from center point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mean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ongly influence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he impression of var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ybe better to keep these separate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ttom line 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PCA   vs.   SVD   vs.   Dual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se ar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comparabl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ach has situations where it 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d where it 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erally should consider 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d choose on basis of insigh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e work of Lingsong Zhang on th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59ee"/>
            </a:gs>
            <a:gs pos="50000">
              <a:srgbClr val="ffffff"/>
            </a:gs>
            <a:gs pos="100000">
              <a:srgbClr val="5259e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al Data:  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alysis by: Lingsong Zha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hang, L., (2006), "SVD movies and plots for Singular Value Decomposition and its Visualization", University of North Carolina at Chapel Hill, available a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unc.edu/~lszhang/research/network/SVDmov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lumn Cur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9" descr=""/>
          <p:cNvPicPr/>
          <p:nvPr/>
        </p:nvPicPr>
        <p:blipFill>
          <a:blip r:embed="rId1"/>
          <a:srcRect l="12631" t="13382" r="6315" b="9813"/>
          <a:stretch/>
        </p:blipFill>
        <p:spPr>
          <a:xfrm>
            <a:off x="4330800" y="1009800"/>
            <a:ext cx="43164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59ee"/>
            </a:gs>
            <a:gs pos="50000">
              <a:srgbClr val="ffffff"/>
            </a:gs>
            <a:gs pos="100000">
              <a:srgbClr val="5259e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al Data:  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slides from a talk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ea typeface="Arial Unicode MS"/>
                <a:hlinkClick r:id="rId1"/>
              </a:rPr>
              <a:t>LingsongZhangFunctionalSVD.pd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Main Point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Different approaches all can be “best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Show different aspects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Generalized SCREE plo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outliers” are interes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59ee"/>
            </a:gs>
            <a:gs pos="50000">
              <a:srgbClr val="ffffff"/>
            </a:gs>
            <a:gs pos="100000">
              <a:srgbClr val="5259e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al Data:  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Visual Point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Rotations can show useful asp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Mov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ea typeface="Arial Unicode MS"/>
                <a:hlinkClick r:id="rId1"/>
              </a:rPr>
              <a:t>LingsongZhangSVDcurvemovie4int30m.a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ea typeface="Arial Unicode MS"/>
                <a:hlinkClick r:id="rId2"/>
              </a:rPr>
              <a:t>LingsongZhangSVDMOVIEbyCOMPofSV1.a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ea typeface="Arial Unicode MS"/>
                <a:hlinkClick r:id="rId3"/>
              </a:rPr>
              <a:t>LingsongZhangSVDMOVIEbyCOMPofSV2.a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ea typeface="Arial Unicode MS"/>
                <a:hlinkClick r:id="rId4"/>
              </a:rPr>
              <a:t>LingsongZhangSVDMOVIEbyCOMPofSV3.a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ctors vs.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overall structu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Object Spac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Feature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rves (functions)       Ve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ion 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git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allel Coordin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ion 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sis Repres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Line 4"/>
          <p:cNvSpPr/>
          <p:nvPr/>
        </p:nvSpPr>
        <p:spPr>
          <a:xfrm>
            <a:off x="2438280" y="4419720"/>
            <a:ext cx="403884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5"/>
          <p:cNvSpPr/>
          <p:nvPr/>
        </p:nvSpPr>
        <p:spPr>
          <a:xfrm flipH="1">
            <a:off x="2437920" y="4952880"/>
            <a:ext cx="403884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Line 6"/>
          <p:cNvSpPr/>
          <p:nvPr/>
        </p:nvSpPr>
        <p:spPr>
          <a:xfrm>
            <a:off x="2209680" y="6095880"/>
            <a:ext cx="4419720" cy="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ctors vs.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ion 1:    Digitiz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iven a function        ,  define vect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re                  is a suitabl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ri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equally space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7"/>
              <p:cNvSpPr txBox="1"/>
              <p:nvPr/>
            </p:nvSpPr>
            <p:spPr>
              <a:xfrm>
                <a:off x="3581280" y="1828800"/>
                <a:ext cx="8384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9"/>
              <p:cNvSpPr txBox="1"/>
              <p:nvPr/>
            </p:nvSpPr>
            <p:spPr>
              <a:xfrm>
                <a:off x="7265880" y="1379520"/>
                <a:ext cx="1036800" cy="13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2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11"/>
              <p:cNvSpPr txBox="1"/>
              <p:nvPr/>
            </p:nvSpPr>
            <p:spPr>
              <a:xfrm>
                <a:off x="1981080" y="3505320"/>
                <a:ext cx="167652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4" name="Rectangle 1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13"/>
              <p:cNvSpPr txBox="1"/>
              <p:nvPr/>
            </p:nvSpPr>
            <p:spPr>
              <a:xfrm>
                <a:off x="4419720" y="4375080"/>
                <a:ext cx="41907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ctors vs.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ion 1:    Parallel Coordinat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iven a vector        ,  define a 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re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nearly interpolat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 the do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posed a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igh Dimensional Visualization Metho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y Inselberg (1985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5"/>
              <p:cNvSpPr txBox="1"/>
              <p:nvPr/>
            </p:nvSpPr>
            <p:spPr>
              <a:xfrm>
                <a:off x="7696080" y="2362320"/>
                <a:ext cx="9892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Object 7"/>
              <p:cNvSpPr txBox="1"/>
              <p:nvPr/>
            </p:nvSpPr>
            <p:spPr>
              <a:xfrm>
                <a:off x="3200400" y="1752480"/>
                <a:ext cx="830160" cy="17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2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11"/>
              <p:cNvSpPr txBox="1"/>
              <p:nvPr/>
            </p:nvSpPr>
            <p:spPr>
              <a:xfrm>
                <a:off x="1827360" y="3505320"/>
                <a:ext cx="4284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j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ctors vs.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allel Coordinat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iven        ,  defi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w c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scale argu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 get function on [0,1]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valuated at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qually spaced gr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7"/>
              <p:cNvSpPr txBox="1"/>
              <p:nvPr/>
            </p:nvSpPr>
            <p:spPr>
              <a:xfrm>
                <a:off x="1676520" y="1676520"/>
                <a:ext cx="830160" cy="17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0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10"/>
              <p:cNvSpPr txBox="1"/>
              <p:nvPr/>
            </p:nvSpPr>
            <p:spPr>
              <a:xfrm>
                <a:off x="4267080" y="2286000"/>
                <a:ext cx="428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j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3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11"/>
              <p:cNvSpPr txBox="1"/>
              <p:nvPr/>
            </p:nvSpPr>
            <p:spPr>
              <a:xfrm>
                <a:off x="5943600" y="3657600"/>
                <a:ext cx="259092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ctors vs.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ridge between vectors &amp; func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ctors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Func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metry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ollows from convergence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ner Produ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imann Sum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9"/>
              <p:cNvSpPr txBox="1"/>
              <p:nvPr/>
            </p:nvSpPr>
            <p:spPr>
              <a:xfrm>
                <a:off x="228600" y="4724280"/>
                <a:ext cx="868680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t xml:space="preserve">≈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12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11"/>
              <p:cNvSpPr txBox="1"/>
              <p:nvPr/>
            </p:nvSpPr>
            <p:spPr>
              <a:xfrm>
                <a:off x="7543800" y="1066680"/>
                <a:ext cx="7365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d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ctors vs.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less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K to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ink about fun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actuall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k with ve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me, there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little dif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there is a statistical theory, and mathematical statistical literature on th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rt with Ramsay &amp; Silverman  (2005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9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ctors vs.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overall structu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Object Spac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Feature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rves (functions)       Ve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ion 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git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allel Coordin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ion 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sis Repres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Line 4"/>
          <p:cNvSpPr/>
          <p:nvPr/>
        </p:nvSpPr>
        <p:spPr>
          <a:xfrm>
            <a:off x="2438280" y="4419720"/>
            <a:ext cx="403884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5"/>
          <p:cNvSpPr/>
          <p:nvPr/>
        </p:nvSpPr>
        <p:spPr>
          <a:xfrm flipH="1">
            <a:off x="2437920" y="4952880"/>
            <a:ext cx="403884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6"/>
          <p:cNvSpPr/>
          <p:nvPr/>
        </p:nvSpPr>
        <p:spPr>
          <a:xfrm>
            <a:off x="2209680" y="6095880"/>
            <a:ext cx="4419720" cy="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ctors vs.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ion 2:    Basis Representa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iven an orthonormal ba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in function spa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ur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-sp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vel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resent functions 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5"/>
              <p:cNvSpPr txBox="1"/>
              <p:nvPr/>
            </p:nvSpPr>
            <p:spPr>
              <a:xfrm>
                <a:off x="5410080" y="5181480"/>
                <a:ext cx="30304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30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Object 9"/>
              <p:cNvSpPr txBox="1"/>
              <p:nvPr/>
            </p:nvSpPr>
            <p:spPr>
              <a:xfrm>
                <a:off x="5867280" y="1676520"/>
                <a:ext cx="28195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3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1:    Primal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pected to recover increasing po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did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 happ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though can see the po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 (order??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 has qu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c (since only n = 20??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ores (pro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s) very rand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wer Spectrum shows 4 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affecte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y subtracting Primal Mea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ctors vs.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ion 2:    Basis Representa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resent functions 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ridge between discrete and continuo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Object 5"/>
              <p:cNvSpPr txBox="1"/>
              <p:nvPr/>
            </p:nvSpPr>
            <p:spPr>
              <a:xfrm>
                <a:off x="5410080" y="1752480"/>
                <a:ext cx="28576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38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8"/>
              <p:cNvSpPr txBox="1"/>
              <p:nvPr/>
            </p:nvSpPr>
            <p:spPr>
              <a:xfrm>
                <a:off x="2819520" y="3886200"/>
                <a:ext cx="4190760" cy="19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r>
                      <m:t xml:space="preserve">↔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1" name="Rectangle 9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ctors vs.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nection 2:    Basis Representa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resent functions 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ite dimensional approxim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gain there is mathematical statistical theory, based on                  (same ref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5"/>
              <p:cNvSpPr txBox="1"/>
              <p:nvPr/>
            </p:nvSpPr>
            <p:spPr>
              <a:xfrm>
                <a:off x="5334120" y="1676520"/>
                <a:ext cx="285732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46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Object 12"/>
              <p:cNvSpPr txBox="1"/>
              <p:nvPr/>
            </p:nvSpPr>
            <p:spPr>
              <a:xfrm>
                <a:off x="3581280" y="3581280"/>
                <a:ext cx="289584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50" name="Rectangle 1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Object 14"/>
              <p:cNvSpPr txBox="1"/>
              <p:nvPr/>
            </p:nvSpPr>
            <p:spPr>
              <a:xfrm>
                <a:off x="4267080" y="5410080"/>
                <a:ext cx="7336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k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ctors vs.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eat Main less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K to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ink about fun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actuall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k with ve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me, there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little dif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but only personal tast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ual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w Cur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rcRect l="12631" t="13382" r="6315" b="9813"/>
          <a:stretch/>
        </p:blipFill>
        <p:spPr>
          <a:xfrm>
            <a:off x="4330800" y="1009800"/>
            <a:ext cx="43164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1:    Dual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rves all very wiggly (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ndom nois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 much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igg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  54% of Total Va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ores hav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ong smooth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reflecting ordered primal e.v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recall primal e.v.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dual scor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wer Spectrum shows 3 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riven by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btraction Dual Mea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ual mean difference is crit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-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1:    Dual PC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catter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701028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1:38:43Z</dcterms:created>
  <dc:creator>Preferred Customer</dc:creator>
  <dc:description/>
  <dc:language>en-US</dc:language>
  <cp:lastModifiedBy>marron</cp:lastModifiedBy>
  <dcterms:modified xsi:type="dcterms:W3CDTF">2007-09-08T21:13:48Z</dcterms:modified>
  <cp:revision>362</cp:revision>
  <dc:subject/>
  <dc:title>Title</dc:title>
</cp:coreProperties>
</file>