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70EB-E8EA-4067-BBC0-A65B10A78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3F10-E1D2-45D0-8E9E-076C8479C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072A-417F-4921-8496-4E77FEEC57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1104-B370-482B-B855-B73AE2922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90D7-616F-4B18-BFB7-D6911423E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9CBC-4288-4299-868C-9FF1D73084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EAF-8419-48EA-B30B-64BF651A55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24B9-D53D-4AF6-8A0E-9C05CEB00F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272-1E05-45A8-BC3B-729B4B8AFD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7C43-2A39-4F75-B0C9-B54AAEF39B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D575-67E6-4DB5-915D-37160C9588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450F-20CF-44B3-84E7-E623CD7863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42A9-7CF7-4222-85E8-B051098506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FC30-D9BA-4B89-885A-AF06B91AB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B416-D7B6-4961-B720-9671F775A0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477B-57F0-4C2E-BC3E-3E90A78CF1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CA3E-CBBF-40AD-B9A8-33F262263F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1BE5-E4AC-4B94-9605-99D5BCBA6A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E910-FEE8-4335-BEF4-F7613D6E0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0C5-DDDC-4A9E-B527-363CF73919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CF70-9AE0-4E31-976A-E967FFD182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D96-D0FC-41C1-97DB-4F72CEF356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C89C-CC88-45B5-92C5-137E162990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A9F0-AEFB-436D-A37D-79BEE15D1E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6366-CAB6-4F86-85B3-EA09404E3B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348-1ADC-4BA1-95FE-4607D953F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A0AA-1D59-4AA2-8E3E-C71E8C2F54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4774-3A95-426B-A89E-051F430EE6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4FF-B0DD-453D-8CAB-FA6E5AFFEC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A94F-45E7-4877-9FA8-95312A5C8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4554-AE21-475F-9A74-B85BBF9322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7468-1272-4417-859F-2211A3CACA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F2F-C827-48AE-8FF2-FB7CC22C7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405F-76CC-4055-BA73-09CC04A52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D86A-B081-44C3-BC1F-7DCFB3390D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4A56-5C2A-494B-AE3F-3C4D56DC70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AA4F-D492-4DA9-938E-64308ED0C1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2870-4E40-469F-83AA-9678AA7817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C77E-8418-4360-8142-41F78A529F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BEF4-C93E-413D-A26C-02D2C37062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5AE7-E77E-4862-9FBB-D310233D66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3F60-0151-4A06-8780-296C17EC28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8EF1-9FB4-49C1-9051-7B9F30BDC2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5A88-47D4-41C1-9858-36DAD8BA5E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702A-A118-4B47-AE66-8DBF1EEF12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B930-AA83-4CCB-A25D-E68A4FDDE0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9A7C-5E9F-49E4-A121-709D4ED0B6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EAE-12E0-4879-A2E2-3177AF96E9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9B02-BACA-4750-8B69-FE51C0FA0A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46C8-1DE9-4DE2-A76A-A9BBABFF15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0B8C-68B1-4CC9-BC50-73210D8512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98AD-012E-4356-8985-4C90A7E97D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AC3C-5020-45FD-BD4F-73618AFA4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44D-A55F-4A5A-B1BF-0FBA95EE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F69-2077-4B27-A6F5-00B7ACD6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E76-5805-427A-8B82-CA913AFC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1BD-C04D-43D4-A1E1-ED8619DC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8771-1A47-4561-8355-9EDB3B9C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9BC6-D9CD-4113-BFFC-BC4364E0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430F-4271-417D-9138-3C8E5B14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5645-EBEF-4FBA-BC95-85230C77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46A2-460B-4465-89DF-1FAE07E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0A1F-7467-428A-A68E-091F9C79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6EF3-6F7E-4342-8855-C39717F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F72-E4A8-4A89-9D27-A8C085F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F1EC-6DD1-40A9-82EF-E367E3EB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5A0-F0F6-444A-8D04-9B3F93F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E22E-53B3-42A4-8DB1-D3D18170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E0DD-5472-430C-9346-7B76285E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CCF-A46F-4466-84B6-93D091DA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928A-2795-4DDD-BBBB-E06705B7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493B-F0A4-45F0-A3C5-1DF05610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2FBD-796C-4986-8CE5-66720D80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518A-1EA4-452D-B34B-F6A99AFA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F2C2-F4B4-4348-AF65-7F44060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141-51E9-4980-9BA5-441387BE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EA8A-FBE0-4051-8A3B-64F2B6ED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4A2A-D488-4AD2-A8D0-D880EDD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661F-290A-4105-AA3F-F228659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83F3-03C9-494A-985B-1ED6EE4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A00D-15EF-40B3-8998-3B49957D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0361-252A-423D-AE3E-D6B5762E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1303-37E1-40FC-9665-A7B5A69F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241-92DC-4776-B97D-DB0056C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52D-178C-482A-84F3-931B9758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EF0-D7C2-420C-B33B-D5A7C1F7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C25-9656-493C-9C62-38160D3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212-8B44-4E4E-ABBD-A252D7C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B40-6327-488E-924C-026FD3C5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1257-2495-4C65-B780-0828FC649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2CB8-5BF7-4AA6-909F-2425F854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0C11-5081-4E0D-BB9D-641A139F8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vs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ual PCA     (cols vs. row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vs. SVD    (Cen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face &amp; Matrix (color) 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ll were usefu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twork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ed SCREE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n orthonormal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 function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-sp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ve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5410080" y="5181480"/>
                <a:ext cx="3030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5867280" y="1676520"/>
                <a:ext cx="28195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dge between discrete and continu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5410080" y="1752480"/>
                <a:ext cx="28576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19520" y="3886200"/>
                <a:ext cx="419076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ite dimensional approxim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there is mathematical statistical theory, based on                  (same ref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5334120" y="1676520"/>
                <a:ext cx="28573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2"/>
              <p:cNvSpPr txBox="1"/>
              <p:nvPr/>
            </p:nvSpPr>
            <p:spPr>
              <a:xfrm>
                <a:off x="3581280" y="3581280"/>
                <a:ext cx="2895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4"/>
              <p:cNvSpPr txBox="1"/>
              <p:nvPr/>
            </p:nvSpPr>
            <p:spPr>
              <a:xfrm>
                <a:off x="4267080" y="5410080"/>
                <a:ext cx="733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eat Main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ctual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me,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ittle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only personal tas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Data Set:    Corpus Callossum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etween right and left halves of the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a vertical slice MR image of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gm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ie. found bou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pe is resulting closed cu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sample from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= 7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 vector of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80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coef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s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oundary represent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losed curve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81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th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Sean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CCFrawAlls3.mpg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73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581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sho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olution a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gen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s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tom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Data Sub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izophre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CCFpcaSCs3PC1.mpg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1907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Summary    (Corpus Callossum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b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s studied later (sub pop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outlier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it in the dat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e 2:    could delete &amp; rep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study outliers in more deta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time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 identif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CCFrawAlls3num.mpg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31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581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sho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olution a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igen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s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tom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CCFpcaSCs3PC2.mpg" descr=""/>
          <p:cNvPicPr/>
          <p:nvPr/>
        </p:nvPicPr>
        <p:blipFill>
          <a:blip r:embed="rId1"/>
          <a:stretch/>
        </p:blipFill>
        <p:spPr>
          <a:xfrm>
            <a:off x="4267080" y="1079640"/>
            <a:ext cx="4170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“Functional Data Analy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philosophical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Useful?) ways to think about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sonal opin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Summary    (Corpus Callossum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tation of right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arpe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eft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eft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re correlated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ndependent of PC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581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 vs. f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CCFpcaSCs3PC3.mpg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43434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to 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3 m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CCFrawAlls3num.mpg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63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r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okes im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CCMsciznormRaw.avi" descr=""/>
          <p:cNvPicPr/>
          <p:nvPr/>
        </p:nvPicPr>
        <p:blipFill>
          <a:blip r:embed="rId1"/>
          <a:stretch/>
        </p:blipFill>
        <p:spPr>
          <a:xfrm>
            <a:off x="3178080" y="1905120"/>
            <a:ext cx="566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Summary      (medial represen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same data as above Fourier boundary r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y look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different type of fitting was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, worst outlier was de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of 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124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as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with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 fatt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CCMsciznormPC1.avi" descr=""/>
          <p:cNvPicPr/>
          <p:nvPr/>
        </p:nvPicPr>
        <p:blipFill>
          <a:blip r:embed="rId1"/>
          <a:stretch/>
        </p:blipFill>
        <p:spPr>
          <a:xfrm>
            <a:off x="3452760" y="1828800"/>
            <a:ext cx="545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tation of 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 to PC2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r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CCMsciznormPC2.avi" descr=""/>
          <p:cNvPicPr/>
          <p:nvPr/>
        </p:nvPicPr>
        <p:blipFill>
          <a:blip r:embed="rId1"/>
          <a:stretch/>
        </p:blipFill>
        <p:spPr>
          <a:xfrm>
            <a:off x="3468600" y="2286000"/>
            <a:ext cx="549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ortion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of Four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CMsciznormPC3.avi" descr=""/>
          <p:cNvPicPr/>
          <p:nvPr/>
        </p:nvPicPr>
        <p:blipFill>
          <a:blip r:embed="rId1"/>
          <a:stretch/>
        </p:blipFill>
        <p:spPr>
          <a:xfrm>
            <a:off x="3260880" y="1981080"/>
            <a:ext cx="5608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 Summary      (medial represen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a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ortion of curv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tim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above Fourier boundary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on: different r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 focus on different aspect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not just differences in f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nstead on features that are emphas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cho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import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4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ttening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e to Four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CCMsciznormPC4.avi" descr=""/>
          <p:cNvPicPr/>
          <p:nvPr/>
        </p:nvPicPr>
        <p:blipFill>
          <a:blip r:embed="rId1"/>
          <a:stretch/>
        </p:blipFill>
        <p:spPr>
          <a:xfrm>
            <a:off x="3457440" y="2209680"/>
            <a:ext cx="5288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verall stru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(functions)      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g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209680" y="4419720"/>
            <a:ext cx="42674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 flipH="1">
            <a:off x="2133360" y="4952880"/>
            <a:ext cx="43434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981080" y="6095880"/>
            <a:ext cx="464832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4 Summary      (medial represent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like fattening and thi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similar to Fourier boundary P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view again be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lo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important property of M-r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h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581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Comparis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PC4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r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CCFpcaSCs3PC3.mpg" descr=""/>
          <p:cNvPicPr/>
          <p:nvPr/>
        </p:nvPicPr>
        <p:blipFill>
          <a:blip r:embed="rId1"/>
          <a:stretch/>
        </p:blipFill>
        <p:spPr>
          <a:xfrm>
            <a:off x="4197240" y="990720"/>
            <a:ext cx="42609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:   Outer surface of the e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r of Vision:    Curvature of Cor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quence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s:  Images on the unit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t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Thanks to K. L. Cohen, N. Tripol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 Ophthalm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NORMLWR.MPG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470376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:    Locantore, et al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ation (generally true for imag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challenging than for cur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overl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tead view sequence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to s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pulation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an for cur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PCA type decomposition of 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import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e of im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n the unit disk, not usual rectang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ong radii of circ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irection with most effect on vi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tter (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curv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ler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 curv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ature vec. is co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of Zernike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 basi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~ Fourier basis, on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veniently represented in polar co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Representation   -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rnike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xels as features is large and waste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al to find more efficient 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ar Coordinate Tensor Produc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asis (angul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Jacobi (radial, to avoid singulari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wiegerling, Greivenkamp &amp; Miller (199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rn &amp; Wolf (1980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:  PCA can find (often insightfu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of greatest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problem:  display of result (no overlays for im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:  show movi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ching along the direction 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 PC1 mov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NORM100.MPG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266724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Summ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mage):   mild v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 astig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nown p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tructure cal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cu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 cu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s to first optometric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9% of vari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, in Mean Resid. SS s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ast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&amp;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ast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etween ast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 and cu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 Apparent Gaussian d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    Digit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function        ,  define vect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is a suitabl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i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equally spac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3657600" y="1792440"/>
                <a:ext cx="838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7265880" y="1379520"/>
                <a:ext cx="10368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1981080" y="3429000"/>
                <a:ext cx="1676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4419720" y="4375080"/>
                <a:ext cx="4190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:  same as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centerpoint of point clo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 study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 from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s along direction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s terrible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NORM200.MPG" descr=""/>
          <p:cNvPicPr/>
          <p:nvPr/>
        </p:nvPicPr>
        <p:blipFill>
          <a:blip r:embed="rId1"/>
          <a:stretch/>
        </p:blipFill>
        <p:spPr>
          <a:xfrm>
            <a:off x="3886200" y="1015920"/>
            <a:ext cx="26668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Mov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made clear in Scores Plot (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 outlying data object drives PC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known problem with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finds direction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 var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sense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ily dominated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 large observ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Single Outlier Driving P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1"/>
          <a:stretch/>
        </p:blipFill>
        <p:spPr>
          <a:xfrm>
            <a:off x="914400" y="1657440"/>
            <a:ext cx="6934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Affected by Outli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bad is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1:  Statistician:     Arrggghh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 ar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arbitrary and meaningless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es 4% of MR SS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Affected by Outli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bad is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2:  Ophthalmologist:   No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ge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see raw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tifact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ght ref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gathe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yelid blo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and drying eff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utin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ly ign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ose any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nd interesting (&amp; well known)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eper superior vs steeper inferi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nea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the outli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NORMLWR.MPG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470376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 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NORM300.MPG" descr=""/>
          <p:cNvPicPr/>
          <p:nvPr/>
        </p:nvPicPr>
        <p:blipFill>
          <a:blip r:embed="rId1"/>
          <a:stretch/>
        </p:blipFill>
        <p:spPr>
          <a:xfrm>
            <a:off x="3429000" y="1015920"/>
            <a:ext cx="25909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3 Movie  (ophthalmolog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view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ge Effect Outlier is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focusing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reg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hows changing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ast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 (3% of MR 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vertical) v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st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horizont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tigmatism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of rest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st the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known folklor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4 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NORM400.MPG" descr=""/>
          <p:cNvPicPr/>
          <p:nvPr/>
        </p:nvPicPr>
        <p:blipFill>
          <a:blip r:embed="rId1"/>
          <a:stretch/>
        </p:blipFill>
        <p:spPr>
          <a:xfrm>
            <a:off x="3886200" y="1015920"/>
            <a:ext cx="26668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    Parallel Coordin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vector         ,  define a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ly interpolat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the d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Dimensional Visualization Metho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Inselberg (198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7696080" y="2362320"/>
                <a:ext cx="989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3352680" y="1752480"/>
                <a:ext cx="83052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1"/>
              <p:cNvSpPr txBox="1"/>
              <p:nvPr/>
            </p:nvSpPr>
            <p:spPr>
              <a:xfrm>
                <a:off x="1827360" y="3505320"/>
                <a:ext cx="4284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inue with ophthalmologists 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4 movie version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direction of astigmatism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(i.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effect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to interpr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, since only 1.7% of MR 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stantially less than for PC2 &amp; PC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hthalmologists View 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Impressions / 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decomposition of population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insight into population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f Cornea Dat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return to Statistic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an we handle these outli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 though not fatal here, can be for other 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Simp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 2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10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0292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        ,  def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cale arg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get function on [0,1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aluated a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ly spaced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1752480" y="1676520"/>
                <a:ext cx="830520" cy="17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4267080" y="2286000"/>
                <a:ext cx="428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5943600" y="3657600"/>
                <a:ext cx="2590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dge between vectors &amp;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Fun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metr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llows from convergenc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imann Su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228600" y="4724280"/>
                <a:ext cx="8686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≈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5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7543800" y="1066680"/>
                <a:ext cx="736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ctual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me,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ittle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re is a statistical theory, and mathematical statistical literature on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 with Ramsay &amp; Silverman  (200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verall stru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(functions)      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g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2209680" y="4419720"/>
            <a:ext cx="42674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H="1">
            <a:off x="2133360" y="4952880"/>
            <a:ext cx="43434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981080" y="6095880"/>
            <a:ext cx="464832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09-13T15:44:05Z</dcterms:modified>
  <cp:revision>379</cp:revision>
  <dc:subject/>
  <dc:title>Title</dc:title>
</cp:coreProperties>
</file>