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E48FC-7EB6-4E92-9CF3-F8BE610F6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8DF60-A54D-4E63-9F22-008C24EFFCE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D1897-DA30-4CEF-B180-93A5C717838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F5087-904F-4361-A395-17AF309E6F4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4EA73-4648-4FE9-9D3C-6AB89DCB9D0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BA380-32BD-454A-A75A-5E0E528717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6563E-86F7-4672-AAC6-D657B8F535B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37E6-A132-4A17-B247-0AC8594050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03D6B-32A9-4C5B-B95D-FF39BC0D059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C8306-B710-476B-BBF5-177498487BF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2F569-36BA-484C-98D7-2447A6FCB43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02159-54E3-4DFB-B532-68371F50D6C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2DF30-A72C-4BCA-A94E-B6E7D83A4E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9B0EE-19D7-4ED1-AC29-F19C034840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A0562-DA56-473A-8BCE-A8E780F3741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3FD32-3492-4826-A9CB-FF8B87172B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D63DD-388C-43C5-A218-30CCB5558D9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2FD27-FD49-4846-9254-9D9EFE7BBE4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7BC6E-308F-4CC7-9178-F5F1EA89262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4093B-2448-45E2-B0A7-38C58FA6B2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D7615-E07E-42A9-AD93-0ED3DF4A10A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14761-DE53-46E7-9051-A6BC641B3EA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78F8C-33C6-4581-8CA8-6BFBA3F825A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1CFB2-EA5D-4CB0-BF64-E2E1BD7837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AF0BE-A72A-425A-96DF-F29B7DCFDD2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58B1C-DC55-4054-B843-9A02D3D984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819BA-3AB9-4448-9BA4-2D8E8DD1BBE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82694-8ED9-45A2-9892-CCD82E3793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81472-5D68-47EA-B4CD-619238BB125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DE888-41C6-4437-AF5C-579698DB67D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CD234-0AC4-404A-93CB-82A5673027B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5BF14-84CF-44AB-83BD-041ADD8A889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882C5-20B8-487A-A8DA-2C100276E0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EB8B3-6E5C-4F06-9E17-95F928CE96D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3414E-BDDA-4EB1-8117-7E6697C2712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5420A-676C-4686-9BA6-FC279E2BF9D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9C087-9B7E-45FD-AFBE-98EF8DDE1D3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C7B07-EF1D-468B-954E-8E53A987845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ABC13-1CE8-4706-B11B-81A72784F27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46BC7-C225-4A42-A353-5F89DFDBE6E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7170D-74E4-4CBD-BC1F-657C36D099E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A912A-FBA3-4A99-BCF1-BA8488E6381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29BD1-FD92-4175-BB72-63AB5B49E7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59663-7D92-4380-9F55-44A7BD2AA32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47D0C-94AF-46DF-A281-298484C6957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FD1D7-F6A0-467D-ACAD-B8D0E74B20F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48DEC-D082-4570-9608-BFCE5F3F9F2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5CB6B-0DC4-437B-8FA5-DB590521679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6966F-A1C5-483C-964B-79AA7711DA8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971BF-1012-4096-9A73-3CF6031B900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0CC4F-967B-42EE-9C89-C885BB1DB91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2EBFA-0610-4A4E-9256-E50EDDC8A6C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2E0B5-7F4C-4BB2-8B95-53610851734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73C00-DB5E-40F2-BAB5-D16AE13CD6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FB7BD-8555-493A-933B-3A5248316CC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823F5-4FB2-4BF7-86D2-70001A30C2D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4CDBB-6840-43E5-93F3-DF37D76190B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421B-D735-4BF0-BF34-D60CC978A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6937-649F-41AC-8A5A-1FE1FE045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93B6-E082-4CBC-8CB7-A9649563F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1806-DDBD-4845-942D-83DCB63C9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0D8F-78DC-42C1-9E70-4FA98927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6049-68F4-445A-BA63-94E9825D6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8841-FA82-455D-8E4F-23C2D3C14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833F-D62B-4FDF-9875-69B973145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8445-D16F-4BBF-A4C2-4A7425572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4DDD-2C3F-4A48-8345-E9DAA337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89D9-B668-49D5-8DA3-0B41BE82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65F7-4B8C-444A-A87F-E006228A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12614-115D-4A31-BF81-3E57748112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Object Orie’d Data Analysis, Last Tim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ual PCA    vs.    SV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ctr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not comparabl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ctors (discrete)  vs.  Functions (cont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for shap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Corpus Callossum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urier Boundary Represent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l Represent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of Cornea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2 Movi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an:  same as abo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mmon centerpoint of point clou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re studyin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rections from me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ages along direction vecto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ooks terrible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y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of Cornea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2 Movi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NORM200.MPG" descr=""/>
          <p:cNvPicPr/>
          <p:nvPr/>
        </p:nvPicPr>
        <p:blipFill>
          <a:blip r:embed="rId1"/>
          <a:stretch/>
        </p:blipFill>
        <p:spPr>
          <a:xfrm>
            <a:off x="3886200" y="1015920"/>
            <a:ext cx="2666880" cy="56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of Cornea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2 Movi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ason made clear in Scores Plot (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blu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ngle outlying data object drives PC di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 known problem with P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all finds direction with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x vari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 sense of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ari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asily dominated by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ngle large observat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of Cornea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:  Single Outlier Driving P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9" descr=""/>
          <p:cNvPicPr/>
          <p:nvPr/>
        </p:nvPicPr>
        <p:blipFill>
          <a:blip r:embed="rId1"/>
          <a:stretch/>
        </p:blipFill>
        <p:spPr>
          <a:xfrm>
            <a:off x="914400" y="1657440"/>
            <a:ext cx="69343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of Cornea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2 Affected by Outlie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ow bad is this proble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iew 1:  Statistician:     Arrggghh!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liers are very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ngero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n give arbitrary and meaningless di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at does 4% of MR SS mean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of Cornea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2 Affected by Outlie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ow bad is this proble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iew 2:  Ophthalmologist:   No Probl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riven b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dge effec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(see raw da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rtifact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ight refl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ata gather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yelid block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and drying effec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utinel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isually igno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those any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und interesting (&amp; well known) di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eeper superior vs steeper inferio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rnea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rnea Data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aw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ich 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 the outli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ill say mor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ter 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NORMLWR.MPG" descr=""/>
          <p:cNvPicPr/>
          <p:nvPr/>
        </p:nvPicPr>
        <p:blipFill>
          <a:blip r:embed="rId1"/>
          <a:stretch/>
        </p:blipFill>
        <p:spPr>
          <a:xfrm>
            <a:off x="3733920" y="1066680"/>
            <a:ext cx="4703760" cy="51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of Cornea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3 Mov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NORM300.MPG" descr=""/>
          <p:cNvPicPr/>
          <p:nvPr/>
        </p:nvPicPr>
        <p:blipFill>
          <a:blip r:embed="rId1"/>
          <a:stretch/>
        </p:blipFill>
        <p:spPr>
          <a:xfrm>
            <a:off x="3429000" y="1015920"/>
            <a:ext cx="2590920" cy="54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of Cornea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3 Movie  (ophthalmologi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 view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dge Effect Outlier is pres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focusing 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entral reg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hows changing di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 of asti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 (3% of MR S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ith the ru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(vertical) vs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gainst the ru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(horizonta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st astigmatism 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ith the ru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st of rest 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gainst the ru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known folklore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of Cornea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4 mov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NORM400.MPG" descr=""/>
          <p:cNvPicPr/>
          <p:nvPr/>
        </p:nvPicPr>
        <p:blipFill>
          <a:blip r:embed="rId1"/>
          <a:stretch/>
        </p:blipFill>
        <p:spPr>
          <a:xfrm>
            <a:off x="3886200" y="1015920"/>
            <a:ext cx="2666880" cy="56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rnea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rnea:   Outer surface of the ey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river of Vision:    Curvature of Corn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quence of Im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bjects:  Images on the unit dis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urvature a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eat Ma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pecial Thanks to K. L. Cohen, N. Tripoli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 Ophthalm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of Cornea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tinue with ophthalmologists vie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4 movie version: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ther direction of astigmatism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ocation (i.e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gist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 effect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arder to interpre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K, since only 1.7% of MR 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bstantially less than for PC2 &amp; PC3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of Cornea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phthalmologists View  (cont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verall Impressions / Conclus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seful decomposition of population var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seful insight into population stru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of Cornea Data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w return to Statistici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 View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ow can we handle these outlier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ven though not fatal here, can be for other 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all Simpl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in 2d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10" descr=""/>
          <p:cNvPicPr/>
          <p:nvPr/>
        </p:nvPicPr>
        <p:blipFill>
          <a:blip r:embed="rId1"/>
          <a:stretch/>
        </p:blipFill>
        <p:spPr>
          <a:xfrm>
            <a:off x="3809880" y="3124080"/>
            <a:ext cx="5029200" cy="35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liers in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eper Toy Examp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16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391520" cy="52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liers in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eper Toy Examp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y is that an outli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ever leaves range of other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Euclidean distance to other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ry la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lative to other dista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so major difference in terms of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ha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d even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mooth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ortant less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ny direction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9"/>
              <p:cNvSpPr txBox="1"/>
              <p:nvPr/>
            </p:nvSpPr>
            <p:spPr>
              <a:xfrm>
                <a:off x="2743200" y="5867280"/>
                <a:ext cx="36360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2" name="Rectangle 12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11"/>
              <p:cNvSpPr txBox="1"/>
              <p:nvPr/>
            </p:nvSpPr>
            <p:spPr>
              <a:xfrm>
                <a:off x="6705720" y="5791320"/>
                <a:ext cx="6094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liers in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1981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ch lik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arli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arabol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xam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wi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li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rown 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12" descr=""/>
          <p:cNvPicPr/>
          <p:nvPr/>
        </p:nvPicPr>
        <p:blipFill>
          <a:blip r:embed="rId1"/>
          <a:srcRect l="10104" t="11598" r="6315" b="0"/>
          <a:stretch/>
        </p:blipFill>
        <p:spPr>
          <a:xfrm>
            <a:off x="2819520" y="1066680"/>
            <a:ext cx="5303880" cy="794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liers in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1981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fo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ep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.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9" descr=""/>
          <p:cNvPicPr/>
          <p:nvPr/>
        </p:nvPicPr>
        <p:blipFill>
          <a:blip r:embed="rId1"/>
          <a:srcRect l="10104" t="11598" r="6315" b="0"/>
          <a:stretch/>
        </p:blipFill>
        <p:spPr>
          <a:xfrm>
            <a:off x="2819520" y="1066680"/>
            <a:ext cx="5303880" cy="794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liers in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eper Toy Examp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first glance, mean and PC1 look similar to no outlier ver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C2 clearly driven completely by outli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C2 scores plot (on right) gives clear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outlier diagnost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tlier does not appear in other dire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vious PC2, now appears as PC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Power (upper right plot) now “spread farther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liers in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oser Look at Deeper Toy Examp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a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fluenc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 little, by the outli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ppearance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rn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t every other coordin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1 substantiall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fluenc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y the outli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ea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igg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liers in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at can (should?) be done about outlier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text 1:  Outliers are important aspects of the pop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y need to be highlighted in the analy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though could separate into subpopul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text 2:  Outliers ar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ad da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of no inter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ording errors?  Other mistak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n should avoid distorted view of PC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rnea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rnea Data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aw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des o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ariatio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NORMLWR.MPG" descr=""/>
          <p:cNvPicPr/>
          <p:nvPr/>
        </p:nvPicPr>
        <p:blipFill>
          <a:blip r:embed="rId1"/>
          <a:stretch/>
        </p:blipFill>
        <p:spPr>
          <a:xfrm>
            <a:off x="3733920" y="1066680"/>
            <a:ext cx="4703760" cy="51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liers in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andard Statistical Approaches to Dealing with Outliers: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lier Deletion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Kick ou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ad da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Statistical method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ork with full data set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downweigh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ad da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duce influence, instead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le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liers in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xample Cornea Da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n find PC2 outlier (by looking through data (careful!)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blem: after removal, another point dominates PC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uld delete that, but then another appe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fter 4th step have eliminated 10% of data (n = 43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liers in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tivates alternate approach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Statistical Metho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all main ide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ownweight (instead of delete) outli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 large literature.  Good int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from different viewpoints) are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uber (1981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ampel, et al (1986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audte &amp; Sheather (1990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9"/>
              <p:cNvSpPr txBox="1"/>
              <p:nvPr/>
            </p:nvSpPr>
            <p:spPr>
              <a:xfrm>
                <a:off x="609480" y="3505320"/>
                <a:ext cx="36360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liers in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682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mple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ness concept: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reakdown poi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2560" indent="-682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ow much of dat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ved to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25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il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stroy estim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2560" indent="-682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sual mean has breakdown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2560" indent="-682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n has breakdow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½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(best possibl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2560" indent="-682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clud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25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n much more robust than me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2560" indent="-682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n uses all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2560" indent="-682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n gets good breakdown fr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25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qual vo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10"/>
              <p:cNvSpPr txBox="1"/>
              <p:nvPr/>
            </p:nvSpPr>
            <p:spPr>
              <a:xfrm>
                <a:off x="6477120" y="1447920"/>
                <a:ext cx="4842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liers in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3809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an ha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reakdown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ngl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li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ulls Mea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s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ang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f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Picture 11" descr=""/>
          <p:cNvPicPr/>
          <p:nvPr/>
        </p:nvPicPr>
        <p:blipFill>
          <a:blip r:embed="rId1"/>
          <a:srcRect l="22303" t="16420" r="40146" b="34102"/>
          <a:stretch/>
        </p:blipFill>
        <p:spPr>
          <a:xfrm>
            <a:off x="3473280" y="1830240"/>
            <a:ext cx="4692960" cy="4367520"/>
          </a:xfrm>
          <a:prstGeom prst="rect">
            <a:avLst/>
          </a:prstGeom>
          <a:ln w="0">
            <a:noFill/>
          </a:ln>
        </p:spPr>
      </p:pic>
      <p:sp>
        <p:nvSpPr>
          <p:cNvPr id="302" name="Line 13"/>
          <p:cNvSpPr/>
          <p:nvPr/>
        </p:nvSpPr>
        <p:spPr>
          <a:xfrm flipV="1">
            <a:off x="2133720" y="2743200"/>
            <a:ext cx="21333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Line 14"/>
          <p:cNvSpPr/>
          <p:nvPr/>
        </p:nvSpPr>
        <p:spPr>
          <a:xfrm>
            <a:off x="2743200" y="4038480"/>
            <a:ext cx="35812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Line 15"/>
          <p:cNvSpPr/>
          <p:nvPr/>
        </p:nvSpPr>
        <p:spPr>
          <a:xfrm flipV="1">
            <a:off x="2743200" y="5105160"/>
            <a:ext cx="39625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liers in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troversy: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 medi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qual vo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cheme good or ba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uber: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liers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tain some information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 should only contro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flu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e.g. media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ampel, et. al.: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liers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tain no useful in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hould be assigned weight 0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not done by media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s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per robust metho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not simply deleted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liers in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89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ness Controversy (cont.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9760" indent="-6897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oth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r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igh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(depending on contex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9760" indent="-6897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urce of major (unfortunately bitter) debat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9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pplication to Cornea da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9760" indent="-6897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ub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 model more sens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9760" indent="-6897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ready know      some useful info in each data poi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9760" indent="-6897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u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n ty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thods are sensibl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11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Object 10"/>
              <p:cNvSpPr txBox="1"/>
              <p:nvPr/>
            </p:nvSpPr>
            <p:spPr>
              <a:xfrm>
                <a:off x="3886200" y="4343400"/>
                <a:ext cx="30636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3059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at i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variate median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re are several!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generalizes in different way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ordinate-wise median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ften wors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 rotation invari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2-d data uniform 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n lie on convex hull of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same exampl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us poor notion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en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13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Object 12"/>
              <p:cNvSpPr txBox="1"/>
              <p:nvPr/>
            </p:nvSpPr>
            <p:spPr>
              <a:xfrm>
                <a:off x="5791320" y="2590920"/>
                <a:ext cx="190476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edia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edia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d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3059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ordinate-wise median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 rotation invari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us poor notion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en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Rectangle 13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4" name="EGMultiVarMedian.avi" descr=""/>
          <p:cNvPicPr/>
          <p:nvPr/>
        </p:nvPicPr>
        <p:blipFill>
          <a:blip r:embed="rId1"/>
          <a:stretch/>
        </p:blipFill>
        <p:spPr>
          <a:xfrm>
            <a:off x="2133720" y="2057400"/>
            <a:ext cx="533376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2" dur="1" fill="hold"/>
                                        <p:tgtEl>
                                          <p:spTgt spid="3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3059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ordinate-wise median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lie on convex hull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of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us poor notion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en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13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EGMultiVarMedian.avi" descr=""/>
          <p:cNvPicPr/>
          <p:nvPr/>
        </p:nvPicPr>
        <p:blipFill>
          <a:blip r:embed="rId1"/>
          <a:stretch/>
        </p:blipFill>
        <p:spPr>
          <a:xfrm>
            <a:off x="1905120" y="213372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355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355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8" dur="1" fill="hold"/>
                                        <p:tgtEl>
                                          <p:spTgt spid="3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rnea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ference:    Locantore, et al (1999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isualization (generally true for images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re challenging than for curv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since c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 overla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stead view sequence of im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arder to se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opulation struct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than for curv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 PCA type decomposition of variation i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re importan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3059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at i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variate median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(cont.)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i.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mplicial depth  (a. k. a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ta dep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iu (1990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aint Thickne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of         di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mpli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ith corners at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ice id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ood invariance proper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low to comput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Rectangle 1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Object 13"/>
              <p:cNvSpPr txBox="1"/>
              <p:nvPr/>
            </p:nvSpPr>
            <p:spPr>
              <a:xfrm>
                <a:off x="5029200" y="2743200"/>
                <a:ext cx="76212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3059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at i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variate median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(cont.)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ii.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ub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         M-estimat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iven data                    ,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enter of popul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ere        is the usual Euclidean n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ere:    use only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minimal impact by outliers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Rectangle 15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Object 14"/>
              <p:cNvSpPr txBox="1"/>
              <p:nvPr/>
            </p:nvSpPr>
            <p:spPr>
              <a:xfrm>
                <a:off x="3048120" y="1600200"/>
                <a:ext cx="46980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81" name="Rectangle 1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Object 16"/>
              <p:cNvSpPr txBox="1"/>
              <p:nvPr/>
            </p:nvSpPr>
            <p:spPr>
              <a:xfrm>
                <a:off x="3352680" y="2286000"/>
                <a:ext cx="251460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∈</m:t>
                    </m:r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83" name="Rectangle 19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Object 18"/>
              <p:cNvSpPr txBox="1"/>
              <p:nvPr/>
            </p:nvSpPr>
            <p:spPr>
              <a:xfrm>
                <a:off x="5029200" y="3505320"/>
                <a:ext cx="320040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in</m:t>
                        </m:r>
                      </m:e>
                      <m:lim>
                        <m:r>
                          <m:t xml:space="preserve">θ</m:t>
                        </m:r>
                      </m:lim>
                    </m:limLow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p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85" name="Rectangle 2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Object 20"/>
              <p:cNvSpPr txBox="1"/>
              <p:nvPr/>
            </p:nvSpPr>
            <p:spPr>
              <a:xfrm>
                <a:off x="2743200" y="4343400"/>
                <a:ext cx="5223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/>
                        </m:d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87" name="Rectangle 23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Object 22"/>
              <p:cNvSpPr txBox="1"/>
              <p:nvPr/>
            </p:nvSpPr>
            <p:spPr>
              <a:xfrm>
                <a:off x="4495680" y="5079960"/>
                <a:ext cx="8384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3059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04160" indent="-7041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AutoNum type="roman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ub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         M-estimate (cont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04160" indent="-7041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enter of popul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041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04160" indent="-7041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se           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041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n show                       (sample mea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0416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also called “Frechét Mean”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04160" indent="-7041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ere:    use only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0416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minimal impact by outliers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15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1" name="Object 14"/>
              <p:cNvSpPr txBox="1"/>
              <p:nvPr/>
            </p:nvSpPr>
            <p:spPr>
              <a:xfrm>
                <a:off x="2971800" y="914400"/>
                <a:ext cx="46980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02" name="Rectangle 1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ectangle 19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Object 18"/>
              <p:cNvSpPr txBox="1"/>
              <p:nvPr/>
            </p:nvSpPr>
            <p:spPr>
              <a:xfrm>
                <a:off x="2819520" y="2133720"/>
                <a:ext cx="320040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in</m:t>
                        </m:r>
                      </m:e>
                      <m:lim>
                        <m:r>
                          <m:t xml:space="preserve">θ</m:t>
                        </m:r>
                      </m:lim>
                    </m:limLow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p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05" name="Rectangle 2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6" name="Object 20"/>
              <p:cNvSpPr txBox="1"/>
              <p:nvPr/>
            </p:nvSpPr>
            <p:spPr>
              <a:xfrm>
                <a:off x="3809880" y="3505320"/>
                <a:ext cx="144324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07" name="Rectangle 23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Object 22"/>
              <p:cNvSpPr txBox="1"/>
              <p:nvPr/>
            </p:nvSpPr>
            <p:spPr>
              <a:xfrm>
                <a:off x="4495680" y="5079960"/>
                <a:ext cx="8384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7"/>
              <p:cNvSpPr txBox="1"/>
              <p:nvPr/>
            </p:nvSpPr>
            <p:spPr>
              <a:xfrm>
                <a:off x="2438280" y="2971800"/>
                <a:ext cx="10288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-estimate (cont.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 view of minimizer:  solution of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 useful viewpoint is based 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=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 of data onto spher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 at      with radius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d representation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Object 14"/>
              <p:cNvSpPr txBox="1"/>
              <p:nvPr/>
            </p:nvSpPr>
            <p:spPr>
              <a:xfrm>
                <a:off x="685800" y="914400"/>
                <a:ext cx="37620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23" name="Rectangle 1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17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21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angle 24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Object 23"/>
              <p:cNvSpPr txBox="1"/>
              <p:nvPr/>
            </p:nvSpPr>
            <p:spPr>
              <a:xfrm>
                <a:off x="3581280" y="2181240"/>
                <a:ext cx="480060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θ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θ</m:t>
                            </m:r>
                          </m:num>
                          <m:den>
                            <m:sSub>
                              <m:e>
                                <m:d>
                                  <m:dPr>
                                    <m:begChr m:val="‖"/>
                                    <m:endChr m:val="‖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θ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29" name="Rectangle 2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" name="Object 25"/>
              <p:cNvSpPr txBox="1"/>
              <p:nvPr/>
            </p:nvSpPr>
            <p:spPr>
              <a:xfrm>
                <a:off x="457200" y="3886200"/>
                <a:ext cx="121932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ph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31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2" name="Object 27"/>
              <p:cNvSpPr txBox="1"/>
              <p:nvPr/>
            </p:nvSpPr>
            <p:spPr>
              <a:xfrm>
                <a:off x="3962520" y="4648320"/>
                <a:ext cx="33804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3" name="Rectangle 30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Object 29"/>
              <p:cNvSpPr txBox="1"/>
              <p:nvPr/>
            </p:nvSpPr>
            <p:spPr>
              <a:xfrm>
                <a:off x="6629400" y="4648320"/>
                <a:ext cx="2048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5" name="Rectangle 3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6" name="Object 31"/>
              <p:cNvSpPr txBox="1"/>
              <p:nvPr/>
            </p:nvSpPr>
            <p:spPr>
              <a:xfrm>
                <a:off x="4343400" y="5345280"/>
                <a:ext cx="411480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ph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θ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θ</m:t>
                        </m:r>
                      </m:num>
                      <m:den>
                        <m:sSub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-estimate (cont.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us the solution of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 the solution of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          i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ocation where projected data are cente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lide sphere around until mean (of projected data) is at cen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9" name="Object 14"/>
              <p:cNvSpPr txBox="1"/>
              <p:nvPr/>
            </p:nvSpPr>
            <p:spPr>
              <a:xfrm>
                <a:off x="685800" y="990720"/>
                <a:ext cx="37620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50" name="Rectangle 1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16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Rectangle 1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Rectangle 18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Rectangle 19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Rectangle 2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Rectangle 25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ectangle 27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Rectangle 30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" name="Object 29"/>
              <p:cNvSpPr txBox="1"/>
              <p:nvPr/>
            </p:nvSpPr>
            <p:spPr>
              <a:xfrm>
                <a:off x="3809880" y="1905120"/>
                <a:ext cx="495324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θ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θ</m:t>
                            </m:r>
                          </m:num>
                          <m:den>
                            <m:sSub>
                              <m:e>
                                <m:d>
                                  <m:dPr>
                                    <m:begChr m:val="‖"/>
                                    <m:endChr m:val="‖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θ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61" name="Rectangle 3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2" name="Object 31"/>
              <p:cNvSpPr txBox="1"/>
              <p:nvPr/>
            </p:nvSpPr>
            <p:spPr>
              <a:xfrm>
                <a:off x="3581280" y="3322800"/>
                <a:ext cx="502920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vg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ph</m:t>
                            </m:r>
                            <m:r>
                              <m:t xml:space="preserve">(</m:t>
                            </m:r>
                            <m:r>
                              <m:t xml:space="preserve">θ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θ</m:t>
                        </m:r>
                        <m:r>
                          <m:t xml:space="preserve">: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63" name="Rectangle 34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4" name="Object 33"/>
              <p:cNvSpPr txBox="1"/>
              <p:nvPr/>
            </p:nvSpPr>
            <p:spPr>
              <a:xfrm>
                <a:off x="1523880" y="3886200"/>
                <a:ext cx="29376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θ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-estimate (cont.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lide spher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round unti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an (of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jected data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 at cen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Object 14"/>
              <p:cNvSpPr txBox="1"/>
              <p:nvPr/>
            </p:nvSpPr>
            <p:spPr>
              <a:xfrm>
                <a:off x="762120" y="990720"/>
                <a:ext cx="37620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78" name="Rectangle 1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Rectangle 16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Rectangle 1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Rectangle 18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Rectangle 19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Rectangle 2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Rectangle 21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Rectangle 22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Rectangle 23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Rectangle 24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Rectangle 2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Rectangle 28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0" name="Picture 30" descr=""/>
          <p:cNvPicPr/>
          <p:nvPr/>
        </p:nvPicPr>
        <p:blipFill>
          <a:blip r:embed="rId1"/>
          <a:srcRect l="22303" t="2526" r="13382" b="10104"/>
          <a:stretch/>
        </p:blipFill>
        <p:spPr>
          <a:xfrm>
            <a:off x="3537000" y="1666800"/>
            <a:ext cx="5145120" cy="49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-estimate (cont.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dditional literatur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ll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eometric medi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(long before Huber) by:  Haldane (1948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hown unique for            by:  Milasevic and Ducharme (1987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seful iterative algorithm:  Gower (197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see also Sec. 3.2 of Huber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rnea Data experience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orks well fo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3" name="Object 14"/>
              <p:cNvSpPr txBox="1"/>
              <p:nvPr/>
            </p:nvSpPr>
            <p:spPr>
              <a:xfrm>
                <a:off x="685800" y="914400"/>
                <a:ext cx="37620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04" name="Rectangle 1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Rectangle 16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Rectangle 1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Rectangle 18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Rectangle 19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Rectangle 2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Rectangle 21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Rectangle 22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Rectangle 23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Rectangle 24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2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Rectangle 28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Rectangle 31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Object 30"/>
              <p:cNvSpPr txBox="1"/>
              <p:nvPr/>
            </p:nvSpPr>
            <p:spPr>
              <a:xfrm>
                <a:off x="3886200" y="3276720"/>
                <a:ext cx="100800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8" name="Rectangle 33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Object 32"/>
              <p:cNvSpPr txBox="1"/>
              <p:nvPr/>
            </p:nvSpPr>
            <p:spPr>
              <a:xfrm>
                <a:off x="5943600" y="6172200"/>
                <a:ext cx="114300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897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-estimate for Cornea Da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9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9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9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9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9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ample Mean                  M-estim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9760" indent="-6897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finite improv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9760" indent="-6897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outliers still have some influ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9760" indent="-6897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rovement?    (will suggest one soon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2" name="Picture 31" descr=""/>
          <p:cNvPicPr/>
          <p:nvPr/>
        </p:nvPicPr>
        <p:blipFill>
          <a:blip r:embed="rId1"/>
          <a:srcRect l="41049" t="24539" r="37896" b="60232"/>
          <a:stretch/>
        </p:blipFill>
        <p:spPr>
          <a:xfrm>
            <a:off x="1600200" y="1905120"/>
            <a:ext cx="2009880" cy="2055600"/>
          </a:xfrm>
          <a:prstGeom prst="rect">
            <a:avLst/>
          </a:prstGeom>
          <a:ln w="0">
            <a:noFill/>
          </a:ln>
        </p:spPr>
      </p:pic>
      <p:sp>
        <p:nvSpPr>
          <p:cNvPr id="523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10"/>
          <p:cNvSpPr/>
          <p:nvPr/>
        </p:nvSpPr>
        <p:spPr>
          <a:xfrm>
            <a:off x="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3" name="Object 14"/>
              <p:cNvSpPr txBox="1"/>
              <p:nvPr/>
            </p:nvSpPr>
            <p:spPr>
              <a:xfrm>
                <a:off x="457200" y="1066680"/>
                <a:ext cx="37620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34" name="Rectangle 1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16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Rectangle 1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Rectangle 18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19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Rectangle 2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Rectangle 21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22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Rectangle 23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Rectangle 24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Rectangle 2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Rectangle 26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Rectangle 29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8" name="Picture 33" descr=""/>
          <p:cNvPicPr/>
          <p:nvPr/>
        </p:nvPicPr>
        <p:blipFill>
          <a:blip r:embed="rId2"/>
          <a:srcRect l="18946" t="22303" r="56842" b="57989"/>
          <a:stretch/>
        </p:blipFill>
        <p:spPr>
          <a:xfrm>
            <a:off x="5557680" y="1770120"/>
            <a:ext cx="194184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w have robust measure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en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ow abou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pre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.e. how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n w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o robus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Rectangle 1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Rectangle 16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Rectangle 1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Rectangle 18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Rectangle 19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Rectangle 2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Rectangle 21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Rectangle 22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Rectangle 23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Rectangle 24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Rectangle 2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Rectangle 26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Rectangle 29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5" name="Picture 31" descr=""/>
          <p:cNvPicPr/>
          <p:nvPr/>
        </p:nvPicPr>
        <p:blipFill>
          <a:blip r:embed="rId1"/>
          <a:srcRect l="21411" t="2526" r="13382" b="10104"/>
          <a:stretch/>
        </p:blipFill>
        <p:spPr>
          <a:xfrm>
            <a:off x="3144960" y="1633680"/>
            <a:ext cx="51670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w have robust measure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en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ow abou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pre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.e. how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n w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o robus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2" name="Picture 29" descr=""/>
          <p:cNvPicPr/>
          <p:nvPr/>
        </p:nvPicPr>
        <p:blipFill>
          <a:blip r:embed="rId1"/>
          <a:srcRect l="11367" t="11598" r="7578" b="0"/>
          <a:stretch/>
        </p:blipFill>
        <p:spPr>
          <a:xfrm>
            <a:off x="3402000" y="1560600"/>
            <a:ext cx="525312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rnea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ature of imag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on the unit disk, not usual rectangl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lor 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urvat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ong radii of circl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direction with most effect on visi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otter (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red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32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yellow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 fo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re curvat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oler (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blu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green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 fo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ss curvat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eature vec. is coef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 of Zernike expan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Zernike basi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 ~ Fourier basis, on dis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veniently represented in polar coo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pproaches to Robust PC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Estimation of Covariance Matri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jection Pursu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pherical P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PCA 1:   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Estimation of Covariance Matri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.    Component-wise Robust Covaria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jor problem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ard to get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n-negative definite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nimum Volume Ellipsoid: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usseeuw &amp; Leroy (1987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quires             (in available softwar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eeded for simple definition of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ffine invarian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Rectangle 29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6" name="Object 28"/>
              <p:cNvSpPr txBox="1"/>
              <p:nvPr/>
            </p:nvSpPr>
            <p:spPr>
              <a:xfrm>
                <a:off x="2971800" y="4876920"/>
                <a:ext cx="11793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&gt;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ortant Aside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jor difference between Fu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 Data An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amp; Classical Multivariate Analy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igh Dimension, Low Sample Siz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sample size      &lt;  dimension    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cal Multivariate Analysi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art with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phering da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(multiply by      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       does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 exist for </a:t>
            </a: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at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Rectangle 5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Object 4"/>
              <p:cNvSpPr txBox="1"/>
              <p:nvPr/>
            </p:nvSpPr>
            <p:spPr>
              <a:xfrm>
                <a:off x="3962520" y="3352680"/>
                <a:ext cx="3315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1" name="Rectangle 7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2" name="Object 6"/>
              <p:cNvSpPr txBox="1"/>
              <p:nvPr/>
            </p:nvSpPr>
            <p:spPr>
              <a:xfrm>
                <a:off x="7086600" y="3276720"/>
                <a:ext cx="36036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3" name="Rectangle 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4" name="Object 8"/>
              <p:cNvSpPr txBox="1"/>
              <p:nvPr/>
            </p:nvSpPr>
            <p:spPr>
              <a:xfrm>
                <a:off x="7696080" y="4633920"/>
                <a:ext cx="7621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65" name="Rectangle 11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6" name="Object 10"/>
              <p:cNvSpPr txBox="1"/>
              <p:nvPr/>
            </p:nvSpPr>
            <p:spPr>
              <a:xfrm>
                <a:off x="1523880" y="5334120"/>
                <a:ext cx="7621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ortant Aside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cal Approach to </a:t>
            </a: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ata: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 have enough data for analysis, get mo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workable (and getting worse) for many modern setting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cal Imaging (e.g. Cornea Da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cro-arrays &amp; gene expr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emometric spectra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Rectangle 4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Rectangle 6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Rectangle 8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Rectangle 1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PCA 2:   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jection Pursu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dea:  focu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nding direction of greatest variabil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ference:  Li and Chen (1985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blems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estimates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pre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re nonline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sults in many local opti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Rectangle 31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Rectangle 33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PCA 2:   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jection Pursuit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(cont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blems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sults in many local opti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kes search problem very challeng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specially in very high dimen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st examples have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uoying Li: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 heard of             ,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         seems too bi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9" name="Object 29"/>
              <p:cNvSpPr txBox="1"/>
              <p:nvPr/>
            </p:nvSpPr>
            <p:spPr>
              <a:xfrm>
                <a:off x="5181480" y="3809880"/>
                <a:ext cx="14684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0" name="Rectangle 31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1" name="Object 30"/>
              <p:cNvSpPr txBox="1"/>
              <p:nvPr/>
            </p:nvSpPr>
            <p:spPr>
              <a:xfrm>
                <a:off x="5181480" y="4952880"/>
                <a:ext cx="131760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2" name="Rectangle 33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3" name="Object 32"/>
              <p:cNvSpPr txBox="1"/>
              <p:nvPr/>
            </p:nvSpPr>
            <p:spPr>
              <a:xfrm>
                <a:off x="4267080" y="5562720"/>
                <a:ext cx="549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PCA 3: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pheric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1" name="Picture 30" descr=""/>
          <p:cNvPicPr/>
          <p:nvPr/>
        </p:nvPicPr>
        <p:blipFill>
          <a:blip r:embed="rId1"/>
          <a:srcRect l="21411" t="2526" r="11598" b="10104"/>
          <a:stretch/>
        </p:blipFill>
        <p:spPr>
          <a:xfrm>
            <a:off x="3352680" y="1447920"/>
            <a:ext cx="5462640" cy="50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rnea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ta Representation   -  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Zernike Ba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xels as features is large and wastefu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atural to find more efficient repres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olar Coordinate Tensor Product of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urier basis (angula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pecial Jacobi (radial, to avoid singulariti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chwiegerling, Greivenkamp &amp; Miller (1995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orn &amp; Wolf (1980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of Cornea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all:  PCA can find (often insightful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rection of greatest vari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in problem:  display of result (no overlays for imag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lution:  show movie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rching along the direction vec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rnea Data PC1 movi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of Cornea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1 Movi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NORM100.MPG" descr=""/>
          <p:cNvPicPr/>
          <p:nvPr/>
        </p:nvPicPr>
        <p:blipFill>
          <a:blip r:embed="rId1"/>
          <a:stretch/>
        </p:blipFill>
        <p:spPr>
          <a:xfrm>
            <a:off x="4267080" y="1066680"/>
            <a:ext cx="2667240" cy="56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of Cornea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1 Summar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an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Unicode MS"/>
                <a:ea typeface="Arial Unicode MS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mage):   mild ve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 astigmat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nown po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 structure call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ith the ru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in di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: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re curv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&amp;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ss curv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rresponds to first optometric meas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89% of vari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, in Mean Resid. SS sens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so: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onger asti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&amp;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 asti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und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rr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etween asti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 and cur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cores (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blu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:  Apparent Gaussian di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8T01:38:43Z</dcterms:created>
  <dc:creator>Preferred Customer</dc:creator>
  <dc:description/>
  <dc:language>en-US</dc:language>
  <cp:lastModifiedBy>Administrator</cp:lastModifiedBy>
  <dcterms:modified xsi:type="dcterms:W3CDTF">2007-09-18T19:14:14Z</dcterms:modified>
  <cp:revision>483</cp:revision>
  <dc:subject/>
  <dc:title>Title</dc:title>
</cp:coreProperties>
</file>