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69B0-CB68-4B1C-B512-1F5BA6903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DFC2-CED3-46E1-BBB2-DCC62AF44B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E3D7-422A-499A-88BC-175CB723D2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8823-6C71-48E2-9485-0790FDB9B8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FE17-859C-4C52-93AF-DD3D88DB66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6609-3C57-4CE8-8D16-2A66B8E69E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AD5C-CD05-493D-9EA4-3696394F39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6BCE-D1D7-4EE3-848B-2277520F4E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EB7F-8818-4603-A0D4-CB91D1BDCB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F1D7-8DD5-43F5-9709-6E9F65C398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5A9A-EE08-40F8-8E7E-E6C9463883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A71D-3CC8-48E8-B518-1EC4805451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1015-E7B9-4EE9-A7D6-C7232CBEC7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00D7-93BD-4D0F-ABAF-8619419DC4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4216-6ABD-4561-B6AB-22C38AA8CE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D18C-C4C1-4BAE-8D11-17DC93F369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7B85-7AB3-4F9C-AEA7-307E293A9C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AB77-493B-46BD-BC9A-FF75E2AA03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29CC-084E-40D5-92FE-C2AC9C46CB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0668-93C8-4E94-AB67-A274B8CBDA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06FA-BFB5-4ED9-9E5B-5C1FC43AE9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7420-6059-4617-95E7-D7D35DC68C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25E8-4F3B-4634-B854-4DDAFAC32F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4D1B-A183-4116-B68C-F0B1595E1B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D753-E624-4D98-8C50-84E0F4292C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5D2A-D1DF-489C-B716-8E01FDC65E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70CD-23A1-43F2-9A7B-DEC2F3AB83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B047-06CA-40F7-875B-CF205942B7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BC29-3D7D-4AB1-B65D-89701CB430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774A-81B1-466A-9CF9-75355FDA87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63C0-4B87-4461-8B02-744E3A2FB0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F7B0-744C-49A0-9F96-3538D7150F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BD46-6788-44FB-8B15-9D5E8FADA7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EE9A-8332-4BD1-87B3-03A50273D9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D711-430C-4579-8752-F4B878470B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06E3-7FFF-4514-B3C3-D126B2F00A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30AD-36BB-4068-A8B1-F34975E0F1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AA54-6329-4DFD-9DF2-E397E894ED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78EA-40A3-4076-ABDF-44201932B8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68E8-BB7E-4653-B553-D80004F620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7A4D-DDD5-425F-AEF9-4642BC9528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C6E5-49BA-4104-B676-C7E1D71B7B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961A-0649-43B2-AA68-CFC372B2CB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DEC1-E336-463E-ACA2-17D4B89F97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2296-81EB-4779-AFD6-ED960EC7B6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FFA3-E5AA-4F46-8C0A-BDA5CE1E68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D07E-A4DB-430E-81AB-2B5FAE8518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0C45-BE8B-4441-BD6F-79A8BA55C4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8E9B-18FA-4691-9CFD-60DB2AC239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77E5-A9A3-4489-A712-A351D90D82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4406-B688-44B3-A18D-3321102260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70D8-2841-40BB-804F-BEECD87F2D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C176-FEAE-4655-B4D7-C43A87EA2F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958D-B8CD-4F22-A6A5-C0F862F70B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3408-1D80-412E-B678-14042F83ED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02E2-2A29-4636-92D8-BF8F2E5A1A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6049-CFE5-49EF-9966-37E71705E6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2773-DE30-4165-AE1D-C55AC07A17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9AAF-77E6-427F-8CB9-D6AA24A4F9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23C2-345E-4AB0-A7A3-8624623B2A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B9F3-440A-4988-BB11-A651000AD0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4649-9DE1-4370-BB4F-C66DC10D25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04F9-3180-49EC-B5AF-75F5FE8891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364B-8CC8-4E90-969D-D3E84B4B27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BB71-0798-4392-8EC4-6880CBF407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548C-121E-433B-95F4-EA8F3E4D6F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82B0-EBA2-4B4B-A44A-42AE904C0E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A59-3CB9-40F5-9180-E76F56D4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AB11-ACF1-4CA7-96D9-695B9E51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33BB-ABA2-4930-B11F-BCF0A9DB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10D-1F3B-4313-A156-33A7B386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763A-7D33-4FA9-A95A-4763C63F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34DE-F7D6-4D1E-8A3D-EE009BA5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FD65-0749-4B77-BE8C-A8465D1E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B94C-A3C2-4716-A2CA-4572FDAB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BE7F-C429-46CE-8BD8-342E2B80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DA8C-DDD0-42BB-A658-ABC0CE42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B008-947C-464C-85F3-CA24EE71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2C4-7738-4F5A-819B-A980D2C5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BE13-E10A-4663-93CB-95C20E6C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1DE0-7CBF-4B3A-B93C-1325EAE3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BAFB-0D6B-46FE-9823-A9CC56E5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0F0F-E165-4DCE-90DB-181E213B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C20E-3A39-4B42-A4FE-25E32EAE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92D-BDB5-49DB-BD32-418B3CD5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C74-2882-4FAF-A041-C0933B8D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A4E3-3579-4951-8B8A-BCEB11AC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4C9-2767-4302-B5BF-8D429AB7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9ABA-56B6-4FD6-BEE8-94E11429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24A-9550-448F-B57C-862BA07B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533-243E-4A07-A2D5-28CE9294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87AD-56E1-4AB3-9058-EB83EA5F1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8276-8D8D-4A76-983A-48CE5093FF5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Movies/NORMLWR.M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Movies/NORM200.M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ages (on the disk) as data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ernike basis repres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  (hav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jor influen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  (downweight outli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igen-analysis of robust covariance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 Pursu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P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PCA for Toy 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rst rec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vent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8" descr=""/>
          <p:cNvPicPr/>
          <p:nvPr/>
        </p:nvPicPr>
        <p:blipFill>
          <a:blip r:embed="rId1"/>
          <a:srcRect l="11367" t="11598" r="7578" b="0"/>
          <a:stretch/>
        </p:blipFill>
        <p:spPr>
          <a:xfrm>
            <a:off x="3402000" y="1560600"/>
            <a:ext cx="52531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PCA for Toy 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w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tter resul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28" descr=""/>
          <p:cNvPicPr/>
          <p:nvPr/>
        </p:nvPicPr>
        <p:blipFill>
          <a:blip r:embed="rId1"/>
          <a:srcRect l="11367" t="11598" r="7578" b="0"/>
          <a:stretch/>
        </p:blipFill>
        <p:spPr>
          <a:xfrm>
            <a:off x="3402000" y="1560600"/>
            <a:ext cx="52531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PCA for Toy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look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 near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unaffected by outli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 is near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il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again unaffected by outli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3 finally strongly driven by out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K, since all other direc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out equal in var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ergy Plot, no longer order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utlier drives SS, bu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direction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PCA for Toy 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ck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8" descr=""/>
          <p:cNvPicPr/>
          <p:nvPr/>
        </p:nvPicPr>
        <p:blipFill>
          <a:blip r:embed="rId1"/>
          <a:srcRect l="11367" t="28102" r="7578" b="0"/>
          <a:stretch/>
        </p:blipFill>
        <p:spPr>
          <a:xfrm>
            <a:off x="3352680" y="1930320"/>
            <a:ext cx="52531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er Order Compon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ither PC3 nor PC4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tch all of out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 effect of this down-weighting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      lines show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wer of spher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      symbols sh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S for cur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flects visual impress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tter are not monotonic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flect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duced influen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operty of spherical P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29"/>
              <p:cNvSpPr txBox="1"/>
              <p:nvPr/>
            </p:nvSpPr>
            <p:spPr>
              <a:xfrm>
                <a:off x="1905120" y="2590920"/>
                <a:ext cx="5331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9" name="Rectangle 32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31"/>
              <p:cNvSpPr txBox="1"/>
              <p:nvPr/>
            </p:nvSpPr>
            <p:spPr>
              <a:xfrm>
                <a:off x="1905120" y="3193920"/>
                <a:ext cx="5331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       M-estimate for Cornea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ple Mean                  M-est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finite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outliers still have some influ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 onto spher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orts the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rcRect l="41049" t="24539" r="37896" b="60232"/>
          <a:stretch/>
        </p:blipFill>
        <p:spPr>
          <a:xfrm>
            <a:off x="1600200" y="1905120"/>
            <a:ext cx="2009880" cy="205560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2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1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14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15"/>
              <p:cNvSpPr txBox="1"/>
              <p:nvPr/>
            </p:nvSpPr>
            <p:spPr>
              <a:xfrm>
                <a:off x="1828800" y="1143000"/>
                <a:ext cx="3762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5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7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0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2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2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23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24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25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2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2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2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30" descr=""/>
          <p:cNvPicPr/>
          <p:nvPr/>
        </p:nvPicPr>
        <p:blipFill>
          <a:blip r:embed="rId2"/>
          <a:srcRect l="18946" t="22303" r="56842" b="57989"/>
          <a:stretch/>
        </p:blipFill>
        <p:spPr>
          <a:xfrm>
            <a:off x="5557680" y="1770120"/>
            <a:ext cx="19418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View:   Parallel Coordinates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-ax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erni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-ax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31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3" descr=""/>
          <p:cNvPicPr/>
          <p:nvPr/>
        </p:nvPicPr>
        <p:blipFill>
          <a:blip r:embed="rId1"/>
          <a:srcRect l="30313" t="24980" r="16420" b="36578"/>
          <a:stretch/>
        </p:blipFill>
        <p:spPr>
          <a:xfrm>
            <a:off x="3921120" y="1996920"/>
            <a:ext cx="4614840" cy="4718160"/>
          </a:xfrm>
          <a:prstGeom prst="rect">
            <a:avLst/>
          </a:prstGeom>
          <a:ln w="0">
            <a:noFill/>
          </a:ln>
        </p:spPr>
      </p:pic>
      <p:sp>
        <p:nvSpPr>
          <p:cNvPr id="450" name="Line 32"/>
          <p:cNvSpPr/>
          <p:nvPr/>
        </p:nvSpPr>
        <p:spPr>
          <a:xfrm flipV="1">
            <a:off x="2666880" y="3429000"/>
            <a:ext cx="36576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Line 33"/>
          <p:cNvSpPr/>
          <p:nvPr/>
        </p:nvSpPr>
        <p:spPr>
          <a:xfrm flipV="1">
            <a:off x="2514600" y="2819160"/>
            <a:ext cx="1676520" cy="32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,    Parallel Coordinates Plo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p Plot: Zerni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effic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n = 43 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i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Action in f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w Freq. Coeff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Picture 31" descr=""/>
          <p:cNvPicPr/>
          <p:nvPr/>
        </p:nvPicPr>
        <p:blipFill>
          <a:blip r:embed="rId1"/>
          <a:srcRect l="30313" t="24980" r="16420" b="36578"/>
          <a:stretch/>
        </p:blipFill>
        <p:spPr>
          <a:xfrm>
            <a:off x="3921120" y="1996920"/>
            <a:ext cx="4614840" cy="4718160"/>
          </a:xfrm>
          <a:prstGeom prst="rect">
            <a:avLst/>
          </a:prstGeom>
          <a:ln w="0">
            <a:noFill/>
          </a:ln>
        </p:spPr>
      </p:pic>
      <p:sp>
        <p:nvSpPr>
          <p:cNvPr id="482" name="Line 32"/>
          <p:cNvSpPr/>
          <p:nvPr/>
        </p:nvSpPr>
        <p:spPr>
          <a:xfrm flipV="1">
            <a:off x="2819520" y="2743200"/>
            <a:ext cx="137160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33"/>
          <p:cNvSpPr/>
          <p:nvPr/>
        </p:nvSpPr>
        <p:spPr>
          <a:xfrm flipV="1">
            <a:off x="1828800" y="2742840"/>
            <a:ext cx="289548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34"/>
          <p:cNvSpPr/>
          <p:nvPr/>
        </p:nvSpPr>
        <p:spPr>
          <a:xfrm flipV="1">
            <a:off x="3809880" y="3429000"/>
            <a:ext cx="83844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,   Parallel Coordinates Plo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ddle Plot:    Zernike Coefficien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d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Variation i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west frequ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as i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rier compression of smooth sig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ng on sphere will destroy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gnifying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 frequency behav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tom Plot:    discussed lat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PCA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lem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gnification of High Freq. Co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ution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Elliptical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idea:    project data onto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itable ellips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not sp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ellipse?     (in general, this is problem that PCA solves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ification:    Consider ellipse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to coordinate ax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:   Outer surface of the ey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iver of Vision:    Curvature of Corn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Sequence of I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jects:  Images on the unit d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ature 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at M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ecial Thanks to K. L. Cohen, N. Tripol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 Ophthalm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Picture 31" descr=""/>
          <p:cNvPicPr/>
          <p:nvPr/>
        </p:nvPicPr>
        <p:blipFill>
          <a:blip r:embed="rId1"/>
          <a:srcRect l="17843" t="2526" r="7137" b="0"/>
          <a:stretch/>
        </p:blipFill>
        <p:spPr>
          <a:xfrm>
            <a:off x="990720" y="762120"/>
            <a:ext cx="7259400" cy="6661080"/>
          </a:xfrm>
          <a:prstGeom prst="rect">
            <a:avLst/>
          </a:prstGeom>
          <a:ln w="0">
            <a:noFill/>
          </a:ln>
        </p:spPr>
      </p:pic>
      <p:sp>
        <p:nvSpPr>
          <p:cNvPr id="572" name="Line 34"/>
          <p:cNvSpPr/>
          <p:nvPr/>
        </p:nvSpPr>
        <p:spPr>
          <a:xfrm>
            <a:off x="2971800" y="1523880"/>
            <a:ext cx="28195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35"/>
          <p:cNvSpPr/>
          <p:nvPr/>
        </p:nvSpPr>
        <p:spPr>
          <a:xfrm>
            <a:off x="7543800" y="2819520"/>
            <a:ext cx="0" cy="205740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36"/>
          <p:cNvSpPr/>
          <p:nvPr/>
        </p:nvSpPr>
        <p:spPr>
          <a:xfrm flipH="1">
            <a:off x="2971800" y="6172200"/>
            <a:ext cx="274320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37"/>
          <p:cNvSpPr/>
          <p:nvPr/>
        </p:nvSpPr>
        <p:spPr>
          <a:xfrm>
            <a:off x="3962520" y="1219320"/>
            <a:ext cx="1143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sc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or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38"/>
          <p:cNvSpPr/>
          <p:nvPr/>
        </p:nvSpPr>
        <p:spPr>
          <a:xfrm>
            <a:off x="3962520" y="5867280"/>
            <a:ext cx="1066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nsc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or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39"/>
          <p:cNvSpPr/>
          <p:nvPr/>
        </p:nvSpPr>
        <p:spPr>
          <a:xfrm>
            <a:off x="6477120" y="35812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pherical    P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liptical Analysis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-70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Implementatio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a coordinate axis resca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-70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vide each axis by M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-70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 Data to sphere (in transformed sp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-70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turn to original space (m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y by ori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 MAD) for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-70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  MAD = Median Absolute Deviation (from medi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imple, high breakdow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 resistant, measure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32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31"/>
              <p:cNvSpPr txBox="1"/>
              <p:nvPr/>
            </p:nvSpPr>
            <p:spPr>
              <a:xfrm>
                <a:off x="4572000" y="4805280"/>
                <a:ext cx="39625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dian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edia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liptical Estimate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M-estimation in transformed sp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hen transform bac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ults for cornea d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ple Mean     Spherical Center    Elliptical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liptical clearly b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arly no edge effec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rcRect l="41049" t="24539" r="37896" b="60232"/>
          <a:stretch/>
        </p:blipFill>
        <p:spPr>
          <a:xfrm>
            <a:off x="533520" y="2819520"/>
            <a:ext cx="2009520" cy="205560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11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12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Object 15"/>
              <p:cNvSpPr txBox="1"/>
              <p:nvPr/>
            </p:nvSpPr>
            <p:spPr>
              <a:xfrm>
                <a:off x="990720" y="1219320"/>
                <a:ext cx="360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3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17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1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1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20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2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2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23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24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25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2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2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2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Picture 30" descr=""/>
          <p:cNvPicPr/>
          <p:nvPr/>
        </p:nvPicPr>
        <p:blipFill>
          <a:blip r:embed="rId2"/>
          <a:srcRect l="18946" t="22303" r="56842" b="57989"/>
          <a:stretch/>
        </p:blipFill>
        <p:spPr>
          <a:xfrm>
            <a:off x="3505320" y="2819520"/>
            <a:ext cx="1809720" cy="20858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1" descr=""/>
          <p:cNvPicPr/>
          <p:nvPr/>
        </p:nvPicPr>
        <p:blipFill>
          <a:blip r:embed="rId3"/>
          <a:srcRect l="16420" t="24088" r="56842" b="59773"/>
          <a:stretch/>
        </p:blipFill>
        <p:spPr>
          <a:xfrm>
            <a:off x="6172200" y="3048120"/>
            <a:ext cx="19335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liptical PCA for cornea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iginal PC1,    Elliptical P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ill find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all curvature &amp; correlated astigma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or edge effects almost completely g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iginal PC2,    Elliptical P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uge edge effects dramatically redu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ill find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eeper superior vs. inferio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liptical PCA for Cornea Data (cont.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iginal PC3,    Elliptical P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Edge effects greatly diminis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some of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ainst the rule astigmatism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lso l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ce paid for robus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iginal PC4,    Elliptical PC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w looks more like variation on astigmatism??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rent state of the ar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&amp; Elliptical PCA ar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klu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t together b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ness Amate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solve this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News: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ness Pro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re now in the ga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ubert, et al (200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685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claimer on robust an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of Cornea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85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8520" indent="-6685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itical parameter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us of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8520" indent="-6685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  Shown above, Elliptical PCA very eff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8520" indent="-6685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  Stronger edge effects, Elliptical PCA less use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8520" indent="-6685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  Edge effects weaker, 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need robust P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32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Object 31"/>
              <p:cNvSpPr txBox="1"/>
              <p:nvPr/>
            </p:nvSpPr>
            <p:spPr>
              <a:xfrm>
                <a:off x="1143000" y="2895480"/>
                <a:ext cx="16002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7" name="Rectangle 3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Object 33"/>
              <p:cNvSpPr txBox="1"/>
              <p:nvPr/>
            </p:nvSpPr>
            <p:spPr>
              <a:xfrm>
                <a:off x="990720" y="4038480"/>
                <a:ext cx="18176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9" name="Rectangle 3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Object 35"/>
              <p:cNvSpPr txBox="1"/>
              <p:nvPr/>
            </p:nvSpPr>
            <p:spPr>
              <a:xfrm>
                <a:off x="914400" y="5181480"/>
                <a:ext cx="18288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g Picture View of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ove 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ind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ptimal direction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point clo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ize projected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mize residual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ame by Pythagorean Theore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t useful insights about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s can compute fo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oint clo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there are other view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g Picture View of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Viewpoint:    Gaussian Likelih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n data are multivariate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ind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jor axes of ellip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 cont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Probability Dens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um Likelihood Est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staken ide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nly useful for Gaussian da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g Picture View of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check for Gaussian distributi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ndardized parallel coordinate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btract coordinate wise med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obust version of me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not good 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int cloud ce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now only looking at coordina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vide by MAD / MAD(N(0,1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ut on same scale 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ndard dev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e if data stays in rang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to +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PC2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ffected by Outli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bad is this probl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ew 1:  Statistician:     Arrggghh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are ver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nger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give arbitrary and meaningless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oes 4% of MR SS mean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g Picture View of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3200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ndard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ordi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n 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7" name="Picture 31" descr=""/>
          <p:cNvPicPr/>
          <p:nvPr/>
        </p:nvPicPr>
        <p:blipFill>
          <a:blip r:embed="rId1"/>
          <a:srcRect l="31576" t="24980" r="16420" b="0"/>
          <a:stretch/>
        </p:blipFill>
        <p:spPr>
          <a:xfrm>
            <a:off x="3997440" y="1379520"/>
            <a:ext cx="4827600" cy="986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g Picture View of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3200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w Cornea Data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d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Dat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-----------------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7" name="Picture 31" descr=""/>
          <p:cNvPicPr/>
          <p:nvPr/>
        </p:nvPicPr>
        <p:blipFill>
          <a:blip r:embed="rId1"/>
          <a:srcRect l="31576" t="24980" r="16420" b="0"/>
          <a:stretch/>
        </p:blipFill>
        <p:spPr>
          <a:xfrm>
            <a:off x="3997440" y="1379520"/>
            <a:ext cx="4827600" cy="9860040"/>
          </a:xfrm>
          <a:prstGeom prst="rect">
            <a:avLst/>
          </a:prstGeom>
          <a:ln w="0">
            <a:noFill/>
          </a:ln>
        </p:spPr>
      </p:pic>
      <p:sp>
        <p:nvSpPr>
          <p:cNvPr id="908" name="Line 32"/>
          <p:cNvSpPr/>
          <p:nvPr/>
        </p:nvSpPr>
        <p:spPr>
          <a:xfrm flipV="1">
            <a:off x="3124080" y="5257440"/>
            <a:ext cx="289584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Line 33"/>
          <p:cNvSpPr/>
          <p:nvPr/>
        </p:nvSpPr>
        <p:spPr>
          <a:xfrm>
            <a:off x="3124080" y="3733920"/>
            <a:ext cx="2210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Line 34"/>
          <p:cNvSpPr/>
          <p:nvPr/>
        </p:nvSpPr>
        <p:spPr>
          <a:xfrm>
            <a:off x="2362320" y="1981080"/>
            <a:ext cx="228600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g Picture View of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ck for Gaussian d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ed Parallel Coord.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 Cornea da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call image view of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veral data points &gt; 2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.d.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rom the ce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ribution clearl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urtosi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avy tai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PCA still gave strong insigh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latio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related (&amp; better known) variation of P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e cov. matrix with correlation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do eigen analysis of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Rectangle 32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Object 31"/>
              <p:cNvSpPr txBox="1"/>
              <p:nvPr/>
            </p:nvSpPr>
            <p:spPr>
              <a:xfrm>
                <a:off x="3505320" y="2817720"/>
                <a:ext cx="4419360" cy="20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1,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1,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1" name="Rectangle 34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Object 33"/>
              <p:cNvSpPr txBox="1"/>
              <p:nvPr/>
            </p:nvSpPr>
            <p:spPr>
              <a:xfrm>
                <a:off x="2286000" y="5460840"/>
                <a:ext cx="3581280" cy="10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latio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 use correlation matrix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son 1:    makes featur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t f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 M-reps:  mi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ngt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i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degrees?  radians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s in point clou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aningful or usefu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ll unimportant directions dominat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33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latio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view of correlation P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dinary PCA on standardiz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whitened)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 SVD of data matrix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or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int clou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long coord.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Rectangle 34"/>
          <p:cNvSpPr/>
          <p:nvPr/>
        </p:nvSpPr>
        <p:spPr>
          <a:xfrm>
            <a:off x="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6" name="Object 33"/>
              <p:cNvSpPr txBox="1"/>
              <p:nvPr/>
            </p:nvSpPr>
            <p:spPr>
              <a:xfrm>
                <a:off x="2057400" y="3276720"/>
                <a:ext cx="5715000" cy="23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,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latio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son 2 for correlation P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te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an be a useful op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e.g. M-rep Corp. Call.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ution:   sometimes this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help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an lose important structure this wa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1:    Cornea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liptical vs. Spherical P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latio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 2:    Fourier Boundary Corp. Call.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Standard  PC1, PC2, PC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ve useful ins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lation PC1,  PC2,  P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useful dir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insights about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iven by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 frequency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ise artif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son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whitening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ha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mped the important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magnifying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 frequency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latio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coordinates show what happen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Variation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w frequ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tening g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jor distor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kews PCA tow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is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r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0" name="Picture 33" descr=""/>
          <p:cNvPicPr/>
          <p:nvPr/>
        </p:nvPicPr>
        <p:blipFill>
          <a:blip r:embed="rId1"/>
          <a:srcRect l="10104" t="11598" r="7578" b="0"/>
          <a:stretch/>
        </p:blipFill>
        <p:spPr>
          <a:xfrm>
            <a:off x="5257800" y="1600200"/>
            <a:ext cx="3543480" cy="5388120"/>
          </a:xfrm>
          <a:prstGeom prst="rect">
            <a:avLst/>
          </a:prstGeom>
          <a:ln w="0">
            <a:noFill/>
          </a:ln>
        </p:spPr>
      </p:pic>
      <p:sp>
        <p:nvSpPr>
          <p:cNvPr id="1131" name="Line 35"/>
          <p:cNvSpPr/>
          <p:nvPr/>
        </p:nvSpPr>
        <p:spPr>
          <a:xfrm>
            <a:off x="4114800" y="2514600"/>
            <a:ext cx="15238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Line 36"/>
          <p:cNvSpPr/>
          <p:nvPr/>
        </p:nvSpPr>
        <p:spPr>
          <a:xfrm>
            <a:off x="4191120" y="3962520"/>
            <a:ext cx="304776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latio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mary on correlation P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be very usefu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especially with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commensurate uni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lways, can hide important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make choi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cide whethe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tening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use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y personal use of correl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PCA is r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people use i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of the tim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variate media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are several!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generalizes in different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ordinate-wise median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ten wor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rotation invar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-d data uniform 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lie on convex hull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ame examp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poor notion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2"/>
              <p:cNvSpPr txBox="1"/>
              <p:nvPr/>
            </p:nvSpPr>
            <p:spPr>
              <a:xfrm>
                <a:off x="5791320" y="2590920"/>
                <a:ext cx="19047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edia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edia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usters in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on Statistical Tas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uster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esting sub-popula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structure in dat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to do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provide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simp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is a large literature of other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will study more l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sit Toy Example (2 cluste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6" name="Picture 33" descr=""/>
          <p:cNvPicPr/>
          <p:nvPr/>
        </p:nvPicPr>
        <p:blipFill>
          <a:blip r:embed="rId1"/>
          <a:srcRect l="10104" t="12490" r="7578" b="0"/>
          <a:stretch/>
        </p:blipFill>
        <p:spPr>
          <a:xfrm>
            <a:off x="2443320" y="1531800"/>
            <a:ext cx="5005080" cy="75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(2 clust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minant direction finds very distinct clu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kewer through meatball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in point cloud sp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s up clearly in scores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 important use of scores plot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ing such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Toy Example with more clust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9" name="Picture 33" descr=""/>
          <p:cNvPicPr/>
          <p:nvPr/>
        </p:nvPicPr>
        <p:blipFill>
          <a:blip r:embed="rId1"/>
          <a:srcRect l="10104" t="12490" r="7578" b="0"/>
          <a:stretch/>
        </p:blipFill>
        <p:spPr>
          <a:xfrm>
            <a:off x="2443320" y="1531800"/>
            <a:ext cx="5005080" cy="75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st revealed by 2d scatterplots (4 cluster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1" name="Picture 34" descr=""/>
          <p:cNvPicPr/>
          <p:nvPr/>
        </p:nvPicPr>
        <p:blipFill>
          <a:blip r:embed="rId1"/>
          <a:srcRect l="8921" t="6315" r="13382" b="0"/>
          <a:stretch/>
        </p:blipFill>
        <p:spPr>
          <a:xfrm>
            <a:off x="1066680" y="1447920"/>
            <a:ext cx="710424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ution:  there are limi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ealed by NCI60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Microarray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8 known different cancer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ul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arate out clu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ing specialized DWD dir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mostly not found using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only find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of max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use class label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ecific DWD directions, for NCI60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Can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4" name="Picture 33" descr=""/>
          <p:cNvPicPr/>
          <p:nvPr/>
        </p:nvPicPr>
        <p:blipFill>
          <a:blip r:embed="rId1"/>
          <a:srcRect l="8921" t="6315" r="15166" b="0"/>
          <a:stretch/>
        </p:blipFill>
        <p:spPr>
          <a:xfrm>
            <a:off x="2590920" y="1600200"/>
            <a:ext cx="630684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directions, for NCI60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Melano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-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Leuk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6" name="Picture 33" descr=""/>
          <p:cNvPicPr/>
          <p:nvPr/>
        </p:nvPicPr>
        <p:blipFill>
          <a:blip r:embed="rId1"/>
          <a:srcRect l="8921" t="6315" r="15166" b="0"/>
          <a:stretch/>
        </p:blipFill>
        <p:spPr>
          <a:xfrm>
            <a:off x="2590920" y="1600200"/>
            <a:ext cx="630684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f Diagonal PC1-4 &amp; 5-8, NCI60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 &amp;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 Unicode MS"/>
                <a:ea typeface="Arial Unicode MS"/>
              </a:rPr>
              <a:t>Re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Leuk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eparat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Melano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8" name="Picture 33" descr=""/>
          <p:cNvPicPr/>
          <p:nvPr/>
        </p:nvPicPr>
        <p:blipFill>
          <a:blip r:embed="rId1"/>
          <a:srcRect l="8921" t="6315" r="15166" b="0"/>
          <a:stretch/>
        </p:blipFill>
        <p:spPr>
          <a:xfrm>
            <a:off x="2590920" y="1600200"/>
            <a:ext cx="630684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Less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is limited a finding clu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ealed by NCI60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Microarray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8 known different cancer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do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ind all 8 clu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only find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of max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use class label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estima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ide sphe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ound unti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(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ed data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at ce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4"/>
              <p:cNvSpPr txBox="1"/>
              <p:nvPr/>
            </p:nvSpPr>
            <p:spPr>
              <a:xfrm>
                <a:off x="762120" y="990720"/>
                <a:ext cx="3762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9" name="Rectangle 1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4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8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30" descr=""/>
          <p:cNvPicPr/>
          <p:nvPr/>
        </p:nvPicPr>
        <p:blipFill>
          <a:blip r:embed="rId1"/>
          <a:srcRect l="22303" t="2526" r="13382" b="10104"/>
          <a:stretch/>
        </p:blipFill>
        <p:spPr>
          <a:xfrm>
            <a:off x="3537000" y="1666800"/>
            <a:ext cx="51451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deepe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ss Flux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from Enrica Bellon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tional Center for Atmospheric Re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ss Flux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 quantifying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oud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doe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ss chang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he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ng int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 clo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Mass Flux D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2" name="Picture 33" descr=""/>
          <p:cNvPicPr/>
          <p:nvPr/>
        </p:nvPicPr>
        <p:blipFill>
          <a:blip r:embed="rId1"/>
          <a:srcRect l="10104" t="12490" r="7578" b="0"/>
          <a:stretch/>
        </p:blipFill>
        <p:spPr>
          <a:xfrm>
            <a:off x="2443320" y="1531800"/>
            <a:ext cx="5005080" cy="75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mary of PCA of Mass Flux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pture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 mountain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l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all height of pe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s up nicely in mean +- plot  (2nd co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apparent clusters in scores pl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e tho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lly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 so, could lead to interesting dis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 not, could waste effort in investig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mary of PCA of Mass Flux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 of pe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ain mean +- plot very useful 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dth adjus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ain see most clearly in mean +-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ybe non-linear modes of variation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to find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turn to Investigation of PC1 Clust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se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bump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smooth 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Question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pling variabilit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:  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Ignificance of ZERo crossings of deriv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estimate (cont.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ditional litera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ll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ometric med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long before Huber) by:  Haldane (194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n unique for          by:  Milasevic and Ducharme (1987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iterative algorithm:  Gower (197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ee also Sec. 3.2 of Hub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 experience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s well f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4"/>
              <p:cNvSpPr txBox="1"/>
              <p:nvPr/>
            </p:nvSpPr>
            <p:spPr>
              <a:xfrm>
                <a:off x="685800" y="990720"/>
                <a:ext cx="3762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" name="Rectangle 1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9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21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22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3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24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28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0"/>
              <p:cNvSpPr txBox="1"/>
              <p:nvPr/>
            </p:nvSpPr>
            <p:spPr>
              <a:xfrm>
                <a:off x="3886200" y="3352680"/>
                <a:ext cx="8380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32"/>
              <p:cNvSpPr txBox="1"/>
              <p:nvPr/>
            </p:nvSpPr>
            <p:spPr>
              <a:xfrm>
                <a:off x="5943600" y="6172200"/>
                <a:ext cx="11430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es to Robust P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Estimation of Covariance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 Pursu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 3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30" descr=""/>
          <p:cNvPicPr/>
          <p:nvPr/>
        </p:nvPicPr>
        <p:blipFill>
          <a:blip r:embed="rId1"/>
          <a:srcRect l="21411" t="2526" r="11598" b="10104"/>
          <a:stretch/>
        </p:blipFill>
        <p:spPr>
          <a:xfrm>
            <a:off x="3352680" y="1447920"/>
            <a:ext cx="546264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 3: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 to sp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dea from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esti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particula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 data to centered spher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t D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data becom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e Ca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sily found by PCA (on pro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lled in to reduce influ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us of sphere unimporta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marron</cp:lastModifiedBy>
  <dcterms:modified xsi:type="dcterms:W3CDTF">2007-09-21T00:11:30Z</dcterms:modified>
  <cp:revision>602</cp:revision>
  <dc:subject/>
  <dc:title>Title</dc:title>
</cp:coreProperties>
</file>