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0302-B640-4C86-8748-BF1744B0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70CF-762B-475F-AE6A-A3157BEB8F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8C8C-E1E1-4DBC-8B60-637607C366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DB5A-965A-4EC5-A7B6-BB57999835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5B1E-A9C4-44D5-B60E-D54AB26365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2759-1F40-4A87-8245-9A31DF4994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0C9D-0752-46CE-952E-D05E8B60AA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2F35-E9CF-4672-B0D1-E08EF8504D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DF17-EBF5-479B-96EB-AB24FFCFAA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D3BC-3135-4669-BDDF-6F0991FBC9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C722-1A8F-40E2-B669-49782E5882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03A2-25A5-487F-88C5-DBE70769A6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C617-9F17-492D-BF76-8DFE43DEEB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9866-F17D-4167-987F-319D12BAE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31BA-612B-41AC-B1B4-B7099EC1A1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EB54-5992-4136-8308-F8CCAF1184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B31D-A988-44E7-B22E-A91B40D032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58E0-2F7A-4E21-8431-26456F74F0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A6C9-7759-4E67-A329-D87CE3B74B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E522-30CD-41A0-928E-9CA0E83045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C278-3169-4792-BAD7-FDC6381180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DA43-927A-4210-9E80-2D3B946D3E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2C0A-04A8-443E-8524-A947C54ED3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09B0-FC11-4B32-BC65-541DC081C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D748-13A4-48E3-87DE-AE5565AE09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7777-A491-4739-98F3-81A4817A11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A96D-FF20-4A8E-A854-6DE761441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E39-4A2D-4602-82C5-2BA49DBBB2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D8BC-B2C5-4DEC-A84A-C9C1EDC815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73D1-F598-4D96-8688-71EC87C806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0064-8B8C-479C-A235-8B977FB867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5A09-D8D3-4365-A211-AF1780CB06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596D-AECE-4076-A132-60C7366B0F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687D-634E-45B5-B5C2-B39825CA5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514A-B560-477B-BF54-CD762DEDEF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80BD-CE46-449C-A4A5-C5FBE19A2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A355-3769-4879-B2F5-0C8188628A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4CFE-7C87-452D-AFDD-79A97F5903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1D64-EC4C-452A-BBCB-B3AF37E81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5581-86A6-46FE-B8A1-106CD4490D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D027-B53C-47B9-B9DD-59E88029CF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C13B-4C2B-4FD6-B6E4-5874706FD6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2174-2325-4275-93DD-046460A162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7E43-BD46-4045-A7B0-FD723EFA46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73B5-3B52-40C5-A32B-9EFE3DC1AA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1ABC-B18C-47C0-9A07-82042A3A11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B185-1FFC-433A-844E-CC5A4F1364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8BDD-AB58-4E91-AEB4-6217F4A21F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7B17-C1DA-4D1C-BD1D-37C3F81E8C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576C-A2C6-4723-A761-53486B631C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8EF2-0516-4C35-A33A-A13A23ED17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916E-574C-4129-B3E2-A42DE9CDFD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7921-ACB6-45C0-AE4C-F0F1264007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B47-460F-4566-B8DA-9EC9DA126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0694-CF87-4602-837A-38DE067681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EF24-CCF3-4FFD-9827-3FC10409E7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7CA-2705-4D3C-BA71-96A923B0B9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896F-5C72-4834-93FD-2A850EF525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9254-0F33-40B0-9318-87B89E8A7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72D0-1F73-49D7-BA13-CEA487274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E974-C38B-46C3-A1E1-4E18148062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0965-BD24-4A87-959F-8E89642FFE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1C12-789D-476A-B540-EA67D28A7E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4930-8D0C-40D5-8C86-A3545DF3E9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264B-571E-4E92-8F62-F35FAB305C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7062-3486-45AE-8A22-FE91157B4E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0164-C6EF-49D8-BBF1-8B0EF12BC5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CC1D-9303-4B73-9F50-E7B7CE76FA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4690-9AC5-460A-861B-A986918469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C181-1077-4B04-804E-CF41E182D4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5B71-ED2D-48A1-B950-EB4850C34F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57BE-FC7D-4A4B-842E-54E61DFE96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FD77-D08A-42B9-B9DA-17698F8E2D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6F7C-B135-4CD5-A05F-50BD3B4F94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77C-4372-4149-AC8A-F8EC123B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900-3D7B-4A2A-9F58-84501F90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63B-8F56-4145-B97E-D7B40C5A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A31-33B7-4886-86A5-B41A63F7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A29-C4A0-4787-9C08-167BB46F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7D4-B666-48C0-9CE7-97CDA08F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4E7-954D-4BD2-9BAE-09AC26E0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8BD-C851-45A2-90A6-2BE699F5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E2E-540B-40AF-A92B-6335E1F2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22F-476F-43B9-B2B1-B18EF725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B56-CD6F-484C-A83E-C0621CA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0E0-8F94-44AE-9665-F63850BF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BC71-F7C6-4E58-90F9-7E91701C0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 &amp; Robust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imization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Likelihood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ing Clusters with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be us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can also miss s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  Hidalgo Stam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tical Issue for histogra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ice of binwidth  (well understood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StampsHistBWidth.mpg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 Well Understood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ice of bin 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impact on number of modes (2-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inwid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StampsHistLoc.mpg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ice of bin loc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going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 with </a:t>
            </a:r>
            <a:r>
              <a:rPr b="0" i="1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Average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StampsHistLocKDE.mpg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 shifts with </a:t>
            </a:r>
            <a:r>
              <a:rPr b="0" i="1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Average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7 mode 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ak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 u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ith bin ce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shifted histo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pea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34" descr="StampsHistBWidth3.jpg"/>
          <p:cNvPicPr/>
          <p:nvPr/>
        </p:nvPicPr>
        <p:blipFill>
          <a:blip r:embed="rId1"/>
          <a:stretch/>
        </p:blipFill>
        <p:spPr>
          <a:xfrm>
            <a:off x="4876920" y="3211560"/>
            <a:ext cx="41148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 shifts with </a:t>
            </a:r>
            <a:r>
              <a:rPr b="0" i="1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Average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2 (3?) mode 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ak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lit betwee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b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shifted histo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ss pea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34" descr="StampsHistBWidth3.jpg"/>
          <p:cNvPicPr/>
          <p:nvPr/>
        </p:nvPicPr>
        <p:blipFill>
          <a:blip r:embed="rId1"/>
          <a:stretch/>
        </p:blipFill>
        <p:spPr>
          <a:xfrm>
            <a:off x="4890960" y="3211560"/>
            <a:ext cx="40863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 Drawbac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to choose bin wid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to choose bin 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</a:t>
            </a:r>
            <a:r>
              <a:rPr b="0" i="1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Average Histogra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veals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should use that, instead of hi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:  Kernel Density 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ndrite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eors that hit the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have a chunk of r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“% of silic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how many sour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22 rock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 hopel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ought to statistical literature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and Gaskins (198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ndrite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points by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d b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are data “more dens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18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ndrite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probability mass 1/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t each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 piece of “densit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1298520" y="2514600"/>
            <a:ext cx="6418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ndrite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estimat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3 modes (rock sour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298520" y="2514600"/>
            <a:ext cx="6418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Mass Flux D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3" descr=""/>
          <p:cNvPicPr/>
          <p:nvPr/>
        </p:nvPicPr>
        <p:blipFill>
          <a:blip r:embed="rId1"/>
          <a:srcRect l="10104" t="12490" r="7578" b="0"/>
          <a:stretch/>
        </p:blipFill>
        <p:spPr>
          <a:xfrm>
            <a:off x="2443320" y="1531800"/>
            <a:ext cx="500508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al No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 shape given by “kernel”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 width given by “bandwidth”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"/>
              <p:cNvSpPr txBox="1"/>
              <p:nvPr/>
            </p:nvSpPr>
            <p:spPr>
              <a:xfrm>
                <a:off x="2133720" y="1600200"/>
                <a:ext cx="45590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"/>
              <p:cNvSpPr txBox="1"/>
              <p:nvPr/>
            </p:nvSpPr>
            <p:spPr>
              <a:xfrm>
                <a:off x="3657600" y="4419720"/>
                <a:ext cx="26622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/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4"/>
              <p:cNvSpPr txBox="1"/>
              <p:nvPr/>
            </p:nvSpPr>
            <p:spPr>
              <a:xfrm>
                <a:off x="8001000" y="54864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ice of kernel (window shap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versial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t Computational Spe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t Statistical Efficienc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t smooth estima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is more, but personal choice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discussion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d and Jones (199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ice of bandwidth (window width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-66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important to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damental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modes are “really ther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StampsKDE.mpg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use histograms if you mu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mooth (minimizes bin edge effec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man eye is OK at “post-smooth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StampsHistBWidth.mpg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Major Sett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parametric Re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Bralower Fossi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Global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cale of millions of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points are fossil sh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ed by surrounding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tio of Isotopes of Stront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ifferences in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cimal point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rogate for Sea Level (Ice 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seem to have structur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Bralower Fossi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3" name="Picture 2" descr=""/>
          <p:cNvPicPr/>
          <p:nvPr/>
        </p:nvPicPr>
        <p:blipFill>
          <a:blip r:embed="rId1"/>
          <a:srcRect l="0" t="8548" r="0" b="47012"/>
          <a:stretch/>
        </p:blipFill>
        <p:spPr>
          <a:xfrm>
            <a:off x="762120" y="1752480"/>
            <a:ext cx="7553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Bralower Fossi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y to bring out stru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of smooth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l Aver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lines (several 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– trim high frequ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controvers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Bralower Fossil Data – some smoo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Picture 2" descr=""/>
          <p:cNvPicPr/>
          <p:nvPr/>
        </p:nvPicPr>
        <p:blipFill>
          <a:blip r:embed="rId1"/>
          <a:srcRect l="0" t="51286" r="0" b="4274"/>
          <a:stretch/>
        </p:blipFill>
        <p:spPr>
          <a:xfrm>
            <a:off x="838080" y="1676520"/>
            <a:ext cx="75535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simple approach:  local aver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l in regression for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estimate           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Object 33"/>
              <p:cNvSpPr txBox="1"/>
              <p:nvPr/>
            </p:nvSpPr>
            <p:spPr>
              <a:xfrm>
                <a:off x="3048120" y="1981080"/>
                <a:ext cx="4152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Object 34"/>
              <p:cNvSpPr txBox="1"/>
              <p:nvPr/>
            </p:nvSpPr>
            <p:spPr>
              <a:xfrm>
                <a:off x="1828800" y="4038480"/>
                <a:ext cx="4915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35"/>
              <p:cNvSpPr txBox="1"/>
              <p:nvPr/>
            </p:nvSpPr>
            <p:spPr>
              <a:xfrm>
                <a:off x="3809880" y="5486400"/>
                <a:ext cx="99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urn to Investigation of PC1 Clust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e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bump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smooth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Questi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ing variabilit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gnificance of ZERo crossings of deri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simple approach:  local aver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 kernel window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timate the curve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a         weighted local avera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2"/>
              <p:cNvSpPr txBox="1"/>
              <p:nvPr/>
            </p:nvSpPr>
            <p:spPr>
              <a:xfrm>
                <a:off x="4038480" y="3124080"/>
                <a:ext cx="990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Object 4"/>
              <p:cNvSpPr txBox="1"/>
              <p:nvPr/>
            </p:nvSpPr>
            <p:spPr>
              <a:xfrm>
                <a:off x="3581280" y="4343400"/>
                <a:ext cx="411480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Object 5"/>
              <p:cNvSpPr txBox="1"/>
              <p:nvPr/>
            </p:nvSpPr>
            <p:spPr>
              <a:xfrm>
                <a:off x="2514600" y="3733920"/>
                <a:ext cx="647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Object 6"/>
              <p:cNvSpPr txBox="1"/>
              <p:nvPr/>
            </p:nvSpPr>
            <p:spPr>
              <a:xfrm>
                <a:off x="5562720" y="1828800"/>
                <a:ext cx="28828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representation of local avera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kernel window weight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l consta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it to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4"/>
              <p:cNvSpPr txBox="1"/>
              <p:nvPr/>
            </p:nvSpPr>
            <p:spPr>
              <a:xfrm>
                <a:off x="1219320" y="4114800"/>
                <a:ext cx="63817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6"/>
              <p:cNvSpPr txBox="1"/>
              <p:nvPr/>
            </p:nvSpPr>
            <p:spPr>
              <a:xfrm>
                <a:off x="5943600" y="2286000"/>
                <a:ext cx="28828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l Constant Fits (visually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ng Averag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 width      is critical (~ k.d.e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0" name="NPRMovie2a.mpg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334120" cy="396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1" name="Object 5"/>
              <p:cNvSpPr txBox="1"/>
              <p:nvPr/>
            </p:nvSpPr>
            <p:spPr>
              <a:xfrm>
                <a:off x="3886200" y="1981080"/>
                <a:ext cx="39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4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4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vari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l linea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it to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kernel window weight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Object 4"/>
              <p:cNvSpPr txBox="1"/>
              <p:nvPr/>
            </p:nvSpPr>
            <p:spPr>
              <a:xfrm>
                <a:off x="609480" y="4114800"/>
                <a:ext cx="76024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Object 6"/>
              <p:cNvSpPr txBox="1"/>
              <p:nvPr/>
            </p:nvSpPr>
            <p:spPr>
              <a:xfrm>
                <a:off x="5943600" y="2286000"/>
                <a:ext cx="28828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l Linear Fits (visually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cept of Moving Fit Lin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 width      is critical (~ k.d.e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Object 5"/>
              <p:cNvSpPr txBox="1"/>
              <p:nvPr/>
            </p:nvSpPr>
            <p:spPr>
              <a:xfrm>
                <a:off x="3886200" y="1981080"/>
                <a:ext cx="39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7" name="NPRMovie2b.mpg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333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vari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cept of Moving Polynomial Fi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 width      is critical (~ k.d.e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5"/>
              <p:cNvSpPr txBox="1"/>
              <p:nvPr/>
            </p:nvSpPr>
            <p:spPr>
              <a:xfrm>
                <a:off x="3886200" y="1981080"/>
                <a:ext cx="39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0" name="NPRMovie2c.mpg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333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l Polynomial Smo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best polynomial degre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ce again controversial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vocates for all of  0, 1, 2,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ends on personal weighting of factors in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d &amp; J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n &amp; Gijb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sonal choice:  degree 1, local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Bralower Fossils – local linear smoo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3" name="Picture 2" descr=""/>
          <p:cNvPicPr/>
          <p:nvPr/>
        </p:nvPicPr>
        <p:blipFill>
          <a:blip r:embed="rId1"/>
          <a:srcRect l="0" t="51286" r="0" b="4274"/>
          <a:stretch/>
        </p:blipFill>
        <p:spPr>
          <a:xfrm>
            <a:off x="838080" y="1676520"/>
            <a:ext cx="75535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s of Bralower Fossil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v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isses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Und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eels sampling noi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About righ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hows 2 valle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e seems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other one really t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question as abov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ice of bandwidth (window width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-66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important to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damental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modes are “really ther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1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6" name="StampsKDE.mpg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Major Sett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parametric Re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Smooth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ice of bandwidth (window width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important to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Based Choi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versial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 recommend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ed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nes, Marron &amp; Sheather (199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ver a consensu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ice of bandwidth (window width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Cho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 all of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look at whole spectrum of smoo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ee different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different smoothing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cale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Stamp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any mod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1132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answers are there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9" name="Picture 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4880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Smoot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damental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both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:   “Histogram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ression:    “Scatterplot Smooth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bumps are “really ther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.  “artifacts of sampling nois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Major Setting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scatterpl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-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, n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ete bar plo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Which features are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Arial Unicode MS"/>
                <a:ea typeface="Arial Unicode MS"/>
              </a:rPr>
              <a:t>really there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, Part 1:  Scal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, Part 2: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a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Fossil Data   -   Global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3" name="Picture 33" descr=""/>
          <p:cNvPicPr/>
          <p:nvPr/>
        </p:nvPicPr>
        <p:blipFill>
          <a:blip r:embed="rId1"/>
          <a:srcRect l="5052" t="10706" r="5052" b="0"/>
          <a:stretch/>
        </p:blipFill>
        <p:spPr>
          <a:xfrm>
            <a:off x="838080" y="1828800"/>
            <a:ext cx="7523280" cy="105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s   -   Suggest Structure   -  Re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5" name="Picture 33" descr=""/>
          <p:cNvPicPr/>
          <p:nvPr/>
        </p:nvPicPr>
        <p:blipFill>
          <a:blip r:embed="rId1"/>
          <a:srcRect l="5052" t="51744" r="5052" b="0"/>
          <a:stretch/>
        </p:blipFill>
        <p:spPr>
          <a:xfrm>
            <a:off x="1066680" y="1752480"/>
            <a:ext cx="7523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s of Fossil Data (details given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tted line: undersmooth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eels sampling variabi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shed line: oversmooth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mportant features missed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id line: smoothed about righ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Which features are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really there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ing Setting 2: Histo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mily Income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tish Family Expenditure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year 197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ribution of Family Incom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 7000 famil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mily Income Data,  Histogram Analysi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9" name="IncomesHistBWidth.mpg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7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7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  Hidalgo Stam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cknesses of Postage Stam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duced in Mex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 ~ 70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ring 1800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per produced in several factor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any factories?   (Records l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ought to statistical literature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zenman and Sommer (198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5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mily Income Data,  Histogram Analysi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under- and over- smoothing issu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haps 2 modes in dat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 Problem 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nwidth (well know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entral ques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Which features are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really there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2 mod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5720" indent="-675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problem as existen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use (conventional) histogram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 Problem 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n shift (less well know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2" name="IncomesHistLoc.mpg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64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64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use (conventional) histogram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gram Problem 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n shift (less well know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inwid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mu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mpres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on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ifting grid 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it right by chanc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use (conventional) histogram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 to binshift proble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erage over all shif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5" name="IncomesHistLocKDE.mpg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70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70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use (conventional) histogram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 to binshift proble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erage over all shif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st peak all in one bin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mod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st peak split between bins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mod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Smooth histo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vides understanding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should use for data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name: 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Kernel Density Estimat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dea from Computer Vi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-69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eptual basi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smoothing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from af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acrosc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moothing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oomed in 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icroscopi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all smooths contain useful information, so 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ll spectr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. e. all smoothing leve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reference: Lindeberg (199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Scale Spaces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Family Income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1" name="IncomesKDEspect.mpg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80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80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Scale Spaces Views (Income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trum Over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4" name="Picture 34" descr=""/>
          <p:cNvPicPr/>
          <p:nvPr/>
        </p:nvPicPr>
        <p:blipFill>
          <a:blip r:embed="rId1"/>
          <a:srcRect l="11598" t="6315" r="8921" b="0"/>
          <a:stretch/>
        </p:blipFill>
        <p:spPr>
          <a:xfrm>
            <a:off x="1371600" y="2057400"/>
            <a:ext cx="59961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Scale Spaces Views (Income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fac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7" name="Picture 34" descr=""/>
          <p:cNvPicPr/>
          <p:nvPr/>
        </p:nvPicPr>
        <p:blipFill>
          <a:blip r:embed="rId1"/>
          <a:srcRect l="11598" t="6315" r="8921" b="0"/>
          <a:stretch/>
        </p:blipFill>
        <p:spPr>
          <a:xfrm>
            <a:off x="1371600" y="2057400"/>
            <a:ext cx="59961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Scale Spaces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Family Incomes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cale space viewpoint mak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Dased Bandwidth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Much les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an I once thou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  Hidalgo Stam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smooth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n Width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s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uctu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8" descr="StampsHistBWidth1.jpg"/>
          <p:cNvPicPr/>
          <p:nvPr/>
        </p:nvPicPr>
        <p:blipFill>
          <a:blip r:embed="rId1"/>
          <a:stretch/>
        </p:blipFill>
        <p:spPr>
          <a:xfrm>
            <a:off x="4495680" y="3124080"/>
            <a:ext cx="41148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nificance of 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 crossings, of the derivative, in scal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statistical infere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vel visualiz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get: a powerful exploratory data analysis meth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udhuri &amp; Marron (1999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c idea: 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m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characterized b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in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llowed by a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iz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atures of intere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aptur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ign of the slop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the sm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ndation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inference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lop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 scale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sual present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 map over scale spac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: slope significantly upward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rivative CI above 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d: slope significantly downwar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rivative CI below 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urple: slope in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rivative CI contains 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Fossils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8" name="Sizer2Eg_Fossil.mpg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02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02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20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Fossils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per Lef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catterplot, family of smooths, 1 highligh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per Righ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cale space r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family, with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lor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er Lef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, more easy to 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er Righ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iCon ma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lac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op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der (in movie viewer) highligh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ifferent smoothing levels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Fossils data (cont.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top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reases at left, not on r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um 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middle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valley significant, and left most incre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er valley not statistically signific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bottom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ise wig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t signific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itional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lor: </a:t>
            </a:r>
            <a:r>
              <a:rPr b="0" lang="en-US" sz="32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gra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t enough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infer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Fossils data (cont.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Question:  Which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-696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reases on left, then fl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op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-696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, then down, then up aga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iddle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-696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significant fea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ottom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wer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-696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st 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s of vie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96960" indent="-696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s of resolution of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British Incomes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7" name="Sizer2Eg_Incomes.mpg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15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15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2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 of British Incomes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Only one m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um 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Two modes, statistically signific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rmed by Schmitz &amp; Marron, (199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mooth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m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ise wiggl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not signific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: all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c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st differen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rical Note &amp; Acknowledg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 Space:     S. M. Pi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Probal Chaudhu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Reference: Chaudhuri &amp; Marron (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  Hidalgo Stam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er binwid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2 mod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factories m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2" descr="StampsHistBWidth2.jpg"/>
          <p:cNvPicPr/>
          <p:nvPr/>
        </p:nvPicPr>
        <p:blipFill>
          <a:blip r:embed="rId1"/>
          <a:stretch/>
        </p:blipFill>
        <p:spPr>
          <a:xfrm>
            <a:off x="4876920" y="3200400"/>
            <a:ext cx="41148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  -  Marron &amp; Wand Trimodal #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reasing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1 Sign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2 Sign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ally all 3 M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4" name="Picture 34" descr=""/>
          <p:cNvPicPr/>
          <p:nvPr/>
        </p:nvPicPr>
        <p:blipFill>
          <a:blip r:embed="rId1"/>
          <a:srcRect l="10104" t="9813" r="6315" b="0"/>
          <a:stretch/>
        </p:blipFill>
        <p:spPr>
          <a:xfrm>
            <a:off x="5275440" y="1741320"/>
            <a:ext cx="3597120" cy="5497560"/>
          </a:xfrm>
          <a:prstGeom prst="rect">
            <a:avLst/>
          </a:prstGeom>
          <a:ln w="0">
            <a:noFill/>
          </a:ln>
        </p:spPr>
      </p:pic>
      <p:sp>
        <p:nvSpPr>
          <p:cNvPr id="2255" name="Line 36"/>
          <p:cNvSpPr/>
          <p:nvPr/>
        </p:nvSpPr>
        <p:spPr>
          <a:xfrm flipV="1">
            <a:off x="4267080" y="2666520"/>
            <a:ext cx="3733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Line 37"/>
          <p:cNvSpPr/>
          <p:nvPr/>
        </p:nvSpPr>
        <p:spPr>
          <a:xfrm>
            <a:off x="4495680" y="43434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Line 38"/>
          <p:cNvSpPr/>
          <p:nvPr/>
        </p:nvSpPr>
        <p:spPr>
          <a:xfrm>
            <a:off x="4038480" y="5257800"/>
            <a:ext cx="4038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- Marron &amp; Wand Discrete Comb #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reasing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arse Bump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Fine bumps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day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ndwidth on 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28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0" name="Picture 34" descr=""/>
          <p:cNvPicPr/>
          <p:nvPr/>
        </p:nvPicPr>
        <p:blipFill>
          <a:blip r:embed="rId1"/>
          <a:srcRect l="10104" t="9813" r="6315" b="0"/>
          <a:stretch/>
        </p:blipFill>
        <p:spPr>
          <a:xfrm>
            <a:off x="5275440" y="1741320"/>
            <a:ext cx="3597120" cy="5497560"/>
          </a:xfrm>
          <a:prstGeom prst="rect">
            <a:avLst/>
          </a:prstGeom>
          <a:ln w="0">
            <a:noFill/>
          </a:ln>
        </p:spPr>
      </p:pic>
      <p:sp>
        <p:nvSpPr>
          <p:cNvPr id="2291" name="Line 35"/>
          <p:cNvSpPr/>
          <p:nvPr/>
        </p:nvSpPr>
        <p:spPr>
          <a:xfrm flipV="1">
            <a:off x="4191120" y="2666520"/>
            <a:ext cx="3809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Line 36"/>
          <p:cNvSpPr/>
          <p:nvPr/>
        </p:nvSpPr>
        <p:spPr>
          <a:xfrm>
            <a:off x="4343400" y="4343400"/>
            <a:ext cx="4267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Line 37"/>
          <p:cNvSpPr/>
          <p:nvPr/>
        </p:nvSpPr>
        <p:spPr>
          <a:xfrm>
            <a:off x="4343400" y="4343400"/>
            <a:ext cx="4343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ance "tick data"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ime, price) of single stock transa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 "on line" version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viewing and understanding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6" name="SiZerStockPrice2.mpg" descr=""/>
          <p:cNvPicPr/>
          <p:nvPr/>
        </p:nvPicPr>
        <p:blipFill>
          <a:blip r:embed="rId1"/>
          <a:stretch/>
        </p:blipFill>
        <p:spPr>
          <a:xfrm>
            <a:off x="3200400" y="3174840"/>
            <a:ext cx="2895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32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32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2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4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ance "tick data"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ime, price) of single stock transa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 "on line" version of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viewing and understanding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end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pend heavily o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uble poin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d mo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ckground col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rans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lop over at to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  Hidalgo Stam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er binwid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6 mod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 factories m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4" descr="StampsHistBWidth3.jpg"/>
          <p:cNvPicPr/>
          <p:nvPr/>
        </p:nvPicPr>
        <p:blipFill>
          <a:blip r:embed="rId1"/>
          <a:stretch/>
        </p:blipFill>
        <p:spPr>
          <a:xfrm>
            <a:off x="4876920" y="3200400"/>
            <a:ext cx="41148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  Hidalgo Stam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 smaller binwid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many mod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ly belie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s are “ther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 just samp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34" descr="StampsHistBWidth3.jpg"/>
          <p:cNvPicPr/>
          <p:nvPr/>
        </p:nvPicPr>
        <p:blipFill>
          <a:blip r:embed="rId1"/>
          <a:stretch/>
        </p:blipFill>
        <p:spPr>
          <a:xfrm>
            <a:off x="4876920" y="3209760"/>
            <a:ext cx="41148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09-25T21:32:21Z</dcterms:modified>
  <cp:revision>715</cp:revision>
  <dc:subject/>
  <dc:title>Title</dc:title>
</cp:coreProperties>
</file>