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255D-82A1-482A-947D-85F74BBDC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8CD1-A004-4517-931F-62D9FB4C32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448-DA86-4E23-B23F-FE191FAA3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9A29-F788-4A5D-978B-7F5AA45DD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DD1F-A26C-41D8-8EA1-5FE208EC6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3A5-DFED-47D7-A8E5-C60B092F44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AEB-61EE-4A79-A4B4-F4E62F164B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E8B0-3B9E-458F-B7D3-902222DFE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47C-DD56-4888-BD81-61DC327D6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E4E-B930-4370-B025-796764BA1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D6C6-E39B-42FE-8EDC-485A1F31A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6F0-6524-4E87-8C03-C4E65469D9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A57-07CE-4AFE-93A6-3543E3B1A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69D7-F4CF-4F36-8AB9-1BAE8A6FB9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Flux1d1p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5EE-9A5A-4058-BA3B-0800DB600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Flux1d1p1s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33B6-DD4E-466A-A69C-D94B27621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92BF-A2FA-4443-9459-D48FEE2667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A9D-4C51-4C9D-BB2D-83F704C1A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9B7-C939-48A4-80C8-8083DDC01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9E84-43CE-468B-93AB-0C178739A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81F6-593A-4E4B-AFE0-B38F77B1B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man_alpah_complete_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36E-6998-42DC-A669-3D7F4629C1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1E87-3360-4EA3-94BC-40B08F6CC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llman_alpah_complete_proj_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F0F-D07C-4747-A797-A937FE9A2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2dSpellClass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83A-C496-4769-982A-174DA243F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BB6-6A19-4687-893D-C000FB9D1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D68C-AA43-4EAD-9B6C-9C9FC881A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Th200SiZer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32A8-6845-4A0C-BBBD-CF0821BE7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Th200ScatPlot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04C4-56A3-4F6D-8D57-1C4B44EC4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2dSpellClass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E75-D2F0-431E-8434-8EA878AE81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sKDEspect3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69AA-41B1-4D7B-B3E1-79A3D6FB1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CycTh200KDE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ED83-D470-43C0-AB17-FC1631B8C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9AD6-56BE-4011-A1F2-51B0C6222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DF03-2E46-42EC-AB06-C3FB6A9C55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DCC-EC8E-4794-8116-7C4A2066B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1FC-D167-4FBD-8B14-B74C75EA1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9C7-F1E0-4B9F-A108-776AE3661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A3A-AEF8-454F-9E53-5858E2F58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BCFC-8CFF-4206-84B6-FCCF9D9A9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9793-530E-477D-A436-FB4466F27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2EF3-4C9D-4CEB-A81B-C3D54B0373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03C-0BC5-4A29-ABE9-3F3133834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35FF-EB1B-4154-AE2F-BB2567C64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W3d1FFPp003LandmarksAll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3362-8890-4139-BF14-05E3228C3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7A5D-BB3C-4D59-A787-C44AEE0C4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W3d1FFPp003LandmarksAllPro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6FF4-D7D6-430A-B6C4-FF43FFA7D1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00C-2927-4493-8326-A3F205C967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15E-855F-4F8B-9F5D-7FBCCBB335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1E5-5E86-499C-9FBD-6D639EB68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5A29-576C-4F71-BFA9-22474F920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A159-ACCF-4667-9DC2-2F7439153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0BBA-9D87-4412-862F-BDD827B97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 graphics from Liz’s viewer in MarronBrain, STree.exe, NormalA-0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02F-269D-4DA4-94B5-3E048B85EF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3CAD-D6D4-40EC-8ECE-56A7A989B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5389-A443-48FF-811D-859536C0F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 graphics from Liz’s viewer in MarronBrain, STree.exe, NormalA-0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E08-EE21-49D3-9270-9F942F971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 graphics from Liz’s viewer in MarronBrain, STree.exe, NormalA-0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E02-EF41-46DF-8687-894877A33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3104-0589-48AE-869D-6C5B4DDCE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6A8-6E7C-4642-99B9-46E4D1D1B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C66-A67A-4583-822F-A76505246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1F7-D4CB-4B51-B381-88D83BD6A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B1E-FC90-4E7F-8377-7AAAA2E1A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1136-0C6F-4275-B552-C464F2DFA1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B90E-C3B3-450C-9E66-85375F1C5E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DA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CF1-2A5E-465D-807F-F1BA28D94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8E9-FF85-4E9B-8A6E-E83DDC62F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4A8-FBBA-47F3-96B9-67B612D244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A2AE-ADB5-4FF3-8164-DF6348EA8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262-DA47-4D47-A618-134514F90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A75-D00A-4549-A2F2-E471198AC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FDE-3E07-4659-94B0-436DA7C0F6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B3A-3F8E-4EEB-A64A-82A10E3787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608-840E-4438-BBEB-533D2D06C8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5D7E-1E6A-4724-A429-A782C9522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6E88-5FC7-4934-934A-531D6D857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BCAF-C0C3-4FB2-B35F-3D108E66B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7BC-43D2-42FC-B3E1-5B2AD167D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0BC-CBD4-4542-A478-9851CAC76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B0F4-2E16-4733-95EF-8BA46ADA1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7970-B771-4BB2-91FB-59039000D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28D-14AC-4318-80AA-6200594B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034-6474-4B4C-BAC0-885015D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145-D5EC-486A-AFA7-23FB7E82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032-BD30-480D-A8B9-A38B3259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148-A495-475E-993C-BE73CE8C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FD24-0B23-4571-A32A-619F89BE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2B98-FAC8-4BE1-8400-BA15F99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CCBA-0D30-4AEA-9FC7-9BEABB21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65DD-18CA-422B-A99F-6541AFB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375-4D13-4B16-AD8A-CA0362CB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7AFD-4F8A-4E55-B0AF-4EB3DD3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1CF-3BD3-466F-A168-A2A4811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5FAB-C3BA-4386-9C7D-DDE555C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0289-AE79-4E56-9FFF-265F8C5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807C-0F31-4872-88A3-E0FAC5F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1F3-5D42-49AB-99BA-587B47F2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066-3E53-4567-B83F-6C878F74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6D0D-0ADA-49A7-9960-F3888B1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2191-C62F-4D68-B30B-B3937A1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80F8-CADB-4ED1-82F8-1B0A524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5D55-9964-4AED-BDF2-63465B9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A48F-068C-4DFE-A595-62BA039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C44-630B-48F2-AF05-E071E40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8C35-252A-4384-91A2-FEA6C80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EBEF-1D4C-44F0-B4B7-8F76CEC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DE41-E870-4C94-97B2-EA51017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DCF8-5B3D-4684-9C8B-9665075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870E-DE6D-423F-AA2E-644AF76F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08C0-E98E-4F77-80BD-972EE6BD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C00C-BF22-4796-933B-D4B8FD0D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A42-DBDE-491C-994F-70D056C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C77-756B-4684-B5AB-A912070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472-2955-4200-9E08-5626E600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5AA-E4B9-40A8-A98A-6C60FAE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990-C167-4309-8185-DCE3271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12A-E40F-4D61-86C0-6335C29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A7B-B310-4EFF-878E-CC090A02D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A8C-9C77-4C5A-B95B-2F6B5D127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C55-987B-4066-B2D0-B4584B04D2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gwgilc.people.wm.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geometry.caltech.edu/pubs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meshlab.sourceforge.net/SnapMeshLab.brain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nsity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npar. Re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Inference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bump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ent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ndonotti, Marron, and Park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mpares data with whit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appropriate in time s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ent </a:t>
            </a:r>
            <a:r>
              <a:rPr b="0" lang="en-US" sz="32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mpares data with an assum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ness of F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2002 Apr 13 Sat 1 pm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  <a:ea typeface="Arial Unicode MS"/>
              </a:rPr>
              <a:t>–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 3 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rcRect l="8896" t="5726" r="12046" b="6393"/>
          <a:stretch/>
        </p:blipFill>
        <p:spPr>
          <a:xfrm>
            <a:off x="685800" y="14479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ed view (to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 reg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i.e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at to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6637" t="4126" r="9223" b="6393"/>
          <a:stretch/>
        </p:blipFill>
        <p:spPr>
          <a:xfrm>
            <a:off x="68580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rther Zoom: 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eriodic behavior!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6637" t="4126" r="9790" b="6393"/>
          <a:stretch/>
        </p:blipFill>
        <p:spPr>
          <a:xfrm>
            <a:off x="60948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ff78"/>
            </a:gs>
            <a:gs pos="50000">
              <a:srgbClr val="ffffff"/>
            </a:gs>
            <a:gs pos="100000">
              <a:srgbClr val="78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ssible Physical Expla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Sc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device of hac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ing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k in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d query to every possible (within UNC domai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ies can indicate system weak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is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hard to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uld you like to try a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lab softw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unc.edu/depts/statistics/postscript/papers/marron/Matlab6Software/Smoothing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VA version (demo, beta): Follow th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nk from the Wagner Associates home pag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wagner.com/www.wagner.com/SiZer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etails, examples and discuss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stat.unc.edu/faculty/marron/DataAnalyses/SiZer_Intro.htm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PCA of Mass Flux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33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Mass Flux,  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3" descr=""/>
          <p:cNvPicPr/>
          <p:nvPr/>
        </p:nvPicPr>
        <p:blipFill>
          <a:blip r:embed="rId1"/>
          <a:srcRect l="13382" t="3789" r="8029" b="0"/>
          <a:stretch/>
        </p:blipFill>
        <p:spPr>
          <a:xfrm>
            <a:off x="1143000" y="1371600"/>
            <a:ext cx="68245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6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Mass Flux,  PC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s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3 significant clust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 to 3 kn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oud 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th deeper investig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cro-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af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eprocessing):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ousands of genes    (d ~ 1,00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dozen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n ~ 1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tatistic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(HDL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andwidth (window width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-66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 to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dament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modes are “really ther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StampsKDE.mpg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28600" y="5562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gen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rcRect l="13382" t="15157" r="16058" b="12631"/>
          <a:stretch/>
        </p:blipFill>
        <p:spPr>
          <a:xfrm>
            <a:off x="1568520" y="1117440"/>
            <a:ext cx="58611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1430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3429000" y="866880"/>
            <a:ext cx="52704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    which gen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approach:      Simple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apparent (2 cycle) periodic struct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alues suggest large amount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of maximal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, but not always, same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 need better approach to study periodi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s, Freq. 2 Proj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3581280" y="1009800"/>
            <a:ext cx="5220000" cy="6534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762120" y="1523880"/>
            <a:ext cx="2361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quency 2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quency 2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onto 2-dim space of sin and cos (freq.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scatter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(in polar coordinates) show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s:  Spell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cell cycle phase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ck was labe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peri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 phases appr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 same, but notable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ry to impr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ase class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ase 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outer 200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ther numbers tried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resolu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of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SiZer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bumps, etc., in histogra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ly redrew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by studying k.d.e.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udy of D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Ang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lassification of Major Gen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to Previous Class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 (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fac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4" descr=""/>
          <p:cNvPicPr/>
          <p:nvPr/>
        </p:nvPicPr>
        <p:blipFill>
          <a:blip r:embed="rId1"/>
          <a:srcRect l="11598" t="6315" r="8921" b="0"/>
          <a:stretch/>
        </p:blipFill>
        <p:spPr>
          <a:xfrm>
            <a:off x="1371600" y="2057400"/>
            <a:ext cx="5996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Subpopulation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o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ation    (find object bound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     (align obj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ll about single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pulations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Population Var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imination (a.k.a. Class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x Data Structures (&amp; Sp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High Dim, Low Sample Siz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x 3-d Objects Hard to Re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need d =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x 3-d Objects Costly to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have n =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bject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pproaches for Im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each object 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at point locations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represen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vectors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int loca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n 2-d or 3-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its in OODA framewo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of Field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Shape Analy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mportant precursor of FDA &amp; OO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ndall (1981, 19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kstein (19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yden and Mardia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ost readable and comprehns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ce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y Wing Data (Drosophila fruit fl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George Gilchrist, W. &amp; M. 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gwgilc.people.wm.ed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 Illustrating Landmarks (next p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9400" indent="-506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veins appear in all f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9400" indent="-506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always have same 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9400" indent="-506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all landmarks alway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 for fly wing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rcRect l="8767" t="32564" r="6575" b="20841"/>
          <a:stretch/>
        </p:blipFill>
        <p:spPr>
          <a:xfrm>
            <a:off x="1143000" y="2743200"/>
            <a:ext cx="7064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issue for landmark approach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, i. 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lustration with Fly Wing Data (next sl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s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 in pho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unclear where wing is positio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British Incomes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Sizer2Eg_Incomes.mpg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lustr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with Fly W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5" descr=""/>
          <p:cNvPicPr/>
          <p:nvPr/>
        </p:nvPicPr>
        <p:blipFill>
          <a:blip r:embed="rId1"/>
          <a:srcRect l="7137" t="6315" r="10706" b="7578"/>
          <a:stretch/>
        </p:blipFill>
        <p:spPr>
          <a:xfrm>
            <a:off x="1311120" y="1944720"/>
            <a:ext cx="6323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 Approach to Registration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Procrustes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out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mod out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mod ou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yden and Mardia (198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custes Results for Fly W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rcRect l="7137" t="6315" r="10706" b="7578"/>
          <a:stretch/>
        </p:blipFill>
        <p:spPr>
          <a:xfrm>
            <a:off x="1311120" y="1944720"/>
            <a:ext cx="6323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Procrustes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Difference Between Conti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ies from Europe &amp; South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 for important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on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e with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 time sp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ugh range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Procrustes Adjust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s on Difference Between Conti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FW3d1FFPp081ProSizeMDCont.avi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Procrustes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s on Difference Between Conti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feel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understand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, Rotation, Scale Procrus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s on Difference Between Conti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FW3d1FFPp031ProShapeMDCont.avi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Procrustes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s on Difference Between Conti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feel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understand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ll Procru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ods ou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ocation, size, r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clear focus on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 Drawba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andma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always find each land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sam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andmarks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medical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How many corresponding landmarks on a set of kidneys, livers or brai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 for brai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k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z Bull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har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dentif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Picture 6" descr=""/>
          <p:cNvPicPr/>
          <p:nvPr/>
        </p:nvPicPr>
        <p:blipFill>
          <a:blip r:embed="rId1"/>
          <a:srcRect l="62287" t="11252" r="3526" b="53758"/>
          <a:stretch/>
        </p:blipFill>
        <p:spPr>
          <a:xfrm>
            <a:off x="4295880" y="2192400"/>
            <a:ext cx="42591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e "tick data"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ime, price) of single stock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"on line" vers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viewing and understanding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SiZerStockPrice2.mpg" descr=""/>
          <p:cNvPicPr/>
          <p:nvPr/>
        </p:nvPicPr>
        <p:blipFill>
          <a:blip r:embed="rId1"/>
          <a:stretch/>
        </p:blipFill>
        <p:spPr>
          <a:xfrm>
            <a:off x="3200400" y="3174840"/>
            <a:ext cx="2895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 across peo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“folds”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1"/>
          <a:srcRect l="62287" t="11252" r="3526" b="53758"/>
          <a:stretch/>
        </p:blipFill>
        <p:spPr>
          <a:xfrm>
            <a:off x="4295880" y="2192400"/>
            <a:ext cx="42591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 across peo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“folds”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rcRect l="62287" t="11252" r="3526" b="53758"/>
          <a:stretch/>
        </p:blipFill>
        <p:spPr>
          <a:xfrm>
            <a:off x="4295880" y="2192400"/>
            <a:ext cx="42685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sets of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angular Mes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vey:  Owen (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tive Shap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tes, et al (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leman, et al (1997 &amp;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of triangular mesh rep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rom: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geometry.caltech.edu/pub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5" descr="A high-genus buddha simplified down to 2K triangles, with and without topology filtering"/>
          <p:cNvPicPr/>
          <p:nvPr/>
        </p:nvPicPr>
        <p:blipFill>
          <a:blip r:embed="rId2"/>
          <a:stretch/>
        </p:blipFill>
        <p:spPr>
          <a:xfrm>
            <a:off x="1447920" y="1752480"/>
            <a:ext cx="64767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of triangular mesh rep’n for a br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1"/>
              </a:rPr>
              <a:t>meshlab.sourceforge.net/SnapMeshLab.brain.jp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Picture 5" descr="SnapMeshLab"/>
          <p:cNvPicPr/>
          <p:nvPr/>
        </p:nvPicPr>
        <p:blipFill>
          <a:blip r:embed="rId2"/>
          <a:srcRect l="6227" t="13142" r="4670" b="9387"/>
          <a:stretch/>
        </p:blipFill>
        <p:spPr>
          <a:xfrm>
            <a:off x="1828800" y="1828800"/>
            <a:ext cx="575928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rawbac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ODA (on vectors of parameter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“match up poi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to find triangular me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ts of research on this driven by ga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e match mesh acros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ome interesting idea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Object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ized skelet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ato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center to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y a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accessible early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shkevich, et al 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CCMsciznormRaw.avi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05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rcRect l="7230" t="26646" r="10845" b="11669"/>
          <a:stretch/>
        </p:blipFill>
        <p:spPr>
          <a:xfrm>
            <a:off x="3135240" y="2671920"/>
            <a:ext cx="5307120" cy="3714480"/>
          </a:xfrm>
          <a:prstGeom prst="rect">
            <a:avLst/>
          </a:prstGeom>
          <a:ln w="0">
            <a:noFill/>
          </a:ln>
        </p:spPr>
      </p:pic>
      <p:sp>
        <p:nvSpPr>
          <p:cNvPr id="624" name="Line 6"/>
          <p:cNvSpPr/>
          <p:nvPr/>
        </p:nvSpPr>
        <p:spPr>
          <a:xfrm>
            <a:off x="1676520" y="3809880"/>
            <a:ext cx="25905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1752480" y="4343400"/>
            <a:ext cx="2438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8"/>
          <p:cNvSpPr/>
          <p:nvPr/>
        </p:nvSpPr>
        <p:spPr>
          <a:xfrm flipH="1" flipV="1">
            <a:off x="4114800" y="41148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4191120" y="4419360"/>
            <a:ext cx="2286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0"/>
          <p:cNvSpPr/>
          <p:nvPr/>
        </p:nvSpPr>
        <p:spPr>
          <a:xfrm flipV="1">
            <a:off x="2286000" y="5333760"/>
            <a:ext cx="106668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 Example:    From Ja-Yeon Je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d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state - Rectu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   -   Spokes   -   Implied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2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592360" cy="2895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610000" cy="2917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8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592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e "tick data"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ime, price) of single stock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"on line" vers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viewing and understanding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pend heavily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uble poi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m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 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rans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lop over at to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s:   there are several var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cho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rcRect l="6443" t="22138" r="6443" b="12650"/>
          <a:stretch/>
        </p:blipFill>
        <p:spPr>
          <a:xfrm>
            <a:off x="2971800" y="2133720"/>
            <a:ext cx="57326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parameters 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ffed into a long v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many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th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4"/>
              <p:cNvSpPr txBox="1"/>
              <p:nvPr/>
            </p:nvSpPr>
            <p:spPr>
              <a:xfrm>
                <a:off x="3809880" y="243828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1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6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analy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a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what is the averag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   (average of the numb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cours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 View of angular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s points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5"/>
              <p:cNvSpPr txBox="1"/>
              <p:nvPr/>
            </p:nvSpPr>
            <p:spPr>
              <a:xfrm>
                <a:off x="1600200" y="3429000"/>
                <a:ext cx="71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7"/>
              <p:cNvSpPr txBox="1"/>
              <p:nvPr/>
            </p:nvSpPr>
            <p:spPr>
              <a:xfrm>
                <a:off x="1752480" y="3962520"/>
                <a:ext cx="297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8"/>
              <p:cNvSpPr txBox="1"/>
              <p:nvPr/>
            </p:nvSpPr>
            <p:spPr>
              <a:xfrm>
                <a:off x="4368960" y="2819520"/>
                <a:ext cx="273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8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(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8"/>
              <p:cNvSpPr txBox="1"/>
              <p:nvPr/>
            </p:nvSpPr>
            <p:spPr>
              <a:xfrm>
                <a:off x="7086600" y="2209680"/>
                <a:ext cx="12859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Oval 8"/>
          <p:cNvSpPr/>
          <p:nvPr/>
        </p:nvSpPr>
        <p:spPr>
          <a:xfrm>
            <a:off x="914400" y="1981080"/>
            <a:ext cx="4270320" cy="4267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0"/>
          <p:cNvSpPr/>
          <p:nvPr/>
        </p:nvSpPr>
        <p:spPr>
          <a:xfrm>
            <a:off x="3047400" y="1752480"/>
            <a:ext cx="75960" cy="472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Straight Connector 15"/>
          <p:cNvSpPr/>
          <p:nvPr/>
        </p:nvSpPr>
        <p:spPr>
          <a:xfrm>
            <a:off x="533520" y="4114800"/>
            <a:ext cx="48765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8" name="Straight Arrow Connector 19"/>
          <p:cNvCxnSpPr/>
          <p:nvPr/>
        </p:nvCxnSpPr>
        <p:spPr>
          <a:xfrm flipH="1">
            <a:off x="5257440" y="2590920"/>
            <a:ext cx="182952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9" name="Straight Arrow Connector 20"/>
          <p:cNvCxnSpPr/>
          <p:nvPr/>
        </p:nvCxnSpPr>
        <p:spPr>
          <a:xfrm flipH="1">
            <a:off x="5181120" y="3351600"/>
            <a:ext cx="19058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0" name="Straight Arrow Connector 21"/>
          <p:cNvCxnSpPr/>
          <p:nvPr/>
        </p:nvCxnSpPr>
        <p:spPr>
          <a:xfrm flipH="1">
            <a:off x="5257440" y="4113720"/>
            <a:ext cx="1753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1" name="Straight Arrow Connector 22"/>
          <p:cNvCxnSpPr/>
          <p:nvPr/>
        </p:nvCxnSpPr>
        <p:spPr>
          <a:xfrm flipH="1" flipV="1">
            <a:off x="5257440" y="4190760"/>
            <a:ext cx="17532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2" name="Straight Arrow Connector 31"/>
          <p:cNvCxnSpPr/>
          <p:nvPr/>
        </p:nvCxnSpPr>
        <p:spPr>
          <a:xfrm flipH="1">
            <a:off x="990000" y="1599120"/>
            <a:ext cx="3353400" cy="259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3" name="Straight Arrow Connector 32"/>
          <p:cNvCxnSpPr/>
          <p:nvPr/>
        </p:nvCxnSpPr>
        <p:spPr>
          <a:xfrm flipH="1">
            <a:off x="5257080" y="1523520"/>
            <a:ext cx="153000" cy="2515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Analysis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 Directions  (0-36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netic Fields   (0-36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acks    (0-1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is a literature (monograph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dia  (1972, 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, et al  (1987, 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priat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Lie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in higher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Euc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5"/>
              <p:cNvSpPr txBox="1"/>
              <p:nvPr/>
            </p:nvSpPr>
            <p:spPr>
              <a:xfrm>
                <a:off x="3809880" y="236232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2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7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cylinder1_data.avi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View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ple Toy Example (last mov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a Cylinder  =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st non-Euclide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data, embedded on manifold i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latten the cylinder, to a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periodic 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by:    Suman 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idea for more complex direct pr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8"/>
              <p:cNvSpPr txBox="1"/>
              <p:nvPr/>
            </p:nvSpPr>
            <p:spPr>
              <a:xfrm>
                <a:off x="5105520" y="220968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14"/>
              <p:cNvSpPr txBox="1"/>
              <p:nvPr/>
            </p:nvSpPr>
            <p:spPr>
              <a:xfrm>
                <a:off x="7238880" y="3657600"/>
                <a:ext cx="463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data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cke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internet hub  (UN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nig, Marr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iedi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ZoomStatFig5.mpg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30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data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of packe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internet hub  (UN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ross very wide range of sc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s more pixels than screen all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do zooming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zoom in over tim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 in to yellow b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y in next fra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djust vertical ax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traffic data analysi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ights from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arse scales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azing amount of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struct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ide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lf-similar fracta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ype proces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wer significant features at small sc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y exist, so not Poisson proc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isson approximation OK at small scale??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(top part)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 large scale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09-28T03:07:28Z</dcterms:modified>
  <cp:revision>738</cp:revision>
  <dc:subject/>
  <dc:title>Title</dc:title>
</cp:coreProperties>
</file>