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E84-F8EA-4362-B2D8-C9BE2D9A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C66-6EAD-44D5-88AC-E5F168306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D80-1161-4D6F-94E2-8E9C572F4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D9A-2906-4D32-96FB-DE296A4B5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7CD-B50B-4FEF-9518-BDC742CA9C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6AB-A779-47EC-BEAA-CD12FB4DC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FC7-E5F9-47E0-9BE6-E105B4CFD7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C630-C758-4B07-A27D-149DB99FD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FDA-01B1-4F46-96AC-1FA0DA4DB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948-6B8E-461A-A583-56E6CC365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8A0-4E61-48DC-86C0-7059EA738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32E-4EEF-4BAF-8D3E-95FC48B7EE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EE2-D39F-4102-A98C-C0AFF67512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C72-90F8-478B-B4E5-FBB9410DF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B0A-CE1B-40AF-9580-5F0949A064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925-2EB3-4A3F-A1C7-E0F0C6EC0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7545-6F4C-4471-AE34-E529E5C09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B25E-0CA2-459B-B637-126101E3E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45A-0312-424F-A0EC-6C890AF3CD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0B5-DA8A-4D0F-9978-C7057FCE1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0176-BD79-4E6A-9DB4-876037EF6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138-EA01-4A78-B48C-5839FBEC8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1EF-56C5-45B7-8FA4-8AF5CCB4F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9E9-7D13-41D3-91B3-81F13AE036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EB0-49F8-4D00-A8C2-FEB3EF7FA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CDB-17BA-43DE-9A7A-7AFEB99D6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565-72E6-48DD-BFC7-18587C045E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EDE-0868-47F0-897C-71A3D61E4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191-5C25-4C44-9B44-D5FAFEFDBE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93E-9D02-43C0-938C-F6D5DFED78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095-2144-4340-BFD7-CB9299036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6F4-DEF0-4BCF-A617-C47C9525D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C3C-D638-40B3-82B5-A0C20F3C7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E42-1ABF-43A7-97E0-6989CC0AE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5FA4-28FD-4215-BA8B-3EE1D3B603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EC4-B8B8-457C-A60D-443DBFBD73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B4BB-30C7-4A49-A780-1FFB57B75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690-9125-42F6-9192-92DA3BAB1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6AFE-11FE-4DD3-8768-874CF2CFD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26A5-513B-429C-9558-F1B24F34F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2A9C-573B-4685-B07A-8645EF3E69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8B6-B46E-47AD-B954-0262AE625A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C40-6EEA-4EE4-A6BE-2D720CA7F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3DD2-75EF-4742-965C-E4E3589DAE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1B0E-1884-4DFC-9BC3-54E9FCA95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B319-763A-4038-A112-47F5A482B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B82-F744-407C-813C-86174B7272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623A-E5B3-4207-9C6F-51985F645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80D5-009C-42CF-A5B9-B180F3AFB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A66-E0AA-4073-910D-EA33516E07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9C2B-22F9-46F0-B091-D3A8A83EC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A69-F9A0-4448-9254-15694E4F5D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0EA-3EC8-4EF7-88FD-E83FA2A4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015-3DD1-4E50-84D2-2DEA2A6F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78D-2057-43AB-A38D-DD6D528E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03B-9B9F-479D-9005-6A0C9027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DAB-54AA-40E6-B8FC-F599754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057-98A9-4DCD-B7FB-FAA9E61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86C-8F66-4246-B2FF-96E7EB67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FBB3-CBD4-45ED-89C8-A6E14CA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D37-4718-4FF7-A449-5F314D7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C5B7-5B9F-48DF-BC04-8BB903C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284D-D812-4D08-BA91-94C967F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E43-417C-4DE9-9EEF-6158260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D7D-B45D-4CFA-A3D0-C1D3143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55F8-A20F-49E2-AF32-80CB693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1B4-3443-4720-BBC0-C7CE9AB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C3CD-C378-4E65-9F19-95F0FC3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472-A895-409C-9843-02E08D84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5716-2348-4580-9200-D01C38A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EDF1-8801-4B80-8509-45EB31F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EEFF-7EDB-493E-AE14-AA57DD0A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304F-FA5D-45EC-A732-473B3F3E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3C65-0993-4DCA-9393-F6E288D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634-60F7-4692-8AF0-59E1CD0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3D32-89A6-4F11-A75C-86CEE80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A50E-804E-474C-BB97-A21E3F4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9730-EC0E-48ED-AAEC-11EDF82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F095-E8F4-4D5D-8F2A-F2B7500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E817-427E-45E8-A620-8250AA8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28DC-04E7-44D1-9AC8-2A1EC1A9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C8BF-BDE8-40C6-B1F0-8D656266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439-8C78-4F81-BF7F-B12D3487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6B3-5465-4F1F-AF3F-C2A91D7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8F6-E092-4331-92A9-489308A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221-D7E2-4022-B33E-A73D0C9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DF5-5BA1-4A34-8036-37941761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218-F4EA-4152-93E0-77B9AEF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B41-A510-41F1-A6F0-6CAF01230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9CA4-4DAF-4742-8F7A-0F7F9657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3E5-35F6-4B42-AAF2-526B15CAF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shed 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detailed look at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ed linear algeb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ay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linear algeb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Probability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an optimization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33520" y="1143000"/>
            <a:ext cx="830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Compact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4"/>
              <p:cNvSpPr txBox="1"/>
              <p:nvPr/>
            </p:nvSpPr>
            <p:spPr>
              <a:xfrm>
                <a:off x="1676520" y="2743200"/>
                <a:ext cx="807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733920" y="2743200"/>
                <a:ext cx="747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5729400" y="2225520"/>
                <a:ext cx="653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7483320" y="2286000"/>
                <a:ext cx="808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Rectangle 23"/>
          <p:cNvSpPr/>
          <p:nvPr/>
        </p:nvSpPr>
        <p:spPr>
          <a:xfrm>
            <a:off x="1447920" y="2209680"/>
            <a:ext cx="114300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5715000" y="2209680"/>
            <a:ext cx="76212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7315200" y="2209680"/>
            <a:ext cx="11430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3733920" y="2209680"/>
            <a:ext cx="76176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Rectangle 1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3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5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9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Rectangle 2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9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22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1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85800" y="99072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Singular Value 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oks similar?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“hard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eed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s eigenvalue decomp’n is gener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       square and 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eigenvalue decomp. is real val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is the sing’r value decomp.  wit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4114800" y="304812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3"/>
              <p:cNvSpPr txBox="1"/>
              <p:nvPr/>
            </p:nvSpPr>
            <p:spPr>
              <a:xfrm>
                <a:off x="3276720" y="44956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6"/>
          <p:cNvSpPr/>
          <p:nvPr/>
        </p:nvSpPr>
        <p:spPr>
          <a:xfrm>
            <a:off x="763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5"/>
              <p:cNvSpPr txBox="1"/>
              <p:nvPr/>
            </p:nvSpPr>
            <p:spPr>
              <a:xfrm>
                <a:off x="6400800" y="5943600"/>
                <a:ext cx="2057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28600" y="99072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View of Relationshi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 Dec.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igenvalue D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           data matri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V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quare, symmetric matri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Eigenanalysi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2971800" y="3276720"/>
                <a:ext cx="2543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6019920" y="26668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16"/>
          <p:cNvSpPr/>
          <p:nvPr/>
        </p:nvSpPr>
        <p:spPr>
          <a:xfrm>
            <a:off x="763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5"/>
              <p:cNvSpPr txBox="1"/>
              <p:nvPr/>
            </p:nvSpPr>
            <p:spPr>
              <a:xfrm>
                <a:off x="4648320" y="5486400"/>
                <a:ext cx="3606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2666880" y="2590920"/>
                <a:ext cx="1028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6858000" y="4038480"/>
                <a:ext cx="1257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2743200" y="4876920"/>
                <a:ext cx="611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685800" y="99072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Singular Value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oo complex to spend tim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primitive” of good software pack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                are u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s of                           are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ectors are “    -stretched” by  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3733920" y="3733920"/>
                <a:ext cx="12952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3"/>
              <p:cNvSpPr txBox="1"/>
              <p:nvPr/>
            </p:nvSpPr>
            <p:spPr>
              <a:xfrm>
                <a:off x="3581280" y="4343400"/>
                <a:ext cx="25146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5"/>
              <p:cNvSpPr txBox="1"/>
              <p:nvPr/>
            </p:nvSpPr>
            <p:spPr>
              <a:xfrm>
                <a:off x="5715000" y="615312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3" name="Rectangle 1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7"/>
              <p:cNvSpPr txBox="1"/>
              <p:nvPr/>
            </p:nvSpPr>
            <p:spPr>
              <a:xfrm>
                <a:off x="4495680" y="5638680"/>
                <a:ext cx="352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2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9"/>
              <p:cNvSpPr txBox="1"/>
              <p:nvPr/>
            </p:nvSpPr>
            <p:spPr>
              <a:xfrm>
                <a:off x="7543800" y="56386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. solves matrix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sitive (nonn’ve, i.e. semi) definite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3429000" y="1828800"/>
                <a:ext cx="3886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14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3429000" y="3657600"/>
                <a:ext cx="3962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Rectangle 1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5"/>
              <p:cNvSpPr txBox="1"/>
              <p:nvPr/>
            </p:nvSpPr>
            <p:spPr>
              <a:xfrm>
                <a:off x="838080" y="51912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7"/>
              <p:cNvSpPr txBox="1"/>
              <p:nvPr/>
            </p:nvSpPr>
            <p:spPr>
              <a:xfrm>
                <a:off x="2819520" y="6019920"/>
                <a:ext cx="533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9"/>
              <p:cNvSpPr txBox="1"/>
              <p:nvPr/>
            </p:nvSpPr>
            <p:spPr>
              <a:xfrm>
                <a:off x="8229600" y="5257800"/>
                <a:ext cx="504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1"/>
              <p:cNvSpPr txBox="1"/>
              <p:nvPr/>
            </p:nvSpPr>
            <p:spPr>
              <a:xfrm>
                <a:off x="5791320" y="5943600"/>
                <a:ext cx="152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≥</m:t>
                    </m:r>
                    <m:r>
                      <m:t xml:space="preserve">)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228600" y="990720"/>
            <a:ext cx="8763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1828800" y="2819520"/>
                <a:ext cx="6248520" cy="34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9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1295280" y="2057400"/>
                <a:ext cx="458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28600" y="990720"/>
            <a:ext cx="87631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ee this satisfies the definitio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(Pseudo) In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295280" y="3048120"/>
                <a:ext cx="228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1122480" y="3962520"/>
                <a:ext cx="2633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8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219320" y="4800600"/>
                <a:ext cx="914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1219320" y="5638680"/>
                <a:ext cx="97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228600" y="990720"/>
            <a:ext cx="87631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atrix inverse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null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corresponding linear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o ordinary inverse,  in full rank ca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= 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could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ways us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y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0  vs. = 0”   &amp;   floating point arithm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28600" y="990720"/>
            <a:ext cx="87631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lore:  most multivariate formulas involving matrix inversion “still work” when Generalized Inverse is used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ed Look a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3520" y="1523880"/>
            <a:ext cx="830556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(and interesting) viewpoi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eview linear alg. and multivar. pro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iate Prob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304920" y="990720"/>
            <a:ext cx="868680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“random vector”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center” of the distribution is the me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,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1"/>
              <p:cNvSpPr txBox="1"/>
              <p:nvPr/>
            </p:nvSpPr>
            <p:spPr>
              <a:xfrm>
                <a:off x="5257800" y="1066680"/>
                <a:ext cx="190512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5" name="Rectangle 14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3"/>
              <p:cNvSpPr txBox="1"/>
              <p:nvPr/>
            </p:nvSpPr>
            <p:spPr>
              <a:xfrm>
                <a:off x="3276720" y="3962520"/>
                <a:ext cx="337644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16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iate Prob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04920" y="990720"/>
            <a:ext cx="8686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“random vector”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measure of spread” is the covari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5181480" y="1187280"/>
                <a:ext cx="18288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Rectangle 14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5"/>
              <p:cNvSpPr txBox="1"/>
              <p:nvPr/>
            </p:nvSpPr>
            <p:spPr>
              <a:xfrm>
                <a:off x="990720" y="4495680"/>
                <a:ext cx="794232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04920" y="9907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riance matri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g’ve Definite (since all varia’s are    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“elliptical summary of distribu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via “outer product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8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17"/>
              <p:cNvSpPr txBox="1"/>
              <p:nvPr/>
            </p:nvSpPr>
            <p:spPr>
              <a:xfrm>
                <a:off x="7848720" y="2057400"/>
                <a:ext cx="295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6" name="Rectangle 20"/>
          <p:cNvSpPr/>
          <p:nvPr/>
        </p:nvSpPr>
        <p:spPr>
          <a:xfrm>
            <a:off x="0" y="24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9"/>
              <p:cNvSpPr txBox="1"/>
              <p:nvPr/>
            </p:nvSpPr>
            <p:spPr>
              <a:xfrm>
                <a:off x="228600" y="4162320"/>
                <a:ext cx="8686800" cy="22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304920" y="9907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ver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etical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4"/>
              <p:cNvSpPr txBox="1"/>
              <p:nvPr/>
            </p:nvSpPr>
            <p:spPr>
              <a:xfrm>
                <a:off x="5105520" y="1905120"/>
                <a:ext cx="17380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2" name="Rectangle 17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6"/>
              <p:cNvSpPr txBox="1"/>
              <p:nvPr/>
            </p:nvSpPr>
            <p:spPr>
              <a:xfrm>
                <a:off x="6324480" y="2590920"/>
                <a:ext cx="428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4" name="Rectangle 19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18"/>
              <p:cNvSpPr txBox="1"/>
              <p:nvPr/>
            </p:nvSpPr>
            <p:spPr>
              <a:xfrm>
                <a:off x="4343400" y="4114800"/>
                <a:ext cx="41148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04920" y="990720"/>
            <a:ext cx="86868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vers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stimate the “theoretical cov.”    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“sample cov.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unbias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MLE in Gaussian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4"/>
              <p:cNvSpPr txBox="1"/>
              <p:nvPr/>
            </p:nvSpPr>
            <p:spPr>
              <a:xfrm>
                <a:off x="914400" y="2743200"/>
                <a:ext cx="786456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d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d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7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6"/>
              <p:cNvSpPr txBox="1"/>
              <p:nvPr/>
            </p:nvSpPr>
            <p:spPr>
              <a:xfrm>
                <a:off x="1295280" y="5105520"/>
                <a:ext cx="587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9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18"/>
              <p:cNvSpPr txBox="1"/>
              <p:nvPr/>
            </p:nvSpPr>
            <p:spPr>
              <a:xfrm>
                <a:off x="1523880" y="5791320"/>
                <a:ext cx="212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Rectangle 21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20"/>
              <p:cNvSpPr txBox="1"/>
              <p:nvPr/>
            </p:nvSpPr>
            <p:spPr>
              <a:xfrm>
                <a:off x="6705720" y="1676520"/>
                <a:ext cx="409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Multivar. Prob.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04920" y="9907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product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4"/>
              <p:cNvSpPr txBox="1"/>
              <p:nvPr/>
            </p:nvSpPr>
            <p:spPr>
              <a:xfrm>
                <a:off x="304920" y="1828800"/>
                <a:ext cx="84582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d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d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d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0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6"/>
              <p:cNvSpPr txBox="1"/>
              <p:nvPr/>
            </p:nvSpPr>
            <p:spPr>
              <a:xfrm>
                <a:off x="457200" y="4038480"/>
                <a:ext cx="60199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acc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2" name="Rectangle 1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8"/>
              <p:cNvSpPr txBox="1"/>
              <p:nvPr/>
            </p:nvSpPr>
            <p:spPr>
              <a:xfrm>
                <a:off x="2057400" y="54864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4" name="Rectangle 20"/>
          <p:cNvSpPr/>
          <p:nvPr/>
        </p:nvSpPr>
        <p:spPr>
          <a:xfrm>
            <a:off x="5715000" y="4191120"/>
            <a:ext cx="8380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an Optimization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04920" y="990720"/>
            <a:ext cx="8686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of greatest variability”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14" descr=""/>
          <p:cNvPicPr/>
          <p:nvPr/>
        </p:nvPicPr>
        <p:blipFill>
          <a:blip r:embed="rId1"/>
          <a:srcRect l="6245" t="18946" r="53528" b="0"/>
          <a:stretch/>
        </p:blipFill>
        <p:spPr>
          <a:xfrm>
            <a:off x="2448000" y="2087640"/>
            <a:ext cx="398448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304920" y="990720"/>
            <a:ext cx="8686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of greatest variability”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“direction vector”,             (i.e.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of             in the direction       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4"/>
              <p:cNvSpPr txBox="1"/>
              <p:nvPr/>
            </p:nvSpPr>
            <p:spPr>
              <a:xfrm>
                <a:off x="5334120" y="1828800"/>
                <a:ext cx="1143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2" name="Rectangle 17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6"/>
              <p:cNvSpPr txBox="1"/>
              <p:nvPr/>
            </p:nvSpPr>
            <p:spPr>
              <a:xfrm>
                <a:off x="7238880" y="1828800"/>
                <a:ext cx="1143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9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8"/>
              <p:cNvSpPr txBox="1"/>
              <p:nvPr/>
            </p:nvSpPr>
            <p:spPr>
              <a:xfrm>
                <a:off x="2895480" y="2590920"/>
                <a:ext cx="1143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76" name="Rectangle 2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20"/>
              <p:cNvSpPr txBox="1"/>
              <p:nvPr/>
            </p:nvSpPr>
            <p:spPr>
              <a:xfrm>
                <a:off x="7238880" y="251460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78" name="Rectangle 2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2"/>
              <p:cNvSpPr txBox="1"/>
              <p:nvPr/>
            </p:nvSpPr>
            <p:spPr>
              <a:xfrm>
                <a:off x="3276720" y="3200400"/>
                <a:ext cx="38862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80" name="Rectangle 2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24"/>
              <p:cNvSpPr txBox="1"/>
              <p:nvPr/>
            </p:nvSpPr>
            <p:spPr>
              <a:xfrm>
                <a:off x="1066680" y="4343400"/>
                <a:ext cx="7543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  <m:r>
                                      <m:t xml:space="preserve">,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</m:d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6"/>
              <p:cNvSpPr txBox="1"/>
              <p:nvPr/>
            </p:nvSpPr>
            <p:spPr>
              <a:xfrm>
                <a:off x="3200400" y="5105520"/>
                <a:ext cx="48006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ba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Rectangle 29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8"/>
              <p:cNvSpPr txBox="1"/>
              <p:nvPr/>
            </p:nvSpPr>
            <p:spPr>
              <a:xfrm>
                <a:off x="3200400" y="5943600"/>
                <a:ext cx="3521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31"/>
              <p:cNvSpPr txBox="1"/>
              <p:nvPr/>
            </p:nvSpPr>
            <p:spPr>
              <a:xfrm>
                <a:off x="5029200" y="388620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304920" y="9907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 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(proportional to)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dratic form in the covarianc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olution comes from the eigenval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   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            is orthonormal,  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14"/>
              <p:cNvSpPr txBox="1"/>
              <p:nvPr/>
            </p:nvSpPr>
            <p:spPr>
              <a:xfrm>
                <a:off x="5410080" y="990720"/>
                <a:ext cx="2793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01" name="Rectangle 1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6"/>
              <p:cNvSpPr txBox="1"/>
              <p:nvPr/>
            </p:nvSpPr>
            <p:spPr>
              <a:xfrm>
                <a:off x="685800" y="1523880"/>
                <a:ext cx="8153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03" name="Rectangle 1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8"/>
              <p:cNvSpPr txBox="1"/>
              <p:nvPr/>
            </p:nvSpPr>
            <p:spPr>
              <a:xfrm>
                <a:off x="4876920" y="4495680"/>
                <a:ext cx="311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5" name="Rectangle 2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20"/>
              <p:cNvSpPr txBox="1"/>
              <p:nvPr/>
            </p:nvSpPr>
            <p:spPr>
              <a:xfrm>
                <a:off x="6019920" y="4495680"/>
                <a:ext cx="1676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D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7" name="Rectangle 23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2"/>
              <p:cNvSpPr txBox="1"/>
              <p:nvPr/>
            </p:nvSpPr>
            <p:spPr>
              <a:xfrm>
                <a:off x="1676520" y="5486400"/>
                <a:ext cx="1981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Rectangle 25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24"/>
              <p:cNvSpPr txBox="1"/>
              <p:nvPr/>
            </p:nvSpPr>
            <p:spPr>
              <a:xfrm>
                <a:off x="6705720" y="5452920"/>
                <a:ext cx="2438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04920" y="990720"/>
            <a:ext cx="86868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 in the direction 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                            = “     transform of   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    rotated into     coordinates”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ized quadratic 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4"/>
              <p:cNvSpPr txBox="1"/>
              <p:nvPr/>
            </p:nvSpPr>
            <p:spPr>
              <a:xfrm>
                <a:off x="5181480" y="83808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25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838080" y="1295280"/>
                <a:ext cx="8077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d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Rectangle 19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18"/>
              <p:cNvSpPr txBox="1"/>
              <p:nvPr/>
            </p:nvSpPr>
            <p:spPr>
              <a:xfrm>
                <a:off x="1143000" y="2209680"/>
                <a:ext cx="3048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20"/>
              <p:cNvSpPr txBox="1"/>
              <p:nvPr/>
            </p:nvSpPr>
            <p:spPr>
              <a:xfrm>
                <a:off x="4724280" y="2666880"/>
                <a:ext cx="384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1" name="Rectangle 2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24"/>
              <p:cNvSpPr txBox="1"/>
              <p:nvPr/>
            </p:nvSpPr>
            <p:spPr>
              <a:xfrm>
                <a:off x="7620120" y="2590920"/>
                <a:ext cx="272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3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6"/>
              <p:cNvSpPr txBox="1"/>
              <p:nvPr/>
            </p:nvSpPr>
            <p:spPr>
              <a:xfrm>
                <a:off x="3276720" y="380988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36" name="Rectangle 2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28"/>
              <p:cNvSpPr txBox="1"/>
              <p:nvPr/>
            </p:nvSpPr>
            <p:spPr>
              <a:xfrm>
                <a:off x="5791320" y="3886200"/>
                <a:ext cx="331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Rectangle 31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30"/>
              <p:cNvSpPr txBox="1"/>
              <p:nvPr/>
            </p:nvSpPr>
            <p:spPr>
              <a:xfrm>
                <a:off x="1981080" y="5410080"/>
                <a:ext cx="5257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 Decomposition  (SV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matrix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 matrix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 entries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nitary (rotation) matrices         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            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3276720" y="1828800"/>
                <a:ext cx="914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3"/>
              <p:cNvSpPr txBox="1"/>
              <p:nvPr/>
            </p:nvSpPr>
            <p:spPr>
              <a:xfrm>
                <a:off x="4952880" y="2514600"/>
                <a:ext cx="822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5"/>
              <p:cNvSpPr txBox="1"/>
              <p:nvPr/>
            </p:nvSpPr>
            <p:spPr>
              <a:xfrm>
                <a:off x="3733920" y="3124080"/>
                <a:ext cx="24843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7"/>
              <p:cNvSpPr txBox="1"/>
              <p:nvPr/>
            </p:nvSpPr>
            <p:spPr>
              <a:xfrm>
                <a:off x="6400800" y="4572000"/>
                <a:ext cx="8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9"/>
              <p:cNvSpPr txBox="1"/>
              <p:nvPr/>
            </p:nvSpPr>
            <p:spPr>
              <a:xfrm>
                <a:off x="7543800" y="4572000"/>
                <a:ext cx="7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Rectangle 2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1"/>
              <p:cNvSpPr txBox="1"/>
              <p:nvPr/>
            </p:nvSpPr>
            <p:spPr>
              <a:xfrm>
                <a:off x="3733920" y="5181480"/>
                <a:ext cx="348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2971800" y="5867280"/>
                <a:ext cx="18064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304920" y="762120"/>
            <a:ext cx="8686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ince      is an orthonormal basis matrix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rotation                    give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ribution of the (unit) energy of      over the        eigen-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                                  is max’d (over     ), by putting all energy in the “largest direction”,  i.e.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“eigenvalues are ordered”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14"/>
              <p:cNvSpPr txBox="1"/>
              <p:nvPr/>
            </p:nvSpPr>
            <p:spPr>
              <a:xfrm>
                <a:off x="2438280" y="914400"/>
                <a:ext cx="331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1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16"/>
              <p:cNvSpPr txBox="1"/>
              <p:nvPr/>
            </p:nvSpPr>
            <p:spPr>
              <a:xfrm>
                <a:off x="2133720" y="1295280"/>
                <a:ext cx="18889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6" name="Rectangle 19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8"/>
              <p:cNvSpPr txBox="1"/>
              <p:nvPr/>
            </p:nvSpPr>
            <p:spPr>
              <a:xfrm>
                <a:off x="5410080" y="1295280"/>
                <a:ext cx="2454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8" name="Rectangle 2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0"/>
              <p:cNvSpPr txBox="1"/>
              <p:nvPr/>
            </p:nvSpPr>
            <p:spPr>
              <a:xfrm>
                <a:off x="3200400" y="2133720"/>
                <a:ext cx="19270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d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,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Rectangle 2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2"/>
              <p:cNvSpPr txBox="1"/>
              <p:nvPr/>
            </p:nvSpPr>
            <p:spPr>
              <a:xfrm>
                <a:off x="4952880" y="3200400"/>
                <a:ext cx="279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62" name="Rectangle 2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24"/>
              <p:cNvSpPr txBox="1"/>
              <p:nvPr/>
            </p:nvSpPr>
            <p:spPr>
              <a:xfrm>
                <a:off x="7238880" y="3200400"/>
                <a:ext cx="311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4" name="Rectangle 2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6"/>
              <p:cNvSpPr txBox="1"/>
              <p:nvPr/>
            </p:nvSpPr>
            <p:spPr>
              <a:xfrm>
                <a:off x="1295280" y="4267080"/>
                <a:ext cx="3962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ba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28"/>
              <p:cNvSpPr txBox="1"/>
              <p:nvPr/>
            </p:nvSpPr>
            <p:spPr>
              <a:xfrm>
                <a:off x="8153280" y="4343400"/>
                <a:ext cx="324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68" name="Rectangle 31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30"/>
              <p:cNvSpPr txBox="1"/>
              <p:nvPr/>
            </p:nvSpPr>
            <p:spPr>
              <a:xfrm>
                <a:off x="3657600" y="5562720"/>
                <a:ext cx="99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70" name="Rectangle 3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32"/>
              <p:cNvSpPr txBox="1"/>
              <p:nvPr/>
            </p:nvSpPr>
            <p:spPr>
              <a:xfrm>
                <a:off x="6705720" y="6248520"/>
                <a:ext cx="2286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as Optimiza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04920" y="990720"/>
            <a:ext cx="86868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is unique wh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have sol’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p. gen’d by 1st    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onto subspace       to      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     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xt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rough        ,…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      by       to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etical P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empirical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14"/>
              <p:cNvSpPr txBox="1"/>
              <p:nvPr/>
            </p:nvSpPr>
            <p:spPr>
              <a:xfrm>
                <a:off x="5410080" y="1905120"/>
                <a:ext cx="1067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6" name="Rectangle 17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16"/>
              <p:cNvSpPr txBox="1"/>
              <p:nvPr/>
            </p:nvSpPr>
            <p:spPr>
              <a:xfrm>
                <a:off x="8001000" y="2438280"/>
                <a:ext cx="297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v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88" name="Rectangle 1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18"/>
              <p:cNvSpPr txBox="1"/>
              <p:nvPr/>
            </p:nvSpPr>
            <p:spPr>
              <a:xfrm>
                <a:off x="5638680" y="327672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0" name="Rectangle 21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20"/>
              <p:cNvSpPr txBox="1"/>
              <p:nvPr/>
            </p:nvSpPr>
            <p:spPr>
              <a:xfrm>
                <a:off x="6858000" y="3200400"/>
                <a:ext cx="366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92" name="Rectangle 23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22"/>
              <p:cNvSpPr txBox="1"/>
              <p:nvPr/>
            </p:nvSpPr>
            <p:spPr>
              <a:xfrm>
                <a:off x="2057400" y="3886200"/>
                <a:ext cx="420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94" name="Rectangle 25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24"/>
              <p:cNvSpPr txBox="1"/>
              <p:nvPr/>
            </p:nvSpPr>
            <p:spPr>
              <a:xfrm>
                <a:off x="4419720" y="4572000"/>
                <a:ext cx="398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96" name="Rectangle 27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6"/>
              <p:cNvSpPr txBox="1"/>
              <p:nvPr/>
            </p:nvSpPr>
            <p:spPr>
              <a:xfrm>
                <a:off x="5638680" y="4572000"/>
                <a:ext cx="441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9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8"/>
              <p:cNvSpPr txBox="1"/>
              <p:nvPr/>
            </p:nvSpPr>
            <p:spPr>
              <a:xfrm>
                <a:off x="2590920" y="5257800"/>
                <a:ext cx="311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0" name="Rectangle 31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30"/>
              <p:cNvSpPr txBox="1"/>
              <p:nvPr/>
            </p:nvSpPr>
            <p:spPr>
              <a:xfrm>
                <a:off x="3809880" y="5334120"/>
                <a:ext cx="341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erated PCA Visu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FT3FansPCaxes.avi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16"/>
          <p:cNvSpPr/>
          <p:nvPr/>
        </p:nvSpPr>
        <p:spPr>
          <a:xfrm>
            <a:off x="230040" y="5715000"/>
            <a:ext cx="83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oints (Curves)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 matrix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 flipV="1">
            <a:off x="1371600" y="4419360"/>
            <a:ext cx="2514600" cy="14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20"/>
          <p:cNvSpPr/>
          <p:nvPr/>
        </p:nvSpPr>
        <p:spPr>
          <a:xfrm flipV="1">
            <a:off x="2971800" y="4038480"/>
            <a:ext cx="358128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5"/>
          <p:cNvSpPr/>
          <p:nvPr/>
        </p:nvSpPr>
        <p:spPr>
          <a:xfrm>
            <a:off x="838080" y="5867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ampl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1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5" name="Line 18"/>
          <p:cNvSpPr/>
          <p:nvPr/>
        </p:nvSpPr>
        <p:spPr>
          <a:xfrm flipV="1">
            <a:off x="2666880" y="3428640"/>
            <a:ext cx="609840" cy="2514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19"/>
          <p:cNvSpPr/>
          <p:nvPr/>
        </p:nvSpPr>
        <p:spPr>
          <a:xfrm flipV="1">
            <a:off x="2666880" y="3504960"/>
            <a:ext cx="3886200" cy="2438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20"/>
          <p:cNvSpPr/>
          <p:nvPr/>
        </p:nvSpPr>
        <p:spPr>
          <a:xfrm>
            <a:off x="3429000" y="59436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5"/>
          <p:cNvSpPr/>
          <p:nvPr/>
        </p:nvSpPr>
        <p:spPr>
          <a:xfrm>
            <a:off x="685800" y="5715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uals from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Data -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V="1">
            <a:off x="1828800" y="4038120"/>
            <a:ext cx="1828800" cy="17528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 flipV="1">
            <a:off x="3504960" y="4495680"/>
            <a:ext cx="1523880" cy="1371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 flipV="1">
            <a:off x="2819160" y="3886200"/>
            <a:ext cx="3352680" cy="190512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15"/>
          <p:cNvSpPr/>
          <p:nvPr/>
        </p:nvSpPr>
        <p:spPr>
          <a:xfrm>
            <a:off x="457200" y="5562720"/>
            <a:ext cx="8153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ntered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an Resid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ifted to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(rescaling of)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>
            <a:off x="6313320" y="6172200"/>
            <a:ext cx="306720" cy="792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15"/>
          <p:cNvSpPr/>
          <p:nvPr/>
        </p:nvSpPr>
        <p:spPr>
          <a:xfrm>
            <a:off x="518400" y="5627520"/>
            <a:ext cx="79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C1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Eigenvector (w/ bigges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16"/>
          <p:cNvSpPr/>
          <p:nvPr/>
        </p:nvSpPr>
        <p:spPr>
          <a:xfrm flipV="1">
            <a:off x="1905120" y="3276360"/>
            <a:ext cx="533160" cy="2438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15"/>
          <p:cNvSpPr/>
          <p:nvPr/>
        </p:nvSpPr>
        <p:spPr>
          <a:xfrm>
            <a:off x="152640" y="5791320"/>
            <a:ext cx="78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entered Data 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PC1 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6"/>
          <p:cNvSpPr/>
          <p:nvPr/>
        </p:nvSpPr>
        <p:spPr>
          <a:xfrm flipV="1">
            <a:off x="1600200" y="4266720"/>
            <a:ext cx="1219320" cy="1600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Line 17"/>
          <p:cNvSpPr/>
          <p:nvPr/>
        </p:nvSpPr>
        <p:spPr>
          <a:xfrm flipH="1" flipV="1">
            <a:off x="3200040" y="3885840"/>
            <a:ext cx="1219320" cy="19810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8"/>
          <p:cNvSpPr/>
          <p:nvPr/>
        </p:nvSpPr>
        <p:spPr>
          <a:xfrm flipH="1" flipV="1">
            <a:off x="3048120" y="4038480"/>
            <a:ext cx="3962160" cy="182880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Line 19"/>
          <p:cNvSpPr/>
          <p:nvPr/>
        </p:nvSpPr>
        <p:spPr>
          <a:xfrm flipV="1">
            <a:off x="4419720" y="4114800"/>
            <a:ext cx="2133360" cy="17524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15"/>
          <p:cNvSpPr/>
          <p:nvPr/>
        </p:nvSpPr>
        <p:spPr>
          <a:xfrm>
            <a:off x="538920" y="562752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C2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Eigenvector (w/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gges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16"/>
          <p:cNvSpPr/>
          <p:nvPr/>
        </p:nvSpPr>
        <p:spPr>
          <a:xfrm flipV="1">
            <a:off x="1905120" y="3962520"/>
            <a:ext cx="685800" cy="1752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 behind Singular Value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a “linear transf’n”  (via matrix multi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cale coordinate axes (by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ized the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1447920" y="20574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1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1828800" y="2743200"/>
                <a:ext cx="5638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5"/>
              <p:cNvSpPr txBox="1"/>
              <p:nvPr/>
            </p:nvSpPr>
            <p:spPr>
              <a:xfrm>
                <a:off x="7391520" y="4343400"/>
                <a:ext cx="365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15"/>
          <p:cNvSpPr/>
          <p:nvPr/>
        </p:nvSpPr>
        <p:spPr>
          <a:xfrm>
            <a:off x="152640" y="5791320"/>
            <a:ext cx="78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entered Data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PC2 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6"/>
          <p:cNvSpPr/>
          <p:nvPr/>
        </p:nvSpPr>
        <p:spPr>
          <a:xfrm flipV="1">
            <a:off x="1600200" y="4266720"/>
            <a:ext cx="1219320" cy="1600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 flipH="1" flipV="1">
            <a:off x="2590920" y="3885840"/>
            <a:ext cx="1828800" cy="198108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 flipH="1" flipV="1">
            <a:off x="2742840" y="3962160"/>
            <a:ext cx="4267080" cy="190476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304920" y="990720"/>
            <a:ext cx="868680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for th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C1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C2 Proj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C2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C1 Proj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colo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se p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ribution of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summar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ount of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terpe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Energy i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ght com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Termin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VAriance  (ANO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Object 2"/>
              <p:cNvSpPr txBox="1"/>
              <p:nvPr/>
            </p:nvSpPr>
            <p:spPr>
              <a:xfrm>
                <a:off x="5789520" y="1415880"/>
                <a:ext cx="1220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mean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Vari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Variation + Mean Residual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    Pythagorean Theo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 Quantified via Sums of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1752480" y="3429000"/>
                <a:ext cx="4778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5" name="Line 16"/>
          <p:cNvSpPr/>
          <p:nvPr/>
        </p:nvSpPr>
        <p:spPr>
          <a:xfrm>
            <a:off x="1676520" y="2438280"/>
            <a:ext cx="609480" cy="1143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17"/>
          <p:cNvSpPr/>
          <p:nvPr/>
        </p:nvSpPr>
        <p:spPr>
          <a:xfrm>
            <a:off x="2514600" y="2971800"/>
            <a:ext cx="1371600" cy="6094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18"/>
          <p:cNvSpPr/>
          <p:nvPr/>
        </p:nvSpPr>
        <p:spPr>
          <a:xfrm flipH="1">
            <a:off x="5791320" y="3048120"/>
            <a:ext cx="380880" cy="685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15"/>
          <p:cNvSpPr/>
          <p:nvPr/>
        </p:nvSpPr>
        <p:spPr>
          <a:xfrm>
            <a:off x="685800" y="5257800"/>
            <a:ext cx="8153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uals from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Data –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Variation  =  92%    i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 Variation  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Variation  =  8%   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id. Var.  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Line 16"/>
          <p:cNvSpPr/>
          <p:nvPr/>
        </p:nvSpPr>
        <p:spPr>
          <a:xfrm flipV="1">
            <a:off x="1981080" y="4038120"/>
            <a:ext cx="1676520" cy="129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Line 17"/>
          <p:cNvSpPr/>
          <p:nvPr/>
        </p:nvSpPr>
        <p:spPr>
          <a:xfrm flipH="1" flipV="1">
            <a:off x="3504960" y="4495320"/>
            <a:ext cx="144756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Line 18"/>
          <p:cNvSpPr/>
          <p:nvPr/>
        </p:nvSpPr>
        <p:spPr>
          <a:xfrm flipH="1" flipV="1">
            <a:off x="2819160" y="3886200"/>
            <a:ext cx="3352680" cy="144792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304920" y="99072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compose SS about the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expressed in trace of covar’c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762120" y="1981080"/>
                <a:ext cx="7162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9" name="Rectangle 1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3"/>
              <p:cNvSpPr txBox="1"/>
              <p:nvPr/>
            </p:nvSpPr>
            <p:spPr>
              <a:xfrm>
                <a:off x="2133720" y="3352680"/>
                <a:ext cx="4952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bar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bot"/>
                                    </m:barPr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</m:ba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1" name="Rectangle 19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4"/>
              <p:cNvSpPr txBox="1"/>
              <p:nvPr/>
            </p:nvSpPr>
            <p:spPr>
              <a:xfrm>
                <a:off x="1447920" y="4419720"/>
                <a:ext cx="6248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Object 2"/>
              <p:cNvSpPr txBox="1"/>
              <p:nvPr/>
            </p:nvSpPr>
            <p:spPr>
              <a:xfrm>
                <a:off x="5638680" y="3733920"/>
                <a:ext cx="236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6" name="Text Box 4"/>
          <p:cNvSpPr/>
          <p:nvPr/>
        </p:nvSpPr>
        <p:spPr>
          <a:xfrm>
            <a:off x="304920" y="1219320"/>
            <a:ext cx="86868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 prov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oms of SS decomposi’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ful P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pectrum”: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Power Spectrum”:       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Power Spectrum”:           v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CA gives SS’s for free (as eigenvalues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atch factors of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762120" y="1371600"/>
                <a:ext cx="7467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8" name="Rectangle 17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4"/>
              <p:cNvSpPr txBox="1"/>
              <p:nvPr/>
            </p:nvSpPr>
            <p:spPr>
              <a:xfrm>
                <a:off x="7086600" y="4343400"/>
                <a:ext cx="236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5"/>
              <p:cNvSpPr txBox="1"/>
              <p:nvPr/>
            </p:nvSpPr>
            <p:spPr>
              <a:xfrm>
                <a:off x="8305920" y="4952880"/>
                <a:ext cx="236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1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Object 6"/>
              <p:cNvSpPr txBox="1"/>
              <p:nvPr/>
            </p:nvSpPr>
            <p:spPr>
              <a:xfrm>
                <a:off x="4419720" y="3657600"/>
                <a:ext cx="430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7"/>
              <p:cNvSpPr txBox="1"/>
              <p:nvPr/>
            </p:nvSpPr>
            <p:spPr>
              <a:xfrm>
                <a:off x="5029200" y="4267080"/>
                <a:ext cx="1219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5" name="Rectangle 27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8"/>
              <p:cNvSpPr txBox="1"/>
              <p:nvPr/>
            </p:nvSpPr>
            <p:spPr>
              <a:xfrm>
                <a:off x="6629400" y="4648320"/>
                <a:ext cx="831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7" name="Rectangle 2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9"/>
              <p:cNvSpPr txBox="1"/>
              <p:nvPr/>
            </p:nvSpPr>
            <p:spPr>
              <a:xfrm>
                <a:off x="6705720" y="601992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Energy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304920" y="762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have already considered some of the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ful P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mulative Power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Picture 14" descr=""/>
          <p:cNvPicPr/>
          <p:nvPr/>
        </p:nvPicPr>
        <p:blipFill>
          <a:blip r:embed="rId1"/>
          <a:srcRect l="0" t="12490" r="0" b="0"/>
          <a:stretch/>
        </p:blipFill>
        <p:spPr>
          <a:xfrm>
            <a:off x="685800" y="1979640"/>
            <a:ext cx="7736040" cy="9602640"/>
          </a:xfrm>
          <a:prstGeom prst="rect">
            <a:avLst/>
          </a:prstGeom>
          <a:ln w="0">
            <a:noFill/>
          </a:ln>
        </p:spPr>
      </p:pic>
      <p:sp>
        <p:nvSpPr>
          <p:cNvPr id="962" name="Line 16"/>
          <p:cNvSpPr/>
          <p:nvPr/>
        </p:nvSpPr>
        <p:spPr>
          <a:xfrm>
            <a:off x="4572000" y="1752480"/>
            <a:ext cx="205740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7"/>
          <p:cNvSpPr/>
          <p:nvPr/>
        </p:nvSpPr>
        <p:spPr>
          <a:xfrm>
            <a:off x="2971800" y="1371600"/>
            <a:ext cx="3657600" cy="1828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1 has “most of var’n”  =  9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Line 19"/>
          <p:cNvSpPr/>
          <p:nvPr/>
        </p:nvSpPr>
        <p:spPr>
          <a:xfrm flipV="1">
            <a:off x="4648320" y="4191120"/>
            <a:ext cx="1904760" cy="22096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Math to Graphic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1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SS Decomposition for PC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2 has “only a little var’n”  =  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or approx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Line 16"/>
          <p:cNvSpPr/>
          <p:nvPr/>
        </p:nvSpPr>
        <p:spPr>
          <a:xfrm flipV="1">
            <a:off x="4648320" y="3962160"/>
            <a:ext cx="1904760" cy="243828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3"/>
              <p:cNvSpPr txBox="1"/>
              <p:nvPr/>
            </p:nvSpPr>
            <p:spPr>
              <a:xfrm>
                <a:off x="1600200" y="4419720"/>
                <a:ext cx="264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4"/>
          <p:cNvSpPr/>
          <p:nvPr/>
        </p:nvSpPr>
        <p:spPr>
          <a:xfrm>
            <a:off x="533520" y="1143000"/>
            <a:ext cx="8305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Compact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Lab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asing 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  = 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omi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=  # of positive singular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n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8"/>
              <p:cNvSpPr txBox="1"/>
              <p:nvPr/>
            </p:nvSpPr>
            <p:spPr>
              <a:xfrm>
                <a:off x="2286000" y="4952880"/>
                <a:ext cx="29718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0"/>
              <p:cNvSpPr txBox="1"/>
              <p:nvPr/>
            </p:nvSpPr>
            <p:spPr>
              <a:xfrm>
                <a:off x="6248520" y="5791320"/>
                <a:ext cx="1600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Line 31"/>
          <p:cNvSpPr/>
          <p:nvPr/>
        </p:nvSpPr>
        <p:spPr>
          <a:xfrm flipV="1">
            <a:off x="2286000" y="54100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 flipV="1">
            <a:off x="2286000" y="53337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3"/>
          <p:cNvSpPr/>
          <p:nvPr/>
        </p:nvSpPr>
        <p:spPr>
          <a:xfrm flipV="1">
            <a:off x="2286000" y="525744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4"/>
              <p:cNvSpPr txBox="1"/>
              <p:nvPr/>
            </p:nvSpPr>
            <p:spPr>
              <a:xfrm>
                <a:off x="3962520" y="2057400"/>
                <a:ext cx="264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304920" y="990720"/>
            <a:ext cx="86868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s several optimization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to maximize SS of 1-d proj’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to minimize SS of residu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, by Pythagorean Theor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it line” to data in “orthogonal sens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ression of Y on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vertical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ression of X on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orizontal sen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e that makes sen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Views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30492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 Toy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Space               Object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1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14" descr=""/>
          <p:cNvPicPr/>
          <p:nvPr/>
        </p:nvPicPr>
        <p:blipFill>
          <a:blip r:embed="rId1"/>
          <a:srcRect l="8921" t="21472" r="12490" b="21472"/>
          <a:stretch/>
        </p:blipFill>
        <p:spPr>
          <a:xfrm>
            <a:off x="1143000" y="1905120"/>
            <a:ext cx="6886440" cy="353052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15"/>
          <p:cNvSpPr/>
          <p:nvPr/>
        </p:nvSpPr>
        <p:spPr>
          <a:xfrm>
            <a:off x="685800" y="5410080"/>
            <a:ext cx="815328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SS of Proj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SS of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i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17"/>
          <p:cNvSpPr/>
          <p:nvPr/>
        </p:nvSpPr>
        <p:spPr>
          <a:xfrm flipH="1" flipV="1">
            <a:off x="3200040" y="3962160"/>
            <a:ext cx="228600" cy="1523880"/>
          </a:xfrm>
          <a:prstGeom prst="line">
            <a:avLst/>
          </a:prstGeom>
          <a:ln w="158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Line 18"/>
          <p:cNvSpPr/>
          <p:nvPr/>
        </p:nvSpPr>
        <p:spPr>
          <a:xfrm flipV="1">
            <a:off x="3048120" y="4038480"/>
            <a:ext cx="0" cy="1828800"/>
          </a:xfrm>
          <a:prstGeom prst="line">
            <a:avLst/>
          </a:prstGeom>
          <a:ln w="158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Line 19"/>
          <p:cNvSpPr/>
          <p:nvPr/>
        </p:nvSpPr>
        <p:spPr>
          <a:xfrm flipV="1">
            <a:off x="2286000" y="4495320"/>
            <a:ext cx="1447920" cy="17528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33520" y="1143000"/>
            <a:ext cx="830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Full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4"/>
              <p:cNvSpPr txBox="1"/>
              <p:nvPr/>
            </p:nvSpPr>
            <p:spPr>
              <a:xfrm>
                <a:off x="1676520" y="2743200"/>
                <a:ext cx="807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6"/>
              <p:cNvSpPr txBox="1"/>
              <p:nvPr/>
            </p:nvSpPr>
            <p:spPr>
              <a:xfrm>
                <a:off x="4267080" y="2743200"/>
                <a:ext cx="777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6019920" y="2743200"/>
                <a:ext cx="71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7467480" y="2590920"/>
                <a:ext cx="8398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Rectangle 23"/>
          <p:cNvSpPr/>
          <p:nvPr/>
        </p:nvSpPr>
        <p:spPr>
          <a:xfrm>
            <a:off x="1447920" y="2209680"/>
            <a:ext cx="1143000" cy="1828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733920" y="2209680"/>
            <a:ext cx="1752480" cy="1828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5715000" y="2209680"/>
            <a:ext cx="1143000" cy="1828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15200" y="2209680"/>
            <a:ext cx="1143000" cy="1219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Reduced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4"/>
              <p:cNvSpPr txBox="1"/>
              <p:nvPr/>
            </p:nvSpPr>
            <p:spPr>
              <a:xfrm>
                <a:off x="1676520" y="2743200"/>
                <a:ext cx="807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4267080" y="2743200"/>
                <a:ext cx="777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5943600" y="2514600"/>
                <a:ext cx="6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7467480" y="2514600"/>
                <a:ext cx="839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Rectangle 23"/>
          <p:cNvSpPr/>
          <p:nvPr/>
        </p:nvSpPr>
        <p:spPr>
          <a:xfrm>
            <a:off x="1447920" y="2209680"/>
            <a:ext cx="1143000" cy="1828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3733920" y="2209680"/>
            <a:ext cx="1752480" cy="1828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5715000" y="2209680"/>
            <a:ext cx="1143000" cy="12193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7315200" y="2209680"/>
            <a:ext cx="1143000" cy="1219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5818320" y="3481560"/>
                <a:ext cx="963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0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2711520" y="5014800"/>
                <a:ext cx="901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20"/>
          <p:cNvSpPr/>
          <p:nvPr/>
        </p:nvSpPr>
        <p:spPr>
          <a:xfrm>
            <a:off x="5715000" y="3429000"/>
            <a:ext cx="1143000" cy="6094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4952880" y="2209680"/>
            <a:ext cx="533520" cy="18288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Reduced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34"/>
              <p:cNvSpPr txBox="1"/>
              <p:nvPr/>
            </p:nvSpPr>
            <p:spPr>
              <a:xfrm>
                <a:off x="1676520" y="2743200"/>
                <a:ext cx="807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4052880" y="2743200"/>
                <a:ext cx="747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5943600" y="2514600"/>
                <a:ext cx="6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7467480" y="2514600"/>
                <a:ext cx="839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Rectangle 23"/>
          <p:cNvSpPr/>
          <p:nvPr/>
        </p:nvSpPr>
        <p:spPr>
          <a:xfrm>
            <a:off x="1447920" y="2209680"/>
            <a:ext cx="1143000" cy="18288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5715000" y="2209680"/>
            <a:ext cx="1143000" cy="12193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7315200" y="2209680"/>
            <a:ext cx="1143000" cy="12193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2711520" y="5014800"/>
                <a:ext cx="901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21"/>
          <p:cNvSpPr/>
          <p:nvPr/>
        </p:nvSpPr>
        <p:spPr>
          <a:xfrm flipH="1">
            <a:off x="3733920" y="2209680"/>
            <a:ext cx="1218960" cy="18288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143000"/>
            <a:ext cx="830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Compact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4"/>
              <p:cNvSpPr txBox="1"/>
              <p:nvPr/>
            </p:nvSpPr>
            <p:spPr>
              <a:xfrm>
                <a:off x="1676520" y="2743200"/>
                <a:ext cx="807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733920" y="2743200"/>
                <a:ext cx="747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5729400" y="2225520"/>
                <a:ext cx="653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7483320" y="2286000"/>
                <a:ext cx="808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9" name="Rectangle 23"/>
          <p:cNvSpPr/>
          <p:nvPr/>
        </p:nvSpPr>
        <p:spPr>
          <a:xfrm>
            <a:off x="1447920" y="2209680"/>
            <a:ext cx="1143000" cy="18288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5715000" y="2209680"/>
            <a:ext cx="1143000" cy="12193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7315200" y="2209680"/>
            <a:ext cx="1143000" cy="12193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 flipH="1">
            <a:off x="3733920" y="2209680"/>
            <a:ext cx="1218960" cy="18288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6477120" y="2971800"/>
                <a:ext cx="311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0"/>
          <p:cNvSpPr/>
          <p:nvPr/>
        </p:nvSpPr>
        <p:spPr>
          <a:xfrm>
            <a:off x="5715000" y="2209680"/>
            <a:ext cx="76212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7315200" y="2209680"/>
            <a:ext cx="11430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733920" y="2209680"/>
            <a:ext cx="76176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09-04T02:27:03Z</dcterms:modified>
  <cp:revision>278</cp:revision>
  <dc:subject/>
  <dc:title>Title</dc:title>
</cp:coreProperties>
</file>