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F430-B8D3-4A33-B2F3-CBFD1315D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A532-AE54-46F9-9F76-92ABA6ABED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0CD4-3FD5-44FB-906E-8281646503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D84E-0E91-4B82-A160-231A59C989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7C25-F98E-4612-93D5-DB5622C29E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7D7F-98E0-4634-8E1A-EE9177C1D7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C42F-2359-4F4B-9E23-4224AF88D2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D8CF-6F43-4ED5-AE53-9D8100DE2F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91C9-099B-4A3B-8DD8-56597F318E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F948-10A8-49AC-96B4-3C00E5CCE3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8F11-2B94-4FC3-8CDF-A3CB1D0CFD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39E5-694B-45D3-9087-D2C19B7C20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D8C3-AC1B-46E7-A617-B46A8F642B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598D-0777-4DF9-9109-8774C68AE3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E841-8FC3-4913-A9C4-3699FE9612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87D6-C245-4672-A611-23AF884874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AF3B-2E85-46BB-A0A3-A7604C89FA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9967-B0E3-44D5-96BF-ADED23B081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1BE6-E4CD-4A14-92DC-74E1FC55A6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0F01-2C92-4F31-BE98-697C8AF73E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7EED-3217-4261-B920-45CFA33656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911F-DC19-4E3A-ADE7-28AB1AAC1F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CA73-05B9-4F2F-859C-FEADDD39F5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D42C-228F-47F6-A046-84A17B9679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BCF1-7892-413D-A0CF-183546BA94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0111-7499-438B-B205-CC8127DBF1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CC42-7894-4BCA-9AE5-75510A05F9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648B-A657-40C6-A4E6-279D687200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0763-D939-45B4-93A2-1DFBAE3661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3B54-EDEB-4CE5-AA2A-7A3F03B4BD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C3B1-346D-49AB-966C-811A7892C1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A8F3-FAF8-4976-83E2-90B027D09B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6477-33E5-4C0F-9761-FE2F292E00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EB71-EACF-4A7D-A573-5F92B1B78E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0792-60BC-40EF-8033-5B56457D4C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C78E-1BB6-432C-ACB0-238C68713F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5AF7-1A50-45EB-8CE2-92E4BEDA28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CE3D-9CD6-44DD-8630-88355DD66D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A4C5-D6AD-43A0-A465-64D0BB2107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0FF5-C78C-49E0-8736-5F4CA68D77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DC14-14F2-4452-9FBE-A00DB3357E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F10-B3EC-4BB5-8266-95BF532B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E37-BD86-45FF-8C00-C87E82D2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6C3-8773-4C96-8A75-57C1EE7F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59EB-EF92-4E8B-BA0B-381AF45B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9ED7-E30C-41EE-BEBB-1FA4BC22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15E6-F238-418E-885C-84A737BF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1F4D-5074-4862-B0D1-FF199DC3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B737-AFCA-4718-85FF-D29B583C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1C96-EF58-411D-B5D2-7D619BF3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95BF-6AFE-479B-BF5E-A9E4F4A5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749C-D67C-4F7E-950E-2C2BE464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DE6-28F7-4824-A0B7-2FBD8034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EC70-DE62-49AF-9252-CC0D6291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73A5-5858-401C-BD70-7CB53033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6D13-D5A9-4AA3-A580-690A7F9B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DE81-2E7E-496B-8EAE-2BDFAFFF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5B4C-9A4B-4133-99DA-88EECEED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419-F316-4FBE-B21C-0783D4E4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4ED-EE01-4BD5-9E00-256C2018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189-B11F-453E-9381-9062AF0A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684-BFE4-49B5-9C17-32F7C82F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844E-7A20-4267-827D-FB10C05C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682-576A-4E70-B512-09294BE2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8F8-0A55-4320-BFFE-77DF7095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14D0-9920-4FBF-A7DC-08BD2869C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17D5-58D2-4EB7-BE68-CD1D83654F5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ished Algebra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variate Probability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as an Optimization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igen-decomp. giv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ta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easy s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ed Mathematics &amp; Graph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t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distribution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4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5"/>
          <p:cNvSpPr/>
          <p:nvPr/>
        </p:nvSpPr>
        <p:spPr>
          <a:xfrm>
            <a:off x="685800" y="5410080"/>
            <a:ext cx="815328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sit SS Decomposition for PC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C2 has “only a little var’n”  =  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l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or approx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6"/>
          <p:cNvSpPr/>
          <p:nvPr/>
        </p:nvSpPr>
        <p:spPr>
          <a:xfrm flipV="1">
            <a:off x="4648320" y="3962160"/>
            <a:ext cx="1904760" cy="2438280"/>
          </a:xfrm>
          <a:prstGeom prst="line">
            <a:avLst/>
          </a:prstGeom>
          <a:ln w="158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 Views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04920" y="990720"/>
            <a:ext cx="868680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lves several optimization proble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on to maximize SS of 1-d proj’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on to minimize SS of residu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ame, by Pythagorean Theor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st fit line” to data in “orthogonal sens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v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gression of Y on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=  vertical s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gression of X on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horizontal sen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one that makes sen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 Views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04920" y="990720"/>
            <a:ext cx="8686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xt Ti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some graphics about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atterplot of Toy Data sets + various fits, with residu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ll be Useful in Stor 165, as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 Views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14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5"/>
          <p:cNvSpPr/>
          <p:nvPr/>
        </p:nvSpPr>
        <p:spPr>
          <a:xfrm>
            <a:off x="685800" y="5410080"/>
            <a:ext cx="815328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x SS of Projec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n SS of Res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st Fit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7"/>
          <p:cNvSpPr/>
          <p:nvPr/>
        </p:nvSpPr>
        <p:spPr>
          <a:xfrm flipH="1" flipV="1">
            <a:off x="3200040" y="3962160"/>
            <a:ext cx="228600" cy="1523880"/>
          </a:xfrm>
          <a:prstGeom prst="line">
            <a:avLst/>
          </a:prstGeom>
          <a:ln w="158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8"/>
          <p:cNvSpPr/>
          <p:nvPr/>
        </p:nvSpPr>
        <p:spPr>
          <a:xfrm flipV="1">
            <a:off x="3048120" y="4038480"/>
            <a:ext cx="0" cy="1828800"/>
          </a:xfrm>
          <a:prstGeom prst="line">
            <a:avLst/>
          </a:prstGeom>
          <a:ln w="158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 flipV="1">
            <a:off x="2286000" y="4495320"/>
            <a:ext cx="1447920" cy="17528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ata Repres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228600" y="1219320"/>
            <a:ext cx="845820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Expand Data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erms of inner prod’ts &amp; eigenv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no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expansion (centered data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2895480" y="2895480"/>
                <a:ext cx="54104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</m:ba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</m:bar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8" name="Rectangle 7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6"/>
              <p:cNvSpPr txBox="1"/>
              <p:nvPr/>
            </p:nvSpPr>
            <p:spPr>
              <a:xfrm>
                <a:off x="2717640" y="4724280"/>
                <a:ext cx="34038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acc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0" name="Rectangle 9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8"/>
              <p:cNvSpPr txBox="1"/>
              <p:nvPr/>
            </p:nvSpPr>
            <p:spPr>
              <a:xfrm>
                <a:off x="6680160" y="6207120"/>
                <a:ext cx="406440" cy="2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Rectangle 11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10"/>
              <p:cNvSpPr txBox="1"/>
              <p:nvPr/>
            </p:nvSpPr>
            <p:spPr>
              <a:xfrm>
                <a:off x="4267080" y="6248520"/>
                <a:ext cx="419400" cy="20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Line 12"/>
          <p:cNvSpPr/>
          <p:nvPr/>
        </p:nvSpPr>
        <p:spPr>
          <a:xfrm flipV="1">
            <a:off x="4495680" y="556236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 flipH="1" flipV="1">
            <a:off x="5943240" y="5638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ata Represen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28600" y="1219320"/>
            <a:ext cx="8458200" cy="51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us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expansion (raw data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ies of         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a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ies of         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5"/>
              <p:cNvSpPr txBox="1"/>
              <p:nvPr/>
            </p:nvSpPr>
            <p:spPr>
              <a:xfrm>
                <a:off x="3429000" y="1981080"/>
                <a:ext cx="31417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0" name="Rectangle 6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838080" y="3581280"/>
                <a:ext cx="78724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acc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2" name="Rectangle 8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9"/>
              <p:cNvSpPr txBox="1"/>
              <p:nvPr/>
            </p:nvSpPr>
            <p:spPr>
              <a:xfrm>
                <a:off x="8381880" y="5181480"/>
                <a:ext cx="406440" cy="2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Rectangle 10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11"/>
              <p:cNvSpPr txBox="1"/>
              <p:nvPr/>
            </p:nvSpPr>
            <p:spPr>
              <a:xfrm>
                <a:off x="7238880" y="5410080"/>
                <a:ext cx="41940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12"/>
          <p:cNvSpPr/>
          <p:nvPr/>
        </p:nvSpPr>
        <p:spPr>
          <a:xfrm flipV="1">
            <a:off x="7467480" y="434340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13"/>
          <p:cNvSpPr/>
          <p:nvPr/>
        </p:nvSpPr>
        <p:spPr>
          <a:xfrm flipH="1" flipV="1">
            <a:off x="8381880" y="4419720"/>
            <a:ext cx="1526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4"/>
              <p:cNvSpPr txBox="1"/>
              <p:nvPr/>
            </p:nvSpPr>
            <p:spPr>
              <a:xfrm>
                <a:off x="2590920" y="5181480"/>
                <a:ext cx="43812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0" name="Rectangle 1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16"/>
              <p:cNvSpPr txBox="1"/>
              <p:nvPr/>
            </p:nvSpPr>
            <p:spPr>
              <a:xfrm>
                <a:off x="2590920" y="5715000"/>
                <a:ext cx="439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ata Represen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228600" y="1447920"/>
            <a:ext cx="845820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focus on individual data vecto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t of above full matrix rep’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            are called “PCs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re also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2646360" y="2133720"/>
                <a:ext cx="3691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7" name="Rectangle 8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12"/>
              <p:cNvSpPr txBox="1"/>
              <p:nvPr/>
            </p:nvSpPr>
            <p:spPr>
              <a:xfrm>
                <a:off x="3200400" y="4724280"/>
                <a:ext cx="53352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ata Represen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228600" y="14479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ermin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    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effici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igenvalue represen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ad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t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of eigenvecto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7"/>
              <p:cNvSpPr txBox="1"/>
              <p:nvPr/>
            </p:nvSpPr>
            <p:spPr>
              <a:xfrm>
                <a:off x="2666880" y="3124080"/>
                <a:ext cx="3691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7" name="Rectangle 8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2"/>
              <p:cNvSpPr txBox="1"/>
              <p:nvPr/>
            </p:nvSpPr>
            <p:spPr>
              <a:xfrm>
                <a:off x="2209680" y="2133720"/>
                <a:ext cx="533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7010280" y="4478400"/>
                <a:ext cx="2133720" cy="23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j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5"/>
              <p:cNvSpPr txBox="1"/>
              <p:nvPr/>
            </p:nvSpPr>
            <p:spPr>
              <a:xfrm>
                <a:off x="4343400" y="4724280"/>
                <a:ext cx="5745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ata Represen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1447920"/>
            <a:ext cx="845820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Rank Represen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 using only              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suming decreasing eigenvalu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:   rank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proxi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to PC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mension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CA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 com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~ .jpe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6"/>
              <p:cNvSpPr txBox="1"/>
              <p:nvPr/>
            </p:nvSpPr>
            <p:spPr>
              <a:xfrm>
                <a:off x="3505320" y="2057400"/>
                <a:ext cx="30844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9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1"/>
              <p:cNvSpPr txBox="1"/>
              <p:nvPr/>
            </p:nvSpPr>
            <p:spPr>
              <a:xfrm>
                <a:off x="4648320" y="3276720"/>
                <a:ext cx="1523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5" name="Rectangle 1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13"/>
              <p:cNvSpPr txBox="1"/>
              <p:nvPr/>
            </p:nvSpPr>
            <p:spPr>
              <a:xfrm>
                <a:off x="3048120" y="4648320"/>
                <a:ext cx="3124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ata Represen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228600" y="1447920"/>
            <a:ext cx="845820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       in Reduced Rank Represent’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y slipp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 plot (Kruskal 1964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n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ower spect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2"/>
              <p:cNvSpPr txBox="1"/>
              <p:nvPr/>
            </p:nvSpPr>
            <p:spPr>
              <a:xfrm>
                <a:off x="2362320" y="1447920"/>
                <a:ext cx="3142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Rectangle 1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5" descr=""/>
          <p:cNvPicPr/>
          <p:nvPr/>
        </p:nvPicPr>
        <p:blipFill>
          <a:blip r:embed="rId1"/>
          <a:srcRect l="66947" t="11598" r="6315" b="71638"/>
          <a:stretch/>
        </p:blipFill>
        <p:spPr>
          <a:xfrm>
            <a:off x="5867280" y="3962520"/>
            <a:ext cx="2745000" cy="2439720"/>
          </a:xfrm>
          <a:prstGeom prst="rect">
            <a:avLst/>
          </a:prstGeom>
          <a:ln w="0">
            <a:noFill/>
          </a:ln>
        </p:spPr>
      </p:pic>
      <p:sp>
        <p:nvSpPr>
          <p:cNvPr id="359" name="Line 17"/>
          <p:cNvSpPr/>
          <p:nvPr/>
        </p:nvSpPr>
        <p:spPr>
          <a:xfrm>
            <a:off x="2590920" y="3886200"/>
            <a:ext cx="3429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8"/>
          <p:cNvSpPr/>
          <p:nvPr/>
        </p:nvSpPr>
        <p:spPr>
          <a:xfrm flipV="1">
            <a:off x="6019920" y="601956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9"/>
          <p:cNvSpPr/>
          <p:nvPr/>
        </p:nvSpPr>
        <p:spPr>
          <a:xfrm flipV="1">
            <a:off x="6019920" y="61722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ribution of 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990720"/>
            <a:ext cx="8686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venient summary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ount of stru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tal Sum of Squ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hysical Interpe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tal Energy i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sight comes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istical Termin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alysis Of VAriance  (ANO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5789520" y="1415880"/>
                <a:ext cx="12207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ata Represen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228600" y="1447920"/>
            <a:ext cx="845820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 plot drawback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kne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there are sever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ees depend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a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power?  log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sugges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uxiliary cutoffs (inter-rater vari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ull range (ala scale spa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533520" y="1219320"/>
            <a:ext cx="800100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Vector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 data from corresponding Norm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Invert PCA Data Represent’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1600200" y="5638680"/>
                <a:ext cx="304812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6"/>
              <p:cNvSpPr txBox="1"/>
              <p:nvPr/>
            </p:nvSpPr>
            <p:spPr>
              <a:xfrm>
                <a:off x="6781680" y="5791320"/>
                <a:ext cx="1962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8"/>
              <p:cNvSpPr txBox="1"/>
              <p:nvPr/>
            </p:nvSpPr>
            <p:spPr>
              <a:xfrm>
                <a:off x="3657600" y="1828800"/>
                <a:ext cx="425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Rectangle 11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10"/>
              <p:cNvSpPr txBox="1"/>
              <p:nvPr/>
            </p:nvSpPr>
            <p:spPr>
              <a:xfrm>
                <a:off x="3733920" y="2514600"/>
                <a:ext cx="1538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t xml:space="preserve">⋯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81" name="Rectangle 1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12"/>
              <p:cNvSpPr txBox="1"/>
              <p:nvPr/>
            </p:nvSpPr>
            <p:spPr>
              <a:xfrm>
                <a:off x="3962520" y="3276720"/>
                <a:ext cx="1420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sue:  for HDLSS data  (recall  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y be quite larg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slow to work with, and to comp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about a shortcu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:   Singular Value Decom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f (centered, scaled) Data Matrix 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4"/>
              <p:cNvSpPr txBox="1"/>
              <p:nvPr/>
            </p:nvSpPr>
            <p:spPr>
              <a:xfrm>
                <a:off x="6172200" y="1200240"/>
                <a:ext cx="9144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g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6"/>
              <p:cNvSpPr txBox="1"/>
              <p:nvPr/>
            </p:nvSpPr>
            <p:spPr>
              <a:xfrm>
                <a:off x="990720" y="1828800"/>
                <a:ext cx="361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8"/>
              <p:cNvSpPr txBox="1"/>
              <p:nvPr/>
            </p:nvSpPr>
            <p:spPr>
              <a:xfrm>
                <a:off x="5392800" y="1905120"/>
                <a:ext cx="9507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×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Rectangle 11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10"/>
              <p:cNvSpPr txBox="1"/>
              <p:nvPr/>
            </p:nvSpPr>
            <p:spPr>
              <a:xfrm>
                <a:off x="6934320" y="5105520"/>
                <a:ext cx="517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ular Value Decomposi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         uni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         uni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di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 matrix of singular 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sume:   decreasing singular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2"/>
              <p:cNvSpPr txBox="1"/>
              <p:nvPr/>
            </p:nvSpPr>
            <p:spPr>
              <a:xfrm>
                <a:off x="2057400" y="335268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7"/>
              <p:cNvSpPr txBox="1"/>
              <p:nvPr/>
            </p:nvSpPr>
            <p:spPr>
              <a:xfrm>
                <a:off x="2057400" y="2666880"/>
                <a:ext cx="307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11"/>
              <p:cNvSpPr txBox="1"/>
              <p:nvPr/>
            </p:nvSpPr>
            <p:spPr>
              <a:xfrm>
                <a:off x="6400800" y="1143000"/>
                <a:ext cx="19461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S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4"/>
              <p:cNvSpPr txBox="1"/>
              <p:nvPr/>
            </p:nvSpPr>
            <p:spPr>
              <a:xfrm>
                <a:off x="1981080" y="4038480"/>
                <a:ext cx="28116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Rectangle 1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6"/>
              <p:cNvSpPr txBox="1"/>
              <p:nvPr/>
            </p:nvSpPr>
            <p:spPr>
              <a:xfrm>
                <a:off x="3200400" y="2666880"/>
                <a:ext cx="7747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×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Rectangle 1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18"/>
              <p:cNvSpPr txBox="1"/>
              <p:nvPr/>
            </p:nvSpPr>
            <p:spPr>
              <a:xfrm>
                <a:off x="3200400" y="3352680"/>
                <a:ext cx="8254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Rectangle 21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20"/>
              <p:cNvSpPr txBox="1"/>
              <p:nvPr/>
            </p:nvSpPr>
            <p:spPr>
              <a:xfrm>
                <a:off x="4952880" y="5334120"/>
                <a:ext cx="2703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⋯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ular Value Decomposi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Relation to Eigen-analysi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eigenvector matri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eigen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are squares of singular 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6"/>
              <p:cNvSpPr txBox="1"/>
              <p:nvPr/>
            </p:nvSpPr>
            <p:spPr>
              <a:xfrm>
                <a:off x="7086600" y="1752480"/>
                <a:ext cx="3189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1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9"/>
              <p:cNvSpPr txBox="1"/>
              <p:nvPr/>
            </p:nvSpPr>
            <p:spPr>
              <a:xfrm>
                <a:off x="6324480" y="1066680"/>
                <a:ext cx="1828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S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Rectangle 11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0"/>
              <p:cNvSpPr txBox="1"/>
              <p:nvPr/>
            </p:nvSpPr>
            <p:spPr>
              <a:xfrm>
                <a:off x="914400" y="2590920"/>
                <a:ext cx="7488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S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S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9" name="Rectangle 1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12"/>
              <p:cNvSpPr txBox="1"/>
              <p:nvPr/>
            </p:nvSpPr>
            <p:spPr>
              <a:xfrm>
                <a:off x="2890800" y="5283360"/>
                <a:ext cx="385452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Rectangle 1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162920" y="3886200"/>
                <a:ext cx="414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ular Value Decompositio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utational advantage (for rank    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ct for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only need to f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-v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        s-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       scores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components not use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can be much faster f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6"/>
              <p:cNvSpPr txBox="1"/>
              <p:nvPr/>
            </p:nvSpPr>
            <p:spPr>
              <a:xfrm>
                <a:off x="5486400" y="5943600"/>
                <a:ext cx="10666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9"/>
              <p:cNvSpPr txBox="1"/>
              <p:nvPr/>
            </p:nvSpPr>
            <p:spPr>
              <a:xfrm>
                <a:off x="6324480" y="1066680"/>
                <a:ext cx="1828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S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1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15"/>
              <p:cNvSpPr txBox="1"/>
              <p:nvPr/>
            </p:nvSpPr>
            <p:spPr>
              <a:xfrm>
                <a:off x="2895480" y="2971800"/>
                <a:ext cx="39531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5" name="Line 16"/>
          <p:cNvSpPr/>
          <p:nvPr/>
        </p:nvSpPr>
        <p:spPr>
          <a:xfrm flipV="1">
            <a:off x="2819520" y="35809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17"/>
          <p:cNvSpPr/>
          <p:nvPr/>
        </p:nvSpPr>
        <p:spPr>
          <a:xfrm flipV="1">
            <a:off x="49528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18"/>
          <p:cNvSpPr/>
          <p:nvPr/>
        </p:nvSpPr>
        <p:spPr>
          <a:xfrm flipH="1" flipV="1">
            <a:off x="6476760" y="36572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8"/>
              <p:cNvSpPr txBox="1"/>
              <p:nvPr/>
            </p:nvSpPr>
            <p:spPr>
              <a:xfrm>
                <a:off x="6934320" y="1828800"/>
                <a:ext cx="325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other Variation:    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tivation:  Recall for demography da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to view a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Rows 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Columns 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4"/>
              <p:cNvSpPr txBox="1"/>
              <p:nvPr/>
            </p:nvSpPr>
            <p:spPr>
              <a:xfrm>
                <a:off x="4114800" y="3657600"/>
                <a:ext cx="4800600" cy="21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0" name="Line 16"/>
          <p:cNvSpPr/>
          <p:nvPr/>
        </p:nvSpPr>
        <p:spPr>
          <a:xfrm>
            <a:off x="5181480" y="3962520"/>
            <a:ext cx="3048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Line 17"/>
          <p:cNvSpPr/>
          <p:nvPr/>
        </p:nvSpPr>
        <p:spPr>
          <a:xfrm>
            <a:off x="5181480" y="5410080"/>
            <a:ext cx="3048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8"/>
          <p:cNvSpPr/>
          <p:nvPr/>
        </p:nvSpPr>
        <p:spPr>
          <a:xfrm>
            <a:off x="5181480" y="4724280"/>
            <a:ext cx="3048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Line 19"/>
          <p:cNvSpPr/>
          <p:nvPr/>
        </p:nvSpPr>
        <p:spPr>
          <a:xfrm>
            <a:off x="5562720" y="3657600"/>
            <a:ext cx="0" cy="20574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Line 20"/>
          <p:cNvSpPr/>
          <p:nvPr/>
        </p:nvSpPr>
        <p:spPr>
          <a:xfrm>
            <a:off x="6629400" y="3657600"/>
            <a:ext cx="0" cy="20574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Line 21"/>
          <p:cNvSpPr/>
          <p:nvPr/>
        </p:nvSpPr>
        <p:spPr>
          <a:xfrm>
            <a:off x="7620120" y="3657600"/>
            <a:ext cx="0" cy="20574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terminology (from optimization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PCA proble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 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Columns 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PCA proble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Rows 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11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12"/>
              <p:cNvSpPr txBox="1"/>
              <p:nvPr/>
            </p:nvSpPr>
            <p:spPr>
              <a:xfrm>
                <a:off x="4114800" y="3657600"/>
                <a:ext cx="4800600" cy="21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7" name="Line 13"/>
          <p:cNvSpPr/>
          <p:nvPr/>
        </p:nvSpPr>
        <p:spPr>
          <a:xfrm>
            <a:off x="5181480" y="3962520"/>
            <a:ext cx="3048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5181480" y="5410080"/>
            <a:ext cx="3048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5181480" y="4724280"/>
            <a:ext cx="3048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6"/>
          <p:cNvSpPr/>
          <p:nvPr/>
        </p:nvSpPr>
        <p:spPr>
          <a:xfrm>
            <a:off x="5562720" y="3657600"/>
            <a:ext cx="0" cy="20574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7"/>
          <p:cNvSpPr/>
          <p:nvPr/>
        </p:nvSpPr>
        <p:spPr>
          <a:xfrm>
            <a:off x="6629400" y="3657600"/>
            <a:ext cx="0" cy="20574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8"/>
          <p:cNvSpPr/>
          <p:nvPr/>
        </p:nvSpPr>
        <p:spPr>
          <a:xfrm>
            <a:off x="7620120" y="3657600"/>
            <a:ext cx="0" cy="20574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PCA Comput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as above, but replace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ca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mo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re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use SVD,                   ,  to ge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4"/>
              <p:cNvSpPr txBox="1"/>
              <p:nvPr/>
            </p:nvSpPr>
            <p:spPr>
              <a:xfrm>
                <a:off x="6400800" y="1905120"/>
                <a:ext cx="457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7"/>
              <p:cNvSpPr txBox="1"/>
              <p:nvPr/>
            </p:nvSpPr>
            <p:spPr>
              <a:xfrm>
                <a:off x="5181480" y="3200400"/>
                <a:ext cx="1447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10"/>
              <p:cNvSpPr txBox="1"/>
              <p:nvPr/>
            </p:nvSpPr>
            <p:spPr>
              <a:xfrm>
                <a:off x="3733920" y="4572000"/>
                <a:ext cx="19461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S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1"/>
              <p:cNvSpPr txBox="1"/>
              <p:nvPr/>
            </p:nvSpPr>
            <p:spPr>
              <a:xfrm>
                <a:off x="609480" y="5257800"/>
                <a:ext cx="8229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SV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S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S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S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13"/>
              <p:cNvSpPr txBox="1"/>
              <p:nvPr/>
            </p:nvSpPr>
            <p:spPr>
              <a:xfrm>
                <a:off x="2743200" y="2514600"/>
                <a:ext cx="5144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5" name="Rectangle 1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15"/>
              <p:cNvSpPr txBox="1"/>
              <p:nvPr/>
            </p:nvSpPr>
            <p:spPr>
              <a:xfrm>
                <a:off x="2895480" y="3886200"/>
                <a:ext cx="1771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87" name="Rectangle 1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ears to be cool symmet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D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adings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Scores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, there is a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ith the me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10"/>
              <p:cNvSpPr txBox="1"/>
              <p:nvPr/>
            </p:nvSpPr>
            <p:spPr>
              <a:xfrm>
                <a:off x="5791320" y="3657600"/>
                <a:ext cx="374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1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15"/>
              <p:cNvSpPr txBox="1"/>
              <p:nvPr/>
            </p:nvSpPr>
            <p:spPr>
              <a:xfrm>
                <a:off x="3505320" y="3657600"/>
                <a:ext cx="434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Rectangle 1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of Energy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04920" y="990720"/>
            <a:ext cx="8686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VA mean decompos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tal Variatio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 Mean Variation + Mean Residual Va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hematics:    Pythagorean Theo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uition Quantified via Sums of Squ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"/>
              <p:cNvSpPr txBox="1"/>
              <p:nvPr/>
            </p:nvSpPr>
            <p:spPr>
              <a:xfrm>
                <a:off x="1752480" y="3429000"/>
                <a:ext cx="4778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Line 16"/>
          <p:cNvSpPr/>
          <p:nvPr/>
        </p:nvSpPr>
        <p:spPr>
          <a:xfrm>
            <a:off x="1676520" y="2438280"/>
            <a:ext cx="609480" cy="1143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2514600" y="2971800"/>
            <a:ext cx="1371600" cy="609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 flipH="1">
            <a:off x="5791320" y="3048120"/>
            <a:ext cx="380880" cy="685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xt tim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ore Loadings &amp; Scores 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deeply, with explicit look 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ation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10"/>
              <p:cNvSpPr txBox="1"/>
              <p:nvPr/>
            </p:nvSpPr>
            <p:spPr>
              <a:xfrm>
                <a:off x="5791320" y="3657600"/>
                <a:ext cx="374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1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15"/>
              <p:cNvSpPr txBox="1"/>
              <p:nvPr/>
            </p:nvSpPr>
            <p:spPr>
              <a:xfrm>
                <a:off x="3505320" y="3657600"/>
                <a:ext cx="434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Rectangle 1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 differ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vec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Primal Mean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Mean of Col. Vec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Dual Mean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Mean of Row Vec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4"/>
              <p:cNvSpPr txBox="1"/>
              <p:nvPr/>
            </p:nvSpPr>
            <p:spPr>
              <a:xfrm>
                <a:off x="5181480" y="3200400"/>
                <a:ext cx="377208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3" name="Line 6"/>
          <p:cNvSpPr/>
          <p:nvPr/>
        </p:nvSpPr>
        <p:spPr>
          <a:xfrm>
            <a:off x="6248520" y="3200400"/>
            <a:ext cx="0" cy="16765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>
            <a:off x="7162920" y="3200400"/>
            <a:ext cx="0" cy="16765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8"/>
          <p:cNvSpPr/>
          <p:nvPr/>
        </p:nvSpPr>
        <p:spPr>
          <a:xfrm>
            <a:off x="7924680" y="3200400"/>
            <a:ext cx="0" cy="16765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6019920" y="3429000"/>
            <a:ext cx="228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6019920" y="3962520"/>
            <a:ext cx="228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Line 11"/>
          <p:cNvSpPr/>
          <p:nvPr/>
        </p:nvSpPr>
        <p:spPr>
          <a:xfrm>
            <a:off x="6019920" y="4572000"/>
            <a:ext cx="228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12"/>
              <p:cNvSpPr txBox="1"/>
              <p:nvPr/>
            </p:nvSpPr>
            <p:spPr>
              <a:xfrm>
                <a:off x="3429000" y="3886200"/>
                <a:ext cx="380880" cy="1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1" name="Rectangle 15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14"/>
              <p:cNvSpPr txBox="1"/>
              <p:nvPr/>
            </p:nvSpPr>
            <p:spPr>
              <a:xfrm>
                <a:off x="1828800" y="2819520"/>
                <a:ext cx="20574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3" name="Rectangle 21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20"/>
              <p:cNvSpPr txBox="1"/>
              <p:nvPr/>
            </p:nvSpPr>
            <p:spPr>
              <a:xfrm>
                <a:off x="3505320" y="6477120"/>
                <a:ext cx="38088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5" name="Rectangle 23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22"/>
              <p:cNvSpPr txBox="1"/>
              <p:nvPr/>
            </p:nvSpPr>
            <p:spPr>
              <a:xfrm>
                <a:off x="1676520" y="5105520"/>
                <a:ext cx="24699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7" name="Line 24"/>
          <p:cNvSpPr/>
          <p:nvPr/>
        </p:nvSpPr>
        <p:spPr>
          <a:xfrm flipV="1">
            <a:off x="3733920" y="6019920"/>
            <a:ext cx="46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25"/>
          <p:cNvSpPr/>
          <p:nvPr/>
        </p:nvSpPr>
        <p:spPr>
          <a:xfrm flipH="1" flipV="1">
            <a:off x="2437920" y="594360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26"/>
          <p:cNvSpPr/>
          <p:nvPr/>
        </p:nvSpPr>
        <p:spPr>
          <a:xfrm flipH="1" flipV="1">
            <a:off x="2362320" y="35053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27"/>
          <p:cNvSpPr/>
          <p:nvPr/>
        </p:nvSpPr>
        <p:spPr>
          <a:xfrm flipH="1" flipV="1">
            <a:off x="3504960" y="35053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Primal PCA, based on SVD of Primal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Dual PCA, based on SVD of Dual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similar, excep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cente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r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lumn interpre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12"/>
              <p:cNvSpPr txBox="1"/>
              <p:nvPr/>
            </p:nvSpPr>
            <p:spPr>
              <a:xfrm>
                <a:off x="3048120" y="1863720"/>
                <a:ext cx="28954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35" name="Rectangle 15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4"/>
              <p:cNvSpPr txBox="1"/>
              <p:nvPr/>
            </p:nvSpPr>
            <p:spPr>
              <a:xfrm>
                <a:off x="2513160" y="3524400"/>
                <a:ext cx="41083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xt Time   get factors of (n-1) stra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ybe best to dispense with that in def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 X_P  and X_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Curves, all in Primal Spa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 Constant 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 Line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 Quadr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b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hosen to be orthonorm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us (small) i.i.d. Gaussian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40,  n = 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4"/>
              <p:cNvSpPr txBox="1"/>
              <p:nvPr/>
            </p:nvSpPr>
            <p:spPr>
              <a:xfrm>
                <a:off x="1295280" y="2362320"/>
                <a:ext cx="7621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6"/>
              <p:cNvSpPr txBox="1"/>
              <p:nvPr/>
            </p:nvSpPr>
            <p:spPr>
              <a:xfrm>
                <a:off x="1600200" y="2971800"/>
                <a:ext cx="274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Rectangle 9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8"/>
              <p:cNvSpPr txBox="1"/>
              <p:nvPr/>
            </p:nvSpPr>
            <p:spPr>
              <a:xfrm>
                <a:off x="1371600" y="3505320"/>
                <a:ext cx="5652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10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(Col.) curves similar to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m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 asymmetric (but same curv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(Row) curves much rougher (showing Gaussian randomne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data were gene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or map useful?  (same as mesh vie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 richer structure than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it usefu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umn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Picture 9" descr=""/>
          <p:cNvPicPr/>
          <p:nvPr/>
        </p:nvPicPr>
        <p:blipFill>
          <a:blip r:embed="rId1"/>
          <a:srcRect l="12631" t="13382" r="6315" b="9813"/>
          <a:stretch/>
        </p:blipFill>
        <p:spPr>
          <a:xfrm>
            <a:off x="4330800" y="1009800"/>
            <a:ext cx="4316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Prim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ected to recover increasing po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did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happ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hough can see the po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(order??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has qu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 (since only n = 20??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ores (pro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) very rand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wer Spectrum shows 4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ffect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y subtracting Primal 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w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Picture 7" descr=""/>
          <p:cNvPicPr/>
          <p:nvPr/>
        </p:nvPicPr>
        <p:blipFill>
          <a:blip r:embed="rId1"/>
          <a:srcRect l="12631" t="13382" r="6315" b="9813"/>
          <a:stretch/>
        </p:blipFill>
        <p:spPr>
          <a:xfrm>
            <a:off x="4330800" y="1009800"/>
            <a:ext cx="4316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4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5"/>
          <p:cNvSpPr/>
          <p:nvPr/>
        </p:nvSpPr>
        <p:spPr>
          <a:xfrm>
            <a:off x="685800" y="5257800"/>
            <a:ext cx="81532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esiduals from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 Data –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M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 of Variation  =  92%    is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Mean Variation  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maining Variation  =  8%    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esid. Var.  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6"/>
          <p:cNvSpPr/>
          <p:nvPr/>
        </p:nvSpPr>
        <p:spPr>
          <a:xfrm flipV="1">
            <a:off x="1981080" y="4038120"/>
            <a:ext cx="1676520" cy="12956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7"/>
          <p:cNvSpPr/>
          <p:nvPr/>
        </p:nvSpPr>
        <p:spPr>
          <a:xfrm flipH="1" flipV="1">
            <a:off x="3504960" y="4495320"/>
            <a:ext cx="144756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 flipH="1" flipV="1">
            <a:off x="2819160" y="3886200"/>
            <a:ext cx="3352680" cy="1447920"/>
          </a:xfrm>
          <a:prstGeom prst="line">
            <a:avLst/>
          </a:prstGeom>
          <a:ln w="158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all very wiggly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nois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much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g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  54% of Total Va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ores hav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 smooth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flecting ordered primal e.v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call primal e.v.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dual scor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wer Spectrum shows 3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iven b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btraction Dual 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ual mean difference is cr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of Energy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04920" y="7621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e already studied this decomposition (recall curve e.g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Variation due to Mean (% of tot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Variation of Mean Residuals (% of tot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4" descr=""/>
          <p:cNvPicPr/>
          <p:nvPr/>
        </p:nvPicPr>
        <p:blipFill>
          <a:blip r:embed="rId1"/>
          <a:srcRect l="0" t="12490" r="0" b="0"/>
          <a:stretch/>
        </p:blipFill>
        <p:spPr>
          <a:xfrm>
            <a:off x="685800" y="1979640"/>
            <a:ext cx="7736040" cy="9602640"/>
          </a:xfrm>
          <a:prstGeom prst="rect">
            <a:avLst/>
          </a:prstGeom>
          <a:ln w="0">
            <a:noFill/>
          </a:ln>
        </p:spPr>
      </p:pic>
      <p:sp>
        <p:nvSpPr>
          <p:cNvPr id="152" name="Line 16"/>
          <p:cNvSpPr/>
          <p:nvPr/>
        </p:nvSpPr>
        <p:spPr>
          <a:xfrm>
            <a:off x="3048120" y="1447920"/>
            <a:ext cx="2133360" cy="838080"/>
          </a:xfrm>
          <a:prstGeom prst="line">
            <a:avLst/>
          </a:prstGeom>
          <a:ln w="158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2819520" y="1828800"/>
            <a:ext cx="761760" cy="4572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of Energy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04920" y="990720"/>
            <a:ext cx="8686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decompose SS about the m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: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ergy is expressed in trace of covar’ce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762120" y="1981080"/>
                <a:ext cx="716256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Rectangle 17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"/>
              <p:cNvSpPr txBox="1"/>
              <p:nvPr/>
            </p:nvSpPr>
            <p:spPr>
              <a:xfrm>
                <a:off x="2133720" y="3352680"/>
                <a:ext cx="49528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</m:ba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</m:bar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Rectangle 19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1447920" y="4419720"/>
                <a:ext cx="62481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of Energy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5638680" y="3733920"/>
                <a:ext cx="2365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4"/>
          <p:cNvSpPr/>
          <p:nvPr/>
        </p:nvSpPr>
        <p:spPr>
          <a:xfrm>
            <a:off x="304920" y="1219320"/>
            <a:ext cx="86868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genvalues provi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oms of SS decomposi’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seful Pl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wer Spectrum”:       v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g Power Spectrum”:              v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mulative Power Spectrum”:           v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e PCA gives SS’s for free (as eigenvalues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t watch factors of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762120" y="1371600"/>
                <a:ext cx="74674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7" name="Rectangle 17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7086600" y="4343400"/>
                <a:ext cx="2365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8305920" y="4952880"/>
                <a:ext cx="236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2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4419720" y="3657600"/>
                <a:ext cx="430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Rectangle 2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7"/>
              <p:cNvSpPr txBox="1"/>
              <p:nvPr/>
            </p:nvSpPr>
            <p:spPr>
              <a:xfrm>
                <a:off x="5029200" y="4267080"/>
                <a:ext cx="12193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Rectangle 27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8"/>
              <p:cNvSpPr txBox="1"/>
              <p:nvPr/>
            </p:nvSpPr>
            <p:spPr>
              <a:xfrm>
                <a:off x="6629400" y="4648320"/>
                <a:ext cx="8319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6" name="Rectangle 2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6705720" y="601992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of Energy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04920" y="7621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, have already considered some of the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seful P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ower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umulative Power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4" descr=""/>
          <p:cNvPicPr/>
          <p:nvPr/>
        </p:nvPicPr>
        <p:blipFill>
          <a:blip r:embed="rId1"/>
          <a:srcRect l="0" t="12490" r="0" b="0"/>
          <a:stretch/>
        </p:blipFill>
        <p:spPr>
          <a:xfrm>
            <a:off x="685800" y="1979640"/>
            <a:ext cx="7736040" cy="9602640"/>
          </a:xfrm>
          <a:prstGeom prst="rect">
            <a:avLst/>
          </a:prstGeom>
          <a:ln w="0">
            <a:noFill/>
          </a:ln>
        </p:spPr>
      </p:pic>
      <p:sp>
        <p:nvSpPr>
          <p:cNvPr id="211" name="Line 16"/>
          <p:cNvSpPr/>
          <p:nvPr/>
        </p:nvSpPr>
        <p:spPr>
          <a:xfrm>
            <a:off x="4572000" y="1752480"/>
            <a:ext cx="2057400" cy="533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>
            <a:off x="2971800" y="1371600"/>
            <a:ext cx="3657600" cy="1828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4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5"/>
          <p:cNvSpPr/>
          <p:nvPr/>
        </p:nvSpPr>
        <p:spPr>
          <a:xfrm>
            <a:off x="685800" y="5410080"/>
            <a:ext cx="815328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sit SS Decomposition for PC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C1 has “most of var’n”  =  9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l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od approx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9"/>
          <p:cNvSpPr/>
          <p:nvPr/>
        </p:nvSpPr>
        <p:spPr>
          <a:xfrm flipV="1">
            <a:off x="4648320" y="4191120"/>
            <a:ext cx="1904760" cy="2209680"/>
          </a:xfrm>
          <a:prstGeom prst="line">
            <a:avLst/>
          </a:prstGeom>
          <a:ln w="158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Administrator</cp:lastModifiedBy>
  <dcterms:modified xsi:type="dcterms:W3CDTF">2007-09-06T21:54:33Z</dcterms:modified>
  <cp:revision>369</cp:revision>
  <dc:subject/>
  <dc:title>Title</dc:title>
</cp:coreProperties>
</file>