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E77C-8A68-48C6-BE8B-952E68D13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BAD6-4AFD-45A7-8995-183C7CD07E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56EA-8153-46F3-82EE-48195F8586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AD89-088E-4ADC-A3D0-AE30A2F620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MsciznormRaw.a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F64A-5011-42C5-95B4-B11E3779D0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MsciznormRaw.a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467F-1BBD-4802-BBB1-BFC6E05244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DA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D6DF-FD39-4DAA-A51B-9F2C10797D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tcher_thesis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DA1E-DB70-459D-9C14-9C034CE82E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943F-7D94-4685-ACDC-DD6E411CE4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528E-FBDE-44FA-A719-8FFB201D5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00B0-523B-4318-97FB-6E0236E983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862D-89E5-4E22-A0E0-B0F8DB2907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E442-212C-45EF-A1D8-4C01D872DD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8CA-1D7F-4392-9FE5-9A96583413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C4BA-551D-4A25-8AB8-C4CA30E9128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6FA4-A1A7-429A-AAAC-BD164077A0C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6353-28CE-44CD-84C2-B8FFF969A62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D692-67AA-4D6D-BA83-20917A7C9FB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0C45-4D6E-4F69-B5A3-F7EC5B63E22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5EAF-CD75-41CE-AF1A-2FAEA595DDD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B571-3FCA-4FBB-840E-B32890CE2A7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B8B7-35AD-4FCE-90B0-C59A6DA270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03F1-C0DC-44ED-99B7-F2C8535AE1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F835-DA88-4B9E-B53B-EB2ECA01AB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7883-8BC0-4367-8D26-6E4E513D7F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9C3F-FDE4-4580-A5FA-3242C55DC6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F2AF-A340-46BE-A909-CA13D08D40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A766-2D6D-40B1-8FFA-5A2F67FF48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B566-5A4A-4254-BD88-DE24E59DE6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0BE2-3804-48D4-A1E4-26B9AC354C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FCB1-1C7D-442B-BF43-297A387DA4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9DB8-5C1A-4A25-82B8-0819AD428C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744A-1EE3-4604-B4C8-FE094CADFB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tcher_thesis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819F-055A-412E-9FC3-9E24B3473B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57B5-1CB1-4FA0-A0E6-4D769AD8FB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4831-7FB6-42E9-A519-A319B9A7C4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FDE4-B73D-4859-954E-08FD75424A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52D5-CEA2-49BB-B6CF-6F006A45616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2B1F-F406-4D3D-9706-640CD5C81BC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0718-D029-4EBF-BE41-5FB64AAA1D9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5835-DB47-4F96-862C-FCB8B7FD5A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E2ED-C3FB-4728-AB8F-BD8E6F6596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732E-C0FA-4293-B9C8-76F697BA50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1B16-3B45-4BDD-A7BE-72FCB72B76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CB56-B37B-49AC-AD84-8E51DBCA42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615F-7F54-4F80-A0ED-9D0C9358ED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01F0-A2E3-418E-BF02-7A34A5BEA5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4641-F68A-48C9-AD75-A7A4AEA41D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7512-131A-4CEB-97DD-FBB811C5F5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1BA4-88E7-44E9-89B8-682763000B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A90B-4595-44A1-8F6D-62C90921F2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BC3-080E-4BF7-869D-39AB86B6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05F-0CE8-49DE-8616-75435483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8B9-CEBE-47A1-AA02-94DC3766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427-CFBE-4CF8-9F74-374B6D4A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301-4BE8-4458-BB05-53B82250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B05-B9F1-42DA-9880-2C871EEE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10A-8270-4B3C-A570-E8B6D354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6A6-58ED-4033-A2CD-E3A14A18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11F-EC1B-4FC2-9B17-115E7C0B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611-F0BA-4FCB-8E77-BD65D216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545-FD58-4FC6-BE63-54747266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4E1-4F2B-476C-A9A1-F4B67936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762B-4981-407A-BA41-32A9AF43F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ometry.caltech.edu/pubs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ooming version,       --   Dependen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ss flux data,          --   Cell cycl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eneration         --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Object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etized skelet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atom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u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ok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 center to 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y a 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accessible early 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ushkevich, et al 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M-Rep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pus Callos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Yushkevi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CMsciznormRaw.avi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5905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M-Rep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pus Callos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Yushkevi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ok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7230" t="26646" r="10845" b="11669"/>
          <a:stretch/>
        </p:blipFill>
        <p:spPr>
          <a:xfrm>
            <a:off x="3135240" y="2671920"/>
            <a:ext cx="5307120" cy="3714480"/>
          </a:xfrm>
          <a:prstGeom prst="rect">
            <a:avLst/>
          </a:prstGeom>
          <a:ln w="0">
            <a:noFill/>
          </a:ln>
        </p:spPr>
      </p:pic>
      <p:sp>
        <p:nvSpPr>
          <p:cNvPr id="114" name="Line 6"/>
          <p:cNvSpPr/>
          <p:nvPr/>
        </p:nvSpPr>
        <p:spPr>
          <a:xfrm>
            <a:off x="1676520" y="3809880"/>
            <a:ext cx="259056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1752480" y="4343400"/>
            <a:ext cx="243864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H="1" flipV="1">
            <a:off x="4114800" y="411480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 flipV="1">
            <a:off x="4191120" y="4419360"/>
            <a:ext cx="22860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2286000" y="5333760"/>
            <a:ext cx="106668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91404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-d M-Rep Example:    From Ja-Yeon Je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ad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state - Rectum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oms   -   Spokes   -   Implied 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2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259236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2610000" cy="2917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"/>
          <p:cNvPicPr/>
          <p:nvPr/>
        </p:nvPicPr>
        <p:blipFill>
          <a:blip r:embed="rId3"/>
          <a:stretch/>
        </p:blipFill>
        <p:spPr>
          <a:xfrm>
            <a:off x="6095880" y="2590920"/>
            <a:ext cx="2592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-d M-reps:   there are several var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wo cho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et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6443" t="22138" r="6443" b="12650"/>
          <a:stretch/>
        </p:blipFill>
        <p:spPr>
          <a:xfrm>
            <a:off x="2971800" y="2133720"/>
            <a:ext cx="573264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rep parameters a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    (not compar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ffed into a long vec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many </a:t>
            </a:r>
            <a:r>
              <a:rPr b="0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 products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the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809880" y="2438280"/>
                <a:ext cx="177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3048120" y="3048120"/>
                <a:ext cx="576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Challen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analyz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as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what is the averag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   (average of the numb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 course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ct View of angular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 as points on 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1600200" y="3429000"/>
                <a:ext cx="712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7"/>
              <p:cNvSpPr txBox="1"/>
              <p:nvPr/>
            </p:nvSpPr>
            <p:spPr>
              <a:xfrm>
                <a:off x="1752480" y="3962520"/>
                <a:ext cx="297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4368960" y="2819520"/>
                <a:ext cx="2736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9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18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r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(1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 Unicode MS"/>
                <a:ea typeface="Arial Unicode MS"/>
              </a:rPr>
              <a:t>o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?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86600" y="2209680"/>
                <a:ext cx="128592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Oval 8"/>
          <p:cNvSpPr/>
          <p:nvPr/>
        </p:nvSpPr>
        <p:spPr>
          <a:xfrm>
            <a:off x="914400" y="1981080"/>
            <a:ext cx="4270320" cy="4267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traight Connector 10"/>
          <p:cNvSpPr/>
          <p:nvPr/>
        </p:nvSpPr>
        <p:spPr>
          <a:xfrm>
            <a:off x="3047400" y="1752480"/>
            <a:ext cx="75960" cy="472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traight Connector 15"/>
          <p:cNvSpPr/>
          <p:nvPr/>
        </p:nvSpPr>
        <p:spPr>
          <a:xfrm>
            <a:off x="533520" y="4114800"/>
            <a:ext cx="48765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Straight Arrow Connector 19"/>
          <p:cNvCxnSpPr/>
          <p:nvPr/>
        </p:nvCxnSpPr>
        <p:spPr>
          <a:xfrm flipH="1">
            <a:off x="5257440" y="2590920"/>
            <a:ext cx="1829520" cy="12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Straight Arrow Connector 20"/>
          <p:cNvCxnSpPr/>
          <p:nvPr/>
        </p:nvCxnSpPr>
        <p:spPr>
          <a:xfrm flipH="1">
            <a:off x="5181120" y="3351600"/>
            <a:ext cx="190584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Straight Arrow Connector 21"/>
          <p:cNvCxnSpPr/>
          <p:nvPr/>
        </p:nvCxnSpPr>
        <p:spPr>
          <a:xfrm flipH="1">
            <a:off x="5257440" y="4113720"/>
            <a:ext cx="175320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Straight Arrow Connector 22"/>
          <p:cNvCxnSpPr/>
          <p:nvPr/>
        </p:nvCxnSpPr>
        <p:spPr>
          <a:xfrm flipH="1" flipV="1">
            <a:off x="5257440" y="4190760"/>
            <a:ext cx="175320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Straight Arrow Connector 31"/>
          <p:cNvCxnSpPr/>
          <p:nvPr/>
        </p:nvCxnSpPr>
        <p:spPr>
          <a:xfrm flipH="1">
            <a:off x="990000" y="1599120"/>
            <a:ext cx="3353400" cy="259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32"/>
          <p:cNvCxnSpPr/>
          <p:nvPr/>
        </p:nvCxnSpPr>
        <p:spPr>
          <a:xfrm flipH="1">
            <a:off x="5257080" y="1523520"/>
            <a:ext cx="153000" cy="2515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 produc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    (not compar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priate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Lie o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d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 in higher 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 Euc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3809880" y="2362320"/>
                <a:ext cx="177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3048120" y="3048120"/>
                <a:ext cx="576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n Curved Manifold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cylinder1_data.avi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ODA in Image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rst Generation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oi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gmentation    (find object bound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gistration     (align obje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ll about single imag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n Curved Manifold Viewpo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Simple Toy Example (last mov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n a Cylinder  =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st non-Euclide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data, embedded on manifold i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flatten the cylinder, to a pl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periodic 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by:    Suman 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idea for more complex direct pr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8"/>
              <p:cNvSpPr txBox="1"/>
              <p:nvPr/>
            </p:nvSpPr>
            <p:spPr>
              <a:xfrm>
                <a:off x="5105520" y="2209680"/>
                <a:ext cx="1218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1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4"/>
              <p:cNvSpPr txBox="1"/>
              <p:nvPr/>
            </p:nvSpPr>
            <p:spPr>
              <a:xfrm>
                <a:off x="7238880" y="3657600"/>
                <a:ext cx="463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Challenging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le Pelv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adder – Prostate – Rect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 they move over time (days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itical to Radiation Treatment (canc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with 3-d 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hallenging to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boundary of each objec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resent each Objec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le Pelvis – Raw Da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479240"/>
            <a:ext cx="2666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CT Sl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in 3d im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il B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BladderProstateRectumRawCT.JPG"/>
          <p:cNvPicPr/>
          <p:nvPr/>
        </p:nvPicPr>
        <p:blipFill>
          <a:blip r:embed="rId1"/>
          <a:srcRect l="1566" t="17092" r="1566" b="17092"/>
          <a:stretch/>
        </p:blipFill>
        <p:spPr>
          <a:xfrm>
            <a:off x="3200400" y="1981080"/>
            <a:ext cx="5656320" cy="4226040"/>
          </a:xfrm>
          <a:prstGeom prst="rect">
            <a:avLst/>
          </a:prstGeom>
          <a:ln w="0">
            <a:noFill/>
          </a:ln>
        </p:spPr>
      </p:pic>
      <p:cxnSp>
        <p:nvCxnSpPr>
          <p:cNvPr id="178" name="Straight Arrow Connector 5"/>
          <p:cNvCxnSpPr/>
          <p:nvPr/>
        </p:nvCxnSpPr>
        <p:spPr>
          <a:xfrm flipV="1">
            <a:off x="2057400" y="3199680"/>
            <a:ext cx="6020640" cy="122004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stealth" w="lg"/>
          </a:ln>
        </p:spPr>
      </p:cxnSp>
      <p:cxnSp>
        <p:nvCxnSpPr>
          <p:cNvPr id="179" name="Straight Arrow Connector 9"/>
          <p:cNvCxnSpPr/>
          <p:nvPr/>
        </p:nvCxnSpPr>
        <p:spPr>
          <a:xfrm flipV="1">
            <a:off x="1828440" y="3352320"/>
            <a:ext cx="4267800" cy="190584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stealth" w="lg"/>
          </a:ln>
        </p:spPr>
      </p:cxnSp>
      <p:cxnSp>
        <p:nvCxnSpPr>
          <p:cNvPr id="180" name="Straight Arrow Connector 10"/>
          <p:cNvCxnSpPr/>
          <p:nvPr/>
        </p:nvCxnSpPr>
        <p:spPr>
          <a:xfrm flipV="1">
            <a:off x="1904760" y="4190400"/>
            <a:ext cx="3886920" cy="19054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le Pelvis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479240"/>
            <a:ext cx="2666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st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anual seg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lice by sl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BladderProstateRectumCTHandSegment.JPG"/>
          <p:cNvPicPr/>
          <p:nvPr/>
        </p:nvPicPr>
        <p:blipFill>
          <a:blip r:embed="rId1"/>
          <a:srcRect l="1574" t="24579" r="1574" b="5783"/>
          <a:stretch/>
        </p:blipFill>
        <p:spPr>
          <a:xfrm>
            <a:off x="3216240" y="1782720"/>
            <a:ext cx="56260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le Pelvis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79240"/>
            <a:ext cx="46483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st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ssembled in 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w to repres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anks:  Ja-Yeon Je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4" descr="BladderProstateRectumHandSegment.JPG"/>
          <p:cNvPicPr/>
          <p:nvPr/>
        </p:nvPicPr>
        <p:blipFill>
          <a:blip r:embed="rId1"/>
          <a:srcRect l="34453" t="18516" r="1566" b="7122"/>
          <a:stretch/>
        </p:blipFill>
        <p:spPr>
          <a:xfrm>
            <a:off x="4983120" y="1627200"/>
            <a:ext cx="37353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bject Re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dmarks (hard to fi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undary Rep’ns (no corresponde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dial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“skelet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retize as “atoms” called M-r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-d m-re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2783160" cy="3110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2746080" cy="3070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6172200" y="3352680"/>
            <a:ext cx="2746440" cy="3070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685800" y="1447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28600" y="1371600"/>
            <a:ext cx="86104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dder – Prostate – Rectum    (multiple objects, J. Y. Je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toms provide “skelet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d Boundary from “spokes”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“surfa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-d m-re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85800" y="1447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28600" y="1295280"/>
            <a:ext cx="8610480" cy="54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-rep model fi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, when 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l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expensive (30 – 40 minutes technician’s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omatic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, because of poor contrast, noise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borrow information across training s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ayes approach:   prior &amp; likelihoo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Conjugate Gaussians, but there are iss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HLD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lle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old aspect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Analysis of M-r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: Man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 produc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points on smooth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in non-Euclidean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n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source for statistical analysi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etcher (2004), Fletcher, et al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with geodesic di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distanc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ong surf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ODA in Image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cond Generation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pulations of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tanding Population Vari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imination (a.k.a. Classific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lex Data Structures (&amp; Spa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the mean of data on a manifo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d choic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in embedded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will probably leave manif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unit cir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impro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 stud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racterizations of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m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fruitful:   Fr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t mean of numb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t mean in Euclidean 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t mean on a manifo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Euclidean        by  Geodes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743200" y="1752480"/>
                <a:ext cx="373392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8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4876920" y="5334120"/>
                <a:ext cx="349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9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8"/>
              <p:cNvSpPr txBox="1"/>
              <p:nvPr/>
            </p:nvSpPr>
            <p:spPr>
              <a:xfrm>
                <a:off x="2208240" y="5797440"/>
                <a:ext cx="176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1143000" y="3581280"/>
                <a:ext cx="6999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Rectangle 1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4"/>
              <p:cNvSpPr txBox="1"/>
              <p:nvPr/>
            </p:nvSpPr>
            <p:spPr>
              <a:xfrm>
                <a:off x="8077320" y="5334120"/>
                <a:ext cx="350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requires a metric (distance)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odesic distance giv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odesic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ll known in robust statist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Euclidean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Robust distance,  e.g.     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uc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out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s another no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med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6019920" y="4648320"/>
                <a:ext cx="422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6"/>
              <p:cNvSpPr txBox="1"/>
              <p:nvPr/>
            </p:nvSpPr>
            <p:spPr>
              <a:xfrm>
                <a:off x="7620120" y="4648320"/>
                <a:ext cx="388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 for data on a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EGGeodMean2d.avi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 for data on a circ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lways easily interpre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 “distances along arc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bout  “points in       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 of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quared distance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strongly feels the larges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lways u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unique “with probability on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-unique requires strong sym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possible to have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4267080" y="2666880"/>
                <a:ext cx="457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 for data on a circ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lway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ensib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tion of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prefer “top &amp; bottom”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end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rthe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ints from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continuous Func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mp from 1 –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mp from 2 – 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false for Euclidean M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ll happen generally for manifol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 for data on a circ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of interest is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Varia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s like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var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 values in movie, reflec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pread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 theoretical ver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for Laws of Large Number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2816280" y="2209680"/>
                <a:ext cx="398304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2895480" y="4800600"/>
                <a:ext cx="38214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lim>
                    </m:limLow>
                    <m:sSub>
                      <m:e>
                        <m:r>
                          <m:t xml:space="preserve">E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d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Viewpoint for data on manif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ngent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ane touching at one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which poi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odesic (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)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nce terminolo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ic next p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cs from:    Fletcher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10621" t="22138" r="8851" b="9488"/>
          <a:stretch/>
        </p:blipFill>
        <p:spPr>
          <a:xfrm>
            <a:off x="2133720" y="1905120"/>
            <a:ext cx="493236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onential Map” Terminolog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Complex Exponential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onential Ma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In Tangent Space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 Manifo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3"/>
          <p:cNvSpPr/>
          <p:nvPr/>
        </p:nvSpPr>
        <p:spPr>
          <a:xfrm>
            <a:off x="228600" y="2819520"/>
            <a:ext cx="3144960" cy="3144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traight Connector 5"/>
          <p:cNvSpPr/>
          <p:nvPr/>
        </p:nvSpPr>
        <p:spPr>
          <a:xfrm>
            <a:off x="1828800" y="2514600"/>
            <a:ext cx="7632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traight Connector 8"/>
          <p:cNvSpPr/>
          <p:nvPr/>
        </p:nvSpPr>
        <p:spPr>
          <a:xfrm flipV="1">
            <a:off x="0" y="4267080"/>
            <a:ext cx="3657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traight Connector 12"/>
          <p:cNvSpPr/>
          <p:nvPr/>
        </p:nvSpPr>
        <p:spPr>
          <a:xfrm flipV="1">
            <a:off x="1905120" y="2895480"/>
            <a:ext cx="1218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18"/>
          <p:cNvSpPr/>
          <p:nvPr/>
        </p:nvSpPr>
        <p:spPr>
          <a:xfrm>
            <a:off x="3352680" y="2209680"/>
            <a:ext cx="76320" cy="449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Straight Connector 27"/>
          <p:cNvSpPr/>
          <p:nvPr/>
        </p:nvSpPr>
        <p:spPr>
          <a:xfrm flipH="1">
            <a:off x="3352320" y="2973240"/>
            <a:ext cx="1800" cy="1293840"/>
          </a:xfrm>
          <a:prstGeom prst="line">
            <a:avLst/>
          </a:prstGeom>
          <a:ln w="101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2362320" y="3809880"/>
                <a:ext cx="30456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3581280" y="3352680"/>
                <a:ext cx="3049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4876920" y="3657600"/>
                <a:ext cx="27432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↦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6172200" y="4572000"/>
                <a:ext cx="2793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58" name="Straight Arrow Connector 40"/>
          <p:cNvCxnSpPr/>
          <p:nvPr/>
        </p:nvCxnSpPr>
        <p:spPr>
          <a:xfrm flipH="1" flipV="1">
            <a:off x="5180760" y="4343040"/>
            <a:ext cx="305640" cy="129600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arrow" w="lg"/>
          </a:ln>
        </p:spPr>
      </p:cxnSp>
      <p:cxnSp>
        <p:nvCxnSpPr>
          <p:cNvPr id="259" name="Straight Arrow Connector 41"/>
          <p:cNvCxnSpPr/>
          <p:nvPr/>
        </p:nvCxnSpPr>
        <p:spPr>
          <a:xfrm flipH="1" flipV="1">
            <a:off x="3428640" y="2971800"/>
            <a:ext cx="2057760" cy="266724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arrow" w="lg"/>
          </a:ln>
        </p:spPr>
      </p:cxnSp>
      <p:cxnSp>
        <p:nvCxnSpPr>
          <p:cNvPr id="260" name="Straight Arrow Connector 44"/>
          <p:cNvCxnSpPr/>
          <p:nvPr/>
        </p:nvCxnSpPr>
        <p:spPr>
          <a:xfrm flipH="1" flipV="1">
            <a:off x="7771680" y="5181120"/>
            <a:ext cx="229320" cy="5342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lg" type="arrow" w="lg"/>
          </a:ln>
        </p:spPr>
      </p:cxnSp>
      <p:cxnSp>
        <p:nvCxnSpPr>
          <p:cNvPr id="261" name="Straight Arrow Connector 47"/>
          <p:cNvCxnSpPr/>
          <p:nvPr/>
        </p:nvCxnSpPr>
        <p:spPr>
          <a:xfrm flipH="1" flipV="1">
            <a:off x="2818800" y="3199680"/>
            <a:ext cx="5182200" cy="25153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 Object Re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Approaches for Im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onential Map Termi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ory Tric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onential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ngent Plane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Curved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g Map (Inve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d Manifold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Tangent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og of 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geodesics (PG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line that best fit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geodesi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at best fits 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geodesic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roug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t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emented as PCA in tangent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mapped back to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etcher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GA for m-reps, Bladder-Prostate-Rect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adder – Prostate – Rectum,  1 person, 17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G 1                   PG 2                  PG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nalysis by Ja Yeon Jeo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6942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GA for m-reps, Bladder-Prostate-Rect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adder – Prostate – Rectum,  1 person, 17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G 1                   PG 2                  PG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nalysis by Ja Yeon Jeo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GA for m-reps, Bladder-Prostate-Rect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adder – Prostate – Rectum,  1 person, 17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G 1                   PG 2                  PG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nalysis by Ja Yeon Jeo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692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Analogs of PCA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pass through geodesic me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sible for Euclidean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bvious for non-Euclide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haps “geodesic that explains data as well as possible” (no mean constraint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 this add anyth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same for Euclidean c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nce least squares fit contains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PGA on the unit sp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4" descr="C:\Users\marron\Documents\Teaching\UNCstor891OODA-2007\Graphics\PCAonSphere1.jpg"/>
          <p:cNvPicPr/>
          <p:nvPr/>
        </p:nvPicPr>
        <p:blipFill>
          <a:blip r:embed="rId1"/>
          <a:srcRect l="0" t="42784" r="35294" b="12835"/>
          <a:stretch/>
        </p:blipFill>
        <p:spPr>
          <a:xfrm>
            <a:off x="914400" y="1905120"/>
            <a:ext cx="5029200" cy="4743360"/>
          </a:xfrm>
          <a:prstGeom prst="rect">
            <a:avLst/>
          </a:prstGeom>
          <a:ln w="0">
            <a:noFill/>
          </a:ln>
        </p:spPr>
      </p:pic>
      <p:cxnSp>
        <p:nvCxnSpPr>
          <p:cNvPr id="288" name="Straight Arrow Connector 5"/>
          <p:cNvCxnSpPr/>
          <p:nvPr/>
        </p:nvCxnSpPr>
        <p:spPr>
          <a:xfrm flipH="1">
            <a:off x="4571280" y="2286000"/>
            <a:ext cx="198180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Straight Arrow Connector 6"/>
          <p:cNvCxnSpPr/>
          <p:nvPr/>
        </p:nvCxnSpPr>
        <p:spPr>
          <a:xfrm flipH="1">
            <a:off x="4343040" y="3047040"/>
            <a:ext cx="2210400" cy="20577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PGA on the unit sp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eodesic M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4" descr="C:\Users\marron\Documents\Teaching\UNCstor891OODA-2007\Graphics\PCAonSphere1.jpg"/>
          <p:cNvPicPr/>
          <p:nvPr/>
        </p:nvPicPr>
        <p:blipFill>
          <a:blip r:embed="rId1"/>
          <a:srcRect l="0" t="42784" r="35294" b="12835"/>
          <a:stretch/>
        </p:blipFill>
        <p:spPr>
          <a:xfrm>
            <a:off x="914400" y="1901880"/>
            <a:ext cx="5029200" cy="4743360"/>
          </a:xfrm>
          <a:prstGeom prst="rect">
            <a:avLst/>
          </a:prstGeom>
          <a:ln w="0">
            <a:noFill/>
          </a:ln>
        </p:spPr>
      </p:pic>
      <p:cxnSp>
        <p:nvCxnSpPr>
          <p:cNvPr id="293" name="Straight Arrow Connector 4"/>
          <p:cNvCxnSpPr/>
          <p:nvPr/>
        </p:nvCxnSpPr>
        <p:spPr>
          <a:xfrm flipH="1" flipV="1">
            <a:off x="3656880" y="2894760"/>
            <a:ext cx="2972520" cy="839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4" name="Straight Arrow Connector 7"/>
          <p:cNvCxnSpPr/>
          <p:nvPr/>
        </p:nvCxnSpPr>
        <p:spPr>
          <a:xfrm flipH="1">
            <a:off x="3352320" y="3732840"/>
            <a:ext cx="3277440" cy="1905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PGA on the unit sp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eodesic M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3" descr="C:\Users\marron\Documents\Teaching\UNCstor891OODA-2007\Graphics\PCAonSphere1.jpg"/>
          <p:cNvPicPr/>
          <p:nvPr/>
        </p:nvPicPr>
        <p:blipFill>
          <a:blip r:embed="rId1"/>
          <a:srcRect l="0" t="42784" r="35294" b="12835"/>
          <a:stretch/>
        </p:blipFill>
        <p:spPr>
          <a:xfrm>
            <a:off x="914400" y="1901880"/>
            <a:ext cx="5029200" cy="4743360"/>
          </a:xfrm>
          <a:prstGeom prst="rect">
            <a:avLst/>
          </a:prstGeom>
          <a:ln w="0">
            <a:noFill/>
          </a:ln>
        </p:spPr>
      </p:pic>
      <p:cxnSp>
        <p:nvCxnSpPr>
          <p:cNvPr id="298" name="Straight Arrow Connector 6"/>
          <p:cNvCxnSpPr/>
          <p:nvPr/>
        </p:nvCxnSpPr>
        <p:spPr>
          <a:xfrm flipH="1" flipV="1">
            <a:off x="2971440" y="3962160"/>
            <a:ext cx="365832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PGA on the unit sp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eodesic M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                                                                                 </a:t>
            </a:r>
            <a:r>
              <a:rPr b="0" lang="en-US" sz="20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Best Fit Geodes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3" descr="C:\Users\marron\Documents\Teaching\UNCstor891OODA-2007\Graphics\PCAonSphere1.jpg"/>
          <p:cNvPicPr/>
          <p:nvPr/>
        </p:nvPicPr>
        <p:blipFill>
          <a:blip r:embed="rId1"/>
          <a:srcRect l="0" t="42784" r="35294" b="12835"/>
          <a:stretch/>
        </p:blipFill>
        <p:spPr>
          <a:xfrm>
            <a:off x="914400" y="1901880"/>
            <a:ext cx="5029200" cy="4743360"/>
          </a:xfrm>
          <a:prstGeom prst="rect">
            <a:avLst/>
          </a:prstGeom>
          <a:ln w="0">
            <a:noFill/>
          </a:ln>
        </p:spPr>
      </p:pic>
      <p:cxnSp>
        <p:nvCxnSpPr>
          <p:cNvPr id="302" name="Straight Arrow Connector 4"/>
          <p:cNvCxnSpPr/>
          <p:nvPr/>
        </p:nvCxnSpPr>
        <p:spPr>
          <a:xfrm flipH="1" flipV="1">
            <a:off x="4723920" y="4876560"/>
            <a:ext cx="1829520" cy="30528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s for fly wing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8767" t="32564" r="6575" b="20841"/>
          <a:stretch/>
        </p:blipFill>
        <p:spPr>
          <a:xfrm>
            <a:off x="1143000" y="2743200"/>
            <a:ext cx="70642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1430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PGA on the unit sp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is “best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haps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best f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about PG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uld go through geo mea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about PG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uld cross PG1 &amp; PG2 at same poi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constrained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Distribution on Manifold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jor Drawbac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Landmar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to always find each land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same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Landmarks need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p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medical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How many corresponding landmarks on a set of kidneys, livers or brain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sets of id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iangular Mes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vey:  Owen (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tive Shape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tes, et al (199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Boundary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leman, et al (1997 &amp; 19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 of triangular mesh rep’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rom: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geometry.caltech.edu/pubs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5" descr="A high-genus buddha simplified down to 2K triangles, with and without topology filtering"/>
          <p:cNvPicPr/>
          <p:nvPr/>
        </p:nvPicPr>
        <p:blipFill>
          <a:blip r:embed="rId2"/>
          <a:stretch/>
        </p:blipFill>
        <p:spPr>
          <a:xfrm>
            <a:off x="1447920" y="1752480"/>
            <a:ext cx="647676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Drawbac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po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OODA (on vectors of parameter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to “match up point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y to find triangular me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ts of research on this driven by ga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llenge to match mesh across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some interesting idea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12-23T14:24:18Z</dcterms:modified>
  <cp:revision>766</cp:revision>
  <dc:subject/>
  <dc:title>Title</dc:title>
</cp:coreProperties>
</file>