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B068-FC5A-4414-8820-EA331DED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C3F-7DC4-45D7-BD3C-74890C5F1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0D5-7BDE-485A-B50E-0ED66C076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3A9-B7FC-4920-9607-F6D734FB1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C8D-DD54-4C57-B108-DFE5D00161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347-BD8F-4C5C-AB9A-7D093C54D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AB41-5239-4864-A81D-7240CCE33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436-A536-46AE-9B0C-6D741877A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8346-2865-4FF8-B164-FEC3EA6D1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342-3B5D-434F-8001-80313BD6DA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730D-2A23-4C5C-9B49-F721FC5B4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179-684B-406F-85E3-9117EBA82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3E77-388D-42B2-848C-A34B96879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170-71B8-4635-A4DC-DD98EF81E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A94-E8A3-47EE-81EE-9C2D642EF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C97C-3F07-4833-A1CA-8FD383661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ABF5-3B6A-4B51-B52A-6FE92F99CD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1DF3-4B51-4F2E-8510-C90EEB9BD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B631-3E25-4562-8756-A849DC768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993-41F4-4018-800E-83E43EA08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5D1-A8CB-4666-A3ED-5DF2EC022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B1B6-73DE-4494-B233-B0BC77780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F782-065B-4390-99D8-B017B6CF6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4D18-C55E-4246-8B9D-3D516A51C3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E10A-E2CF-4816-BD58-7CCA1CCBF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0D14-E0AB-44D6-ABF8-CBFA65A94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9066-E65C-46A9-957E-210F687AAC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5767-AD20-4F22-9E47-33998E7441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963-0EB2-4873-91C6-44ABBF2318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755-BFC6-4AD0-BC12-34DB1625B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2CF-997D-453C-B540-1815547B29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2EB-B380-4BF4-9DF1-D710DDA286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C390-BF4D-4BBE-89E9-E6D2D0D60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7F62-84F9-4C85-A127-9999415AE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A3D-D4E2-4DF0-946D-B6FE1BC5A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3D5-6C9B-4862-907E-A83482E23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488-152C-41D3-976C-474542C5F8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28B-6F4F-4B85-96F7-FCE9AC1D49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CE4-B475-4DCF-8448-8C45296F39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A13-95C9-44DC-B44C-D1ED10B93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3F7-65D9-40C6-AB3B-4C90A9C559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66F2-90F7-46F6-980F-8DE30454B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8278-140F-4A06-8278-3A809A6CF0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0C68-5CC2-4934-8533-2A8482D86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7105-F0CB-4960-9B6D-E2145345C6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CCC-9EC5-49BA-BF57-18B2FD005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AD9-92B5-4CE1-9E19-1EDA368B9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93CB-8CCA-44AF-BA35-254BC43CD9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DCF-85F5-47D0-AC3B-F758362876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176D-70A2-4D64-A3C7-E216A66499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116-EEE8-47B0-ABBA-F3C9C532A5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BD9E-E323-4A47-86B4-19DF3D8AD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4EDA-C464-4790-829C-5CC9EADBD8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8D8-095E-4212-9483-1C8C8E0D7A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FA7-1370-451F-8128-9E0629239C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86FE-0E5E-48F4-B4B2-2B9DA0478F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66FE-DF3D-41BB-A36D-25B76E0968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5D8-2E91-45F1-AC03-96395FC88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FB46-48F0-464D-94C9-467A7C9E3B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1634-DCC7-45F8-93F0-3FCBC1D59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51B-9CA0-4079-93D1-5427653193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0483-8BE4-4490-A88B-83233133B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5C1-EAF0-4F82-ABE6-D4A83418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18E-0C91-4939-A386-7349CD6C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325-3912-4602-8A55-1436837C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50C-06FE-4966-B960-40E1BD8B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446-30F5-4CE9-8863-E2448768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EA1-96E6-4239-BC14-6D979ED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76D-D86A-41EF-9A48-02A6056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3FE-F9B2-4C5F-B0B9-3A23651A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065-CC85-454B-B195-67CFB69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A7F-AE8F-4342-A006-9336A0F7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6CE-9210-42B1-98E8-2AA636E9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A30-1EF5-4E49-A936-AFD8BD6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B470-3565-48B7-8F23-6D5BD5261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ganizational Ma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http://www.stat-or.unc.edu/webspace/courses/marron/UNCstor891OODA-2007/Stor891-07Home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at is OO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sualization by 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bject Space &amp; 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urve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ata Representati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CA visu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Scatterplo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Scatterplo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990720"/>
            <a:ext cx="80010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Point Clou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s along a 1-d curve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ctually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d mode of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 of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aptured by PCA (linear meth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more l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5867280" y="1981080"/>
                <a:ext cx="609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990720"/>
            <a:ext cx="80010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Spectrometry Measu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 Aging Substance, called “Esta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ver Logarithmic Time Grid, n =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 Spect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me Ev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PCA &amp; Time Col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990720"/>
            <a:ext cx="800100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/ E. Kober &amp; J. Wendelbe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lamos National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Experimental Cond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Dry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27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93640" y="903240"/>
            <a:ext cx="7864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60 spectra essentially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” of mean is much bigg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about 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see structure of all 1600 freq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n see different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mean subtracte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much smaller vertical 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93640" y="903240"/>
            <a:ext cx="7864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zoomed to “important” freq’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 slight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er “natural looking”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spectra more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now have “real structu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le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93640" y="903240"/>
            <a:ext cx="786456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ime Order Colo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e a little ordering, not m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time or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ing peaks?    (compare to Ra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C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C1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nearly linear (same scale import’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bject Conceptu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1523880"/>
            <a:ext cx="8305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                                  Manif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                                Tre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7010280" y="2362320"/>
                <a:ext cx="560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93640" y="903240"/>
            <a:ext cx="7864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ystematic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dering very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iscent of Toy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ear 1-d curve in Featur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xpla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 flipV="1" rot="10779000">
            <a:off x="609480" y="4723920"/>
            <a:ext cx="786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hemical Reac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. 1 transforms into Subst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 p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eatur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ToySpect1p1d1.avi" descr=""/>
          <p:cNvPicPr/>
          <p:nvPr/>
        </p:nvPicPr>
        <p:blipFill>
          <a:blip r:embed="rId1"/>
          <a:stretch/>
        </p:blipFill>
        <p:spPr>
          <a:xfrm>
            <a:off x="1143000" y="1055520"/>
            <a:ext cx="693432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r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.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2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ToySpect1p1d11.avi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688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.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2   &amp;  Subst. 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2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ToySpect1p2d5.avi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69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2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(lives in 3-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3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ToySpect1p2d21.avi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omplex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2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(lives in 4-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4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oySpect1p2d31.avi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69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93640" y="903240"/>
            <a:ext cx="786456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from To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3 reactions unde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distinguish from no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statistical open probl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04920" y="903240"/>
            <a:ext cx="81532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e other experiments?  Reca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Dry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27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results were “cherry picked”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st makes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cases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Analysis, Toy EG 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.g., maybe ~4d curv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~4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2 is “bleeding of CO2”, discussed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Ha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“3-d + noise”?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Only 3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H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r to judg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ble discretization effect, despite ~4d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, except strange at beginning (CO2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Ha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tructure in PC1 Resid (d &lt;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H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at beginning, OK since “olde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903240"/>
            <a:ext cx="8153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strange behavior for DA59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2 showed “really different behavior at st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com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this, should have started measuring la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rcRect l="28548" t="6315" r="49960" b="70736"/>
          <a:stretch/>
        </p:blipFill>
        <p:spPr>
          <a:xfrm>
            <a:off x="2362320" y="2604960"/>
            <a:ext cx="3200400" cy="24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fun to look at broader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way to do these analy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1523880"/>
            <a:ext cx="830556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software (user friendly?) avail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.unc.edu/postscript/papers/marron/Matlab7Softwar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&amp; put in Matlab Pa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irst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datSM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plotSM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990720"/>
            <a:ext cx="83059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them all together as big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oint Cloud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6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80880" y="990720"/>
            <a:ext cx="83059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them all together as big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oint Cloud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4d space of interest, driven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lusters (3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of chemical reaction  (1-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se don’t appear as the 4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. PC1 “spread over PC2,3,4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a “rotation of interesting dir’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unrotate”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0880" y="990720"/>
            <a:ext cx="8305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luster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lear comparison of within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 (- mea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0880" y="990720"/>
            <a:ext cx="83059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luster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lear comparison of within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versus others are quite rev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different “rotation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don’t show so m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31440" y="1066680"/>
            <a:ext cx="8094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t Work with:    Andres Alon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v. Carlos III, Mad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tality, as a function of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ce of 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for Males, in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each 1-yea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08 -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CA of the family of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1440" y="1143000"/>
            <a:ext cx="8094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CA of the family of curves for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bies &amp; elder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m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getting better over time (Raw &amp; PC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pt 1918  -  Influenza Pand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ddle age most mortal   (PC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y 1930s  -  Spanish Civil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994 (then better) auto wre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ade Rounding (several pl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Females in Sp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pects 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War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ady improvement until 70s  (PC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uto accidents ki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CA for Males in Switzerl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pects 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decade rounding (better rec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18  Fl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fferent Color   (PC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War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ady improvement until 70s  (PC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uto accidents ki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way to do these analy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33520" y="1523880"/>
            <a:ext cx="83055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software (user friendly?) avail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.unc.edu/postscript/papers/marron/Matlab7Softwar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???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 Nex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some time going through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any students seem to want to us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rminology:   from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ights come from studying “primal” &amp; “dual”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2193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4191120" y="1752480"/>
                <a:ext cx="4495680" cy="339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880" y="12193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s are data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4191120" y="1752480"/>
                <a:ext cx="4495680" cy="339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Oval 5"/>
          <p:cNvSpPr/>
          <p:nvPr/>
        </p:nvSpPr>
        <p:spPr>
          <a:xfrm>
            <a:off x="6019920" y="1371600"/>
            <a:ext cx="761760" cy="426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343400" y="1371600"/>
            <a:ext cx="762120" cy="426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7696080" y="1371600"/>
            <a:ext cx="762120" cy="426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3124080" y="4114800"/>
            <a:ext cx="121932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3124080" y="4038480"/>
            <a:ext cx="457200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V="1">
            <a:off x="3124080" y="4038480"/>
            <a:ext cx="289584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880" y="12193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s are data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4191120" y="1752480"/>
                <a:ext cx="4495680" cy="339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Oval 6"/>
          <p:cNvSpPr/>
          <p:nvPr/>
        </p:nvSpPr>
        <p:spPr>
          <a:xfrm>
            <a:off x="3809880" y="1752480"/>
            <a:ext cx="5334120" cy="6858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2286000" y="2209680"/>
            <a:ext cx="1600200" cy="2438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3809880" y="3124080"/>
            <a:ext cx="5334120" cy="6858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3809880" y="4495680"/>
            <a:ext cx="5334120" cy="6858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V="1">
            <a:off x="2286000" y="3581280"/>
            <a:ext cx="1600200" cy="10670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2286000" y="4648320"/>
            <a:ext cx="1676520" cy="304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ic Prim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Years, Co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are 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ic Du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Ages, Co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are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ual PCA View, Spanish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ual PCA View, Spanish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people have const. mortality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mprovement for rest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for 1918 (flu) &amp; Spanish Civil War, but generally improving (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s for ages 1-6, then worse (PC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Improvement for young (PC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ge Color Ke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0880" y="12193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briel, K. R. (1971) The biplot display of matrices with application to principal component analysis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ometrik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58, 46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tudy mor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ing” is a critical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 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icro-arra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af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eprocessing):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ousands of genes    (d ~ 1,00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dozen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(n ~ 1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tatistic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igh Dimension Low Sample S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(HDL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llman, P. T., Sherlock, G., Zhang, M.Q., Iyer, V.R., Anders, K., Eisen, M.B., Brown, P.O., Botstein, D. and Futcher, B. (1998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rehensive Identification of Cell Cycle-regulated Genes of the Yea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ccharomyces cerevisia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icroarray Hybrid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lecular Biology of the Cel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9, 3273-329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is here i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hao, X., Marron, J.S. and Wells, M.T. (2004) The Functional Data View of Longitudinal Data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 Sinic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14, 789-808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ime Series of Curv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 a “Set of Curv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ut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Time Ord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Importa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o code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rt                                                             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18946" t="26764" r="18946" b="57989"/>
          <a:stretch/>
        </p:blipFill>
        <p:spPr>
          <a:xfrm>
            <a:off x="1981080" y="4419720"/>
            <a:ext cx="544536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b experi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nchronize cell cy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f yeast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cDNA micro-arrays ov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d 18 time points, ov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 2 cell cy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ied 4,489 genes  (whole geno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view of data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489 time series of length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View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48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5562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gene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ver 2 cell cyc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13382" t="15157" r="16058" b="12631"/>
          <a:stretch/>
        </p:blipFill>
        <p:spPr>
          <a:xfrm>
            <a:off x="1568520" y="1117440"/>
            <a:ext cx="58611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Toy E.g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1523880"/>
            <a:ext cx="830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orizontal Motion Linear Variatio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shif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ssian den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:    Code time with colors as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762120" y="1101600"/>
            <a:ext cx="7638840" cy="956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rcRect l="10104" t="12490" r="6315" b="0"/>
          <a:stretch/>
        </p:blipFill>
        <p:spPr>
          <a:xfrm>
            <a:off x="4419720" y="914400"/>
            <a:ext cx="4541760" cy="6735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04920" y="1143000"/>
            <a:ext cx="144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28600" y="990720"/>
            <a:ext cx="4114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 gives “Mod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re are Man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Useful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“harmonics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n’t there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m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comes in 2-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2-23T14:14:21Z</dcterms:modified>
  <cp:revision>100</cp:revision>
  <dc:subject/>
  <dc:title>Title</dc:title>
</cp:coreProperties>
</file>