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0F3-2AAB-4E16-8B19-C725CD44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E8D-3D27-445C-9726-6F6DFE7D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9F0-07F8-45C3-94AE-0DE5BBBE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630-4B0A-4D6B-8DF8-6B20E9C4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420-E3AA-4DCA-AF72-3C022CA0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8CE-56EB-4A38-A91A-1A240CBA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A19-4E9E-4EF4-818B-8904ED0D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230-AC90-43DC-9EBF-0DD1D6DD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067-2454-4F28-97F4-8DC5B425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5EC-BFEC-4736-A6BF-0CBFE641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091-811D-4498-9283-6F6B372F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DC2-AB6D-47B3-A4E0-E224ECF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DAE6-F07A-461E-B0F4-16A76FBE7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Stat31ClassEG1.xls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unc.edu/~marron/UNCstat31-2005/Stat31sec1Home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t.unc.edu/teach/rosu/Stat31/Companion.html" TargetMode="External"/><Relationship Id="rId2" Type="http://schemas.openxmlformats.org/officeDocument/2006/relationships/hyperlink" Target="https://www.unc.edu/~marron/UNCstat31-2005/Stat31sec1Home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t.unc.edu/teach/rosu/Stat31/Companion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t.unc.edu/teach/rosu/Stat31/Companion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 31,  Sec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971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S. Marron, Prof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of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perations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“Data Structu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   Data organization meth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matrix” (mathematical ob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.    2-d Array,          i. e.    spread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“Data Structu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1.2,   1.3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s on pages 22-23, 32-33 of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{Note: odd answers in back, Sec. S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Important Variabl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cal”  -  puts into set of “slo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ale /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Fr, So, Jr,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”  -  an actu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HW score, height,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in 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urn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 order assig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ory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A 1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Summaries for Categoric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ies  = 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Freq.  =  Counts /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uts on scale of [0,1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C4:  For the data of 1.3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the frequency of M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the relative freq. of M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plain in 15 words or less why (b) is the “better summar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{Ask for answer by email on Wednesday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ory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A 2:  Visual Displays of Categoric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Picture allows quick understanding of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 Charts  -  not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Graphs  -  heights are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roblem 1.12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 data on CD, so I typed to mak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i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 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tretching of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m to 2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 Wizard  (note it makes gue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itl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ddle size, locatio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 need to turn in only 1 p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 Graph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:    1.13, using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ed to type in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Web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unc.edu/~marron/UNCstat31-2005/Stat31sec1Hom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n’t need to write down, it is on hand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ndamental to all parts of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figure it out immediate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use these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this Power Point to your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rint befor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What: 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 class and add notes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ry to get these up the night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up to Speed o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C1: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ercise 1 in Excel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.unc.edu/teach/rosu/Stat31/Companion.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:  only turn in one printe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call instructions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urse web p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you can also write on that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your name &amp; highlight 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up to Speed o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C2: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ercise 2 in Excel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.unc.edu/teach/rosu/Stat31/Companion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to avoid excessive 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data from CD 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y also be web available, try Goog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up to Speed on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W C3: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ercise 3 in Excel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t.unc.edu/teach/rosu/Stat31/Companion.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to avoid excessive typing thi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data from course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gain as EXCEL spreadshe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tatist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ing Insight from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milar to text’s defin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of Managing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ll get quantitative about the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rite Qu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never good at math, but statistics is easy, since it is just common sen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” of “Individua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each of you i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ndividual is associated with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variab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scores on HW1, HW2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1:07:03Z</dcterms:created>
  <dc:creator> </dc:creator>
  <dc:description/>
  <dc:language>en-US</dc:language>
  <cp:lastModifiedBy> </cp:lastModifiedBy>
  <dcterms:modified xsi:type="dcterms:W3CDTF">2005-01-13T03:12:08Z</dcterms:modified>
  <cp:revision>13</cp:revision>
  <dc:subject/>
  <dc:title>Slide 1</dc:title>
</cp:coreProperties>
</file>