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18BE-BA45-4FB3-896D-62393A9B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96D0-387D-492D-ABD1-F498EE58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7665-DD8E-4F90-9385-E999B7517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F261-E014-446B-BEB6-51FE31A89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CA7E-F525-4EE2-AB9F-64DB47F6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1804-8C26-4655-BFD7-60E80D92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E733-531B-491F-A5BC-612968FA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21C1-FB1E-4D62-91EB-935E057A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E94C-9EC6-47C0-8C36-623979D9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89ED-95A7-4085-BAFE-FFAEDBFA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E1C6-A1E4-4CB7-BF2E-6555B6FE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704E-625A-4731-9852-82E20B2A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F589-99FD-4A45-9DFE-0AB55D772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unc.edu/%7Emarron/UNCstat31-2005/Stat31sec1Home.html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tat.sc.edu/~west/applets/histogram.html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4Done.xls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2Raw.xls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Eg2Raw.xls" TargetMode="External"/><Relationship Id="rId2" Type="http://schemas.openxmlformats.org/officeDocument/2006/relationships/hyperlink" Target="https://www.unc.edu/~marron/UNCstat31-2005/Stat31Eg2Done.xls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 31,  Section 1,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Organization &amp;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%7Emarron/UNCstat31-2005/Stat31sec1Ho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Statis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ypes and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going in 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atory Dat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 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ffalo Snowfall Data,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 default (of bin ed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round numbers for bin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“centered around 90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data between 50 and 1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ymetric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ffalo Snowfall Data,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r b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sen by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width = 5,   &lt;&lt; ~13  from EXCEL def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er edg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centered around 84 (now more preci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 graph rougher (fewer points in each b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s 3 main groups (called “mode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an’t see this above:  bin width cou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ffalo Snowfall Data,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b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sen by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width = 30,   &gt;&gt; ~13 from EXCEL def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 graph is “smoot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ince many points in each b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one mode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symmetr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ifferent from above:  bin width cou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ffalo Snowfall Data, 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’s under the hood (how to do thi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ta Analysi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istogram (&amp; Chart 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y need Data Analysis “Add-in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age pic (especially bar wid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ma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in,  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 range:  create first two &amp; dr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gram, using input bin 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ffalo Snowfall Data, 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’s under the hood (how to do thi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ta Analysi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istogram (&amp; Chart 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y need Data Analysis “Add-in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age pic (especially bar wid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ma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in,  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 range:  create first two &amp; dr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gram, using input bin 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W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.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 Excel and hist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et data from CD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o both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cel Default b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ins set to:  0,10,20,…,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ich gives answers closer to answers in back of boo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urn in only one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Binwid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e Example from the Webster West, U.S.C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.sc.edu/~west/applets/histogram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Binwidth with sli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mooth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r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smooth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ritical to visual impres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Binwidt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dalgo Stamp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Mexico in 180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sources of pap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mo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2, 5, 7, 1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419720" y="220968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Binwidt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mod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tion:  Answer depends on bin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 serious and curr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al research probl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mps Data Hist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mod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ution: Answer also depends on b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.e. “shift” of bi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114800" y="1828800"/>
            <a:ext cx="4800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 31,  Student Poll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4920" y="2666880"/>
          <a:ext cx="5495760" cy="357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666880"/>
                    <a:ext cx="549576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28600" y="1752480"/>
            <a:ext cx="51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indicated on “Student Info” 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800" y="2971800"/>
            <a:ext cx="220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hanges from the pa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 B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is cour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several binwidths, to “get the ide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ness of EXCEL  (we will see several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inconven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son of 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Example:  Study Habit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  Compare Study Habits of Males vs. Females (measured by some “survey score”, perhaps of questionable value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%7Emarron/UNCstat31-2005/Stat31Eg4Done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y Habits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 default histogra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s look similar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ful:    Binwidth very bi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ful:    Different bin rang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smaller binwidths, and common s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y Habits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Choice:  Binwidths = 10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ns for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difference, easy to 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ales higher “on averag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es are “more sprea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“exceptional value”,    really true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look for (in histo’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Center Point  (Study Habits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Spread (Study Habits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 -  Symmetric vs. Sk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Skew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Skew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s  -  Unexpected clu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iers  -  “unusual data poin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3352680"/>
            <a:ext cx="1524240" cy="53352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960" y="336"/>
                </a:moveTo>
                <a:lnTo>
                  <a:pt x="0" y="336"/>
                </a:lnTo>
                <a:lnTo>
                  <a:pt x="48" y="144"/>
                </a:lnTo>
                <a:lnTo>
                  <a:pt x="96" y="48"/>
                </a:lnTo>
                <a:lnTo>
                  <a:pt x="192" y="0"/>
                </a:lnTo>
                <a:lnTo>
                  <a:pt x="288" y="96"/>
                </a:lnTo>
                <a:lnTo>
                  <a:pt x="384" y="192"/>
                </a:lnTo>
                <a:lnTo>
                  <a:pt x="672" y="240"/>
                </a:lnTo>
                <a:lnTo>
                  <a:pt x="912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60800" y="3962520"/>
            <a:ext cx="1586160" cy="531720"/>
          </a:xfrm>
          <a:custGeom>
            <a:avLst/>
            <a:gdLst/>
            <a:ahLst/>
            <a:rect l="l" t="t" r="r" b="b"/>
            <a:pathLst>
              <a:path w="999" h="335">
                <a:moveTo>
                  <a:pt x="0" y="335"/>
                </a:moveTo>
                <a:cubicBezTo>
                  <a:pt x="333" y="335"/>
                  <a:pt x="666" y="335"/>
                  <a:pt x="999" y="335"/>
                </a:cubicBezTo>
                <a:lnTo>
                  <a:pt x="907" y="0"/>
                </a:lnTo>
                <a:lnTo>
                  <a:pt x="763" y="48"/>
                </a:lnTo>
                <a:lnTo>
                  <a:pt x="667" y="192"/>
                </a:lnTo>
                <a:lnTo>
                  <a:pt x="427" y="240"/>
                </a:lnTo>
                <a:lnTo>
                  <a:pt x="43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son of Histograms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W:  1.25b, 1.27, 1.29, 1.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ork in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this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et data from CD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 EXCEL and hist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dd answers in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choose the b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if you miss something in answers, change th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urn in at most one page for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ting Bivariat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y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,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,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1,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,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429000" y="1371600"/>
          <a:ext cx="541008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371600"/>
                    <a:ext cx="54100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 flipV="1">
            <a:off x="1371600" y="2971800"/>
            <a:ext cx="4800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371600" y="3733560"/>
            <a:ext cx="62485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447920" y="4495680"/>
            <a:ext cx="3124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447920" y="5181480"/>
            <a:ext cx="5486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ting Bivariat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562360" y="1523880"/>
            <a:ext cx="327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ee m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ghtful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necting poi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28600" y="1752480"/>
          <a:ext cx="525780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52578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ting Bivariat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 to switch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s, and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lines/cur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886200" y="1676520"/>
          <a:ext cx="4800600" cy="44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676520"/>
                    <a:ext cx="48006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ting Bivariat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6781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Name:  “Scatterplo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ok under the hoo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:  Chart Wizard  (colored bar ic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 Type:  XY (sca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ype conrols points only, or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 steps similar to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an massage the pic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 31,  Student Poll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taken an AP Exam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 ~10% had  &amp;  grades generally 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don’t worry if you haven’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Concept: 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”   =   “Patterns of dat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 “way data is spread ou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 Bar Graph is visual display of categorical “distribu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atory Data Analysis 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 Display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uantit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strib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m and Leaf P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Recomm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in motivation was pencil and paper statistical analysis, but now have better graphical methods readily accessi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mited special case of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 Disp: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Quantitativ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ist’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Apply bar graph id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reating categor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“class intervals” or “classes” or “bi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 put numbers into “bins”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 heights are counts, or “frequenci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5         0          1          2          3        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7" idx="1"/>
            <a:endCxn id="57" idx="1"/>
          </p:cNvCxnSpPr>
          <p:nvPr/>
        </p:nvCxnSpPr>
        <p:spPr>
          <a:xfrm>
            <a:off x="456840" y="4038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9" name=""/>
          <p:cNvSpPr/>
          <p:nvPr/>
        </p:nvSpPr>
        <p:spPr>
          <a:xfrm>
            <a:off x="1828800" y="541008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209680" y="28195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581280" y="5257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952880" y="5333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324480" y="5333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7696080" y="5333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4724280"/>
            <a:ext cx="13716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4038480"/>
            <a:ext cx="13716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24480" y="4724280"/>
            <a:ext cx="13716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3429000"/>
            <a:ext cx="13716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3962520"/>
            <a:ext cx="137160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3200400"/>
            <a:ext cx="259056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95280" y="3809880"/>
            <a:ext cx="53341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4419720"/>
            <a:ext cx="2666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219320" y="4343040"/>
            <a:ext cx="5333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219320" y="3733560"/>
            <a:ext cx="266688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Histogram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alo, N. Y. (Annual) Snowfal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w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%7Emarron/UNCstat31-2005/Stat31Eg2Raw.x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 years,   ranging from ~30  -  ~120     (inch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ffalo Snowfal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alo, N. Y. (Annual) Snowfal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w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%7Emarron/UNCstat31-2005/Stat31Eg2Raw.x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 years,   ranging from   ~30  -  ~120     (inch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gram Analysis (pre-don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www.unc.edu/%7Emarron/UNCstat31-2005/Stat31Eg2Done.x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 </dc:creator>
  <dc:description/>
  <dc:language>en-US</dc:language>
  <cp:lastModifiedBy>Marron</cp:lastModifiedBy>
  <dcterms:modified xsi:type="dcterms:W3CDTF">2005-01-18T13:58:46Z</dcterms:modified>
  <cp:revision>49</cp:revision>
  <dc:subject/>
  <dc:title>Slide 1</dc:title>
</cp:coreProperties>
</file>