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01E-B679-4C77-BE35-CD9485E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841-E1D8-41D3-857D-DD5C824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04B-6FD6-4DE3-91EB-80B6EB2F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B16-4829-46A5-9275-DE325EC1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E5D-9D69-4EBC-8B53-FD3A7B6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633-E648-4668-BD21-4E5ED046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FD0-D388-47A3-83C7-283F6A0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D49-4378-47C3-851F-D27FA02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D0E-2768-4A18-9984-C6666309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3C2-46E2-4785-97AB-9B19446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684-8E5B-433B-A437-7EF0BF3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6D4-8C80-4147-9663-CFD0040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9BD-50E4-4803-A5E1-32ECC514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nc.edu/%7Emarron/UNCstat31-2005/Stat31sec1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box.html" TargetMode="External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s (how are data “spread out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Display:   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width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variate display:  scatter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sec1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Distribution:  Essentially no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Ske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area                                                  50%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since “feels tails more strong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3497400" cy="218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5334120"/>
                <a:ext cx="2872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590920" y="31240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952520" y="3124080"/>
            <a:ext cx="17528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00200" y="4647960"/>
            <a:ext cx="2590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9112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49528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7200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 (unusual valu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Web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bo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feels outliers much more stro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“range of most of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otion of “center”?   (perhaps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affected very mini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Termin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is “resistant to the effect of outli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 Betw’n Mean &amp; Me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flexible web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uf.rice.edu/~lane/stat_sim/descriptiv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various dist’ns, by manipulating bar h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for symmetric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different when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Gap”, can mak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mp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ess sensitive (more “continuou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Centerpoint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 1.49 a  (but make histograms),  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s”  (again there are sev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biggest       -  smal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s only “outli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“bulk of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non-resi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22096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248520" y="22096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480" y="3200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124080"/>
            <a:ext cx="10980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124080"/>
            <a:ext cx="10980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124080"/>
            <a:ext cx="109440" cy="109800"/>
          </a:xfrm>
          <a:prstGeom prst="diamond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90360" y="3581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907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8487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“average squared distance to   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 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:    units ar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g.   For     in feet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00200" y="1905120"/>
                <a:ext cx="617220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467480" y="3886200"/>
                <a:ext cx="31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33720" y="5867280"/>
                <a:ext cx="384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5791320"/>
                <a:ext cx="460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  STD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i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resistant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quite a lot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reasons described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67080" y="1676520"/>
                <a:ext cx="1382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View of S. 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flexible web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uf.rice.edu/~lane/stat_sim/descript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 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ered at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right near middle”  (densely pack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“edges of data”    (U shaped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outside of data”       (big spike + out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enerally “sensible measure of spr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ce – S. D.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 for both data sets in 1.49, find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riance      (698.9,   10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ndard Deviation      (26.4,   32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quartile Range   =  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“quartiles”,   Q1 and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a:  shows where are 25% &amp; 75% “through the 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                   25%                       25%                  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      Q2 = median      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169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2767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029200" y="33526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53080" y="33526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8195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7280" y="51055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lots”,  i.e. “Time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when time structure is import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variable as a function of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ful to “connect the d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133360" y="52578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743200" y="4343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343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581280" y="41148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114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343400" y="46479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76920" y="4266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3341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429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629400" y="3885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010280" y="38862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53080" y="411480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095880" y="3505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638680" y="33526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57080" y="419112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99880" y="4572000"/>
            <a:ext cx="13644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67080" y="4648320"/>
            <a:ext cx="136800" cy="1364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85480" y="40384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04600" y="44956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7400" y="4267080"/>
            <a:ext cx="13644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666880" y="4952880"/>
            <a:ext cx="136800" cy="1368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flexible web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6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kewness g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&lt;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an “feels farther points more strongl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near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 quite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kes sense from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6Raw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pute as separate functions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ata Analysi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scriptive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ives many other measur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k-th largest &amp; smallest” to get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 -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  -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Information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2 &amp; 4  (maybe 1 &amp;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2,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 &amp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6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function QUA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op sho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R seems to need explicit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for Defining “Outli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: 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ver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Q3 + 1.5 *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Q1 – 1.5 * I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tamps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6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liers at “low 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at “high 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Visual Display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legacy from pencil &amp; pape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pported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Number Sum. &amp; Outlier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49  c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46   and ad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)  How much does the mean change if you omit Montana and Wyo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ime Seri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Airline Passenger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5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r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ng term growth, over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r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ppears proportional to tr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Effect”  -  12 Month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ak in summer, less in wi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Passeng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variation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log of product is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changing variation prop’l to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10 is “most interpret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10(1000) = 3,  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useful trick (there are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Passenger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under th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unc.edu/~marron/UNCstat31-2005/Stat31Eg5Raw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Type:  Line  (or could do  X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ubtype for points &amp;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nu for first log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could just type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down to repeat for whol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1.36, 1.3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Summar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ummarize distribu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center”, “spread”, “skew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xt, Sec.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at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scripts allow “indexing numbers” in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124080" y="4724280"/>
                <a:ext cx="2743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”  (note there are sev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” = Averag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letter “Sigma”, for “s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CEL, use “AVERAGE”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2819520"/>
                <a:ext cx="26668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38280" y="3962520"/>
                <a:ext cx="221004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609480" y="480060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Summaries of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” = Value in middle (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orted E.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ed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“in middle”?  (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better “middle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:    use function “MEDI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1-20T13:37:23Z</dcterms:modified>
  <cp:revision>100</cp:revision>
  <dc:subject/>
  <dc:title>Slide 1</dc:title>
</cp:coreProperties>
</file>