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C88-B166-4D52-8604-43EC8E2E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B6E-C54F-464A-B5D6-C01A5077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81C-B63B-4DFA-BE14-514086DF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F38-ADC4-4E84-918A-171E5A51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3BD-42D5-481D-99E5-5F9EECA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7D7-636B-4DC7-9460-C489780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907-5F48-4738-8BC5-35C08E5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1A7-EB1D-4400-97FE-3F3847D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614-3041-434F-8577-7ED7DF5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9C2-49F0-4839-B8F6-DD77CFA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052-DB67-4A25-B507-142E0F7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B88-75D6-44C0-B1B2-642B8C10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DD93-7B94-4F5A-A9B2-5CE43E04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nc.edu/%7Emarron/UNCstat31-2005/Stat31sec1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7Done.xl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Summari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:   Mean, Me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:   Range, Variance, S.D., I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Number Summary    &amp;    Outlier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sec1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ing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     Section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Approximate histogram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idealized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a “density cur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presents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ized Curv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Hidalgo Stamps 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ing Bin Movie (made # modes chang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mpsHistLoc.m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dealized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unc.edu/~marron/UNCstat31-2005/StampsHistLocKDE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“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opulation cu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hows why histogram modes appear and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density cu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“relative frequen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data between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        =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638680" y="4952880"/>
                <a:ext cx="1067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57800" y="5486400"/>
                <a:ext cx="17524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962520" y="5638680"/>
                <a:ext cx="6858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rcRect l="0" t="42063" r="0" b="0"/>
          <a:stretch/>
        </p:blipFill>
        <p:spPr>
          <a:xfrm>
            <a:off x="1905120" y="2743200"/>
            <a:ext cx="5333760" cy="146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43200" y="403848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419720" y="3962520"/>
                <a:ext cx="311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 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 densit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relative freq. of everything i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 1.78  (b: 0.8),       1.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with pencil and paper, no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Useful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urve”    =    “Gaussian Dens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:    “like a mo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of “sand dumped from a tru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, worse, description:   “bell shap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Daily Maximum Temperatures in Melbourne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9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Histogram is “mound shap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“small scale random 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odel with “Normal Densit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ens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normal curves, index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”, i.e.  Mean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”, i.e. Stand. Deviation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     &amp;     are called “parame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“mu”          Greek “sigma” ~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5181480"/>
                <a:ext cx="378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410080" y="3352680"/>
                <a:ext cx="4669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238880" y="4267080"/>
                <a:ext cx="457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3581280" y="3809880"/>
            <a:ext cx="1828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238880" y="4724280"/>
            <a:ext cx="152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09880" y="5181480"/>
                <a:ext cx="381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Normal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” (pans) indexed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” (zooms) index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nteractive graphical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tat.sc.edu/~west/applets/normaldemo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area under curve is alway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43600" y="2590920"/>
                <a:ext cx="533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477120" y="34290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normal            density curve”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“function” of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constant  =  3.14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umber  =  2.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1676520"/>
                <a:ext cx="120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38280" y="2419200"/>
                <a:ext cx="426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24280" y="4419720"/>
                <a:ext cx="317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1066680" y="350496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380988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42864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hap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to m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d by sigm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otal Area = 1:   divi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            ,  but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343400" y="2362320"/>
                <a:ext cx="762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162920" y="5181480"/>
                <a:ext cx="111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86600" y="6019920"/>
                <a:ext cx="57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76920" y="3352680"/>
                <a:ext cx="1015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410080" y="4114800"/>
                <a:ext cx="1067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90720" y="6019920"/>
                <a:ext cx="1725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505320" y="6095880"/>
                <a:ext cx="1330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From Gr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ncountered some problems in the grading.  These problem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homework pages are not stapl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answers are not the same order as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results, especially in excel tables, are not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please emphasize the above problems in your class?  If the students follow the rules, the grading will be much easier.  In the grading of homework #2, I also hope that you can allow me to enforce the rules by giving zero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Mode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  Choose             to g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” fit to data           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ribution is “mound shaped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outliers are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“good” choice of normal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257800" y="21337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33920" y="160020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48120" y="5562720"/>
                <a:ext cx="3124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it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Melbourne Daily Max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9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curve,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good” approximat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419720" y="2743200"/>
                <a:ext cx="2743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Fit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9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hosen (not default) histogram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ice comparison b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onger range to avoid the “More”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with density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o steps, in cols F an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se NORMDIS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l J, check same as col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Curve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7:    A study of distance runners found a mean weight of 63.1 kg, with a standard deviation of 4.8 kg.  Assuming that the distribution of weights is normal, use EXCEL to draw the density curve of the weight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Views of Normal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Model to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            &amp;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 Data to Mod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andardi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Normal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 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different resca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ose scale depending on n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15000" y="2514600"/>
                <a:ext cx="1085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9880" y="2514600"/>
                <a:ext cx="1143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05520" y="4495680"/>
                <a:ext cx="2057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Distribution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“normal distribu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an         &amp;  standard deviation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brevi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77320" y="2514600"/>
                <a:ext cx="3808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251460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62520" y="4191120"/>
                <a:ext cx="2133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 Z-scores are on              sc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erp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1752480"/>
                <a:ext cx="1170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85800" y="5867280"/>
                <a:ext cx="1295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8" name=""/>
          <p:cNvGraphicFramePr/>
          <p:nvPr/>
        </p:nvGraphicFramePr>
        <p:xfrm>
          <a:off x="5181480" y="3657600"/>
          <a:ext cx="319896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657600"/>
                    <a:ext cx="31989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2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m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3 sd of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34120" y="1143000"/>
          <a:ext cx="335412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335412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2438280"/>
                <a:ext cx="1295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90720" y="5181480"/>
                <a:ext cx="1676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5410080" y="3962520"/>
          <a:ext cx="3181320" cy="27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962520"/>
                    <a:ext cx="31813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>
            <a:off x="304560" y="39625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Version (used for above pic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Webster West’s Websi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tat.sc.edu/~west/applets/empiricalrul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Z-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lations are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 - 95 - 99.7 %   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82  (a: 234-298,    b: 234, 29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What happens to data &amp; summaries, when dat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ed and scal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panned and zoom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ed b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b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76520" y="4267080"/>
                <a:ext cx="64767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657600" y="5105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6248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5029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5029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5029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172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6172200"/>
            <a:ext cx="7596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172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172200"/>
            <a:ext cx="76320" cy="763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181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18148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2819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518148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n linear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points,     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data”: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s,        and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scale, not shift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809880" y="3124080"/>
                <a:ext cx="432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038480" y="3733920"/>
                <a:ext cx="3310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05520" y="3124080"/>
                <a:ext cx="533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24080" y="5181480"/>
                <a:ext cx="308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724280" y="5105520"/>
                <a:ext cx="914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800600" y="5791320"/>
                <a:ext cx="2220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IQ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Useful Linear Trans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put data sets on “common s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Mean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center at 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S.D.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give common SD = 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038480" y="5029200"/>
                <a:ext cx="30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038480" y="3657600"/>
                <a:ext cx="403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is called “z-sco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       is interpre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Ds from the me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76520" y="5029200"/>
                <a:ext cx="453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43600" y="1295280"/>
                <a:ext cx="239544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3276720"/>
                <a:ext cx="276048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Snowfall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Eg7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have same (EXCEL default) histogram shape as raw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ce axes and bin edg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rans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“shape” doesn’t depend on “sca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7Raw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VERAGE and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ormula in cell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dow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ean and SD cells fixed using $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and’d data have mean 0 &amp; S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  “8.247E-16    =    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6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the 18 female scores in 1.49,  use EXCE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e the list of standardized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e the Z-score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ean          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edian        (-0.096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ii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smallest       (-1.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v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largest          (2.2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1-25T02:49:22Z</dcterms:modified>
  <cp:revision>164</cp:revision>
  <dc:subject/>
  <dc:title>Slide 1</dc:title>
</cp:coreProperties>
</file>