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E6D-6957-44A9-8E83-AA40C0D5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C22-7454-4325-BB83-9863D784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B28-C004-47D6-86DF-2877B10C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341-AFD8-4CF0-A0A8-0A5C1C87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CF3-E6C8-4C24-A493-A471D88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6A6-6CF0-43EC-8E3D-86405C5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518-1D99-4C3C-9ECA-622DB6B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FC3-C11C-426A-98F9-C47764BB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110-F8D9-40F9-A082-EA4E8AC7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883-1A24-40E9-B4EF-72EC6EC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C00-8C23-40E0-8071-79AED7F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1D6-66E0-46C4-8827-157A99D2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6EE4-8E64-401F-A6D8-C640F2EDB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0.xls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0.xl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1.xl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normaldemo.html" TargetMode="External"/><Relationship Id="rId2" Type="http://schemas.openxmlformats.org/officeDocument/2006/relationships/hyperlink" Target="http://www.stat.sc.edu/~west/applets/normaldemo.html" TargetMode="External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10.xls" TargetMode="External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 (subt. mean / div. be 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Number Summary    &amp;    Outlie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ng distributions   -  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f Are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 of Quant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I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Clas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”    is    “Are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mean and S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Area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chine works normally, it fills bottles with mean = 25 oz, and SD = 0.2 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chine is “out of control” when it overfills.  Choose an “alarm level”, which will give only 1 % fals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:  cutoff, x, so that Area above =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rea below = 100% - Area above = 9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Area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06  (-0.675, 0.675, 89.9, 110.1, 1.35, 0.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agno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Normal Model “goo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Graphical 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-Q plot  =  Normal Quantile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 devote class time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fo in text abou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Look beyond single quantities, to how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How do HW scores “relat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am sc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1:  Useful graphical dev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Scatterplot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29000" y="1371600"/>
          <a:ext cx="5410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410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1371600" y="2971800"/>
            <a:ext cx="4800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371600" y="3733560"/>
            <a:ext cx="6248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447920" y="449568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447920" y="5181480"/>
            <a:ext cx="5486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tterplot  E.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related Intro. Stat.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tual sc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W score predict Final Ex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HW,             =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op half of HW sc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W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tter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er H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s much more “rand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3880" y="3048120"/>
                <a:ext cx="5511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19720" y="3124080"/>
                <a:ext cx="366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inking about “X causes Y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X the “Explanatory Var.”  or “Indep. V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Y the “Response Var.”  or “Dep. V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 of “Y as function of X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though not always s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Sometimes think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imes:  “Explore Relationshi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cores 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W predict Midterm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HW,                   = M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better HW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etter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for each HW, wider range of MT1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HW doesn’t predict MT1 as well as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” in scatterplot may not be outliers in either individua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HW = 72,  MT1 =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d HW, but good MT1?, fluke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3720" y="2286000"/>
                <a:ext cx="449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486400" y="2286000"/>
                <a:ext cx="426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Approach:            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nside cover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s area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an’t use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ed by “compu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job description in the early 1900’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cores Scatter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T1 predict MT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T1,                = M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less “causation”, more “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igher MT1 associated with higher M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MT1, wider range of M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not good predic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Outl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1 = 100,    MT2 = 56   (oop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1 = 23,    MT2 = 74  (woke up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09680" y="2286000"/>
                <a:ext cx="449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57800" y="2286000"/>
                <a:ext cx="426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Aspects of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 of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: 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xima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 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Class Score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s. High values of HW is “b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:  Data follows different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Example: Bralower’s Fossi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lower’s Fossi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. Bralower, formerly of Geological S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Global Climate, millions of years a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s of Isotopes of Stron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Ice Ages, via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0 meter differe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function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Direction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bigger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Y b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bigger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Y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X = alcohol consumption,  Y = Driv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ativ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Strength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How close are points to lying on a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Class Scores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11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is “closely related to H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sely related to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 re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idter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Relationship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3,  2.5,  2.7,  2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in terms of “lower are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 &lt; 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24280" y="1600200"/>
          <a:ext cx="42418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2418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86000" y="4267080"/>
                <a:ext cx="1600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Version (used for above pi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Webster West’s Websi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tat.sc.edu/~west/applets/normaldem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f above e.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is “cutoff poi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is Area below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over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                 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3886200"/>
          <a:ext cx="212076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21207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733920" y="3962520"/>
          <a:ext cx="2120760" cy="16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962520"/>
                    <a:ext cx="21207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781680" y="3962520"/>
          <a:ext cx="2121120" cy="16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962520"/>
                    <a:ext cx="21211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 of Norm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 over interv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se subtraction for EXCEL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Use Excel to check 68 - 95 - 99.7% 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10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Area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2     (Hint:  the % above 500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0% - % below 5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104    (50%, 9.18%, 0.38%, 40.8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Don’t just “twiddle EXCEL until answer appears”.    Understand i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of Are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of Frequencies:     “Quanti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Given area, find “cutoff”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“quanti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657600" y="2895480"/>
          <a:ext cx="4241880" cy="33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95480"/>
                    <a:ext cx="42418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819520" y="3886200"/>
            <a:ext cx="2590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334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95880" y="5028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1-24T23:20:17Z</dcterms:modified>
  <cp:revision>196</cp:revision>
  <dc:subject/>
  <dc:title>Slide 1</dc:title>
</cp:coreProperties>
</file>