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012E-DD55-4693-AFE0-8E6EECF2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8C02-C16F-4A68-8E8A-B6D4147E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4626-0DC5-4D31-895F-FE0A3B1C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6C08-736C-4C10-AA87-156F1F8F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7603-0854-4AA4-8AF6-29AF63DB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6C60-E520-4E28-B955-C6E5AA70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F855-5930-4FFD-8A12-C0F25AE4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C656-9074-486B-BC53-3A894B81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FC0A-A96C-4E12-B237-23DE9D14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4133-3E1F-433F-B2BE-1F82C87B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F168-EA26-4BC1-93F9-CED64AC2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032D-1D6C-4B8F-A8F5-125F2625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523C-FD2F-4FB1-88C5-C8AB16CFB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13.xls" TargetMode="External"/><Relationship Id="rId2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13.xls" TargetMode="External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13.xls" TargetMode="External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 31,  Section 1,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tion of Normal Inverse (cutof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Between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with scatter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(linear or not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 (positive (up) or negative (down)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lation -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.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.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.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lation - Outl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ers can strongly affect correlation,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.22    (big outlier reduces correl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lso:  recompute correlation with outlier rem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2.3: Linea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 a line to data in a scatter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earn about “basic structu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“model dat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vide “prediction of new valu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some basic geome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ne is described by an equ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mx +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slope                                                     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= y intercept                              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ying m &amp; b gives a “family of lines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xed by “parameters” m &amp;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09480" y="304776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219320" y="3047760"/>
            <a:ext cx="13716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45720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25909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191120" y="2590560"/>
            <a:ext cx="3962160" cy="236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62720" y="411480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562720" y="441936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5638680" y="4419720"/>
            <a:ext cx="1447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3657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716292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7162560" y="3429000"/>
            <a:ext cx="9903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’s no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bx +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= m (above) = s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b (above) = y-inter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 (to review line idea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.35, 2.38 (97.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scatterplot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 a &amp; b  (i.e. choose a 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“best fit the dat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819520" y="2971800"/>
                <a:ext cx="38098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 -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line,                ,    “indexed”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 “residuals”  =  “data Y” – “Y on li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choose            to make these “smal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743200" y="2133720"/>
                <a:ext cx="1197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895480" y="1523880"/>
                <a:ext cx="16765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495680" y="4876920"/>
                <a:ext cx="22860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952880" y="1905120"/>
                <a:ext cx="12556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7543800" y="3581280"/>
                <a:ext cx="1155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7620120" y="1555920"/>
                <a:ext cx="106668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∧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4952880" y="1981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505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514600" y="2362320"/>
            <a:ext cx="6095880" cy="167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33920" y="2819520"/>
            <a:ext cx="152280" cy="15228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2819520"/>
            <a:ext cx="152640" cy="15228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15200" y="3352680"/>
            <a:ext cx="152280" cy="15264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26668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62720" y="243828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7543800" y="350496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289548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43600" y="29718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7391520" y="266652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895480" y="335268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895480" y="3048120"/>
            <a:ext cx="29718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895480" y="3123720"/>
            <a:ext cx="441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581280" y="5614920"/>
                <a:ext cx="10670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∧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 -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lent Demo, by Charles Stanton, CSU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math.csusb.edu/faculty/stanton/m262/regress/regres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JAVA Demos, by David Lane at Rice 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ruf.rice.edu/~lane/stat_sim/reg_by_eye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ruf.rice.edu/~lane/stat_sim/comp_r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gression -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Residuals  &gt; 0,  by squ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st Squares:     adjust            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ize the “Sum of Squared Erro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105520" y="2971800"/>
                <a:ext cx="11430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∧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819520" y="4191120"/>
                <a:ext cx="441936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E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st Squ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ow:          (math beyond this cour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st Squares Fit L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es through th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Slop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rrection fac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248520" y="2819520"/>
                <a:ext cx="13716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505320" y="3809880"/>
                <a:ext cx="175248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r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 flipV="1">
            <a:off x="3733920" y="4724280"/>
            <a:ext cx="6094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2.2:    Cor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Idea:   Quantify Strength of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r 1:  for positive relat’ship &amp; nearly li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0:   for positive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0:   for no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0:   for negative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r -1:  for negative relat’ship &amp; nearly li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st Squares in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explore basics, from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incip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ater will do summaries &amp; m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ed out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www.unc.edu/~marron/UNCstat31-2005/Stat31Eg14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 Toy Data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x’s     (-3, -2, …, 3)       (A4:A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Errors:    “eps”               (B4-B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Y’s  =  1 + 0.3 * x’s + eps         (C4-C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st Squares in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Attempt:   just try som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bitrarily choose                (B37  &amp;  B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points on that line    (A41:A4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y Fi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umsy in EXCEL, done with “double plot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duals  (A51:A57)  &amp; Squares  (B51-B5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SSE (B59)   =   11.6        “pretty bi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477120" y="1676520"/>
                <a:ext cx="11430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∧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572000" y="2286000"/>
                <a:ext cx="10666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∧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st Squares in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Attempt:    Choo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ake line pass 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adjusting:            ,  si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pute overlay fi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pute residuals &amp; 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now SSE = 9.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mal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n previous  11.6,  i.e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etter f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6324480" y="1676520"/>
                <a:ext cx="12956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∧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657600" y="2819520"/>
                <a:ext cx="11494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245280" y="2881440"/>
                <a:ext cx="9190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st Squares in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Attempt:      Choo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et slop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making: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pute line, residuals &amp; 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now SSE = 0.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ch smal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n previous,  9.91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now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ood visual f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6364440" y="1676520"/>
                <a:ext cx="12157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∧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651720" y="2438280"/>
                <a:ext cx="14796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st Squares in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do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EXCEL summaries of these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CEPT    (comutes y-intercept  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PE   (computes slope 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 simpler than above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    2.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 of a Single Data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e Webster West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stat.sc.edu/~west/javahtml/Regression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st Squares Pred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  After finding   a &amp; b  (i.e. fit 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new x, predict new value of 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 b x +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 e. “predict by point on the li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st Squares Pred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  Is there a prediction applet?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st Squares Pred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 Prediction:    revisit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www.unc.edu/~marron/UNCstat31-2005/Stat31Eg14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 offers two 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ork similarly, input raw x’s and y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areful about order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st Squares Pred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:  predi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utside range of 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alled “extrapol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nger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ince small errors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gn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59436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38098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5410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5638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5791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486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5791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43800" y="3505320"/>
            <a:ext cx="0" cy="26668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09480" y="3504960"/>
            <a:ext cx="7162920" cy="2438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09120" y="4800600"/>
            <a:ext cx="7162920" cy="990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67480" y="3505320"/>
            <a:ext cx="152640" cy="15228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467480" y="4724280"/>
            <a:ext cx="152640" cy="152640"/>
          </a:xfrm>
          <a:prstGeom prst="flowChartSummingJunction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lation -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al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            symmetric arou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similar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d out Exampl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13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6553080" y="2438280"/>
                <a:ext cx="10065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828800" y="2438280"/>
                <a:ext cx="9907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429000" y="2895480"/>
                <a:ext cx="121932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st Squares Pred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.49,  2.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r squa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correlation       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ngth of linear relationship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“fraction of variation explained by li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“good f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“very poor f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s “signal to noise rati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447920" y="3962520"/>
                <a:ext cx="6537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09480" y="3124080"/>
                <a:ext cx="4953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447920" y="4648320"/>
                <a:ext cx="6537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038480" y="1523880"/>
                <a:ext cx="3812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609480" y="5715000"/>
                <a:ext cx="4953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r squa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www.unc.edu/~marron/UNCstat31-2005/Stat31Eg13.x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, c, d)                                 “data near li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signal to noise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isier dat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signal to noise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pure nois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ly no sig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133720" y="2971800"/>
                <a:ext cx="21333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≈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676520" y="4038480"/>
                <a:ext cx="164304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600200" y="5045040"/>
                <a:ext cx="20574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≈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r squa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.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.46  (0.503, 25.3%, 4.758+0.6628US, 11.5, 32.9, inaccurate, since low correl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lation – Graphical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s (a) &amp; (b),        illustrating             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0  for positive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 0  for negative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ger for data closer to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1:  Not between -1 &amp;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2:  Feels “Scale”,  see plot (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3:  Feels “Shift” even more,  see (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ven gets sign wrong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6248520" y="1295280"/>
                <a:ext cx="12189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lation -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to above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z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Cor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962520" y="4343400"/>
                <a:ext cx="426708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lation -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it abov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13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 is always same, and ~1,  for (a), (c),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&lt; 0,  and not so close to -1, for 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lation -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ok under the 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13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s A&amp;B:  generated rando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ll study la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versions used SUM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computed with CORREL   (import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’s same for (a) &amp; (c), since Y’s are “just shifte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’s also same for (d), since x’s and Y’s shif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tandardization cancels shifts &amp; sca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lation -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it Class Scores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www.unc.edu/~marron/UNCstat31-2005/Stat31Eg11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is always  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is biggest for Final vs. H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is smallest for MT2 vs. MT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lation -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 Example from Webster W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stat.sc.edu/~west/applets/clicktest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 </dc:creator>
  <dc:description/>
  <dc:language>en-US</dc:language>
  <cp:lastModifiedBy>Marron</cp:lastModifiedBy>
  <dcterms:modified xsi:type="dcterms:W3CDTF">2005-02-01T14:03:25Z</dcterms:modified>
  <cp:revision>268</cp:revision>
  <dc:subject/>
  <dc:title>Slide 1</dc:title>
</cp:coreProperties>
</file>