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6375-D84E-4D18-A1DC-44997E347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A3AE-88E4-4B3A-BAFF-114456D09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86DA-6701-4980-ADC8-13F07C3EC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BE3F-4F60-4203-8881-BCB2252F7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C3A4-8D0C-459A-8C1B-2CF3EFA06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2107-F005-4F80-A0D8-FB949D6E4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0AE6-59A6-4EC3-911F-7466D94E8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D95C-B240-4EE0-BCD2-A97E79A05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08CA-24F8-404A-BF5A-E4434F33E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EC5E-A9EA-4604-8793-79F43700C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EB40-94DC-4460-B371-5DF2FE18B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38EF-2E80-45B3-AE72-8E1B75CF8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BC913-A52A-4E0C-BA88-8B795CCDC4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s://www.unc.edu/~marron/UNCstat31-2005/Stat31Eg15.xls" TargetMode="External"/><Relationship Id="rId2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s://www.unc.edu/~marron/UNCstat31-2005/Stat31HWC9.doc" TargetMode="External"/><Relationship Id="rId2" Type="http://schemas.openxmlformats.org/officeDocument/2006/relationships/slideLayout" Target="../slideLayouts/slideLayout8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 31,  Section 1, Last T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re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ear Reg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a – graph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pre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as in Samp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ias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Systematically favoring one out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need to think carefull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election Bi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Addresses from L. D. readers, phone books, club membershi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representative of population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on-Response Bi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Return-mail surv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who had time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as in Samp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-7113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lain" startAt="193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idential Election (cont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esting Alternative Pol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llup:       56%  for R       (sample size ~ 50,0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llup of L.D.    44%  for R                   ( ~ 3,000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dicte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o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rrect result (62% for R)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L. D. error (43% for R)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what was better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roved Samp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llup’s Improve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spcBef>
                <a:spcPts val="799"/>
              </a:spcBef>
              <a:buClr>
                <a:srgbClr val="000000"/>
              </a:buClr>
              <a:buFont typeface="Arial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sonal Intervie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ttacks non-response bia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ii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ota Samp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ttacks selection bia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ota Samp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:   make “sample like populatio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surveyor chooses people to giv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spcBef>
                <a:spcPts val="700"/>
              </a:spcBef>
              <a:buClr>
                <a:srgbClr val="00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 % m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spcBef>
                <a:spcPts val="700"/>
              </a:spcBef>
              <a:buClr>
                <a:srgbClr val="00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 % “young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spcBef>
                <a:spcPts val="700"/>
              </a:spcBef>
              <a:buClr>
                <a:srgbClr val="00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 % “blue colla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spcBef>
                <a:spcPts val="700"/>
              </a:spcBef>
              <a:buClr>
                <a:srgbClr val="00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worked well, until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sampl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-711360">
              <a:spcBef>
                <a:spcPts val="799"/>
              </a:spcBef>
              <a:buClr>
                <a:srgbClr val="000000"/>
              </a:buClr>
              <a:buFont typeface="Arial"/>
              <a:buAutoNum type="arabicPlain" startAt="194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wey       Truman      sample s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ley     50%            45%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llup         50%            44%           50,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per          53%            38%           15,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ual          45%            50%               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:   Embarassing for polls, famous photo of Truman + Headline “Dewey Win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ent wro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:  Unintentional B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urveyors understood bia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still made choic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son:  Human Choice ca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ive 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epresentative S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rprising Improvement: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ando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amp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called “scientific sampling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dom = Scientific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ndom Samp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 Idea:    “random error” is smaller than “unintentional bias”, fo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arge enough sample siz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larg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sample sizes:   ~1,000 - 3,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:    now  &lt;&lt;  50,000 used in 1948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surveys are much chea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hus many more done now…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ndom Samp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Accura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(&amp; will) calculate using “probability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ifies term “scientific sampling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mprovement over quota samp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ndom Samp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rando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 Random Sampl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member of population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qually like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be in s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 Idea: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ffer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rom “just choose som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ndom Samp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old (but still fun?) experime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ose a number among 1,2,3,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ld typical results:     about 70%   choose “3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perhaps you have seen this before…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 lesson:  human choice does not give “equally likely” (i.e. random samp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dterm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ing up:  Tuesday, Feb. 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erial:    HW Assignments  1 –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ra Office Hour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. Feb. 14,   8:30 – 12:00,  2:00 – 3: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ng Alo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 8.5” x 11” sheet of paper with formu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front &amp; back OK, but no newspape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ndom Samp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o choose 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andom samp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ld Approach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Number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ll D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rn Approac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er Gener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ndom Samp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L generation of random samp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s://www.unc.edu/~marron/UNCstat31-2005/Stat31Eg15.x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1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e Random 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L approach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D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ol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ata Analysi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andom Number Gen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CEL Random Samp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domly Reorder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L approac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ight block with list &amp; random num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rt whole thing on 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3:    Random Sample from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os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ubset from random re-o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ce, each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qually like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each sp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CEL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available among “Statistical”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can find on “All” men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 no (explicit) inpu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put in desired c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g downwards for several random #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aution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these change on each re-com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us not recommended for th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CEL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704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ol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ata Analysi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andom Number Generation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04160" indent="-704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:   # Variables:    1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04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ion:   Uniform  (over  [0,1]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04160" indent="-704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es Fixed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041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oesn’t change with re-comput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041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note entries are “just numbers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04160" indent="-704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us stable for later interpre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04160" indent="-704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mmended for random sample ch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CEL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rting Lis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ight Block with Bot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mes to s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Sort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Choose Colum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 is random re-ordering of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ndom Sampling H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HW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8: For the letters A – L, use EXCEL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(a)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Put in a random or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(b)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hoose a random sample of 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(Hints:   for (a), want each equally like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or (b), reorder, and choose a subse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ndom Sampling H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esting Question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% of Male Students at UN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Your chance of dat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 take 100% -    to get your chan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HW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9:  Print Class Hand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s://www.unc.edu/~marron/UNCstat31-2005/Stat31HWC9.d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ndom Sampling H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s on HW C9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dumb ways to sample, 1 good 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is to learn about sampl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“get right answe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 1, put symbol for yourself, Ms and Fs for 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o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unt &amp; %  (%100 x count / 2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 2,  “tally”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 4, student phone directory available in Student Union?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48320" y="502920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800600" y="502920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952880" y="502920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05520" y="502920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257800" y="502920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562720" y="502920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4572000" y="5105160"/>
            <a:ext cx="76212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ndom Sampling H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s on HW C9,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on Part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ach draw, first draw a “random pag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ol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ata Analysi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andom Number Generation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Uniform is one way to do th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“Uniform”, you need to set “Parameters”, to 0 and “number of pages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gives a random decimal, to get an integer, round up, using CEI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CEILING, set “significance” to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pter 3:    Producing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how this is done is critical to conclusio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tion 3.1:     Statistical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Main Typ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tional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y “see what happens, no intervention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0" algn="ctr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to individuals or variables of intere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 Political Polls,  Supermarket Scan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ndom Sampling H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s on HW C9,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on Part 4 (cont.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xt Choose Random Colum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xt Choose Random 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ution:  Different numbers on each p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llenge: still make equally lik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roach: choose larger numb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roach:  when not there, just toss it 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roach:  then do a “redraw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redraw if can’t tell gen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On Survey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Common Sen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you ask the ques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s a big dif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H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3.55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3.5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ducing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6897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Main Typ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9760" indent="-6897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tional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9760" indent="-6897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976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Make Changes, &amp; Study Effec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3464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y “treatment” to individuals &amp; measure “response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3464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 Clinical trials for drugs,    agricultural t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3464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safe?  effective?)              (max yield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1981080" y="60199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6324480" y="6019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981080" y="5714640"/>
            <a:ext cx="3812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6324480" y="5714640"/>
            <a:ext cx="3812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ducing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Main Typ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tional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ment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common sens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ution: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hink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required for ea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th if you do statistics &amp; if you need t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somebody else’s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114440" y="38862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3352320" y="388620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ducing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Main Typ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tional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ment                      (common sens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ution: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hink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required for e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th if you do statistics &amp; if you need t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somebody else’s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pful Disti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Critical Issue of    “Good” vs. “Bad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tional Studi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ecdotal Evi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a:    Study just a few c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lem:    may not be represent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or worse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n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nsidered for this reas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 Cures for hicc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Question:  how were data chos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42236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arly medicine: this gave crazy attempts at cur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pful Disti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-711360">
              <a:spcBef>
                <a:spcPts val="799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tional Studi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p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a:    Seek sample representative of pop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H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(old) 3.1, 3.3, 3.5, 3.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llenge:  How to samp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urns out:  not eas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sampl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tory of Presidential Election Po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ring Campaigns, constantly hear in news “polls say …”  How good are these?  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spcBef>
                <a:spcPts val="799"/>
              </a:spcBef>
              <a:buClr>
                <a:srgbClr val="000000"/>
              </a:buClr>
              <a:buFont typeface="Arial"/>
              <a:buAutoNum type="arabicPlain" startAt="193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don   vs.   Roosevelt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terary Digest Poll:   43% for 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:                       62% for 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happen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ple size not big enough?      2.4 mill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ggest Poll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ver do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before or sin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3T01:07:03Z</dcterms:created>
  <dc:creator> </dc:creator>
  <dc:description/>
  <dc:language>en-US</dc:language>
  <cp:lastModifiedBy> </cp:lastModifiedBy>
  <dcterms:modified xsi:type="dcterms:W3CDTF">2005-02-09T03:35:25Z</dcterms:modified>
  <cp:revision>308</cp:revision>
  <dc:subject/>
  <dc:title>Slide 1</dc:title>
</cp:coreProperties>
</file>