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882-C45B-41E4-8544-256CAB6E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6BD-0BD0-4A3C-9890-F2FA9367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66A-CE7F-47FA-89C7-ADCD2ADC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984-CD6D-4522-9AFC-F5722743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9B1-DA2C-41F4-B867-1FA463C2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CE6-11D4-43AC-8921-C903E8B6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9D5-C114-4191-B016-B3C7B408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655-8CD9-448C-B356-BF8D5643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D43-ADF0-4521-908C-F72D117D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A50-D44A-4C5A-9CC9-FB8FB26C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819-FE2A-43BA-B16E-59113482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F87-0B71-4A49-BB70-21E750DF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092C-2DDC-4E54-B049-2EA29B381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al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Presidential Po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ed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Type:    compare “treatment” with “placebo”, a “sham treatment” that controls for psychological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ink you are better, so you are better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Refin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Blind” experiment mea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i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ient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tor knows is real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possible doctor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f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method for choosing group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Treatment and Contr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“just choose so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means “make each equally like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f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lus:    Eliminates bia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effects of “lurking variab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ame as random choice of sampl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pay price of added variabilit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ell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f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Reduce chance variation by applying same treatment to several (even many?) experimental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replications are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pends on context: tradeoff between cost and reduction of var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uild tools to study (based on proba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f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cier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are many, some in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ed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d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23880" y="5105520"/>
                <a:ext cx="2016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tie above ideas toge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ic Freezing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for stomach ul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sthetiz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balloon in 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with freezing coo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ic Free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Experiment,    19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patients, all c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popular, and better than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re were some skeptic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t a Placebo Effec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was fact of “some type of treatment” enough for “c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ic Free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,  19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Experi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me treated others not, shows 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better with no treat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:   Eliminates other sources of bias, i.e. lurking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andomly choose: treated or n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ic Free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ind”   Patient doesn’t know if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ot a balloon in stomach of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groups got that, bu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group got freezing cool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v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Double Blind”:   Doctor doesn’t know if treated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mebody else controls freezing cool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  since doctor decides if “cur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ic Free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Group:    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Group:        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ly:                         Treatment   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ymptoms:            29%          2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:                    47%          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24 Month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pse:                      45%          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ng up:  Tuesday, Feb.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:    HW Assignments  1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Office H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. Feb. 14,   8:30 – 12:00,  2:00 – 3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stead of Review Se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Al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8.5” x 11” sheet of paper with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ic Free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trong effect of treatment over control is apparent.  All placebo eff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uild tools to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within natural vari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ing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ic Free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ous case for eliminating “ineffective treatm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ed importa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uble blind controlled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are commonly used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ch ulcers currently very effectively treated with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si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“double blind approac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te test Pepsi vs. C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“taster” doesn’t know which is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“blind” part of experi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ame for “giv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“double blind” p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psi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Groups of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oes each job o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er (put your name and others on sl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r   (again put names on slip, does all outside of ro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ter   (always outside ro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r:   record results on their s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psi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“double blind”, i.e. “no knowledge of doctor” by pourer filling cups in room, so that giver does not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“color association” by random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er does not watch tasting (no telegraphing with big grin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 tas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mpare notes, check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port, and analyze result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simple random sample” (recall “each equally likely”)  can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nationwide political poll, collected by personal intervi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re are many cheaper vari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ified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Stage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re are other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for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I was Observational Stu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ake similar look at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s” are applied to “individua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to “subjec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to “experimental uni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for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treatment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ination of “levels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explanatory variables (quantities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“factor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Medicine, Agriculture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for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e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how plant growth depend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tilizer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plants = “experiment’l units”, i.e. “subjec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” are fertilizer and wa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lant gets some “level” of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 on Sampling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f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design” of an experiment is the assignment of levels and treatments to experimental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just as “choice of sample”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it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sampling, this is too.  There is a huge literature on this, including current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f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Design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Eliminate “lurking variable” effects, by comparing treatments on group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rimental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 </cp:lastModifiedBy>
  <dcterms:modified xsi:type="dcterms:W3CDTF">2005-02-09T01:24:28Z</dcterms:modified>
  <cp:revision>326</cp:revision>
  <dc:subject/>
  <dc:title>Slide 1</dc:title>
</cp:coreProperties>
</file>